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936B-4B08-43EB-AA96-EB360BB3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190-87FC-4688-8DC2-E9FE121A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BC36-69A1-4AA9-921E-689FD3F7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A53-E7E1-400D-8D20-E966FE19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470-E876-485F-8BCB-36E57956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112-E9E1-4CBA-91BE-780BC16C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8A18-1481-4537-8D4A-A83B00CD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AA6-F8CA-442A-96D3-08B65A58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329-65E2-415B-8C87-407DD271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0DA-E6BD-4113-9B8D-F7311F4F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565-44F9-4F1A-B967-383ACD63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24FB-79AF-400E-BF34-435B4654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A2CF-A118-4DEF-A590-A6D4585ABE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faculty.ksu.edu.sa/geography-alsaleh/default.aspx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-176040" y="147600"/>
            <a:ext cx="949608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-42840" y="3240"/>
            <a:ext cx="922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0" y="23184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200160" y="841320"/>
            <a:ext cx="8743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-123840" y="155520"/>
            <a:ext cx="93916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71280" y="1542960"/>
            <a:ext cx="90014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-9360" y="52560"/>
            <a:ext cx="888840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-9360" y="155520"/>
            <a:ext cx="9162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-57240" y="3240"/>
            <a:ext cx="925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scan0012"/>
          <p:cNvPicPr/>
          <p:nvPr/>
        </p:nvPicPr>
        <p:blipFill>
          <a:blip r:embed="rId1"/>
          <a:stretch/>
        </p:blipFill>
        <p:spPr>
          <a:xfrm>
            <a:off x="517680" y="162000"/>
            <a:ext cx="801684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-109440" y="3240"/>
            <a:ext cx="936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66600" y="42840"/>
            <a:ext cx="927720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رج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faculty.ksu.edu.sa/geography-alsaleh/default.asp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-104760" y="347760"/>
            <a:ext cx="935352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-214200" y="162000"/>
            <a:ext cx="95724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95400" y="1314360"/>
            <a:ext cx="89532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-119160" y="-14400"/>
            <a:ext cx="938232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57240" y="155520"/>
            <a:ext cx="92584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442800" y="1170000"/>
            <a:ext cx="82584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-52560" y="3240"/>
            <a:ext cx="924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3:01:31Z</dcterms:created>
  <dc:creator>may</dc:creator>
  <dc:description/>
  <dc:language>en-US</dc:language>
  <cp:lastModifiedBy>Asus</cp:lastModifiedBy>
  <dcterms:modified xsi:type="dcterms:W3CDTF">2013-04-08T02:30:03Z</dcterms:modified>
  <cp:revision>179</cp:revision>
  <dc:subject/>
  <dc:title>Slide 1</dc:title>
</cp:coreProperties>
</file>