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2D9-262B-4A10-97E0-A5690703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097-F060-4F6C-B8A9-EEA0677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B41-BA4B-4966-B0D0-47C3D8E5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3FC-4C2E-473C-AFAB-301D0290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9EE-24E8-4608-9772-5172FA9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E11-DB74-4A7F-A103-12D6A968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B29-B0FC-4264-BA7A-C0F79FC0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2B2-C9C9-4C05-8162-CC915AC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DCC-B4DE-48B0-8B21-C4E2AC3C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E47-0928-4FCD-92B0-CE07715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EA2-9DB4-499F-A1CC-700703C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03A-79C1-44BC-9202-2CAE3DF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36F-9DAE-4CB3-8108-28408A631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176040" y="147600"/>
            <a:ext cx="94960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42840" y="324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00160" y="841320"/>
            <a:ext cx="8743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-123840" y="155520"/>
            <a:ext cx="9391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71280" y="1542960"/>
            <a:ext cx="9001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-9360" y="52560"/>
            <a:ext cx="88884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-9360" y="155520"/>
            <a:ext cx="916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-57240" y="3240"/>
            <a:ext cx="925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can0012"/>
          <p:cNvPicPr/>
          <p:nvPr/>
        </p:nvPicPr>
        <p:blipFill>
          <a:blip r:embed="rId1"/>
          <a:stretch/>
        </p:blipFill>
        <p:spPr>
          <a:xfrm>
            <a:off x="517680" y="162000"/>
            <a:ext cx="80168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3240"/>
            <a:ext cx="93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66600" y="42840"/>
            <a:ext cx="92772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104760" y="347760"/>
            <a:ext cx="93535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214200" y="162000"/>
            <a:ext cx="9572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95400" y="1314360"/>
            <a:ext cx="89532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-119160" y="-14400"/>
            <a:ext cx="93823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57240" y="155520"/>
            <a:ext cx="9258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42800" y="1170000"/>
            <a:ext cx="825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52560" y="324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3:01:31Z</dcterms:created>
  <dc:creator>may</dc:creator>
  <dc:description/>
  <dc:language>en-US</dc:language>
  <cp:lastModifiedBy>Asus</cp:lastModifiedBy>
  <dcterms:modified xsi:type="dcterms:W3CDTF">2013-04-08T02:30:03Z</dcterms:modified>
  <cp:revision>179</cp:revision>
  <dc:subject/>
  <dc:title>Slide 1</dc:title>
</cp:coreProperties>
</file>