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A01E-A37E-4A3F-AEC4-0E02DB0C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82AA-75D6-41EB-96AF-817EE128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66F9-C2CC-4A76-931E-78AEB802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0803-3E57-4E9F-A1B6-6FCB18B6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9DD3-BEC7-48D0-91AF-7A0B085C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2C92-65EB-4F4A-AE99-1E280A61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6859-E795-465B-A9AE-31BEC207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10EA-C137-4A52-9896-B078075C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36A3-08AD-4F25-BC5D-062F9E46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546D-E1B3-48AB-B3D1-DA67825B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AA8C-160E-4270-A13D-A5813C2D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E248-DE06-440A-A7A0-E5561778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610E-7121-4D74-B70E-35C4B5F2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1A87-B362-4E86-A245-94ADE9B9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BFDD-A3A9-4CC3-A5F6-9F0F2532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AF1C-EDB1-4A5A-8AFF-A5F01149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781E-39E0-44AD-B3FB-AFB9A3B6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AE0E2-4377-492C-99ED-7D7FDE806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A7088-864D-42DE-859E-86C6CDAE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5ADA7-68B4-4CBE-9BA5-D57E0B49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0AFF0-358C-4697-A9B6-8E6E8300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6CA58-4FBF-4106-9164-D7D80B59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E26D-D9E0-4DF1-806F-8BF9BD7A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6DF59-6BFF-4A43-BC1C-7B3DAA86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114A6-57C9-4E17-BC59-1D5F2645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0D509-FE8F-4495-9830-33DDD777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9F178-07C0-40E6-ABB4-9A784C8F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C484C-291D-4EEC-BBCA-EBD515C3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05D2B-6471-4EBC-B555-37515E9C5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FC171-017B-43CC-80E8-7907CB90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12362-386B-4D76-9123-CA7BB0174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A4536-A4B5-4D68-B2C4-6B20FBE7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099AB-E11F-4FF5-9A63-9A29D886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6CDA-DFD0-4B90-A34B-53E22A6E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B51D0-8A61-49A5-AB24-C9BBDF74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6F1F0-FC63-4C08-AA9A-8F1B4F70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9ACB4-CE9B-463A-82DC-EEB429BA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36F98-D04C-4913-B825-1B312486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35530-BEFB-4D71-93C2-39376CDE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667DC-85B2-433A-A2DC-9D725C45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70EB2-D5BE-43AB-981C-CD00FEA5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14D16-DC47-4C7E-B064-77A86ED79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9A742-C352-49C5-B91D-A8ED8EB3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84FCB-62B1-49E6-B4CA-19D1E041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1390-F27E-4AE0-81CE-94C2078E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7DBE9-325E-47AB-9684-FBFCEF36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FD91B-1621-4B0C-AC21-09C9309B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6E878-78E2-4652-872B-060121A0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A1A4C-81F7-4046-9D69-8DC7FBD8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1F9DA-2633-43FF-9D98-E765A8F3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1BE35-5B12-4064-92C4-2978CF1F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BDBAD-0CD6-40B5-98D6-0EED017F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5D9CA-1883-43D4-BFCF-A344DD77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0EE22-5529-4D53-AEB8-CF89CEDD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798D0-D61A-40DE-9151-812147496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9DC8-A7C8-4CAC-BC0B-0F98696D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40C4A-8F9E-45F1-B1EF-BEA1134E1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8F43D-D996-48A7-B082-078BA997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10FF5-C84B-4E51-B830-0C7B7DFB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BEBB5-EA8A-4260-8EED-594A3505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BE1B6-18C2-4B58-AB75-F5BC5D7A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29EB0-616A-4731-9D1D-3F77D21B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E34A8-83F9-4FCD-BBE9-3FC9A167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2B84A-528B-4BB3-8FC1-BA123CBF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FBE6F-74D1-4ACD-B746-C18485EF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5C291-DCC6-47C4-85C6-520100D8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C221-DCDE-4451-9A62-CB9F0A07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D66EF-32CD-4928-8DDE-CCFA4D8F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9491E-2983-494A-BA41-1701BAE7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C2DC6-C27A-470C-8D0E-38426472B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6E31B-76E0-4D21-BDA6-1ABEF40D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AD815-C827-4971-BDF7-219361D5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7D6F0-777A-4D82-B912-EF704646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D17FA-D748-4495-B7D5-DACDFF1F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BF794-3FCE-4B5F-A347-E8DC9C84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D775F-8DE2-4C2F-816A-A2AA7A8C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3F4DA-46D6-42EC-A8ED-3F7BB671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6036-3A0C-4B7D-8A3A-193BE2E1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5C8F6-A7BD-4167-9B3A-ADF4FFEA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C2812-44ED-4328-8AE9-F31E1346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20E0B-38CC-44E2-B57A-6D3B675A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10469-4908-4FC4-B678-2175441B2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F1B67-DA93-48CE-BBE1-8398FBCF7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523F-177D-4883-A723-AF392D44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D37E-A5B4-42E0-815D-2E13057B8DAB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688F-446A-49D2-AEF2-D1BF0ADFFA3D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9B26-8848-4AF7-B6B6-E6B9B7875C05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2073-C392-48D7-985C-FA44BE8ABCEE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126E-FCA1-4E64-A191-46B4E0CA5659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1612-05CF-4F05-88B0-049950A6A617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Rounded Rectangle 9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32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7B87-E043-41D6-8F6C-9A667EF1EE8C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FFDD-668F-41FF-B5E8-B82FCB18D9E3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ounded Rectangle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3E03-7FAE-4027-A6B6-781ED306D756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7B77-C544-45D7-84F5-F9068FBDF249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27D9-EA32-4CAA-ADDB-665B31BE099A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B303-6CCB-43D1-B060-F7B624973E94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6E42-2EAF-4C89-9453-04985D36C1B0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7538-B620-422F-B988-C924270BEF66}" type="slidenum">
              <a:rPr b="0" lang="en-US" sz="12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3" descr=""/>
          <p:cNvPicPr/>
          <p:nvPr/>
        </p:nvPicPr>
        <p:blipFill>
          <a:blip r:embed="rId1"/>
          <a:stretch/>
        </p:blipFill>
        <p:spPr>
          <a:xfrm>
            <a:off x="749160" y="5089680"/>
            <a:ext cx="3183120" cy="598320"/>
          </a:xfrm>
          <a:prstGeom prst="rect">
            <a:avLst/>
          </a:prstGeom>
          <a:ln w="0">
            <a:noFill/>
          </a:ln>
        </p:spPr>
      </p:pic>
      <p:sp>
        <p:nvSpPr>
          <p:cNvPr id="311" name="Subtitle 2"/>
          <p:cNvSpPr/>
          <p:nvPr/>
        </p:nvSpPr>
        <p:spPr>
          <a:xfrm>
            <a:off x="463680" y="155736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Perpetua"/>
                <a:cs typeface="Times New Roman"/>
              </a:rPr>
              <a:t>قواعد البيانات العلائقي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Perpetua"/>
                <a:cs typeface="Times New Roman"/>
              </a:rPr>
              <a:t>المرحلة الثان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Perpetua"/>
                <a:ea typeface="Times New Roman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Perpetua"/>
                <a:cs typeface="Times New Roman"/>
              </a:rPr>
              <a:t>التحويل من مخطط الكيان و العلاقة الرابطة </a:t>
            </a:r>
            <a:r>
              <a:rPr b="1" lang="en-US" sz="2600" spc="-1" strike="noStrike">
                <a:solidFill>
                  <a:srgbClr val="ffffff"/>
                </a:solidFill>
                <a:latin typeface="Perpetua"/>
              </a:rPr>
              <a:t>ERd</a:t>
            </a:r>
            <a:r>
              <a:rPr b="1" lang="ar-SA" sz="2600" spc="-1" strike="noStrike">
                <a:solidFill>
                  <a:srgbClr val="ffffff"/>
                </a:solidFill>
                <a:latin typeface="Perpetua"/>
                <a:ea typeface="Times New Roman"/>
              </a:rPr>
              <a:t> إلى جداو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Group 33" descr=""/>
          <p:cNvPicPr/>
          <p:nvPr/>
        </p:nvPicPr>
        <p:blipFill>
          <a:blip r:embed="rId1"/>
          <a:stretch/>
        </p:blipFill>
        <p:spPr>
          <a:xfrm>
            <a:off x="596880" y="133200"/>
            <a:ext cx="8089920" cy="28418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610920" y="2962080"/>
            <a:ext cx="8281800" cy="37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4f81bd"/>
                </a:solidFill>
                <a:latin typeface="Perpetua"/>
              </a:rPr>
              <a:t>ثانيا اربط الجدولين بعلاقة واحد إلى واحد , وتمثل كما يلي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4f81bd"/>
                </a:solidFill>
                <a:latin typeface="Perpetua"/>
              </a:rPr>
              <a:t>المدير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( </a:t>
            </a:r>
            <a:r>
              <a:rPr b="0" lang="hi-IN" sz="2800" spc="-1" strike="noStrike" u="sng">
                <a:solidFill>
                  <a:srgbClr val="c00000"/>
                </a:solidFill>
                <a:uFillTx/>
                <a:latin typeface="Perpetua"/>
              </a:rPr>
              <a:t>رقم المدير</a:t>
            </a:r>
            <a:r>
              <a:rPr b="0" lang="en-US" sz="2800" spc="-1" strike="noStrike">
                <a:solidFill>
                  <a:srgbClr val="c00000"/>
                </a:solidFill>
                <a:latin typeface="Perpetua"/>
              </a:rPr>
              <a:t>, الاسم , </a:t>
            </a:r>
            <a:r>
              <a:rPr b="1" lang="hi-IN" sz="2800" spc="-1" strike="noStrike" u="sng">
                <a:solidFill>
                  <a:srgbClr val="c00000"/>
                </a:solidFill>
                <a:uFillTx/>
                <a:latin typeface="Perpetua"/>
              </a:rPr>
              <a:t>رقم القسم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4f81bd"/>
                </a:solidFill>
                <a:latin typeface="Perpetua"/>
              </a:rPr>
              <a:t>القسم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(</a:t>
            </a:r>
            <a:r>
              <a:rPr b="0" lang="hi-IN" sz="2800" spc="-1" strike="noStrike" u="sng">
                <a:solidFill>
                  <a:srgbClr val="c00000"/>
                </a:solidFill>
                <a:uFillTx/>
                <a:latin typeface="Perpetua"/>
              </a:rPr>
              <a:t>رقم القسم</a:t>
            </a:r>
            <a:r>
              <a:rPr b="0" lang="en-US" sz="2800" spc="-1" strike="noStrike">
                <a:solidFill>
                  <a:srgbClr val="c00000"/>
                </a:solidFill>
                <a:latin typeface="Perpetua"/>
              </a:rPr>
              <a:t>, اسم القسم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)     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 أو العكس خياري :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4f81bd"/>
                </a:solidFill>
                <a:latin typeface="Perpetua"/>
              </a:rPr>
              <a:t>المدير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0" lang="hi-IN" sz="2800" spc="-1" strike="noStrike" u="sng">
                <a:solidFill>
                  <a:srgbClr val="c00000"/>
                </a:solidFill>
                <a:uFillTx/>
                <a:latin typeface="Perpetua"/>
              </a:rPr>
              <a:t>رقم المدير</a:t>
            </a:r>
            <a:r>
              <a:rPr b="0" lang="en-US" sz="2800" spc="-1" strike="noStrike">
                <a:solidFill>
                  <a:srgbClr val="c00000"/>
                </a:solidFill>
                <a:latin typeface="Perpetua"/>
              </a:rPr>
              <a:t>,الاسم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4f81bd"/>
                </a:solidFill>
                <a:latin typeface="Perpetua"/>
              </a:rPr>
              <a:t>القسم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Perpetua"/>
              </a:rPr>
              <a:t>(</a:t>
            </a:r>
            <a:r>
              <a:rPr b="0" lang="hi-IN" sz="2800" spc="-1" strike="noStrike" u="sng">
                <a:solidFill>
                  <a:srgbClr val="c00000"/>
                </a:solidFill>
                <a:uFillTx/>
                <a:latin typeface="Perpetua"/>
              </a:rPr>
              <a:t>رقم القسم</a:t>
            </a:r>
            <a:r>
              <a:rPr b="0" lang="en-US" sz="2800" spc="-1" strike="noStrike">
                <a:solidFill>
                  <a:srgbClr val="c00000"/>
                </a:solidFill>
                <a:latin typeface="Perpetua"/>
              </a:rPr>
              <a:t>, اسم القسم, </a:t>
            </a:r>
            <a:r>
              <a:rPr b="1" lang="hi-IN" sz="2800" spc="-1" strike="noStrike" u="sng">
                <a:solidFill>
                  <a:srgbClr val="c00000"/>
                </a:solidFill>
                <a:uFillTx/>
                <a:latin typeface="Perpetua"/>
              </a:rPr>
              <a:t>رقم المدير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24000" y="1447920"/>
            <a:ext cx="836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 u="sng">
                <a:solidFill>
                  <a:srgbClr val="c00000"/>
                </a:solidFill>
                <a:uFillTx/>
                <a:latin typeface="Perpetua"/>
              </a:rPr>
              <a:t>الحالة الثانية  :عندما تكون العلاقة بين الكيانين هي واحد إلى متعدد :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Perpetua"/>
              </a:rPr>
              <a:t>فإننا عند تحويلها إلى جداول نأخذ </a:t>
            </a:r>
            <a:r>
              <a:rPr b="0" lang="hi-IN" sz="2800" spc="-1" strike="noStrike">
                <a:solidFill>
                  <a:srgbClr val="4f81bd"/>
                </a:solidFill>
                <a:latin typeface="Perpetua"/>
              </a:rPr>
              <a:t>المفتاح الأساسي للكيان الذي تكون العلاقة من جهته واحد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ونضع نسخه منه كمفتاح أجنبي للكيان التي تكون العلاقة من جهته متعدد ويكون ذلك </a:t>
            </a:r>
            <a:r>
              <a:rPr b="0" lang="hi-IN" sz="2800" spc="-1" strike="noStrike">
                <a:solidFill>
                  <a:srgbClr val="c00000"/>
                </a:solidFill>
                <a:latin typeface="Perpetua"/>
              </a:rPr>
              <a:t>إجباري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171360" y="396720"/>
            <a:ext cx="8886960" cy="6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Group 33"/>
          <p:cNvGrpSpPr/>
          <p:nvPr/>
        </p:nvGrpSpPr>
        <p:grpSpPr>
          <a:xfrm>
            <a:off x="468360" y="192240"/>
            <a:ext cx="8215200" cy="2814480"/>
            <a:chOff x="468360" y="192240"/>
            <a:chExt cx="8215200" cy="2814480"/>
          </a:xfrm>
        </p:grpSpPr>
        <p:grpSp>
          <p:nvGrpSpPr>
            <p:cNvPr id="347" name="Group 17"/>
            <p:cNvGrpSpPr/>
            <p:nvPr/>
          </p:nvGrpSpPr>
          <p:grpSpPr>
            <a:xfrm>
              <a:off x="976320" y="650160"/>
              <a:ext cx="7707240" cy="2356560"/>
              <a:chOff x="976320" y="650160"/>
              <a:chExt cx="7707240" cy="2356560"/>
            </a:xfrm>
          </p:grpSpPr>
          <p:sp>
            <p:nvSpPr>
              <p:cNvPr id="348" name="Rectangle 3"/>
              <p:cNvSpPr/>
              <p:nvPr/>
            </p:nvSpPr>
            <p:spPr>
              <a:xfrm>
                <a:off x="6312240" y="1946160"/>
                <a:ext cx="1609200" cy="824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000000"/>
                    </a:solidFill>
                    <a:latin typeface="Perpetua"/>
                    <a:cs typeface="Times New Roman"/>
                  </a:rPr>
                  <a:t>المدر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Straight Connector 11"/>
              <p:cNvSpPr/>
              <p:nvPr/>
            </p:nvSpPr>
            <p:spPr>
              <a:xfrm flipH="1">
                <a:off x="5380560" y="2358720"/>
                <a:ext cx="931680" cy="0"/>
              </a:xfrm>
              <a:prstGeom prst="line">
                <a:avLst/>
              </a:prstGeom>
              <a:ln w="9360">
                <a:solidFill>
                  <a:srgbClr val="3965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lowchart: Decision 12"/>
              <p:cNvSpPr/>
              <p:nvPr/>
            </p:nvSpPr>
            <p:spPr>
              <a:xfrm>
                <a:off x="3771360" y="1710720"/>
                <a:ext cx="1609200" cy="1296000"/>
              </a:xfrm>
              <a:prstGeom prst="flowChartDecision">
                <a:avLst/>
              </a:prstGeom>
              <a:solidFill>
                <a:srgbClr val="ffffff"/>
              </a:solidFill>
              <a:ln w="1260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000000"/>
                    </a:solidFill>
                    <a:latin typeface="Perpetua"/>
                    <a:cs typeface="Times New Roman"/>
                  </a:rPr>
                  <a:t>يدر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3"/>
              <p:cNvSpPr/>
              <p:nvPr/>
            </p:nvSpPr>
            <p:spPr>
              <a:xfrm>
                <a:off x="976320" y="1946160"/>
                <a:ext cx="1609200" cy="824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000000"/>
                    </a:solidFill>
                    <a:latin typeface="Perpetua"/>
                    <a:cs typeface="Times New Roman"/>
                  </a:rPr>
                  <a:t>مقر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Straight Connector 14"/>
              <p:cNvSpPr/>
              <p:nvPr/>
            </p:nvSpPr>
            <p:spPr>
              <a:xfrm flipH="1" flipV="1">
                <a:off x="2585160" y="2358720"/>
                <a:ext cx="1185480" cy="16560"/>
              </a:xfrm>
              <a:prstGeom prst="line">
                <a:avLst/>
              </a:prstGeom>
              <a:ln w="9360">
                <a:solidFill>
                  <a:srgbClr val="3965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Oval 16"/>
              <p:cNvSpPr/>
              <p:nvPr/>
            </p:nvSpPr>
            <p:spPr>
              <a:xfrm>
                <a:off x="7074360" y="650160"/>
                <a:ext cx="1609200" cy="82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 u="sng">
                    <a:solidFill>
                      <a:srgbClr val="000000"/>
                    </a:solidFill>
                    <a:uFillTx/>
                    <a:latin typeface="Perpetua"/>
                    <a:cs typeface="Times New Roman"/>
                  </a:rPr>
                  <a:t>رقم المدر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Oval 20"/>
            <p:cNvSpPr/>
            <p:nvPr/>
          </p:nvSpPr>
          <p:spPr>
            <a:xfrm>
              <a:off x="5550120" y="650160"/>
              <a:ext cx="1270440" cy="824760"/>
            </a:xfrm>
            <a:prstGeom prst="ellipse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الاس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Straight Connector 22"/>
            <p:cNvSpPr/>
            <p:nvPr/>
          </p:nvSpPr>
          <p:spPr>
            <a:xfrm flipH="1">
              <a:off x="7667280" y="1475280"/>
              <a:ext cx="211680" cy="471240"/>
            </a:xfrm>
            <a:prstGeom prst="line">
              <a:avLst/>
            </a:prstGeom>
            <a:ln w="9360">
              <a:solidFill>
                <a:srgbClr val="396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Straight Connector 24"/>
            <p:cNvSpPr/>
            <p:nvPr/>
          </p:nvSpPr>
          <p:spPr>
            <a:xfrm>
              <a:off x="6185160" y="1475280"/>
              <a:ext cx="635040" cy="471240"/>
            </a:xfrm>
            <a:prstGeom prst="line">
              <a:avLst/>
            </a:prstGeom>
            <a:ln w="9360">
              <a:solidFill>
                <a:srgbClr val="396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25"/>
            <p:cNvSpPr/>
            <p:nvPr/>
          </p:nvSpPr>
          <p:spPr>
            <a:xfrm>
              <a:off x="468360" y="388440"/>
              <a:ext cx="1524240" cy="850680"/>
            </a:xfrm>
            <a:prstGeom prst="ellipse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اسم المقر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26"/>
            <p:cNvSpPr/>
            <p:nvPr/>
          </p:nvSpPr>
          <p:spPr>
            <a:xfrm>
              <a:off x="2077560" y="192240"/>
              <a:ext cx="1524240" cy="929520"/>
            </a:xfrm>
            <a:prstGeom prst="ellipse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 u="sng">
                  <a:solidFill>
                    <a:srgbClr val="000000"/>
                  </a:solidFill>
                  <a:uFillTx/>
                  <a:latin typeface="Perpetua"/>
                  <a:cs typeface="Times New Roman"/>
                </a:rPr>
                <a:t>رقم المقر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Straight Connector 28"/>
            <p:cNvSpPr/>
            <p:nvPr/>
          </p:nvSpPr>
          <p:spPr>
            <a:xfrm flipH="1">
              <a:off x="1780920" y="1121760"/>
              <a:ext cx="1058400" cy="824760"/>
            </a:xfrm>
            <a:prstGeom prst="line">
              <a:avLst/>
            </a:prstGeom>
            <a:ln w="9360">
              <a:solidFill>
                <a:srgbClr val="396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Straight Connector 30"/>
            <p:cNvSpPr/>
            <p:nvPr/>
          </p:nvSpPr>
          <p:spPr>
            <a:xfrm>
              <a:off x="1399680" y="1239480"/>
              <a:ext cx="380880" cy="706680"/>
            </a:xfrm>
            <a:prstGeom prst="line">
              <a:avLst/>
            </a:prstGeom>
            <a:ln w="9360">
              <a:solidFill>
                <a:srgbClr val="396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Box 31"/>
            <p:cNvSpPr/>
            <p:nvPr/>
          </p:nvSpPr>
          <p:spPr>
            <a:xfrm>
              <a:off x="5613840" y="1828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Box 32"/>
            <p:cNvSpPr/>
            <p:nvPr/>
          </p:nvSpPr>
          <p:spPr>
            <a:xfrm>
              <a:off x="2925000" y="171072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مستطيل 19"/>
          <p:cNvSpPr/>
          <p:nvPr/>
        </p:nvSpPr>
        <p:spPr>
          <a:xfrm>
            <a:off x="2921040" y="3213000"/>
            <a:ext cx="586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أولا : نحول الكيانات إلى جداول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4f81bd"/>
                </a:solidFill>
                <a:latin typeface="Arial"/>
              </a:rPr>
              <a:t>المدرب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hi-IN" sz="2400" spc="-1" strike="noStrike" u="sng">
                <a:solidFill>
                  <a:srgbClr val="c00000"/>
                </a:solidFill>
                <a:uFillTx/>
                <a:latin typeface="Arial"/>
              </a:rPr>
              <a:t>رقم المدرب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, الاس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4f81bd"/>
                </a:solidFill>
                <a:latin typeface="Arial"/>
              </a:rPr>
              <a:t>المقر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i-IN" sz="2400" spc="-1" strike="noStrike" u="sng">
                <a:solidFill>
                  <a:srgbClr val="c00000"/>
                </a:solidFill>
                <a:uFillTx/>
                <a:latin typeface="Arial"/>
              </a:rPr>
              <a:t>رقم المقرر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, اسم المقر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ثانيا : نربط بين الجدولين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i-IN" sz="2400" spc="-1" strike="noStrike">
                <a:solidFill>
                  <a:srgbClr val="4f81bd"/>
                </a:solidFill>
                <a:latin typeface="Arial"/>
              </a:rPr>
              <a:t>المدرب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hi-IN" sz="2400" spc="-1" strike="noStrike" u="sng">
                <a:solidFill>
                  <a:srgbClr val="c00000"/>
                </a:solidFill>
                <a:uFillTx/>
                <a:latin typeface="Arial"/>
              </a:rPr>
              <a:t>رقم المدرب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, الاس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Arial"/>
              </a:rPr>
              <a:t>   المقر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hi-IN" sz="2400" spc="-1" strike="noStrike" u="sng">
                <a:solidFill>
                  <a:srgbClr val="c00000"/>
                </a:solidFill>
                <a:uFillTx/>
                <a:latin typeface="Arial"/>
              </a:rPr>
              <a:t>رقم المقرر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, اسم المقرر 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2400" spc="-1" strike="noStrike" u="sng">
                <a:solidFill>
                  <a:srgbClr val="c00000"/>
                </a:solidFill>
                <a:uFillTx/>
                <a:latin typeface="Arial"/>
              </a:rPr>
              <a:t>رقم المدرب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سهم منحني إلى الأسفل 23"/>
          <p:cNvSpPr/>
          <p:nvPr/>
        </p:nvSpPr>
        <p:spPr>
          <a:xfrm flipH="1">
            <a:off x="3627360" y="166680"/>
            <a:ext cx="3608640" cy="647640"/>
          </a:xfrm>
          <a:custGeom>
            <a:avLst/>
            <a:gdLst>
              <a:gd name="textAreaLeft" fmla="*/ 839520 w 3608640"/>
              <a:gd name="textAreaRight" fmla="*/ 2680560 w 360864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51" hR="21600" stAng="10800000" swAng="5400000"/>
                <a:lnTo>
                  <a:pt x="11020" y="0"/>
                </a:lnTo>
                <a:arcTo wR="10051" hR="21600" stAng="-5400000" swAng="3658427"/>
                <a:lnTo>
                  <a:pt x="21281" y="16200"/>
                </a:lnTo>
                <a:lnTo>
                  <a:pt x="20586" y="21600"/>
                </a:lnTo>
                <a:lnTo>
                  <a:pt x="19252" y="16200"/>
                </a:lnTo>
                <a:lnTo>
                  <a:pt x="19782" y="16200"/>
                </a:lnTo>
                <a:arcTo wR="10051" hR="21600" stAng="-1741573" swAng="-3581240"/>
                <a:lnTo>
                  <a:pt x="10535" y="25"/>
                </a:lnTo>
                <a:arcTo wR="10051" hR="21600" stAng="-5477187" swAng="-5322813"/>
                <a:close/>
              </a:path>
              <a:path fill="darkenLess" w="21600" h="21600">
                <a:moveTo>
                  <a:pt x="0" y="21600"/>
                </a:moveTo>
                <a:arcTo wR="10051" hR="21600" stAng="10800000" swAng="5400000"/>
                <a:lnTo>
                  <a:pt x="10051" y="0"/>
                </a:lnTo>
                <a:arcTo wR="10051" hR="21600" stAng="-5400000" swAng="77187"/>
                <a:lnTo>
                  <a:pt x="10535" y="25"/>
                </a:lnTo>
                <a:arcTo wR="10051" hR="21600" stAng="-5477187" swAng="-5322813"/>
                <a:close/>
              </a:path>
            </a:pathLst>
          </a:custGeom>
          <a:solidFill>
            <a:srgbClr val="c0000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95280" y="1447920"/>
            <a:ext cx="8569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c00000"/>
                </a:solidFill>
                <a:uFillTx/>
                <a:latin typeface="Perpetua"/>
              </a:rPr>
              <a:t>الحالة الثالثة  :عندما تكون العلاقة بين الكيانين هي متعدد إلى متعدد 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لابد من </a:t>
            </a:r>
            <a:r>
              <a:rPr b="0" lang="ar-SA" sz="2800" spc="-1" strike="noStrike">
                <a:solidFill>
                  <a:srgbClr val="1f497d"/>
                </a:solidFill>
                <a:latin typeface="Perpetua"/>
              </a:rPr>
              <a:t>تعريف جدول ثالث يسمى جدول الربط  يسمى </a:t>
            </a:r>
            <a:r>
              <a:rPr b="0" lang="ar-SA" sz="2800" spc="-1" strike="noStrike">
                <a:solidFill>
                  <a:srgbClr val="c00000"/>
                </a:solidFill>
                <a:latin typeface="Perpetua"/>
              </a:rPr>
              <a:t>بأسم العلاقة </a:t>
            </a:r>
            <a:r>
              <a:rPr b="0" lang="ar-SA" sz="2800" spc="-1" strike="noStrike">
                <a:solidFill>
                  <a:srgbClr val="1f497d"/>
                </a:solidFill>
                <a:latin typeface="Perpetua"/>
              </a:rPr>
              <a:t>و 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يتكون مفتاحه الأساسي من حقلين عبارة عن ( المفتاحين الأساسين للجدولين المرتبطين ) وقد يحوي حقول أخرى ضرورية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66" name="Title 1" descr=""/>
          <p:cNvPicPr/>
          <p:nvPr/>
        </p:nvPicPr>
        <p:blipFill>
          <a:blip r:embed="rId1"/>
          <a:stretch/>
        </p:blipFill>
        <p:spPr>
          <a:xfrm>
            <a:off x="171360" y="396720"/>
            <a:ext cx="8886960" cy="6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33"/>
          <p:cNvGrpSpPr/>
          <p:nvPr/>
        </p:nvGrpSpPr>
        <p:grpSpPr>
          <a:xfrm>
            <a:off x="468360" y="208080"/>
            <a:ext cx="8316720" cy="2425680"/>
            <a:chOff x="468360" y="208080"/>
            <a:chExt cx="8316720" cy="2425680"/>
          </a:xfrm>
        </p:grpSpPr>
        <p:grpSp>
          <p:nvGrpSpPr>
            <p:cNvPr id="368" name="Group 17"/>
            <p:cNvGrpSpPr/>
            <p:nvPr/>
          </p:nvGrpSpPr>
          <p:grpSpPr>
            <a:xfrm>
              <a:off x="982800" y="603000"/>
              <a:ext cx="7802280" cy="2030760"/>
              <a:chOff x="982800" y="603000"/>
              <a:chExt cx="7802280" cy="2030760"/>
            </a:xfrm>
          </p:grpSpPr>
          <p:sp>
            <p:nvSpPr>
              <p:cNvPr id="369" name="Rectangle 3"/>
              <p:cNvSpPr/>
              <p:nvPr/>
            </p:nvSpPr>
            <p:spPr>
              <a:xfrm>
                <a:off x="6384600" y="1720080"/>
                <a:ext cx="1629000" cy="710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000000"/>
                    </a:solidFill>
                    <a:latin typeface="Perpetua"/>
                    <a:cs typeface="Times New Roman"/>
                  </a:rPr>
                  <a:t>الطال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Straight Connector 11"/>
              <p:cNvSpPr/>
              <p:nvPr/>
            </p:nvSpPr>
            <p:spPr>
              <a:xfrm flipH="1">
                <a:off x="5474880" y="2075400"/>
                <a:ext cx="909000" cy="7200"/>
              </a:xfrm>
              <a:prstGeom prst="line">
                <a:avLst/>
              </a:prstGeom>
              <a:ln w="9360">
                <a:solidFill>
                  <a:srgbClr val="3965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lowchart: Decision 12"/>
              <p:cNvSpPr/>
              <p:nvPr/>
            </p:nvSpPr>
            <p:spPr>
              <a:xfrm>
                <a:off x="3812040" y="1516680"/>
                <a:ext cx="1629000" cy="1117080"/>
              </a:xfrm>
              <a:prstGeom prst="flowChartDecision">
                <a:avLst/>
              </a:prstGeom>
              <a:solidFill>
                <a:srgbClr val="ffffff"/>
              </a:solidFill>
              <a:ln w="1260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000000"/>
                    </a:solidFill>
                    <a:latin typeface="Perpetua"/>
                    <a:cs typeface="Times New Roman"/>
                  </a:rPr>
                  <a:t>يسج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3"/>
              <p:cNvSpPr/>
              <p:nvPr/>
            </p:nvSpPr>
            <p:spPr>
              <a:xfrm>
                <a:off x="982800" y="1720080"/>
                <a:ext cx="1629000" cy="710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000000"/>
                    </a:solidFill>
                    <a:latin typeface="Perpetua"/>
                    <a:cs typeface="Times New Roman"/>
                  </a:rPr>
                  <a:t>المقر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Straight Connector 14"/>
              <p:cNvSpPr/>
              <p:nvPr/>
            </p:nvSpPr>
            <p:spPr>
              <a:xfrm flipH="1" flipV="1">
                <a:off x="2611800" y="2075400"/>
                <a:ext cx="1200240" cy="12960"/>
              </a:xfrm>
              <a:prstGeom prst="line">
                <a:avLst/>
              </a:prstGeom>
              <a:ln w="9360">
                <a:solidFill>
                  <a:srgbClr val="3965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16"/>
              <p:cNvSpPr/>
              <p:nvPr/>
            </p:nvSpPr>
            <p:spPr>
              <a:xfrm>
                <a:off x="7156080" y="603000"/>
                <a:ext cx="1629000" cy="710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 u="sng">
                    <a:solidFill>
                      <a:srgbClr val="000000"/>
                    </a:solidFill>
                    <a:uFillTx/>
                    <a:latin typeface="Perpetua"/>
                    <a:cs typeface="Times New Roman"/>
                  </a:rPr>
                  <a:t>رقم الطال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" name="Oval 20"/>
            <p:cNvSpPr/>
            <p:nvPr/>
          </p:nvSpPr>
          <p:spPr>
            <a:xfrm>
              <a:off x="5612760" y="603000"/>
              <a:ext cx="1285920" cy="710640"/>
            </a:xfrm>
            <a:prstGeom prst="ellipse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الاس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Straight Connector 22"/>
            <p:cNvSpPr/>
            <p:nvPr/>
          </p:nvSpPr>
          <p:spPr>
            <a:xfrm flipH="1">
              <a:off x="7198560" y="1313640"/>
              <a:ext cx="771480" cy="406080"/>
            </a:xfrm>
            <a:prstGeom prst="line">
              <a:avLst/>
            </a:prstGeom>
            <a:ln w="9360">
              <a:solidFill>
                <a:srgbClr val="396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Straight Connector 24"/>
            <p:cNvSpPr/>
            <p:nvPr/>
          </p:nvSpPr>
          <p:spPr>
            <a:xfrm>
              <a:off x="6255720" y="1313640"/>
              <a:ext cx="942840" cy="406080"/>
            </a:xfrm>
            <a:prstGeom prst="line">
              <a:avLst/>
            </a:prstGeom>
            <a:ln w="9360">
              <a:solidFill>
                <a:srgbClr val="396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25"/>
            <p:cNvSpPr/>
            <p:nvPr/>
          </p:nvSpPr>
          <p:spPr>
            <a:xfrm>
              <a:off x="468360" y="377280"/>
              <a:ext cx="1543320" cy="733320"/>
            </a:xfrm>
            <a:prstGeom prst="ellipse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اسم المقر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26"/>
            <p:cNvSpPr/>
            <p:nvPr/>
          </p:nvSpPr>
          <p:spPr>
            <a:xfrm>
              <a:off x="2097360" y="208080"/>
              <a:ext cx="1543320" cy="801000"/>
            </a:xfrm>
            <a:prstGeom prst="ellipse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 u="sng">
                  <a:solidFill>
                    <a:srgbClr val="000000"/>
                  </a:solidFill>
                  <a:uFillTx/>
                  <a:latin typeface="Perpetua"/>
                  <a:cs typeface="Times New Roman"/>
                </a:rPr>
                <a:t>رقم المقر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Straight Connector 28"/>
            <p:cNvSpPr/>
            <p:nvPr/>
          </p:nvSpPr>
          <p:spPr>
            <a:xfrm flipH="1">
              <a:off x="1796760" y="1009080"/>
              <a:ext cx="1071720" cy="710640"/>
            </a:xfrm>
            <a:prstGeom prst="line">
              <a:avLst/>
            </a:prstGeom>
            <a:ln w="9360">
              <a:solidFill>
                <a:srgbClr val="396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Straight Connector 30"/>
            <p:cNvSpPr/>
            <p:nvPr/>
          </p:nvSpPr>
          <p:spPr>
            <a:xfrm>
              <a:off x="1411200" y="1110600"/>
              <a:ext cx="385560" cy="609120"/>
            </a:xfrm>
            <a:prstGeom prst="line">
              <a:avLst/>
            </a:prstGeom>
            <a:ln w="9360">
              <a:solidFill>
                <a:srgbClr val="396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Box 31"/>
            <p:cNvSpPr/>
            <p:nvPr/>
          </p:nvSpPr>
          <p:spPr>
            <a:xfrm>
              <a:off x="5643720" y="1618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Box 32"/>
            <p:cNvSpPr/>
            <p:nvPr/>
          </p:nvSpPr>
          <p:spPr>
            <a:xfrm>
              <a:off x="2959920" y="15166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مستطيل 27"/>
          <p:cNvSpPr/>
          <p:nvPr/>
        </p:nvSpPr>
        <p:spPr>
          <a:xfrm>
            <a:off x="982800" y="3213000"/>
            <a:ext cx="7805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أولا : نحول الكيانات إلى جداول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4f81bd"/>
                </a:solidFill>
                <a:latin typeface="Arial"/>
              </a:rPr>
              <a:t>الطالب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hi-IN" sz="2400" spc="-1" strike="noStrike" u="sng">
                <a:solidFill>
                  <a:srgbClr val="c00000"/>
                </a:solidFill>
                <a:uFillTx/>
                <a:latin typeface="Arial"/>
              </a:rPr>
              <a:t>رقم الطالب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, الاس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4f81bd"/>
                </a:solidFill>
                <a:latin typeface="Arial"/>
              </a:rPr>
              <a:t>المقر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i-IN" sz="2400" spc="-1" strike="noStrike" u="sng">
                <a:solidFill>
                  <a:srgbClr val="c00000"/>
                </a:solidFill>
                <a:uFillTx/>
                <a:latin typeface="Arial"/>
              </a:rPr>
              <a:t>رقم المقرر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, اسم المقر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ثانيا : نربط بين الجدولين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i-IN" sz="2400" spc="-1" strike="noStrike">
                <a:solidFill>
                  <a:srgbClr val="4f81bd"/>
                </a:solidFill>
                <a:latin typeface="Arial"/>
              </a:rPr>
              <a:t>الطالب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hi-IN" sz="2400" spc="-1" strike="noStrike" u="sng">
                <a:solidFill>
                  <a:srgbClr val="c00000"/>
                </a:solidFill>
                <a:uFillTx/>
                <a:latin typeface="Arial"/>
              </a:rPr>
              <a:t>رقم الطالب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, الاس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Arial"/>
              </a:rPr>
              <a:t>   المقر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hi-IN" sz="2400" spc="-1" strike="noStrike" u="sng">
                <a:solidFill>
                  <a:srgbClr val="c00000"/>
                </a:solidFill>
                <a:uFillTx/>
                <a:latin typeface="Arial"/>
              </a:rPr>
              <a:t>رقم المقرر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, اسم المقرر 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i-IN" sz="2400" spc="-1" strike="noStrike">
                <a:solidFill>
                  <a:srgbClr val="4f81bd"/>
                </a:solidFill>
                <a:latin typeface="Arial"/>
              </a:rPr>
              <a:t>التسجي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i-IN" sz="2400" spc="-1" strike="noStrike" u="sng">
                <a:solidFill>
                  <a:srgbClr val="c00000"/>
                </a:solidFill>
                <a:uFillTx/>
                <a:latin typeface="Arial"/>
              </a:rPr>
              <a:t>رقم الطالب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hi-IN" sz="2400" spc="-1" strike="noStrike" u="sng">
                <a:solidFill>
                  <a:srgbClr val="c00000"/>
                </a:solidFill>
                <a:uFillTx/>
                <a:latin typeface="Arial"/>
              </a:rPr>
              <a:t>رقم المقرر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, الدرجة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25"/>
          <p:cNvSpPr/>
          <p:nvPr/>
        </p:nvSpPr>
        <p:spPr>
          <a:xfrm>
            <a:off x="3811680" y="488880"/>
            <a:ext cx="1330200" cy="468360"/>
          </a:xfrm>
          <a:prstGeom prst="ellipse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Perpetua"/>
                <a:cs typeface="Times New Roman"/>
              </a:rPr>
              <a:t>الدرج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traight Connector 30"/>
          <p:cNvSpPr/>
          <p:nvPr/>
        </p:nvSpPr>
        <p:spPr>
          <a:xfrm>
            <a:off x="4476600" y="957240"/>
            <a:ext cx="149400" cy="558720"/>
          </a:xfrm>
          <a:prstGeom prst="line">
            <a:avLst/>
          </a:prstGeom>
          <a:ln w="9360">
            <a:solidFill>
              <a:srgbClr val="396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Rectangle 3" descr=""/>
          <p:cNvPicPr/>
          <p:nvPr/>
        </p:nvPicPr>
        <p:blipFill>
          <a:blip r:embed="rId1"/>
          <a:stretch/>
        </p:blipFill>
        <p:spPr>
          <a:xfrm>
            <a:off x="463680" y="1189080"/>
            <a:ext cx="8356320" cy="4078080"/>
          </a:xfrm>
          <a:prstGeom prst="rect">
            <a:avLst/>
          </a:prstGeom>
          <a:ln w="0">
            <a:noFill/>
          </a:ln>
        </p:spPr>
      </p:pic>
      <p:pic>
        <p:nvPicPr>
          <p:cNvPr id="388" name="Title 1" descr=""/>
          <p:cNvPicPr/>
          <p:nvPr/>
        </p:nvPicPr>
        <p:blipFill>
          <a:blip r:embed="rId2"/>
          <a:stretch/>
        </p:blipFill>
        <p:spPr>
          <a:xfrm>
            <a:off x="171360" y="152280"/>
            <a:ext cx="888696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Franklin Gothic Book"/>
              </a:rPr>
              <a:t>تطبيق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493560" y="4218120"/>
            <a:ext cx="85536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161"/>
          <p:cNvGrpSpPr/>
          <p:nvPr/>
        </p:nvGrpSpPr>
        <p:grpSpPr>
          <a:xfrm>
            <a:off x="0" y="165240"/>
            <a:ext cx="8926560" cy="6261120"/>
            <a:chOff x="0" y="165240"/>
            <a:chExt cx="8926560" cy="6261120"/>
          </a:xfrm>
        </p:grpSpPr>
        <p:sp>
          <p:nvSpPr>
            <p:cNvPr id="392" name="Rectangle 26"/>
            <p:cNvSpPr/>
            <p:nvPr/>
          </p:nvSpPr>
          <p:spPr>
            <a:xfrm>
              <a:off x="4838400" y="5202360"/>
              <a:ext cx="1170000" cy="453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Trebuchet MS"/>
                  <a:cs typeface="Tahoma"/>
                </a:rPr>
                <a:t>الغرفة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06"/>
            <p:cNvSpPr/>
            <p:nvPr/>
          </p:nvSpPr>
          <p:spPr>
            <a:xfrm>
              <a:off x="7984800" y="4200840"/>
              <a:ext cx="288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Straight Connector 182"/>
            <p:cNvSpPr/>
            <p:nvPr/>
          </p:nvSpPr>
          <p:spPr>
            <a:xfrm flipH="1">
              <a:off x="6791040" y="2891160"/>
              <a:ext cx="719280" cy="10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7"/>
            <p:cNvSpPr/>
            <p:nvPr/>
          </p:nvSpPr>
          <p:spPr>
            <a:xfrm>
              <a:off x="6309000" y="3892680"/>
              <a:ext cx="964440" cy="681120"/>
            </a:xfrm>
            <a:prstGeom prst="diamond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00"/>
                  </a:solidFill>
                  <a:latin typeface="Trebuchet MS"/>
                  <a:cs typeface="Tahoma"/>
                </a:rPr>
                <a:t>يرقد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10"/>
            <p:cNvSpPr/>
            <p:nvPr/>
          </p:nvSpPr>
          <p:spPr>
            <a:xfrm flipH="1">
              <a:off x="5533560" y="4571280"/>
              <a:ext cx="1264680" cy="61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80"/>
            <p:cNvSpPr/>
            <p:nvPr/>
          </p:nvSpPr>
          <p:spPr>
            <a:xfrm>
              <a:off x="5297040" y="5987520"/>
              <a:ext cx="144000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رقم الغرفة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80"/>
            <p:cNvSpPr/>
            <p:nvPr/>
          </p:nvSpPr>
          <p:spPr>
            <a:xfrm>
              <a:off x="3004200" y="5433480"/>
              <a:ext cx="1343880" cy="447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</a:rPr>
                <a:t>عدد الأسرة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80"/>
            <p:cNvSpPr/>
            <p:nvPr/>
          </p:nvSpPr>
          <p:spPr>
            <a:xfrm>
              <a:off x="3478320" y="5972760"/>
              <a:ext cx="1565280" cy="453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</a:rPr>
                <a:t>رقم التحويلة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Straight Connector 188"/>
            <p:cNvSpPr/>
            <p:nvPr/>
          </p:nvSpPr>
          <p:spPr>
            <a:xfrm flipV="1">
              <a:off x="4348080" y="5428800"/>
              <a:ext cx="489960" cy="22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Straight Connector 189"/>
            <p:cNvSpPr/>
            <p:nvPr/>
          </p:nvSpPr>
          <p:spPr>
            <a:xfrm flipV="1">
              <a:off x="4585320" y="5655600"/>
              <a:ext cx="837720" cy="31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Straight Connector 190"/>
            <p:cNvSpPr/>
            <p:nvPr/>
          </p:nvSpPr>
          <p:spPr>
            <a:xfrm flipH="1" flipV="1">
              <a:off x="5771160" y="5664600"/>
              <a:ext cx="245520" cy="32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06"/>
            <p:cNvSpPr/>
            <p:nvPr/>
          </p:nvSpPr>
          <p:spPr>
            <a:xfrm>
              <a:off x="6510960" y="3507480"/>
              <a:ext cx="28800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10"/>
            <p:cNvSpPr/>
            <p:nvPr/>
          </p:nvSpPr>
          <p:spPr>
            <a:xfrm>
              <a:off x="6166440" y="4431960"/>
              <a:ext cx="26856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Straight Connector 193"/>
            <p:cNvSpPr/>
            <p:nvPr/>
          </p:nvSpPr>
          <p:spPr>
            <a:xfrm>
              <a:off x="2529000" y="1658520"/>
              <a:ext cx="18360" cy="73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92"/>
            <p:cNvSpPr/>
            <p:nvPr/>
          </p:nvSpPr>
          <p:spPr>
            <a:xfrm>
              <a:off x="202320" y="3276360"/>
              <a:ext cx="1536840" cy="59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</a:rPr>
                <a:t>رقم الهاتف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lowchart: Decision 196"/>
            <p:cNvSpPr/>
            <p:nvPr/>
          </p:nvSpPr>
          <p:spPr>
            <a:xfrm>
              <a:off x="1836720" y="2395800"/>
              <a:ext cx="1422720" cy="539280"/>
            </a:xfrm>
            <a:prstGeom prst="flowChartDecision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4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يعمل ف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Straight Connector 197"/>
            <p:cNvSpPr/>
            <p:nvPr/>
          </p:nvSpPr>
          <p:spPr>
            <a:xfrm>
              <a:off x="2529720" y="2968200"/>
              <a:ext cx="0" cy="9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10"/>
            <p:cNvSpPr/>
            <p:nvPr/>
          </p:nvSpPr>
          <p:spPr>
            <a:xfrm>
              <a:off x="2213640" y="2043720"/>
              <a:ext cx="23688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110"/>
            <p:cNvSpPr/>
            <p:nvPr/>
          </p:nvSpPr>
          <p:spPr>
            <a:xfrm>
              <a:off x="2213640" y="3045240"/>
              <a:ext cx="26856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Group 6"/>
            <p:cNvGrpSpPr/>
            <p:nvPr/>
          </p:nvGrpSpPr>
          <p:grpSpPr>
            <a:xfrm>
              <a:off x="4348080" y="3276720"/>
              <a:ext cx="1110240" cy="852480"/>
              <a:chOff x="4348080" y="3276720"/>
              <a:chExt cx="1110240" cy="852480"/>
            </a:xfrm>
          </p:grpSpPr>
          <p:sp>
            <p:nvSpPr>
              <p:cNvPr id="412" name="AutoShape 7"/>
              <p:cNvSpPr/>
              <p:nvPr/>
            </p:nvSpPr>
            <p:spPr>
              <a:xfrm>
                <a:off x="4348080" y="3276720"/>
                <a:ext cx="1110240" cy="852480"/>
              </a:xfrm>
              <a:prstGeom prst="diamond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8"/>
              <p:cNvSpPr/>
              <p:nvPr/>
            </p:nvSpPr>
            <p:spPr>
              <a:xfrm>
                <a:off x="4420440" y="3507480"/>
                <a:ext cx="835200" cy="48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100" spc="-1" strike="noStrike">
                    <a:solidFill>
                      <a:srgbClr val="000000"/>
                    </a:solidFill>
                    <a:latin typeface="Arial"/>
                  </a:rPr>
                  <a:t>يكشف عل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" name="Line 9"/>
            <p:cNvSpPr/>
            <p:nvPr/>
          </p:nvSpPr>
          <p:spPr>
            <a:xfrm flipV="1">
              <a:off x="5459040" y="2905920"/>
              <a:ext cx="1785960" cy="75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0"/>
            <p:cNvSpPr/>
            <p:nvPr/>
          </p:nvSpPr>
          <p:spPr>
            <a:xfrm flipH="1">
              <a:off x="3083040" y="3700080"/>
              <a:ext cx="1265040" cy="42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Group 17"/>
            <p:cNvGrpSpPr/>
            <p:nvPr/>
          </p:nvGrpSpPr>
          <p:grpSpPr>
            <a:xfrm>
              <a:off x="7429320" y="2891160"/>
              <a:ext cx="999360" cy="1926000"/>
              <a:chOff x="7429320" y="2891160"/>
              <a:chExt cx="999360" cy="1926000"/>
            </a:xfrm>
          </p:grpSpPr>
          <p:sp>
            <p:nvSpPr>
              <p:cNvPr id="417" name="AutoShape 19"/>
              <p:cNvSpPr/>
              <p:nvPr/>
            </p:nvSpPr>
            <p:spPr>
              <a:xfrm>
                <a:off x="7429320" y="3507120"/>
                <a:ext cx="999360" cy="685080"/>
              </a:xfrm>
              <a:prstGeom prst="diamond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400" spc="-1" strike="noStrike">
                    <a:solidFill>
                      <a:srgbClr val="000000"/>
                    </a:solidFill>
                    <a:latin typeface="Arial"/>
                  </a:rPr>
                  <a:t>يأخ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Line 21"/>
              <p:cNvSpPr/>
              <p:nvPr/>
            </p:nvSpPr>
            <p:spPr>
              <a:xfrm>
                <a:off x="7926120" y="2891160"/>
                <a:ext cx="0" cy="61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Line 22"/>
              <p:cNvSpPr/>
              <p:nvPr/>
            </p:nvSpPr>
            <p:spPr>
              <a:xfrm>
                <a:off x="7926120" y="4201200"/>
                <a:ext cx="0" cy="61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Rectangle 26"/>
            <p:cNvSpPr/>
            <p:nvPr/>
          </p:nvSpPr>
          <p:spPr>
            <a:xfrm>
              <a:off x="7431480" y="4817160"/>
              <a:ext cx="983880" cy="513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</a:rPr>
                <a:t>الدواء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32"/>
            <p:cNvSpPr/>
            <p:nvPr/>
          </p:nvSpPr>
          <p:spPr>
            <a:xfrm>
              <a:off x="6245640" y="5433480"/>
              <a:ext cx="1423080" cy="38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رقم الدوا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35"/>
            <p:cNvSpPr/>
            <p:nvPr/>
          </p:nvSpPr>
          <p:spPr>
            <a:xfrm>
              <a:off x="7352280" y="5972760"/>
              <a:ext cx="1574280" cy="41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</a:rPr>
                <a:t>اسم الدوا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38"/>
            <p:cNvSpPr/>
            <p:nvPr/>
          </p:nvSpPr>
          <p:spPr>
            <a:xfrm flipV="1">
              <a:off x="7036200" y="5048280"/>
              <a:ext cx="394920" cy="38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39"/>
            <p:cNvSpPr/>
            <p:nvPr/>
          </p:nvSpPr>
          <p:spPr>
            <a:xfrm flipV="1">
              <a:off x="8064000" y="5356080"/>
              <a:ext cx="0" cy="61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43"/>
            <p:cNvSpPr/>
            <p:nvPr/>
          </p:nvSpPr>
          <p:spPr>
            <a:xfrm>
              <a:off x="7115040" y="2377080"/>
              <a:ext cx="1106640" cy="513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</a:rPr>
                <a:t>المريض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6"/>
            <p:cNvSpPr/>
            <p:nvPr/>
          </p:nvSpPr>
          <p:spPr>
            <a:xfrm>
              <a:off x="5533920" y="2586600"/>
              <a:ext cx="1264320" cy="41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رقم المريض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49"/>
            <p:cNvSpPr/>
            <p:nvPr/>
          </p:nvSpPr>
          <p:spPr>
            <a:xfrm>
              <a:off x="5533920" y="2046960"/>
              <a:ext cx="1248840" cy="41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200" spc="-1" strike="noStrike">
                  <a:solidFill>
                    <a:srgbClr val="000000"/>
                  </a:solidFill>
                  <a:latin typeface="Arial"/>
                </a:rPr>
                <a:t>اسم المريض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60"/>
            <p:cNvSpPr/>
            <p:nvPr/>
          </p:nvSpPr>
          <p:spPr>
            <a:xfrm flipV="1">
              <a:off x="6827040" y="2664000"/>
              <a:ext cx="288000" cy="1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61"/>
            <p:cNvSpPr/>
            <p:nvPr/>
          </p:nvSpPr>
          <p:spPr>
            <a:xfrm>
              <a:off x="6798960" y="2278440"/>
              <a:ext cx="31608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65"/>
            <p:cNvSpPr/>
            <p:nvPr/>
          </p:nvSpPr>
          <p:spPr>
            <a:xfrm>
              <a:off x="4348080" y="1812600"/>
              <a:ext cx="885240" cy="308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200" spc="-1" strike="noStrike">
                  <a:solidFill>
                    <a:srgbClr val="000000"/>
                  </a:solidFill>
                  <a:latin typeface="Arial"/>
                </a:rPr>
                <a:t>الأو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66"/>
            <p:cNvSpPr/>
            <p:nvPr/>
          </p:nvSpPr>
          <p:spPr>
            <a:xfrm>
              <a:off x="5217480" y="1966680"/>
              <a:ext cx="55296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67"/>
            <p:cNvSpPr/>
            <p:nvPr/>
          </p:nvSpPr>
          <p:spPr>
            <a:xfrm flipV="1">
              <a:off x="5059440" y="2256840"/>
              <a:ext cx="474120" cy="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68"/>
            <p:cNvSpPr/>
            <p:nvPr/>
          </p:nvSpPr>
          <p:spPr>
            <a:xfrm>
              <a:off x="4190040" y="2164680"/>
              <a:ext cx="885240" cy="308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200" spc="-1" strike="noStrike">
                  <a:solidFill>
                    <a:srgbClr val="000000"/>
                  </a:solidFill>
                  <a:latin typeface="Arial"/>
                </a:rPr>
                <a:t>الأ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69"/>
            <p:cNvSpPr/>
            <p:nvPr/>
          </p:nvSpPr>
          <p:spPr>
            <a:xfrm flipV="1">
              <a:off x="5108400" y="2410920"/>
              <a:ext cx="63252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70"/>
            <p:cNvSpPr/>
            <p:nvPr/>
          </p:nvSpPr>
          <p:spPr>
            <a:xfrm>
              <a:off x="4253400" y="2520360"/>
              <a:ext cx="885240" cy="308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200" spc="-1" strike="noStrike">
                  <a:solidFill>
                    <a:srgbClr val="000000"/>
                  </a:solidFill>
                  <a:latin typeface="Arial"/>
                </a:rPr>
                <a:t>العائل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Group 72"/>
            <p:cNvGrpSpPr/>
            <p:nvPr/>
          </p:nvGrpSpPr>
          <p:grpSpPr>
            <a:xfrm>
              <a:off x="158040" y="3507480"/>
              <a:ext cx="3709440" cy="1617840"/>
              <a:chOff x="158040" y="3507480"/>
              <a:chExt cx="3709440" cy="1617840"/>
            </a:xfrm>
          </p:grpSpPr>
          <p:sp>
            <p:nvSpPr>
              <p:cNvPr id="437" name="Rectangle 74"/>
              <p:cNvSpPr/>
              <p:nvPr/>
            </p:nvSpPr>
            <p:spPr>
              <a:xfrm>
                <a:off x="1818000" y="3892680"/>
                <a:ext cx="1264680" cy="513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000000"/>
                    </a:solidFill>
                    <a:latin typeface="Arial"/>
                  </a:rPr>
                  <a:t>الطبي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Oval 80"/>
              <p:cNvSpPr/>
              <p:nvPr/>
            </p:nvSpPr>
            <p:spPr>
              <a:xfrm>
                <a:off x="2292120" y="4740120"/>
                <a:ext cx="1575360" cy="385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5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رقم الطبيب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Oval 83"/>
              <p:cNvSpPr/>
              <p:nvPr/>
            </p:nvSpPr>
            <p:spPr>
              <a:xfrm>
                <a:off x="394560" y="4740120"/>
                <a:ext cx="1668240" cy="361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500" spc="-1" strike="noStrike">
                    <a:solidFill>
                      <a:srgbClr val="000000"/>
                    </a:solidFill>
                    <a:latin typeface="Arial"/>
                  </a:rPr>
                  <a:t>اسم الطبيب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Oval 86"/>
              <p:cNvSpPr/>
              <p:nvPr/>
            </p:nvSpPr>
            <p:spPr>
              <a:xfrm>
                <a:off x="158040" y="3954960"/>
                <a:ext cx="1383480" cy="361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500" spc="-1" strike="noStrike">
                    <a:solidFill>
                      <a:srgbClr val="000000"/>
                    </a:solidFill>
                    <a:latin typeface="Arial"/>
                  </a:rPr>
                  <a:t>التخصص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Line 94"/>
              <p:cNvSpPr/>
              <p:nvPr/>
            </p:nvSpPr>
            <p:spPr>
              <a:xfrm flipV="1">
                <a:off x="2924640" y="443196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Line 95"/>
              <p:cNvSpPr/>
              <p:nvPr/>
            </p:nvSpPr>
            <p:spPr>
              <a:xfrm flipV="1">
                <a:off x="1373760" y="4402800"/>
                <a:ext cx="55296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96"/>
              <p:cNvSpPr/>
              <p:nvPr/>
            </p:nvSpPr>
            <p:spPr>
              <a:xfrm>
                <a:off x="1501560" y="4124160"/>
                <a:ext cx="316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99"/>
              <p:cNvSpPr/>
              <p:nvPr/>
            </p:nvSpPr>
            <p:spPr>
              <a:xfrm>
                <a:off x="1739160" y="3507480"/>
                <a:ext cx="394920" cy="38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Oval 100"/>
            <p:cNvSpPr/>
            <p:nvPr/>
          </p:nvSpPr>
          <p:spPr>
            <a:xfrm>
              <a:off x="0" y="5510520"/>
              <a:ext cx="885240" cy="308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00"/>
                  </a:solidFill>
                  <a:latin typeface="Arial"/>
                </a:rPr>
                <a:t>الأو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101"/>
            <p:cNvSpPr/>
            <p:nvPr/>
          </p:nvSpPr>
          <p:spPr>
            <a:xfrm flipV="1">
              <a:off x="316080" y="5048280"/>
              <a:ext cx="307440" cy="4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102"/>
            <p:cNvSpPr/>
            <p:nvPr/>
          </p:nvSpPr>
          <p:spPr>
            <a:xfrm flipV="1">
              <a:off x="1343880" y="5110200"/>
              <a:ext cx="0" cy="44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03"/>
            <p:cNvSpPr/>
            <p:nvPr/>
          </p:nvSpPr>
          <p:spPr>
            <a:xfrm>
              <a:off x="914760" y="5558040"/>
              <a:ext cx="885240" cy="308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00"/>
                  </a:solidFill>
                  <a:latin typeface="Arial"/>
                </a:rPr>
                <a:t>الأ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104"/>
            <p:cNvSpPr/>
            <p:nvPr/>
          </p:nvSpPr>
          <p:spPr>
            <a:xfrm flipH="1" flipV="1">
              <a:off x="1818360" y="5048280"/>
              <a:ext cx="37944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05"/>
            <p:cNvSpPr/>
            <p:nvPr/>
          </p:nvSpPr>
          <p:spPr>
            <a:xfrm>
              <a:off x="1818360" y="5481000"/>
              <a:ext cx="885240" cy="308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00"/>
                  </a:solidFill>
                  <a:latin typeface="Arial"/>
                </a:rPr>
                <a:t>العائل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106"/>
            <p:cNvSpPr/>
            <p:nvPr/>
          </p:nvSpPr>
          <p:spPr>
            <a:xfrm>
              <a:off x="7985160" y="3199680"/>
              <a:ext cx="31608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110"/>
            <p:cNvSpPr/>
            <p:nvPr/>
          </p:nvSpPr>
          <p:spPr>
            <a:xfrm>
              <a:off x="3140640" y="3632400"/>
              <a:ext cx="308880" cy="30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111"/>
            <p:cNvSpPr/>
            <p:nvPr/>
          </p:nvSpPr>
          <p:spPr>
            <a:xfrm>
              <a:off x="5771160" y="3081960"/>
              <a:ext cx="31680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202"/>
            <p:cNvSpPr/>
            <p:nvPr/>
          </p:nvSpPr>
          <p:spPr>
            <a:xfrm>
              <a:off x="2134440" y="1204920"/>
              <a:ext cx="1027440" cy="462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القس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46"/>
            <p:cNvSpPr/>
            <p:nvPr/>
          </p:nvSpPr>
          <p:spPr>
            <a:xfrm>
              <a:off x="2766960" y="348840"/>
              <a:ext cx="1264680" cy="530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رقم القسم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Straight Connector 204"/>
            <p:cNvSpPr/>
            <p:nvPr/>
          </p:nvSpPr>
          <p:spPr>
            <a:xfrm flipH="1">
              <a:off x="2925000" y="888120"/>
              <a:ext cx="395280" cy="30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46"/>
            <p:cNvSpPr/>
            <p:nvPr/>
          </p:nvSpPr>
          <p:spPr>
            <a:xfrm>
              <a:off x="1343880" y="357120"/>
              <a:ext cx="1264680" cy="530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</a:rPr>
                <a:t>اسم  القسم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Straight Connector 206"/>
            <p:cNvSpPr/>
            <p:nvPr/>
          </p:nvSpPr>
          <p:spPr>
            <a:xfrm>
              <a:off x="1976400" y="888120"/>
              <a:ext cx="395280" cy="30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46"/>
            <p:cNvSpPr/>
            <p:nvPr/>
          </p:nvSpPr>
          <p:spPr>
            <a:xfrm>
              <a:off x="7352280" y="579960"/>
              <a:ext cx="1264680" cy="53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رقم المدير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Straight Connector 208"/>
            <p:cNvSpPr/>
            <p:nvPr/>
          </p:nvSpPr>
          <p:spPr>
            <a:xfrm flipV="1">
              <a:off x="7510680" y="1119240"/>
              <a:ext cx="474120" cy="38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46"/>
            <p:cNvSpPr/>
            <p:nvPr/>
          </p:nvSpPr>
          <p:spPr>
            <a:xfrm>
              <a:off x="6008400" y="348840"/>
              <a:ext cx="1343880" cy="53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</a:rPr>
                <a:t>اسم  المدير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Straight Connector 210"/>
            <p:cNvSpPr/>
            <p:nvPr/>
          </p:nvSpPr>
          <p:spPr>
            <a:xfrm>
              <a:off x="6679800" y="888120"/>
              <a:ext cx="434520" cy="38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211"/>
            <p:cNvSpPr/>
            <p:nvPr/>
          </p:nvSpPr>
          <p:spPr>
            <a:xfrm>
              <a:off x="6482880" y="1273320"/>
              <a:ext cx="1027440" cy="462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المدي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Straight Connector 212"/>
            <p:cNvSpPr/>
            <p:nvPr/>
          </p:nvSpPr>
          <p:spPr>
            <a:xfrm flipH="1" flipV="1">
              <a:off x="5533560" y="1494000"/>
              <a:ext cx="948600" cy="1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lowchart: Decision 213"/>
            <p:cNvSpPr/>
            <p:nvPr/>
          </p:nvSpPr>
          <p:spPr>
            <a:xfrm>
              <a:off x="4110840" y="1211040"/>
              <a:ext cx="1422720" cy="539280"/>
            </a:xfrm>
            <a:prstGeom prst="flowChartDecision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4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يرأ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Straight Connector 214"/>
            <p:cNvSpPr/>
            <p:nvPr/>
          </p:nvSpPr>
          <p:spPr>
            <a:xfrm flipH="1" flipV="1">
              <a:off x="3177000" y="1471320"/>
              <a:ext cx="948600" cy="1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110"/>
            <p:cNvSpPr/>
            <p:nvPr/>
          </p:nvSpPr>
          <p:spPr>
            <a:xfrm>
              <a:off x="5533920" y="1119240"/>
              <a:ext cx="2685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110"/>
            <p:cNvSpPr/>
            <p:nvPr/>
          </p:nvSpPr>
          <p:spPr>
            <a:xfrm>
              <a:off x="3873600" y="1119240"/>
              <a:ext cx="2685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5"/>
            <p:cNvSpPr/>
            <p:nvPr/>
          </p:nvSpPr>
          <p:spPr>
            <a:xfrm>
              <a:off x="4789080" y="165240"/>
              <a:ext cx="885240" cy="308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200" spc="-1" strike="noStrike">
                  <a:solidFill>
                    <a:srgbClr val="000000"/>
                  </a:solidFill>
                  <a:latin typeface="Arial"/>
                </a:rPr>
                <a:t>الأو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66"/>
            <p:cNvSpPr/>
            <p:nvPr/>
          </p:nvSpPr>
          <p:spPr>
            <a:xfrm>
              <a:off x="5658480" y="319320"/>
              <a:ext cx="55296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67"/>
            <p:cNvSpPr/>
            <p:nvPr/>
          </p:nvSpPr>
          <p:spPr>
            <a:xfrm flipV="1">
              <a:off x="5515560" y="594720"/>
              <a:ext cx="474120" cy="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68"/>
            <p:cNvSpPr/>
            <p:nvPr/>
          </p:nvSpPr>
          <p:spPr>
            <a:xfrm>
              <a:off x="4646160" y="502560"/>
              <a:ext cx="885240" cy="308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200" spc="-1" strike="noStrike">
                  <a:solidFill>
                    <a:srgbClr val="000000"/>
                  </a:solidFill>
                  <a:latin typeface="Arial"/>
                </a:rPr>
                <a:t>الأ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69"/>
            <p:cNvSpPr/>
            <p:nvPr/>
          </p:nvSpPr>
          <p:spPr>
            <a:xfrm flipV="1">
              <a:off x="5428800" y="734040"/>
              <a:ext cx="63252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70"/>
            <p:cNvSpPr/>
            <p:nvPr/>
          </p:nvSpPr>
          <p:spPr>
            <a:xfrm>
              <a:off x="4573440" y="843480"/>
              <a:ext cx="885240" cy="308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200" spc="-1" strike="noStrike">
                  <a:solidFill>
                    <a:srgbClr val="000000"/>
                  </a:solidFill>
                  <a:latin typeface="Arial"/>
                </a:rPr>
                <a:t>العائل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Oval 92"/>
          <p:cNvSpPr/>
          <p:nvPr/>
        </p:nvSpPr>
        <p:spPr>
          <a:xfrm>
            <a:off x="316080" y="3325680"/>
            <a:ext cx="128556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rial"/>
              </a:rPr>
              <a:t>رقم الهات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46"/>
          <p:cNvSpPr/>
          <p:nvPr/>
        </p:nvSpPr>
        <p:spPr>
          <a:xfrm>
            <a:off x="8242200" y="2919240"/>
            <a:ext cx="750960" cy="406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rial"/>
              </a:rPr>
              <a:t>الكمي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traight Connector 206"/>
          <p:cNvSpPr/>
          <p:nvPr/>
        </p:nvSpPr>
        <p:spPr>
          <a:xfrm flipH="1">
            <a:off x="8429760" y="3325680"/>
            <a:ext cx="187200" cy="52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46"/>
          <p:cNvSpPr/>
          <p:nvPr/>
        </p:nvSpPr>
        <p:spPr>
          <a:xfrm>
            <a:off x="4051440" y="4424400"/>
            <a:ext cx="1490400" cy="406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rial"/>
              </a:rPr>
              <a:t>تاريخ الكش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traight Connector 206"/>
          <p:cNvSpPr/>
          <p:nvPr/>
        </p:nvSpPr>
        <p:spPr>
          <a:xfrm flipH="1">
            <a:off x="4838400" y="4129200"/>
            <a:ext cx="651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46"/>
          <p:cNvSpPr/>
          <p:nvPr/>
        </p:nvSpPr>
        <p:spPr>
          <a:xfrm>
            <a:off x="3211560" y="3117960"/>
            <a:ext cx="1236600" cy="404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rial"/>
              </a:rPr>
              <a:t>الملاحظات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traight Connector 206"/>
          <p:cNvSpPr/>
          <p:nvPr/>
        </p:nvSpPr>
        <p:spPr>
          <a:xfrm flipV="1">
            <a:off x="4448160" y="3276360"/>
            <a:ext cx="455760" cy="4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Box 1"/>
          <p:cNvSpPr/>
          <p:nvPr/>
        </p:nvSpPr>
        <p:spPr>
          <a:xfrm>
            <a:off x="-14400" y="41400"/>
            <a:ext cx="9144000" cy="144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مدير (</a:t>
            </a:r>
            <a:r>
              <a:rPr b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رقم المدير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الاسم الأول ،اسم الأب ، اسم العائلة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قسم (</a:t>
            </a:r>
            <a:r>
              <a:rPr b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رقم القس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اسم القسم, </a:t>
            </a:r>
            <a:r>
              <a:rPr b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رقم المدي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طبيب (</a:t>
            </a:r>
            <a:r>
              <a:rPr b="1" lang="hi-IN" sz="2000" spc="-1" strike="noStrike" u="sng">
                <a:solidFill>
                  <a:srgbClr val="000000"/>
                </a:solidFill>
                <a:uFillTx/>
                <a:latin typeface="Arial"/>
              </a:rPr>
              <a:t>رقم الطبي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الاسم الأول ، اسم الأب ، اسم العائلة , التخصص , رقم الهاتف, </a:t>
            </a:r>
            <a:r>
              <a:rPr b="1" lang="hi-IN" sz="2000" spc="-1" strike="noStrike" u="sng">
                <a:solidFill>
                  <a:srgbClr val="000000"/>
                </a:solidFill>
                <a:uFillTx/>
                <a:latin typeface="Arial"/>
              </a:rPr>
              <a:t>رقم القس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مريض (ر</a:t>
            </a:r>
            <a:r>
              <a:rPr b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قم المريض </a:t>
            </a: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،الاسم الأول ، اسم  الأب ،اسم العائلة , </a:t>
            </a:r>
            <a:r>
              <a:rPr b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رقم الغرف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غرفة(</a:t>
            </a:r>
            <a:r>
              <a:rPr b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رقم الغرف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عدد الأسرة , التحويل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دواء( </a:t>
            </a:r>
            <a:r>
              <a:rPr b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رقم الدواء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اسم الدواء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وصفة (</a:t>
            </a:r>
            <a:r>
              <a:rPr b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رقم المريض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رقم الدواء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الكمية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معالجة ( </a:t>
            </a:r>
            <a:r>
              <a:rPr b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رقم المريض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رقم الطبيب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, تاريخ الكشف , الملاحظات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هاتف (</a:t>
            </a:r>
            <a:r>
              <a:rPr b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رقم الطبيب </a:t>
            </a: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، رقم الهاتف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5AD9-387B-464A-91D2-C8952EC33BDD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"/>
          <p:cNvSpPr/>
          <p:nvPr/>
        </p:nvSpPr>
        <p:spPr>
          <a:xfrm>
            <a:off x="324000" y="736560"/>
            <a:ext cx="86137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4f81bd"/>
                </a:solidFill>
                <a:uFillTx/>
                <a:latin typeface="Arial"/>
              </a:rPr>
              <a:t> قواعد البيانات العلائقية </a:t>
            </a:r>
            <a:r>
              <a:rPr b="1" lang="en-US" sz="3200" spc="-1" strike="noStrike" u="sng">
                <a:solidFill>
                  <a:srgbClr val="4f81bd"/>
                </a:solidFill>
                <a:uFillTx/>
                <a:latin typeface="Arial"/>
              </a:rPr>
              <a:t>Relational Database</a:t>
            </a:r>
            <a:r>
              <a:rPr b="1" lang="en-US" sz="3200" spc="-1" strike="noStrike" u="sng">
                <a:solidFill>
                  <a:srgbClr val="4f81bd"/>
                </a:solidFill>
                <a:uFillTx/>
                <a:latin typeface="Arial"/>
              </a:rPr>
              <a:t> </a:t>
            </a:r>
            <a:r>
              <a:rPr b="1" lang="ar-SA" sz="3200" spc="-1" strike="noStrike" u="sng">
                <a:solidFill>
                  <a:srgbClr val="4f81bd"/>
                </a:solidFill>
                <a:uFillTx/>
                <a:latin typeface="Arial"/>
              </a:rPr>
              <a:t> 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ائمة على جمع البيانات وتخزينها داخل جداول تتكون من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algn="just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عمدة : تستخدم لإظهار صفات أو خصائص البيانات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algn="just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صفوف : تمثل سجلات تحتوي على بيانات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5"/>
          <p:cNvGrpSpPr/>
          <p:nvPr/>
        </p:nvGrpSpPr>
        <p:grpSpPr>
          <a:xfrm>
            <a:off x="179280" y="3166920"/>
            <a:ext cx="4975200" cy="2122560"/>
            <a:chOff x="179280" y="3166920"/>
            <a:chExt cx="4975200" cy="2122560"/>
          </a:xfrm>
        </p:grpSpPr>
        <p:pic>
          <p:nvPicPr>
            <p:cNvPr id="315" name="TextBox 5" descr=""/>
            <p:cNvPicPr/>
            <p:nvPr/>
          </p:nvPicPr>
          <p:blipFill>
            <a:blip r:embed="rId1"/>
            <a:stretch/>
          </p:blipFill>
          <p:spPr>
            <a:xfrm>
              <a:off x="179280" y="4785480"/>
              <a:ext cx="1180440" cy="5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Box 5"/>
            <p:cNvSpPr/>
            <p:nvPr/>
          </p:nvSpPr>
          <p:spPr>
            <a:xfrm>
              <a:off x="2919240" y="3166920"/>
              <a:ext cx="22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Comic Sans MS"/>
                  <a:cs typeface="Tahoma"/>
                </a:rPr>
                <a:t>أعمد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7" name=""/>
          <p:cNvGraphicFramePr/>
          <p:nvPr/>
        </p:nvGraphicFramePr>
        <p:xfrm>
          <a:off x="1738440" y="3800520"/>
          <a:ext cx="4593960" cy="2521080"/>
        </p:xfrm>
        <a:graphic>
          <a:graphicData uri="http://schemas.openxmlformats.org/drawingml/2006/table">
            <a:tbl>
              <a:tblPr/>
              <a:tblGrid>
                <a:gridCol w="1050840"/>
                <a:gridCol w="893880"/>
                <a:gridCol w="928440"/>
                <a:gridCol w="860400"/>
                <a:gridCol w="8604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لعنو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تاريخ الميلا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رقم الغرف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رقم المري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سم المري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الروض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9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3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محم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المل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3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حن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العلي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9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9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خال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الربو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من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شكل حر 20"/>
          <p:cNvSpPr/>
          <p:nvPr/>
        </p:nvSpPr>
        <p:spPr>
          <a:xfrm>
            <a:off x="2889360" y="1484280"/>
            <a:ext cx="3504960" cy="1063800"/>
          </a:xfrm>
          <a:prstGeom prst="pie">
            <a:avLst/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92520" tIns="92520" bIns="92520" anchor="ctr">
            <a:noAutofit/>
          </a:bodyPr>
          <a:p>
            <a:pPr algn="ctr" rtl="1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Perpetua"/>
                <a:cs typeface="Times New Roman"/>
              </a:rPr>
              <a:t>رسم نموذج</a:t>
            </a:r>
            <a:r>
              <a:rPr b="0" lang="ar-JO" sz="2800" spc="-1" strike="noStrike">
                <a:solidFill>
                  <a:srgbClr val="ffffff"/>
                </a:solidFill>
                <a:latin typeface="Perpetua"/>
                <a:ea typeface="Times New Roman"/>
              </a:rPr>
              <a:t> الكي</a:t>
            </a:r>
            <a:r>
              <a:rPr b="0" lang="ar-SA" sz="2800" spc="-1" strike="noStrike">
                <a:solidFill>
                  <a:srgbClr val="ffffff"/>
                </a:solidFill>
                <a:latin typeface="Perpetua"/>
                <a:cs typeface="Times New Roman"/>
              </a:rPr>
              <a:t>ان و</a:t>
            </a:r>
            <a:r>
              <a:rPr b="0" lang="ar-JO" sz="2800" spc="-1" strike="noStrike">
                <a:solidFill>
                  <a:srgbClr val="ffffff"/>
                </a:solidFill>
                <a:latin typeface="Perpetua"/>
                <a:ea typeface="Times New Roman"/>
              </a:rPr>
              <a:t> العلا</a:t>
            </a:r>
            <a:r>
              <a:rPr b="0" lang="ar-SA" sz="2800" spc="-1" strike="noStrike">
                <a:solidFill>
                  <a:srgbClr val="ffffff"/>
                </a:solidFill>
                <a:latin typeface="Perpetua"/>
                <a:cs typeface="Times New Roman"/>
              </a:rPr>
              <a:t>قة الرابطة </a:t>
            </a:r>
            <a:r>
              <a:rPr b="0" lang="ar-JO" sz="2800" spc="-1" strike="noStrike">
                <a:solidFill>
                  <a:srgbClr val="ffffff"/>
                </a:solidFill>
                <a:latin typeface="Perpetu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ER Diagram</a:t>
            </a: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شكل حر 21"/>
          <p:cNvSpPr/>
          <p:nvPr/>
        </p:nvSpPr>
        <p:spPr>
          <a:xfrm>
            <a:off x="4246560" y="2692440"/>
            <a:ext cx="630360" cy="398520"/>
          </a:xfrm>
          <a:custGeom>
            <a:avLst/>
            <a:gdLst/>
            <a:ahLst/>
            <a:rect l="l" t="t" r="r" b="b"/>
            <a:pathLst>
              <a:path w="308287" h="369944">
                <a:moveTo>
                  <a:pt x="246629" y="1"/>
                </a:moveTo>
                <a:lnTo>
                  <a:pt x="246629" y="184973"/>
                </a:lnTo>
                <a:lnTo>
                  <a:pt x="308287" y="184973"/>
                </a:lnTo>
                <a:lnTo>
                  <a:pt x="154144" y="369943"/>
                </a:lnTo>
                <a:lnTo>
                  <a:pt x="0" y="184973"/>
                </a:lnTo>
                <a:lnTo>
                  <a:pt x="61658" y="184973"/>
                </a:lnTo>
                <a:lnTo>
                  <a:pt x="61658" y="1"/>
                </a:lnTo>
                <a:lnTo>
                  <a:pt x="246629" y="1"/>
                </a:lnTo>
                <a:close/>
              </a:path>
            </a:pathLst>
          </a:cu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0" bIns="921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شكل حر 22"/>
          <p:cNvSpPr/>
          <p:nvPr/>
        </p:nvSpPr>
        <p:spPr>
          <a:xfrm>
            <a:off x="2889360" y="3198960"/>
            <a:ext cx="3504960" cy="1396800"/>
          </a:xfrm>
          <a:prstGeom prst="pie">
            <a:avLst/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92520" tIns="92520" bIns="92520" anchor="ctr">
            <a:noAutofit/>
          </a:bodyPr>
          <a:p>
            <a:pPr algn="ctr" rtl="1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Perpetua"/>
                <a:cs typeface="Times New Roman"/>
              </a:rPr>
              <a:t>تحويل نموذج الكيان والعلاقة الرابطة إلى جداو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( </a:t>
            </a: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Database Schema</a:t>
            </a: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شكل حر 23"/>
          <p:cNvSpPr/>
          <p:nvPr/>
        </p:nvSpPr>
        <p:spPr>
          <a:xfrm>
            <a:off x="4325760" y="4687920"/>
            <a:ext cx="630360" cy="398520"/>
          </a:xfrm>
          <a:custGeom>
            <a:avLst/>
            <a:gdLst/>
            <a:ahLst/>
            <a:rect l="l" t="t" r="r" b="b"/>
            <a:pathLst>
              <a:path w="308287" h="369944">
                <a:moveTo>
                  <a:pt x="246629" y="1"/>
                </a:moveTo>
                <a:lnTo>
                  <a:pt x="246629" y="184973"/>
                </a:lnTo>
                <a:lnTo>
                  <a:pt x="308287" y="184973"/>
                </a:lnTo>
                <a:lnTo>
                  <a:pt x="154144" y="369943"/>
                </a:lnTo>
                <a:lnTo>
                  <a:pt x="0" y="184973"/>
                </a:lnTo>
                <a:lnTo>
                  <a:pt x="61658" y="184973"/>
                </a:lnTo>
                <a:lnTo>
                  <a:pt x="61658" y="1"/>
                </a:lnTo>
                <a:lnTo>
                  <a:pt x="246629" y="1"/>
                </a:lnTo>
                <a:close/>
              </a:path>
            </a:pathLst>
          </a:cu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0" bIns="921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شكل حر 24"/>
          <p:cNvSpPr/>
          <p:nvPr/>
        </p:nvSpPr>
        <p:spPr>
          <a:xfrm>
            <a:off x="2889360" y="5191200"/>
            <a:ext cx="3504960" cy="1063440"/>
          </a:xfrm>
          <a:prstGeom prst="pie">
            <a:avLst/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92520" tIns="92520" bIns="92520" anchor="ctr">
            <a:noAutofit/>
          </a:bodyPr>
          <a:p>
            <a:pPr algn="ctr" rtl="1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Perpetua"/>
                <a:cs typeface="Times New Roman"/>
              </a:rPr>
              <a:t>تخزين ال</a:t>
            </a:r>
            <a:r>
              <a:rPr b="0" lang="ar-JO" sz="2400" spc="-1" strike="noStrike">
                <a:solidFill>
                  <a:srgbClr val="ffffff"/>
                </a:solidFill>
                <a:latin typeface="Perpetua"/>
                <a:cs typeface="Times New Roman"/>
              </a:rPr>
              <a:t>جداول</a:t>
            </a:r>
            <a:r>
              <a:rPr b="0" lang="ar-SA" sz="2400" spc="-1" strike="noStrike">
                <a:solidFill>
                  <a:srgbClr val="ffffff"/>
                </a:solidFill>
                <a:latin typeface="Perpetua"/>
                <a:ea typeface="Times New Roman"/>
              </a:rPr>
              <a:t> </a:t>
            </a:r>
            <a:r>
              <a:rPr b="0" lang="ar-JO" sz="2400" spc="-1" strike="noStrike">
                <a:solidFill>
                  <a:srgbClr val="ffffff"/>
                </a:solidFill>
                <a:latin typeface="Perpetua"/>
                <a:ea typeface="Times New Roman"/>
              </a:rPr>
              <a:t> في </a:t>
            </a:r>
            <a:r>
              <a:rPr b="0" lang="en-US" sz="2400" spc="-1" strike="noStrike">
                <a:solidFill>
                  <a:srgbClr val="ffffff"/>
                </a:solidFill>
                <a:latin typeface="Perpetu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Perpetua"/>
                <a:cs typeface="Times New Roman"/>
              </a:rPr>
              <a:t>نظام إدارة قواعد البيانات</a:t>
            </a:r>
            <a:r>
              <a:rPr b="0" lang="ar-JO" sz="2400" spc="-1" strike="noStrike">
                <a:solidFill>
                  <a:srgbClr val="ffffff"/>
                </a:solidFill>
                <a:latin typeface="Perpetua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Perpetu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Perpetua"/>
              </a:rPr>
              <a:t>DB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WordArt 15"/>
          <p:cNvSpPr txBox="1"/>
          <p:nvPr/>
        </p:nvSpPr>
        <p:spPr>
          <a:xfrm>
            <a:off x="7020000" y="1566720"/>
            <a:ext cx="1293840" cy="9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رحلة الأول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4" name="WordArt 16"/>
          <p:cNvSpPr txBox="1"/>
          <p:nvPr/>
        </p:nvSpPr>
        <p:spPr>
          <a:xfrm>
            <a:off x="7020000" y="3489480"/>
            <a:ext cx="1293840" cy="81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رحلة الث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5" name="WordArt 16"/>
          <p:cNvSpPr txBox="1"/>
          <p:nvPr/>
        </p:nvSpPr>
        <p:spPr>
          <a:xfrm>
            <a:off x="7020000" y="5229360"/>
            <a:ext cx="1438200" cy="77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رحلة الثالث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4f81bd"/>
                </a:solidFill>
                <a:latin typeface="Arial"/>
                <a:cs typeface="Arial"/>
              </a:rPr>
              <a:t>خطوات</a:t>
            </a:r>
            <a:r>
              <a:rPr b="0" lang="en-US" sz="4000" spc="-1" strike="noStrike">
                <a:solidFill>
                  <a:srgbClr val="4f81bd"/>
                </a:solidFill>
                <a:latin typeface="Franklin Gothic Book"/>
              </a:rPr>
              <a:t> </a:t>
            </a:r>
            <a:r>
              <a:rPr b="1" lang="hi-IN" sz="4400" spc="-1" strike="noStrike">
                <a:solidFill>
                  <a:srgbClr val="4f81bd"/>
                </a:solidFill>
                <a:latin typeface="Arial"/>
                <a:cs typeface="Arial"/>
              </a:rPr>
              <a:t>بناء قواعد البيانات </a:t>
            </a: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93200" y="1196640"/>
            <a:ext cx="8364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مفتاح الرئیسي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ھو صفة مميزة في جدول الكيان یتمیز بأن قیمت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ه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فريدة ولا يمكن أن تتكرر أو تكون خالي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ثال : الطالب : (اسم الطالب , </a:t>
            </a:r>
            <a:r>
              <a:rPr b="0" lang="ar-SA" sz="2800" spc="-1" strike="noStrike" u="sng">
                <a:solidFill>
                  <a:srgbClr val="4f81bd"/>
                </a:solidFill>
                <a:uFillTx/>
                <a:latin typeface="Calibri"/>
              </a:rPr>
              <a:t>الرقم الجامعي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، الهاتف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8388360" cy="743040"/>
          </a:xfrm>
          <a:prstGeom prst="rect">
            <a:avLst/>
          </a:prstGeom>
          <a:ln w="0">
            <a:noFill/>
          </a:ln>
        </p:spPr>
      </p:pic>
      <p:sp>
        <p:nvSpPr>
          <p:cNvPr id="329" name="Content Placeholder 2"/>
          <p:cNvSpPr/>
          <p:nvPr/>
        </p:nvSpPr>
        <p:spPr>
          <a:xfrm>
            <a:off x="430200" y="3981600"/>
            <a:ext cx="83628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مفتاح الأجنبي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2800" spc="-1" strike="noStrike">
                <a:solidFill>
                  <a:srgbClr val="1f497d"/>
                </a:solidFill>
                <a:latin typeface="Calibri"/>
                <a:ea typeface="Arial"/>
              </a:rPr>
              <a:t> ھو صفة موجود في جدول لكنه لا یمثل واحدة من صفات</a:t>
            </a:r>
            <a:r>
              <a:rPr b="0" lang="ar-JO" sz="2800" spc="-1" strike="noStrike">
                <a:solidFill>
                  <a:srgbClr val="1f497d"/>
                </a:solidFill>
                <a:latin typeface="Calibri"/>
                <a:cs typeface="Arial"/>
              </a:rPr>
              <a:t>ه</a:t>
            </a:r>
            <a:r>
              <a:rPr b="0" lang="ar-SA" sz="2800" spc="-1" strike="noStrike">
                <a:solidFill>
                  <a:srgbClr val="1f497d"/>
                </a:solidFill>
                <a:latin typeface="Calibri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و يسمى مفتاح أجنبي لأن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  <a:cs typeface="Arial"/>
              </a:rPr>
              <a:t>ه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یمثل مفتاحاً رئيسياً في جدول آخر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  <a:cs typeface="Arial"/>
              </a:rPr>
              <a:t>وظيفته الربط بين الجداول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طالب : (اسم الطالب , </a:t>
            </a:r>
            <a:r>
              <a:rPr b="0" lang="ar-SA" sz="28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الرقم الجامعي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، الهاتف، </a:t>
            </a:r>
            <a:r>
              <a:rPr b="0" lang="ar-SA" sz="2800" spc="-1" strike="noStrike">
                <a:solidFill>
                  <a:srgbClr val="4f81bd"/>
                </a:solidFill>
                <a:latin typeface="Calibri"/>
                <a:cs typeface="Arial"/>
              </a:rPr>
              <a:t>رقم المقرر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Content Placeholder 2" descr=""/>
          <p:cNvPicPr/>
          <p:nvPr/>
        </p:nvPicPr>
        <p:blipFill>
          <a:blip r:embed="rId1"/>
          <a:stretch/>
        </p:blipFill>
        <p:spPr>
          <a:xfrm>
            <a:off x="146160" y="1620720"/>
            <a:ext cx="874872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5138640" y="1262160"/>
            <a:ext cx="3760920" cy="7063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539640" y="1989000"/>
            <a:ext cx="7996320" cy="42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- كل كيان في نموذج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ERD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 يتحول إلى جدول ، ويكون اسم الجدول بنفس اسم الكيان 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- خصائص الكيان تصبح هي حقول الجدول أي عناوين أعمدته ،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ولا ننسى أن نضع خطاً تحت المفتاح الأساسي 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Perpetua"/>
              </a:rPr>
              <a:t>نضع اسم الجدول ثم أسماء الحقول بين قوسين كالتالي 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    اسم الكيان (صفة 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 , </a:t>
            </a:r>
            <a:r>
              <a:rPr b="0" lang="ar-SA" sz="2800" spc="-1" strike="noStrike" u="sng">
                <a:solidFill>
                  <a:srgbClr val="4f81bd"/>
                </a:solidFill>
                <a:uFillTx/>
                <a:latin typeface="Perpetua"/>
              </a:rPr>
              <a:t>صفة </a:t>
            </a:r>
            <a:r>
              <a:rPr b="0" lang="ar-SA" sz="2800" spc="-1" strike="noStrike" u="sng">
                <a:solidFill>
                  <a:srgbClr val="4f81bd"/>
                </a:solidFill>
                <a:uFillTx/>
                <a:latin typeface="Perpetua"/>
              </a:rPr>
              <a:t>2</a:t>
            </a:r>
            <a:r>
              <a:rPr b="0" lang="ar-SA" sz="2800" spc="-1" strike="noStrike" u="sng">
                <a:solidFill>
                  <a:srgbClr val="4f81bd"/>
                </a:solidFill>
                <a:uFillTx/>
                <a:latin typeface="Perpetua"/>
              </a:rPr>
              <a:t> مفتاح رئيسي 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، صفة 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 ، ... 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33" name="Title 1" descr=""/>
          <p:cNvPicPr/>
          <p:nvPr/>
        </p:nvPicPr>
        <p:blipFill>
          <a:blip r:embed="rId2"/>
          <a:stretch/>
        </p:blipFill>
        <p:spPr>
          <a:xfrm>
            <a:off x="171360" y="396720"/>
            <a:ext cx="8886960" cy="6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 u="sng">
                <a:solidFill>
                  <a:srgbClr val="1f497d"/>
                </a:solidFill>
                <a:uFillTx/>
                <a:latin typeface="Franklin Gothic Book"/>
              </a:rPr>
              <a:t>مثال : حولي نموذج الكيان والعلاقة الرابطة التالي إلى جداول: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5" name="مستطيل 2"/>
          <p:cNvSpPr/>
          <p:nvPr/>
        </p:nvSpPr>
        <p:spPr>
          <a:xfrm>
            <a:off x="1255680" y="4869000"/>
            <a:ext cx="6951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4f81bd"/>
                </a:solidFill>
                <a:latin typeface="Perpetua"/>
                <a:cs typeface="Times New Roman"/>
              </a:rPr>
              <a:t>أولا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4f81bd"/>
                </a:solidFill>
                <a:latin typeface="Perpetua"/>
                <a:cs typeface="Times New Roman"/>
              </a:rPr>
              <a:t>المدير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(</a:t>
            </a:r>
            <a:r>
              <a:rPr b="0" lang="hi-IN" sz="2800" spc="-1" strike="noStrike" u="sng">
                <a:solidFill>
                  <a:srgbClr val="c00000"/>
                </a:solidFill>
                <a:uFillTx/>
                <a:latin typeface="Perpetua"/>
                <a:cs typeface="Times New Roman"/>
              </a:rPr>
              <a:t>رقم المدير </a:t>
            </a:r>
            <a:r>
              <a:rPr b="0" lang="en-US" sz="2800" spc="-1" strike="noStrike">
                <a:solidFill>
                  <a:srgbClr val="c00000"/>
                </a:solidFill>
                <a:latin typeface="Perpetua"/>
                <a:ea typeface="Times New Roman"/>
              </a:rPr>
              <a:t>, الاسم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4f81bd"/>
                </a:solidFill>
                <a:latin typeface="Perpetua"/>
                <a:cs typeface="Times New Roman"/>
              </a:rPr>
              <a:t>القسم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(</a:t>
            </a:r>
            <a:r>
              <a:rPr b="0" lang="hi-IN" sz="2800" spc="-1" strike="noStrike" u="sng">
                <a:solidFill>
                  <a:srgbClr val="c00000"/>
                </a:solidFill>
                <a:uFillTx/>
                <a:latin typeface="Perpetua"/>
                <a:cs typeface="Times New Roman"/>
              </a:rPr>
              <a:t>رقم القسم </a:t>
            </a:r>
            <a:r>
              <a:rPr b="0" lang="en-US" sz="2800" spc="-1" strike="noStrike">
                <a:solidFill>
                  <a:srgbClr val="c00000"/>
                </a:solidFill>
                <a:latin typeface="Perpetua"/>
                <a:ea typeface="Times New Roman"/>
              </a:rPr>
              <a:t>, اسم القسم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Group 33" descr=""/>
          <p:cNvPicPr/>
          <p:nvPr/>
        </p:nvPicPr>
        <p:blipFill>
          <a:blip r:embed="rId1"/>
          <a:stretch/>
        </p:blipFill>
        <p:spPr>
          <a:xfrm>
            <a:off x="817560" y="1536840"/>
            <a:ext cx="808848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Rectangle 3" descr=""/>
          <p:cNvPicPr/>
          <p:nvPr/>
        </p:nvPicPr>
        <p:blipFill>
          <a:blip r:embed="rId1"/>
          <a:stretch/>
        </p:blipFill>
        <p:spPr>
          <a:xfrm>
            <a:off x="420840" y="1189080"/>
            <a:ext cx="8399160" cy="4956120"/>
          </a:xfrm>
          <a:prstGeom prst="rect">
            <a:avLst/>
          </a:prstGeom>
          <a:ln w="0">
            <a:noFill/>
          </a:ln>
        </p:spPr>
      </p:pic>
      <p:pic>
        <p:nvPicPr>
          <p:cNvPr id="338" name="Title 1" descr=""/>
          <p:cNvPicPr/>
          <p:nvPr/>
        </p:nvPicPr>
        <p:blipFill>
          <a:blip r:embed="rId2"/>
          <a:stretch/>
        </p:blipFill>
        <p:spPr>
          <a:xfrm>
            <a:off x="171360" y="152280"/>
            <a:ext cx="888696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 u="sng">
                <a:solidFill>
                  <a:srgbClr val="1f497d"/>
                </a:solidFill>
                <a:uFillTx/>
                <a:latin typeface="Franklin Gothic Book"/>
              </a:rPr>
              <a:t>مثال : حولي نموذج الكيان والعلاقة الرابطة التالي إلى جداول: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0" name="مستطيل 2"/>
          <p:cNvSpPr/>
          <p:nvPr/>
        </p:nvSpPr>
        <p:spPr>
          <a:xfrm>
            <a:off x="1255680" y="4869000"/>
            <a:ext cx="6951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4f81bd"/>
                </a:solidFill>
                <a:latin typeface="Perpetua"/>
                <a:cs typeface="Times New Roman"/>
              </a:rPr>
              <a:t>أولا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4f81bd"/>
                </a:solidFill>
                <a:latin typeface="Perpetua"/>
                <a:cs typeface="Times New Roman"/>
              </a:rPr>
              <a:t>المدير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(</a:t>
            </a:r>
            <a:r>
              <a:rPr b="0" lang="hi-IN" sz="2800" spc="-1" strike="noStrike" u="sng">
                <a:solidFill>
                  <a:srgbClr val="c00000"/>
                </a:solidFill>
                <a:uFillTx/>
                <a:latin typeface="Perpetua"/>
                <a:cs typeface="Times New Roman"/>
              </a:rPr>
              <a:t>رقم المدير </a:t>
            </a:r>
            <a:r>
              <a:rPr b="0" lang="en-US" sz="2800" spc="-1" strike="noStrike">
                <a:solidFill>
                  <a:srgbClr val="c00000"/>
                </a:solidFill>
                <a:latin typeface="Perpetua"/>
                <a:ea typeface="Times New Roman"/>
              </a:rPr>
              <a:t>, الاسم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4f81bd"/>
                </a:solidFill>
                <a:latin typeface="Perpetua"/>
                <a:cs typeface="Times New Roman"/>
              </a:rPr>
              <a:t>القسم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(</a:t>
            </a:r>
            <a:r>
              <a:rPr b="0" lang="hi-IN" sz="2800" spc="-1" strike="noStrike" u="sng">
                <a:solidFill>
                  <a:srgbClr val="c00000"/>
                </a:solidFill>
                <a:uFillTx/>
                <a:latin typeface="Perpetua"/>
                <a:cs typeface="Times New Roman"/>
              </a:rPr>
              <a:t>رقم القسم </a:t>
            </a:r>
            <a:r>
              <a:rPr b="0" lang="en-US" sz="2800" spc="-1" strike="noStrike">
                <a:solidFill>
                  <a:srgbClr val="c00000"/>
                </a:solidFill>
                <a:latin typeface="Perpetua"/>
                <a:ea typeface="Times New Roman"/>
              </a:rPr>
              <a:t>, اسم القسم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Group 33" descr=""/>
          <p:cNvPicPr/>
          <p:nvPr/>
        </p:nvPicPr>
        <p:blipFill>
          <a:blip r:embed="rId1"/>
          <a:stretch/>
        </p:blipFill>
        <p:spPr>
          <a:xfrm>
            <a:off x="817560" y="1536840"/>
            <a:ext cx="808848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14:27:27Z</dcterms:created>
  <dc:creator>Marwa</dc:creator>
  <dc:description/>
  <dc:language>en-US</dc:language>
  <cp:lastModifiedBy>user</cp:lastModifiedBy>
  <dcterms:modified xsi:type="dcterms:W3CDTF">2015-02-19T07:01:15Z</dcterms:modified>
  <cp:revision>16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624A8EF81518844905C9EE96F3BA77B</vt:lpwstr>
  </property>
</Properties>
</file>