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24B-BADE-44EA-A0A2-C8C6E03D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80B-EF60-4A8F-88A8-D0D5DA4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75D-7D64-4D04-9F41-A1096804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0D1-90CD-446B-857A-C3F95B51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C299-A6D6-4875-B61C-E7D587E0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7BB1-E368-4B47-B6B7-90DFFE66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5A69-8227-4345-84AD-4CB7FDEF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8E9B-9C55-4B9D-BA35-FBCDD978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6D4E-4875-4C5D-A161-0440A41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618-7BEA-4D23-A174-8273A8D5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9C2D-6560-494B-BC55-221472F5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3F7-5C79-4983-8DC4-20EC383C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82BD-B56B-47E7-A258-76E9705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CD9-9E81-4056-B6E5-95D5405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A708-1B02-4457-98C5-7A0B88D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2C83-49B4-4E20-9848-9BED52C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5FDE-BCAC-4E0A-A1A7-8B2CC468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5F03-BDD4-41A5-9DE3-8E840575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07E6-1C26-43B1-9AFE-3BB356C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6DD8-506E-47DD-8367-EF6CE59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04EB-E9F6-4F60-AC92-C38A2B2C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5BB0-6A51-45E1-8E90-EA275F33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93C-31A7-42CC-8C1E-E9ABF0FB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BAFB-DF20-436D-B857-3A0097F7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C690-0415-42D9-9421-7838210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CE22-9FE3-4C10-9EBD-F306943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BD86-DDA4-4EA0-BB3D-97021D4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F00E-3060-4B3F-8EC1-0676964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7C7A-4026-439E-B899-27F7021E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A0D5-B857-40BB-88B8-BE6FDCC3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D7EE-0555-47A1-8CFF-F99B8FA0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59C6-FE79-496F-85E9-6C2B0337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DA6F-A754-4FDD-BD5E-75428B9C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1B7-01F7-4148-A55A-773F2300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7C09-881A-4604-B216-E0C2723A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15EAB-5720-4BB7-AF18-DFE3842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88BE-DE63-4FCF-8C32-680B8AE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DEB38-E42F-417C-AF5B-9725F6B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CE17-6336-4565-BB1C-E7732F0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58B4-7858-47DF-B69D-F796D33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50368-D86A-4D57-8CF3-E94EA09F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CF7B-B6E0-4DF6-A5F1-554F2454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A079-A4AE-4491-BCE2-CD86EA00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03FF-9272-47DB-9C70-F842366F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D83-1522-4B68-AC16-CEBBD4E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0C8B-3E83-4DBC-B9EC-78C698E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EB34-D47E-4A7E-96A0-70536504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E5326-3DB5-4157-A7C4-BFF7A826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29FB-C359-4D38-9D00-EC89355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81D7-2880-451B-ABA5-8984F3A7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A1F0-EED0-4470-8BE1-A3C86AC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9437-E1B8-40E9-A125-D460E14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D2BCE-6566-4A5B-A102-6528481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C91F-1C06-4B58-A268-3F198121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1E99A-F48C-477F-BF49-11EE6E7F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AF6-D286-4B4B-A7B9-15BD771F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46B8-E727-4719-B8C2-371804BF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2D1AC-82AE-420E-B6F5-8459A6DE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A277-02F4-4813-A00D-D6C93615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9EBD-ABA4-43B0-9EF4-A8DF9666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9009-ED4F-4DF2-8BDA-3FED4DAC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13349-381C-48CA-83EE-4A481E5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6C7E-BCC6-43EB-A620-A5AF04A5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621D-71E3-4F5D-B016-8E4C21EB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D5E01-9CAA-46ED-B9F0-68E1CBA0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20EC-2A2F-4DDC-AB12-9D0A8E9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1E4-B1EF-4265-AF73-B0ECF08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1B1BC-8356-4EFC-8A54-C3FF24C5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CC2FA-27AB-4CD9-A9B1-340B4570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81749-BFA7-4D4C-BFF4-C40299E6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CBEAE-AEA2-4FA8-8DB7-24BCC6C7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3611-A2FD-403C-83A3-B96C6B42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9A98-A139-4C17-93F5-BE1F453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9D40C-E492-4BEC-BE54-CCB38A6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322F-9396-4CBE-9334-FDD801D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EA85-4A25-4DBB-9E33-DB11C91E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2189-D00F-46FD-8976-450CA6A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F58-793D-445B-8D58-C2D8329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0E92-B6BF-4227-B31B-D2F2E4D7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F2BB-E57F-4AAC-89AE-612E690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92084-9C65-43E5-BEE4-9BFDD6CA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1E32-C7DE-495A-BAD5-1A4FE46D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0AA4-AAFF-4780-AEBE-D16F45AF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4E4-0937-453B-AC91-1BB1526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399-037E-406C-AD02-40A55188944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8203-DA54-4F5E-A183-2A6D3C53E27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3798-B6AA-4AEC-921F-E992652E636C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EE92-B6F2-4270-856A-BF318F06B19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3D75-8805-4039-8E75-5DF0F700E31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2C38-12E3-464D-A0FB-5F3B8EFF940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25D-DE60-4971-B75E-7A84B93EF6D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A5B3-6430-48EC-A997-43F987096E1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F718-1C29-4C04-885B-2748E79218D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F0CC-C13D-41E1-9113-EE21BC26F33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ED6-032C-4D0C-B994-1C5622CDA13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AC44-B0A9-49A0-A85F-92040A7CF68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46A2-6EC6-4035-9A74-B1BCFF91345E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B356-9BEB-4003-BE28-D17D7E2FD9EE}" type="slidenum">
              <a:rPr b="0" lang="en-US" sz="12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3" descr=""/>
          <p:cNvPicPr/>
          <p:nvPr/>
        </p:nvPicPr>
        <p:blipFill>
          <a:blip r:embed="rId1"/>
          <a:stretch/>
        </p:blipFill>
        <p:spPr>
          <a:xfrm>
            <a:off x="749160" y="5089680"/>
            <a:ext cx="3183120" cy="598320"/>
          </a:xfrm>
          <a:prstGeom prst="rect">
            <a:avLst/>
          </a:prstGeom>
          <a:ln w="0">
            <a:noFill/>
          </a:ln>
        </p:spPr>
      </p:pic>
      <p:sp>
        <p:nvSpPr>
          <p:cNvPr id="311" name="Subtitle 2"/>
          <p:cNvSpPr/>
          <p:nvPr/>
        </p:nvSpPr>
        <p:spPr>
          <a:xfrm>
            <a:off x="463680" y="155736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Perpetua"/>
                <a:cs typeface="Times New Roman"/>
              </a:rPr>
              <a:t>قواعد البيانات العلائق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لمرحلة الث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لتحويل من مخطط الكيان و العلاقة الرابطة </a:t>
            </a:r>
            <a:r>
              <a:rPr b="1" lang="en-US" sz="2600" spc="-1" strike="noStrike">
                <a:solidFill>
                  <a:srgbClr val="ffffff"/>
                </a:solidFill>
                <a:latin typeface="Perpetua"/>
              </a:rPr>
              <a:t>ERd</a:t>
            </a:r>
            <a:r>
              <a:rPr b="1" lang="ar-SA" sz="2600" spc="-1" strike="noStrike">
                <a:solidFill>
                  <a:srgbClr val="ffffff"/>
                </a:solidFill>
                <a:latin typeface="Perpetua"/>
                <a:ea typeface="Times New Roman"/>
              </a:rPr>
              <a:t> إلى جداو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Group 33" descr=""/>
          <p:cNvPicPr/>
          <p:nvPr/>
        </p:nvPicPr>
        <p:blipFill>
          <a:blip r:embed="rId1"/>
          <a:stretch/>
        </p:blipFill>
        <p:spPr>
          <a:xfrm>
            <a:off x="596880" y="133200"/>
            <a:ext cx="8089920" cy="2841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610920" y="2962080"/>
            <a:ext cx="8281800" cy="37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ثانيا اربط الجدولين بعلاقة واحد إلى واحد , وتمثل كما يلي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 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مدير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 الاسم , </a:t>
            </a:r>
            <a:r>
              <a:rPr b="1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قسم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 اس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أو العكس خياري 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مدير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مدير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الاسم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قسم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قسم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</a:rPr>
              <a:t>, اسم القسم, </a:t>
            </a:r>
            <a:r>
              <a:rPr b="1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رقم 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4000" y="1447920"/>
            <a:ext cx="836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</a:rPr>
              <a:t>الحالة الثانية  :عندما تكون العلاقة بين الكيانين هي واحد إلى متعدد 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Perpetua"/>
              </a:rPr>
              <a:t>فإننا عند تحويلها إلى جداول نأخذ </a:t>
            </a:r>
            <a:r>
              <a:rPr b="0" lang="hi-IN" sz="2800" spc="-1" strike="noStrike">
                <a:solidFill>
                  <a:srgbClr val="4f81bd"/>
                </a:solidFill>
                <a:latin typeface="Perpetua"/>
              </a:rPr>
              <a:t>المفتاح الأساسي للكيان الذي تكون العلاقة من جهته واحد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ونضع نسخه منه كمفتاح أجنبي للكيان التي تكون العلاقة من جهته متعدد ويكون ذلك </a:t>
            </a:r>
            <a:r>
              <a:rPr b="0" lang="hi-IN" sz="2800" spc="-1" strike="noStrike">
                <a:solidFill>
                  <a:srgbClr val="c00000"/>
                </a:solidFill>
                <a:latin typeface="Perpetua"/>
              </a:rPr>
              <a:t>إجباري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71360" y="396720"/>
            <a:ext cx="888696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33"/>
          <p:cNvGrpSpPr/>
          <p:nvPr/>
        </p:nvGrpSpPr>
        <p:grpSpPr>
          <a:xfrm>
            <a:off x="468360" y="192240"/>
            <a:ext cx="8215200" cy="2814480"/>
            <a:chOff x="468360" y="192240"/>
            <a:chExt cx="8215200" cy="2814480"/>
          </a:xfrm>
        </p:grpSpPr>
        <p:grpSp>
          <p:nvGrpSpPr>
            <p:cNvPr id="347" name="Group 17"/>
            <p:cNvGrpSpPr/>
            <p:nvPr/>
          </p:nvGrpSpPr>
          <p:grpSpPr>
            <a:xfrm>
              <a:off x="976320" y="650160"/>
              <a:ext cx="7707240" cy="2356560"/>
              <a:chOff x="976320" y="650160"/>
              <a:chExt cx="7707240" cy="2356560"/>
            </a:xfrm>
          </p:grpSpPr>
          <p:sp>
            <p:nvSpPr>
              <p:cNvPr id="348" name="Rectangle 3"/>
              <p:cNvSpPr/>
              <p:nvPr/>
            </p:nvSpPr>
            <p:spPr>
              <a:xfrm>
                <a:off x="6312240" y="1946160"/>
                <a:ext cx="1609200" cy="82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مدر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11"/>
              <p:cNvSpPr/>
              <p:nvPr/>
            </p:nvSpPr>
            <p:spPr>
              <a:xfrm flipH="1">
                <a:off x="5380560" y="2358720"/>
                <a:ext cx="931680" cy="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lowchart: Decision 12"/>
              <p:cNvSpPr/>
              <p:nvPr/>
            </p:nvSpPr>
            <p:spPr>
              <a:xfrm>
                <a:off x="3771360" y="1710720"/>
                <a:ext cx="1609200" cy="1296000"/>
              </a:xfrm>
              <a:prstGeom prst="flowChartDecision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يدر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3"/>
              <p:cNvSpPr/>
              <p:nvPr/>
            </p:nvSpPr>
            <p:spPr>
              <a:xfrm>
                <a:off x="976320" y="1946160"/>
                <a:ext cx="1609200" cy="82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مقر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14"/>
              <p:cNvSpPr/>
              <p:nvPr/>
            </p:nvSpPr>
            <p:spPr>
              <a:xfrm flipH="1" flipV="1">
                <a:off x="2585160" y="2358720"/>
                <a:ext cx="1185480" cy="1656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6"/>
              <p:cNvSpPr/>
              <p:nvPr/>
            </p:nvSpPr>
            <p:spPr>
              <a:xfrm>
                <a:off x="7074360" y="650160"/>
                <a:ext cx="1609200" cy="82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 u="sng">
                    <a:solidFill>
                      <a:srgbClr val="000000"/>
                    </a:solidFill>
                    <a:uFillTx/>
                    <a:latin typeface="Perpetua"/>
                    <a:cs typeface="Times New Roman"/>
                  </a:rPr>
                  <a:t>رقم المدر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Oval 20"/>
            <p:cNvSpPr/>
            <p:nvPr/>
          </p:nvSpPr>
          <p:spPr>
            <a:xfrm>
              <a:off x="5550120" y="650160"/>
              <a:ext cx="1270440" cy="82476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اس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22"/>
            <p:cNvSpPr/>
            <p:nvPr/>
          </p:nvSpPr>
          <p:spPr>
            <a:xfrm flipH="1">
              <a:off x="7667280" y="1475280"/>
              <a:ext cx="211680" cy="47124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24"/>
            <p:cNvSpPr/>
            <p:nvPr/>
          </p:nvSpPr>
          <p:spPr>
            <a:xfrm>
              <a:off x="6185160" y="1475280"/>
              <a:ext cx="635040" cy="47124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5"/>
            <p:cNvSpPr/>
            <p:nvPr/>
          </p:nvSpPr>
          <p:spPr>
            <a:xfrm>
              <a:off x="468360" y="388440"/>
              <a:ext cx="1524240" cy="85068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س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6"/>
            <p:cNvSpPr/>
            <p:nvPr/>
          </p:nvSpPr>
          <p:spPr>
            <a:xfrm>
              <a:off x="2077560" y="192240"/>
              <a:ext cx="1524240" cy="92952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 u="sng">
                  <a:solidFill>
                    <a:srgbClr val="000000"/>
                  </a:solidFill>
                  <a:uFillTx/>
                  <a:latin typeface="Perpetua"/>
                  <a:cs typeface="Times New Roman"/>
                </a:rPr>
                <a:t>رق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28"/>
            <p:cNvSpPr/>
            <p:nvPr/>
          </p:nvSpPr>
          <p:spPr>
            <a:xfrm flipH="1">
              <a:off x="1780920" y="1121760"/>
              <a:ext cx="1058400" cy="82476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30"/>
            <p:cNvSpPr/>
            <p:nvPr/>
          </p:nvSpPr>
          <p:spPr>
            <a:xfrm>
              <a:off x="1399680" y="1239480"/>
              <a:ext cx="380880" cy="70668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31"/>
            <p:cNvSpPr/>
            <p:nvPr/>
          </p:nvSpPr>
          <p:spPr>
            <a:xfrm>
              <a:off x="5613840" y="182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2"/>
            <p:cNvSpPr/>
            <p:nvPr/>
          </p:nvSpPr>
          <p:spPr>
            <a:xfrm>
              <a:off x="2925000" y="17107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مستطيل 19"/>
          <p:cNvSpPr/>
          <p:nvPr/>
        </p:nvSpPr>
        <p:spPr>
          <a:xfrm>
            <a:off x="2921040" y="321300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أولا : نحول الكيانات إلى جداو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در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در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قر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ثانيا : نربط بين الجدول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در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در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 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در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سهم منحني إلى الأسفل 23"/>
          <p:cNvSpPr/>
          <p:nvPr/>
        </p:nvSpPr>
        <p:spPr>
          <a:xfrm flipH="1">
            <a:off x="3627360" y="166680"/>
            <a:ext cx="3608640" cy="647640"/>
          </a:xfrm>
          <a:custGeom>
            <a:avLst/>
            <a:gdLst>
              <a:gd name="textAreaLeft" fmla="*/ 839520 w 3608640"/>
              <a:gd name="textAreaRight" fmla="*/ 2680560 w 3608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51" hR="21600" stAng="10800000" swAng="5400000"/>
                <a:lnTo>
                  <a:pt x="11020" y="0"/>
                </a:lnTo>
                <a:arcTo wR="10051" hR="21600" stAng="-5400000" swAng="3658427"/>
                <a:lnTo>
                  <a:pt x="21281" y="16200"/>
                </a:lnTo>
                <a:lnTo>
                  <a:pt x="20586" y="21600"/>
                </a:lnTo>
                <a:lnTo>
                  <a:pt x="19252" y="16200"/>
                </a:lnTo>
                <a:lnTo>
                  <a:pt x="19782" y="16200"/>
                </a:lnTo>
                <a:arcTo wR="10051" hR="21600" stAng="-1741573" swAng="-3581240"/>
                <a:lnTo>
                  <a:pt x="10535" y="25"/>
                </a:lnTo>
                <a:arcTo wR="10051" hR="21600" stAng="-5477187" swAng="-5322813"/>
                <a:close/>
              </a:path>
              <a:path fill="darkenLess" w="21600" h="21600">
                <a:moveTo>
                  <a:pt x="0" y="21600"/>
                </a:moveTo>
                <a:arcTo wR="10051" hR="21600" stAng="10800000" swAng="5400000"/>
                <a:lnTo>
                  <a:pt x="10051" y="0"/>
                </a:lnTo>
                <a:arcTo wR="10051" hR="21600" stAng="-5400000" swAng="77187"/>
                <a:lnTo>
                  <a:pt x="10535" y="25"/>
                </a:lnTo>
                <a:arcTo wR="10051" hR="21600" stAng="-5477187" swAng="-5322813"/>
                <a:close/>
              </a:path>
            </a:pathLst>
          </a:custGeom>
          <a:solidFill>
            <a:srgbClr val="c00000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1447920"/>
            <a:ext cx="856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c00000"/>
                </a:solidFill>
                <a:uFillTx/>
                <a:latin typeface="Perpetua"/>
              </a:rPr>
              <a:t>الحالة الثالثة  :عندما تكون العلاقة بين الكيانين هي متعدد إلى متعدد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لابد من </a:t>
            </a:r>
            <a:r>
              <a:rPr b="0" lang="ar-SA" sz="2800" spc="-1" strike="noStrike">
                <a:solidFill>
                  <a:srgbClr val="1f497d"/>
                </a:solidFill>
                <a:latin typeface="Perpetua"/>
              </a:rPr>
              <a:t>تعريف جدول ثالث يسمى جدول الربط  يسمى </a:t>
            </a:r>
            <a:r>
              <a:rPr b="0" lang="ar-SA" sz="2800" spc="-1" strike="noStrike">
                <a:solidFill>
                  <a:srgbClr val="c00000"/>
                </a:solidFill>
                <a:latin typeface="Perpetua"/>
              </a:rPr>
              <a:t>بأسم العلاقة </a:t>
            </a:r>
            <a:r>
              <a:rPr b="0" lang="ar-SA" sz="2800" spc="-1" strike="noStrike">
                <a:solidFill>
                  <a:srgbClr val="1f497d"/>
                </a:solidFill>
                <a:latin typeface="Perpetua"/>
              </a:rPr>
              <a:t>و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يتكون مفتاحه الأساسي من حقلين عبارة عن ( المفتاحين الأساسين للجدولين المرتبطين ) وقد يحوي حقول أخرى ضرورية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71360" y="396720"/>
            <a:ext cx="888696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33"/>
          <p:cNvGrpSpPr/>
          <p:nvPr/>
        </p:nvGrpSpPr>
        <p:grpSpPr>
          <a:xfrm>
            <a:off x="468360" y="208080"/>
            <a:ext cx="8316720" cy="2425680"/>
            <a:chOff x="468360" y="208080"/>
            <a:chExt cx="8316720" cy="2425680"/>
          </a:xfrm>
        </p:grpSpPr>
        <p:grpSp>
          <p:nvGrpSpPr>
            <p:cNvPr id="368" name="Group 17"/>
            <p:cNvGrpSpPr/>
            <p:nvPr/>
          </p:nvGrpSpPr>
          <p:grpSpPr>
            <a:xfrm>
              <a:off x="982800" y="603000"/>
              <a:ext cx="7802280" cy="2030760"/>
              <a:chOff x="982800" y="603000"/>
              <a:chExt cx="7802280" cy="2030760"/>
            </a:xfrm>
          </p:grpSpPr>
          <p:sp>
            <p:nvSpPr>
              <p:cNvPr id="369" name="Rectangle 3"/>
              <p:cNvSpPr/>
              <p:nvPr/>
            </p:nvSpPr>
            <p:spPr>
              <a:xfrm>
                <a:off x="6384600" y="1720080"/>
                <a:ext cx="1629000" cy="710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طال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Straight Connector 11"/>
              <p:cNvSpPr/>
              <p:nvPr/>
            </p:nvSpPr>
            <p:spPr>
              <a:xfrm flipH="1">
                <a:off x="5474880" y="2075400"/>
                <a:ext cx="909000" cy="720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lowchart: Decision 12"/>
              <p:cNvSpPr/>
              <p:nvPr/>
            </p:nvSpPr>
            <p:spPr>
              <a:xfrm>
                <a:off x="3812040" y="1516680"/>
                <a:ext cx="1629000" cy="1117080"/>
              </a:xfrm>
              <a:prstGeom prst="flowChartDecision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يسج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3"/>
              <p:cNvSpPr/>
              <p:nvPr/>
            </p:nvSpPr>
            <p:spPr>
              <a:xfrm>
                <a:off x="982800" y="1720080"/>
                <a:ext cx="1629000" cy="710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Perpetua"/>
                    <a:cs typeface="Times New Roman"/>
                  </a:rPr>
                  <a:t>المقر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Straight Connector 14"/>
              <p:cNvSpPr/>
              <p:nvPr/>
            </p:nvSpPr>
            <p:spPr>
              <a:xfrm flipH="1" flipV="1">
                <a:off x="2611800" y="2075400"/>
                <a:ext cx="1200240" cy="12960"/>
              </a:xfrm>
              <a:prstGeom prst="line">
                <a:avLst/>
              </a:prstGeom>
              <a:ln w="9360">
                <a:solidFill>
                  <a:srgbClr val="396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6"/>
              <p:cNvSpPr/>
              <p:nvPr/>
            </p:nvSpPr>
            <p:spPr>
              <a:xfrm>
                <a:off x="7156080" y="603000"/>
                <a:ext cx="1629000" cy="710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 u="sng">
                    <a:solidFill>
                      <a:srgbClr val="000000"/>
                    </a:solidFill>
                    <a:uFillTx/>
                    <a:latin typeface="Perpetua"/>
                    <a:cs typeface="Times New Roman"/>
                  </a:rPr>
                  <a:t>رقم الطال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Oval 20"/>
            <p:cNvSpPr/>
            <p:nvPr/>
          </p:nvSpPr>
          <p:spPr>
            <a:xfrm>
              <a:off x="5612760" y="603000"/>
              <a:ext cx="1285920" cy="71064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اس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22"/>
            <p:cNvSpPr/>
            <p:nvPr/>
          </p:nvSpPr>
          <p:spPr>
            <a:xfrm flipH="1">
              <a:off x="7198560" y="1313640"/>
              <a:ext cx="771480" cy="40608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4"/>
            <p:cNvSpPr/>
            <p:nvPr/>
          </p:nvSpPr>
          <p:spPr>
            <a:xfrm>
              <a:off x="6255720" y="1313640"/>
              <a:ext cx="942840" cy="40608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468360" y="377280"/>
              <a:ext cx="1543320" cy="73332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س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2097360" y="208080"/>
              <a:ext cx="1543320" cy="8010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 u="sng">
                  <a:solidFill>
                    <a:srgbClr val="000000"/>
                  </a:solidFill>
                  <a:uFillTx/>
                  <a:latin typeface="Perpetua"/>
                  <a:cs typeface="Times New Roman"/>
                </a:rPr>
                <a:t>رقم المقر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28"/>
            <p:cNvSpPr/>
            <p:nvPr/>
          </p:nvSpPr>
          <p:spPr>
            <a:xfrm flipH="1">
              <a:off x="1796760" y="1009080"/>
              <a:ext cx="1071720" cy="71064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30"/>
            <p:cNvSpPr/>
            <p:nvPr/>
          </p:nvSpPr>
          <p:spPr>
            <a:xfrm>
              <a:off x="1411200" y="1110600"/>
              <a:ext cx="385560" cy="609120"/>
            </a:xfrm>
            <a:prstGeom prst="line">
              <a:avLst/>
            </a:prstGeom>
            <a:ln w="9360">
              <a:solidFill>
                <a:srgbClr val="396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31"/>
            <p:cNvSpPr/>
            <p:nvPr/>
          </p:nvSpPr>
          <p:spPr>
            <a:xfrm>
              <a:off x="5643720" y="1618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2"/>
            <p:cNvSpPr/>
            <p:nvPr/>
          </p:nvSpPr>
          <p:spPr>
            <a:xfrm>
              <a:off x="2959920" y="1516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مستطيل 27"/>
          <p:cNvSpPr/>
          <p:nvPr/>
        </p:nvSpPr>
        <p:spPr>
          <a:xfrm>
            <a:off x="982800" y="3213000"/>
            <a:ext cx="7805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أولا : نحول الكيانات إلى جداول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طالب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طال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مقر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ثانيا : نربط بين الجدول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طالب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طالب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اس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 المقر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سم المقرر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i-IN" sz="2400" spc="-1" strike="noStrike">
                <a:solidFill>
                  <a:srgbClr val="4f81bd"/>
                </a:solidFill>
                <a:latin typeface="Arial"/>
              </a:rPr>
              <a:t>التسجي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طالب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hi-IN" sz="2400" spc="-1" strike="noStrike" u="sng">
                <a:solidFill>
                  <a:srgbClr val="c00000"/>
                </a:solidFill>
                <a:uFillTx/>
                <a:latin typeface="Arial"/>
              </a:rPr>
              <a:t>رقم المقرر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الدرج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5"/>
          <p:cNvSpPr/>
          <p:nvPr/>
        </p:nvSpPr>
        <p:spPr>
          <a:xfrm>
            <a:off x="3811680" y="488880"/>
            <a:ext cx="1330200" cy="468360"/>
          </a:xfrm>
          <a:prstGeom prst="ellipse">
            <a:avLst/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Perpetua"/>
                <a:cs typeface="Times New Roman"/>
              </a:rPr>
              <a:t>الدر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30"/>
          <p:cNvSpPr/>
          <p:nvPr/>
        </p:nvSpPr>
        <p:spPr>
          <a:xfrm>
            <a:off x="4476600" y="957240"/>
            <a:ext cx="149400" cy="558720"/>
          </a:xfrm>
          <a:prstGeom prst="line">
            <a:avLst/>
          </a:prstGeom>
          <a:ln w="9360">
            <a:solidFill>
              <a:srgbClr val="396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3" descr=""/>
          <p:cNvPicPr/>
          <p:nvPr/>
        </p:nvPicPr>
        <p:blipFill>
          <a:blip r:embed="rId1"/>
          <a:stretch/>
        </p:blipFill>
        <p:spPr>
          <a:xfrm>
            <a:off x="463680" y="1189080"/>
            <a:ext cx="8356320" cy="40780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171360" y="152280"/>
            <a:ext cx="88869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Franklin Gothic Book"/>
              </a:rPr>
              <a:t>تطبيق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93560" y="4218120"/>
            <a:ext cx="8553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1"/>
          <p:cNvGrpSpPr/>
          <p:nvPr/>
        </p:nvGrpSpPr>
        <p:grpSpPr>
          <a:xfrm>
            <a:off x="0" y="165240"/>
            <a:ext cx="8926560" cy="6261120"/>
            <a:chOff x="0" y="165240"/>
            <a:chExt cx="8926560" cy="6261120"/>
          </a:xfrm>
        </p:grpSpPr>
        <p:sp>
          <p:nvSpPr>
            <p:cNvPr id="392" name="Rectangle 26"/>
            <p:cNvSpPr/>
            <p:nvPr/>
          </p:nvSpPr>
          <p:spPr>
            <a:xfrm>
              <a:off x="4838400" y="5202360"/>
              <a:ext cx="1170000" cy="453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Trebuchet MS"/>
                  <a:cs typeface="Tahoma"/>
                </a:rPr>
                <a:t>الغرف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06"/>
            <p:cNvSpPr/>
            <p:nvPr/>
          </p:nvSpPr>
          <p:spPr>
            <a:xfrm>
              <a:off x="7984800" y="4200840"/>
              <a:ext cx="288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traight Connector 182"/>
            <p:cNvSpPr/>
            <p:nvPr/>
          </p:nvSpPr>
          <p:spPr>
            <a:xfrm flipH="1">
              <a:off x="6791040" y="2891160"/>
              <a:ext cx="719280" cy="10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7"/>
            <p:cNvSpPr/>
            <p:nvPr/>
          </p:nvSpPr>
          <p:spPr>
            <a:xfrm>
              <a:off x="6309000" y="3892680"/>
              <a:ext cx="964440" cy="68112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Trebuchet MS"/>
                  <a:cs typeface="Tahoma"/>
                </a:rPr>
                <a:t>يرقد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0"/>
            <p:cNvSpPr/>
            <p:nvPr/>
          </p:nvSpPr>
          <p:spPr>
            <a:xfrm flipH="1">
              <a:off x="5533560" y="4571280"/>
              <a:ext cx="1264680" cy="6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80"/>
            <p:cNvSpPr/>
            <p:nvPr/>
          </p:nvSpPr>
          <p:spPr>
            <a:xfrm>
              <a:off x="5297040" y="5987520"/>
              <a:ext cx="144000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غرف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80"/>
            <p:cNvSpPr/>
            <p:nvPr/>
          </p:nvSpPr>
          <p:spPr>
            <a:xfrm>
              <a:off x="3004200" y="5433480"/>
              <a:ext cx="1343880" cy="44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عدد الأسر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478320" y="5972760"/>
              <a:ext cx="1565280" cy="453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رقم التحويل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88"/>
            <p:cNvSpPr/>
            <p:nvPr/>
          </p:nvSpPr>
          <p:spPr>
            <a:xfrm flipV="1">
              <a:off x="4348080" y="5428800"/>
              <a:ext cx="48996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traight Connector 189"/>
            <p:cNvSpPr/>
            <p:nvPr/>
          </p:nvSpPr>
          <p:spPr>
            <a:xfrm flipV="1">
              <a:off x="4585320" y="5655600"/>
              <a:ext cx="83772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traight Connector 190"/>
            <p:cNvSpPr/>
            <p:nvPr/>
          </p:nvSpPr>
          <p:spPr>
            <a:xfrm flipH="1" flipV="1">
              <a:off x="5771160" y="5664600"/>
              <a:ext cx="245520" cy="3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06"/>
            <p:cNvSpPr/>
            <p:nvPr/>
          </p:nvSpPr>
          <p:spPr>
            <a:xfrm>
              <a:off x="6510960" y="3507480"/>
              <a:ext cx="2880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10"/>
            <p:cNvSpPr/>
            <p:nvPr/>
          </p:nvSpPr>
          <p:spPr>
            <a:xfrm>
              <a:off x="6166440" y="4431960"/>
              <a:ext cx="2685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93"/>
            <p:cNvSpPr/>
            <p:nvPr/>
          </p:nvSpPr>
          <p:spPr>
            <a:xfrm>
              <a:off x="2529000" y="1658520"/>
              <a:ext cx="18360" cy="73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92"/>
            <p:cNvSpPr/>
            <p:nvPr/>
          </p:nvSpPr>
          <p:spPr>
            <a:xfrm>
              <a:off x="202320" y="3276360"/>
              <a:ext cx="1536840" cy="59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رقم الهات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lowchart: Decision 196"/>
            <p:cNvSpPr/>
            <p:nvPr/>
          </p:nvSpPr>
          <p:spPr>
            <a:xfrm>
              <a:off x="1836720" y="2395800"/>
              <a:ext cx="1422720" cy="53928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يعمل ف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traight Connector 197"/>
            <p:cNvSpPr/>
            <p:nvPr/>
          </p:nvSpPr>
          <p:spPr>
            <a:xfrm>
              <a:off x="2529720" y="2968200"/>
              <a:ext cx="0" cy="9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10"/>
            <p:cNvSpPr/>
            <p:nvPr/>
          </p:nvSpPr>
          <p:spPr>
            <a:xfrm>
              <a:off x="2213640" y="2043720"/>
              <a:ext cx="2368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10"/>
            <p:cNvSpPr/>
            <p:nvPr/>
          </p:nvSpPr>
          <p:spPr>
            <a:xfrm>
              <a:off x="2213640" y="3045240"/>
              <a:ext cx="2685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6"/>
            <p:cNvGrpSpPr/>
            <p:nvPr/>
          </p:nvGrpSpPr>
          <p:grpSpPr>
            <a:xfrm>
              <a:off x="4348080" y="3276720"/>
              <a:ext cx="1110240" cy="852480"/>
              <a:chOff x="4348080" y="3276720"/>
              <a:chExt cx="1110240" cy="852480"/>
            </a:xfrm>
          </p:grpSpPr>
          <p:sp>
            <p:nvSpPr>
              <p:cNvPr id="412" name="AutoShape 7"/>
              <p:cNvSpPr/>
              <p:nvPr/>
            </p:nvSpPr>
            <p:spPr>
              <a:xfrm>
                <a:off x="4348080" y="3276720"/>
                <a:ext cx="1110240" cy="852480"/>
              </a:xfrm>
              <a:prstGeom prst="diamond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8"/>
              <p:cNvSpPr/>
              <p:nvPr/>
            </p:nvSpPr>
            <p:spPr>
              <a:xfrm>
                <a:off x="4420440" y="3507480"/>
                <a:ext cx="835200" cy="48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00"/>
                    </a:solidFill>
                    <a:latin typeface="Arial"/>
                  </a:rPr>
                  <a:t>يكشف عل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Line 9"/>
            <p:cNvSpPr/>
            <p:nvPr/>
          </p:nvSpPr>
          <p:spPr>
            <a:xfrm flipV="1">
              <a:off x="5459040" y="2905920"/>
              <a:ext cx="1785960" cy="7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0"/>
            <p:cNvSpPr/>
            <p:nvPr/>
          </p:nvSpPr>
          <p:spPr>
            <a:xfrm flipH="1">
              <a:off x="3083040" y="3700080"/>
              <a:ext cx="1265040" cy="42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"/>
            <p:cNvGrpSpPr/>
            <p:nvPr/>
          </p:nvGrpSpPr>
          <p:grpSpPr>
            <a:xfrm>
              <a:off x="7429320" y="2891160"/>
              <a:ext cx="999360" cy="1926000"/>
              <a:chOff x="7429320" y="2891160"/>
              <a:chExt cx="999360" cy="1926000"/>
            </a:xfrm>
          </p:grpSpPr>
          <p:sp>
            <p:nvSpPr>
              <p:cNvPr id="417" name="AutoShape 19"/>
              <p:cNvSpPr/>
              <p:nvPr/>
            </p:nvSpPr>
            <p:spPr>
              <a:xfrm>
                <a:off x="7429320" y="3507120"/>
                <a:ext cx="999360" cy="685080"/>
              </a:xfrm>
              <a:prstGeom prst="diamond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400" spc="-1" strike="noStrike">
                    <a:solidFill>
                      <a:srgbClr val="000000"/>
                    </a:solidFill>
                    <a:latin typeface="Arial"/>
                  </a:rPr>
                  <a:t>يأخ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1"/>
              <p:cNvSpPr/>
              <p:nvPr/>
            </p:nvSpPr>
            <p:spPr>
              <a:xfrm>
                <a:off x="7926120" y="2891160"/>
                <a:ext cx="0" cy="61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2"/>
              <p:cNvSpPr/>
              <p:nvPr/>
            </p:nvSpPr>
            <p:spPr>
              <a:xfrm>
                <a:off x="7926120" y="4201200"/>
                <a:ext cx="0" cy="61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Rectangle 26"/>
            <p:cNvSpPr/>
            <p:nvPr/>
          </p:nvSpPr>
          <p:spPr>
            <a:xfrm>
              <a:off x="7431480" y="4817160"/>
              <a:ext cx="983880" cy="51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لدوا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32"/>
            <p:cNvSpPr/>
            <p:nvPr/>
          </p:nvSpPr>
          <p:spPr>
            <a:xfrm>
              <a:off x="6245640" y="5433480"/>
              <a:ext cx="1423080" cy="38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دو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35"/>
            <p:cNvSpPr/>
            <p:nvPr/>
          </p:nvSpPr>
          <p:spPr>
            <a:xfrm>
              <a:off x="7352280" y="5972760"/>
              <a:ext cx="157428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</a:rPr>
                <a:t>اسم الدو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7036200" y="5048280"/>
              <a:ext cx="394920" cy="38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 flipV="1">
              <a:off x="8064000" y="53560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3"/>
            <p:cNvSpPr/>
            <p:nvPr/>
          </p:nvSpPr>
          <p:spPr>
            <a:xfrm>
              <a:off x="7115040" y="2377080"/>
              <a:ext cx="1106640" cy="51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لمريض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6"/>
            <p:cNvSpPr/>
            <p:nvPr/>
          </p:nvSpPr>
          <p:spPr>
            <a:xfrm>
              <a:off x="5533920" y="2586600"/>
              <a:ext cx="126432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مري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9"/>
            <p:cNvSpPr/>
            <p:nvPr/>
          </p:nvSpPr>
          <p:spPr>
            <a:xfrm>
              <a:off x="5533920" y="2046960"/>
              <a:ext cx="124884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سم المري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0"/>
            <p:cNvSpPr/>
            <p:nvPr/>
          </p:nvSpPr>
          <p:spPr>
            <a:xfrm flipV="1">
              <a:off x="6827040" y="2664000"/>
              <a:ext cx="28800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1"/>
            <p:cNvSpPr/>
            <p:nvPr/>
          </p:nvSpPr>
          <p:spPr>
            <a:xfrm>
              <a:off x="6798960" y="2278440"/>
              <a:ext cx="31608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65"/>
            <p:cNvSpPr/>
            <p:nvPr/>
          </p:nvSpPr>
          <p:spPr>
            <a:xfrm>
              <a:off x="4348080" y="181260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66"/>
            <p:cNvSpPr/>
            <p:nvPr/>
          </p:nvSpPr>
          <p:spPr>
            <a:xfrm>
              <a:off x="5217480" y="1966680"/>
              <a:ext cx="5529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67"/>
            <p:cNvSpPr/>
            <p:nvPr/>
          </p:nvSpPr>
          <p:spPr>
            <a:xfrm flipV="1">
              <a:off x="5059440" y="2256840"/>
              <a:ext cx="47412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68"/>
            <p:cNvSpPr/>
            <p:nvPr/>
          </p:nvSpPr>
          <p:spPr>
            <a:xfrm>
              <a:off x="4190040" y="216468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9"/>
            <p:cNvSpPr/>
            <p:nvPr/>
          </p:nvSpPr>
          <p:spPr>
            <a:xfrm flipV="1">
              <a:off x="5108400" y="2410920"/>
              <a:ext cx="6325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70"/>
            <p:cNvSpPr/>
            <p:nvPr/>
          </p:nvSpPr>
          <p:spPr>
            <a:xfrm>
              <a:off x="4253400" y="252036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72"/>
            <p:cNvGrpSpPr/>
            <p:nvPr/>
          </p:nvGrpSpPr>
          <p:grpSpPr>
            <a:xfrm>
              <a:off x="158040" y="3507480"/>
              <a:ext cx="3709440" cy="1617840"/>
              <a:chOff x="158040" y="3507480"/>
              <a:chExt cx="3709440" cy="1617840"/>
            </a:xfrm>
          </p:grpSpPr>
          <p:sp>
            <p:nvSpPr>
              <p:cNvPr id="437" name="Rectangle 74"/>
              <p:cNvSpPr/>
              <p:nvPr/>
            </p:nvSpPr>
            <p:spPr>
              <a:xfrm>
                <a:off x="1818000" y="3892680"/>
                <a:ext cx="1264680" cy="513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000000"/>
                    </a:solidFill>
                    <a:latin typeface="Arial"/>
                  </a:rPr>
                  <a:t>الطبي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80"/>
              <p:cNvSpPr/>
              <p:nvPr/>
            </p:nvSpPr>
            <p:spPr>
              <a:xfrm>
                <a:off x="2292120" y="4740120"/>
                <a:ext cx="1575360" cy="38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5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رقم الطبيب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83"/>
              <p:cNvSpPr/>
              <p:nvPr/>
            </p:nvSpPr>
            <p:spPr>
              <a:xfrm>
                <a:off x="394560" y="4740120"/>
                <a:ext cx="1668240" cy="36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500" spc="-1" strike="noStrike">
                    <a:solidFill>
                      <a:srgbClr val="000000"/>
                    </a:solidFill>
                    <a:latin typeface="Arial"/>
                  </a:rPr>
                  <a:t>اسم الطبيب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86"/>
              <p:cNvSpPr/>
              <p:nvPr/>
            </p:nvSpPr>
            <p:spPr>
              <a:xfrm>
                <a:off x="158040" y="3954960"/>
                <a:ext cx="1383480" cy="361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500" spc="-1" strike="noStrike">
                    <a:solidFill>
                      <a:srgbClr val="000000"/>
                    </a:solidFill>
                    <a:latin typeface="Arial"/>
                  </a:rPr>
                  <a:t>التخصص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94"/>
              <p:cNvSpPr/>
              <p:nvPr/>
            </p:nvSpPr>
            <p:spPr>
              <a:xfrm flipV="1">
                <a:off x="2924640" y="44319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95"/>
              <p:cNvSpPr/>
              <p:nvPr/>
            </p:nvSpPr>
            <p:spPr>
              <a:xfrm flipV="1">
                <a:off x="1373760" y="4402800"/>
                <a:ext cx="55296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96"/>
              <p:cNvSpPr/>
              <p:nvPr/>
            </p:nvSpPr>
            <p:spPr>
              <a:xfrm>
                <a:off x="1501560" y="4124160"/>
                <a:ext cx="31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99"/>
              <p:cNvSpPr/>
              <p:nvPr/>
            </p:nvSpPr>
            <p:spPr>
              <a:xfrm>
                <a:off x="1739160" y="3507480"/>
                <a:ext cx="394920" cy="38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Oval 100"/>
            <p:cNvSpPr/>
            <p:nvPr/>
          </p:nvSpPr>
          <p:spPr>
            <a:xfrm>
              <a:off x="0" y="5510520"/>
              <a:ext cx="885240" cy="30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01"/>
            <p:cNvSpPr/>
            <p:nvPr/>
          </p:nvSpPr>
          <p:spPr>
            <a:xfrm flipV="1">
              <a:off x="316080" y="5048280"/>
              <a:ext cx="307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02"/>
            <p:cNvSpPr/>
            <p:nvPr/>
          </p:nvSpPr>
          <p:spPr>
            <a:xfrm flipV="1">
              <a:off x="1343880" y="5110200"/>
              <a:ext cx="0" cy="4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914760" y="5558040"/>
              <a:ext cx="885240" cy="30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04"/>
            <p:cNvSpPr/>
            <p:nvPr/>
          </p:nvSpPr>
          <p:spPr>
            <a:xfrm flipH="1" flipV="1">
              <a:off x="1818360" y="5048280"/>
              <a:ext cx="37944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05"/>
            <p:cNvSpPr/>
            <p:nvPr/>
          </p:nvSpPr>
          <p:spPr>
            <a:xfrm>
              <a:off x="1818360" y="5481000"/>
              <a:ext cx="885240" cy="30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06"/>
            <p:cNvSpPr/>
            <p:nvPr/>
          </p:nvSpPr>
          <p:spPr>
            <a:xfrm>
              <a:off x="7985160" y="3199680"/>
              <a:ext cx="316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10"/>
            <p:cNvSpPr/>
            <p:nvPr/>
          </p:nvSpPr>
          <p:spPr>
            <a:xfrm>
              <a:off x="3140640" y="3632400"/>
              <a:ext cx="30888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11"/>
            <p:cNvSpPr/>
            <p:nvPr/>
          </p:nvSpPr>
          <p:spPr>
            <a:xfrm>
              <a:off x="5771160" y="3081960"/>
              <a:ext cx="3168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02"/>
            <p:cNvSpPr/>
            <p:nvPr/>
          </p:nvSpPr>
          <p:spPr>
            <a:xfrm>
              <a:off x="2134440" y="1204920"/>
              <a:ext cx="1027440" cy="462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قس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6"/>
            <p:cNvSpPr/>
            <p:nvPr/>
          </p:nvSpPr>
          <p:spPr>
            <a:xfrm>
              <a:off x="2766960" y="348840"/>
              <a:ext cx="1264680" cy="53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قس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204"/>
            <p:cNvSpPr/>
            <p:nvPr/>
          </p:nvSpPr>
          <p:spPr>
            <a:xfrm flipH="1">
              <a:off x="2925000" y="888120"/>
              <a:ext cx="39528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6"/>
            <p:cNvSpPr/>
            <p:nvPr/>
          </p:nvSpPr>
          <p:spPr>
            <a:xfrm>
              <a:off x="1343880" y="357120"/>
              <a:ext cx="1264680" cy="53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سم  القس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06"/>
            <p:cNvSpPr/>
            <p:nvPr/>
          </p:nvSpPr>
          <p:spPr>
            <a:xfrm>
              <a:off x="1976400" y="888120"/>
              <a:ext cx="39528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6"/>
            <p:cNvSpPr/>
            <p:nvPr/>
          </p:nvSpPr>
          <p:spPr>
            <a:xfrm>
              <a:off x="7352280" y="579960"/>
              <a:ext cx="1264680" cy="5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رقم المدير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208"/>
            <p:cNvSpPr/>
            <p:nvPr/>
          </p:nvSpPr>
          <p:spPr>
            <a:xfrm flipV="1">
              <a:off x="7510680" y="1119240"/>
              <a:ext cx="47412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6"/>
            <p:cNvSpPr/>
            <p:nvPr/>
          </p:nvSpPr>
          <p:spPr>
            <a:xfrm>
              <a:off x="6008400" y="348840"/>
              <a:ext cx="1343880" cy="5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500" spc="-1" strike="noStrike">
                  <a:solidFill>
                    <a:srgbClr val="000000"/>
                  </a:solidFill>
                  <a:latin typeface="Arial"/>
                </a:rPr>
                <a:t>اسم  المدير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10"/>
            <p:cNvSpPr/>
            <p:nvPr/>
          </p:nvSpPr>
          <p:spPr>
            <a:xfrm>
              <a:off x="6679800" y="888120"/>
              <a:ext cx="43452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11"/>
            <p:cNvSpPr/>
            <p:nvPr/>
          </p:nvSpPr>
          <p:spPr>
            <a:xfrm>
              <a:off x="6482880" y="1273320"/>
              <a:ext cx="1027440" cy="462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مدي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212"/>
            <p:cNvSpPr/>
            <p:nvPr/>
          </p:nvSpPr>
          <p:spPr>
            <a:xfrm flipH="1" flipV="1">
              <a:off x="5533560" y="1494000"/>
              <a:ext cx="948600" cy="1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lowchart: Decision 213"/>
            <p:cNvSpPr/>
            <p:nvPr/>
          </p:nvSpPr>
          <p:spPr>
            <a:xfrm>
              <a:off x="4110840" y="1211040"/>
              <a:ext cx="1422720" cy="53928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يرأ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214"/>
            <p:cNvSpPr/>
            <p:nvPr/>
          </p:nvSpPr>
          <p:spPr>
            <a:xfrm flipH="1" flipV="1">
              <a:off x="3177000" y="1471320"/>
              <a:ext cx="948600" cy="1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10"/>
            <p:cNvSpPr/>
            <p:nvPr/>
          </p:nvSpPr>
          <p:spPr>
            <a:xfrm>
              <a:off x="5533920" y="1119240"/>
              <a:ext cx="2685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10"/>
            <p:cNvSpPr/>
            <p:nvPr/>
          </p:nvSpPr>
          <p:spPr>
            <a:xfrm>
              <a:off x="3873600" y="1119240"/>
              <a:ext cx="2685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5"/>
            <p:cNvSpPr/>
            <p:nvPr/>
          </p:nvSpPr>
          <p:spPr>
            <a:xfrm>
              <a:off x="4789080" y="16524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و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6"/>
            <p:cNvSpPr/>
            <p:nvPr/>
          </p:nvSpPr>
          <p:spPr>
            <a:xfrm>
              <a:off x="5658480" y="319320"/>
              <a:ext cx="5529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67"/>
            <p:cNvSpPr/>
            <p:nvPr/>
          </p:nvSpPr>
          <p:spPr>
            <a:xfrm flipV="1">
              <a:off x="5515560" y="594720"/>
              <a:ext cx="47412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8"/>
            <p:cNvSpPr/>
            <p:nvPr/>
          </p:nvSpPr>
          <p:spPr>
            <a:xfrm>
              <a:off x="4646160" y="50256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أ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9"/>
            <p:cNvSpPr/>
            <p:nvPr/>
          </p:nvSpPr>
          <p:spPr>
            <a:xfrm flipV="1">
              <a:off x="5428800" y="734040"/>
              <a:ext cx="6325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70"/>
            <p:cNvSpPr/>
            <p:nvPr/>
          </p:nvSpPr>
          <p:spPr>
            <a:xfrm>
              <a:off x="4573440" y="843480"/>
              <a:ext cx="885240" cy="3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</a:rPr>
                <a:t>العائل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Oval 92"/>
          <p:cNvSpPr/>
          <p:nvPr/>
        </p:nvSpPr>
        <p:spPr>
          <a:xfrm>
            <a:off x="316080" y="3325680"/>
            <a:ext cx="128556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رقم الهات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6"/>
          <p:cNvSpPr/>
          <p:nvPr/>
        </p:nvSpPr>
        <p:spPr>
          <a:xfrm>
            <a:off x="8242200" y="2919240"/>
            <a:ext cx="750960" cy="40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الكمي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206"/>
          <p:cNvSpPr/>
          <p:nvPr/>
        </p:nvSpPr>
        <p:spPr>
          <a:xfrm flipH="1">
            <a:off x="8429760" y="3325680"/>
            <a:ext cx="187200" cy="52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46"/>
          <p:cNvSpPr/>
          <p:nvPr/>
        </p:nvSpPr>
        <p:spPr>
          <a:xfrm>
            <a:off x="4051440" y="4424400"/>
            <a:ext cx="1490400" cy="40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تاريخ الكش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206"/>
          <p:cNvSpPr/>
          <p:nvPr/>
        </p:nvSpPr>
        <p:spPr>
          <a:xfrm flipH="1">
            <a:off x="4838400" y="4129200"/>
            <a:ext cx="651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46"/>
          <p:cNvSpPr/>
          <p:nvPr/>
        </p:nvSpPr>
        <p:spPr>
          <a:xfrm>
            <a:off x="3211560" y="3117960"/>
            <a:ext cx="1236600" cy="40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rial"/>
              </a:rPr>
              <a:t>الملاحظات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traight Connector 206"/>
          <p:cNvSpPr/>
          <p:nvPr/>
        </p:nvSpPr>
        <p:spPr>
          <a:xfrm flipV="1">
            <a:off x="4448160" y="3276360"/>
            <a:ext cx="455760" cy="4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Box 1"/>
          <p:cNvSpPr/>
          <p:nvPr/>
        </p:nvSpPr>
        <p:spPr>
          <a:xfrm>
            <a:off x="-14400" y="41400"/>
            <a:ext cx="9144000" cy="144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دير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دي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الاسم الأول ،اسم الأب ، اسم العائل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قسم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قس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اسم القسم,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دي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طبيب (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رقم الطب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الاسم الأول ، اسم الأب ، اسم العائلة , التخصص , رقم الهاتف,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رقم القس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ريض (ر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قم المريض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،الاسم الأول ، اسم  الأب ،اسم العائلة ,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غرف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غرفة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غرف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عدد الأسرة , التحويل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دواء(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دوا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اسم الدوا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وصفة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ري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دوا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الكمي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عالجة (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مري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طبي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تاريخ الكشف , الملاحظات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اتف (</a:t>
            </a:r>
            <a:r>
              <a:rPr b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رقم الطبيب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، رقم الهاتف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868E-35C1-475E-9CC3-575B5690219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324000" y="736560"/>
            <a:ext cx="8613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4f81bd"/>
                </a:solidFill>
                <a:uFillTx/>
                <a:latin typeface="Arial"/>
              </a:rPr>
              <a:t> قواعد البيانات العلائقية </a:t>
            </a:r>
            <a:r>
              <a:rPr b="1" lang="en-US" sz="3200" spc="-1" strike="noStrike" u="sng">
                <a:solidFill>
                  <a:srgbClr val="4f81bd"/>
                </a:solidFill>
                <a:uFillTx/>
                <a:latin typeface="Arial"/>
              </a:rPr>
              <a:t>Relational Database</a:t>
            </a:r>
            <a:r>
              <a:rPr b="1" lang="en-US" sz="3200" spc="-1" strike="noStrike" u="sng">
                <a:solidFill>
                  <a:srgbClr val="4f81bd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4f81bd"/>
                </a:solidFill>
                <a:uFillTx/>
                <a:latin typeface="Arial"/>
              </a:rPr>
              <a:t> 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ئمة على جمع البيانات وتخزينها داخل جداول تتكون م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عمدة : تستخدم لإظهار صفات أو خصائص البيانا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فوف : تمثل سجلات تحتوي على بيان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"/>
          <p:cNvGrpSpPr/>
          <p:nvPr/>
        </p:nvGrpSpPr>
        <p:grpSpPr>
          <a:xfrm>
            <a:off x="179280" y="3166920"/>
            <a:ext cx="4975200" cy="2122560"/>
            <a:chOff x="179280" y="3166920"/>
            <a:chExt cx="4975200" cy="2122560"/>
          </a:xfrm>
        </p:grpSpPr>
        <p:pic>
          <p:nvPicPr>
            <p:cNvPr id="315" name="TextBox 5" descr=""/>
            <p:cNvPicPr/>
            <p:nvPr/>
          </p:nvPicPr>
          <p:blipFill>
            <a:blip r:embed="rId1"/>
            <a:stretch/>
          </p:blipFill>
          <p:spPr>
            <a:xfrm>
              <a:off x="179280" y="4785480"/>
              <a:ext cx="1180440" cy="5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5"/>
            <p:cNvSpPr/>
            <p:nvPr/>
          </p:nvSpPr>
          <p:spPr>
            <a:xfrm>
              <a:off x="2919240" y="316692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Comic Sans MS"/>
                  <a:cs typeface="Tahoma"/>
                </a:rPr>
                <a:t>أعمد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7" name=""/>
          <p:cNvGraphicFramePr/>
          <p:nvPr/>
        </p:nvGraphicFramePr>
        <p:xfrm>
          <a:off x="1738440" y="3800520"/>
          <a:ext cx="4593960" cy="2521080"/>
        </p:xfrm>
        <a:graphic>
          <a:graphicData uri="http://schemas.openxmlformats.org/drawingml/2006/table">
            <a:tbl>
              <a:tblPr/>
              <a:tblGrid>
                <a:gridCol w="1050840"/>
                <a:gridCol w="893880"/>
                <a:gridCol w="928440"/>
                <a:gridCol w="860400"/>
                <a:gridCol w="860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لعنو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تاريخ الميلا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غ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رق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Perpetua"/>
                          <a:cs typeface="Times New Roman"/>
                        </a:rPr>
                        <a:t>اسم المري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روض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حم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مل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حن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علي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خال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رب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من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شكل حر 20"/>
          <p:cNvSpPr/>
          <p:nvPr/>
        </p:nvSpPr>
        <p:spPr>
          <a:xfrm>
            <a:off x="2889360" y="1484280"/>
            <a:ext cx="3504960" cy="1063800"/>
          </a:xfrm>
          <a:prstGeom prst="pie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رسم نموذج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كي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ان و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العلا</a:t>
            </a: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Times New Roman"/>
              </a:rPr>
              <a:t>قة الرابطة </a:t>
            </a:r>
            <a:r>
              <a:rPr b="0" lang="ar-JO" sz="28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ER Diagram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شكل حر 21"/>
          <p:cNvSpPr/>
          <p:nvPr/>
        </p:nvSpPr>
        <p:spPr>
          <a:xfrm>
            <a:off x="4246560" y="269244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شكل حر 22"/>
          <p:cNvSpPr/>
          <p:nvPr/>
        </p:nvSpPr>
        <p:spPr>
          <a:xfrm>
            <a:off x="2889360" y="3198960"/>
            <a:ext cx="3504960" cy="1396800"/>
          </a:xfrm>
          <a:prstGeom prst="pie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حويل نموذج الكيان والعلاقة الرابطة إلى جداو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(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Database Schema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شكل حر 23"/>
          <p:cNvSpPr/>
          <p:nvPr/>
        </p:nvSpPr>
        <p:spPr>
          <a:xfrm>
            <a:off x="4325760" y="4687920"/>
            <a:ext cx="630360" cy="398520"/>
          </a:xfrm>
          <a:custGeom>
            <a:avLst/>
            <a:gdLst/>
            <a:ahLst/>
            <a:rect l="l" t="t" r="r" b="b"/>
            <a:pathLst>
              <a:path w="308287" h="369944">
                <a:moveTo>
                  <a:pt x="246629" y="1"/>
                </a:moveTo>
                <a:lnTo>
                  <a:pt x="246629" y="184973"/>
                </a:lnTo>
                <a:lnTo>
                  <a:pt x="308287" y="184973"/>
                </a:lnTo>
                <a:lnTo>
                  <a:pt x="154144" y="369943"/>
                </a:lnTo>
                <a:lnTo>
                  <a:pt x="0" y="184973"/>
                </a:lnTo>
                <a:lnTo>
                  <a:pt x="61658" y="184973"/>
                </a:lnTo>
                <a:lnTo>
                  <a:pt x="61658" y="1"/>
                </a:lnTo>
                <a:lnTo>
                  <a:pt x="246629" y="1"/>
                </a:lnTo>
                <a:close/>
              </a:path>
            </a:pathLst>
          </a:cu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0" bIns="921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شكل حر 24"/>
          <p:cNvSpPr/>
          <p:nvPr/>
        </p:nvSpPr>
        <p:spPr>
          <a:xfrm>
            <a:off x="2889360" y="5191200"/>
            <a:ext cx="3504960" cy="1063440"/>
          </a:xfrm>
          <a:prstGeom prst="pie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تخزين ال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جداول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في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cs typeface="Times New Roman"/>
              </a:rPr>
              <a:t>نظام إدارة قواعد البيانات</a:t>
            </a:r>
            <a:r>
              <a:rPr b="0" lang="ar-JO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Perpetu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WordArt 15"/>
          <p:cNvSpPr txBox="1"/>
          <p:nvPr/>
        </p:nvSpPr>
        <p:spPr>
          <a:xfrm>
            <a:off x="7020000" y="1566720"/>
            <a:ext cx="12938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أول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4" name="WordArt 16"/>
          <p:cNvSpPr txBox="1"/>
          <p:nvPr/>
        </p:nvSpPr>
        <p:spPr>
          <a:xfrm>
            <a:off x="7020000" y="3489480"/>
            <a:ext cx="129384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5" name="WordArt 16"/>
          <p:cNvSpPr txBox="1"/>
          <p:nvPr/>
        </p:nvSpPr>
        <p:spPr>
          <a:xfrm>
            <a:off x="7020000" y="5229360"/>
            <a:ext cx="1438200" cy="77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رحلة الثالث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4f81bd"/>
                </a:solidFill>
                <a:latin typeface="Arial"/>
                <a:cs typeface="Arial"/>
              </a:rPr>
              <a:t>خطوات</a:t>
            </a:r>
            <a:r>
              <a:rPr b="0" lang="en-US" sz="4000" spc="-1" strike="noStrike">
                <a:solidFill>
                  <a:srgbClr val="4f81bd"/>
                </a:solidFill>
                <a:latin typeface="Franklin Gothic Book"/>
              </a:rPr>
              <a:t> </a:t>
            </a:r>
            <a:r>
              <a:rPr b="1" lang="hi-IN" sz="4400" spc="-1" strike="noStrike">
                <a:solidFill>
                  <a:srgbClr val="4f81bd"/>
                </a:solidFill>
                <a:latin typeface="Arial"/>
                <a:cs typeface="Arial"/>
              </a:rPr>
              <a:t>بناء قواعد البيانات 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93200" y="1196640"/>
            <a:ext cx="8364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فتاح الرئیس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ھو صفة مميزة في جدول الكيان یتمیز بأن قیمت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ريدة ولا يمكن أن تتكرر أو تكون خال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ثال : الطالب : (اسم الطالب , 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Calibri"/>
              </a:rPr>
              <a:t>الرقم الجامع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الهات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388360" cy="743040"/>
          </a:xfrm>
          <a:prstGeom prst="rect">
            <a:avLst/>
          </a:prstGeom>
          <a:ln w="0">
            <a:noFill/>
          </a:ln>
        </p:spPr>
      </p:pic>
      <p:sp>
        <p:nvSpPr>
          <p:cNvPr id="329" name="Content Placeholder 2"/>
          <p:cNvSpPr/>
          <p:nvPr/>
        </p:nvSpPr>
        <p:spPr>
          <a:xfrm>
            <a:off x="430200" y="3981600"/>
            <a:ext cx="83628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فتاح الأجنبي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ar-SA" sz="2800" spc="-1" strike="noStrike">
                <a:solidFill>
                  <a:srgbClr val="1f497d"/>
                </a:solidFill>
                <a:latin typeface="Calibri"/>
                <a:ea typeface="Arial"/>
              </a:rPr>
              <a:t> ھو صفة موجود في جدول لكنه لا یمثل واحدة من صفات</a:t>
            </a:r>
            <a:r>
              <a:rPr b="0" lang="ar-JO" sz="2800" spc="-1" strike="noStrike">
                <a:solidFill>
                  <a:srgbClr val="1f497d"/>
                </a:solidFill>
                <a:latin typeface="Calibri"/>
                <a:cs typeface="Arial"/>
              </a:rPr>
              <a:t>ه</a:t>
            </a:r>
            <a:r>
              <a:rPr b="0" lang="ar-SA" sz="2800" spc="-1" strike="noStrike">
                <a:solidFill>
                  <a:srgbClr val="1f497d"/>
                </a:solidFill>
                <a:latin typeface="Calibri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و يسمى مفتاح أجنبي لأن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  <a:cs typeface="Arial"/>
              </a:rPr>
              <a:t>ه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یمثل مفتاحاً رئيسياً في جدول آخ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  <a:cs typeface="Arial"/>
              </a:rPr>
              <a:t>وظيفته الربط بين الجدا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طالب : (اسم الطالب ,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رقم الجامع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، الهاتف، 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cs typeface="Arial"/>
              </a:rPr>
              <a:t>رقم المقر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Content Placeholder 2" descr=""/>
          <p:cNvPicPr/>
          <p:nvPr/>
        </p:nvPicPr>
        <p:blipFill>
          <a:blip r:embed="rId1"/>
          <a:stretch/>
        </p:blipFill>
        <p:spPr>
          <a:xfrm>
            <a:off x="146160" y="1620720"/>
            <a:ext cx="87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5138640" y="1262160"/>
            <a:ext cx="3760920" cy="706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539640" y="1989000"/>
            <a:ext cx="799632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- كل كيان في نموذج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RD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يتحول إلى جدول ، ويكون اسم الجدول بنفس اسم الكيان 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- خصائص الكيان تصبح هي حقول الجدول أي عناوين أعمدته 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ولا ننسى أن نضع خطاً تحت المفتاح الأساسي 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Perpetua"/>
              </a:rPr>
              <a:t>نضع اسم الجدول ثم أسماء الحقول بين قوسين كالتالي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   اسم الكيان (صفة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, 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Perpetua"/>
              </a:rPr>
              <a:t>صفة 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Perpetua"/>
              </a:rPr>
              <a:t>2</a:t>
            </a:r>
            <a:r>
              <a:rPr b="0" lang="ar-SA" sz="2800" spc="-1" strike="noStrike" u="sng">
                <a:solidFill>
                  <a:srgbClr val="4f81bd"/>
                </a:solidFill>
                <a:uFillTx/>
                <a:latin typeface="Perpetua"/>
              </a:rPr>
              <a:t> مفتاح رئيسي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، صفة 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Perpetua"/>
              </a:rPr>
              <a:t> ، ... 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171360" y="396720"/>
            <a:ext cx="888696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1f497d"/>
                </a:solidFill>
                <a:uFillTx/>
                <a:latin typeface="Franklin Gothic Book"/>
              </a:rPr>
              <a:t>مثال : حولي نموذج الكيان والعلاقة الرابطة التالي إلى جداول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5" name="مستطيل 2"/>
          <p:cNvSpPr/>
          <p:nvPr/>
        </p:nvSpPr>
        <p:spPr>
          <a:xfrm>
            <a:off x="1255680" y="4869000"/>
            <a:ext cx="69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أولا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مدير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لا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قسم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قسم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س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Group 33" descr=""/>
          <p:cNvPicPr/>
          <p:nvPr/>
        </p:nvPicPr>
        <p:blipFill>
          <a:blip r:embed="rId1"/>
          <a:stretch/>
        </p:blipFill>
        <p:spPr>
          <a:xfrm>
            <a:off x="817560" y="1536840"/>
            <a:ext cx="8088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3" descr=""/>
          <p:cNvPicPr/>
          <p:nvPr/>
        </p:nvPicPr>
        <p:blipFill>
          <a:blip r:embed="rId1"/>
          <a:stretch/>
        </p:blipFill>
        <p:spPr>
          <a:xfrm>
            <a:off x="420840" y="1189080"/>
            <a:ext cx="8399160" cy="4956120"/>
          </a:xfrm>
          <a:prstGeom prst="rect">
            <a:avLst/>
          </a:prstGeom>
          <a:ln w="0">
            <a:noFill/>
          </a:ln>
        </p:spPr>
      </p:pic>
      <p:pic>
        <p:nvPicPr>
          <p:cNvPr id="338" name="Title 1" descr=""/>
          <p:cNvPicPr/>
          <p:nvPr/>
        </p:nvPicPr>
        <p:blipFill>
          <a:blip r:embed="rId2"/>
          <a:stretch/>
        </p:blipFill>
        <p:spPr>
          <a:xfrm>
            <a:off x="171360" y="152280"/>
            <a:ext cx="88869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 u="sng">
                <a:solidFill>
                  <a:srgbClr val="1f497d"/>
                </a:solidFill>
                <a:uFillTx/>
                <a:latin typeface="Franklin Gothic Book"/>
              </a:rPr>
              <a:t>مثال : حولي نموذج الكيان والعلاقة الرابطة التالي إلى جداول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0" name="مستطيل 2"/>
          <p:cNvSpPr/>
          <p:nvPr/>
        </p:nvSpPr>
        <p:spPr>
          <a:xfrm>
            <a:off x="1255680" y="4869000"/>
            <a:ext cx="69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أولا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مدير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مدير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لا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4f81bd"/>
                </a:solidFill>
                <a:latin typeface="Perpetua"/>
                <a:cs typeface="Times New Roman"/>
              </a:rPr>
              <a:t>القسم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(</a:t>
            </a:r>
            <a:r>
              <a:rPr b="0" lang="hi-IN" sz="2800" spc="-1" strike="noStrike" u="sng">
                <a:solidFill>
                  <a:srgbClr val="c00000"/>
                </a:solidFill>
                <a:uFillTx/>
                <a:latin typeface="Perpetua"/>
                <a:cs typeface="Times New Roman"/>
              </a:rPr>
              <a:t>رقم القسم </a:t>
            </a:r>
            <a:r>
              <a:rPr b="0" lang="en-US" sz="2800" spc="-1" strike="noStrike">
                <a:solidFill>
                  <a:srgbClr val="c00000"/>
                </a:solidFill>
                <a:latin typeface="Perpetua"/>
                <a:ea typeface="Times New Roman"/>
              </a:rPr>
              <a:t>, اسم القسم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Group 33" descr=""/>
          <p:cNvPicPr/>
          <p:nvPr/>
        </p:nvPicPr>
        <p:blipFill>
          <a:blip r:embed="rId1"/>
          <a:stretch/>
        </p:blipFill>
        <p:spPr>
          <a:xfrm>
            <a:off x="817560" y="1536840"/>
            <a:ext cx="80884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4:27:27Z</dcterms:created>
  <dc:creator>Marwa</dc:creator>
  <dc:description/>
  <dc:language>en-US</dc:language>
  <cp:lastModifiedBy>user</cp:lastModifiedBy>
  <dcterms:modified xsi:type="dcterms:W3CDTF">2015-02-19T07:01:15Z</dcterms:modified>
  <cp:revision>16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24A8EF81518844905C9EE96F3BA77B</vt:lpwstr>
  </property>
</Properties>
</file>