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E26C-76AC-48D1-9274-E9B6CF1B2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E670-2C1C-44A3-BA92-FB1207F2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94D-CB24-4334-9787-43B8C233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4273-04FF-41F2-BAE8-F803D936B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40CA-ADBE-43C8-A53D-F0799D68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434-731E-4E9E-8978-DAF770637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E04-F3BB-4DA2-9472-CFEBD626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3AA-653E-4D4F-B184-C671592B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857-FA98-4F3A-B680-63472CD2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ED7-FFF6-47EA-A9EE-45396500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ED6-34FA-4496-A0AA-C58062DE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FC9F-2CCE-4B31-99A1-C6A7C2B4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23BC-E7A2-4D00-B651-A7982338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9266-11A4-4A04-BA1E-5AE2D83A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4B9B-C841-4536-97B8-0DE71164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2561-41C9-4816-A2D2-5F299912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3833-BD60-4AE3-90D0-918EBF2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FBC-F0AE-4422-9D3E-E4383FE6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C7B0-1413-4803-9952-C9930135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02E3-EA8D-4690-8B94-1BB5915D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99F7-4EFE-4192-AF72-759A1AEC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EB2A-BBAB-47C5-86E9-4E95DC1A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2ED4-6044-4860-8620-2239B6C2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9BD4-5D37-43CB-A3FC-BAED7FCD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7913-4389-434E-B2AE-D52D614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894F-EB2E-46F1-ADD5-97FBCE28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B6E9-3295-42D5-8255-2B2FA8AA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C71D-22DD-4C92-B97E-70B3B1F6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9D1-3A7B-450C-B4C3-80D1FAC2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3684F-E7B9-4184-BDB3-18E4D2D6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BA49-8A87-4552-8901-6A63FBCB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3457-5B57-4F1E-B601-89C25199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68F0-F83E-46AA-8942-011CED88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9292-568F-4A72-9D4B-E1A09BD5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8586-33E4-4BEE-B4A2-B3426378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250C-4C61-4AC6-BB1C-3E3D3F03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E4158-B5C4-46F0-B496-7AD4F658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71C2-050E-41FD-8AD0-9D292A78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67DA-9BC3-4C47-8513-B4E03E7E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CA1-0BF5-4003-9844-C4DB335C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6623A-0B9B-4EE4-A995-3D549AAB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5684-A896-49E8-8999-D487C272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E1EF-831E-4782-86F2-9B34E39A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B601-369D-45CC-8691-FDB6868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4CBA-7F52-4262-B3F6-6379786E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7207-0294-4197-B0B7-D12753A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1333-4081-4701-9761-AFA1E8E7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77762-A130-4A7A-B539-BAF7FC47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8AA8-DC6E-4F5E-BB19-A8A7FEC3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3473-8A3A-401C-95BF-31906591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86F-F09D-4B22-A4C4-7AB745F3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01AB7-A9F9-415E-94C7-02E9A3A9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83EC-0780-40A6-B9FE-79465911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B212F-505D-4B5A-8A4A-4D118409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AFF5-85AB-4D52-BCEA-EEEC5E0E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DDE8F-C759-4BA6-9894-3E9435CD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3CE4-941D-4877-A66A-874561F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0A00-EAB2-4BED-8F23-C7DA85C2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31228-ADCE-4D8F-843F-F811EAC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5498-2C2D-4B28-8D9B-D222E619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EDE2-EEBA-4566-81AC-7E704160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8E8-E687-4175-B539-EADB5BCA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C489-9AFC-4E14-AC38-51996BB8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6DD-CB72-491D-8926-0DC7A29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565-2AF6-401B-BEB5-B86864C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6D7-A069-4CCE-AF92-545536B6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2BC1-3345-4F01-AB7C-AF94902B64C0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F75B-A020-41BA-B0EF-3D2716A02AE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2735-B676-42A8-9654-90134D7AD360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4D8-EB4C-4A90-9F6B-FC55C0103F3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1D7F-6AEC-4FAE-B177-C132656EF2E6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E67-C412-4E54-8380-F3FFC881C28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C947-9286-42DC-A6BD-30B73A68D416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F8A-3307-444E-B199-04F94607F2A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0BFE-A518-418E-B2D8-99685C0BDF48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CEC-90AB-4123-B2F0-25FC380DD6E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A7C-8F45-41AD-B18A-615A59B6C04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ectangle 5" descr=""/>
          <p:cNvPicPr/>
          <p:nvPr/>
        </p:nvPicPr>
        <p:blipFill>
          <a:blip r:embed="rId1"/>
          <a:stretch/>
        </p:blipFill>
        <p:spPr>
          <a:xfrm>
            <a:off x="2882880" y="3535200"/>
            <a:ext cx="3567240" cy="708120"/>
          </a:xfrm>
          <a:prstGeom prst="rect">
            <a:avLst/>
          </a:prstGeom>
          <a:ln w="0">
            <a:noFill/>
          </a:ln>
        </p:spPr>
      </p:pic>
      <p:pic>
        <p:nvPicPr>
          <p:cNvPr id="237" name="Title 4" descr=""/>
          <p:cNvPicPr/>
          <p:nvPr/>
        </p:nvPicPr>
        <p:blipFill>
          <a:blip r:embed="rId2"/>
          <a:stretch/>
        </p:blipFill>
        <p:spPr>
          <a:xfrm>
            <a:off x="895320" y="1347840"/>
            <a:ext cx="7426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89E8-2BBD-4C21-8A9C-01986765E2D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844640"/>
            <a:ext cx="8147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b83d68"/>
                </a:solidFill>
                <a:uFillTx/>
                <a:latin typeface="Arial"/>
                <a:ea typeface="Arial"/>
              </a:rPr>
              <a:t>1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Arial"/>
                <a:ea typeface="Arial"/>
              </a:rPr>
              <a:t>- الكيانات  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Arial"/>
                <a:ea typeface="Arial"/>
              </a:rPr>
              <a:t>Entities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هي الوحدات الأساسية في قاعدة البيانات وهي  تشير إلى شيء حقيقي في الحياة سواء كان له وجود فعلي مثل ( مريض – طالب – موظف – سيارة ... ) أو وجود منطقي مثل (شركة - وظيفة – مقرر ... 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ahoma"/>
              </a:rPr>
              <a:t>و يتم تمثيل الكيان باستخدام شكل مستطيل يكتب داخله أسم الكيان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979640" y="4869000"/>
            <a:ext cx="1800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Perpetua"/>
                <a:cs typeface="Times New Roman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مربع نص 6"/>
          <p:cNvSpPr/>
          <p:nvPr/>
        </p:nvSpPr>
        <p:spPr>
          <a:xfrm>
            <a:off x="395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نموذج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كي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ان و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علا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قة الرابطة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ERD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)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F028-385E-4B9B-9EA8-62F982FAEA7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50560" y="1522440"/>
            <a:ext cx="84358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- الصفات أو الخصائص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Attributes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mic Sans MS"/>
              </a:rPr>
              <a:t>هي صفات معينة تصف الكيان أو العلاقة وتكون تابعه له ولا تخص غيره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mic Sans MS"/>
              </a:rPr>
              <a:t>مثل ( اسم الطالب , رقم الطالب , عنوان الطالب ) تصف الكيان الطالب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mic Sans MS"/>
              </a:rPr>
              <a:t> وتمثل الصفات حسب أنواعها  بأشكال بيضاوية مختلفة 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81" name="مجموعة 12"/>
          <p:cNvGrpSpPr/>
          <p:nvPr/>
        </p:nvGrpSpPr>
        <p:grpSpPr>
          <a:xfrm>
            <a:off x="3780000" y="4437000"/>
            <a:ext cx="3122280" cy="1893960"/>
            <a:chOff x="3780000" y="4437000"/>
            <a:chExt cx="3122280" cy="1893960"/>
          </a:xfrm>
        </p:grpSpPr>
        <p:sp>
          <p:nvSpPr>
            <p:cNvPr id="282" name="Rectangle 4"/>
            <p:cNvSpPr/>
            <p:nvPr/>
          </p:nvSpPr>
          <p:spPr>
            <a:xfrm>
              <a:off x="3780000" y="5610600"/>
              <a:ext cx="1800000" cy="72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طال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"/>
            <p:cNvSpPr/>
            <p:nvPr/>
          </p:nvSpPr>
          <p:spPr>
            <a:xfrm>
              <a:off x="5174280" y="4437000"/>
              <a:ext cx="1728000" cy="792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اسم الطال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6"/>
            <p:cNvSpPr/>
            <p:nvPr/>
          </p:nvSpPr>
          <p:spPr>
            <a:xfrm flipH="1">
              <a:off x="5173920" y="5229360"/>
              <a:ext cx="8053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مربع نص 13"/>
          <p:cNvSpPr/>
          <p:nvPr/>
        </p:nvSpPr>
        <p:spPr>
          <a:xfrm>
            <a:off x="395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نموذج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كي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ان و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علا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قة الرابطة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ERD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)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41E-5448-4DFB-A666-7127958F761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4920" y="47592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b83d68"/>
                </a:solidFill>
                <a:uFillTx/>
                <a:latin typeface="Comic Sans MS"/>
              </a:rPr>
              <a:t>أنواع الصفات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بسيط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مثل اسم الطالب , رقم الطالب 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مركب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عند تقسيم الصفة إلى اكثر من قسم 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مثل اسم الطالب يقسم إلى : ( الاسم الأول ، اسم الأب ، اسم العائلة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أحادية القيم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مثل تاريخ ميلاد الطالب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متعددة القيم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مثل رقم الهاتف ممكن أن يكون للطالب اكثر من رقم هاتف 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مشتق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وهي التي يمكن الحصول عليها عن طريق صفة بسيطة أخرى مثل عمر الطالب نحصل عليه من تاريخ ميلاده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83d68"/>
                </a:solidFill>
                <a:latin typeface="Comic Sans MS"/>
              </a:rPr>
              <a:t>صفة فريدة وتسمى </a:t>
            </a:r>
            <a:r>
              <a:rPr b="1" lang="hi-IN" sz="2800" spc="-1" strike="noStrike">
                <a:solidFill>
                  <a:srgbClr val="b83d68"/>
                </a:solidFill>
                <a:latin typeface="Arial"/>
                <a:cs typeface="Arial"/>
              </a:rPr>
              <a:t>المفتاح الأساسي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وهي  التي لا يمكن أن تتكرر وتميز كل سجل عن الآخر و يوضع خط تحتها عن الرس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908000" y="682560"/>
          <a:ext cx="6096240" cy="5956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رم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فهو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ك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 الصفة البسيطة و الآحا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صفة الفريدة أو المفتاح أساس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صفة متعددة الق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صفة مرك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صفة مشتق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علا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89" name="Rectangle 2"/>
          <p:cNvSpPr/>
          <p:nvPr/>
        </p:nvSpPr>
        <p:spPr>
          <a:xfrm>
            <a:off x="2874960" y="1547640"/>
            <a:ext cx="1057320" cy="4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iamond 3"/>
          <p:cNvSpPr/>
          <p:nvPr/>
        </p:nvSpPr>
        <p:spPr>
          <a:xfrm>
            <a:off x="2900520" y="6021360"/>
            <a:ext cx="1000080" cy="4968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4"/>
          <p:cNvSpPr/>
          <p:nvPr/>
        </p:nvSpPr>
        <p:spPr>
          <a:xfrm>
            <a:off x="2827440" y="2276640"/>
            <a:ext cx="1119240" cy="357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2782800" y="2924280"/>
            <a:ext cx="12081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Perpetua"/>
                <a:cs typeface="Times New Roman"/>
              </a:rPr>
              <a:t>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2863800" y="3611520"/>
            <a:ext cx="1071720" cy="460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2455920" y="4254480"/>
            <a:ext cx="1628280" cy="718920"/>
            <a:chOff x="2455920" y="4254480"/>
            <a:chExt cx="1628280" cy="718920"/>
          </a:xfrm>
        </p:grpSpPr>
        <p:sp>
          <p:nvSpPr>
            <p:cNvPr id="295" name="Oval 25"/>
            <p:cNvSpPr/>
            <p:nvPr/>
          </p:nvSpPr>
          <p:spPr>
            <a:xfrm>
              <a:off x="3004200" y="4777560"/>
              <a:ext cx="631440" cy="19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27"/>
            <p:cNvGrpSpPr/>
            <p:nvPr/>
          </p:nvGrpSpPr>
          <p:grpSpPr>
            <a:xfrm>
              <a:off x="3585600" y="4414320"/>
              <a:ext cx="498600" cy="392040"/>
              <a:chOff x="3585600" y="4414320"/>
              <a:chExt cx="498600" cy="392040"/>
            </a:xfrm>
          </p:grpSpPr>
          <p:sp>
            <p:nvSpPr>
              <p:cNvPr id="297" name="Oval 28"/>
              <p:cNvSpPr/>
              <p:nvPr/>
            </p:nvSpPr>
            <p:spPr>
              <a:xfrm>
                <a:off x="3635640" y="4414320"/>
                <a:ext cx="448560" cy="26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9"/>
              <p:cNvSpPr/>
              <p:nvPr/>
            </p:nvSpPr>
            <p:spPr>
              <a:xfrm flipH="1">
                <a:off x="3585600" y="4675680"/>
                <a:ext cx="14940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0"/>
            <p:cNvGrpSpPr/>
            <p:nvPr/>
          </p:nvGrpSpPr>
          <p:grpSpPr>
            <a:xfrm>
              <a:off x="3103920" y="4254480"/>
              <a:ext cx="448560" cy="523080"/>
              <a:chOff x="3103920" y="4254480"/>
              <a:chExt cx="448560" cy="523080"/>
            </a:xfrm>
          </p:grpSpPr>
          <p:sp>
            <p:nvSpPr>
              <p:cNvPr id="300" name="Oval 31"/>
              <p:cNvSpPr/>
              <p:nvPr/>
            </p:nvSpPr>
            <p:spPr>
              <a:xfrm>
                <a:off x="3103920" y="4254480"/>
                <a:ext cx="448560" cy="26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32"/>
              <p:cNvSpPr/>
              <p:nvPr/>
            </p:nvSpPr>
            <p:spPr>
              <a:xfrm>
                <a:off x="3320640" y="4516200"/>
                <a:ext cx="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33"/>
            <p:cNvGrpSpPr/>
            <p:nvPr/>
          </p:nvGrpSpPr>
          <p:grpSpPr>
            <a:xfrm>
              <a:off x="2455920" y="4457520"/>
              <a:ext cx="597960" cy="363240"/>
              <a:chOff x="2455920" y="4457520"/>
              <a:chExt cx="597960" cy="363240"/>
            </a:xfrm>
          </p:grpSpPr>
          <p:sp>
            <p:nvSpPr>
              <p:cNvPr id="303" name="Oval 34"/>
              <p:cNvSpPr/>
              <p:nvPr/>
            </p:nvSpPr>
            <p:spPr>
              <a:xfrm>
                <a:off x="2455920" y="4457520"/>
                <a:ext cx="448560" cy="26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5"/>
              <p:cNvSpPr/>
              <p:nvPr/>
            </p:nvSpPr>
            <p:spPr>
              <a:xfrm>
                <a:off x="2822040" y="4690080"/>
                <a:ext cx="23184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Rectangle 11"/>
          <p:cNvSpPr/>
          <p:nvPr/>
        </p:nvSpPr>
        <p:spPr>
          <a:xfrm>
            <a:off x="755640" y="1558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b83d68"/>
                </a:solidFill>
                <a:latin typeface="Tahoma"/>
                <a:cs typeface="Tahoma"/>
              </a:rPr>
              <a:t>الرموز المستخدمة في  نموذج الكيان والعلاقة الرابط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2851200" y="5373720"/>
            <a:ext cx="1119240" cy="35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62a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B5C5-27C7-4E1C-A59B-B624EB80817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681120" y="2421000"/>
            <a:ext cx="799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هي العلاقة التي تربط بين الكيانات في الواقع  , وهي عبارة عن فعل يمثل العلاقة بين كيان ونفسه , أو كيانين أو ثلاثة كيانات معا  وتمثل بشكل مع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مثال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340000" y="177408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3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. العلاقات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Relationship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6227640" y="5416560"/>
            <a:ext cx="1800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954000" y="5661000"/>
            <a:ext cx="1800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ر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مجموعة 1"/>
          <p:cNvGrpSpPr/>
          <p:nvPr/>
        </p:nvGrpSpPr>
        <p:grpSpPr>
          <a:xfrm>
            <a:off x="2754000" y="5575320"/>
            <a:ext cx="3473280" cy="792000"/>
            <a:chOff x="2754000" y="5575320"/>
            <a:chExt cx="3473280" cy="792000"/>
          </a:xfrm>
        </p:grpSpPr>
        <p:pic>
          <p:nvPicPr>
            <p:cNvPr id="313" name="Diamond 6" descr=""/>
            <p:cNvPicPr/>
            <p:nvPr/>
          </p:nvPicPr>
          <p:blipFill>
            <a:blip r:embed="rId1"/>
            <a:stretch/>
          </p:blipFill>
          <p:spPr>
            <a:xfrm>
              <a:off x="3608640" y="5575320"/>
              <a:ext cx="16884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Line 26"/>
            <p:cNvSpPr/>
            <p:nvPr/>
          </p:nvSpPr>
          <p:spPr>
            <a:xfrm flipH="1">
              <a:off x="2754000" y="5978520"/>
              <a:ext cx="893160" cy="1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6"/>
            <p:cNvSpPr/>
            <p:nvPr/>
          </p:nvSpPr>
          <p:spPr>
            <a:xfrm flipH="1">
              <a:off x="5211720" y="5907240"/>
              <a:ext cx="1015560" cy="6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مربع نص 14"/>
          <p:cNvSpPr/>
          <p:nvPr/>
        </p:nvSpPr>
        <p:spPr>
          <a:xfrm>
            <a:off x="395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نموذج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كي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ان و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علا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قة الرابطة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ERD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)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7321680" y="4444920"/>
            <a:ext cx="1412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طال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"/>
          <p:cNvSpPr/>
          <p:nvPr/>
        </p:nvSpPr>
        <p:spPr>
          <a:xfrm>
            <a:off x="1476360" y="4630680"/>
            <a:ext cx="141300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مقر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6"/>
          <p:cNvSpPr/>
          <p:nvPr/>
        </p:nvSpPr>
        <p:spPr>
          <a:xfrm flipH="1">
            <a:off x="7451640" y="5079960"/>
            <a:ext cx="378000" cy="33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6"/>
          <p:cNvSpPr/>
          <p:nvPr/>
        </p:nvSpPr>
        <p:spPr>
          <a:xfrm flipH="1">
            <a:off x="2013120" y="5278320"/>
            <a:ext cx="326880" cy="3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468360" y="56196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4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- تحديد نوع العلاقة  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Cardinality ratio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258840" y="1049400"/>
            <a:ext cx="85723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أولاً- علاقة واحد إلى واحد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 to O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عني أن كل سجل في الكيان الأول يرتبط بسجل واحد فقط في الكيان الثاني  وكل سجل في الكيان الثاني يرتبط بسجل  واحد فقط في الكيان الأ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مثا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بنك لديه عده فروع ، بحيث يكون كل فرع يرأسه مدير واحد فقط وكل مدير يرأس فرع واحد  فقط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فتكون العلاقة بين كيان المدير وكيان الفرع علاقة واحد إلى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ar-SA" sz="2400" spc="-1" strike="noStrike">
                <a:solidFill>
                  <a:srgbClr val="000000"/>
                </a:solidFill>
                <a:latin typeface="Arial"/>
              </a:rPr>
              <a:t>يرمز لها بــ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8"/>
          <p:cNvGrpSpPr/>
          <p:nvPr/>
        </p:nvGrpSpPr>
        <p:grpSpPr>
          <a:xfrm>
            <a:off x="2154240" y="5048280"/>
            <a:ext cx="5273640" cy="1371600"/>
            <a:chOff x="2154240" y="5048280"/>
            <a:chExt cx="5273640" cy="1371600"/>
          </a:xfrm>
        </p:grpSpPr>
        <p:sp>
          <p:nvSpPr>
            <p:cNvPr id="324" name="AutoShape 27"/>
            <p:cNvSpPr/>
            <p:nvPr/>
          </p:nvSpPr>
          <p:spPr>
            <a:xfrm>
              <a:off x="2154240" y="5048280"/>
              <a:ext cx="5273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6"/>
            <p:cNvSpPr/>
            <p:nvPr/>
          </p:nvSpPr>
          <p:spPr>
            <a:xfrm>
              <a:off x="5867280" y="5333760"/>
              <a:ext cx="64404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مدي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"/>
            <p:cNvSpPr/>
            <p:nvPr/>
          </p:nvSpPr>
          <p:spPr>
            <a:xfrm>
              <a:off x="3101400" y="5333760"/>
              <a:ext cx="668880" cy="60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فر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4"/>
            <p:cNvSpPr/>
            <p:nvPr/>
          </p:nvSpPr>
          <p:spPr>
            <a:xfrm flipH="1">
              <a:off x="4514040" y="5441760"/>
              <a:ext cx="83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3"/>
            <p:cNvSpPr/>
            <p:nvPr/>
          </p:nvSpPr>
          <p:spPr>
            <a:xfrm>
              <a:off x="4514040" y="595008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2"/>
            <p:cNvSpPr/>
            <p:nvPr/>
          </p:nvSpPr>
          <p:spPr>
            <a:xfrm>
              <a:off x="5428800" y="526284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4046040" y="526284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0"/>
            <p:cNvSpPr/>
            <p:nvPr/>
          </p:nvSpPr>
          <p:spPr>
            <a:xfrm>
              <a:off x="4042800" y="576252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419440" y="576252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Slide Number Placeholder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3B24-49D5-4991-9699-405EEF425D3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403200" y="1080720"/>
            <a:ext cx="84312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ثانياً - علاقة واحد إلى متعدد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 to Man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عني أن كل سجل في الكيان الأول يرتبط بعدة سجلات  في الكيان الثاني وكل سجل في الكيان الثاني  يرتبط بسجل واحد  فقط في الكيان الأول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مثلا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في البنك يمكن ان يكون للعميل اكثر من حساب بنكي ولكن يوجد لكل حساب  بنكي عميل واحد فقط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يرمز لها بــ 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"/>
          <p:cNvGrpSpPr/>
          <p:nvPr/>
        </p:nvGrpSpPr>
        <p:grpSpPr>
          <a:xfrm>
            <a:off x="2195640" y="5246640"/>
            <a:ext cx="5273640" cy="1019880"/>
            <a:chOff x="2195640" y="5246640"/>
            <a:chExt cx="5273640" cy="1019880"/>
          </a:xfrm>
        </p:grpSpPr>
        <p:sp>
          <p:nvSpPr>
            <p:cNvPr id="336" name="AutoShape 10"/>
            <p:cNvSpPr/>
            <p:nvPr/>
          </p:nvSpPr>
          <p:spPr>
            <a:xfrm>
              <a:off x="2195640" y="5246640"/>
              <a:ext cx="5273640" cy="9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9"/>
            <p:cNvSpPr/>
            <p:nvPr/>
          </p:nvSpPr>
          <p:spPr>
            <a:xfrm>
              <a:off x="5814720" y="5460480"/>
              <a:ext cx="66708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عمي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>
              <a:off x="3052800" y="5460480"/>
              <a:ext cx="61956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حسا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 flipH="1">
              <a:off x="4392360" y="5545440"/>
              <a:ext cx="87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4392360" y="6082200"/>
              <a:ext cx="87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5"/>
            <p:cNvSpPr/>
            <p:nvPr/>
          </p:nvSpPr>
          <p:spPr>
            <a:xfrm>
              <a:off x="5356800" y="5369400"/>
              <a:ext cx="26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"/>
            <p:cNvSpPr/>
            <p:nvPr/>
          </p:nvSpPr>
          <p:spPr>
            <a:xfrm>
              <a:off x="3803760" y="5369400"/>
              <a:ext cx="35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"/>
            <p:cNvSpPr/>
            <p:nvPr/>
          </p:nvSpPr>
          <p:spPr>
            <a:xfrm>
              <a:off x="3890160" y="5869080"/>
              <a:ext cx="26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"/>
            <p:cNvSpPr/>
            <p:nvPr/>
          </p:nvSpPr>
          <p:spPr>
            <a:xfrm>
              <a:off x="5353200" y="5869080"/>
              <a:ext cx="26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Slide Number Placeholder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A2AE-36AB-4D71-B6B8-8B12D3EA632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468360" y="56196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4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- تحديد نوع العلاقة  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Cardinality ratio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85840" y="1620000"/>
            <a:ext cx="8572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ثالثاً - علاقة متعدد إلى متعدد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y to Man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 سجل في الكيان الأول مرتبط بعدة سجلات في الكيان الثاني وكل سجل في الكيان الثاني مرتبط بعدة سجلات في الكيان الأ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مثال : في البنك الموظف يخدم أكثر من عميل والعميل ممكن أن يخدمه أكثر من موظ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يرمز لها بــ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: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"/>
          <p:cNvGrpSpPr/>
          <p:nvPr/>
        </p:nvGrpSpPr>
        <p:grpSpPr>
          <a:xfrm>
            <a:off x="2143080" y="5076720"/>
            <a:ext cx="5273640" cy="1371600"/>
            <a:chOff x="2143080" y="5076720"/>
            <a:chExt cx="5273640" cy="1371600"/>
          </a:xfrm>
        </p:grpSpPr>
        <p:sp>
          <p:nvSpPr>
            <p:cNvPr id="349" name="AutoShape 10"/>
            <p:cNvSpPr/>
            <p:nvPr/>
          </p:nvSpPr>
          <p:spPr>
            <a:xfrm>
              <a:off x="2143080" y="5076720"/>
              <a:ext cx="5273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9"/>
            <p:cNvSpPr/>
            <p:nvPr/>
          </p:nvSpPr>
          <p:spPr>
            <a:xfrm>
              <a:off x="5927760" y="5470200"/>
              <a:ext cx="644400" cy="55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موظ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3090240" y="5470200"/>
              <a:ext cx="668880" cy="60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عمي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 flipH="1">
              <a:off x="4502880" y="5470200"/>
              <a:ext cx="83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4502880" y="597852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5"/>
            <p:cNvSpPr/>
            <p:nvPr/>
          </p:nvSpPr>
          <p:spPr>
            <a:xfrm>
              <a:off x="5464800" y="529128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3951720" y="5284800"/>
              <a:ext cx="329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"/>
            <p:cNvSpPr/>
            <p:nvPr/>
          </p:nvSpPr>
          <p:spPr>
            <a:xfrm>
              <a:off x="4031640" y="579096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"/>
            <p:cNvSpPr/>
            <p:nvPr/>
          </p:nvSpPr>
          <p:spPr>
            <a:xfrm>
              <a:off x="5411520" y="5781600"/>
              <a:ext cx="302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Slide Number Placeholder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93D5-4EBD-406A-A2DB-AD71BB535BA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468360" y="56196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4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- تحديد نوع العلاقة  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Cardinality ratio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2"/>
          <p:cNvSpPr/>
          <p:nvPr/>
        </p:nvSpPr>
        <p:spPr>
          <a:xfrm>
            <a:off x="826920" y="253440"/>
            <a:ext cx="807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83d68"/>
                </a:solidFill>
                <a:latin typeface="Comic Sans MS"/>
                <a:ea typeface="Times New Roman"/>
              </a:rPr>
              <a:t> أولا : أقوم برسم نموذج الكيان والعلاقة الرابطة </a:t>
            </a:r>
            <a:r>
              <a:rPr b="1" lang="en-US" sz="2400" spc="-1" strike="noStrike">
                <a:solidFill>
                  <a:srgbClr val="b83d68"/>
                </a:solidFill>
                <a:latin typeface="Comic Sans MS"/>
              </a:rPr>
              <a:t>ERD</a:t>
            </a:r>
            <a:r>
              <a:rPr b="1" lang="ar-SA" sz="2400" spc="-1" strike="noStrike">
                <a:solidFill>
                  <a:srgbClr val="b83d68"/>
                </a:solidFill>
                <a:latin typeface="Comic Sans MS"/>
                <a:ea typeface="Times New Roman"/>
              </a:rPr>
              <a:t> عن طري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تحديد </a:t>
            </a:r>
            <a:r>
              <a:rPr b="1" lang="ar-SA" sz="2400" spc="-1" strike="noStrike">
                <a:solidFill>
                  <a:srgbClr val="b83d68"/>
                </a:solidFill>
                <a:latin typeface="Comic Sans MS"/>
                <a:cs typeface="Times New Roman"/>
              </a:rPr>
              <a:t>الكيانات الرئيسية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تي نتعامل معها في مركز التدريب و المراد وضعها في قاعدة البيانات التي نريد تصميمها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فنجد أن هناك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كيانات  وهي المتدربة ، المدربة ، والدورة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195640" y="476280"/>
            <a:ext cx="64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8a2e4e"/>
                </a:solidFill>
                <a:uFillTx/>
                <a:latin typeface="Comic Sans MS"/>
                <a:cs typeface="Times New Roman"/>
              </a:rPr>
              <a:t>مثال تطبيقي : إنشاء  قاعدة بيانات لمركز تدري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مجموعة 1"/>
          <p:cNvGrpSpPr/>
          <p:nvPr/>
        </p:nvGrpSpPr>
        <p:grpSpPr>
          <a:xfrm>
            <a:off x="2836800" y="5157720"/>
            <a:ext cx="5211720" cy="717480"/>
            <a:chOff x="2836800" y="5157720"/>
            <a:chExt cx="5211720" cy="717480"/>
          </a:xfrm>
        </p:grpSpPr>
        <p:sp>
          <p:nvSpPr>
            <p:cNvPr id="363" name="Rectangle 5"/>
            <p:cNvSpPr/>
            <p:nvPr/>
          </p:nvSpPr>
          <p:spPr>
            <a:xfrm>
              <a:off x="6588360" y="5157720"/>
              <a:ext cx="1460160" cy="717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متدرب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9"/>
            <p:cNvSpPr/>
            <p:nvPr/>
          </p:nvSpPr>
          <p:spPr>
            <a:xfrm>
              <a:off x="4693320" y="5182920"/>
              <a:ext cx="1584360" cy="692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مدرب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7"/>
            <p:cNvSpPr/>
            <p:nvPr/>
          </p:nvSpPr>
          <p:spPr>
            <a:xfrm>
              <a:off x="2836800" y="5157720"/>
              <a:ext cx="1446480" cy="717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دو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Slide Number Placeholder 2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D027-ECF9-4AC1-BF34-23ACC577C28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>
            <a:off x="285840" y="-662400"/>
            <a:ext cx="8643960" cy="73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2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. تحديد الصفات للكيانات الرئيسية التي وضعتها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a34b73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Comic Sans MS"/>
              </a:rPr>
              <a:t> 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المتدرب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سم المتدربة ،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ahoma"/>
              </a:rPr>
              <a:t>رقم المتدربة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: صفة فريدة وتكون مفتاح أساسي  ليميز كل متدربة عن الأخرى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رقم الهاتف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a34b73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المدرب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سم المدربة ،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ahoma"/>
              </a:rPr>
              <a:t>رقم المدربة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: كحقل مفتاح أساسي مميز ليميز كل مدربة عن الأخرى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لتخصص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، رقم الهاتف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لا نضع هنا اسم الدورة  هنا لأن هذه صفة تخص الدورة ولاتخص المدرب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a34b73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الدور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سم الدورة ،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ahoma"/>
              </a:rPr>
              <a:t>رقم الدورة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: كحقل  مفتاح أساسي ليميز كل دورة عن الأخرى  ,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عدد ساعات الدور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A02F-D8F9-4CFE-AA8C-1A45B8DC777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00000" y="475920"/>
            <a:ext cx="77724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34b73"/>
                </a:solidFill>
                <a:uFillTx/>
                <a:latin typeface="Perpetua"/>
              </a:rPr>
              <a:t> قواعد البيانات العلائقية </a:t>
            </a:r>
            <a:r>
              <a:rPr b="1" lang="en-US" sz="3200" spc="-1" strike="noStrike" u="sng">
                <a:solidFill>
                  <a:srgbClr val="a34b73"/>
                </a:solidFill>
                <a:uFillTx/>
                <a:latin typeface="Perpetua"/>
              </a:rPr>
              <a:t>Relational Database</a:t>
            </a:r>
            <a:r>
              <a:rPr b="1" lang="en-US" sz="3200" spc="-1" strike="noStrike" u="sng">
                <a:solidFill>
                  <a:srgbClr val="a34b73"/>
                </a:solidFill>
                <a:uFillTx/>
                <a:latin typeface="Perpetua"/>
              </a:rPr>
              <a:t> </a:t>
            </a:r>
            <a:r>
              <a:rPr b="1" lang="ar-SA" sz="3200" spc="-1" strike="noStrike" u="sng">
                <a:solidFill>
                  <a:srgbClr val="a34b73"/>
                </a:solidFill>
                <a:uFillTx/>
                <a:latin typeface="Perpetua"/>
              </a:rPr>
              <a:t> : 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في الماضي كانت قواعد البيانات المتعارف عليها هي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 u="sng">
                <a:solidFill>
                  <a:srgbClr val="000000"/>
                </a:solidFill>
                <a:uFillTx/>
                <a:latin typeface="Perpetua"/>
              </a:rPr>
              <a:t>قواعد البيانات الشبكي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 u="sng">
                <a:solidFill>
                  <a:srgbClr val="000000"/>
                </a:solidFill>
                <a:uFillTx/>
                <a:latin typeface="Perpetua"/>
              </a:rPr>
              <a:t>قواعد البيانات الهرمي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وظلت هذه الأنواع هي المستخدمة حتى ظهرت قواعد </a:t>
            </a:r>
            <a:r>
              <a:rPr b="0" lang="ar-SA" sz="2600" spc="-1" strike="noStrike" u="sng">
                <a:solidFill>
                  <a:srgbClr val="000000"/>
                </a:solidFill>
                <a:uFillTx/>
                <a:latin typeface="Perpetua"/>
              </a:rPr>
              <a:t>البيانات العلائقية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ونظرا </a:t>
            </a:r>
            <a:r>
              <a:rPr b="0" lang="ar-SA" sz="2600" spc="-1" strike="noStrike">
                <a:solidFill>
                  <a:srgbClr val="b83d68"/>
                </a:solidFill>
                <a:latin typeface="Perpetua"/>
              </a:rPr>
              <a:t>لقوة نظم إدارة قواعد البيانات العلائقية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، و </a:t>
            </a:r>
            <a:r>
              <a:rPr b="0" lang="ar-SA" sz="2600" spc="-1" strike="noStrike">
                <a:solidFill>
                  <a:srgbClr val="b83d68"/>
                </a:solidFill>
                <a:latin typeface="Perpetua"/>
              </a:rPr>
              <a:t>لسهولة تصميمها و برمجتها و تعامل المستخدمين معها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فقد طغت على الأنواع الأخرى وأصبحت هي النوع الوحيد المستخدم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مجموعة 1" descr=""/>
          <p:cNvPicPr/>
          <p:nvPr/>
        </p:nvPicPr>
        <p:blipFill>
          <a:blip r:embed="rId1"/>
          <a:stretch/>
        </p:blipFill>
        <p:spPr>
          <a:xfrm>
            <a:off x="4784760" y="311040"/>
            <a:ext cx="4226040" cy="232884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28"/>
          <p:cNvGrpSpPr/>
          <p:nvPr/>
        </p:nvGrpSpPr>
        <p:grpSpPr>
          <a:xfrm>
            <a:off x="2111400" y="3376440"/>
            <a:ext cx="1784160" cy="676440"/>
            <a:chOff x="2111400" y="3376440"/>
            <a:chExt cx="1784160" cy="676440"/>
          </a:xfrm>
        </p:grpSpPr>
        <p:sp>
          <p:nvSpPr>
            <p:cNvPr id="371" name="Rectangle 29"/>
            <p:cNvSpPr/>
            <p:nvPr/>
          </p:nvSpPr>
          <p:spPr>
            <a:xfrm>
              <a:off x="2111400" y="3376440"/>
              <a:ext cx="1784160" cy="67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0"/>
            <p:cNvSpPr/>
            <p:nvPr/>
          </p:nvSpPr>
          <p:spPr>
            <a:xfrm>
              <a:off x="2448360" y="3541680"/>
              <a:ext cx="10706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مدرب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1"/>
          <p:cNvGrpSpPr/>
          <p:nvPr/>
        </p:nvGrpSpPr>
        <p:grpSpPr>
          <a:xfrm>
            <a:off x="2289240" y="2698920"/>
            <a:ext cx="1606320" cy="541080"/>
            <a:chOff x="2289240" y="2698920"/>
            <a:chExt cx="1606320" cy="541080"/>
          </a:xfrm>
        </p:grpSpPr>
        <p:sp>
          <p:nvSpPr>
            <p:cNvPr id="374" name="Oval 32"/>
            <p:cNvSpPr/>
            <p:nvPr/>
          </p:nvSpPr>
          <p:spPr>
            <a:xfrm>
              <a:off x="2388240" y="2698920"/>
              <a:ext cx="1427760" cy="541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33"/>
            <p:cNvSpPr/>
            <p:nvPr/>
          </p:nvSpPr>
          <p:spPr>
            <a:xfrm>
              <a:off x="2289240" y="2773800"/>
              <a:ext cx="16063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رقم الهات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34"/>
          <p:cNvGrpSpPr/>
          <p:nvPr/>
        </p:nvGrpSpPr>
        <p:grpSpPr>
          <a:xfrm>
            <a:off x="1595520" y="4324320"/>
            <a:ext cx="1606320" cy="541440"/>
            <a:chOff x="1595520" y="4324320"/>
            <a:chExt cx="1606320" cy="541440"/>
          </a:xfrm>
        </p:grpSpPr>
        <p:sp>
          <p:nvSpPr>
            <p:cNvPr id="377" name="Oval 35"/>
            <p:cNvSpPr/>
            <p:nvPr/>
          </p:nvSpPr>
          <p:spPr>
            <a:xfrm>
              <a:off x="1694520" y="4324320"/>
              <a:ext cx="1427760" cy="5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6"/>
            <p:cNvSpPr/>
            <p:nvPr/>
          </p:nvSpPr>
          <p:spPr>
            <a:xfrm>
              <a:off x="1595520" y="4399200"/>
              <a:ext cx="160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مدرب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7"/>
          <p:cNvGrpSpPr/>
          <p:nvPr/>
        </p:nvGrpSpPr>
        <p:grpSpPr>
          <a:xfrm>
            <a:off x="504720" y="3917880"/>
            <a:ext cx="1606680" cy="541440"/>
            <a:chOff x="504720" y="3917880"/>
            <a:chExt cx="1606680" cy="541440"/>
          </a:xfrm>
        </p:grpSpPr>
        <p:sp>
          <p:nvSpPr>
            <p:cNvPr id="380" name="Oval 38"/>
            <p:cNvSpPr/>
            <p:nvPr/>
          </p:nvSpPr>
          <p:spPr>
            <a:xfrm>
              <a:off x="603720" y="3917880"/>
              <a:ext cx="1428120" cy="5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9"/>
            <p:cNvSpPr/>
            <p:nvPr/>
          </p:nvSpPr>
          <p:spPr>
            <a:xfrm>
              <a:off x="504720" y="3992760"/>
              <a:ext cx="1606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سم المدرب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0"/>
          <p:cNvGrpSpPr/>
          <p:nvPr/>
        </p:nvGrpSpPr>
        <p:grpSpPr>
          <a:xfrm>
            <a:off x="317520" y="3124080"/>
            <a:ext cx="1604880" cy="541440"/>
            <a:chOff x="317520" y="3124080"/>
            <a:chExt cx="1604880" cy="541440"/>
          </a:xfrm>
        </p:grpSpPr>
        <p:sp>
          <p:nvSpPr>
            <p:cNvPr id="383" name="Oval 41"/>
            <p:cNvSpPr/>
            <p:nvPr/>
          </p:nvSpPr>
          <p:spPr>
            <a:xfrm>
              <a:off x="416520" y="3124080"/>
              <a:ext cx="1426680" cy="5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2"/>
            <p:cNvSpPr/>
            <p:nvPr/>
          </p:nvSpPr>
          <p:spPr>
            <a:xfrm>
              <a:off x="317520" y="3198960"/>
              <a:ext cx="16048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تخص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Line 49"/>
          <p:cNvSpPr/>
          <p:nvPr/>
        </p:nvSpPr>
        <p:spPr>
          <a:xfrm flipV="1">
            <a:off x="2289240" y="4067280"/>
            <a:ext cx="35712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0"/>
          <p:cNvSpPr/>
          <p:nvPr/>
        </p:nvSpPr>
        <p:spPr>
          <a:xfrm flipV="1">
            <a:off x="1576440" y="3781080"/>
            <a:ext cx="53496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1"/>
          <p:cNvSpPr/>
          <p:nvPr/>
        </p:nvSpPr>
        <p:spPr>
          <a:xfrm>
            <a:off x="1754280" y="3511440"/>
            <a:ext cx="357120" cy="13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4"/>
          <p:cNvSpPr/>
          <p:nvPr/>
        </p:nvSpPr>
        <p:spPr>
          <a:xfrm flipH="1">
            <a:off x="3003480" y="3240000"/>
            <a:ext cx="17784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5"/>
          <p:cNvGrpSpPr/>
          <p:nvPr/>
        </p:nvGrpSpPr>
        <p:grpSpPr>
          <a:xfrm>
            <a:off x="3981600" y="3260880"/>
            <a:ext cx="4854600" cy="2360160"/>
            <a:chOff x="3981600" y="3260880"/>
            <a:chExt cx="4854600" cy="2360160"/>
          </a:xfrm>
        </p:grpSpPr>
        <p:grpSp>
          <p:nvGrpSpPr>
            <p:cNvPr id="390" name="Group 56"/>
            <p:cNvGrpSpPr/>
            <p:nvPr/>
          </p:nvGrpSpPr>
          <p:grpSpPr>
            <a:xfrm>
              <a:off x="5642640" y="3260880"/>
              <a:ext cx="1388160" cy="1062360"/>
              <a:chOff x="5642640" y="3260880"/>
              <a:chExt cx="1388160" cy="1062360"/>
            </a:xfrm>
          </p:grpSpPr>
          <p:sp>
            <p:nvSpPr>
              <p:cNvPr id="391" name="Rectangle 57"/>
              <p:cNvSpPr/>
              <p:nvPr/>
            </p:nvSpPr>
            <p:spPr>
              <a:xfrm>
                <a:off x="5642640" y="3260880"/>
                <a:ext cx="1388160" cy="1062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58"/>
              <p:cNvSpPr/>
              <p:nvPr/>
            </p:nvSpPr>
            <p:spPr>
              <a:xfrm>
                <a:off x="5920200" y="3520440"/>
                <a:ext cx="833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62"/>
            <p:cNvGrpSpPr/>
            <p:nvPr/>
          </p:nvGrpSpPr>
          <p:grpSpPr>
            <a:xfrm>
              <a:off x="3981600" y="4462200"/>
              <a:ext cx="2910600" cy="1135080"/>
              <a:chOff x="3981600" y="4462200"/>
              <a:chExt cx="2910600" cy="1135080"/>
            </a:xfrm>
          </p:grpSpPr>
          <p:sp>
            <p:nvSpPr>
              <p:cNvPr id="394" name="Oval 63"/>
              <p:cNvSpPr/>
              <p:nvPr/>
            </p:nvSpPr>
            <p:spPr>
              <a:xfrm>
                <a:off x="5719680" y="4747680"/>
                <a:ext cx="1110600" cy="849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64"/>
              <p:cNvSpPr/>
              <p:nvPr/>
            </p:nvSpPr>
            <p:spPr>
              <a:xfrm>
                <a:off x="5642640" y="4865760"/>
                <a:ext cx="124956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63"/>
              <p:cNvSpPr/>
              <p:nvPr/>
            </p:nvSpPr>
            <p:spPr>
              <a:xfrm>
                <a:off x="4120200" y="4462200"/>
                <a:ext cx="1110600" cy="849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64"/>
              <p:cNvSpPr/>
              <p:nvPr/>
            </p:nvSpPr>
            <p:spPr>
              <a:xfrm>
                <a:off x="3981600" y="4688640"/>
                <a:ext cx="124956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65"/>
            <p:cNvGrpSpPr/>
            <p:nvPr/>
          </p:nvGrpSpPr>
          <p:grpSpPr>
            <a:xfrm>
              <a:off x="7031160" y="4748040"/>
              <a:ext cx="1805040" cy="873000"/>
              <a:chOff x="7031160" y="4748040"/>
              <a:chExt cx="1805040" cy="873000"/>
            </a:xfrm>
          </p:grpSpPr>
          <p:sp>
            <p:nvSpPr>
              <p:cNvPr id="399" name="Oval 66"/>
              <p:cNvSpPr/>
              <p:nvPr/>
            </p:nvSpPr>
            <p:spPr>
              <a:xfrm>
                <a:off x="7108200" y="4748040"/>
                <a:ext cx="1728000" cy="849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67"/>
              <p:cNvSpPr/>
              <p:nvPr/>
            </p:nvSpPr>
            <p:spPr>
              <a:xfrm>
                <a:off x="7031160" y="4960440"/>
                <a:ext cx="180504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69"/>
            <p:cNvSpPr/>
            <p:nvPr/>
          </p:nvSpPr>
          <p:spPr>
            <a:xfrm flipV="1">
              <a:off x="6197760" y="4322880"/>
              <a:ext cx="0" cy="4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 flipH="1" flipV="1">
              <a:off x="7031160" y="4110480"/>
              <a:ext cx="694080" cy="63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9"/>
            <p:cNvSpPr/>
            <p:nvPr/>
          </p:nvSpPr>
          <p:spPr>
            <a:xfrm flipV="1">
              <a:off x="5231160" y="4316040"/>
              <a:ext cx="4118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Slide Number Placeholder 6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3E3-C601-49FA-A367-D196549D33C8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Oval 69"/>
          <p:cNvSpPr/>
          <p:nvPr/>
        </p:nvSpPr>
        <p:spPr>
          <a:xfrm>
            <a:off x="6610320" y="223920"/>
            <a:ext cx="1308240" cy="780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3"/>
          <p:cNvGrpSpPr/>
          <p:nvPr/>
        </p:nvGrpSpPr>
        <p:grpSpPr>
          <a:xfrm>
            <a:off x="5641920" y="4270320"/>
            <a:ext cx="2863440" cy="2264760"/>
            <a:chOff x="5641920" y="4270320"/>
            <a:chExt cx="2863440" cy="2264760"/>
          </a:xfrm>
        </p:grpSpPr>
        <p:grpSp>
          <p:nvGrpSpPr>
            <p:cNvPr id="407" name="Group 24"/>
            <p:cNvGrpSpPr/>
            <p:nvPr/>
          </p:nvGrpSpPr>
          <p:grpSpPr>
            <a:xfrm>
              <a:off x="5641920" y="4270320"/>
              <a:ext cx="1244880" cy="1019520"/>
              <a:chOff x="5641920" y="4270320"/>
              <a:chExt cx="1244880" cy="1019520"/>
            </a:xfrm>
          </p:grpSpPr>
          <p:sp>
            <p:nvSpPr>
              <p:cNvPr id="408" name="Rectangle 25"/>
              <p:cNvSpPr/>
              <p:nvPr/>
            </p:nvSpPr>
            <p:spPr>
              <a:xfrm>
                <a:off x="5641920" y="4270320"/>
                <a:ext cx="1244880" cy="101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26"/>
              <p:cNvSpPr/>
              <p:nvPr/>
            </p:nvSpPr>
            <p:spPr>
              <a:xfrm>
                <a:off x="5890680" y="4519440"/>
                <a:ext cx="747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0"/>
            <p:cNvGrpSpPr/>
            <p:nvPr/>
          </p:nvGrpSpPr>
          <p:grpSpPr>
            <a:xfrm>
              <a:off x="5641920" y="5697360"/>
              <a:ext cx="1120320" cy="815400"/>
              <a:chOff x="5641920" y="5697360"/>
              <a:chExt cx="1120320" cy="815400"/>
            </a:xfrm>
          </p:grpSpPr>
          <p:sp>
            <p:nvSpPr>
              <p:cNvPr id="411" name="Oval 31"/>
              <p:cNvSpPr/>
              <p:nvPr/>
            </p:nvSpPr>
            <p:spPr>
              <a:xfrm>
                <a:off x="5711040" y="5697360"/>
                <a:ext cx="99612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32"/>
              <p:cNvSpPr/>
              <p:nvPr/>
            </p:nvSpPr>
            <p:spPr>
              <a:xfrm>
                <a:off x="5641920" y="5901120"/>
                <a:ext cx="112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33"/>
            <p:cNvGrpSpPr/>
            <p:nvPr/>
          </p:nvGrpSpPr>
          <p:grpSpPr>
            <a:xfrm>
              <a:off x="6886800" y="5697360"/>
              <a:ext cx="1618560" cy="837720"/>
              <a:chOff x="6886800" y="5697360"/>
              <a:chExt cx="1618560" cy="837720"/>
            </a:xfrm>
          </p:grpSpPr>
          <p:sp>
            <p:nvSpPr>
              <p:cNvPr id="414" name="Oval 34"/>
              <p:cNvSpPr/>
              <p:nvPr/>
            </p:nvSpPr>
            <p:spPr>
              <a:xfrm>
                <a:off x="6955920" y="5697360"/>
                <a:ext cx="154944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35"/>
              <p:cNvSpPr/>
              <p:nvPr/>
            </p:nvSpPr>
            <p:spPr>
              <a:xfrm>
                <a:off x="6886800" y="5901120"/>
                <a:ext cx="1618560" cy="6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Line 37"/>
            <p:cNvSpPr/>
            <p:nvPr/>
          </p:nvSpPr>
          <p:spPr>
            <a:xfrm flipV="1">
              <a:off x="6139800" y="5289840"/>
              <a:ext cx="0" cy="4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8"/>
            <p:cNvSpPr/>
            <p:nvPr/>
          </p:nvSpPr>
          <p:spPr>
            <a:xfrm flipH="1" flipV="1">
              <a:off x="6886440" y="5085360"/>
              <a:ext cx="622440" cy="6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39"/>
          <p:cNvGrpSpPr/>
          <p:nvPr/>
        </p:nvGrpSpPr>
        <p:grpSpPr>
          <a:xfrm>
            <a:off x="4179960" y="477720"/>
            <a:ext cx="4822560" cy="2842920"/>
            <a:chOff x="4179960" y="477720"/>
            <a:chExt cx="4822560" cy="2842920"/>
          </a:xfrm>
        </p:grpSpPr>
        <p:grpSp>
          <p:nvGrpSpPr>
            <p:cNvPr id="419" name="Group 40"/>
            <p:cNvGrpSpPr/>
            <p:nvPr/>
          </p:nvGrpSpPr>
          <p:grpSpPr>
            <a:xfrm>
              <a:off x="5329080" y="477720"/>
              <a:ext cx="3673440" cy="2842920"/>
              <a:chOff x="5329080" y="477720"/>
              <a:chExt cx="3673440" cy="2842920"/>
            </a:xfrm>
          </p:grpSpPr>
          <p:grpSp>
            <p:nvGrpSpPr>
              <p:cNvPr id="420" name="Group 41"/>
              <p:cNvGrpSpPr/>
              <p:nvPr/>
            </p:nvGrpSpPr>
            <p:grpSpPr>
              <a:xfrm>
                <a:off x="6609600" y="1689120"/>
                <a:ext cx="1244520" cy="1019520"/>
                <a:chOff x="6609600" y="1689120"/>
                <a:chExt cx="1244520" cy="1019520"/>
              </a:xfrm>
            </p:grpSpPr>
            <p:sp>
              <p:nvSpPr>
                <p:cNvPr id="421" name="Rectangle 42"/>
                <p:cNvSpPr/>
                <p:nvPr/>
              </p:nvSpPr>
              <p:spPr>
                <a:xfrm>
                  <a:off x="6609600" y="1689120"/>
                  <a:ext cx="1244520" cy="10195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43"/>
                <p:cNvSpPr/>
                <p:nvPr/>
              </p:nvSpPr>
              <p:spPr>
                <a:xfrm>
                  <a:off x="6858360" y="1938240"/>
                  <a:ext cx="7466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Group 44"/>
              <p:cNvGrpSpPr/>
              <p:nvPr/>
            </p:nvGrpSpPr>
            <p:grpSpPr>
              <a:xfrm>
                <a:off x="5503320" y="477720"/>
                <a:ext cx="2357640" cy="2842920"/>
                <a:chOff x="5503320" y="477720"/>
                <a:chExt cx="2357640" cy="2842920"/>
              </a:xfrm>
            </p:grpSpPr>
            <p:sp>
              <p:nvSpPr>
                <p:cNvPr id="424" name="Text Box 46"/>
                <p:cNvSpPr/>
                <p:nvPr/>
              </p:nvSpPr>
              <p:spPr>
                <a:xfrm>
                  <a:off x="6634800" y="477720"/>
                  <a:ext cx="1226160" cy="5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رق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5503320" y="2504880"/>
                  <a:ext cx="995760" cy="81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Group 47"/>
              <p:cNvGrpSpPr/>
              <p:nvPr/>
            </p:nvGrpSpPr>
            <p:grpSpPr>
              <a:xfrm>
                <a:off x="5329080" y="734760"/>
                <a:ext cx="1120320" cy="815760"/>
                <a:chOff x="5329080" y="734760"/>
                <a:chExt cx="1120320" cy="815760"/>
              </a:xfrm>
            </p:grpSpPr>
            <p:sp>
              <p:nvSpPr>
                <p:cNvPr id="427" name="Oval 48"/>
                <p:cNvSpPr/>
                <p:nvPr/>
              </p:nvSpPr>
              <p:spPr>
                <a:xfrm>
                  <a:off x="5393160" y="734760"/>
                  <a:ext cx="995760" cy="8157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Text Box 49"/>
                <p:cNvSpPr/>
                <p:nvPr/>
              </p:nvSpPr>
              <p:spPr>
                <a:xfrm>
                  <a:off x="5329080" y="963360"/>
                  <a:ext cx="112032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س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56"/>
              <p:cNvGrpSpPr/>
              <p:nvPr/>
            </p:nvGrpSpPr>
            <p:grpSpPr>
              <a:xfrm>
                <a:off x="7882200" y="1076760"/>
                <a:ext cx="1120320" cy="815760"/>
                <a:chOff x="7882200" y="1076760"/>
                <a:chExt cx="1120320" cy="815760"/>
              </a:xfrm>
            </p:grpSpPr>
            <p:sp>
              <p:nvSpPr>
                <p:cNvPr id="430" name="Oval 57"/>
                <p:cNvSpPr/>
                <p:nvPr/>
              </p:nvSpPr>
              <p:spPr>
                <a:xfrm>
                  <a:off x="7951320" y="1076760"/>
                  <a:ext cx="996120" cy="81576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Text Box 58"/>
                <p:cNvSpPr/>
                <p:nvPr/>
              </p:nvSpPr>
              <p:spPr>
                <a:xfrm>
                  <a:off x="7882200" y="1189800"/>
                  <a:ext cx="112032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رقم الهات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Line 59"/>
              <p:cNvSpPr/>
              <p:nvPr/>
            </p:nvSpPr>
            <p:spPr>
              <a:xfrm flipV="1">
                <a:off x="7232040" y="1073160"/>
                <a:ext cx="35280" cy="61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0"/>
              <p:cNvSpPr/>
              <p:nvPr/>
            </p:nvSpPr>
            <p:spPr>
              <a:xfrm>
                <a:off x="6388920" y="1258200"/>
                <a:ext cx="373320" cy="45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63"/>
              <p:cNvSpPr/>
              <p:nvPr/>
            </p:nvSpPr>
            <p:spPr>
              <a:xfrm flipH="1">
                <a:off x="7854120" y="1892880"/>
                <a:ext cx="373320" cy="20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Oval 64"/>
            <p:cNvSpPr/>
            <p:nvPr/>
          </p:nvSpPr>
          <p:spPr>
            <a:xfrm>
              <a:off x="4252320" y="1258200"/>
              <a:ext cx="871200" cy="61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"/>
            <p:cNvSpPr/>
            <p:nvPr/>
          </p:nvSpPr>
          <p:spPr>
            <a:xfrm flipV="1">
              <a:off x="5123880" y="1381680"/>
              <a:ext cx="379440" cy="19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6"/>
            <p:cNvSpPr/>
            <p:nvPr/>
          </p:nvSpPr>
          <p:spPr>
            <a:xfrm flipV="1">
              <a:off x="5051160" y="1550520"/>
              <a:ext cx="660240" cy="65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67"/>
            <p:cNvSpPr/>
            <p:nvPr/>
          </p:nvSpPr>
          <p:spPr>
            <a:xfrm>
              <a:off x="4179960" y="2050200"/>
              <a:ext cx="871200" cy="61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68"/>
            <p:cNvSpPr/>
            <p:nvPr/>
          </p:nvSpPr>
          <p:spPr>
            <a:xfrm flipV="1">
              <a:off x="5711400" y="1581120"/>
              <a:ext cx="214200" cy="66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69"/>
            <p:cNvSpPr/>
            <p:nvPr/>
          </p:nvSpPr>
          <p:spPr>
            <a:xfrm>
              <a:off x="5275800" y="2246400"/>
              <a:ext cx="871200" cy="61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71"/>
          <p:cNvGrpSpPr/>
          <p:nvPr/>
        </p:nvGrpSpPr>
        <p:grpSpPr>
          <a:xfrm>
            <a:off x="307800" y="1957320"/>
            <a:ext cx="2852640" cy="3332160"/>
            <a:chOff x="307800" y="1957320"/>
            <a:chExt cx="2852640" cy="3332160"/>
          </a:xfrm>
        </p:grpSpPr>
        <p:grpSp>
          <p:nvGrpSpPr>
            <p:cNvPr id="442" name="Group 72"/>
            <p:cNvGrpSpPr/>
            <p:nvPr/>
          </p:nvGrpSpPr>
          <p:grpSpPr>
            <a:xfrm>
              <a:off x="1764360" y="2976480"/>
              <a:ext cx="1380960" cy="1019160"/>
              <a:chOff x="1764360" y="2976480"/>
              <a:chExt cx="1380960" cy="1019160"/>
            </a:xfrm>
          </p:grpSpPr>
          <p:sp>
            <p:nvSpPr>
              <p:cNvPr id="443" name="Rectangle 73"/>
              <p:cNvSpPr/>
              <p:nvPr/>
            </p:nvSpPr>
            <p:spPr>
              <a:xfrm>
                <a:off x="1764360" y="2976480"/>
                <a:ext cx="1380960" cy="1019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74"/>
              <p:cNvSpPr/>
              <p:nvPr/>
            </p:nvSpPr>
            <p:spPr>
              <a:xfrm>
                <a:off x="2025000" y="3225240"/>
                <a:ext cx="82872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75"/>
            <p:cNvGrpSpPr/>
            <p:nvPr/>
          </p:nvGrpSpPr>
          <p:grpSpPr>
            <a:xfrm>
              <a:off x="1902600" y="1957320"/>
              <a:ext cx="1242720" cy="815400"/>
              <a:chOff x="1902600" y="1957320"/>
              <a:chExt cx="1242720" cy="815400"/>
            </a:xfrm>
          </p:grpSpPr>
          <p:sp>
            <p:nvSpPr>
              <p:cNvPr id="446" name="Oval 76"/>
              <p:cNvSpPr/>
              <p:nvPr/>
            </p:nvSpPr>
            <p:spPr>
              <a:xfrm>
                <a:off x="1979280" y="1957320"/>
                <a:ext cx="1104840" cy="81540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77"/>
              <p:cNvSpPr/>
              <p:nvPr/>
            </p:nvSpPr>
            <p:spPr>
              <a:xfrm>
                <a:off x="1902600" y="2070360"/>
                <a:ext cx="124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رقم الهات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78"/>
            <p:cNvGrpSpPr/>
            <p:nvPr/>
          </p:nvGrpSpPr>
          <p:grpSpPr>
            <a:xfrm>
              <a:off x="1979280" y="4474080"/>
              <a:ext cx="1181160" cy="815400"/>
              <a:chOff x="1979280" y="4474080"/>
              <a:chExt cx="1181160" cy="815400"/>
            </a:xfrm>
          </p:grpSpPr>
          <p:sp>
            <p:nvSpPr>
              <p:cNvPr id="449" name="Oval 79"/>
              <p:cNvSpPr/>
              <p:nvPr/>
            </p:nvSpPr>
            <p:spPr>
              <a:xfrm>
                <a:off x="1994760" y="4474080"/>
                <a:ext cx="1104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80"/>
              <p:cNvSpPr/>
              <p:nvPr/>
            </p:nvSpPr>
            <p:spPr>
              <a:xfrm>
                <a:off x="1979280" y="4655160"/>
                <a:ext cx="11811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81"/>
            <p:cNvGrpSpPr/>
            <p:nvPr/>
          </p:nvGrpSpPr>
          <p:grpSpPr>
            <a:xfrm>
              <a:off x="376560" y="3996000"/>
              <a:ext cx="1242720" cy="815400"/>
              <a:chOff x="376560" y="3996000"/>
              <a:chExt cx="1242720" cy="815400"/>
            </a:xfrm>
          </p:grpSpPr>
          <p:sp>
            <p:nvSpPr>
              <p:cNvPr id="452" name="Oval 82"/>
              <p:cNvSpPr/>
              <p:nvPr/>
            </p:nvSpPr>
            <p:spPr>
              <a:xfrm>
                <a:off x="390960" y="3996000"/>
                <a:ext cx="1104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83"/>
              <p:cNvSpPr/>
              <p:nvPr/>
            </p:nvSpPr>
            <p:spPr>
              <a:xfrm>
                <a:off x="376560" y="4142880"/>
                <a:ext cx="124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84"/>
            <p:cNvGrpSpPr/>
            <p:nvPr/>
          </p:nvGrpSpPr>
          <p:grpSpPr>
            <a:xfrm>
              <a:off x="307800" y="2863440"/>
              <a:ext cx="1257120" cy="815400"/>
              <a:chOff x="307800" y="2863440"/>
              <a:chExt cx="1257120" cy="815400"/>
            </a:xfrm>
          </p:grpSpPr>
          <p:sp>
            <p:nvSpPr>
              <p:cNvPr id="455" name="Oval 85"/>
              <p:cNvSpPr/>
              <p:nvPr/>
            </p:nvSpPr>
            <p:spPr>
              <a:xfrm>
                <a:off x="307800" y="2863440"/>
                <a:ext cx="110484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86"/>
              <p:cNvSpPr/>
              <p:nvPr/>
            </p:nvSpPr>
            <p:spPr>
              <a:xfrm>
                <a:off x="322200" y="3067200"/>
                <a:ext cx="124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Line 93"/>
            <p:cNvSpPr/>
            <p:nvPr/>
          </p:nvSpPr>
          <p:spPr>
            <a:xfrm flipV="1">
              <a:off x="2553120" y="3995640"/>
              <a:ext cx="1656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94"/>
            <p:cNvSpPr/>
            <p:nvPr/>
          </p:nvSpPr>
          <p:spPr>
            <a:xfrm flipV="1">
              <a:off x="1412280" y="3996000"/>
              <a:ext cx="3520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95"/>
            <p:cNvSpPr/>
            <p:nvPr/>
          </p:nvSpPr>
          <p:spPr>
            <a:xfrm>
              <a:off x="1427040" y="3282480"/>
              <a:ext cx="337320" cy="1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98"/>
            <p:cNvSpPr/>
            <p:nvPr/>
          </p:nvSpPr>
          <p:spPr>
            <a:xfrm flipH="1">
              <a:off x="2454480" y="2772720"/>
              <a:ext cx="1378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Oval 63"/>
          <p:cNvSpPr/>
          <p:nvPr/>
        </p:nvSpPr>
        <p:spPr>
          <a:xfrm>
            <a:off x="4218120" y="5697360"/>
            <a:ext cx="1038240" cy="63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4"/>
          <p:cNvSpPr/>
          <p:nvPr/>
        </p:nvSpPr>
        <p:spPr>
          <a:xfrm>
            <a:off x="4175280" y="5854680"/>
            <a:ext cx="102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 u="sng">
                <a:solidFill>
                  <a:srgbClr val="000000"/>
                </a:solidFill>
                <a:uFillTx/>
                <a:latin typeface="Arial"/>
              </a:rPr>
              <a:t>رقم الدو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9"/>
          <p:cNvSpPr/>
          <p:nvPr/>
        </p:nvSpPr>
        <p:spPr>
          <a:xfrm flipV="1">
            <a:off x="5064120" y="5311440"/>
            <a:ext cx="550800" cy="41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8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28AE-3886-4CF9-8B4B-A28B885FA30D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"/>
          <p:cNvSpPr/>
          <p:nvPr/>
        </p:nvSpPr>
        <p:spPr>
          <a:xfrm>
            <a:off x="285840" y="1989000"/>
            <a:ext cx="8643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. تحديد العلاقات بين الكيانات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وضع العلاقات التي تربط بين الكيانات الموجودة لدي ثم تحديد نوع العلا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B654-FA1C-448E-A4A3-4395831407F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3"/>
          <p:cNvGrpSpPr/>
          <p:nvPr/>
        </p:nvGrpSpPr>
        <p:grpSpPr>
          <a:xfrm>
            <a:off x="6483240" y="4327560"/>
            <a:ext cx="2660760" cy="2264760"/>
            <a:chOff x="6483240" y="4327560"/>
            <a:chExt cx="2660760" cy="2264760"/>
          </a:xfrm>
        </p:grpSpPr>
        <p:grpSp>
          <p:nvGrpSpPr>
            <p:cNvPr id="468" name="Group 24"/>
            <p:cNvGrpSpPr/>
            <p:nvPr/>
          </p:nvGrpSpPr>
          <p:grpSpPr>
            <a:xfrm>
              <a:off x="6483240" y="4327560"/>
              <a:ext cx="1244880" cy="1019520"/>
              <a:chOff x="6483240" y="4327560"/>
              <a:chExt cx="1244880" cy="1019520"/>
            </a:xfrm>
          </p:grpSpPr>
          <p:sp>
            <p:nvSpPr>
              <p:cNvPr id="469" name="Rectangle 25"/>
              <p:cNvSpPr/>
              <p:nvPr/>
            </p:nvSpPr>
            <p:spPr>
              <a:xfrm>
                <a:off x="6483240" y="4327560"/>
                <a:ext cx="1244880" cy="101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26"/>
              <p:cNvSpPr/>
              <p:nvPr/>
            </p:nvSpPr>
            <p:spPr>
              <a:xfrm>
                <a:off x="6732000" y="4576680"/>
                <a:ext cx="747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30"/>
            <p:cNvGrpSpPr/>
            <p:nvPr/>
          </p:nvGrpSpPr>
          <p:grpSpPr>
            <a:xfrm>
              <a:off x="6483240" y="5754600"/>
              <a:ext cx="1120320" cy="815400"/>
              <a:chOff x="6483240" y="5754600"/>
              <a:chExt cx="1120320" cy="815400"/>
            </a:xfrm>
          </p:grpSpPr>
          <p:sp>
            <p:nvSpPr>
              <p:cNvPr id="472" name="Oval 31"/>
              <p:cNvSpPr/>
              <p:nvPr/>
            </p:nvSpPr>
            <p:spPr>
              <a:xfrm>
                <a:off x="6552360" y="5754600"/>
                <a:ext cx="99612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32"/>
              <p:cNvSpPr/>
              <p:nvPr/>
            </p:nvSpPr>
            <p:spPr>
              <a:xfrm>
                <a:off x="6483240" y="5958360"/>
                <a:ext cx="112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33"/>
            <p:cNvGrpSpPr/>
            <p:nvPr/>
          </p:nvGrpSpPr>
          <p:grpSpPr>
            <a:xfrm>
              <a:off x="7728120" y="5754600"/>
              <a:ext cx="1415880" cy="837720"/>
              <a:chOff x="7728120" y="5754600"/>
              <a:chExt cx="1415880" cy="837720"/>
            </a:xfrm>
          </p:grpSpPr>
          <p:sp>
            <p:nvSpPr>
              <p:cNvPr id="475" name="Oval 34"/>
              <p:cNvSpPr/>
              <p:nvPr/>
            </p:nvSpPr>
            <p:spPr>
              <a:xfrm>
                <a:off x="7797240" y="5754600"/>
                <a:ext cx="1113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35"/>
              <p:cNvSpPr/>
              <p:nvPr/>
            </p:nvSpPr>
            <p:spPr>
              <a:xfrm>
                <a:off x="7728120" y="5958360"/>
                <a:ext cx="1415880" cy="6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Line 37"/>
            <p:cNvSpPr/>
            <p:nvPr/>
          </p:nvSpPr>
          <p:spPr>
            <a:xfrm flipV="1">
              <a:off x="6981120" y="5347080"/>
              <a:ext cx="0" cy="4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 flipH="1" flipV="1">
              <a:off x="7727760" y="5142600"/>
              <a:ext cx="622440" cy="6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9"/>
          <p:cNvGrpSpPr/>
          <p:nvPr/>
        </p:nvGrpSpPr>
        <p:grpSpPr>
          <a:xfrm>
            <a:off x="4021200" y="206280"/>
            <a:ext cx="4942800" cy="2163600"/>
            <a:chOff x="4021200" y="206280"/>
            <a:chExt cx="4942800" cy="2163600"/>
          </a:xfrm>
        </p:grpSpPr>
        <p:grpSp>
          <p:nvGrpSpPr>
            <p:cNvPr id="480" name="Group 40"/>
            <p:cNvGrpSpPr/>
            <p:nvPr/>
          </p:nvGrpSpPr>
          <p:grpSpPr>
            <a:xfrm>
              <a:off x="5400720" y="206280"/>
              <a:ext cx="3563280" cy="1766520"/>
              <a:chOff x="5400720" y="206280"/>
              <a:chExt cx="3563280" cy="1766520"/>
            </a:xfrm>
          </p:grpSpPr>
          <p:grpSp>
            <p:nvGrpSpPr>
              <p:cNvPr id="481" name="Group 41"/>
              <p:cNvGrpSpPr/>
              <p:nvPr/>
            </p:nvGrpSpPr>
            <p:grpSpPr>
              <a:xfrm>
                <a:off x="6655680" y="1079640"/>
                <a:ext cx="1200960" cy="893160"/>
                <a:chOff x="6655680" y="1079640"/>
                <a:chExt cx="1200960" cy="893160"/>
              </a:xfrm>
            </p:grpSpPr>
            <p:sp>
              <p:nvSpPr>
                <p:cNvPr id="482" name="Rectangle 42"/>
                <p:cNvSpPr/>
                <p:nvPr/>
              </p:nvSpPr>
              <p:spPr>
                <a:xfrm>
                  <a:off x="6655680" y="1079640"/>
                  <a:ext cx="1200960" cy="893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43"/>
                <p:cNvSpPr/>
                <p:nvPr/>
              </p:nvSpPr>
              <p:spPr>
                <a:xfrm>
                  <a:off x="6895800" y="1297800"/>
                  <a:ext cx="720720" cy="61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Group 47"/>
              <p:cNvGrpSpPr/>
              <p:nvPr/>
            </p:nvGrpSpPr>
            <p:grpSpPr>
              <a:xfrm>
                <a:off x="5400720" y="1079640"/>
                <a:ext cx="1080720" cy="714600"/>
                <a:chOff x="5400720" y="1079640"/>
                <a:chExt cx="1080720" cy="714600"/>
              </a:xfrm>
            </p:grpSpPr>
            <p:sp>
              <p:nvSpPr>
                <p:cNvPr id="485" name="Oval 48"/>
                <p:cNvSpPr/>
                <p:nvPr/>
              </p:nvSpPr>
              <p:spPr>
                <a:xfrm>
                  <a:off x="5454720" y="1079640"/>
                  <a:ext cx="96048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Text Box 49"/>
                <p:cNvSpPr/>
                <p:nvPr/>
              </p:nvSpPr>
              <p:spPr>
                <a:xfrm>
                  <a:off x="5400720" y="125604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س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53"/>
              <p:cNvGrpSpPr/>
              <p:nvPr/>
            </p:nvGrpSpPr>
            <p:grpSpPr>
              <a:xfrm>
                <a:off x="6682320" y="206280"/>
                <a:ext cx="1080720" cy="714600"/>
                <a:chOff x="6682320" y="206280"/>
                <a:chExt cx="1080720" cy="714600"/>
              </a:xfrm>
            </p:grpSpPr>
            <p:sp>
              <p:nvSpPr>
                <p:cNvPr id="488" name="Oval 54"/>
                <p:cNvSpPr/>
                <p:nvPr/>
              </p:nvSpPr>
              <p:spPr>
                <a:xfrm>
                  <a:off x="6748920" y="20628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55"/>
                <p:cNvSpPr/>
                <p:nvPr/>
              </p:nvSpPr>
              <p:spPr>
                <a:xfrm>
                  <a:off x="6682320" y="30528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رق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Group 56"/>
              <p:cNvGrpSpPr/>
              <p:nvPr/>
            </p:nvGrpSpPr>
            <p:grpSpPr>
              <a:xfrm>
                <a:off x="7883280" y="543600"/>
                <a:ext cx="1080720" cy="714600"/>
                <a:chOff x="7883280" y="543600"/>
                <a:chExt cx="1080720" cy="714600"/>
              </a:xfrm>
            </p:grpSpPr>
            <p:sp>
              <p:nvSpPr>
                <p:cNvPr id="491" name="Oval 57"/>
                <p:cNvSpPr/>
                <p:nvPr/>
              </p:nvSpPr>
              <p:spPr>
                <a:xfrm>
                  <a:off x="7949880" y="54360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58"/>
                <p:cNvSpPr/>
                <p:nvPr/>
              </p:nvSpPr>
              <p:spPr>
                <a:xfrm>
                  <a:off x="7883280" y="64260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رقم الهات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Line 60"/>
              <p:cNvSpPr/>
              <p:nvPr/>
            </p:nvSpPr>
            <p:spPr>
              <a:xfrm>
                <a:off x="6415560" y="1437120"/>
                <a:ext cx="24012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62"/>
              <p:cNvSpPr/>
              <p:nvPr/>
            </p:nvSpPr>
            <p:spPr>
              <a:xfrm>
                <a:off x="7256160" y="901080"/>
                <a:ext cx="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63"/>
              <p:cNvSpPr/>
              <p:nvPr/>
            </p:nvSpPr>
            <p:spPr>
              <a:xfrm flipH="1">
                <a:off x="7856640" y="1258200"/>
                <a:ext cx="36000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Oval 64"/>
            <p:cNvSpPr/>
            <p:nvPr/>
          </p:nvSpPr>
          <p:spPr>
            <a:xfrm>
              <a:off x="4381200" y="70236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65"/>
            <p:cNvSpPr/>
            <p:nvPr/>
          </p:nvSpPr>
          <p:spPr>
            <a:xfrm>
              <a:off x="5222160" y="980640"/>
              <a:ext cx="4003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6"/>
            <p:cNvSpPr/>
            <p:nvPr/>
          </p:nvSpPr>
          <p:spPr>
            <a:xfrm>
              <a:off x="4861800" y="1456920"/>
              <a:ext cx="60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4021200" y="12186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68"/>
            <p:cNvSpPr/>
            <p:nvPr/>
          </p:nvSpPr>
          <p:spPr>
            <a:xfrm flipV="1">
              <a:off x="5088600" y="1595880"/>
              <a:ext cx="413640" cy="41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274640" y="18342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71"/>
          <p:cNvGrpSpPr/>
          <p:nvPr/>
        </p:nvGrpSpPr>
        <p:grpSpPr>
          <a:xfrm>
            <a:off x="420840" y="3147840"/>
            <a:ext cx="2850840" cy="3332160"/>
            <a:chOff x="420840" y="3147840"/>
            <a:chExt cx="2850840" cy="3332160"/>
          </a:xfrm>
        </p:grpSpPr>
        <p:grpSp>
          <p:nvGrpSpPr>
            <p:cNvPr id="503" name="Group 72"/>
            <p:cNvGrpSpPr/>
            <p:nvPr/>
          </p:nvGrpSpPr>
          <p:grpSpPr>
            <a:xfrm>
              <a:off x="1876320" y="4167000"/>
              <a:ext cx="1379880" cy="1019160"/>
              <a:chOff x="1876320" y="4167000"/>
              <a:chExt cx="1379880" cy="1019160"/>
            </a:xfrm>
          </p:grpSpPr>
          <p:sp>
            <p:nvSpPr>
              <p:cNvPr id="504" name="Rectangle 73"/>
              <p:cNvSpPr/>
              <p:nvPr/>
            </p:nvSpPr>
            <p:spPr>
              <a:xfrm>
                <a:off x="1876320" y="4167000"/>
                <a:ext cx="1379880" cy="1019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74"/>
              <p:cNvSpPr/>
              <p:nvPr/>
            </p:nvSpPr>
            <p:spPr>
              <a:xfrm>
                <a:off x="2136960" y="4415760"/>
                <a:ext cx="8280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75"/>
            <p:cNvGrpSpPr/>
            <p:nvPr/>
          </p:nvGrpSpPr>
          <p:grpSpPr>
            <a:xfrm>
              <a:off x="2014560" y="3147840"/>
              <a:ext cx="1241640" cy="815400"/>
              <a:chOff x="2014560" y="3147840"/>
              <a:chExt cx="1241640" cy="815400"/>
            </a:xfrm>
          </p:grpSpPr>
          <p:sp>
            <p:nvSpPr>
              <p:cNvPr id="507" name="Oval 76"/>
              <p:cNvSpPr/>
              <p:nvPr/>
            </p:nvSpPr>
            <p:spPr>
              <a:xfrm>
                <a:off x="2090880" y="314784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 Box 77"/>
              <p:cNvSpPr/>
              <p:nvPr/>
            </p:nvSpPr>
            <p:spPr>
              <a:xfrm>
                <a:off x="2014560" y="326088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رقم الهات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78"/>
            <p:cNvGrpSpPr/>
            <p:nvPr/>
          </p:nvGrpSpPr>
          <p:grpSpPr>
            <a:xfrm>
              <a:off x="2091240" y="5664600"/>
              <a:ext cx="1180440" cy="815400"/>
              <a:chOff x="2091240" y="5664600"/>
              <a:chExt cx="1180440" cy="815400"/>
            </a:xfrm>
          </p:grpSpPr>
          <p:sp>
            <p:nvSpPr>
              <p:cNvPr id="510" name="Oval 79"/>
              <p:cNvSpPr/>
              <p:nvPr/>
            </p:nvSpPr>
            <p:spPr>
              <a:xfrm>
                <a:off x="2106360" y="56646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80"/>
              <p:cNvSpPr/>
              <p:nvPr/>
            </p:nvSpPr>
            <p:spPr>
              <a:xfrm>
                <a:off x="2091240" y="5845680"/>
                <a:ext cx="118044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81"/>
            <p:cNvGrpSpPr/>
            <p:nvPr/>
          </p:nvGrpSpPr>
          <p:grpSpPr>
            <a:xfrm>
              <a:off x="634680" y="4982400"/>
              <a:ext cx="1241640" cy="815400"/>
              <a:chOff x="634680" y="4982400"/>
              <a:chExt cx="1241640" cy="815400"/>
            </a:xfrm>
          </p:grpSpPr>
          <p:sp>
            <p:nvSpPr>
              <p:cNvPr id="513" name="Oval 82"/>
              <p:cNvSpPr/>
              <p:nvPr/>
            </p:nvSpPr>
            <p:spPr>
              <a:xfrm>
                <a:off x="711000" y="49824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83"/>
              <p:cNvSpPr/>
              <p:nvPr/>
            </p:nvSpPr>
            <p:spPr>
              <a:xfrm>
                <a:off x="634680" y="509544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84"/>
            <p:cNvGrpSpPr/>
            <p:nvPr/>
          </p:nvGrpSpPr>
          <p:grpSpPr>
            <a:xfrm>
              <a:off x="420840" y="4053960"/>
              <a:ext cx="1256040" cy="815400"/>
              <a:chOff x="420840" y="4053960"/>
              <a:chExt cx="1256040" cy="815400"/>
            </a:xfrm>
          </p:grpSpPr>
          <p:sp>
            <p:nvSpPr>
              <p:cNvPr id="516" name="Oval 85"/>
              <p:cNvSpPr/>
              <p:nvPr/>
            </p:nvSpPr>
            <p:spPr>
              <a:xfrm>
                <a:off x="420840" y="405396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86"/>
              <p:cNvSpPr/>
              <p:nvPr/>
            </p:nvSpPr>
            <p:spPr>
              <a:xfrm>
                <a:off x="435240" y="425772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Line 93"/>
            <p:cNvSpPr/>
            <p:nvPr/>
          </p:nvSpPr>
          <p:spPr>
            <a:xfrm flipV="1">
              <a:off x="2664720" y="5186160"/>
              <a:ext cx="1656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94"/>
            <p:cNvSpPr/>
            <p:nvPr/>
          </p:nvSpPr>
          <p:spPr>
            <a:xfrm flipV="1">
              <a:off x="1462680" y="4778640"/>
              <a:ext cx="41364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95"/>
            <p:cNvSpPr/>
            <p:nvPr/>
          </p:nvSpPr>
          <p:spPr>
            <a:xfrm>
              <a:off x="1539000" y="4473000"/>
              <a:ext cx="336960" cy="1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98"/>
            <p:cNvSpPr/>
            <p:nvPr/>
          </p:nvSpPr>
          <p:spPr>
            <a:xfrm flipH="1">
              <a:off x="2566080" y="3963240"/>
              <a:ext cx="1378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Oval 63"/>
          <p:cNvSpPr/>
          <p:nvPr/>
        </p:nvSpPr>
        <p:spPr>
          <a:xfrm>
            <a:off x="5078520" y="5721480"/>
            <a:ext cx="1038240" cy="63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4"/>
          <p:cNvSpPr/>
          <p:nvPr/>
        </p:nvSpPr>
        <p:spPr>
          <a:xfrm>
            <a:off x="5027760" y="5818320"/>
            <a:ext cx="102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 u="sng">
                <a:solidFill>
                  <a:srgbClr val="000000"/>
                </a:solidFill>
                <a:uFillTx/>
                <a:latin typeface="Arial"/>
              </a:rPr>
              <a:t>رقم الدو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9"/>
          <p:cNvSpPr/>
          <p:nvPr/>
        </p:nvSpPr>
        <p:spPr>
          <a:xfrm flipV="1">
            <a:off x="5940360" y="5332320"/>
            <a:ext cx="52236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8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EEA-0499-49A8-A232-1348357CC632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مجموعة 3"/>
          <p:cNvGrpSpPr/>
          <p:nvPr/>
        </p:nvGrpSpPr>
        <p:grpSpPr>
          <a:xfrm>
            <a:off x="6734160" y="1973160"/>
            <a:ext cx="934920" cy="2378160"/>
            <a:chOff x="6734160" y="1973160"/>
            <a:chExt cx="934920" cy="2378160"/>
          </a:xfrm>
        </p:grpSpPr>
        <p:grpSp>
          <p:nvGrpSpPr>
            <p:cNvPr id="527" name="مجموعة 2"/>
            <p:cNvGrpSpPr/>
            <p:nvPr/>
          </p:nvGrpSpPr>
          <p:grpSpPr>
            <a:xfrm>
              <a:off x="6734160" y="3004200"/>
              <a:ext cx="934920" cy="791280"/>
              <a:chOff x="6734160" y="3004200"/>
              <a:chExt cx="934920" cy="791280"/>
            </a:xfrm>
          </p:grpSpPr>
          <p:sp>
            <p:nvSpPr>
              <p:cNvPr id="528" name="AutoShape 106"/>
              <p:cNvSpPr/>
              <p:nvPr/>
            </p:nvSpPr>
            <p:spPr>
              <a:xfrm>
                <a:off x="6734160" y="3004200"/>
                <a:ext cx="934920" cy="791280"/>
              </a:xfrm>
              <a:prstGeom prst="diamond">
                <a:avLst/>
              </a:prstGeom>
              <a:solidFill>
                <a:srgbClr val="ffffff"/>
              </a:solidFill>
              <a:ln w="38160">
                <a:solidFill>
                  <a:srgbClr val="8a2e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07"/>
              <p:cNvSpPr/>
              <p:nvPr/>
            </p:nvSpPr>
            <p:spPr>
              <a:xfrm>
                <a:off x="6755040" y="3206880"/>
                <a:ext cx="79596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8a2e4e"/>
                    </a:solidFill>
                    <a:latin typeface="Arial Unicode MS"/>
                    <a:cs typeface="Arial Unicode MS"/>
                  </a:rPr>
                  <a:t>تأخ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Line 108"/>
            <p:cNvSpPr/>
            <p:nvPr/>
          </p:nvSpPr>
          <p:spPr>
            <a:xfrm>
              <a:off x="7196760" y="1973160"/>
              <a:ext cx="4680" cy="103104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08"/>
            <p:cNvSpPr/>
            <p:nvPr/>
          </p:nvSpPr>
          <p:spPr>
            <a:xfrm>
              <a:off x="7164360" y="3798000"/>
              <a:ext cx="0" cy="55332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مجموعة 4"/>
          <p:cNvGrpSpPr/>
          <p:nvPr/>
        </p:nvGrpSpPr>
        <p:grpSpPr>
          <a:xfrm>
            <a:off x="3251160" y="4167360"/>
            <a:ext cx="3232080" cy="942840"/>
            <a:chOff x="3251160" y="4167360"/>
            <a:chExt cx="3232080" cy="942840"/>
          </a:xfrm>
        </p:grpSpPr>
        <p:sp>
          <p:nvSpPr>
            <p:cNvPr id="533" name="AutoShape 106"/>
            <p:cNvSpPr/>
            <p:nvPr/>
          </p:nvSpPr>
          <p:spPr>
            <a:xfrm>
              <a:off x="4094280" y="4167360"/>
              <a:ext cx="1200240" cy="94284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08"/>
            <p:cNvSpPr/>
            <p:nvPr/>
          </p:nvSpPr>
          <p:spPr>
            <a:xfrm flipH="1" flipV="1">
              <a:off x="5288760" y="4619880"/>
              <a:ext cx="1194480" cy="1836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08"/>
            <p:cNvSpPr/>
            <p:nvPr/>
          </p:nvSpPr>
          <p:spPr>
            <a:xfrm>
              <a:off x="3251160" y="4620240"/>
              <a:ext cx="825480" cy="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07"/>
            <p:cNvSpPr/>
            <p:nvPr/>
          </p:nvSpPr>
          <p:spPr>
            <a:xfrm>
              <a:off x="4101480" y="4357440"/>
              <a:ext cx="1059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8a2e4e"/>
                  </a:solidFill>
                  <a:latin typeface="Arial Unicode MS"/>
                  <a:cs typeface="Arial Unicode MS"/>
                </a:rPr>
                <a:t>تعط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8a2e4e"/>
                </a:solidFill>
                <a:uFillTx/>
                <a:latin typeface="Tahoma"/>
                <a:cs typeface="Times New Roman"/>
              </a:rPr>
              <a:t>الآن نحدد نوع العلاقة :</a:t>
            </a:r>
            <a:br>
              <a:rPr sz="3200"/>
            </a:br>
            <a:r>
              <a:rPr b="1" lang="hi-IN" sz="3200" spc="-1" strike="noStrike" u="sng">
                <a:solidFill>
                  <a:srgbClr val="8a2e4e"/>
                </a:solidFill>
                <a:uFillTx/>
                <a:latin typeface="Tahoma"/>
                <a:cs typeface="Times New Roman"/>
              </a:rPr>
              <a:t>نأخذ العلاقة بين المدربة والدورة :  و نسأل سؤالين 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0D6B-6848-4EE9-ABDB-4F4F0DB0B53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14400" y="144792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س 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1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 : هل المدربة الواحدة ممكن أن تعطي اكثر من دورة أم دورة واحدة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  نقول أن المدربة الواحدة ممكن أن تعطي اكثر من دور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س 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2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 : هل الدورة الواحدة تعطيها اكثر من مدربة أم مدربة واحدة 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 نقول أن الدورة الواحدة تعطيها أو تدرب عليها اكثر من مدرب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a2e4e"/>
                </a:solidFill>
                <a:latin typeface="Perpetua"/>
              </a:rPr>
              <a:t>فمن هذين السؤال تنتج العلاقة التالية :</a:t>
            </a:r>
            <a:r>
              <a:rPr b="0" lang="en-US" sz="2600" spc="-1" strike="noStrike">
                <a:solidFill>
                  <a:srgbClr val="8a2e4e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8a2e4e"/>
                </a:solidFill>
                <a:latin typeface="Perpetua"/>
              </a:rPr>
              <a:t>M: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40" name="Group 1"/>
          <p:cNvGrpSpPr/>
          <p:nvPr/>
        </p:nvGrpSpPr>
        <p:grpSpPr>
          <a:xfrm>
            <a:off x="2281320" y="4098960"/>
            <a:ext cx="5273640" cy="1371600"/>
            <a:chOff x="2281320" y="4098960"/>
            <a:chExt cx="5273640" cy="1371600"/>
          </a:xfrm>
        </p:grpSpPr>
        <p:sp>
          <p:nvSpPr>
            <p:cNvPr id="541" name="AutoShape 10"/>
            <p:cNvSpPr/>
            <p:nvPr/>
          </p:nvSpPr>
          <p:spPr>
            <a:xfrm>
              <a:off x="2281320" y="4098960"/>
              <a:ext cx="5273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6066000" y="4492440"/>
              <a:ext cx="644400" cy="55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مدرب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8"/>
            <p:cNvSpPr/>
            <p:nvPr/>
          </p:nvSpPr>
          <p:spPr>
            <a:xfrm>
              <a:off x="3228480" y="4492440"/>
              <a:ext cx="668880" cy="60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دو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7"/>
            <p:cNvSpPr/>
            <p:nvPr/>
          </p:nvSpPr>
          <p:spPr>
            <a:xfrm flipH="1">
              <a:off x="4641120" y="4492440"/>
              <a:ext cx="83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6"/>
            <p:cNvSpPr/>
            <p:nvPr/>
          </p:nvSpPr>
          <p:spPr>
            <a:xfrm>
              <a:off x="4641120" y="500076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5"/>
            <p:cNvSpPr/>
            <p:nvPr/>
          </p:nvSpPr>
          <p:spPr>
            <a:xfrm>
              <a:off x="5603040" y="431352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4"/>
            <p:cNvSpPr/>
            <p:nvPr/>
          </p:nvSpPr>
          <p:spPr>
            <a:xfrm>
              <a:off x="4089960" y="4307040"/>
              <a:ext cx="329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3"/>
            <p:cNvSpPr/>
            <p:nvPr/>
          </p:nvSpPr>
          <p:spPr>
            <a:xfrm>
              <a:off x="4169880" y="481320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2"/>
            <p:cNvSpPr/>
            <p:nvPr/>
          </p:nvSpPr>
          <p:spPr>
            <a:xfrm>
              <a:off x="5549760" y="4803840"/>
              <a:ext cx="302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3"/>
          <p:cNvGrpSpPr/>
          <p:nvPr/>
        </p:nvGrpSpPr>
        <p:grpSpPr>
          <a:xfrm>
            <a:off x="6483240" y="4327560"/>
            <a:ext cx="2660760" cy="2264760"/>
            <a:chOff x="6483240" y="4327560"/>
            <a:chExt cx="2660760" cy="2264760"/>
          </a:xfrm>
        </p:grpSpPr>
        <p:grpSp>
          <p:nvGrpSpPr>
            <p:cNvPr id="551" name="Group 24"/>
            <p:cNvGrpSpPr/>
            <p:nvPr/>
          </p:nvGrpSpPr>
          <p:grpSpPr>
            <a:xfrm>
              <a:off x="6483240" y="4327560"/>
              <a:ext cx="1244880" cy="1019520"/>
              <a:chOff x="6483240" y="4327560"/>
              <a:chExt cx="1244880" cy="1019520"/>
            </a:xfrm>
          </p:grpSpPr>
          <p:sp>
            <p:nvSpPr>
              <p:cNvPr id="552" name="Rectangle 25"/>
              <p:cNvSpPr/>
              <p:nvPr/>
            </p:nvSpPr>
            <p:spPr>
              <a:xfrm>
                <a:off x="6483240" y="4327560"/>
                <a:ext cx="1244880" cy="101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26"/>
              <p:cNvSpPr/>
              <p:nvPr/>
            </p:nvSpPr>
            <p:spPr>
              <a:xfrm>
                <a:off x="6732000" y="4576680"/>
                <a:ext cx="747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30"/>
            <p:cNvGrpSpPr/>
            <p:nvPr/>
          </p:nvGrpSpPr>
          <p:grpSpPr>
            <a:xfrm>
              <a:off x="6483240" y="5754600"/>
              <a:ext cx="1120320" cy="815400"/>
              <a:chOff x="6483240" y="5754600"/>
              <a:chExt cx="1120320" cy="815400"/>
            </a:xfrm>
          </p:grpSpPr>
          <p:sp>
            <p:nvSpPr>
              <p:cNvPr id="555" name="Oval 31"/>
              <p:cNvSpPr/>
              <p:nvPr/>
            </p:nvSpPr>
            <p:spPr>
              <a:xfrm>
                <a:off x="6552360" y="5754600"/>
                <a:ext cx="99612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32"/>
              <p:cNvSpPr/>
              <p:nvPr/>
            </p:nvSpPr>
            <p:spPr>
              <a:xfrm>
                <a:off x="6483240" y="5958360"/>
                <a:ext cx="112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33"/>
            <p:cNvGrpSpPr/>
            <p:nvPr/>
          </p:nvGrpSpPr>
          <p:grpSpPr>
            <a:xfrm>
              <a:off x="7728120" y="5754600"/>
              <a:ext cx="1415880" cy="837720"/>
              <a:chOff x="7728120" y="5754600"/>
              <a:chExt cx="1415880" cy="837720"/>
            </a:xfrm>
          </p:grpSpPr>
          <p:sp>
            <p:nvSpPr>
              <p:cNvPr id="558" name="Oval 34"/>
              <p:cNvSpPr/>
              <p:nvPr/>
            </p:nvSpPr>
            <p:spPr>
              <a:xfrm>
                <a:off x="7797240" y="5754600"/>
                <a:ext cx="1113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5"/>
              <p:cNvSpPr/>
              <p:nvPr/>
            </p:nvSpPr>
            <p:spPr>
              <a:xfrm>
                <a:off x="7728120" y="5958360"/>
                <a:ext cx="1415880" cy="6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Line 37"/>
            <p:cNvSpPr/>
            <p:nvPr/>
          </p:nvSpPr>
          <p:spPr>
            <a:xfrm flipV="1">
              <a:off x="6981120" y="5347080"/>
              <a:ext cx="0" cy="4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38"/>
            <p:cNvSpPr/>
            <p:nvPr/>
          </p:nvSpPr>
          <p:spPr>
            <a:xfrm flipH="1" flipV="1">
              <a:off x="7727760" y="5142600"/>
              <a:ext cx="622440" cy="6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39"/>
          <p:cNvGrpSpPr/>
          <p:nvPr/>
        </p:nvGrpSpPr>
        <p:grpSpPr>
          <a:xfrm>
            <a:off x="4021200" y="206280"/>
            <a:ext cx="4942800" cy="2163600"/>
            <a:chOff x="4021200" y="206280"/>
            <a:chExt cx="4942800" cy="2163600"/>
          </a:xfrm>
        </p:grpSpPr>
        <p:grpSp>
          <p:nvGrpSpPr>
            <p:cNvPr id="563" name="Group 40"/>
            <p:cNvGrpSpPr/>
            <p:nvPr/>
          </p:nvGrpSpPr>
          <p:grpSpPr>
            <a:xfrm>
              <a:off x="5400720" y="206280"/>
              <a:ext cx="3563280" cy="1766520"/>
              <a:chOff x="5400720" y="206280"/>
              <a:chExt cx="3563280" cy="1766520"/>
            </a:xfrm>
          </p:grpSpPr>
          <p:grpSp>
            <p:nvGrpSpPr>
              <p:cNvPr id="564" name="Group 41"/>
              <p:cNvGrpSpPr/>
              <p:nvPr/>
            </p:nvGrpSpPr>
            <p:grpSpPr>
              <a:xfrm>
                <a:off x="6655680" y="1079640"/>
                <a:ext cx="1200960" cy="893160"/>
                <a:chOff x="6655680" y="1079640"/>
                <a:chExt cx="1200960" cy="893160"/>
              </a:xfrm>
            </p:grpSpPr>
            <p:sp>
              <p:nvSpPr>
                <p:cNvPr id="565" name="Rectangle 42"/>
                <p:cNvSpPr/>
                <p:nvPr/>
              </p:nvSpPr>
              <p:spPr>
                <a:xfrm>
                  <a:off x="6655680" y="1079640"/>
                  <a:ext cx="1200960" cy="893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Text Box 43"/>
                <p:cNvSpPr/>
                <p:nvPr/>
              </p:nvSpPr>
              <p:spPr>
                <a:xfrm>
                  <a:off x="6895800" y="1297800"/>
                  <a:ext cx="720720" cy="61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47"/>
              <p:cNvGrpSpPr/>
              <p:nvPr/>
            </p:nvGrpSpPr>
            <p:grpSpPr>
              <a:xfrm>
                <a:off x="5400720" y="1079640"/>
                <a:ext cx="1080720" cy="714600"/>
                <a:chOff x="5400720" y="1079640"/>
                <a:chExt cx="1080720" cy="714600"/>
              </a:xfrm>
            </p:grpSpPr>
            <p:sp>
              <p:nvSpPr>
                <p:cNvPr id="568" name="Oval 48"/>
                <p:cNvSpPr/>
                <p:nvPr/>
              </p:nvSpPr>
              <p:spPr>
                <a:xfrm>
                  <a:off x="5454720" y="1079640"/>
                  <a:ext cx="96048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49"/>
                <p:cNvSpPr/>
                <p:nvPr/>
              </p:nvSpPr>
              <p:spPr>
                <a:xfrm>
                  <a:off x="5400720" y="125604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س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Group 53"/>
              <p:cNvGrpSpPr/>
              <p:nvPr/>
            </p:nvGrpSpPr>
            <p:grpSpPr>
              <a:xfrm>
                <a:off x="6682320" y="206280"/>
                <a:ext cx="1080720" cy="714600"/>
                <a:chOff x="6682320" y="206280"/>
                <a:chExt cx="1080720" cy="714600"/>
              </a:xfrm>
            </p:grpSpPr>
            <p:sp>
              <p:nvSpPr>
                <p:cNvPr id="571" name="Oval 54"/>
                <p:cNvSpPr/>
                <p:nvPr/>
              </p:nvSpPr>
              <p:spPr>
                <a:xfrm>
                  <a:off x="6748920" y="20628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55"/>
                <p:cNvSpPr/>
                <p:nvPr/>
              </p:nvSpPr>
              <p:spPr>
                <a:xfrm>
                  <a:off x="6682320" y="30528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رق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56"/>
              <p:cNvGrpSpPr/>
              <p:nvPr/>
            </p:nvGrpSpPr>
            <p:grpSpPr>
              <a:xfrm>
                <a:off x="7883280" y="543600"/>
                <a:ext cx="1080720" cy="714600"/>
                <a:chOff x="7883280" y="543600"/>
                <a:chExt cx="1080720" cy="714600"/>
              </a:xfrm>
            </p:grpSpPr>
            <p:sp>
              <p:nvSpPr>
                <p:cNvPr id="574" name="Oval 57"/>
                <p:cNvSpPr/>
                <p:nvPr/>
              </p:nvSpPr>
              <p:spPr>
                <a:xfrm>
                  <a:off x="7949880" y="54360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Text Box 58"/>
                <p:cNvSpPr/>
                <p:nvPr/>
              </p:nvSpPr>
              <p:spPr>
                <a:xfrm>
                  <a:off x="7883280" y="64260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رقم الهات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Line 60"/>
              <p:cNvSpPr/>
              <p:nvPr/>
            </p:nvSpPr>
            <p:spPr>
              <a:xfrm>
                <a:off x="6415560" y="1437120"/>
                <a:ext cx="24012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62"/>
              <p:cNvSpPr/>
              <p:nvPr/>
            </p:nvSpPr>
            <p:spPr>
              <a:xfrm>
                <a:off x="7256160" y="901080"/>
                <a:ext cx="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63"/>
              <p:cNvSpPr/>
              <p:nvPr/>
            </p:nvSpPr>
            <p:spPr>
              <a:xfrm flipH="1">
                <a:off x="7856640" y="1258200"/>
                <a:ext cx="36000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Oval 64"/>
            <p:cNvSpPr/>
            <p:nvPr/>
          </p:nvSpPr>
          <p:spPr>
            <a:xfrm>
              <a:off x="4381200" y="70236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65"/>
            <p:cNvSpPr/>
            <p:nvPr/>
          </p:nvSpPr>
          <p:spPr>
            <a:xfrm>
              <a:off x="5222160" y="980640"/>
              <a:ext cx="4003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66"/>
            <p:cNvSpPr/>
            <p:nvPr/>
          </p:nvSpPr>
          <p:spPr>
            <a:xfrm>
              <a:off x="4861800" y="1456920"/>
              <a:ext cx="60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67"/>
            <p:cNvSpPr/>
            <p:nvPr/>
          </p:nvSpPr>
          <p:spPr>
            <a:xfrm>
              <a:off x="4021200" y="12186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8"/>
            <p:cNvSpPr/>
            <p:nvPr/>
          </p:nvSpPr>
          <p:spPr>
            <a:xfrm flipV="1">
              <a:off x="5088600" y="1595880"/>
              <a:ext cx="413640" cy="41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9"/>
            <p:cNvSpPr/>
            <p:nvPr/>
          </p:nvSpPr>
          <p:spPr>
            <a:xfrm>
              <a:off x="4274640" y="18342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71"/>
          <p:cNvGrpSpPr/>
          <p:nvPr/>
        </p:nvGrpSpPr>
        <p:grpSpPr>
          <a:xfrm>
            <a:off x="420840" y="3147840"/>
            <a:ext cx="2850840" cy="3332160"/>
            <a:chOff x="420840" y="3147840"/>
            <a:chExt cx="2850840" cy="3332160"/>
          </a:xfrm>
        </p:grpSpPr>
        <p:grpSp>
          <p:nvGrpSpPr>
            <p:cNvPr id="586" name="Group 72"/>
            <p:cNvGrpSpPr/>
            <p:nvPr/>
          </p:nvGrpSpPr>
          <p:grpSpPr>
            <a:xfrm>
              <a:off x="1876320" y="4167000"/>
              <a:ext cx="1379880" cy="1019160"/>
              <a:chOff x="1876320" y="4167000"/>
              <a:chExt cx="1379880" cy="1019160"/>
            </a:xfrm>
          </p:grpSpPr>
          <p:sp>
            <p:nvSpPr>
              <p:cNvPr id="587" name="Rectangle 73"/>
              <p:cNvSpPr/>
              <p:nvPr/>
            </p:nvSpPr>
            <p:spPr>
              <a:xfrm>
                <a:off x="1876320" y="4167000"/>
                <a:ext cx="1379880" cy="1019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74"/>
              <p:cNvSpPr/>
              <p:nvPr/>
            </p:nvSpPr>
            <p:spPr>
              <a:xfrm>
                <a:off x="2136960" y="4415760"/>
                <a:ext cx="8280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75"/>
            <p:cNvGrpSpPr/>
            <p:nvPr/>
          </p:nvGrpSpPr>
          <p:grpSpPr>
            <a:xfrm>
              <a:off x="2014560" y="3147840"/>
              <a:ext cx="1241640" cy="815400"/>
              <a:chOff x="2014560" y="3147840"/>
              <a:chExt cx="1241640" cy="815400"/>
            </a:xfrm>
          </p:grpSpPr>
          <p:sp>
            <p:nvSpPr>
              <p:cNvPr id="590" name="Oval 76"/>
              <p:cNvSpPr/>
              <p:nvPr/>
            </p:nvSpPr>
            <p:spPr>
              <a:xfrm>
                <a:off x="2090880" y="314784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77"/>
              <p:cNvSpPr/>
              <p:nvPr/>
            </p:nvSpPr>
            <p:spPr>
              <a:xfrm>
                <a:off x="2014560" y="326088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رقم الهات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78"/>
            <p:cNvGrpSpPr/>
            <p:nvPr/>
          </p:nvGrpSpPr>
          <p:grpSpPr>
            <a:xfrm>
              <a:off x="2091240" y="5664600"/>
              <a:ext cx="1180440" cy="815400"/>
              <a:chOff x="2091240" y="5664600"/>
              <a:chExt cx="1180440" cy="815400"/>
            </a:xfrm>
          </p:grpSpPr>
          <p:sp>
            <p:nvSpPr>
              <p:cNvPr id="593" name="Oval 79"/>
              <p:cNvSpPr/>
              <p:nvPr/>
            </p:nvSpPr>
            <p:spPr>
              <a:xfrm>
                <a:off x="2106360" y="56646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80"/>
              <p:cNvSpPr/>
              <p:nvPr/>
            </p:nvSpPr>
            <p:spPr>
              <a:xfrm>
                <a:off x="2091240" y="5845680"/>
                <a:ext cx="118044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81"/>
            <p:cNvGrpSpPr/>
            <p:nvPr/>
          </p:nvGrpSpPr>
          <p:grpSpPr>
            <a:xfrm>
              <a:off x="634680" y="4982400"/>
              <a:ext cx="1241640" cy="815400"/>
              <a:chOff x="634680" y="4982400"/>
              <a:chExt cx="1241640" cy="815400"/>
            </a:xfrm>
          </p:grpSpPr>
          <p:sp>
            <p:nvSpPr>
              <p:cNvPr id="596" name="Oval 82"/>
              <p:cNvSpPr/>
              <p:nvPr/>
            </p:nvSpPr>
            <p:spPr>
              <a:xfrm>
                <a:off x="711000" y="49824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83"/>
              <p:cNvSpPr/>
              <p:nvPr/>
            </p:nvSpPr>
            <p:spPr>
              <a:xfrm>
                <a:off x="634680" y="509544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84"/>
            <p:cNvGrpSpPr/>
            <p:nvPr/>
          </p:nvGrpSpPr>
          <p:grpSpPr>
            <a:xfrm>
              <a:off x="420840" y="4053960"/>
              <a:ext cx="1256040" cy="815400"/>
              <a:chOff x="420840" y="4053960"/>
              <a:chExt cx="1256040" cy="815400"/>
            </a:xfrm>
          </p:grpSpPr>
          <p:sp>
            <p:nvSpPr>
              <p:cNvPr id="599" name="Oval 85"/>
              <p:cNvSpPr/>
              <p:nvPr/>
            </p:nvSpPr>
            <p:spPr>
              <a:xfrm>
                <a:off x="420840" y="405396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86"/>
              <p:cNvSpPr/>
              <p:nvPr/>
            </p:nvSpPr>
            <p:spPr>
              <a:xfrm>
                <a:off x="435240" y="425772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Line 93"/>
            <p:cNvSpPr/>
            <p:nvPr/>
          </p:nvSpPr>
          <p:spPr>
            <a:xfrm flipV="1">
              <a:off x="2664720" y="5186160"/>
              <a:ext cx="1656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 flipV="1">
              <a:off x="1462680" y="4778640"/>
              <a:ext cx="41364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95"/>
            <p:cNvSpPr/>
            <p:nvPr/>
          </p:nvSpPr>
          <p:spPr>
            <a:xfrm>
              <a:off x="1539000" y="4473000"/>
              <a:ext cx="336960" cy="1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98"/>
            <p:cNvSpPr/>
            <p:nvPr/>
          </p:nvSpPr>
          <p:spPr>
            <a:xfrm flipH="1">
              <a:off x="2566080" y="3963240"/>
              <a:ext cx="1378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Oval 63"/>
          <p:cNvSpPr/>
          <p:nvPr/>
        </p:nvSpPr>
        <p:spPr>
          <a:xfrm>
            <a:off x="5078520" y="5721480"/>
            <a:ext cx="1038240" cy="63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5027760" y="5818320"/>
            <a:ext cx="102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 u="sng">
                <a:solidFill>
                  <a:srgbClr val="000000"/>
                </a:solidFill>
                <a:uFillTx/>
                <a:latin typeface="Arial"/>
              </a:rPr>
              <a:t>رقم الدو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69"/>
          <p:cNvSpPr/>
          <p:nvPr/>
        </p:nvSpPr>
        <p:spPr>
          <a:xfrm flipV="1">
            <a:off x="5940360" y="5332320"/>
            <a:ext cx="52236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8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9EA3-55D0-4E81-A486-D3FAE98DDF7E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مجموعة 3"/>
          <p:cNvGrpSpPr/>
          <p:nvPr/>
        </p:nvGrpSpPr>
        <p:grpSpPr>
          <a:xfrm>
            <a:off x="6734160" y="1973160"/>
            <a:ext cx="934920" cy="2378160"/>
            <a:chOff x="6734160" y="1973160"/>
            <a:chExt cx="934920" cy="2378160"/>
          </a:xfrm>
        </p:grpSpPr>
        <p:grpSp>
          <p:nvGrpSpPr>
            <p:cNvPr id="610" name="مجموعة 2"/>
            <p:cNvGrpSpPr/>
            <p:nvPr/>
          </p:nvGrpSpPr>
          <p:grpSpPr>
            <a:xfrm>
              <a:off x="6734160" y="3004200"/>
              <a:ext cx="934920" cy="791280"/>
              <a:chOff x="6734160" y="3004200"/>
              <a:chExt cx="934920" cy="791280"/>
            </a:xfrm>
          </p:grpSpPr>
          <p:sp>
            <p:nvSpPr>
              <p:cNvPr id="611" name="AutoShape 106"/>
              <p:cNvSpPr/>
              <p:nvPr/>
            </p:nvSpPr>
            <p:spPr>
              <a:xfrm>
                <a:off x="6734160" y="3004200"/>
                <a:ext cx="934920" cy="791280"/>
              </a:xfrm>
              <a:prstGeom prst="diamond">
                <a:avLst/>
              </a:prstGeom>
              <a:solidFill>
                <a:srgbClr val="ffffff"/>
              </a:solidFill>
              <a:ln w="38160">
                <a:solidFill>
                  <a:srgbClr val="8a2e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107"/>
              <p:cNvSpPr/>
              <p:nvPr/>
            </p:nvSpPr>
            <p:spPr>
              <a:xfrm>
                <a:off x="6755040" y="3206880"/>
                <a:ext cx="79596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8a2e4e"/>
                    </a:solidFill>
                    <a:latin typeface="Arial Unicode MS"/>
                    <a:cs typeface="Arial Unicode MS"/>
                  </a:rPr>
                  <a:t>تأخ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Line 108"/>
            <p:cNvSpPr/>
            <p:nvPr/>
          </p:nvSpPr>
          <p:spPr>
            <a:xfrm>
              <a:off x="7196760" y="1973160"/>
              <a:ext cx="4680" cy="103104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08"/>
            <p:cNvSpPr/>
            <p:nvPr/>
          </p:nvSpPr>
          <p:spPr>
            <a:xfrm>
              <a:off x="7164360" y="3798000"/>
              <a:ext cx="0" cy="55332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مجموعة 4"/>
          <p:cNvGrpSpPr/>
          <p:nvPr/>
        </p:nvGrpSpPr>
        <p:grpSpPr>
          <a:xfrm>
            <a:off x="3251160" y="4167360"/>
            <a:ext cx="3232080" cy="942840"/>
            <a:chOff x="3251160" y="4167360"/>
            <a:chExt cx="3232080" cy="942840"/>
          </a:xfrm>
        </p:grpSpPr>
        <p:sp>
          <p:nvSpPr>
            <p:cNvPr id="616" name="AutoShape 106"/>
            <p:cNvSpPr/>
            <p:nvPr/>
          </p:nvSpPr>
          <p:spPr>
            <a:xfrm>
              <a:off x="4094280" y="4167360"/>
              <a:ext cx="1200240" cy="94284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8"/>
            <p:cNvSpPr/>
            <p:nvPr/>
          </p:nvSpPr>
          <p:spPr>
            <a:xfrm flipH="1" flipV="1">
              <a:off x="5288760" y="4619880"/>
              <a:ext cx="1194480" cy="1836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8"/>
            <p:cNvSpPr/>
            <p:nvPr/>
          </p:nvSpPr>
          <p:spPr>
            <a:xfrm>
              <a:off x="3251160" y="4620240"/>
              <a:ext cx="825480" cy="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07"/>
            <p:cNvSpPr/>
            <p:nvPr/>
          </p:nvSpPr>
          <p:spPr>
            <a:xfrm>
              <a:off x="4235400" y="4409280"/>
              <a:ext cx="1059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8a2e4e"/>
                  </a:solidFill>
                  <a:latin typeface="Arial Unicode MS"/>
                  <a:cs typeface="Arial Unicode MS"/>
                </a:rPr>
                <a:t>تعط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108"/>
          <p:cNvSpPr/>
          <p:nvPr/>
        </p:nvSpPr>
        <p:spPr>
          <a:xfrm>
            <a:off x="5958000" y="41860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7"/>
          <p:cNvSpPr/>
          <p:nvPr/>
        </p:nvSpPr>
        <p:spPr>
          <a:xfrm>
            <a:off x="3435480" y="42260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8a2e4e"/>
                </a:solidFill>
                <a:uFillTx/>
                <a:latin typeface="Tahoma"/>
                <a:cs typeface="Times New Roman"/>
              </a:rPr>
              <a:t>نأخذ العلاقة بين المتدربة والدورة  : ونسأل سؤالين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6A1-A156-4649-8ED6-9E3F2B56515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39280" y="1447560"/>
            <a:ext cx="814716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س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1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 : هل المتدربة الواحدة ممكن أن تأخذ اكثر من دورة أم دورة واحدة فقط 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نقول أن المتدربة الواحدة ممكن أن تأخذ اكثر من دور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س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2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 : هل الدورة الواحدة ممكن أن تشمل اكثر من متدربة أم متدربة واحدة فقط ؟    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نقول أن الدورة الواحدة ممكن أن تشمل اكثر من متدرب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buClr>
                <a:srgbClr val="93a299"/>
              </a:buClr>
              <a:buSzPct val="85000"/>
              <a:buFont typeface="Wingdings 2" charset="2"/>
              <a:buChar char=""/>
              <a:tabLst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a2e4e"/>
                </a:solidFill>
                <a:latin typeface="Perpetua"/>
              </a:rPr>
              <a:t>فتنتج العلاقة التالية :</a:t>
            </a:r>
            <a:r>
              <a:rPr b="0" lang="en-US" sz="2600" spc="-1" strike="noStrike">
                <a:solidFill>
                  <a:srgbClr val="8a2e4e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8a2e4e"/>
                </a:solidFill>
                <a:latin typeface="Perpetua"/>
              </a:rPr>
              <a:t>M: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625" name="Group 1"/>
          <p:cNvGrpSpPr/>
          <p:nvPr/>
        </p:nvGrpSpPr>
        <p:grpSpPr>
          <a:xfrm>
            <a:off x="2281320" y="4361040"/>
            <a:ext cx="5273640" cy="1371600"/>
            <a:chOff x="2281320" y="4361040"/>
            <a:chExt cx="5273640" cy="1371600"/>
          </a:xfrm>
        </p:grpSpPr>
        <p:sp>
          <p:nvSpPr>
            <p:cNvPr id="626" name="AutoShape 10"/>
            <p:cNvSpPr/>
            <p:nvPr/>
          </p:nvSpPr>
          <p:spPr>
            <a:xfrm>
              <a:off x="2281320" y="4361040"/>
              <a:ext cx="5273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9"/>
            <p:cNvSpPr/>
            <p:nvPr/>
          </p:nvSpPr>
          <p:spPr>
            <a:xfrm>
              <a:off x="6066000" y="4754520"/>
              <a:ext cx="737640" cy="55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متدرب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8"/>
            <p:cNvSpPr/>
            <p:nvPr/>
          </p:nvSpPr>
          <p:spPr>
            <a:xfrm>
              <a:off x="3059640" y="4754520"/>
              <a:ext cx="838080" cy="60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دو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7"/>
            <p:cNvSpPr/>
            <p:nvPr/>
          </p:nvSpPr>
          <p:spPr>
            <a:xfrm flipH="1">
              <a:off x="4641120" y="4754520"/>
              <a:ext cx="83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6"/>
            <p:cNvSpPr/>
            <p:nvPr/>
          </p:nvSpPr>
          <p:spPr>
            <a:xfrm>
              <a:off x="4641120" y="526284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5"/>
            <p:cNvSpPr/>
            <p:nvPr/>
          </p:nvSpPr>
          <p:spPr>
            <a:xfrm>
              <a:off x="5603040" y="457560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4"/>
            <p:cNvSpPr/>
            <p:nvPr/>
          </p:nvSpPr>
          <p:spPr>
            <a:xfrm>
              <a:off x="4089960" y="4569120"/>
              <a:ext cx="329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4169880" y="507528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"/>
            <p:cNvSpPr/>
            <p:nvPr/>
          </p:nvSpPr>
          <p:spPr>
            <a:xfrm>
              <a:off x="5549760" y="5065920"/>
              <a:ext cx="302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3"/>
          <p:cNvGrpSpPr/>
          <p:nvPr/>
        </p:nvGrpSpPr>
        <p:grpSpPr>
          <a:xfrm>
            <a:off x="6483240" y="4327560"/>
            <a:ext cx="2660760" cy="2264760"/>
            <a:chOff x="6483240" y="4327560"/>
            <a:chExt cx="2660760" cy="2264760"/>
          </a:xfrm>
        </p:grpSpPr>
        <p:grpSp>
          <p:nvGrpSpPr>
            <p:cNvPr id="636" name="Group 24"/>
            <p:cNvGrpSpPr/>
            <p:nvPr/>
          </p:nvGrpSpPr>
          <p:grpSpPr>
            <a:xfrm>
              <a:off x="6483240" y="4327560"/>
              <a:ext cx="1244880" cy="1019520"/>
              <a:chOff x="6483240" y="4327560"/>
              <a:chExt cx="1244880" cy="1019520"/>
            </a:xfrm>
          </p:grpSpPr>
          <p:sp>
            <p:nvSpPr>
              <p:cNvPr id="637" name="Rectangle 25"/>
              <p:cNvSpPr/>
              <p:nvPr/>
            </p:nvSpPr>
            <p:spPr>
              <a:xfrm>
                <a:off x="6483240" y="4327560"/>
                <a:ext cx="1244880" cy="101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Text Box 26"/>
              <p:cNvSpPr/>
              <p:nvPr/>
            </p:nvSpPr>
            <p:spPr>
              <a:xfrm>
                <a:off x="6732000" y="4576680"/>
                <a:ext cx="747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30"/>
            <p:cNvGrpSpPr/>
            <p:nvPr/>
          </p:nvGrpSpPr>
          <p:grpSpPr>
            <a:xfrm>
              <a:off x="6483240" y="5754600"/>
              <a:ext cx="1120320" cy="815400"/>
              <a:chOff x="6483240" y="5754600"/>
              <a:chExt cx="1120320" cy="815400"/>
            </a:xfrm>
          </p:grpSpPr>
          <p:sp>
            <p:nvSpPr>
              <p:cNvPr id="640" name="Oval 31"/>
              <p:cNvSpPr/>
              <p:nvPr/>
            </p:nvSpPr>
            <p:spPr>
              <a:xfrm>
                <a:off x="6552360" y="5754600"/>
                <a:ext cx="99612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32"/>
              <p:cNvSpPr/>
              <p:nvPr/>
            </p:nvSpPr>
            <p:spPr>
              <a:xfrm>
                <a:off x="6483240" y="5958360"/>
                <a:ext cx="112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33"/>
            <p:cNvGrpSpPr/>
            <p:nvPr/>
          </p:nvGrpSpPr>
          <p:grpSpPr>
            <a:xfrm>
              <a:off x="7728120" y="5754600"/>
              <a:ext cx="1415880" cy="837720"/>
              <a:chOff x="7728120" y="5754600"/>
              <a:chExt cx="1415880" cy="837720"/>
            </a:xfrm>
          </p:grpSpPr>
          <p:sp>
            <p:nvSpPr>
              <p:cNvPr id="643" name="Oval 34"/>
              <p:cNvSpPr/>
              <p:nvPr/>
            </p:nvSpPr>
            <p:spPr>
              <a:xfrm>
                <a:off x="7797240" y="5754600"/>
                <a:ext cx="1113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35"/>
              <p:cNvSpPr/>
              <p:nvPr/>
            </p:nvSpPr>
            <p:spPr>
              <a:xfrm>
                <a:off x="7728120" y="5958360"/>
                <a:ext cx="1415880" cy="6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Line 37"/>
            <p:cNvSpPr/>
            <p:nvPr/>
          </p:nvSpPr>
          <p:spPr>
            <a:xfrm flipV="1">
              <a:off x="6981120" y="5347080"/>
              <a:ext cx="0" cy="4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38"/>
            <p:cNvSpPr/>
            <p:nvPr/>
          </p:nvSpPr>
          <p:spPr>
            <a:xfrm flipH="1" flipV="1">
              <a:off x="7727760" y="5142600"/>
              <a:ext cx="622440" cy="6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39"/>
          <p:cNvGrpSpPr/>
          <p:nvPr/>
        </p:nvGrpSpPr>
        <p:grpSpPr>
          <a:xfrm>
            <a:off x="4021200" y="206280"/>
            <a:ext cx="4942800" cy="2163600"/>
            <a:chOff x="4021200" y="206280"/>
            <a:chExt cx="4942800" cy="2163600"/>
          </a:xfrm>
        </p:grpSpPr>
        <p:grpSp>
          <p:nvGrpSpPr>
            <p:cNvPr id="648" name="Group 40"/>
            <p:cNvGrpSpPr/>
            <p:nvPr/>
          </p:nvGrpSpPr>
          <p:grpSpPr>
            <a:xfrm>
              <a:off x="5400720" y="206280"/>
              <a:ext cx="3563280" cy="1766520"/>
              <a:chOff x="5400720" y="206280"/>
              <a:chExt cx="3563280" cy="1766520"/>
            </a:xfrm>
          </p:grpSpPr>
          <p:grpSp>
            <p:nvGrpSpPr>
              <p:cNvPr id="649" name="Group 41"/>
              <p:cNvGrpSpPr/>
              <p:nvPr/>
            </p:nvGrpSpPr>
            <p:grpSpPr>
              <a:xfrm>
                <a:off x="6655680" y="1079640"/>
                <a:ext cx="1200960" cy="893160"/>
                <a:chOff x="6655680" y="1079640"/>
                <a:chExt cx="1200960" cy="893160"/>
              </a:xfrm>
            </p:grpSpPr>
            <p:sp>
              <p:nvSpPr>
                <p:cNvPr id="650" name="Rectangle 42"/>
                <p:cNvSpPr/>
                <p:nvPr/>
              </p:nvSpPr>
              <p:spPr>
                <a:xfrm>
                  <a:off x="6655680" y="1079640"/>
                  <a:ext cx="1200960" cy="893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3"/>
                <p:cNvSpPr/>
                <p:nvPr/>
              </p:nvSpPr>
              <p:spPr>
                <a:xfrm>
                  <a:off x="6895800" y="1297800"/>
                  <a:ext cx="720720" cy="61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47"/>
              <p:cNvGrpSpPr/>
              <p:nvPr/>
            </p:nvGrpSpPr>
            <p:grpSpPr>
              <a:xfrm>
                <a:off x="5400720" y="1079640"/>
                <a:ext cx="1080720" cy="714600"/>
                <a:chOff x="5400720" y="1079640"/>
                <a:chExt cx="1080720" cy="714600"/>
              </a:xfrm>
            </p:grpSpPr>
            <p:sp>
              <p:nvSpPr>
                <p:cNvPr id="653" name="Oval 48"/>
                <p:cNvSpPr/>
                <p:nvPr/>
              </p:nvSpPr>
              <p:spPr>
                <a:xfrm>
                  <a:off x="5454720" y="1079640"/>
                  <a:ext cx="96048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49"/>
                <p:cNvSpPr/>
                <p:nvPr/>
              </p:nvSpPr>
              <p:spPr>
                <a:xfrm>
                  <a:off x="5400720" y="125604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س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53"/>
              <p:cNvGrpSpPr/>
              <p:nvPr/>
            </p:nvGrpSpPr>
            <p:grpSpPr>
              <a:xfrm>
                <a:off x="6682320" y="206280"/>
                <a:ext cx="1080720" cy="714600"/>
                <a:chOff x="6682320" y="206280"/>
                <a:chExt cx="1080720" cy="714600"/>
              </a:xfrm>
            </p:grpSpPr>
            <p:sp>
              <p:nvSpPr>
                <p:cNvPr id="656" name="Oval 54"/>
                <p:cNvSpPr/>
                <p:nvPr/>
              </p:nvSpPr>
              <p:spPr>
                <a:xfrm>
                  <a:off x="6748920" y="20628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55"/>
                <p:cNvSpPr/>
                <p:nvPr/>
              </p:nvSpPr>
              <p:spPr>
                <a:xfrm>
                  <a:off x="6682320" y="30528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رق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56"/>
              <p:cNvGrpSpPr/>
              <p:nvPr/>
            </p:nvGrpSpPr>
            <p:grpSpPr>
              <a:xfrm>
                <a:off x="7883280" y="543600"/>
                <a:ext cx="1080720" cy="714600"/>
                <a:chOff x="7883280" y="543600"/>
                <a:chExt cx="1080720" cy="714600"/>
              </a:xfrm>
            </p:grpSpPr>
            <p:sp>
              <p:nvSpPr>
                <p:cNvPr id="659" name="Oval 57"/>
                <p:cNvSpPr/>
                <p:nvPr/>
              </p:nvSpPr>
              <p:spPr>
                <a:xfrm>
                  <a:off x="7949880" y="54360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58"/>
                <p:cNvSpPr/>
                <p:nvPr/>
              </p:nvSpPr>
              <p:spPr>
                <a:xfrm>
                  <a:off x="7883280" y="64260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رقم الهات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Line 60"/>
              <p:cNvSpPr/>
              <p:nvPr/>
            </p:nvSpPr>
            <p:spPr>
              <a:xfrm>
                <a:off x="6415560" y="1437120"/>
                <a:ext cx="24012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62"/>
              <p:cNvSpPr/>
              <p:nvPr/>
            </p:nvSpPr>
            <p:spPr>
              <a:xfrm>
                <a:off x="7256160" y="901080"/>
                <a:ext cx="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63"/>
              <p:cNvSpPr/>
              <p:nvPr/>
            </p:nvSpPr>
            <p:spPr>
              <a:xfrm flipH="1">
                <a:off x="7856640" y="1258200"/>
                <a:ext cx="36000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Oval 64"/>
            <p:cNvSpPr/>
            <p:nvPr/>
          </p:nvSpPr>
          <p:spPr>
            <a:xfrm>
              <a:off x="4381200" y="70236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5"/>
            <p:cNvSpPr/>
            <p:nvPr/>
          </p:nvSpPr>
          <p:spPr>
            <a:xfrm>
              <a:off x="5222160" y="980640"/>
              <a:ext cx="4003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66"/>
            <p:cNvSpPr/>
            <p:nvPr/>
          </p:nvSpPr>
          <p:spPr>
            <a:xfrm>
              <a:off x="4861800" y="1456920"/>
              <a:ext cx="60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67"/>
            <p:cNvSpPr/>
            <p:nvPr/>
          </p:nvSpPr>
          <p:spPr>
            <a:xfrm>
              <a:off x="4021200" y="12186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8"/>
            <p:cNvSpPr/>
            <p:nvPr/>
          </p:nvSpPr>
          <p:spPr>
            <a:xfrm flipV="1">
              <a:off x="5088600" y="1595880"/>
              <a:ext cx="413640" cy="41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9"/>
            <p:cNvSpPr/>
            <p:nvPr/>
          </p:nvSpPr>
          <p:spPr>
            <a:xfrm>
              <a:off x="4274640" y="18342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1"/>
          <p:cNvGrpSpPr/>
          <p:nvPr/>
        </p:nvGrpSpPr>
        <p:grpSpPr>
          <a:xfrm>
            <a:off x="420840" y="3147840"/>
            <a:ext cx="2850840" cy="3332160"/>
            <a:chOff x="420840" y="3147840"/>
            <a:chExt cx="2850840" cy="3332160"/>
          </a:xfrm>
        </p:grpSpPr>
        <p:grpSp>
          <p:nvGrpSpPr>
            <p:cNvPr id="671" name="Group 72"/>
            <p:cNvGrpSpPr/>
            <p:nvPr/>
          </p:nvGrpSpPr>
          <p:grpSpPr>
            <a:xfrm>
              <a:off x="1876320" y="4167000"/>
              <a:ext cx="1379880" cy="1019160"/>
              <a:chOff x="1876320" y="4167000"/>
              <a:chExt cx="1379880" cy="1019160"/>
            </a:xfrm>
          </p:grpSpPr>
          <p:sp>
            <p:nvSpPr>
              <p:cNvPr id="672" name="Rectangle 73"/>
              <p:cNvSpPr/>
              <p:nvPr/>
            </p:nvSpPr>
            <p:spPr>
              <a:xfrm>
                <a:off x="1876320" y="4167000"/>
                <a:ext cx="1379880" cy="1019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74"/>
              <p:cNvSpPr/>
              <p:nvPr/>
            </p:nvSpPr>
            <p:spPr>
              <a:xfrm>
                <a:off x="2136960" y="4415760"/>
                <a:ext cx="8280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75"/>
            <p:cNvGrpSpPr/>
            <p:nvPr/>
          </p:nvGrpSpPr>
          <p:grpSpPr>
            <a:xfrm>
              <a:off x="2014560" y="3147840"/>
              <a:ext cx="1241640" cy="815400"/>
              <a:chOff x="2014560" y="3147840"/>
              <a:chExt cx="1241640" cy="815400"/>
            </a:xfrm>
          </p:grpSpPr>
          <p:sp>
            <p:nvSpPr>
              <p:cNvPr id="675" name="Oval 76"/>
              <p:cNvSpPr/>
              <p:nvPr/>
            </p:nvSpPr>
            <p:spPr>
              <a:xfrm>
                <a:off x="2090880" y="314784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 Box 77"/>
              <p:cNvSpPr/>
              <p:nvPr/>
            </p:nvSpPr>
            <p:spPr>
              <a:xfrm>
                <a:off x="2014560" y="326088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رقم الهات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78"/>
            <p:cNvGrpSpPr/>
            <p:nvPr/>
          </p:nvGrpSpPr>
          <p:grpSpPr>
            <a:xfrm>
              <a:off x="2091240" y="5664600"/>
              <a:ext cx="1180440" cy="815400"/>
              <a:chOff x="2091240" y="5664600"/>
              <a:chExt cx="1180440" cy="815400"/>
            </a:xfrm>
          </p:grpSpPr>
          <p:sp>
            <p:nvSpPr>
              <p:cNvPr id="678" name="Oval 79"/>
              <p:cNvSpPr/>
              <p:nvPr/>
            </p:nvSpPr>
            <p:spPr>
              <a:xfrm>
                <a:off x="2106360" y="56646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80"/>
              <p:cNvSpPr/>
              <p:nvPr/>
            </p:nvSpPr>
            <p:spPr>
              <a:xfrm>
                <a:off x="2091240" y="5845680"/>
                <a:ext cx="118044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81"/>
            <p:cNvGrpSpPr/>
            <p:nvPr/>
          </p:nvGrpSpPr>
          <p:grpSpPr>
            <a:xfrm>
              <a:off x="634680" y="4982400"/>
              <a:ext cx="1241640" cy="815400"/>
              <a:chOff x="634680" y="4982400"/>
              <a:chExt cx="1241640" cy="815400"/>
            </a:xfrm>
          </p:grpSpPr>
          <p:sp>
            <p:nvSpPr>
              <p:cNvPr id="681" name="Oval 82"/>
              <p:cNvSpPr/>
              <p:nvPr/>
            </p:nvSpPr>
            <p:spPr>
              <a:xfrm>
                <a:off x="711000" y="49824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83"/>
              <p:cNvSpPr/>
              <p:nvPr/>
            </p:nvSpPr>
            <p:spPr>
              <a:xfrm>
                <a:off x="634680" y="509544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84"/>
            <p:cNvGrpSpPr/>
            <p:nvPr/>
          </p:nvGrpSpPr>
          <p:grpSpPr>
            <a:xfrm>
              <a:off x="420840" y="4053960"/>
              <a:ext cx="1256040" cy="815400"/>
              <a:chOff x="420840" y="4053960"/>
              <a:chExt cx="1256040" cy="815400"/>
            </a:xfrm>
          </p:grpSpPr>
          <p:sp>
            <p:nvSpPr>
              <p:cNvPr id="684" name="Oval 85"/>
              <p:cNvSpPr/>
              <p:nvPr/>
            </p:nvSpPr>
            <p:spPr>
              <a:xfrm>
                <a:off x="420840" y="405396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86"/>
              <p:cNvSpPr/>
              <p:nvPr/>
            </p:nvSpPr>
            <p:spPr>
              <a:xfrm>
                <a:off x="435240" y="425772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Line 93"/>
            <p:cNvSpPr/>
            <p:nvPr/>
          </p:nvSpPr>
          <p:spPr>
            <a:xfrm flipV="1">
              <a:off x="2664720" y="5186160"/>
              <a:ext cx="1656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94"/>
            <p:cNvSpPr/>
            <p:nvPr/>
          </p:nvSpPr>
          <p:spPr>
            <a:xfrm flipV="1">
              <a:off x="1462680" y="4778640"/>
              <a:ext cx="41364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95"/>
            <p:cNvSpPr/>
            <p:nvPr/>
          </p:nvSpPr>
          <p:spPr>
            <a:xfrm>
              <a:off x="1539000" y="4473000"/>
              <a:ext cx="336960" cy="1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98"/>
            <p:cNvSpPr/>
            <p:nvPr/>
          </p:nvSpPr>
          <p:spPr>
            <a:xfrm flipH="1">
              <a:off x="2566080" y="3963240"/>
              <a:ext cx="1378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Oval 63"/>
          <p:cNvSpPr/>
          <p:nvPr/>
        </p:nvSpPr>
        <p:spPr>
          <a:xfrm>
            <a:off x="5078520" y="5721480"/>
            <a:ext cx="1038240" cy="63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4"/>
          <p:cNvSpPr/>
          <p:nvPr/>
        </p:nvSpPr>
        <p:spPr>
          <a:xfrm>
            <a:off x="5027760" y="5818320"/>
            <a:ext cx="102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 u="sng">
                <a:solidFill>
                  <a:srgbClr val="000000"/>
                </a:solidFill>
                <a:uFillTx/>
                <a:latin typeface="Arial"/>
              </a:rPr>
              <a:t>رقم الدو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69"/>
          <p:cNvSpPr/>
          <p:nvPr/>
        </p:nvSpPr>
        <p:spPr>
          <a:xfrm flipV="1">
            <a:off x="5940360" y="5332320"/>
            <a:ext cx="52236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8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5F12-5447-49DB-B4A6-6706402130F1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مجموعة 3"/>
          <p:cNvGrpSpPr/>
          <p:nvPr/>
        </p:nvGrpSpPr>
        <p:grpSpPr>
          <a:xfrm>
            <a:off x="6734160" y="1973160"/>
            <a:ext cx="934920" cy="2378160"/>
            <a:chOff x="6734160" y="1973160"/>
            <a:chExt cx="934920" cy="2378160"/>
          </a:xfrm>
        </p:grpSpPr>
        <p:grpSp>
          <p:nvGrpSpPr>
            <p:cNvPr id="695" name="مجموعة 2"/>
            <p:cNvGrpSpPr/>
            <p:nvPr/>
          </p:nvGrpSpPr>
          <p:grpSpPr>
            <a:xfrm>
              <a:off x="6734160" y="3004200"/>
              <a:ext cx="934920" cy="791280"/>
              <a:chOff x="6734160" y="3004200"/>
              <a:chExt cx="934920" cy="791280"/>
            </a:xfrm>
          </p:grpSpPr>
          <p:sp>
            <p:nvSpPr>
              <p:cNvPr id="696" name="AutoShape 106"/>
              <p:cNvSpPr/>
              <p:nvPr/>
            </p:nvSpPr>
            <p:spPr>
              <a:xfrm>
                <a:off x="6734160" y="3004200"/>
                <a:ext cx="934920" cy="791280"/>
              </a:xfrm>
              <a:prstGeom prst="diamond">
                <a:avLst/>
              </a:prstGeom>
              <a:solidFill>
                <a:srgbClr val="ffffff"/>
              </a:solidFill>
              <a:ln w="38160">
                <a:solidFill>
                  <a:srgbClr val="8a2e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107"/>
              <p:cNvSpPr/>
              <p:nvPr/>
            </p:nvSpPr>
            <p:spPr>
              <a:xfrm>
                <a:off x="6755040" y="3206880"/>
                <a:ext cx="79596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8a2e4e"/>
                    </a:solidFill>
                    <a:latin typeface="Arial Unicode MS"/>
                    <a:cs typeface="Arial Unicode MS"/>
                  </a:rPr>
                  <a:t>تأخ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Line 108"/>
            <p:cNvSpPr/>
            <p:nvPr/>
          </p:nvSpPr>
          <p:spPr>
            <a:xfrm>
              <a:off x="7196760" y="1973160"/>
              <a:ext cx="4680" cy="103104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08"/>
            <p:cNvSpPr/>
            <p:nvPr/>
          </p:nvSpPr>
          <p:spPr>
            <a:xfrm>
              <a:off x="7164360" y="3798000"/>
              <a:ext cx="0" cy="55332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مجموعة 4"/>
          <p:cNvGrpSpPr/>
          <p:nvPr/>
        </p:nvGrpSpPr>
        <p:grpSpPr>
          <a:xfrm>
            <a:off x="3251160" y="4167360"/>
            <a:ext cx="3232080" cy="942840"/>
            <a:chOff x="3251160" y="4167360"/>
            <a:chExt cx="3232080" cy="942840"/>
          </a:xfrm>
        </p:grpSpPr>
        <p:sp>
          <p:nvSpPr>
            <p:cNvPr id="701" name="AutoShape 106"/>
            <p:cNvSpPr/>
            <p:nvPr/>
          </p:nvSpPr>
          <p:spPr>
            <a:xfrm>
              <a:off x="4094280" y="4167360"/>
              <a:ext cx="1200240" cy="94284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08"/>
            <p:cNvSpPr/>
            <p:nvPr/>
          </p:nvSpPr>
          <p:spPr>
            <a:xfrm flipH="1" flipV="1">
              <a:off x="5288760" y="4619880"/>
              <a:ext cx="1194480" cy="1836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08"/>
            <p:cNvSpPr/>
            <p:nvPr/>
          </p:nvSpPr>
          <p:spPr>
            <a:xfrm>
              <a:off x="3251160" y="4620240"/>
              <a:ext cx="825480" cy="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07"/>
            <p:cNvSpPr/>
            <p:nvPr/>
          </p:nvSpPr>
          <p:spPr>
            <a:xfrm>
              <a:off x="4235400" y="4409280"/>
              <a:ext cx="1059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8a2e4e"/>
                  </a:solidFill>
                  <a:latin typeface="Arial Unicode MS"/>
                  <a:cs typeface="Arial Unicode MS"/>
                </a:rPr>
                <a:t>تعط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Text Box 106"/>
          <p:cNvSpPr/>
          <p:nvPr/>
        </p:nvSpPr>
        <p:spPr>
          <a:xfrm>
            <a:off x="7223040" y="3902040"/>
            <a:ext cx="68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07"/>
          <p:cNvSpPr/>
          <p:nvPr/>
        </p:nvSpPr>
        <p:spPr>
          <a:xfrm>
            <a:off x="7319880" y="214488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08"/>
          <p:cNvSpPr/>
          <p:nvPr/>
        </p:nvSpPr>
        <p:spPr>
          <a:xfrm>
            <a:off x="5958000" y="41860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07"/>
          <p:cNvSpPr/>
          <p:nvPr/>
        </p:nvSpPr>
        <p:spPr>
          <a:xfrm>
            <a:off x="3435480" y="42260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108"/>
          <p:cNvSpPr/>
          <p:nvPr/>
        </p:nvSpPr>
        <p:spPr>
          <a:xfrm>
            <a:off x="466560" y="1557360"/>
            <a:ext cx="8328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- تحديد الك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- تحديد صفات أو خصائص الكيانات وتعيين الصفة الفريدة التي تعد مفتاح أساسي لهذا الكي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- ربط الكيانات بعلاق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- تحديد نوع هذه العلاقا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2560" y="4762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b13f9a"/>
                </a:solidFill>
                <a:uFillTx/>
                <a:latin typeface="Comic Sans MS"/>
              </a:rPr>
              <a:t> 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مرحلة الأولى : مرحلة رسم نموذج الكيان والعلاقة الرابطة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ERD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1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47AE-DD80-464F-B861-8616B7F0F70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TextBox 4" descr=""/>
          <p:cNvPicPr/>
          <p:nvPr/>
        </p:nvPicPr>
        <p:blipFill>
          <a:blip r:embed="rId1"/>
          <a:stretch/>
        </p:blipFill>
        <p:spPr>
          <a:xfrm>
            <a:off x="811080" y="55440"/>
            <a:ext cx="7736040" cy="156060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2AF8-EAC7-45E5-AC39-B06E471FD61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"/>
          <p:cNvSpPr/>
          <p:nvPr/>
        </p:nvSpPr>
        <p:spPr>
          <a:xfrm>
            <a:off x="1216080" y="2171880"/>
            <a:ext cx="70722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تطبيق قاعدة بيانات  مستشفى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أرسم </a:t>
            </a:r>
            <a:r>
              <a:rPr b="0" lang="en-US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ERD</a:t>
            </a:r>
            <a:r>
              <a:rPr b="0" lang="en-US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اللازم لتمثيل بيانات المرضى في أحد المستشفيات والأطباء المعالجون والغرف مشتملا رقم المريض واسمه ورقم الغرفة المقيم بها ورقم التحويله للغرفة وعدد الأسرة بها وكذلك رقم الطبيب واسمه وتليفونه وتخصصه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B74D-1F28-4F93-96AD-3FA2F0C11E9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24000" y="425520"/>
            <a:ext cx="8613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قواعد البيانات العلائقية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Relational Database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قواعد البيانات العلائقية يتم تجميع البيانات وتخزينها داخل جداول ثنائية الأبعا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يث يتكون الجدول م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عمدة : تستخدم لإظهار صفات أو خصائص البيانا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فوف : تمثل سجلات كل سجل يحتوي على بيانات مطابقة لأعمدة الجد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79280" y="3166920"/>
            <a:ext cx="4975200" cy="2122560"/>
            <a:chOff x="179280" y="3166920"/>
            <a:chExt cx="4975200" cy="2122560"/>
          </a:xfrm>
        </p:grpSpPr>
        <p:pic>
          <p:nvPicPr>
            <p:cNvPr id="242" name="TextBox 5" descr=""/>
            <p:cNvPicPr/>
            <p:nvPr/>
          </p:nvPicPr>
          <p:blipFill>
            <a:blip r:embed="rId1"/>
            <a:stretch/>
          </p:blipFill>
          <p:spPr>
            <a:xfrm>
              <a:off x="179280" y="4785480"/>
              <a:ext cx="118044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5"/>
            <p:cNvSpPr/>
            <p:nvPr/>
          </p:nvSpPr>
          <p:spPr>
            <a:xfrm>
              <a:off x="2919240" y="316692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Comic Sans MS"/>
                  <a:cs typeface="Tahoma"/>
                </a:rPr>
                <a:t>أعمد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1738440" y="3800520"/>
          <a:ext cx="4593960" cy="2521080"/>
        </p:xfrm>
        <a:graphic>
          <a:graphicData uri="http://schemas.openxmlformats.org/drawingml/2006/table">
            <a:tbl>
              <a:tblPr/>
              <a:tblGrid>
                <a:gridCol w="1050840"/>
                <a:gridCol w="893880"/>
                <a:gridCol w="928440"/>
                <a:gridCol w="860400"/>
                <a:gridCol w="860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طب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جن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غ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س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س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ن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دع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خال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عز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ن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4"/>
          <p:cNvSpPr/>
          <p:nvPr/>
        </p:nvSpPr>
        <p:spPr>
          <a:xfrm>
            <a:off x="1216080" y="2171880"/>
            <a:ext cx="7072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abic Typesetting"/>
                <a:cs typeface="Arabic Typesetting"/>
              </a:rPr>
              <a:t>تطبيق قاعدة بيانات  مكتب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أرسم </a:t>
            </a:r>
            <a:r>
              <a:rPr b="0" lang="en-US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ERD</a:t>
            </a:r>
            <a:r>
              <a:rPr b="0" lang="en-US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اللازم لتمثيل بيانات المستعيرين في أحد المكتبات والكتب المستعارة  والمؤلفون مشتملا رقم المستعير واسمه و سجله المدني و تاريخ ميلاده و جهة عمله وكذلك بيانات الكتب و المؤلف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ثم ارسمي العلاقة الرابطة بين هذه الكيانات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TextBox 4" descr=""/>
          <p:cNvPicPr/>
          <p:nvPr/>
        </p:nvPicPr>
        <p:blipFill>
          <a:blip r:embed="rId1"/>
          <a:stretch/>
        </p:blipFill>
        <p:spPr>
          <a:xfrm>
            <a:off x="811080" y="55440"/>
            <a:ext cx="7736040" cy="1560600"/>
          </a:xfrm>
          <a:prstGeom prst="rect">
            <a:avLst/>
          </a:prstGeom>
          <a:ln w="0">
            <a:noFill/>
          </a:ln>
        </p:spPr>
      </p:pic>
      <p:sp>
        <p:nvSpPr>
          <p:cNvPr id="717" name="TextBox 4"/>
          <p:cNvSpPr/>
          <p:nvPr/>
        </p:nvSpPr>
        <p:spPr>
          <a:xfrm>
            <a:off x="1249200" y="5157720"/>
            <a:ext cx="707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يسلم الواجب المحاضرة القادمة ولا يسمح باستلام الواجب بعد ذلك </a:t>
            </a:r>
            <a:r>
              <a:rPr b="1" lang="hi-IN" sz="4400" spc="-1" strike="noStrike" u="sng">
                <a:solidFill>
                  <a:srgbClr val="000000"/>
                </a:solidFill>
                <a:uFillTx/>
                <a:latin typeface="Arabic Typesetting"/>
                <a:cs typeface="Arabic Typesetting"/>
              </a:rPr>
              <a:t>نهــــــــائــيـــــــــا</a:t>
            </a:r>
            <a:r>
              <a:rPr b="1" lang="en-US" sz="44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0F16-3548-414A-8843-7E3A4EB7767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7715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مثال   (قاعدة بيانات مستشفى)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6" name="Slide Number Placeholder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0B46-8413-49AC-B50D-8F9C70D4781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362480" y="1268280"/>
          <a:ext cx="4595760" cy="2521080"/>
        </p:xfrm>
        <a:graphic>
          <a:graphicData uri="http://schemas.openxmlformats.org/drawingml/2006/table">
            <a:tbl>
              <a:tblPr/>
              <a:tblGrid>
                <a:gridCol w="1050840"/>
                <a:gridCol w="895320"/>
                <a:gridCol w="927360"/>
                <a:gridCol w="860400"/>
                <a:gridCol w="8618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طب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جن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غ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س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س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ن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دع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خال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عز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ن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5"/>
          <p:cNvSpPr/>
          <p:nvPr/>
        </p:nvSpPr>
        <p:spPr>
          <a:xfrm>
            <a:off x="6659640" y="719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جدول المرض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948200" y="4653000"/>
          <a:ext cx="3951360" cy="1852560"/>
        </p:xfrm>
        <a:graphic>
          <a:graphicData uri="http://schemas.openxmlformats.org/drawingml/2006/table">
            <a:tbl>
              <a:tblPr/>
              <a:tblGrid>
                <a:gridCol w="1062000"/>
                <a:gridCol w="1471680"/>
                <a:gridCol w="141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دو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سم الدو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صن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NAD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I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10"/>
          <p:cNvSpPr/>
          <p:nvPr/>
        </p:nvSpPr>
        <p:spPr>
          <a:xfrm>
            <a:off x="6804000" y="4038480"/>
            <a:ext cx="20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جدول الأد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68360" y="1401840"/>
          <a:ext cx="3641760" cy="1955880"/>
        </p:xfrm>
        <a:graphic>
          <a:graphicData uri="http://schemas.openxmlformats.org/drawingml/2006/table">
            <a:tbl>
              <a:tblPr/>
              <a:tblGrid>
                <a:gridCol w="977760"/>
                <a:gridCol w="1244520"/>
                <a:gridCol w="141948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غ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تحوي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عدد الأس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2" name="TextBox 7"/>
          <p:cNvSpPr/>
          <p:nvPr/>
        </p:nvSpPr>
        <p:spPr>
          <a:xfrm>
            <a:off x="1835280" y="888840"/>
            <a:ext cx="21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mic Sans MS"/>
                <a:cs typeface="Tahoma"/>
              </a:rPr>
              <a:t>جدول الغر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55640" y="4653000"/>
          <a:ext cx="3745080" cy="1871640"/>
        </p:xfrm>
        <a:graphic>
          <a:graphicData uri="http://schemas.openxmlformats.org/drawingml/2006/table">
            <a:tbl>
              <a:tblPr/>
              <a:tblGrid>
                <a:gridCol w="1122480"/>
                <a:gridCol w="1123920"/>
                <a:gridCol w="1498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دو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ك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11"/>
          <p:cNvSpPr/>
          <p:nvPr/>
        </p:nvSpPr>
        <p:spPr>
          <a:xfrm>
            <a:off x="1258920" y="412128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mic Sans MS"/>
                <a:cs typeface="Tahoma"/>
              </a:rPr>
              <a:t>جدول يعالج بواس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2"/>
          <p:cNvSpPr/>
          <p:nvPr/>
        </p:nvSpPr>
        <p:spPr>
          <a:xfrm>
            <a:off x="539640" y="620640"/>
            <a:ext cx="827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لاحظ أن هذه الجداول يوجد بينهم علاقات ، لو أردنا أن نستعلم عن شيء معين داخل قاعدة البيانات ، فسيقوم الحاسب باسترجاعه عن طريق العلاقات التي بين تلك الجدا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714240" y="201600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a2e4e"/>
                </a:solidFill>
                <a:latin typeface="Arial"/>
                <a:cs typeface="Times New Roman"/>
              </a:rPr>
              <a:t>مثلا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a2e4e"/>
                </a:solidFill>
                <a:latin typeface="Arial"/>
                <a:cs typeface="Times New Roman"/>
              </a:rPr>
              <a:t>لو أردنا اسم  المريض رقم </a:t>
            </a:r>
            <a:r>
              <a:rPr b="1" lang="ar-SA" sz="2400" spc="-1" strike="noStrike">
                <a:solidFill>
                  <a:srgbClr val="8a2e4e"/>
                </a:solidFill>
                <a:latin typeface="Arial"/>
                <a:ea typeface="Times New Roman"/>
              </a:rPr>
              <a:t>313</a:t>
            </a:r>
            <a:r>
              <a:rPr b="1" lang="ar-SA" sz="2400" spc="-1" strike="noStrike">
                <a:solidFill>
                  <a:srgbClr val="8a2e4e"/>
                </a:solidFill>
                <a:latin typeface="Arial"/>
                <a:ea typeface="Times New Roman"/>
              </a:rPr>
              <a:t> ورقم الغرفة التي يرقد بها وتحويلة هذه الغرفة واسم الدواء الذي يتناوله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785880" y="373860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أولاً يستخرج الحاسب اسم المريض والغرفة التي يرقد بها م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34b73"/>
                </a:solidFill>
                <a:latin typeface="Arial"/>
                <a:cs typeface="Times New Roman"/>
              </a:rPr>
              <a:t>جدول المرضى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اسم المريض محمد  الغرف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) , ثم ينتقل إل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34b73"/>
                </a:solidFill>
                <a:latin typeface="Arial"/>
                <a:cs typeface="Times New Roman"/>
              </a:rPr>
              <a:t>جدول الغرف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أخذ رقم التحويلة للغرف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 التحويل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3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، ثم ينتقل إلى </a:t>
            </a:r>
            <a:r>
              <a:rPr b="1" lang="ar-SA" sz="2400" spc="-1" strike="noStrike">
                <a:solidFill>
                  <a:srgbClr val="a34b73"/>
                </a:solidFill>
                <a:latin typeface="Arial"/>
                <a:cs typeface="Times New Roman"/>
              </a:rPr>
              <a:t>جدول يعالج بواسط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أخذ رقم الدواء  ,ومن ثم يتجه إ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34b73"/>
                </a:solidFill>
                <a:latin typeface="Arial"/>
                <a:cs typeface="Times New Roman"/>
              </a:rPr>
              <a:t>جدول الأدوي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أخذ اسم هذا الدواء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G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04D4-1F3F-48B1-9D0A-091766BAEBE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خطوات</a:t>
            </a:r>
            <a:r>
              <a:rPr b="0" lang="en-US" sz="3200" spc="-1" strike="noStrike" u="sng">
                <a:solidFill>
                  <a:srgbClr val="b83d68"/>
                </a:solidFill>
                <a:uFillTx/>
                <a:latin typeface="Franklin Gothic Book"/>
              </a:rPr>
              <a:t> </a:t>
            </a:r>
            <a:r>
              <a:rPr b="1" lang="hi-IN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بناء قواعد البيانات </a:t>
            </a:r>
            <a:r>
              <a:rPr b="0" lang="en-US" sz="3200" spc="-1" strike="noStrike">
                <a:solidFill>
                  <a:srgbClr val="b83d68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4000" y="1447920"/>
            <a:ext cx="8496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83d68"/>
                </a:solidFill>
                <a:latin typeface="Perpetua"/>
              </a:rPr>
              <a:t>أولا :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تحديد متطلبات قاعدة البيانات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وبناء عليها يصمم ما يسمى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               بنموذج الكيان و العلاقة الرابطة 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RD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83d68"/>
                </a:solidFill>
                <a:latin typeface="Perpetua"/>
              </a:rPr>
              <a:t>ثانياً :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تحويل نموذج الكيان و العلاقة الرابطة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RD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 إلى جداول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             كمخطط قابل للتنفيذ على نظام إدارة قواعد البيانات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DBMS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83d68"/>
                </a:solidFill>
                <a:latin typeface="Perpetua"/>
              </a:rPr>
              <a:t>ثالثاً :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التنفيذ الفعلي للمخطط وتخزينه على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نظام إدارة قواعد البيانات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DBMS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في جهاز الحاسب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شكل حر 20"/>
          <p:cNvSpPr/>
          <p:nvPr/>
        </p:nvSpPr>
        <p:spPr>
          <a:xfrm>
            <a:off x="2889360" y="1484280"/>
            <a:ext cx="3504960" cy="1063800"/>
          </a:xfrm>
          <a:prstGeom prst="pie">
            <a:avLst/>
          </a:prstGeom>
          <a:solidFill>
            <a:srgbClr val="b83d6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رسم نموذج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الكي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ان و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العلا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قة الرابطة 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ER Diagram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شكل حر 21"/>
          <p:cNvSpPr/>
          <p:nvPr/>
        </p:nvSpPr>
        <p:spPr>
          <a:xfrm>
            <a:off x="4246560" y="2692440"/>
            <a:ext cx="630360" cy="398520"/>
          </a:xfrm>
          <a:custGeom>
            <a:avLst/>
            <a:gdLst/>
            <a:ahLst/>
            <a:rect l="l" t="t" r="r" b="b"/>
            <a:pathLst>
              <a:path w="308287" h="369944">
                <a:moveTo>
                  <a:pt x="246629" y="1"/>
                </a:moveTo>
                <a:lnTo>
                  <a:pt x="246629" y="184973"/>
                </a:lnTo>
                <a:lnTo>
                  <a:pt x="308287" y="184973"/>
                </a:lnTo>
                <a:lnTo>
                  <a:pt x="154144" y="369943"/>
                </a:lnTo>
                <a:lnTo>
                  <a:pt x="0" y="184973"/>
                </a:lnTo>
                <a:lnTo>
                  <a:pt x="61658" y="184973"/>
                </a:lnTo>
                <a:lnTo>
                  <a:pt x="61658" y="1"/>
                </a:lnTo>
                <a:lnTo>
                  <a:pt x="246629" y="1"/>
                </a:lnTo>
                <a:close/>
              </a:path>
            </a:pathLst>
          </a:cu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0" bIns="92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شكل حر 22"/>
          <p:cNvSpPr/>
          <p:nvPr/>
        </p:nvSpPr>
        <p:spPr>
          <a:xfrm>
            <a:off x="2889360" y="3198960"/>
            <a:ext cx="3504960" cy="1396800"/>
          </a:xfrm>
          <a:prstGeom prst="pie">
            <a:avLst/>
          </a:prstGeom>
          <a:solidFill>
            <a:srgbClr val="b83d6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وضع 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مخطط 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ل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قاعدة ال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Perpetua"/>
                <a:cs typeface="Times New Roman"/>
              </a:rPr>
              <a:t>تحويل نموذج الكيان والعلاقة الرابطة إلى جداو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Database Schema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شكل حر 23"/>
          <p:cNvSpPr/>
          <p:nvPr/>
        </p:nvSpPr>
        <p:spPr>
          <a:xfrm>
            <a:off x="4325760" y="4687920"/>
            <a:ext cx="630360" cy="398520"/>
          </a:xfrm>
          <a:custGeom>
            <a:avLst/>
            <a:gdLst/>
            <a:ahLst/>
            <a:rect l="l" t="t" r="r" b="b"/>
            <a:pathLst>
              <a:path w="308287" h="369944">
                <a:moveTo>
                  <a:pt x="246629" y="1"/>
                </a:moveTo>
                <a:lnTo>
                  <a:pt x="246629" y="184973"/>
                </a:lnTo>
                <a:lnTo>
                  <a:pt x="308287" y="184973"/>
                </a:lnTo>
                <a:lnTo>
                  <a:pt x="154144" y="369943"/>
                </a:lnTo>
                <a:lnTo>
                  <a:pt x="0" y="184973"/>
                </a:lnTo>
                <a:lnTo>
                  <a:pt x="61658" y="184973"/>
                </a:lnTo>
                <a:lnTo>
                  <a:pt x="61658" y="1"/>
                </a:lnTo>
                <a:lnTo>
                  <a:pt x="246629" y="1"/>
                </a:lnTo>
                <a:close/>
              </a:path>
            </a:pathLst>
          </a:cu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0" bIns="92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شكل حر 24"/>
          <p:cNvSpPr/>
          <p:nvPr/>
        </p:nvSpPr>
        <p:spPr>
          <a:xfrm>
            <a:off x="2889360" y="5191200"/>
            <a:ext cx="3504960" cy="1063440"/>
          </a:xfrm>
          <a:prstGeom prst="pie">
            <a:avLst/>
          </a:prstGeom>
          <a:solidFill>
            <a:srgbClr val="b83d6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تخزين ال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جداول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في 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نظام إدارة قواعد البيانات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15"/>
          <p:cNvSpPr txBox="1"/>
          <p:nvPr/>
        </p:nvSpPr>
        <p:spPr>
          <a:xfrm>
            <a:off x="7020000" y="1566720"/>
            <a:ext cx="12938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أول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7" name="WordArt 16"/>
          <p:cNvSpPr txBox="1"/>
          <p:nvPr/>
        </p:nvSpPr>
        <p:spPr>
          <a:xfrm>
            <a:off x="7020000" y="3489480"/>
            <a:ext cx="129384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ث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8" name="WordArt 16"/>
          <p:cNvSpPr txBox="1"/>
          <p:nvPr/>
        </p:nvSpPr>
        <p:spPr>
          <a:xfrm>
            <a:off x="7020000" y="5229360"/>
            <a:ext cx="143820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ثالث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a34b73"/>
                </a:solidFill>
                <a:latin typeface="Arial"/>
                <a:cs typeface="Arial"/>
              </a:rPr>
              <a:t>خطوات</a:t>
            </a:r>
            <a:r>
              <a:rPr b="0" lang="en-US" sz="3200" spc="-1" strike="noStrike">
                <a:solidFill>
                  <a:srgbClr val="b83d68"/>
                </a:solidFill>
                <a:latin typeface="Franklin Gothic Book"/>
              </a:rPr>
              <a:t> </a:t>
            </a:r>
            <a:r>
              <a:rPr b="1" lang="hi-IN" sz="3600" spc="-1" strike="noStrike">
                <a:solidFill>
                  <a:srgbClr val="a34b73"/>
                </a:solidFill>
                <a:latin typeface="Arial"/>
                <a:cs typeface="Arial"/>
              </a:rPr>
              <a:t>بناء قواعد البيانات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3A18-2A5B-4537-9336-EFF66CB9F24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50752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Franklin Gothic Book"/>
              </a:rPr>
              <a:t>المرحلة الأولى :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Franklin Gothic Book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رسم </a:t>
            </a:r>
            <a:r>
              <a:rPr b="0" lang="ar-SA" sz="2800" spc="-1" strike="noStrike">
                <a:solidFill>
                  <a:srgbClr val="ffffff"/>
                </a:solidFill>
                <a:latin typeface="Franklin Gothic Book"/>
              </a:rPr>
              <a:t>نموذج</a:t>
            </a:r>
            <a:r>
              <a:rPr b="0" lang="ar-JO" sz="2800" spc="-1" strike="noStrike">
                <a:solidFill>
                  <a:srgbClr val="ffffff"/>
                </a:solidFill>
                <a:latin typeface="Franklin Gothic Book"/>
              </a:rPr>
              <a:t> الكي</a:t>
            </a:r>
            <a:r>
              <a:rPr b="0" lang="ar-SA" sz="2800" spc="-1" strike="noStrike">
                <a:solidFill>
                  <a:srgbClr val="ffffff"/>
                </a:solidFill>
                <a:latin typeface="Franklin Gothic Book"/>
              </a:rPr>
              <a:t>ان و</a:t>
            </a:r>
            <a:r>
              <a:rPr b="0" lang="ar-JO" sz="2800" spc="-1" strike="noStrike">
                <a:solidFill>
                  <a:srgbClr val="ffffff"/>
                </a:solidFill>
                <a:latin typeface="Franklin Gothic Book"/>
              </a:rPr>
              <a:t> العلا</a:t>
            </a:r>
            <a:r>
              <a:rPr b="0" lang="ar-SA" sz="2800" spc="-1" strike="noStrike">
                <a:solidFill>
                  <a:srgbClr val="ffffff"/>
                </a:solidFill>
                <a:latin typeface="Franklin Gothic Book"/>
              </a:rPr>
              <a:t>قة الرابط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B6BD-C8C9-47FA-B9D0-F7F0A03BE9D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611280" y="1773360"/>
            <a:ext cx="8353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يعتبر أحد أشهر و أهم طرق تصميم قواعد البيانات و هو نموذج </a:t>
            </a:r>
            <a:r>
              <a:rPr b="0" lang="ar-SA" sz="2800" spc="-1" strike="noStrike">
                <a:solidFill>
                  <a:srgbClr val="b83d68"/>
                </a:solidFill>
                <a:latin typeface="Arial"/>
                <a:cs typeface="Times New Roman"/>
              </a:rPr>
              <a:t>رسوم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يقوم بتمثيل الكيانات الموجودة في قاعدة البيانات وصفاتها والعلاقات بينها وكذلك القيود المفروضة عليها باستخدام أشكال رسومية محد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يعتمد على ثلاثة عناص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514440" algn="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كيان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514440" algn="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صفات أو الخصائ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514440" algn="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لاقات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مربع نص 8"/>
          <p:cNvSpPr/>
          <p:nvPr/>
        </p:nvSpPr>
        <p:spPr>
          <a:xfrm>
            <a:off x="395280" y="26028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800" spc="-1" strike="noStrike">
                <a:solidFill>
                  <a:srgbClr val="b83d68"/>
                </a:solidFill>
                <a:latin typeface="Tahoma"/>
                <a:cs typeface="Tahoma"/>
              </a:rPr>
              <a:t>نموذج</a:t>
            </a:r>
            <a:r>
              <a:rPr b="1" lang="ar-JO" sz="2800" spc="-1" strike="noStrike">
                <a:solidFill>
                  <a:srgbClr val="b83d68"/>
                </a:solidFill>
                <a:latin typeface="Tahoma"/>
                <a:ea typeface="Tahoma"/>
              </a:rPr>
              <a:t> الكي</a:t>
            </a:r>
            <a:r>
              <a:rPr b="1" lang="ar-SA" sz="2800" spc="-1" strike="noStrike">
                <a:solidFill>
                  <a:srgbClr val="b83d68"/>
                </a:solidFill>
                <a:latin typeface="Tahoma"/>
                <a:cs typeface="Tahoma"/>
              </a:rPr>
              <a:t>ان و</a:t>
            </a:r>
            <a:r>
              <a:rPr b="1" lang="ar-JO" sz="2800" spc="-1" strike="noStrike">
                <a:solidFill>
                  <a:srgbClr val="b83d68"/>
                </a:solidFill>
                <a:latin typeface="Tahoma"/>
                <a:ea typeface="Tahoma"/>
              </a:rPr>
              <a:t> العلا</a:t>
            </a:r>
            <a:r>
              <a:rPr b="1" lang="ar-SA" sz="2800" spc="-1" strike="noStrike">
                <a:solidFill>
                  <a:srgbClr val="b83d68"/>
                </a:solidFill>
                <a:latin typeface="Tahoma"/>
                <a:cs typeface="Tahoma"/>
              </a:rPr>
              <a:t>قة الرابطة</a:t>
            </a:r>
            <a:r>
              <a:rPr b="1" lang="en-US" sz="2800" spc="-1" strike="noStrike">
                <a:solidFill>
                  <a:srgbClr val="b83d68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b83d68"/>
                </a:solidFill>
                <a:latin typeface="Tahoma"/>
                <a:ea typeface="Tahoma"/>
              </a:rPr>
              <a:t>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3d68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b83d68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Entity-Relationship  Diagram  (ERD)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4:27:27Z</dcterms:created>
  <dc:creator>asma</dc:creator>
  <dc:description/>
  <dc:language>en-US</dc:language>
  <cp:lastModifiedBy>user</cp:lastModifiedBy>
  <dcterms:modified xsi:type="dcterms:W3CDTF">2015-02-12T05:56:05Z</dcterms:modified>
  <cp:revision>1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24A8EF81518844905C9EE96F3BA77B</vt:lpwstr>
  </property>
</Properties>
</file>