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9D4-30E1-4DD7-9AB6-CEF62141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B8B-7D93-461E-ACE1-CDEAD5E0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D17-CB6F-4923-B787-C1F61C43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6D7-1509-4DB7-96C5-4DE65310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B23-C837-480B-89BC-9ED50A0F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CFB-1D4F-43CD-A264-5D37CAFF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DC4-17C3-4508-ACB7-72804C8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73A-4DE4-4B11-B4FF-23958F86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B6E-CA19-44A6-867B-7267DDED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9B6-4BA5-4676-938D-C33D3C95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0FB-1F4F-4983-8300-DA68F1D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1D2-DC40-4576-B735-C4B9E80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CDFC-99D2-46DC-9203-3C049CEE828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257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6f6cc"/>
                </a:solidFill>
                <a:latin typeface="Times New Roman"/>
                <a:cs typeface="MCS Makkah S_I normal."/>
              </a:rPr>
              <a:t>بيت معلمي الكيمياء بالعاصمة المقدسة </a:t>
            </a:r>
            <a:r>
              <a:rPr b="1" lang="en-US" sz="4000" spc="-1" strike="noStrike">
                <a:solidFill>
                  <a:srgbClr val="f6f6cc"/>
                </a:solidFill>
                <a:latin typeface="Times New Roman"/>
                <a:ea typeface="MCS Makkah S_I normal."/>
              </a:rPr>
              <a:t>1421</a:t>
            </a:r>
            <a:r>
              <a:rPr b="1" lang="hi-IN" sz="4000" spc="-1" strike="noStrike">
                <a:solidFill>
                  <a:srgbClr val="f6f6cc"/>
                </a:solidFill>
                <a:latin typeface="Times New Roman"/>
                <a:cs typeface="MCS Makkah S_I normal."/>
              </a:rPr>
              <a:t>ه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304920"/>
            <a:ext cx="5485680" cy="5409360"/>
            <a:chOff x="2133720" y="304920"/>
            <a:chExt cx="5485680" cy="5409360"/>
          </a:xfrm>
        </p:grpSpPr>
        <p:grpSp>
          <p:nvGrpSpPr>
            <p:cNvPr id="43" name=""/>
            <p:cNvGrpSpPr/>
            <p:nvPr/>
          </p:nvGrpSpPr>
          <p:grpSpPr>
            <a:xfrm>
              <a:off x="3317400" y="1712880"/>
              <a:ext cx="3108600" cy="3005280"/>
              <a:chOff x="3317400" y="1712880"/>
              <a:chExt cx="3108600" cy="3005280"/>
            </a:xfrm>
          </p:grpSpPr>
          <p:sp>
            <p:nvSpPr>
              <p:cNvPr id="44" name=""/>
              <p:cNvSpPr/>
              <p:nvPr/>
            </p:nvSpPr>
            <p:spPr>
              <a:xfrm rot="5371800">
                <a:off x="3298320" y="2746440"/>
                <a:ext cx="2997720" cy="93780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9797000">
                <a:off x="3310920" y="2923560"/>
                <a:ext cx="3033720" cy="71136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482000">
                <a:off x="3353400" y="2787480"/>
                <a:ext cx="3036240" cy="83808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20240" y="2958120"/>
                <a:ext cx="433080" cy="568800"/>
              </a:xfrm>
              <a:prstGeom prst="ellips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227480" y="2597040"/>
                <a:ext cx="215280" cy="3398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58520" y="3600000"/>
                <a:ext cx="21636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704920" y="2832480"/>
                <a:ext cx="216360" cy="342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133720" y="304920"/>
              <a:ext cx="5485680" cy="5409360"/>
              <a:chOff x="2133720" y="304920"/>
              <a:chExt cx="5485680" cy="5409360"/>
            </a:xfrm>
          </p:grpSpPr>
          <p:sp>
            <p:nvSpPr>
              <p:cNvPr id="52" name=""/>
              <p:cNvSpPr txBox="1"/>
              <p:nvPr/>
            </p:nvSpPr>
            <p:spPr>
              <a:xfrm>
                <a:off x="2133720" y="304920"/>
                <a:ext cx="5036400" cy="357480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Chevron">
                  <a:avLst>
                    <a:gd name="adj" fmla="val 36528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Arial Black"/>
                  </a:rPr>
                  <a:t>تربية وتعليم</a:t>
                </a:r>
                <a:endPara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2454840" y="3835440"/>
                <a:ext cx="5164560" cy="18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6494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Arial Black"/>
                  </a:rPr>
                  <a:t>Chemistr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Arial Black"/>
                  <a:ea typeface="Arial Black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838080"/>
            <a:ext cx="426708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الجدول الدوري الحدي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828800"/>
            <a:ext cx="69339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آخر محاولة وضعت لتصنيف العناصر وترتيبها في جدول ، هي ترتيب العناصر في جدول عرف بالجدول الدوري الحدي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962520"/>
            <a:ext cx="69343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وقد تم ترتيب العناصر في هذا الجدول استناداً إلى ثلاث أسس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609480"/>
            <a:ext cx="716256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رتبت العناصر حسب ازدياد العدد الذر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وضعت العناصر في دورات (سطور أفقية ) اعتماداً على عدد مستويات الطاقة الالكترونية المشغولة بالإلكترونات  ، هذا ويحتوي الجدول على سبعة دور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وضعت العناصر في مجموعات ( أعمدة رأسية ) اعتماداً على التساوي في عدد إلكترونات مستوى الطاقة الأخير ( مستوى التكافؤ )  ويتألف الجدول من ثمان مجموعات رئيسية أ ، وثمان فرعية ب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858000" cy="4743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2960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81080" y="762120"/>
            <a:ext cx="525780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مناطق الجدول الدوري الحدي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8288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يمكن تمييز خمسة مناطق في الجدول الدوري الحديث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3200400"/>
            <a:ext cx="72392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يسرى : وتضم عناصر المجموعتين الرئيسيتين (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,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أ )الفلزات القلوية والقلوية الأرضية ، وتتميز عناصر هذه المنطقة بملء المجال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ي مستوى الطاقة الأخير ( مستوى التكافؤ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1371600"/>
            <a:ext cx="723888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يمنى : وتضم بقية المجموعات الرئيسية الست ، وتتميز عناصر هذه المنطقة بملء المجالين (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S,P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)  في مستوى الطاقة الأخير           ( مستوى التكافؤ ) . هذا وتعرف العناصر في المجموعات الرئيسية الثمانى بالعناصر التمثيلية غير الانتق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838080"/>
            <a:ext cx="7238880" cy="72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وسطى : وتضم العناصر في المجموعات الفرعية الثماني  ، وتتميز عناصر هذه المنطقة بملء المجال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d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ي مستوى الطاقة الأخير    ( مستوى التكافؤ ) 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تعرف عناصر هذه المنطقة بالعناصر الانتقالية ، وتتألف من ثلاث متسلسلات ، تحوي كل متسلسلة على عشرة عناصر فيكون عدد العناصر الانتقالية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0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عنصراً 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1295280"/>
            <a:ext cx="72392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سفلى : وتضم عناصر السلسلتين  ،  سلسلة اللانثانيدات ( العناصر الأرضية النادرة) وسلسلة الأكتينيدات ( العناصر المشعة )وتتميز عناصر هذه المنطقة بملء المجال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f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ي مستوى الطاقة الأخير ( مستوى التكافؤ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52680" y="762120"/>
            <a:ext cx="25146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Monotype Koufi"/>
              </a:rPr>
              <a:t> التكافؤ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905120"/>
            <a:ext cx="72392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تكافؤ هو : عدد الإلكترونات التي تفقدها الذرة أو تكتسبها أو تمنحها للمشاركة ذرة العنصر في التفاعل الكيميائي للوصول للتركيب الإلكتروني الخاص بالغازات الخاملة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76520" y="609480"/>
          <a:ext cx="6095880" cy="56959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التكاف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AL-Mohanad Bold"/>
                        </a:rPr>
                        <a:t> المجموعة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أولى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ثاني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ثالث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 ،  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  مشارك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رابع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خامس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سادس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سابعة أ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صف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صف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781280"/>
            <a:ext cx="65534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  <a:ea typeface="Monotype Koufi"/>
              </a:rPr>
              <a:t>  التفاعل الكيميائي والمعادلة الكيميائ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1096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08000" y="1773360"/>
            <a:ext cx="5715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التصنيف الدوري للعناصر  التفاعل الكيميائي  المعادلة الكيميائية الروابط الكيميائي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1066680"/>
            <a:ext cx="72388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تفاعل الكيميائي : تغير يطرأ على مادة أو مجموعة من المواد فتنتج مواد جديدة مختلفة الخواص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311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وكل التفاعلات الكيميائية تشتمل على مايل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1295280"/>
            <a:ext cx="7467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كسر روابط وتكوين روابط جديد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نتاج مواد جديدة مختلفة في خواص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غير في ترتيب وتوزيع الذرات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نتاج أو امتصاص حرار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كتل المواد الناتجة تساوي كتل المواد المتفاع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90920" y="914400"/>
            <a:ext cx="4419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  <a:ea typeface="Monotype Koufi"/>
              </a:rPr>
              <a:t>  المعادلة الكيميائ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المعادلة الكيميائية : وصف موجز ودقيق للتفاعل الكيميائي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35268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تفاعل غاز النيتروجين مع غاز الهيدروجين لانتاج غاز النشادر يمكن وصفه بالمعادلة التالية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19320" y="5211720"/>
            <a:ext cx="7238880" cy="733680"/>
            <a:chOff x="1219320" y="5211720"/>
            <a:chExt cx="7238880" cy="733680"/>
          </a:xfrm>
        </p:grpSpPr>
        <p:sp>
          <p:nvSpPr>
            <p:cNvPr id="92" name=""/>
            <p:cNvSpPr/>
            <p:nvPr/>
          </p:nvSpPr>
          <p:spPr>
            <a:xfrm>
              <a:off x="1219320" y="5211720"/>
              <a:ext cx="72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N      +     H                      N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9680" y="5364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14800" y="5364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5317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551628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11430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والمعادلة الكيميائية  الموزونة هي : المعادلة التي ينطبق عليها قانون حفظ الكت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5121360"/>
            <a:ext cx="7238880" cy="747360"/>
            <a:chOff x="838080" y="5121360"/>
            <a:chExt cx="7238880" cy="747360"/>
          </a:xfrm>
        </p:grpSpPr>
        <p:grpSp>
          <p:nvGrpSpPr>
            <p:cNvPr id="99" name=""/>
            <p:cNvGrpSpPr/>
            <p:nvPr/>
          </p:nvGrpSpPr>
          <p:grpSpPr>
            <a:xfrm>
              <a:off x="838080" y="5135400"/>
              <a:ext cx="7238880" cy="733320"/>
              <a:chOff x="838080" y="5135400"/>
              <a:chExt cx="7238880" cy="733320"/>
            </a:xfrm>
          </p:grpSpPr>
          <p:sp>
            <p:nvSpPr>
              <p:cNvPr id="100" name=""/>
              <p:cNvSpPr/>
              <p:nvPr/>
            </p:nvSpPr>
            <p:spPr>
              <a:xfrm>
                <a:off x="838080" y="513540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N      +     H                      N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28440" y="528732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33560" y="52873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57640" y="52412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876560" y="5439600"/>
                <a:ext cx="9144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790960" y="5121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440" y="512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990720" y="2579760"/>
            <a:ext cx="72388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بمعنى تساوي كتلة المواد الناتجة وكتلة المواد المتفاعلة ، ويمكن تحقيق ذلك بمساواة عدد ذرات كل عنصر في طرفي المعاد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685800"/>
            <a:ext cx="63244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أسس كتابة المعادلة الكيميائية الموزو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438280"/>
            <a:ext cx="723924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عرفة المواد المتفاعلة والمواد الناتج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عرفة رموز العناصر وصيغ المركب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عرفة كيفية وزن المعادلة ( مساواة عدد ذرات كل عنصر في طرفي المعادلة )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066680"/>
            <a:ext cx="739152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لكتابة صيغ المركبات بطريقة صحيحة يجب معرفة الأيونات المكونة للمركب  ، فكل مركب كيميائي غير عضوي يتألف من أيونين ، أيون موجب وأخر سالب ، بحيث تكون الشحنة الكلية على المركب تساوي صفر ، وعند نطق اسم المركب يذكر اسم الأيون السالب أولاً ، وعند كتابة الصيغة يكتب الأيون الموجب أو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371600" y="412920"/>
          <a:ext cx="6477120" cy="596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12920"/>
                    <a:ext cx="6477120" cy="59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5280" y="914400"/>
            <a:ext cx="678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ولكتابة صيغة المركب يراعى أن ترتبط الأيونات بعدد مناسب لتكون الشحنة الكلية على المركب تساوي صف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895480"/>
            <a:ext cx="67820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ولنفرض أننا نريد كتابة صيغة مركب      كبريتات الأمونيوم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                           فإننا نقوم بالتال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66880" y="4143240"/>
            <a:ext cx="3200400" cy="1068840"/>
            <a:chOff x="2666880" y="4143240"/>
            <a:chExt cx="3200400" cy="1068840"/>
          </a:xfrm>
        </p:grpSpPr>
        <p:grpSp>
          <p:nvGrpSpPr>
            <p:cNvPr id="116" name=""/>
            <p:cNvGrpSpPr/>
            <p:nvPr/>
          </p:nvGrpSpPr>
          <p:grpSpPr>
            <a:xfrm>
              <a:off x="3047760" y="4143240"/>
              <a:ext cx="1447920" cy="795240"/>
              <a:chOff x="3047760" y="4143240"/>
              <a:chExt cx="1447920" cy="795240"/>
            </a:xfrm>
          </p:grpSpPr>
          <p:sp>
            <p:nvSpPr>
              <p:cNvPr id="117" name=""/>
              <p:cNvSpPr/>
              <p:nvPr/>
            </p:nvSpPr>
            <p:spPr>
              <a:xfrm>
                <a:off x="3047760" y="414324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NH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52680" y="42958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495680" y="4143240"/>
              <a:ext cx="1371600" cy="794880"/>
              <a:chOff x="4495680" y="4143240"/>
              <a:chExt cx="1371600" cy="794880"/>
            </a:xfrm>
          </p:grpSpPr>
          <p:sp>
            <p:nvSpPr>
              <p:cNvPr id="120" name=""/>
              <p:cNvSpPr/>
              <p:nvPr/>
            </p:nvSpPr>
            <p:spPr>
              <a:xfrm>
                <a:off x="4495680" y="414324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SO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24280" y="42955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657240" y="4249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4143240"/>
              <a:ext cx="1676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(         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743200" y="730080"/>
            <a:ext cx="1447920" cy="1099800"/>
            <a:chOff x="2743200" y="730080"/>
            <a:chExt cx="1447920" cy="1099800"/>
          </a:xfrm>
        </p:grpSpPr>
        <p:grpSp>
          <p:nvGrpSpPr>
            <p:cNvPr id="125" name=""/>
            <p:cNvGrpSpPr/>
            <p:nvPr/>
          </p:nvGrpSpPr>
          <p:grpSpPr>
            <a:xfrm>
              <a:off x="2743200" y="1035000"/>
              <a:ext cx="1371600" cy="794880"/>
              <a:chOff x="2743200" y="1035000"/>
              <a:chExt cx="1371600" cy="794880"/>
            </a:xfrm>
          </p:grpSpPr>
          <p:sp>
            <p:nvSpPr>
              <p:cNvPr id="126" name=""/>
              <p:cNvSpPr/>
              <p:nvPr/>
            </p:nvSpPr>
            <p:spPr>
              <a:xfrm>
                <a:off x="2743200" y="1035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SO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71800" y="11872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048120" y="7300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=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85800" y="685800"/>
            <a:ext cx="1447920" cy="1099800"/>
            <a:chOff x="685800" y="685800"/>
            <a:chExt cx="1447920" cy="1099800"/>
          </a:xfrm>
        </p:grpSpPr>
        <p:grpSp>
          <p:nvGrpSpPr>
            <p:cNvPr id="130" name=""/>
            <p:cNvGrpSpPr/>
            <p:nvPr/>
          </p:nvGrpSpPr>
          <p:grpSpPr>
            <a:xfrm>
              <a:off x="685800" y="990720"/>
              <a:ext cx="1447920" cy="794880"/>
              <a:chOff x="685800" y="990720"/>
              <a:chExt cx="1447920" cy="794880"/>
            </a:xfrm>
          </p:grpSpPr>
          <p:sp>
            <p:nvSpPr>
              <p:cNvPr id="131" name=""/>
              <p:cNvSpPr/>
              <p:nvPr/>
            </p:nvSpPr>
            <p:spPr>
              <a:xfrm>
                <a:off x="685800" y="9907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NH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0720" y="1143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990720" y="6858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+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34340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كتب رموز أو صيغ الأيون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406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كتب التكافؤ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778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بادل عدد التكافؤ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073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كتب الصيغة النه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3623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346480"/>
            <a:ext cx="83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+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940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809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38080" y="4952880"/>
            <a:ext cx="3047760" cy="1312920"/>
            <a:chOff x="838080" y="4952880"/>
            <a:chExt cx="3047760" cy="1312920"/>
          </a:xfrm>
        </p:grpSpPr>
        <p:grpSp>
          <p:nvGrpSpPr>
            <p:cNvPr id="143" name=""/>
            <p:cNvGrpSpPr/>
            <p:nvPr/>
          </p:nvGrpSpPr>
          <p:grpSpPr>
            <a:xfrm>
              <a:off x="1066680" y="5029200"/>
              <a:ext cx="1447200" cy="794880"/>
              <a:chOff x="1066680" y="5029200"/>
              <a:chExt cx="1447200" cy="794880"/>
            </a:xfrm>
          </p:grpSpPr>
          <p:sp>
            <p:nvSpPr>
              <p:cNvPr id="144" name=""/>
              <p:cNvSpPr/>
              <p:nvPr/>
            </p:nvSpPr>
            <p:spPr>
              <a:xfrm>
                <a:off x="1066680" y="502920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NH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71240" y="518148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38080" y="4952880"/>
              <a:ext cx="3047760" cy="1312920"/>
              <a:chOff x="838080" y="4952880"/>
              <a:chExt cx="3047760" cy="13129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2514240" y="5073480"/>
                <a:ext cx="1371600" cy="794880"/>
                <a:chOff x="2514240" y="5073480"/>
                <a:chExt cx="1371600" cy="7948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514240" y="5073480"/>
                  <a:ext cx="114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 rtl="1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SO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 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42840" y="5225760"/>
                  <a:ext cx="114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 rtl="1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4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 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838080" y="4952880"/>
                <a:ext cx="16761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ar-SA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(          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28440" y="518148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 flipH="1">
            <a:off x="1371240" y="2743200"/>
            <a:ext cx="15238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819520"/>
            <a:ext cx="129564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7621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ومن المفيد عند كتابة المعادلة الكيميائية الإشارة إلى حالة المواد الموجودة في التفاعل ، ويستخدم لذلك الحروف التالية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يدل على الحالة الغاز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505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يدل على الحالة الصلبة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191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يدل على الحالة السائلة النق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95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ين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aq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للدلالة  على المحاليل الم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609480"/>
            <a:ext cx="52578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مفردات العر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838160"/>
            <a:ext cx="6629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صنيف الدوري للعناص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فلزات واللافلز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جدول الدوري ال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ناطق الجدول الدوري ال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5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كافؤ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6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فاعل الكيميائي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7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عادلة الكيمي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8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أسس كتابة المعادلة الكيميائية الموزون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685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أمثلة على كتابة المعادلات الكيميائ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981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AL-Mohanad Bold"/>
              </a:rPr>
              <a:t> اكتب معادلات كيميائية موزونة تمثل التفاعلات التالية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76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غاز الهيدروجين مع غاز الأكسجين لانتاج بخار الم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غاز الهيدروجين مع غاز النيتروجين لانتاج غاز النشاد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762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الكربون مع غاز الأكسجين لانتاج غاز أول أكسيد الكرب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057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4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محلول  هيدروكسيد الصوديوم مع غاز ثاني أكسيد الكربون لانتاج كربونات الصوديوم والم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5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محلول  هيدروكسيد الكالسيوم مع حمض الكبريت لانتاج كبريتات الكالسيوم والم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09480" y="541440"/>
          <a:ext cx="807732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41440"/>
                    <a:ext cx="807732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380880"/>
            <a:ext cx="632484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Times New Roman"/>
                <a:ea typeface="Monotype Koufi"/>
              </a:rPr>
              <a:t> أنواع التفاعلات الكيميائ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2193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يمكن تمييز نوعين من التفاعلات الكيميائية 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828800"/>
            <a:ext cx="7010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فاعلات أيونية                                         وهي تفاعلات لا يحدث فيها انتقال للإلكترونات وكل ما يحدث هو نوع من التبادل في أماكن الذ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14400" y="5410080"/>
            <a:ext cx="7467480" cy="703440"/>
            <a:chOff x="914400" y="5410080"/>
            <a:chExt cx="7467480" cy="703440"/>
          </a:xfrm>
        </p:grpSpPr>
        <p:sp>
          <p:nvSpPr>
            <p:cNvPr id="172" name=""/>
            <p:cNvSpPr/>
            <p:nvPr/>
          </p:nvSpPr>
          <p:spPr>
            <a:xfrm>
              <a:off x="914400" y="5410080"/>
              <a:ext cx="746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HCl    +   NaOH          NaCl   +  H  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715000"/>
              <a:ext cx="838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34320" y="55627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154760" y="403848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66"/>
                </a:solidFill>
                <a:latin typeface="Times New Roman"/>
                <a:cs typeface="AL-Mohanad Bold"/>
              </a:rPr>
              <a:t>مثا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066680"/>
            <a:ext cx="701028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فاعلات أكسدة واختزال                                             وهي تفاعلات يحدث فيها انتقال للإلكترونات من ذرة إ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90720" y="4191120"/>
            <a:ext cx="7010280" cy="839520"/>
            <a:chOff x="990720" y="4191120"/>
            <a:chExt cx="7010280" cy="839520"/>
          </a:xfrm>
        </p:grpSpPr>
        <p:sp>
          <p:nvSpPr>
            <p:cNvPr id="178" name=""/>
            <p:cNvSpPr/>
            <p:nvPr/>
          </p:nvSpPr>
          <p:spPr>
            <a:xfrm>
              <a:off x="990720" y="419112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C      +      O                    CO</a:t>
              </a:r>
              <a:r>
                <a:rPr b="1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1680" y="45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9880" y="45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4537080"/>
              <a:ext cx="1219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927600" y="310824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66"/>
                </a:solidFill>
                <a:latin typeface="Times New Roman"/>
                <a:cs typeface="AL-Mohanad Bold"/>
              </a:rPr>
              <a:t>مثا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1279440"/>
            <a:ext cx="6324480" cy="703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الروابط الكيميائ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2590920"/>
            <a:ext cx="69343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هناك العديد من الروابط الكيميائية التي تربط بين الذرات والجزيئات في المواد المختلفة ، وتعتبر الرابطة الأيونية والرابطة التساهمية من أشهر هذه الروابط 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609480"/>
            <a:ext cx="7696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بل التعرف على هذين النوعين من الروابط من اللازم طرح هذا السؤال :  لماذا تميل العناصر للاتحاد مع بعضها وترتبط  معاً لتكون المركبات ؟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743200"/>
            <a:ext cx="7924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جواب : لان العناصر بفقدانها أو اكتسابها عدد من الإلكترونات أو حتى المساهمة والمشاركة تصل إلى التركيب الإلكتروني الثابت ( الخامل ) فتكون طاقة وضع المركب أقل من مجموع طاقة العناصر المكونة ل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1080" y="1066680"/>
            <a:ext cx="5181840" cy="703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66"/>
                </a:solidFill>
                <a:latin typeface="Times New Roman"/>
                <a:cs typeface="Monotype Koufi"/>
              </a:rPr>
              <a:t>أولاً : الرابطة الأيون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28600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رابطة الأيونية عبارة عن تجاذب كهربي يربط بين أيونين ، أيون موجب تكون نتيجة فقدان ذرة العنصر لإلكترون أو أكثر وأيون سالب تكون نتيجة لاكتساب ذرة العنصر لإلكترون أو أكثر 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380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 مثال للرابطة الأيون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371600"/>
            <a:ext cx="769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رابطة الأيونية في ملح كلوريد الصوديو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توزيع الإلكتروني لعنصر الصوديو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8862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توزيع الإلكتروني لعنصر الكل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4997520"/>
            <a:ext cx="7696080" cy="871200"/>
            <a:chOff x="685800" y="4997520"/>
            <a:chExt cx="7696080" cy="871200"/>
          </a:xfrm>
        </p:grpSpPr>
        <p:sp>
          <p:nvSpPr>
            <p:cNvPr id="194" name=""/>
            <p:cNvSpPr/>
            <p:nvPr/>
          </p:nvSpPr>
          <p:spPr>
            <a:xfrm>
              <a:off x="685800" y="5226120"/>
              <a:ext cx="76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1S 2S 2P 3S 3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9200" y="50115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49975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33920" y="49975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8680" y="49975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5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43400" y="49975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6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8080" y="2879640"/>
            <a:ext cx="7696440" cy="932040"/>
            <a:chOff x="838080" y="2879640"/>
            <a:chExt cx="7696440" cy="932040"/>
          </a:xfrm>
        </p:grpSpPr>
        <p:sp>
          <p:nvSpPr>
            <p:cNvPr id="201" name=""/>
            <p:cNvSpPr/>
            <p:nvPr/>
          </p:nvSpPr>
          <p:spPr>
            <a:xfrm>
              <a:off x="838080" y="3108240"/>
              <a:ext cx="769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1S 2S 2P 3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505320" y="2879640"/>
              <a:ext cx="2818800" cy="534960"/>
              <a:chOff x="3505320" y="2879640"/>
              <a:chExt cx="2818800" cy="534960"/>
            </a:xfrm>
          </p:grpSpPr>
          <p:sp>
            <p:nvSpPr>
              <p:cNvPr id="203" name=""/>
              <p:cNvSpPr/>
              <p:nvPr/>
            </p:nvSpPr>
            <p:spPr>
              <a:xfrm>
                <a:off x="3505320" y="2894040"/>
                <a:ext cx="861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2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31360" y="2879640"/>
                <a:ext cx="861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2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57760" y="2879640"/>
                <a:ext cx="86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6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62640" y="2894040"/>
                <a:ext cx="86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1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914400" y="227160"/>
            <a:ext cx="7238880" cy="6472080"/>
            <a:chOff x="914400" y="227160"/>
            <a:chExt cx="7238880" cy="6472080"/>
          </a:xfrm>
        </p:grpSpPr>
        <p:graphicFrame>
          <p:nvGraphicFramePr>
            <p:cNvPr id="208" name=""/>
            <p:cNvGraphicFramePr/>
            <p:nvPr/>
          </p:nvGraphicFramePr>
          <p:xfrm>
            <a:off x="914400" y="227160"/>
            <a:ext cx="7238880" cy="6472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227160"/>
                      <a:ext cx="7238880" cy="64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3657600" y="457200"/>
              <a:ext cx="1905120" cy="106668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4" y="13757"/>
                  </a:moveTo>
                  <a:arcTo wR="-9422" hR="-9422" stAng="9702556" swAng="-9150396"/>
                  <a:lnTo>
                    <a:pt x="139" y="9073"/>
                  </a:lnTo>
                  <a:arcTo wR="10800" hR="10800" stAng="-10247839" swAng="9150396"/>
                  <a:lnTo>
                    <a:pt x="23618" y="6563"/>
                  </a:lnTo>
                  <a:lnTo>
                    <a:pt x="21464" y="10845"/>
                  </a:lnTo>
                  <a:lnTo>
                    <a:pt x="17182" y="869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30500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9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أنواع التفاعلات الكيمي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0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فاعلات الأيون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فاعلات الأكسدة والاختزا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روابط الكيميائية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رابطة الأيون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رابطة التساهم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00200" y="838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ثانياً : الرابطة التساهم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2057400"/>
            <a:ext cx="739116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رابطة التساهمية عبارة عن زوج من الإلكترونات يربط بين ذرتين تكون نتيجة مساهمة كلٍ من الذرتين بالكترون من مستوى التكافؤ 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8080" y="213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H     +     F              H 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914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00"/>
                </a:solidFill>
                <a:latin typeface="Times New Roman"/>
                <a:cs typeface="AL-Mohanad Bold"/>
              </a:rPr>
              <a:t>مثا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1873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1720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2055960"/>
            <a:ext cx="609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83040" y="22892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1981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243828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37280" y="19191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1680" y="2133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685800"/>
            <a:ext cx="441972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66"/>
                </a:solidFill>
                <a:latin typeface="Times New Roman"/>
                <a:cs typeface="Monotype Koufi"/>
              </a:rPr>
              <a:t>تصنيف العناص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981080"/>
            <a:ext cx="79246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لما كثر عدد العناصر المكتشفة حاول العلماء تصنيف العناصر وترتيبها حتى تسهل دراستها ، فكانت هناك الكثير من المحاولات من أهمها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402080"/>
            <a:ext cx="6933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صنيف العناصر إلى فلزات ولا فلز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الجدول الدوري ال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0" y="685800"/>
            <a:ext cx="426708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الفلزات واللافلز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828800"/>
            <a:ext cx="693396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من المحاولات الأول التي تمت لغرض تصنيف العناصر وترتيبها في مجموعات ، محاولة تصنيف العناصر في مجموعتين ، الفلزات واللافلزات ، حيث تحمل عناصر كل مجموعة خواصاً معاكسة لعناصر المجموعة ال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838080"/>
            <a:ext cx="28195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خواص الفلز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05120"/>
            <a:ext cx="6934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واد صلبة ذات مظهر لامع براق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قابلة للسحب والطرق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وصلة جيدة للحرارة والكهرب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ذات كثافة ع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درجة غليانها وانصهارها مرتفع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3152880"/>
            <a:ext cx="6933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لافلزات لا تتوفر فيها كل أو معظم خواص الفلزات السابق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1644480"/>
            <a:ext cx="320040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خواص اللافلز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600200" y="1676520"/>
          <a:ext cx="6095880" cy="3717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33cc"/>
                          </a:solidFill>
                          <a:latin typeface="Times New Roman"/>
                          <a:cs typeface="AL-Mohanad Bold"/>
                        </a:rPr>
                        <a:t>من اللافلز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33cc"/>
                          </a:solidFill>
                          <a:latin typeface="Times New Roman"/>
                          <a:cs typeface="AL-Mohanad Bold"/>
                        </a:rPr>
                        <a:t>من الفلز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هيدروجي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صوديو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كربو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ماغنسيو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كبري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حدي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كلو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نحا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4:43:09Z</dcterms:created>
  <dc:creator>أبو زيد</dc:creator>
  <dc:description>زوروا موقع أسطوانة العروض  www.estwana.com وستجدون المزيد والجديد من عروض البوربوينت التعليمية للمرحلة الثانوية </dc:description>
  <dc:language>en-US</dc:language>
  <cp:lastModifiedBy>Home</cp:lastModifiedBy>
  <dcterms:modified xsi:type="dcterms:W3CDTF">2008-09-14T22:35:37Z</dcterms:modified>
  <cp:revision>55</cp:revision>
  <dc:subject/>
  <dc:title>عرض تقديمي من PowerPoint</dc:title>
</cp:coreProperties>
</file>