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AB7C-12BF-4B51-B57D-2670093F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E485-A1F8-408D-A26B-935F56C5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824A-E383-438E-8204-21163236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A935-2ED8-472E-B040-C89F4640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94F1-9825-4F8C-A812-F320A903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4E0A-3929-49B0-BAD8-A6869BEF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1738-03A5-4804-A8F2-340B92A3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C4AB-1031-43F5-B453-B50487AC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B7DA-0BA4-4755-8717-515573FB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B20D-77FC-486A-914C-E73B83A9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755-8C90-4197-A42E-E37960D9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1462-0CA1-473D-AF05-B9484823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17E6-E23E-41FC-A577-CE0EC01DC13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525780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6f6cc"/>
                </a:solidFill>
                <a:latin typeface="Times New Roman"/>
                <a:cs typeface="MCS Makkah S_I normal."/>
              </a:rPr>
              <a:t>بيت معلمي الكيمياء بالعاصمة المقدسة </a:t>
            </a:r>
            <a:r>
              <a:rPr b="1" lang="en-US" sz="4000" spc="-1" strike="noStrike">
                <a:solidFill>
                  <a:srgbClr val="f6f6cc"/>
                </a:solidFill>
                <a:latin typeface="Times New Roman"/>
                <a:ea typeface="MCS Makkah S_I normal."/>
              </a:rPr>
              <a:t>1421</a:t>
            </a:r>
            <a:r>
              <a:rPr b="1" lang="hi-IN" sz="4000" spc="-1" strike="noStrike">
                <a:solidFill>
                  <a:srgbClr val="f6f6cc"/>
                </a:solidFill>
                <a:latin typeface="Times New Roman"/>
                <a:cs typeface="MCS Makkah S_I normal."/>
              </a:rPr>
              <a:t>ه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133720" y="304920"/>
            <a:ext cx="5485680" cy="5409360"/>
            <a:chOff x="2133720" y="304920"/>
            <a:chExt cx="5485680" cy="5409360"/>
          </a:xfrm>
        </p:grpSpPr>
        <p:grpSp>
          <p:nvGrpSpPr>
            <p:cNvPr id="43" name=""/>
            <p:cNvGrpSpPr/>
            <p:nvPr/>
          </p:nvGrpSpPr>
          <p:grpSpPr>
            <a:xfrm>
              <a:off x="3317400" y="1712880"/>
              <a:ext cx="3108600" cy="3005280"/>
              <a:chOff x="3317400" y="1712880"/>
              <a:chExt cx="3108600" cy="3005280"/>
            </a:xfrm>
          </p:grpSpPr>
          <p:sp>
            <p:nvSpPr>
              <p:cNvPr id="44" name=""/>
              <p:cNvSpPr/>
              <p:nvPr/>
            </p:nvSpPr>
            <p:spPr>
              <a:xfrm rot="5371800">
                <a:off x="3298320" y="2746440"/>
                <a:ext cx="2997720" cy="937800"/>
              </a:xfrm>
              <a:prstGeom prst="ellipse">
                <a:avLst/>
              </a:prstGeom>
              <a:noFill/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9797000">
                <a:off x="3310920" y="2923560"/>
                <a:ext cx="3033720" cy="711360"/>
              </a:xfrm>
              <a:prstGeom prst="ellipse">
                <a:avLst/>
              </a:prstGeom>
              <a:noFill/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482000">
                <a:off x="3353400" y="2787480"/>
                <a:ext cx="3036240" cy="838080"/>
              </a:xfrm>
              <a:prstGeom prst="ellipse">
                <a:avLst/>
              </a:prstGeom>
              <a:noFill/>
              <a:ln w="190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20240" y="2958120"/>
                <a:ext cx="433080" cy="568800"/>
              </a:xfrm>
              <a:prstGeom prst="ellipse">
                <a:avLst/>
              </a:prstGeom>
              <a:solidFill>
                <a:srgbClr val="f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227480" y="2597040"/>
                <a:ext cx="215280" cy="3398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458520" y="3600000"/>
                <a:ext cx="216360" cy="3412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704920" y="2832480"/>
                <a:ext cx="216360" cy="3423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0f0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2133720" y="304920"/>
              <a:ext cx="5485680" cy="5409360"/>
              <a:chOff x="2133720" y="304920"/>
              <a:chExt cx="5485680" cy="5409360"/>
            </a:xfrm>
          </p:grpSpPr>
          <p:sp>
            <p:nvSpPr>
              <p:cNvPr id="52" name=""/>
              <p:cNvSpPr txBox="1"/>
              <p:nvPr/>
            </p:nvSpPr>
            <p:spPr>
              <a:xfrm>
                <a:off x="2133720" y="304920"/>
                <a:ext cx="5036400" cy="3574800"/>
              </a:xfrm>
              <a:prstGeom prst="rect">
                <a:avLst/>
              </a:prstGeom>
            </p:spPr>
            <p:txBody>
              <a:bodyPr wrap="none" lIns="90000" rIns="90000" tIns="46800" bIns="46800" anchor="t">
                <a:prstTxWarp prst="textChevron">
                  <a:avLst>
                    <a:gd name="adj" fmla="val 36528"/>
                  </a:avLst>
                </a:prstTxWarp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1" strike="noStrike">
                    <a:ln w="12600">
                      <a:solidFill>
                        <a:srgbClr val="eaeaea"/>
                      </a:solidFill>
                      <a:miter/>
                    </a:ln>
                    <a:gradFill rotWithShape="0">
                      <a:gsLst>
                        <a:gs pos="0">
                          <a:srgbClr val="9400ed"/>
                        </a:gs>
                        <a:gs pos="100000">
                          <a:srgbClr val="0000f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effectLst>
                      <a:outerShdw dist="153753" dir="2700000" blurRad="0" rotWithShape="0">
                        <a:srgbClr val="c0c0c0"/>
                      </a:outerShdw>
                    </a:effectLst>
                    <a:latin typeface="Arial Black"/>
                  </a:rPr>
                  <a:t>تربية وتعليم</a:t>
                </a:r>
                <a:endParaRPr b="1" lang="en-US" sz="2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53" name=""/>
              <p:cNvSpPr txBox="1"/>
              <p:nvPr/>
            </p:nvSpPr>
            <p:spPr>
              <a:xfrm>
                <a:off x="2454840" y="3835440"/>
                <a:ext cx="5164560" cy="18788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scadeUp">
                  <a:avLst>
                    <a:gd name="adj" fmla="val 64940"/>
                  </a:avLst>
                </a:prstTxWarp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2"/>
                      <a:srcRect/>
                      <a:stretch/>
                    </a:blipFill>
                    <a:latin typeface="Arial Black"/>
                  </a:rPr>
                  <a:t>Chemistry</a:t>
                </a:r>
                <a:endPara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latin typeface="Arial Black"/>
                  <a:ea typeface="Arial Black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14600" y="838080"/>
            <a:ext cx="4267080" cy="1191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Monotype Koufi"/>
              </a:rPr>
              <a:t> الجدول الدوري الحدي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1828800"/>
            <a:ext cx="693396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i-IN" sz="3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آخر محاولة وضعت لتصنيف العناصر وترتيبها في جدول ، هي ترتيب العناصر في جدول عرف بالجدول الدوري الحديث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962520"/>
            <a:ext cx="69343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i-IN" sz="3600" spc="-1" strike="noStrike">
                <a:solidFill>
                  <a:srgbClr val="ffff00"/>
                </a:solidFill>
                <a:latin typeface="Times New Roman"/>
                <a:cs typeface="AL-Mohanad Bold"/>
              </a:rPr>
              <a:t>وقد تم ترتيب العناصر في هذا الجدول استناداً إلى ثلاث أسس 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609480"/>
            <a:ext cx="7162560" cy="77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رتبت العناصر حسب ازدياد العدد الذري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وضعت العناصر في دورات (سطور أفقية ) اعتماداً على عدد مستويات الطاقة الالكترونية المشغولة بالإلكترونات  ، هذا ويحتوي الجدول على سبعة دورا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وضعت العناصر في مجموعات ( أعمدة رأسية ) اعتماداً على التساوي في عدد إلكترونات مستوى الطاقة الأخير ( مستوى التكافؤ )  ويتألف الجدول من ثمان مجموعات رئيسية أ ، وثمان فرعية ب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447920" y="1066680"/>
            <a:ext cx="6858000" cy="4743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229600" y="60199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981080" y="762120"/>
            <a:ext cx="5257800" cy="1191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Monotype Koufi"/>
              </a:rPr>
              <a:t> مناطق الجدول الدوري الحديث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182880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hi-IN" sz="3600" spc="-1" strike="noStrike">
                <a:solidFill>
                  <a:srgbClr val="ffff00"/>
                </a:solidFill>
                <a:latin typeface="Times New Roman"/>
                <a:cs typeface="AL-Mohanad Bold"/>
              </a:rPr>
              <a:t>يمكن تمييز خمسة مناطق في الجدول الدوري الحديث 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3200400"/>
            <a:ext cx="723924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المنطقة اليسرى : وتضم عناصر المجموعتين الرئيسيتين (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,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2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أ )الفلزات القلوية والقلوية الأرضية ، وتتميز عناصر هذه المنطقة بملء المجال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S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في مستوى الطاقة الأخير ( مستوى التكافؤ )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1371600"/>
            <a:ext cx="7238880" cy="62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2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المنطقة اليمنى : وتضم بقية المجموعات الرئيسية الست ، وتتميز عناصر هذه المنطقة بملء المجالين (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S,P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 )  في مستوى الطاقة الأخير           ( مستوى التكافؤ ) . هذا وتعرف العناصر في المجموعات الرئيسية الثمانى بالعناصر التمثيلية غير الانتقال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14400" y="838080"/>
            <a:ext cx="7238880" cy="72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3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المنطقة الوسطى : وتضم العناصر في المجموعات الفرعية الثماني  ، وتتميز عناصر هذه المنطقة بملء المجال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d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في مستوى الطاقة الأخير    ( مستوى التكافؤ ) 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وتعرف عناصر هذه المنطقة بالعناصر الانتقالية ، وتتألف من ثلاث متسلسلات ، تحوي كل متسلسلة على عشرة عناصر فيكون عدد العناصر الانتقالية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30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عنصراً 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38080" y="1295280"/>
            <a:ext cx="723924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المنطقة السفلى : وتضم عناصر السلسلتين  ،  سلسلة اللانثانيدات ( العناصر الأرضية النادرة) وسلسلة الأكتينيدات ( العناصر المشعة )وتتميز عناصر هذه المنطقة بملء المجال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f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في مستوى الطاقة الأخير ( مستوى التكافؤ )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352680" y="762120"/>
            <a:ext cx="251460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Times New Roman"/>
                <a:ea typeface="Monotype Koufi"/>
              </a:rPr>
              <a:t> التكافؤ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1905120"/>
            <a:ext cx="7239240" cy="53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i-IN" sz="3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التكافؤ هو : عدد الإلكترونات التي تفقدها الذرة أو تكتسبها أو تمنحها للمشاركة ذرة العنصر في التفاعل الكيميائي للوصول للتركيب الإلكتروني الخاص بالغازات الخاملة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676520" y="609480"/>
          <a:ext cx="6095880" cy="56959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32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التكافؤ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66"/>
                          </a:solidFill>
                          <a:latin typeface="Times New Roman"/>
                          <a:ea typeface="AL-Mohanad Bold"/>
                        </a:rPr>
                        <a:t> المجموعة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+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الأولى أ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+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الثانية أ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+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الثالثة أ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+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4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 ،  -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4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  مشارك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الرابعة أ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-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الخامسة أ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-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السادسة أ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-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AL-Mohanad Bold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السابعة أ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صف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صف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95280" y="1781280"/>
            <a:ext cx="655344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  <a:ea typeface="Monotype Koufi"/>
              </a:rPr>
              <a:t>  التفاعل الكيميائي والمعادلة الكيميائ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962520" y="3886200"/>
            <a:ext cx="1096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08000" y="1773360"/>
            <a:ext cx="57150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التصنيف الدوري للعناصر  التفاعل الكيميائي  المعادلة الكيميائية الروابط الكيميائية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1066680"/>
            <a:ext cx="723888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التفاعل الكيميائي : تغير يطرأ على مادة أو مجموعة من المواد فتنتج مواد جديدة مختلفة الخواص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43117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 وكل التفاعلات الكيميائية تشتمل على مايلي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2120" y="1295280"/>
            <a:ext cx="746748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كسر روابط وتكوين روابط جديد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انتاج مواد جديدة مختلفة في خواصها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تغير في ترتيب وتوزيع الذرات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4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انتاج أو امتصاص حرار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5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كتل المواد الناتجة تساوي كتل المواد المتفاعل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90920" y="914400"/>
            <a:ext cx="441936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Times New Roman"/>
                <a:ea typeface="Monotype Koufi"/>
              </a:rPr>
              <a:t>  المعادلة الكيميائ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20574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 المعادلة الكيميائية : وصف موجز ودقيق للتفاعل الكيميائي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35268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فتفاعل غاز النيتروجين مع غاز الهيدروجين لانتاج غاز النشادر يمكن وصفه بالمعادلة التالية 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219320" y="5211720"/>
            <a:ext cx="7238880" cy="733680"/>
            <a:chOff x="1219320" y="5211720"/>
            <a:chExt cx="7238880" cy="733680"/>
          </a:xfrm>
        </p:grpSpPr>
        <p:sp>
          <p:nvSpPr>
            <p:cNvPr id="92" name=""/>
            <p:cNvSpPr/>
            <p:nvPr/>
          </p:nvSpPr>
          <p:spPr>
            <a:xfrm>
              <a:off x="1219320" y="5211720"/>
              <a:ext cx="7238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N      +     H                      NH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09680" y="53640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114800" y="53640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38880" y="53179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257800" y="5516280"/>
              <a:ext cx="91440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114300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والمعادلة الكيميائية  الموزونة هي : المعادلة التي ينطبق عليها قانون حفظ الكتل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838080" y="5121360"/>
            <a:ext cx="7238880" cy="747360"/>
            <a:chOff x="838080" y="5121360"/>
            <a:chExt cx="7238880" cy="747360"/>
          </a:xfrm>
        </p:grpSpPr>
        <p:grpSp>
          <p:nvGrpSpPr>
            <p:cNvPr id="99" name=""/>
            <p:cNvGrpSpPr/>
            <p:nvPr/>
          </p:nvGrpSpPr>
          <p:grpSpPr>
            <a:xfrm>
              <a:off x="838080" y="5135400"/>
              <a:ext cx="7238880" cy="733320"/>
              <a:chOff x="838080" y="5135400"/>
              <a:chExt cx="7238880" cy="733320"/>
            </a:xfrm>
          </p:grpSpPr>
          <p:sp>
            <p:nvSpPr>
              <p:cNvPr id="100" name=""/>
              <p:cNvSpPr/>
              <p:nvPr/>
            </p:nvSpPr>
            <p:spPr>
              <a:xfrm>
                <a:off x="838080" y="5135400"/>
                <a:ext cx="7238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3600" spc="-1" strike="noStrike">
                    <a:solidFill>
                      <a:srgbClr val="ffff00"/>
                    </a:solidFill>
                    <a:latin typeface="Times New Roman"/>
                    <a:ea typeface="AL-Mohanad Bold"/>
                  </a:rPr>
                  <a:t> </a:t>
                </a:r>
                <a:r>
                  <a:rPr b="0" lang="en-US" sz="3600" spc="-1" strike="noStrike">
                    <a:solidFill>
                      <a:srgbClr val="ffff00"/>
                    </a:solidFill>
                    <a:latin typeface="Times New Roman"/>
                    <a:ea typeface="AL-Mohanad Bold"/>
                  </a:rPr>
                  <a:t>N      +     H                      NH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828440" y="528732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  <a:ea typeface="AL-Mohanad Bold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33560" y="5287320"/>
                <a:ext cx="609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  <a:ea typeface="AL-Mohanad Bold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57640" y="5241240"/>
                <a:ext cx="60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00"/>
                    </a:solidFill>
                    <a:latin typeface="Times New Roman"/>
                    <a:ea typeface="AL-Mohanad Bold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876560" y="5439600"/>
                <a:ext cx="9144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5790960" y="51213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971440" y="512136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990720" y="2579760"/>
            <a:ext cx="72388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بمعنى تساوي كتلة المواد الناتجة وكتلة المواد المتفاعلة ، ويمكن تحقيق ذلك بمساواة عدد ذرات كل عنصر في طرفي المعادل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7920" y="685800"/>
            <a:ext cx="632448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Monotype Koufi"/>
              </a:rPr>
              <a:t> أسس كتابة المعادلة الكيميائية الموزون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2438280"/>
            <a:ext cx="7239240" cy="52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معرفة المواد المتفاعلة والمواد الناتج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معرفة رموز العناصر وصيغ المركبا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معرفة كيفية وزن المعادلة ( مساواة عدد ذرات كل عنصر في طرفي المعادلة )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14400" y="1066680"/>
            <a:ext cx="7391520" cy="65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ولكتابة صيغ المركبات بطريقة صحيحة يجب معرفة الأيونات المكونة للمركب  ، فكل مركب كيميائي غير عضوي يتألف من أيونين ، أيون موجب وأخر سالب ، بحيث تكون الشحنة الكلية على المركب تساوي صفر ، وعند نطق اسم المركب يذكر اسم الأيون السالب أولاً ، وعند كتابة الصيغة يكتب الأيون الموجب أولاً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371600" y="412920"/>
          <a:ext cx="6477120" cy="596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412920"/>
                    <a:ext cx="6477120" cy="59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95280" y="914400"/>
            <a:ext cx="678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ولكتابة صيغة المركب يراعى أن ترتبط الأيونات بعدد مناسب لتكون الشحنة الكلية على المركب تساوي صفر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2895480"/>
            <a:ext cx="67820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 ولنفرض أننا نريد كتابة صيغة مركب      كبريتات الأمونيوم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                            فإننا نقوم بالتالي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666880" y="4143240"/>
            <a:ext cx="3200400" cy="1068840"/>
            <a:chOff x="2666880" y="4143240"/>
            <a:chExt cx="3200400" cy="1068840"/>
          </a:xfrm>
        </p:grpSpPr>
        <p:grpSp>
          <p:nvGrpSpPr>
            <p:cNvPr id="116" name=""/>
            <p:cNvGrpSpPr/>
            <p:nvPr/>
          </p:nvGrpSpPr>
          <p:grpSpPr>
            <a:xfrm>
              <a:off x="3047760" y="4143240"/>
              <a:ext cx="1447920" cy="795240"/>
              <a:chOff x="3047760" y="4143240"/>
              <a:chExt cx="1447920" cy="795240"/>
            </a:xfrm>
          </p:grpSpPr>
          <p:sp>
            <p:nvSpPr>
              <p:cNvPr id="117" name=""/>
              <p:cNvSpPr/>
              <p:nvPr/>
            </p:nvSpPr>
            <p:spPr>
              <a:xfrm>
                <a:off x="3047760" y="414324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NH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352680" y="429588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4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4495680" y="4143240"/>
              <a:ext cx="1371600" cy="794880"/>
              <a:chOff x="4495680" y="4143240"/>
              <a:chExt cx="1371600" cy="794880"/>
            </a:xfrm>
          </p:grpSpPr>
          <p:sp>
            <p:nvSpPr>
              <p:cNvPr id="120" name=""/>
              <p:cNvSpPr/>
              <p:nvPr/>
            </p:nvSpPr>
            <p:spPr>
              <a:xfrm>
                <a:off x="4495680" y="414324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SO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24280" y="429552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4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3657240" y="424980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ff00"/>
                  </a:solidFill>
                  <a:latin typeface="Times New Roman"/>
                  <a:ea typeface="AL-Mohanad Bold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66880" y="4143240"/>
              <a:ext cx="1676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ff00"/>
                  </a:solidFill>
                  <a:latin typeface="Times New Roman"/>
                  <a:ea typeface="AL-Mohanad Bold"/>
                </a:rPr>
                <a:t>(             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2743200" y="730080"/>
            <a:ext cx="1447920" cy="1099800"/>
            <a:chOff x="2743200" y="730080"/>
            <a:chExt cx="1447920" cy="1099800"/>
          </a:xfrm>
        </p:grpSpPr>
        <p:grpSp>
          <p:nvGrpSpPr>
            <p:cNvPr id="125" name=""/>
            <p:cNvGrpSpPr/>
            <p:nvPr/>
          </p:nvGrpSpPr>
          <p:grpSpPr>
            <a:xfrm>
              <a:off x="2743200" y="1035000"/>
              <a:ext cx="1371600" cy="794880"/>
              <a:chOff x="2743200" y="1035000"/>
              <a:chExt cx="1371600" cy="794880"/>
            </a:xfrm>
          </p:grpSpPr>
          <p:sp>
            <p:nvSpPr>
              <p:cNvPr id="126" name=""/>
              <p:cNvSpPr/>
              <p:nvPr/>
            </p:nvSpPr>
            <p:spPr>
              <a:xfrm>
                <a:off x="2743200" y="103500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SO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971800" y="118728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4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3048120" y="73008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0ff00"/>
                  </a:solidFill>
                  <a:latin typeface="Times New Roman"/>
                  <a:ea typeface="AL-Mohanad Bold"/>
                </a:rPr>
                <a:t> </a:t>
              </a:r>
              <a:r>
                <a:rPr b="0" lang="en-US" sz="3600" spc="-1" strike="noStrike">
                  <a:solidFill>
                    <a:srgbClr val="00ff00"/>
                  </a:solidFill>
                  <a:latin typeface="Times New Roman"/>
                  <a:ea typeface="AL-Mohanad Bold"/>
                </a:rPr>
                <a:t>=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85800" y="685800"/>
            <a:ext cx="1447920" cy="1099800"/>
            <a:chOff x="685800" y="685800"/>
            <a:chExt cx="1447920" cy="1099800"/>
          </a:xfrm>
        </p:grpSpPr>
        <p:grpSp>
          <p:nvGrpSpPr>
            <p:cNvPr id="130" name=""/>
            <p:cNvGrpSpPr/>
            <p:nvPr/>
          </p:nvGrpSpPr>
          <p:grpSpPr>
            <a:xfrm>
              <a:off x="685800" y="990720"/>
              <a:ext cx="1447920" cy="794880"/>
              <a:chOff x="685800" y="990720"/>
              <a:chExt cx="1447920" cy="794880"/>
            </a:xfrm>
          </p:grpSpPr>
          <p:sp>
            <p:nvSpPr>
              <p:cNvPr id="131" name=""/>
              <p:cNvSpPr/>
              <p:nvPr/>
            </p:nvSpPr>
            <p:spPr>
              <a:xfrm>
                <a:off x="685800" y="99072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NH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990720" y="1143000"/>
                <a:ext cx="1143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4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990720" y="6858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00ff00"/>
                  </a:solidFill>
                  <a:latin typeface="Times New Roman"/>
                  <a:ea typeface="AL-Mohanad Bold"/>
                </a:rPr>
                <a:t> </a:t>
              </a:r>
              <a:r>
                <a:rPr b="0" lang="en-US" sz="3600" spc="-1" strike="noStrike">
                  <a:solidFill>
                    <a:srgbClr val="00ff00"/>
                  </a:solidFill>
                  <a:latin typeface="Times New Roman"/>
                  <a:ea typeface="AL-Mohanad Bold"/>
                </a:rPr>
                <a:t>+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343400" y="99072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نكتب رموز أو صيغ الأيونا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24066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2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نكتب التكافؤا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377820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3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نبادل عدد التكافؤا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91120" y="50734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4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نكتب الصيغة النهائ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236232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2346480"/>
            <a:ext cx="838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+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379404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38098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38080" y="4952880"/>
            <a:ext cx="3047760" cy="1312920"/>
            <a:chOff x="838080" y="4952880"/>
            <a:chExt cx="3047760" cy="1312920"/>
          </a:xfrm>
        </p:grpSpPr>
        <p:grpSp>
          <p:nvGrpSpPr>
            <p:cNvPr id="143" name=""/>
            <p:cNvGrpSpPr/>
            <p:nvPr/>
          </p:nvGrpSpPr>
          <p:grpSpPr>
            <a:xfrm>
              <a:off x="1066680" y="5029200"/>
              <a:ext cx="1447200" cy="794880"/>
              <a:chOff x="1066680" y="5029200"/>
              <a:chExt cx="1447200" cy="794880"/>
            </a:xfrm>
          </p:grpSpPr>
          <p:sp>
            <p:nvSpPr>
              <p:cNvPr id="144" name=""/>
              <p:cNvSpPr/>
              <p:nvPr/>
            </p:nvSpPr>
            <p:spPr>
              <a:xfrm>
                <a:off x="1066680" y="5029200"/>
                <a:ext cx="1142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NH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371240" y="5181480"/>
                <a:ext cx="1142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 rtl="1"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4</a:t>
                </a:r>
                <a:r>
                  <a:rPr b="0" lang="en-US" sz="36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 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838080" y="4952880"/>
              <a:ext cx="3047760" cy="1312920"/>
              <a:chOff x="838080" y="4952880"/>
              <a:chExt cx="3047760" cy="131292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2514240" y="5073480"/>
                <a:ext cx="1371600" cy="794880"/>
                <a:chOff x="2514240" y="5073480"/>
                <a:chExt cx="1371600" cy="7948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2514240" y="5073480"/>
                  <a:ext cx="114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 rtl="1"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3600" spc="-1" strike="noStrike">
                      <a:solidFill>
                        <a:srgbClr val="00ff00"/>
                      </a:solidFill>
                      <a:latin typeface="Times New Roman"/>
                      <a:ea typeface="AL-Mohanad Bold"/>
                    </a:rPr>
                    <a:t> </a:t>
                  </a:r>
                  <a:r>
                    <a:rPr b="0" lang="en-US" sz="3600" spc="-1" strike="noStrike">
                      <a:solidFill>
                        <a:srgbClr val="00ff00"/>
                      </a:solidFill>
                      <a:latin typeface="Times New Roman"/>
                      <a:ea typeface="AL-Mohanad Bold"/>
                    </a:rPr>
                    <a:t>SO</a:t>
                  </a:r>
                  <a:r>
                    <a:rPr b="0" lang="en-US" sz="3600" spc="-1" strike="noStrike">
                      <a:solidFill>
                        <a:srgbClr val="00ff00"/>
                      </a:solidFill>
                      <a:latin typeface="Times New Roman"/>
                      <a:ea typeface="AL-Mohanad Bold"/>
                    </a:rPr>
                    <a:t>  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742840" y="5225760"/>
                  <a:ext cx="1143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 rtl="1"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3600" spc="-1" strike="noStrike">
                      <a:solidFill>
                        <a:srgbClr val="00ff00"/>
                      </a:solidFill>
                      <a:latin typeface="Times New Roman"/>
                      <a:ea typeface="AL-Mohanad Bold"/>
                    </a:rPr>
                    <a:t> </a:t>
                  </a:r>
                  <a:r>
                    <a:rPr b="0" lang="en-US" sz="3600" spc="-1" strike="noStrike">
                      <a:solidFill>
                        <a:srgbClr val="00ff00"/>
                      </a:solidFill>
                      <a:latin typeface="Times New Roman"/>
                      <a:ea typeface="AL-Mohanad Bold"/>
                    </a:rPr>
                    <a:t>4</a:t>
                  </a:r>
                  <a:r>
                    <a:rPr b="0" lang="en-US" sz="3600" spc="-1" strike="noStrike">
                      <a:solidFill>
                        <a:srgbClr val="00ff00"/>
                      </a:solidFill>
                      <a:latin typeface="Times New Roman"/>
                      <a:ea typeface="AL-Mohanad Bold"/>
                    </a:rPr>
                    <a:t>  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838080" y="4952880"/>
                <a:ext cx="167616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</a:t>
                </a:r>
                <a:r>
                  <a:rPr b="0" lang="ar-SA" sz="40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(          )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828440" y="5181480"/>
                <a:ext cx="838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 </a:t>
                </a:r>
                <a:r>
                  <a:rPr b="0" lang="en-US" sz="4000" spc="-1" strike="noStrike">
                    <a:solidFill>
                      <a:srgbClr val="00ff00"/>
                    </a:solidFill>
                    <a:latin typeface="Times New Roman"/>
                    <a:ea typeface="AL-Mohanad Bold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"/>
          <p:cNvSpPr/>
          <p:nvPr/>
        </p:nvSpPr>
        <p:spPr>
          <a:xfrm flipH="1">
            <a:off x="1371240" y="2743200"/>
            <a:ext cx="1523880" cy="11430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2819520"/>
            <a:ext cx="1295640" cy="1066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4400" y="76212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ومن المفيد عند كتابة المعادلة الكيميائية الإشارة إلى حالة المواد الموجودة في التفاعل ، ويستخدم لذلك الحروف التالية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7432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الحرف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g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 يدل على الحالة الغاز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5053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الحرف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 يدل على الحالة الصلبة 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41911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الحرف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l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 يدل على الحالة السائلة النق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9528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الحرفين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aq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 للدلالة  على المحاليل المائ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09680" y="609480"/>
            <a:ext cx="525780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000000"/>
                </a:solidFill>
                <a:latin typeface="Times New Roman"/>
                <a:cs typeface="Monotype Koufi"/>
              </a:rPr>
              <a:t>مفردات العر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1838160"/>
            <a:ext cx="6629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التصنيف الدوري للعناصر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2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الفلزات واللافلزا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3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الجدول الدوري الحديث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4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مناطق الجدول الدوري الحديث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5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التكافؤ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6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التفاعل الكيميائي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7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المعادلة الكيميائ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8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أسس كتابة المعادلة الكيميائية الموزون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66680" y="6858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 أمثلة على كتابة المعادلات الكيميائ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19810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  <a:ea typeface="AL-Mohanad Bold"/>
              </a:rPr>
              <a:t> اكتب معادلات كيميائية موزونة تمثل التفاعلات التالية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2767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1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- تفاعل غاز الهيدروجين مع غاز الأكسجين لانتاج بخار الماء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4648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2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- تفاعل غاز الهيدروجين مع غاز النيتروجين لانتاج غاز النشادر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90720" y="762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3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- تفاعل الكربون مع غاز الأكسجين لانتاج غاز أول أكسيد الكربو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0574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4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- تفاعل محلول  هيدروكسيد الصوديوم مع غاز ثاني أكسيد الكربون لانتاج كربونات الصوديوم والماء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1148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5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- تفاعل محلول  هيدروكسيد الكالسيوم مع حمض الكبريت لانتاج كبريتات الكالسيوم والماء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609480" y="541440"/>
          <a:ext cx="8077320" cy="566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541440"/>
                    <a:ext cx="8077320" cy="56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95280" y="380880"/>
            <a:ext cx="6324840" cy="703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Times New Roman"/>
                <a:ea typeface="Monotype Koufi"/>
              </a:rPr>
              <a:t> أنواع التفاعلات الكيميائية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21932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 </a:t>
            </a:r>
            <a:r>
              <a:rPr b="0" lang="hi-IN" sz="3600" spc="-1" strike="noStrike">
                <a:solidFill>
                  <a:srgbClr val="ffff00"/>
                </a:solidFill>
                <a:latin typeface="Times New Roman"/>
                <a:cs typeface="AL-Mohanad Bold"/>
              </a:rPr>
              <a:t>يمكن تمييز نوعين من التفاعلات الكيميائية :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828800"/>
            <a:ext cx="70106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تفاعلات أيونية                                         وهي تفاعلات لا يحدث فيها انتقال للإلكترونات وكل ما يحدث هو نوع من التبادل في أماكن الذر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914400" y="5410080"/>
            <a:ext cx="7467480" cy="703440"/>
            <a:chOff x="914400" y="5410080"/>
            <a:chExt cx="7467480" cy="703440"/>
          </a:xfrm>
        </p:grpSpPr>
        <p:sp>
          <p:nvSpPr>
            <p:cNvPr id="172" name=""/>
            <p:cNvSpPr/>
            <p:nvPr/>
          </p:nvSpPr>
          <p:spPr>
            <a:xfrm>
              <a:off x="914400" y="5410080"/>
              <a:ext cx="7467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HCl    +   NaOH          NaCl   +  H  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95680" y="5715000"/>
              <a:ext cx="838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34320" y="556272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4154760" y="4038480"/>
            <a:ext cx="12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66"/>
                </a:solidFill>
                <a:latin typeface="Times New Roman"/>
                <a:cs typeface="AL-Mohanad Bold"/>
              </a:rPr>
              <a:t>مثال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1066680"/>
            <a:ext cx="7010280" cy="30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تفاعلات أكسدة واختزال                                             وهي تفاعلات يحدث فيها انتقال للإلكترونات من ذرة إ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990720" y="4191120"/>
            <a:ext cx="7010280" cy="839520"/>
            <a:chOff x="990720" y="4191120"/>
            <a:chExt cx="7010280" cy="839520"/>
          </a:xfrm>
        </p:grpSpPr>
        <p:sp>
          <p:nvSpPr>
            <p:cNvPr id="178" name=""/>
            <p:cNvSpPr/>
            <p:nvPr/>
          </p:nvSpPr>
          <p:spPr>
            <a:xfrm>
              <a:off x="990720" y="4191120"/>
              <a:ext cx="7010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C      +      O                    CO</a:t>
              </a:r>
              <a:r>
                <a:rPr b="1" lang="ar-SA" sz="40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81680" y="45100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2</a:t>
              </a:r>
              <a:r>
                <a:rPr b="1" lang="ar-SA" sz="28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09880" y="45100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2</a:t>
              </a:r>
              <a:r>
                <a:rPr b="1" lang="ar-SA" sz="28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24280" y="4537080"/>
              <a:ext cx="12193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927600" y="3108240"/>
            <a:ext cx="12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0066"/>
                </a:solidFill>
                <a:latin typeface="Times New Roman"/>
                <a:cs typeface="AL-Mohanad Bold"/>
              </a:rPr>
              <a:t>مثال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447920" y="1279440"/>
            <a:ext cx="6324480" cy="7034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  <a:ea typeface="Monotype Koufi"/>
              </a:rPr>
              <a:t> الروابط الكيميائية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95280" y="2590920"/>
            <a:ext cx="693432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</a:t>
            </a:r>
            <a:r>
              <a:rPr b="0" lang="hi-IN" sz="3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هناك العديد من الروابط الكيميائية التي تربط بين الذرات والجزيئات في المواد المختلفة ، وتعتبر الرابطة الأيونية والرابطة التساهمية من أشهر هذه الروابط 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762120" y="609480"/>
            <a:ext cx="7696080" cy="31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</a:t>
            </a:r>
            <a:r>
              <a:rPr b="0" lang="hi-IN" sz="3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وقبل التعرف على هذين النوعين من الروابط من اللازم طرح هذا السؤال :  لماذا تميل العناصر للاتحاد مع بعضها وترتبط  معاً لتكون المركبات ؟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743200"/>
            <a:ext cx="7924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</a:t>
            </a:r>
            <a:r>
              <a:rPr b="0" lang="hi-IN" sz="3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الجواب : لان العناصر بفقدانها أو اكتسابها عدد من الإلكترونات أو حتى المساهمة والمشاركة تصل إلى التركيب الإلكتروني الثابت ( الخامل ) فتكون طاقة وضع المركب أقل من مجموع طاقة العناصر المكونة له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981080" y="1066680"/>
            <a:ext cx="5181840" cy="70344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0066"/>
                </a:solidFill>
                <a:latin typeface="Times New Roman"/>
                <a:cs typeface="Monotype Koufi"/>
              </a:rPr>
              <a:t>أولاً : الرابطة الأيون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286000"/>
            <a:ext cx="8077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</a:t>
            </a:r>
            <a:r>
              <a:rPr b="0" lang="hi-IN" sz="3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الرابطة الأيونية عبارة عن تجاذب كهربي يربط بين أيونين ، أيون موجب تكون نتيجة فقدان ذرة العنصر لإلكترون أو أكثر وأيون سالب تكون نتيجة لاكتساب ذرة العنصر لإلكترون أو أكثر 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762120" y="3808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  <a:ea typeface="Monotype Koufi"/>
              </a:rPr>
              <a:t>  مثال للرابطة الأيون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371600"/>
            <a:ext cx="7696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 </a:t>
            </a:r>
            <a:r>
              <a:rPr b="0" lang="hi-IN" sz="3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الرابطة الأيونية في ملح كلوريد الصوديو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080" y="213372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التوزيع الإلكتروني لعنصر الصوديو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388620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 التوزيع الإلكتروني لعنصر الكل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85800" y="4997520"/>
            <a:ext cx="7696080" cy="871200"/>
            <a:chOff x="685800" y="4997520"/>
            <a:chExt cx="7696080" cy="871200"/>
          </a:xfrm>
        </p:grpSpPr>
        <p:sp>
          <p:nvSpPr>
            <p:cNvPr id="194" name=""/>
            <p:cNvSpPr/>
            <p:nvPr/>
          </p:nvSpPr>
          <p:spPr>
            <a:xfrm>
              <a:off x="685800" y="5226120"/>
              <a:ext cx="769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1S 2S 2P 3S 3P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29200" y="501156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2</a:t>
              </a:r>
              <a:r>
                <a:rPr b="1" lang="ar-SA" sz="28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  </a:t>
              </a:r>
              <a:r>
                <a:rPr b="1" lang="ar-SA" sz="28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24080" y="49975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2</a:t>
              </a:r>
              <a:r>
                <a:rPr b="1" lang="ar-SA" sz="28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  </a:t>
              </a:r>
              <a:r>
                <a:rPr b="1" lang="ar-SA" sz="28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33920" y="49975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2</a:t>
              </a:r>
              <a:r>
                <a:rPr b="1" lang="ar-SA" sz="28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  </a:t>
              </a:r>
              <a:r>
                <a:rPr b="1" lang="ar-SA" sz="28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38680" y="49975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5</a:t>
              </a:r>
              <a:r>
                <a:rPr b="1" lang="ar-SA" sz="28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  </a:t>
              </a:r>
              <a:r>
                <a:rPr b="1" lang="ar-SA" sz="28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43400" y="49975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6</a:t>
              </a:r>
              <a:r>
                <a:rPr b="1" lang="ar-SA" sz="28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  </a:t>
              </a:r>
              <a:r>
                <a:rPr b="1" lang="ar-SA" sz="28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838080" y="2879640"/>
            <a:ext cx="7696440" cy="932040"/>
            <a:chOff x="838080" y="2879640"/>
            <a:chExt cx="7696440" cy="932040"/>
          </a:xfrm>
        </p:grpSpPr>
        <p:sp>
          <p:nvSpPr>
            <p:cNvPr id="201" name=""/>
            <p:cNvSpPr/>
            <p:nvPr/>
          </p:nvSpPr>
          <p:spPr>
            <a:xfrm>
              <a:off x="838080" y="3108240"/>
              <a:ext cx="7696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000" spc="-1" strike="noStrike">
                  <a:solidFill>
                    <a:srgbClr val="ffff00"/>
                  </a:solidFill>
                  <a:latin typeface="Times New Roman"/>
                  <a:ea typeface="Monotype Koufi"/>
                </a:rPr>
                <a:t>  </a:t>
              </a:r>
              <a:r>
                <a:rPr b="0" lang="ar-SA" sz="36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Times New Roman"/>
                  <a:ea typeface="AL-Mohanad Bold"/>
                </a:rPr>
                <a:t>1S 2S 2P 3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3505320" y="2879640"/>
              <a:ext cx="2818800" cy="534960"/>
              <a:chOff x="3505320" y="2879640"/>
              <a:chExt cx="2818800" cy="534960"/>
            </a:xfrm>
          </p:grpSpPr>
          <p:sp>
            <p:nvSpPr>
              <p:cNvPr id="203" name=""/>
              <p:cNvSpPr/>
              <p:nvPr/>
            </p:nvSpPr>
            <p:spPr>
              <a:xfrm>
                <a:off x="3505320" y="2894040"/>
                <a:ext cx="861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  <a:ea typeface="Monotype Koufi"/>
                  </a:rPr>
                  <a:t>2</a:t>
                </a:r>
                <a:r>
                  <a:rPr b="1" lang="ar-SA" sz="2800" spc="-1" strike="noStrike">
                    <a:solidFill>
                      <a:srgbClr val="ffff00"/>
                    </a:solidFill>
                    <a:latin typeface="Times New Roman"/>
                    <a:ea typeface="Monotype Koufi"/>
                  </a:rPr>
                  <a:t>  </a:t>
                </a:r>
                <a:r>
                  <a:rPr b="1" lang="ar-SA" sz="2800" spc="-1" strike="noStrike">
                    <a:solidFill>
                      <a:srgbClr val="ffff00"/>
                    </a:solidFill>
                    <a:latin typeface="Times New Roman"/>
                    <a:ea typeface="AL-Mohanad Bold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131360" y="2879640"/>
                <a:ext cx="861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  <a:ea typeface="Monotype Koufi"/>
                  </a:rPr>
                  <a:t>2</a:t>
                </a:r>
                <a:r>
                  <a:rPr b="1" lang="ar-SA" sz="2800" spc="-1" strike="noStrike">
                    <a:solidFill>
                      <a:srgbClr val="ffff00"/>
                    </a:solidFill>
                    <a:latin typeface="Times New Roman"/>
                    <a:ea typeface="Monotype Koufi"/>
                  </a:rPr>
                  <a:t>  </a:t>
                </a:r>
                <a:r>
                  <a:rPr b="1" lang="ar-SA" sz="2800" spc="-1" strike="noStrike">
                    <a:solidFill>
                      <a:srgbClr val="ffff00"/>
                    </a:solidFill>
                    <a:latin typeface="Times New Roman"/>
                    <a:ea typeface="AL-Mohanad Bold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757760" y="2879640"/>
                <a:ext cx="861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  <a:ea typeface="Monotype Koufi"/>
                  </a:rPr>
                  <a:t>6</a:t>
                </a:r>
                <a:r>
                  <a:rPr b="1" lang="ar-SA" sz="2800" spc="-1" strike="noStrike">
                    <a:solidFill>
                      <a:srgbClr val="ffff00"/>
                    </a:solidFill>
                    <a:latin typeface="Times New Roman"/>
                    <a:ea typeface="Monotype Koufi"/>
                  </a:rPr>
                  <a:t>  </a:t>
                </a:r>
                <a:r>
                  <a:rPr b="1" lang="ar-SA" sz="2800" spc="-1" strike="noStrike">
                    <a:solidFill>
                      <a:srgbClr val="ffff00"/>
                    </a:solidFill>
                    <a:latin typeface="Times New Roman"/>
                    <a:ea typeface="AL-Mohanad Bold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462640" y="2894040"/>
                <a:ext cx="861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  <a:ea typeface="Monotype Koufi"/>
                  </a:rPr>
                  <a:t>1</a:t>
                </a:r>
                <a:r>
                  <a:rPr b="1" lang="ar-SA" sz="2800" spc="-1" strike="noStrike">
                    <a:solidFill>
                      <a:srgbClr val="ffff00"/>
                    </a:solidFill>
                    <a:latin typeface="Times New Roman"/>
                    <a:ea typeface="Monotype Koufi"/>
                  </a:rPr>
                  <a:t>  </a:t>
                </a:r>
                <a:r>
                  <a:rPr b="1" lang="ar-SA" sz="2800" spc="-1" strike="noStrike">
                    <a:solidFill>
                      <a:srgbClr val="ffff00"/>
                    </a:solidFill>
                    <a:latin typeface="Times New Roman"/>
                    <a:ea typeface="AL-Mohanad Bold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914400" y="227160"/>
            <a:ext cx="7238880" cy="6472080"/>
            <a:chOff x="914400" y="227160"/>
            <a:chExt cx="7238880" cy="6472080"/>
          </a:xfrm>
        </p:grpSpPr>
        <p:graphicFrame>
          <p:nvGraphicFramePr>
            <p:cNvPr id="208" name=""/>
            <p:cNvGraphicFramePr/>
            <p:nvPr/>
          </p:nvGraphicFramePr>
          <p:xfrm>
            <a:off x="914400" y="227160"/>
            <a:ext cx="7238880" cy="6472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14400" y="227160"/>
                      <a:ext cx="7238880" cy="647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0" name=""/>
            <p:cNvSpPr/>
            <p:nvPr/>
          </p:nvSpPr>
          <p:spPr>
            <a:xfrm>
              <a:off x="3657600" y="457200"/>
              <a:ext cx="1905120" cy="1066680"/>
            </a:xfrm>
            <a:custGeom>
              <a:avLst/>
              <a:gdLst>
                <a:gd name="textAreaLeft" fmla="*/ 0 w 1905120"/>
                <a:gd name="textAreaRight" fmla="*/ 1905480 w 190512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54" y="13757"/>
                  </a:moveTo>
                  <a:arcTo wR="-9422" hR="-9422" stAng="9702556" swAng="-9150396"/>
                  <a:lnTo>
                    <a:pt x="139" y="9073"/>
                  </a:lnTo>
                  <a:arcTo wR="10800" hR="10800" stAng="-10247839" swAng="9150396"/>
                  <a:lnTo>
                    <a:pt x="23618" y="6563"/>
                  </a:lnTo>
                  <a:lnTo>
                    <a:pt x="21464" y="10845"/>
                  </a:lnTo>
                  <a:lnTo>
                    <a:pt x="17182" y="869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2120" y="1305000"/>
            <a:ext cx="6324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9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أنواع التفاعلات الكيميائ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0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التفاعلات الأيون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1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تفاعلات الأكسدة والاختزال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2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الروابط الكيميائية 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3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الرابطة الأيون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4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الرابطة التساهم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00200" y="8380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  <a:ea typeface="Monotype Koufi"/>
              </a:rPr>
              <a:t> ثانياً : الرابطة التساهمية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2057400"/>
            <a:ext cx="7391160" cy="40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</a:t>
            </a:r>
            <a:r>
              <a:rPr b="0" lang="hi-IN" sz="3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الرابطة التساهمية عبارة عن زوج من الإلكترونات يربط بين ذرتين تكون نتيجة مساهمة كلٍ من الذرتين بالكترون من مستوى التكافؤ 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Monotype Kouf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38080" y="21337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H     +     F              H  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914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00"/>
                </a:solidFill>
                <a:latin typeface="Times New Roman"/>
                <a:cs typeface="AL-Mohanad Bold"/>
              </a:rPr>
              <a:t>مثال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18730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AL-Mohanad Bol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76560" y="17208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91120" y="2055960"/>
            <a:ext cx="6094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ts val="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191120" y="19051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83040" y="228924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19810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2438280"/>
            <a:ext cx="8384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37280" y="191916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51680" y="21337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imes New Roman"/>
                <a:ea typeface="AL-Mohanad Bol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86000" y="685800"/>
            <a:ext cx="4419720" cy="7034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0066"/>
                </a:solidFill>
                <a:latin typeface="Times New Roman"/>
                <a:cs typeface="Monotype Koufi"/>
              </a:rPr>
              <a:t>تصنيف العناص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981080"/>
            <a:ext cx="792468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i-IN" sz="3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لما كثر عدد العناصر المكتشفة حاول العلماء تصنيف العناصر وترتيبها حتى تسهل دراستها ، فكانت هناك الكثير من المحاولات من أهمها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4402080"/>
            <a:ext cx="69339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1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- تصنيف العناصر إلى فلزات ولا فلزا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2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AL-Mohanad Bold"/>
              </a:rPr>
              <a:t>- الجدول الدوري الحديث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0" y="685800"/>
            <a:ext cx="4267080" cy="64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Monotype Koufi"/>
              </a:rPr>
              <a:t> الفلزات واللافلز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1828800"/>
            <a:ext cx="693396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i-IN" sz="3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من المحاولات الأول التي تمت لغرض تصنيف العناصر وترتيبها في مجموعات ، محاولة تصنيف العناصر في مجموعتين ، الفلزات واللافلزات ، حيث تحمل عناصر كل مجموعة خواصاً معاكسة لعناصر المجموعة ال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124080" y="838080"/>
            <a:ext cx="2819520" cy="1191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Monotype Koufi"/>
              </a:rPr>
              <a:t> خواص الفلز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905120"/>
            <a:ext cx="69343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مواد صلبة ذات مظهر لامع براق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2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قابلة للسحب والطرق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3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موصلة جيدة للحرارة والكهرباء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4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ea typeface="AL-Mohanad Bold"/>
              </a:rPr>
              <a:t>- ذات كثافة عالي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 درجة غليانها وانصهارها مرتفع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90720" y="3152880"/>
            <a:ext cx="6933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hi-IN" sz="3600" spc="-1" strike="noStrike">
                <a:solidFill>
                  <a:srgbClr val="ffffff"/>
                </a:solidFill>
                <a:latin typeface="Times New Roman"/>
                <a:cs typeface="AL-Mohanad Bold"/>
              </a:rPr>
              <a:t>اللافلزات لا تتوفر فيها كل أو معظم خواص الفلزات السابقة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1644480"/>
            <a:ext cx="3200400" cy="1191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Monotype Koufi"/>
              </a:rPr>
              <a:t> خواص اللافلز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600200" y="1676520"/>
          <a:ext cx="6095880" cy="37177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ff33cc"/>
                          </a:solidFill>
                          <a:latin typeface="Times New Roman"/>
                          <a:cs typeface="AL-Mohanad Bold"/>
                        </a:rPr>
                        <a:t>من اللافلزا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ff33cc"/>
                          </a:solidFill>
                          <a:latin typeface="Times New Roman"/>
                          <a:cs typeface="AL-Mohanad Bold"/>
                        </a:rPr>
                        <a:t>من الفلزا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الهيدروجي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الصوديو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الكربو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الماغنسيو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الكبري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الحديد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81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الكلو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600" spc="-1" strike="noStrike">
                          <a:solidFill>
                            <a:srgbClr val="000000"/>
                          </a:solidFill>
                          <a:latin typeface="Times New Roman"/>
                          <a:cs typeface="AL-Mohanad Bold"/>
                        </a:rPr>
                        <a:t>النحا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4:43:09Z</dcterms:created>
  <dc:creator>أبو زيد</dc:creator>
  <dc:description>زوروا موقع أسطوانة العروض  www.estwana.com وستجدون المزيد والجديد من عروض البوربوينت التعليمية للمرحلة الثانوية </dc:description>
  <dc:language>en-US</dc:language>
  <cp:lastModifiedBy>Home</cp:lastModifiedBy>
  <dcterms:modified xsi:type="dcterms:W3CDTF">2008-09-14T22:35:37Z</dcterms:modified>
  <cp:revision>55</cp:revision>
  <dc:subject/>
  <dc:title>عرض تقديمي من PowerPoint</dc:title>
</cp:coreProperties>
</file>