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3C8-3C44-40CC-ABD0-39D48F4A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515-67A9-484C-9EBE-BE18917A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185-97B9-40F8-83A3-229C4FC9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2AA-085E-4DDC-BA13-DA705760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D77B-B0F0-43EB-A727-2C87A613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3B858-572D-4E32-8FC6-1956E5B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42A3F-4FC3-4600-BB6D-7C222580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71F55-091C-467D-BF4B-7F7FB4FC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70F44-3BCA-445A-860A-E3F90B3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762E9-CEB1-465D-99B3-2C38961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4831-FC45-4430-A3BE-C8378E85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9B3-BE66-4409-9092-05958F7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62BDF-6BEE-4F6D-AC7A-E575911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497CD-4373-42A8-AB38-9C0FDE5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9D1E4-F45F-4A1B-9FDE-F03F786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F5F4E-DC72-427A-B051-009F99A9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A01B7-AB91-4DD5-9EAA-5A2EE5DB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A72-F1CD-409E-84E8-8688E7EC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86E-AD63-4EA8-B0BA-94E2CB9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543-4716-47FD-82AA-8223DE46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325-FA29-4062-872E-F1FAEC8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980-9A96-4A24-8E73-580AA68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25B-8515-44D7-8E1A-B38E4DA5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319-F45B-4A21-8BBD-F681E02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A21-3652-4FB8-A3FF-043BDE64E60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B7F3-EC1B-427B-A321-9DB55B49864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067520" cy="154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3399"/>
                </a:solidFill>
                <a:latin typeface="Arial"/>
              </a:rPr>
              <a:t>المحاضرة الثانيه عشرة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مثال (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ات رمادية اصلية× حشرات انبوسية اص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ات رماد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ات رمادية × حشرات رماد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×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ة رمادية و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حشرة انبوس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حلل التلقيحات السابقة تحليلا وراثي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1773360"/>
            <a:ext cx="0" cy="431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708280"/>
            <a:ext cx="0" cy="431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3500280"/>
            <a:ext cx="0" cy="4320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لتحلي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ارقام (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8:18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تمثل النسب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: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, وهذا يعني ان هناك زوجا واحد من الاليلات هو المسؤول عن توارث المتفارقتي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مادية= سائ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انبوسية = متنح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رمز للجين السائد المسؤول عن ظهور الحشرات الرمادية بالرم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فيكون اليلة المتنحي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                                       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×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e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(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أ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                           E2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                                                    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×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×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الامشاج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2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نسبة  الاشكال المظهرية =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ماديه 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بنوس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نسبة التراكيب الوراثيه=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o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ابنو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2133720"/>
            <a:ext cx="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500280"/>
            <a:ext cx="0" cy="936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140360" y="5084640"/>
          <a:ext cx="2665080" cy="1335240"/>
        </p:xfrm>
        <a:graphic>
          <a:graphicData uri="http://schemas.openxmlformats.org/drawingml/2006/table">
            <a:tbl>
              <a:tblPr/>
              <a:tblGrid>
                <a:gridCol w="1285560"/>
                <a:gridCol w="137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رمادية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رمادية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    </a:t>
                      </a: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رمادية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ابنوسية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084720" y="4653000"/>
            <a:ext cx="358920" cy="358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4581360"/>
            <a:ext cx="504720" cy="43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56360" y="4653000"/>
            <a:ext cx="533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e   2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3280" y="4653000"/>
            <a:ext cx="543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   2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مثال (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)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شرات طويلة الاجنحة × حشرات طويلة الاجنحة                     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حشرة طويلة الاجنحة و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حشرة مختزلة الاجنحة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حلل التزوجات السابقة تحليلا وراثيا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Arial"/>
              </a:rPr>
              <a:t>التحلي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رقام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4:7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تمثل النسبة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: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, وهذا يعني ان هناك زوجا واحد من الاليلات هو المسؤول عن توارث الصفتين المتفارقت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طويلة الاجنحة = سائد                               مختزلة الأجنحة = متنح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رمز للجين  السائد المسؤول عن ظهور الحشرات طويلة الاجنحة بالرم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كون رمز اليلة المتنحي المسؤول عن ظهور الحشرات مختزلة الاجنح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يل الاباء يحتوي على حشرات طويلة الاجنحة فقط . اذن الحصول على الحشرات مختزلة الاجنحة يتطلب ات تكون الاباء خليط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1052640"/>
            <a:ext cx="0" cy="720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ن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c                        </a:t>
            </a: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×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  امشاج     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2 </a:t>
            </a: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        c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c1:CC c :CC1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 طويلة الاجنحة 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مختزلة الاجنحة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لرمز للطراز البر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اجنحة مختزلة الاجنحة هي صفة جسدية متنحية طاف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جين المتنحي الطاف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يله السائد الب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لعيون العودية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هي الصفة مرتبطه بالكروموسومات -× وهي صفة طافرة سائ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جين السائد الطاف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يله المتنحي الب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ن وجود العلاقة + يعني ب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ا كان الحرف صغيرا , فإن ذلك يعني ان الجين متنحي والجين البري سائ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ا كان الحرف كبيرا, فإن ذلك يعني ان الجين الطافر سائد والجين البري متنح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83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707520" cy="96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99"/>
                </a:solidFill>
                <a:latin typeface="Arial"/>
              </a:rPr>
              <a:t>تحليل النتائج باستخدم الرمو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ات طويلة الساق اصلية × نباتات قصيرة الساق أصلية         جيل الاباء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ات طويلة الساق                          الجيل الاول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78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 طويلة الساق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7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 قصير الساق               الجيل الثاني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989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93372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4319640" cy="119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99"/>
                </a:solidFill>
                <a:latin typeface="Arial"/>
              </a:rPr>
              <a:t>التحليل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قارم السابقه (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77:78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تمثل النسبة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: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 وهذا يعني ان هناك زوج من الاليلات هو المسؤول عن توارث هاتين الصفتين المتفارقت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أي الصفتين سائد ؟ وايهما متنح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طويلة الساق      صفه سائد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قصيرة الساق     صفة متنحية         </a:t>
            </a: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92360" y="5516640"/>
          <a:ext cx="3384720" cy="10746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طو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طو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طو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قص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 txBox="1"/>
          <p:nvPr/>
        </p:nvSpPr>
        <p:spPr>
          <a:xfrm>
            <a:off x="2268360" y="4508640"/>
            <a:ext cx="2239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5516640"/>
            <a:ext cx="223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2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5589720"/>
            <a:ext cx="726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الامشاج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47628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استخدام الرموز الان لتحليل التزاوج , كمايلي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طالما ان هناك اليل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ذن لنرمز للجين السائد المسؤول عن ظهور الصفة السائدة (طويلة السا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بالرم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ليكون رمز اليله المتنحي المسؤول عن ظهور الصفه المتنحية (قصير الساق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 ارجع الى التموين السابق وحلله وراثيا على ضوء المعلومات السابق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×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a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           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الامشا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          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لقيح ذاتي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ِ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494172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94172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602136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44500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1640" y="5516640"/>
            <a:ext cx="28908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24360" y="5013360"/>
            <a:ext cx="50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  2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43280" y="6165720"/>
            <a:ext cx="2174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51640" y="501336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  2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306864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9280" y="4292640"/>
            <a:ext cx="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00360" y="2708280"/>
            <a:ext cx="61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(1</a:t>
            </a:r>
            <a:r>
              <a:rPr b="0" lang="hi-IN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أ</a:t>
            </a: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)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سبة الاشكال المظهرية =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طويلة الساق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صيرة الس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سبة التركيب الوراثي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1:Aa2: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مصطلحات مهم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اليلات (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eles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)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شكال بديله للمورث المسؤول عن توارث صفة وراثية معينه والتي تحتل الموقع  الوراثير (الجيني) نفسه على زوج الكروموسومات المتماثلة (ومثالها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شكال مختلفة للمورث نفسه تحدد نفس الصفه الوراثية والوظيفية وتحتل الموقع الوراثي نفسه في الكروموسومين المتماثلين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ب- 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موقع وراثي أوجيني (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ocus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كان أو الموضع الذي يحتله الجين (او الاليل) في الكروموس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ج- تلقيح احادي الهجين (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onohybrid cross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لقيح يتضمن زوجا واحد من الاليلات (او الصفات المتفارق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تلقيح ناتج عن تزاوج فردين يختلفان فيما بينهما في زوج واحد من اليلات او الصفات المتفارقه ) ومثاله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د-فرد اصيل 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mo3ygp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رد يحتوى على زوج او اكثر من الاليلات المتماثلة ويعطي نوعا واحد من الامشاج ومثاله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B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خلافه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هـ- فرد خليط او هجين 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etero3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رد يحتوي على زوج او اكثر من الاليلات غير المتماثلة ويعطي اكثر من نوع واحد من الامشاج.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ومثاله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Bb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وخلاف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و- تركيب وراثي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موعة المورثات (الاليلات المختلفة) التي يحتويها الفرد للصفة او الصفات موضع الدراسة . ومثال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ز- شكل مظهري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ظهر الفرد/ التعبير الناتج عن التركيب الوراثي (+ البيئة في معظم الحالات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ومثاله 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( طويلة الساق وقصيرة السا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067280" y="2205000"/>
            <a:ext cx="485640" cy="55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205000"/>
            <a:ext cx="485640" cy="55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924280"/>
            <a:ext cx="486000" cy="55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– مربع بانت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مربع يتم رسمه للحصول على التراكيب الوراثية والاشكال المظهرية الناتجة عن اتحاد الامشاج المذكره بالامشاج المؤنثة خلال عملية الاخصا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واتج عملية الاخصاب توجد داخ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ربعات الصغي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24000" y="2844720"/>
          <a:ext cx="2879640" cy="164484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1476360" y="2997360"/>
            <a:ext cx="2872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716280"/>
            <a:ext cx="486000" cy="55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47640" y="3789360"/>
            <a:ext cx="216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11640" y="2276640"/>
            <a:ext cx="2160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700360" y="2276640"/>
            <a:ext cx="2872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48360" y="2205000"/>
            <a:ext cx="1152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امشاج مذكرة</a:t>
            </a:r>
            <a:endParaRPr b="0" lang="en-US" sz="1200" spc="1" strike="noStrike">
              <a:ln w="9360">
                <a:solidFill>
                  <a:srgbClr val="ffff66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3429000"/>
            <a:ext cx="79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امشاج مؤنثه</a:t>
            </a:r>
            <a:endParaRPr b="0" lang="en-US" sz="12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ط – نسبة التراكيب الوراثية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enotyic ratio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بة فئات الاشكال المظهرية المختلفة لبعضها البعض (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طويلة الساق :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قصيرة الساق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ق – طراز بري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il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و الطراز المظهري او التركيب الوراثي الاكثر مشاهده والذي يعتبر تشكل مظهري او تركيب وراثي نموذجي (قياس) طبيع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ل – طراز طافر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utant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و الطراز المظهري او التركيب الوراثي البديل للطراز البر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0:29:09Z</dcterms:created>
  <dc:creator>هلا</dc:creator>
  <dc:description/>
  <dc:language>en-US</dc:language>
  <cp:lastModifiedBy>MyName</cp:lastModifiedBy>
  <dcterms:modified xsi:type="dcterms:W3CDTF">2008-03-12T16:31:54Z</dcterms:modified>
  <cp:revision>10</cp:revision>
  <dc:subject/>
  <dc:title>المحاضرة الثانيه عشرة</dc:title>
</cp:coreProperties>
</file>