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9CA-31D6-4A55-AB2D-03C79D9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EEE-FB88-417E-B0B7-EB342AE1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600-9011-4610-9EA3-22D73845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F13-322A-4760-80B4-0854CBE1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67E3A-9B28-42A3-BCCB-A6C4354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7361-1662-4323-B451-97E112F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0E2A6-9BFA-4010-9177-C355B72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0C3E-A8D0-4E69-8723-A7F008A7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33EA1-BA38-4D79-96EE-A497B5F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4DA41-FBDB-4864-B9CF-9E14156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C9C4-6364-4226-B9F0-D41CD51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F75-6EAC-46EA-B2C7-64674E6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B9E6-571D-4A70-AA0C-0553DB2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FEEF-C2D9-4399-8EF6-619D965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BE74-0ED9-48EE-82E4-C835F47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E0B8F-7EAC-4300-9CF4-07367F6C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9F27-49E2-48CA-A6B5-D239A824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93C-6BCB-436E-98DA-E60B7E0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B88-5AA0-448F-8721-4792E7B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105-0051-44F6-8A8C-E105E39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386-F41F-4CCD-893D-A9DF53D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858-89D4-444C-8EBB-52854CA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AF2-3196-4DCE-A51F-CC0A90B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373-FA0A-43F4-B51B-7DA5D27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8C9-95E6-4257-87E8-7C510723657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D429-117E-4D23-A5FA-2D42EE96700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067520" cy="15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3399"/>
                </a:solidFill>
                <a:latin typeface="Arial"/>
              </a:rPr>
              <a:t>المحاضرة الثانيه عشرة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مثال (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اصلية× حشرات انبوسية اص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ات رمادية × حشرات رماد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×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شرة رمادية 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شرة انبوس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حلل التلقيحات السابقة تحليلا وراثي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1773360"/>
            <a:ext cx="0" cy="431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708280"/>
            <a:ext cx="0" cy="431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3500280"/>
            <a:ext cx="0" cy="4320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تحلي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ارقام (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8:18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تمثل النسب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, وهذا يعني ان هناك زوجا واحد من الاليلات هو المسؤول عن توارث المتفارقتي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مادية= سائ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انبوسية = متنح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رمز للجين السائد المسؤول عن ظهور الحشرات الرمادية بالرم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فيكون اليلة المتنحي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                                       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×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(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أ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                           E2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                                                    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×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×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الامشاج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2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نسبة  الاشكال المظهرية =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ماديه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بنوس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نسبة التراكيب الوراثيه=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o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ابنو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2133720"/>
            <a:ext cx="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00280"/>
            <a:ext cx="0" cy="936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140360" y="5084640"/>
          <a:ext cx="2665080" cy="1335240"/>
        </p:xfrm>
        <a:graphic>
          <a:graphicData uri="http://schemas.openxmlformats.org/drawingml/2006/table">
            <a:tbl>
              <a:tblPr/>
              <a:tblGrid>
                <a:gridCol w="1285560"/>
                <a:gridCol w="137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رماد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ابنوسية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084720" y="4653000"/>
            <a:ext cx="358920" cy="358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4581360"/>
            <a:ext cx="504720" cy="43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56360" y="465300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e   2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3280" y="4653000"/>
            <a:ext cx="543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   2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مثال (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)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شرات طويلة الاجنحة × حشرات طويلة الاجنحة                     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شرة طويلة الاجنحة و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شرة مختزلة الاجنحة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حلل التزوجات السابقة تحليلا وراثيا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Arial"/>
              </a:rPr>
              <a:t>التحلي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رقام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4:7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تمثل النسب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, وهذا يعني ان هناك زوجا واحد من الاليلات هو المسؤول عن توارث الصفتين المتفارقت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طويلة الاجنحة = سائد                               مختزلة الأجنحة = متنح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رمز للجين  السائد المسؤول عن ظهور الحشرات طويلة الاجنحة بالرم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كون رمز اليلة المتنحي المسؤول عن ظهور الحشرات مختزلة الاجنح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يل الاباء يحتوي على حشرات طويلة الاجنحة فقط . اذن الحصول على الحشرات مختزلة الاجنحة يتطلب ات تكون الاباء خليط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1052640"/>
            <a:ext cx="0" cy="720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ن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                       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×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امشاج     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2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        c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c1:CC c :CC1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طويلة الاجنحة 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مختزلة الاجنحة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رمز للطراز البر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اجنحة مختزلة الاجنحة هي صفة جسدية متنحية طاف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جين المتنحي الطاف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يله السائد ال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لعيون العودية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هي الصفة مرتبطه بالكروموسومات -× وهي صفة طافرة سائ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جين السائد الطاف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ليله المتنحي ال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ن وجود العلاقة + يعني ب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ا كان الحرف صغيرا , فإن ذلك يعني ان الجين متنحي والجين البري سائ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Arial"/>
              </a:rPr>
              <a:t>اذا كان الحرف كبيرا, فإن ذلك يعني ان الجين الطافر سائد والجين البري متنح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83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707520" cy="96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99"/>
                </a:solidFill>
                <a:latin typeface="Arial"/>
              </a:rPr>
              <a:t>تحليل النتائج باستخدم الرمو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ات طويلة الساق اصلية × نباتات قصيرة الساق أصلية         جيل الاباء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ات طويلة الساق                          الجيل الاول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8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 طويلة الساق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7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 قصير الساق               الجيل الثاني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989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93372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4319640" cy="119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99"/>
                </a:solidFill>
                <a:latin typeface="Arial"/>
              </a:rPr>
              <a:t>التحليل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قارم السابقه (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77:78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تمثل النسبة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 وهذا يعني ان هناك زوج من الاليلات هو المسؤول عن توارث هاتين الصفتين المتفارقت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أي الصفتين سائد ؟ وايهما متنح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طويلة الساق      صفه سائد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قصيرة الساق     صفة متنحية         </a:t>
            </a: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92360" y="5516640"/>
          <a:ext cx="3384720" cy="10746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طو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r>
                        <a:rPr b="0" lang="ar-SA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قص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 txBox="1"/>
          <p:nvPr/>
        </p:nvSpPr>
        <p:spPr>
          <a:xfrm>
            <a:off x="2268360" y="4508640"/>
            <a:ext cx="2239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5516640"/>
            <a:ext cx="223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2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5589720"/>
            <a:ext cx="726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الامشاج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7628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استخدام الرموز الان لتحليل التزاوج , كمايلي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طالما ان هناك اليل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ذن لنرمز للجين السائد المسؤول عن ظهور الصفة السائدة (طويلة السا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بالرم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ليكون رمز اليله المتنحي المسؤول عن ظهور الصفه المتنحية (قصير الساق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 ارجع الى التموين السابق وحلله وراثيا على ضوء المعلومات السابق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a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</a:t>
            </a: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الامشا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          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لقيح ذاتي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ِ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494172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94172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602136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445000"/>
            <a:ext cx="431640" cy="43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16640"/>
            <a:ext cx="28908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24360" y="501336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  2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43280" y="6165720"/>
            <a:ext cx="2174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51640" y="501336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  2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30686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9280" y="4292640"/>
            <a:ext cx="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00360" y="2708280"/>
            <a:ext cx="61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(1</a:t>
            </a: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أ</a:t>
            </a:r>
            <a:r>
              <a:rPr b="0" lang="en-US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اشكال المظهرية =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طويلة الساق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صيرة الس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تركيب الوراثي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1:Aa2: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مصطلحات مهم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اليلات (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eles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)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شكال بديله للمورث المسؤول عن توارث صفة وراثية معينه والتي تحتل الموقع  الوراثير (الجيني) نفسه على زوج الكروموسومات المتماثلة (ومثالها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شكال مختلفة للمورث نفسه تحدد نفس الصفه الوراثية والوظيفية وتحتل الموقع الوراثي نفسه في الكروموسومين المتماثلين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ب- 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موقع وراثي أوجيني 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ocus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كان أو الموضع الذي يحتله الجين (او الاليل) في الكروموس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ج- تلقيح احادي الهجين (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onohybrid cross</a:t>
            </a: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لقيح يتضمن زوجا واحد من الاليلات (او الصفات المتفارق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تلقيح ناتج عن تزاوج فردين يختلفان فيما بينهما في زوج واحد من اليلات او الصفات المتفارقه ) ومثاله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د-فرد اصيل 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mo3ygp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رد يحتوى على زوج او اكثر من الاليلات المتماثلة ويعطي نوعا واحد من الامشاج ومثاله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B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خلافه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هـ- فرد خليط او هجين 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etero3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رد يحتوي على زوج او اكثر من الاليلات غير المتماثلة ويعطي اكثر من نوع واحد من الامشاج.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مثال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B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وخلاف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و- تركيب وراث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موعة المورثات (الاليلات المختلفة) التي يحتويها الفرد للصفة او الصفات موضع الدراسة . ومثال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ز- شكل مظهر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ظهر الفرد/ التعبير الناتج عن التركيب الوراثي (+ البيئة في معظم الحالات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مثاله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( طويلة الساق وقصيرة السا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067280" y="2205000"/>
            <a:ext cx="48564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205000"/>
            <a:ext cx="48564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924280"/>
            <a:ext cx="486000" cy="55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– مربع بانت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مربع يتم رسمه للحصول على التراكيب الوراثية والاشكال المظهرية الناتجة عن اتحاد الامشاج المذكره بالامشاج المؤنثة خلال عملية الاخصا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واتج عملية الاخصاب توجد داخ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ربعات الصغي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24000" y="2844720"/>
          <a:ext cx="2879640" cy="164484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1476360" y="2997360"/>
            <a:ext cx="2872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486000" cy="55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47640" y="3789360"/>
            <a:ext cx="21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11640" y="2276640"/>
            <a:ext cx="2160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700360" y="2276640"/>
            <a:ext cx="2872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463416"/>
                </a:solidFill>
                <a:latin typeface="Arial Black"/>
              </a:rPr>
              <a:t>A</a:t>
            </a:r>
            <a:endParaRPr b="0" lang="en-US" sz="1400" spc="1" strike="noStrike">
              <a:ln w="9360">
                <a:solidFill>
                  <a:srgbClr val="ffff66"/>
                </a:solidFill>
                <a:miter/>
              </a:ln>
              <a:solidFill>
                <a:srgbClr val="463416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48360" y="2205000"/>
            <a:ext cx="115236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مشاج مذكرة</a:t>
            </a:r>
            <a:endParaRPr b="0" lang="en-US" sz="1200" spc="1" strike="noStrike">
              <a:ln w="9360">
                <a:solidFill>
                  <a:srgbClr val="ffff66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3429000"/>
            <a:ext cx="7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امشاج مؤنثه</a:t>
            </a:r>
            <a:endParaRPr b="0" lang="en-US" sz="12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ط – نسبة التراكيب الوراثية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enotyic rati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ة فئات الاشكال المظهرية المختلفة لبعضها البعض (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طويلة الساق :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قصيرة الساق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ق – طراز بري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il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و الطراز المظهري او التركيب الوراثي الاكثر مشاهده والذي يعتبر تشكل مظهري او تركيب وراثي نموذجي (قياس) طبي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66"/>
                </a:solidFill>
                <a:latin typeface="Arial"/>
              </a:rPr>
              <a:t>ل – طراز طافر :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utant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و الطراز المظهري او التركيب الوراثي البديل للطراز البر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0:29:09Z</dcterms:created>
  <dc:creator>هلا</dc:creator>
  <dc:description/>
  <dc:language>en-US</dc:language>
  <cp:lastModifiedBy>MyName</cp:lastModifiedBy>
  <dcterms:modified xsi:type="dcterms:W3CDTF">2008-03-12T16:31:54Z</dcterms:modified>
  <cp:revision>10</cp:revision>
  <dc:subject/>
  <dc:title>المحاضرة الثانيه عشرة</dc:title>
</cp:coreProperties>
</file>