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1BFA-E0A5-46C4-B901-0EC90F99E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0CAC-16E1-44B0-AAD1-F48F3FF23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6556-F81E-4A8F-9B6F-D9AD9445C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675B-E289-495D-9634-75800A647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4B14-3642-4A76-9E27-4A1C478A6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BB89-7E80-4134-9DFD-8DB7E4D86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C451-2E23-4885-9708-A676FBDCA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1CD3-1983-4194-8E61-4A5EF1F8B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7886-FFF7-4C89-B9FC-4E554D122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C7AD-DAE8-4514-A961-13A936610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BA04-B0AF-485C-AC98-E0F9EC501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AAD6-6187-425B-9D98-F53ADAEE1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AEF2-5AF2-4061-8487-16DDC3064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8F9C-41AC-4868-B983-F2980A67C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97FC-52CD-4A7C-8485-55A145919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4A0B-21BD-4307-B9B1-D8E67F5C6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8A62-5DEA-4611-B3A2-91AF35F27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1D4D-8151-4FCD-BBD6-632F42008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851C-DFE4-4E2D-A86E-DF8CD82DA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A4C1-1B3B-469F-919E-46B764639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8FB0-272E-49F1-8E18-D1E30B1F5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BB63-FE0A-4CF8-B953-B2739E4E1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B026-B953-4366-BEC3-2F7F09260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6393-A056-4766-8771-E1526CC4E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303D-73FE-459B-AFB1-EB9549653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20A6A-BBB4-4C68-B83E-68105BE3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946E1-2DBA-46D0-A85A-77E86937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C6B5A-7011-495E-8012-85FC50EC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FBE51-AD29-4734-BC06-7224E628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A291-D39E-4CA1-8F67-9CFA2A6C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407A-C561-4A02-87F2-9F074756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CB70-C687-4654-B5E7-1CFBF50C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923D-A979-499A-AF09-485D03FB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087C-1E4E-4CBC-9F82-25414691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9A06-11E5-491D-9767-FF702586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121E-E10C-44F4-8C96-21FAF7EF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A4F1F-C684-4A0A-982E-AD715392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87E9-3B29-434D-875A-E5CB854B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08C3-2788-430C-A1F2-5ECE6556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7812-7F92-45B6-8B3B-6CC5278B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0986-8EC0-412F-AE1B-51FDE738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54A8-CBBC-4574-B433-ED538972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F7B29-2D1A-4220-9519-39616A10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FF3B5-F4FB-4713-864A-35A57C93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BA0F5-D7A5-410A-8DA5-56AD10A8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4C971-2192-4AAF-AEF1-1B6A6376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0EAFD-E004-4EA4-8653-68D21E18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175B1-8287-4CF2-B622-F0181A8F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5E31C-B9E9-4025-A76E-A7A2381D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8E51-9945-434B-BE7F-E804F9BBCD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42"/>
          <p:cNvSpPr/>
          <p:nvPr/>
        </p:nvSpPr>
        <p:spPr>
          <a:xfrm>
            <a:off x="380880" y="68580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47"/>
          <p:cNvSpPr/>
          <p:nvPr/>
        </p:nvSpPr>
        <p:spPr>
          <a:xfrm>
            <a:off x="380880" y="165240"/>
            <a:ext cx="8305920" cy="41904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2901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ftware Architecture: Foundations, Theory, and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2"/>
          <p:cNvSpPr/>
          <p:nvPr/>
        </p:nvSpPr>
        <p:spPr>
          <a:xfrm rot="5400000">
            <a:off x="-2019240" y="3162240"/>
            <a:ext cx="487656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3886200" y="655308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64"/>
          <p:cNvSpPr/>
          <p:nvPr/>
        </p:nvSpPr>
        <p:spPr>
          <a:xfrm rot="5400000">
            <a:off x="6400800" y="4190760"/>
            <a:ext cx="464796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9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0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1"/>
          <p:cNvSpPr/>
          <p:nvPr/>
        </p:nvSpPr>
        <p:spPr>
          <a:xfrm>
            <a:off x="2645640" y="6583320"/>
            <a:ext cx="665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© Richard N. Taylor, Nenad Medvidovic, and Eric M. Dashof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BC8F-7520-4623-9270-64192A0B8E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66880" y="16765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eployment and Mobility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666880" y="411444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oftware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cture 12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858600"/>
            <a:ext cx="822960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flicting QoS Dimens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69F3-E27A-401D-A198-82B7CE7003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304920" y="563868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jective is to minimize latency and maximize dur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There is no optimal deployment architectur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609480" y="1566720"/>
            <a:ext cx="3340080" cy="3724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4356000" y="2550960"/>
            <a:ext cx="4254480" cy="20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solving Trade-Offs between QoS Dimens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Slide Number Placeholder 6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1A4E-B787-4EF3-8B34-6AD08ED189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267080" y="58453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expression of optimization in terms of a single scalar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4267080" y="318456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tility 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notes a user’s preferences for a given rate of improvement in a QoS dim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609480" y="4952880"/>
            <a:ext cx="3657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457200" y="5562720"/>
            <a:ext cx="396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Guiding Ins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 users have varying QoS preferences for the system services they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2670120" cy="3718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3700440" cy="1828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3"/>
          <a:stretch/>
        </p:blipFill>
        <p:spPr>
          <a:xfrm>
            <a:off x="4570560" y="4132440"/>
            <a:ext cx="4039920" cy="173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D6C0-F0B5-42DF-A716-9E27B1839C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Slightly Larger Scenario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2895480" cy="4029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4019400" y="1521000"/>
            <a:ext cx="4133880" cy="4114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3"/>
          <a:stretch/>
        </p:blipFill>
        <p:spPr>
          <a:xfrm>
            <a:off x="6095880" y="1496880"/>
            <a:ext cx="2560680" cy="19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ployment Model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6F60-E69B-40D8-B1A6-1F190491B3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533520" y="2023920"/>
            <a:ext cx="3657600" cy="3157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4495680" y="1994040"/>
            <a:ext cx="41148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eling Architectural Elem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e sets that specify system elements and their proper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et C of software compon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C = {ResourcesMap, SendMessage, Display, …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et CP of software component proper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CP = {size, reliability, …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ther s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 of hardware nodes, N of network links, I of logical links, S of services, Q of QoS, U of user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P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of hardware params, NP of network link params, CP of software component params, IP of logical link para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e functions that quantify system proper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Param:C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×CP→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Param(ResourcesMap, size) = 15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ther fun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Param,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Param,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IParam, sPara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B521-0DB8-48D5-8EC0-C08B0EB7D2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5715000" y="1676520"/>
            <a:ext cx="29448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64944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eling QoS Dimens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A56D-4D65-44BE-8C5A-0C979A585C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457200" y="1523880"/>
            <a:ext cx="4648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QoS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2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cc0000"/>
                </a:solidFill>
                <a:latin typeface="Tahoma"/>
                <a:ea typeface="ＭＳ Ｐゴシック"/>
              </a:rPr>
              <a:t>qValue:S</a:t>
            </a:r>
            <a:r>
              <a:rPr b="0" i="1" lang="en-US" sz="2100" spc="-1" strike="noStrike">
                <a:solidFill>
                  <a:srgbClr val="cc0000"/>
                </a:solidFill>
                <a:latin typeface="Tahoma"/>
                <a:ea typeface="Arial"/>
              </a:rPr>
              <a:t>×Q×DepSpace → R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quantifies the achieved level of QoS given a de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qValue(Schedule, Latency, Dep 1) = 1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users’ preferences in terms of ut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2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cc0000"/>
                </a:solidFill>
                <a:latin typeface="Tahoma"/>
                <a:ea typeface="ＭＳ Ｐゴシック"/>
              </a:rPr>
              <a:t>qUtil:U</a:t>
            </a:r>
            <a:r>
              <a:rPr b="0" i="1" lang="en-US" sz="2100" spc="-1" strike="noStrike">
                <a:solidFill>
                  <a:srgbClr val="cc0000"/>
                </a:solidFill>
                <a:latin typeface="Tahoma"/>
                <a:ea typeface="Arial"/>
              </a:rPr>
              <a:t>×</a:t>
            </a:r>
            <a:r>
              <a:rPr b="0" i="1" lang="en-US" sz="2100" spc="-1" strike="noStrike">
                <a:solidFill>
                  <a:srgbClr val="cc0000"/>
                </a:solidFill>
                <a:latin typeface="Tahoma"/>
                <a:ea typeface="ＭＳ Ｐゴシック"/>
              </a:rPr>
              <a:t>S</a:t>
            </a:r>
            <a:r>
              <a:rPr b="0" i="1" lang="en-US" sz="2100" spc="-1" strike="noStrike">
                <a:solidFill>
                  <a:srgbClr val="cc0000"/>
                </a:solidFill>
                <a:latin typeface="Tahoma"/>
                <a:ea typeface="Arial"/>
              </a:rPr>
              <a:t>×Q×R → [MinUtil,MaxUtil]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presents the accrued utility for given rate of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qUtil(Commander, Schedule, Latency, 0.25) = 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4962600" y="1901880"/>
            <a:ext cx="3724200" cy="190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4992840" y="4349880"/>
            <a:ext cx="3693960" cy="182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eling System Constrai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A429-5CC5-476E-893A-DB52F3DF2F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457200" y="1600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et PC of parameter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C={memory, bandwidth,…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functio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cSatisfied:PC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×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pSpa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→ [0,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 if constraint is satisf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0 if constraint is not satisf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s that restrict locations of s/w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oc: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Arial"/>
              </a:rPr>
              <a:t>×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Arial"/>
              </a:rPr>
              <a:t>→ [0,1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oc(c,h)=1 if c can be deployed on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oc(c,h)=0 if c cannot be deployed on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Arial"/>
              </a:rPr>
              <a:t>colloc:C×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Arial"/>
              </a:rPr>
              <a:t>→ [-1,1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colloc(c1,c2)=1 if c1 has to be on the same host as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colloc(c1,c2)=-1 if c1 cannot be on the same host as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colloc(c1,c2)=0 if there are no restri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ployment Analys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AB2E-49F7-4DB2-B5E1-9C05D87296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85920" y="5105520"/>
            <a:ext cx="837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both deployments vali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two deployments is “better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selected deployment have required proper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3889440" cy="3173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4873680" y="1752480"/>
            <a:ext cx="373680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ployment Analysis Strateg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trategies with different strengt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of them offer approximate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355e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xed Integer Non-linear Programming (MINL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355e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xed Integer Linear Programming (M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355e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uristic-based strate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0000"/>
              <a:buFont typeface="Tahom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0000"/>
              <a:buFont typeface="Tahom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0000"/>
              <a:buFont typeface="Tahom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8fbac8"/>
              </a:buClr>
              <a:buSzPct val="70000"/>
              <a:buFont typeface="Tahoma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E96D-3A52-498B-9E43-1C88CAACF8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ployment Implement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ctiv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nfig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-install or rem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-release or ret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95BC-0E20-4EEF-A866-443FEDB96D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Are Deployment and Mobility?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Deploym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process of placement of a system’s software components on its hardware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ing the deployment of a component during runtime is called </a:t>
            </a: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migratio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re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gration or redeployment is a type of software system </a:t>
            </a: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mo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bility entails a superset of deployment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4AE6-6CB6-49B3-9E65-8ADC6C5E08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Deployment Life Cyc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C48B-B1B7-48A4-B18B-357866433D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449360" y="1800360"/>
            <a:ext cx="62452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ployment Tool Support – An Exampl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6D4F-C303-4254-855E-6FBB1B620B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" descr=""/>
          <p:cNvPicPr/>
          <p:nvPr/>
        </p:nvPicPr>
        <p:blipFill>
          <a:blip r:embed="rId1"/>
          <a:stretch/>
        </p:blipFill>
        <p:spPr>
          <a:xfrm>
            <a:off x="1789200" y="1563840"/>
            <a:ext cx="556560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Mobil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Mobile compu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volves the movement of human users together with their hosts across different physical lo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also referred to as </a:t>
            </a: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physical mo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ment of software across hardware hosts during the system’s execution, that action is referred to as </a:t>
            </a: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code mobi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logical mo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software module that needs to be migrated contains runtime state, then the module’s migration is known as </a:t>
            </a: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stateful mo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the code needs to be migrated, that is known as </a:t>
            </a: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stateless mo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8842-AEB1-4F42-B71C-4F5D99E9CD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bility Paradigm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te evalu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deploy needed component at runtime from a source host to a destination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 component on the destination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sure that the system’s architectural configuration and any architectural constraints are preser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ivate the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ecuted the component to provide the desired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ly de-activate and de-inst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-on-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e as remote evaluation, but roles of target and destination hosts are rever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bile ag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ration of a stateful software component that needs some remote resources to complete its ta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D269-F454-4517-BC36-4B65A426E1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bility and Quality of Servi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9887-3CCA-4214-87CD-FE922EFF68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" descr=""/>
          <p:cNvPicPr/>
          <p:nvPr/>
        </p:nvPicPr>
        <p:blipFill>
          <a:blip r:embed="rId1"/>
          <a:stretch/>
        </p:blipFill>
        <p:spPr>
          <a:xfrm>
            <a:off x="706320" y="2209680"/>
            <a:ext cx="7731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osing Though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may be impractical or unacceptable to bring systems down for upgra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Re)deployment is thus necess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e as a set of </a:t>
            </a: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principal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decisions naturally encompasses (re)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ing the relationship between architectural model and implementation stems degrad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3776-1C0F-4E2D-BDEA-25BD7CD1DD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ployment and Mobility Challeng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ly distributed target process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processors embedded inside heterogeneous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oftware components may require different hardware configu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lifespans may stretch over deca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system evolution is continuous (requiring redeploym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bile code may mandate that </a:t>
            </a:r>
            <a:r>
              <a:rPr b="0" i="1" lang="en-US" sz="2400" spc="-1" strike="noStrike">
                <a:solidFill>
                  <a:srgbClr val="000099"/>
                </a:solidFill>
                <a:latin typeface="Tahoma"/>
              </a:rPr>
              <a:t>runn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99"/>
                </a:solidFill>
                <a:latin typeface="Tahoma"/>
              </a:rPr>
              <a:t>stateful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be redepl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0C76-2634-449C-BE54-DB8FF2A522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Architecture and Deploymen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ystem is deployed to a set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os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t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te provides a set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sourc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by the system’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pheral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application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may b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clusiv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har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F764-BEDA-44CC-8774-091AE09927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Is Deployment Changing 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904760"/>
            <a:ext cx="403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te Installation procedure for software system on CD 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oftware system instal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52640" y="1904760"/>
            <a:ext cx="403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producers and consumers cooperating and negotiat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” of Softwar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3447-9E58-4314-99CC-99003B6616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447920" y="50292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 this because of high conne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ployment, Architecture, and Quality of Servi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472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55e"/>
                </a:solidFill>
                <a:latin typeface="Tahoma"/>
              </a:rPr>
              <a:t>Deployment Architectur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allocation of s/w components to h/w host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eployment architectures are possible for a given syst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y provide the same functiona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different qualities of service (Qo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7BCE-8EF1-4948-BE68-CB9F98CFCE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524400" cy="2322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4648320" y="2066760"/>
            <a:ext cx="365760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ployment Activit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1805-2201-4A7B-B96B-5F9F421055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ployment Plann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ow do we 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fi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effec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a deployment architectur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at improves multiple QoS dimension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FF56-E7C2-48B7-B101-77C4CAEDCB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1622520" y="2286000"/>
            <a:ext cx="58989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cenario with a Single QoS Dimens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0085-8EF5-47A6-A6FF-7A10B2A94F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80880" y="55627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 is to minimize 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ptim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ployment architecture is deploy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669960" y="1917720"/>
            <a:ext cx="3139920" cy="3492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4572000" y="2435400"/>
            <a:ext cx="3997440" cy="22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6:57:16Z</dcterms:created>
  <dc:creator>Taylor, Medvidovic, and Dashofy</dc:creator>
  <dc:description>Copyright (C) Richard N. Taylor, Nenad Medvidovic, and Eric M. Dashofy. All rights reserved.</dc:description>
  <dc:language>en-US</dc:language>
  <cp:lastModifiedBy>zakarya</cp:lastModifiedBy>
  <dcterms:modified xsi:type="dcterms:W3CDTF">2011-09-22T16:22:32Z</dcterms:modified>
  <cp:revision>37</cp:revision>
  <dc:subject>Software Architecture: Foundations, Theory, and Practice</dc:subject>
  <dc:title>Deployment and Mobility</dc:title>
</cp:coreProperties>
</file>