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B27B-5EB7-412C-B6E7-D39FA5A9D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DABE-8FE9-449D-97D2-81E34DA54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E514-D693-4D32-83D8-EBF6F5CFE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6EAB-7E90-42F1-890E-6086182A3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C637-3C89-46D1-8D22-A294F184A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0D63-BFE6-419F-9652-057F7F396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335A-0064-4B4F-8F08-01AF5F507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C65B-0BDD-49DC-9610-DE3BE118F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7BDD-3556-4A84-9EF7-9A3744C81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C354-44B3-491A-839A-55128EFFF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77BD-D0EE-4290-B062-FFF4AFED8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6E3C-839F-4BB6-95DE-C0CCBE210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A188-6312-4492-A643-A3C0E5875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B2FF-83B1-4474-8CBD-BE1A8A062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D3E7-9FB8-4691-83BD-D6A2C4093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01F4-4AE5-4938-8334-8368900B7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121C-AA23-4D50-8C6D-1FB130A26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B419-8A7F-48A5-A3D3-2590FDEE4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454C-1799-44F0-8395-BF35A373F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A5D6-1CEE-45A1-B470-6318AAACD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8BDC-BCAE-4FBC-976C-89A5E7404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C412-6A8F-4420-B5B3-48EEDFE8B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7ED3-673D-4D08-97BC-5B9B3A66A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7434-369F-4E20-8D61-BC05E4AAE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4A9A-06BE-4C33-867A-4132B3E7D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95E44-D454-4767-A3E7-661207BD4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CB4D-6B1A-4A00-A488-F969604A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E207-7669-42E1-8CF0-E6F36C079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6EF8-8CF3-4512-8AEF-2472A619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F65A-C962-4708-AC3C-99A3F56A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84FC-9BB1-4B5E-BD66-39966379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E342-FB56-432A-AC26-D98C4F81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4A02-064C-4F89-82FE-0DF7D6FF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2CAC-6E12-4CB3-BEE1-2133B775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4ACE-F5A5-4192-AD57-89DE645F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CAB3-5E66-4CAA-9E4E-5255A3FD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D612E-EB9B-455E-BC91-18D0D9DD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0879-BD0E-4EF0-9412-82072059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4233-7089-4C4C-8A2A-3DE0B3AE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D65E-B21A-4E0F-B975-10DC082C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3F57-2AA6-4B1C-A125-76A7642A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7BF2-D80C-43F4-91DB-F01604C5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5D4E3-7013-435B-961A-7245BE06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E0F7D-7AF1-4293-9877-819E62D7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CDFE-5A4D-4EF5-A692-178EDC31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53A47-76A8-4FE5-9007-9DA1FEDE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832B-710D-490A-9C3F-109C7DA9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26BE7-7771-420E-8E88-BA32F141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7A897-B2FA-4151-9486-ECA1AEC6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E50E-F917-4D28-A998-0E37208E41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7703-A2EF-40F7-AF6C-955E2B9FC6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eployment and Mobility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12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85860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flicting QoS Dimen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A2D1-BA9F-425C-BE42-1327A7CEBD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04920" y="56386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ive is to minimize latency and maximize du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There is no optimal deployment architectu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609480" y="1566720"/>
            <a:ext cx="3340080" cy="372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4356000" y="2550960"/>
            <a:ext cx="425448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olving Trade-Offs between QoS Dimen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16BD-5F4F-4880-9760-CA72ADB67E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267080" y="58453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expression of optimization in terms of a single scalar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267080" y="318456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s a user’s preferences for a given rate of improvement in a QoS dim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609480" y="4952880"/>
            <a:ext cx="3657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457200" y="5562720"/>
            <a:ext cx="396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Guiding Insigh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 users have varying QoS preferences for the system services they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2670120" cy="3718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70044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3"/>
          <a:stretch/>
        </p:blipFill>
        <p:spPr>
          <a:xfrm>
            <a:off x="4570560" y="4132440"/>
            <a:ext cx="4039920" cy="173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EABB-EC72-4E54-B0A8-C3BBAD826B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Slightly Larger Scenario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895480" cy="4029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4019400" y="1521000"/>
            <a:ext cx="4133880" cy="4114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3"/>
          <a:stretch/>
        </p:blipFill>
        <p:spPr>
          <a:xfrm>
            <a:off x="6095880" y="1496880"/>
            <a:ext cx="2560680" cy="19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loyment Model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9120-88FD-44D0-889C-8AC22A4F0B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533520" y="2023920"/>
            <a:ext cx="3657600" cy="3157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4495680" y="1994040"/>
            <a:ext cx="41148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ing Architectural Elem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e sets that specify system elements and their proper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t C of software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C = {ResourcesMap, SendMessage, Display, …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et CP of software component proper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CP = {size, reliability, …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ther s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 of hardware nodes, N of network links, I of logical links, S of services, Q of QoS, U of user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P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of hardware params, NP of network link params, CP of software component params, IP of logical link para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fine functions that quantify system proper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Param:C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×CP→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Param(ResourcesMap, size) = 15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her fun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Param,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Param,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IParam, sPara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A73F-F2CE-482F-BB52-A69BA0191F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2944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649440"/>
            <a:ext cx="8610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ing QoS Dimen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A0ED-C7E1-4F6E-BE65-80C0B0350B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457200" y="1523880"/>
            <a:ext cx="4648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Qo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2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cc0000"/>
                </a:solidFill>
                <a:latin typeface="Tahoma"/>
                <a:ea typeface="ＭＳ Ｐゴシック"/>
              </a:rPr>
              <a:t>qValue:S</a:t>
            </a:r>
            <a:r>
              <a:rPr b="0" i="1" lang="en-US" sz="2100" spc="-1" strike="noStrike">
                <a:solidFill>
                  <a:srgbClr val="cc0000"/>
                </a:solidFill>
                <a:latin typeface="Tahoma"/>
                <a:ea typeface="Arial"/>
              </a:rPr>
              <a:t>×Q×DepSpace → R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quantifies the achieved level of QoS given a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qValue(Schedule, Latency, Dep 1) = 1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 users’ preferences in terms of u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24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cc0000"/>
                </a:solidFill>
                <a:latin typeface="Tahoma"/>
                <a:ea typeface="ＭＳ Ｐゴシック"/>
              </a:rPr>
              <a:t>qUtil:U</a:t>
            </a:r>
            <a:r>
              <a:rPr b="0" i="1" lang="en-US" sz="2100" spc="-1" strike="noStrike">
                <a:solidFill>
                  <a:srgbClr val="cc0000"/>
                </a:solidFill>
                <a:latin typeface="Tahoma"/>
                <a:ea typeface="Arial"/>
              </a:rPr>
              <a:t>×</a:t>
            </a:r>
            <a:r>
              <a:rPr b="0" i="1" lang="en-US" sz="2100" spc="-1" strike="noStrike">
                <a:solidFill>
                  <a:srgbClr val="cc0000"/>
                </a:solidFill>
                <a:latin typeface="Tahoma"/>
                <a:ea typeface="ＭＳ Ｐゴシック"/>
              </a:rPr>
              <a:t>S</a:t>
            </a:r>
            <a:r>
              <a:rPr b="0" i="1" lang="en-US" sz="2100" spc="-1" strike="noStrike">
                <a:solidFill>
                  <a:srgbClr val="cc0000"/>
                </a:solidFill>
                <a:latin typeface="Tahoma"/>
                <a:ea typeface="Arial"/>
              </a:rPr>
              <a:t>×Q×R → [MinUtil,MaxUtil]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represents the accrued utility for given rate of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qUtil(Commander, Schedule, Latency, 0.25) =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4962600" y="1901880"/>
            <a:ext cx="3724200" cy="190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4992840" y="4349880"/>
            <a:ext cx="3693960" cy="182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ing System Constrai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C20B-3455-436D-9E5C-2A8F2199F3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57200" y="160020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et PC of parameter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C={memory, bandwidth,…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functio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cSatisfied:PC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×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pSpa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→ [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 if constraint is satis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0 if constraint is not satisfi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s that restrict locations of s/w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c: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×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H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→ [0,1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oc(c,h)=1 if c can be deployed on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oc(c,h)=0 if c cannot be deployed on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colloc:C×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Arial"/>
              </a:rPr>
              <a:t>→ [-1,1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olloc(c1,c2)=1 if c1 has to be on the same host as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olloc(c1,c2)=-1 if c1 cannot be on the same host as c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colloc(c1,c2)=0 if there are no restr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loyment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52FA-7B4A-424D-92B9-3CEE18D1D5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85920" y="5105520"/>
            <a:ext cx="837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both deployments vali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two deployments is “better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selected deployment have required proper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3889440" cy="3173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4873680" y="1752480"/>
            <a:ext cx="373680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loyment Analysis Strateg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trategies with different streng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of them offer approximate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xed Integer Non-linear Programming (MINL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xed Integer Linear Programming (M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355e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uristic-based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0000"/>
              <a:buFont typeface="Tahom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0000"/>
              <a:buFont typeface="Tahom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0000"/>
              <a:buFont typeface="Tahom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8fbac8"/>
              </a:buClr>
              <a:buSzPct val="70000"/>
              <a:buFont typeface="Tahoma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1C2B-E718-49AE-8983-894706AB3B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loyment Implement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ctiv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nfig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-install or remo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-release or ret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766B-1035-42F1-BE6C-4E95892BB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Are Deployment and Mobility?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Deploym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process of placement of a system’s software components on its hardware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ing the deployment of a component during runtime is called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migratio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re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gration or redeployment is a type of software system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bility entails a superset of deployment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21F7-6DEE-4BF5-9B67-F215D048AE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Deployment Life Cyc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2F09-DC65-40E8-9BD5-E0BEB932AD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449360" y="1800360"/>
            <a:ext cx="62452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ployment Tool Support – An Exampl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3A44-37BD-458E-8994-365E09BE50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1789200" y="1563840"/>
            <a:ext cx="55656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Mo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Mobile compu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volves the movement of human users together with their hosts across different physical lo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lso referred to as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physical mo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ment of software across hardware hosts during the system’s execution, that action is referred to as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code mo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logical mo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software module that needs to be migrated contains runtime state, then the module’s migration is known as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stateful mo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the code needs to be migrated, that is known as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stateless mo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C3B8-C897-4715-B1E9-3991E55EC3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bility Paradig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te evalu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deploy needed component at runtime from a source host to a destination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 component on the destination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ure that the system’s architectural configuration and any architectural constraints are preser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ivate the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ecuted the component to provide the desired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ly de-activate and de-inst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-on-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as remote evaluation, but roles of target and destination hosts are rever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bile ag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ration of a stateful software component that needs some remote resources to complete its tas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8C6D-0AE9-4335-83C1-58A8A6FFF5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bility and Quality of Servi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621E-E5FD-457F-B7A7-7D6D66FA9F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706320" y="2209680"/>
            <a:ext cx="7731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osing Though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may be impractical or unacceptable to bring systems down for upgr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e)deployment is thus neces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as a set of </a:t>
            </a: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principal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decisions naturally encompasses (re)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ing the relationship between architectural model and implementation stems degra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8DD2-3F8D-4A32-A600-AF00186827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loyment and Mobility Challen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ly distributed target proces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processors embedded inside heterogeneous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oftware components may require different hardware configu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lifespans may stretch over dec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ystem evolution is continuous (requiring redeploym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bile code may mandate that </a:t>
            </a:r>
            <a:r>
              <a:rPr b="0" i="1" lang="en-US" sz="2400" spc="-1" strike="noStrike">
                <a:solidFill>
                  <a:srgbClr val="000099"/>
                </a:solidFill>
                <a:latin typeface="Tahoma"/>
              </a:rPr>
              <a:t>run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99"/>
                </a:solidFill>
                <a:latin typeface="Tahoma"/>
              </a:rPr>
              <a:t>stateful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be redepl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F19E-54AB-4340-87D8-2687F3B078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Architecture and Deploymen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ystem is deployed to a set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os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t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te provides a set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sourc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by the system’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pheral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application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may b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clusiv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har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E088-EA1D-43B6-B7AE-B3C3419FA9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Is Deployment Changing 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904760"/>
            <a:ext cx="403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 Installation procedure for software system on CD 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oftware system instal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52640" y="1904760"/>
            <a:ext cx="403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producers and consumers cooperating and negotia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” of Softwar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27D6-E36A-4DE9-AFCA-22B412C154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447920" y="50292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 this because of high conne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ployment, Architecture, and Quality of Servi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472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55e"/>
                </a:solidFill>
                <a:latin typeface="Tahoma"/>
              </a:rPr>
              <a:t>Deployment Architectu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allocation of s/w components to h/w hos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ployment architectures are possible for a given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y provide the same function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different qualities of service (Qo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D462-FE93-48C1-B0CB-CBDF2A6495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524400" cy="2322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4648320" y="2066760"/>
            <a:ext cx="36576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loyment Activ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4BAD-11BD-4457-8164-24416C07CB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loyment Plann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ow do we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fi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effec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a deployment architectur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at improves multiple QoS dimension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45AA-533B-4F9E-AA57-5A5861F4A5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1622520" y="2286000"/>
            <a:ext cx="5898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enario with a Single QoS Dimens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8565-DB64-4E51-8D25-80ECF57CD7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80880" y="55627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 is to minimize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ptim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ployment architecture is deploy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669960" y="1917720"/>
            <a:ext cx="3139920" cy="349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4572000" y="2435400"/>
            <a:ext cx="39974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6:57:16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09-22T16:22:32Z</dcterms:modified>
  <cp:revision>37</cp:revision>
  <dc:subject>Software Architecture: Foundations, Theory, and Practice</dc:subject>
  <dc:title>Deployment and Mobility</dc:title>
</cp:coreProperties>
</file>