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AC28D3-A268-4DC3-A8FD-F7616AD07E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F4A6F3-FA5D-4DF2-855C-8BA8D5DA82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1B6D68-2E88-4D8B-AE7D-0985926439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357BBF-C81B-4FC6-A336-7FA1DC4912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DB0587-7CC7-4237-8645-E148278E6B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61ADF2-9D8C-498C-93EE-E4D8108797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63D7D3-BDE1-4245-8038-0F582C0F01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60FF94-A79A-4FB7-B65A-09F5C93111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3D211B-9975-46B2-96C1-D8ECF0F6F2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F9AB50-F597-4A71-B606-035E5D0226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FD7066-2771-4036-AA85-7476951244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1CCECC-BC32-404C-BC48-61A9B4BF83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E4C5AC-0386-428F-8C7D-32DB918CAE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836D5E-8EF5-45E9-8214-52A45354F5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1042CF-88AA-46C7-9482-8F236B72F5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54CB55-2A29-4FC3-A0B9-5EB7F19CCA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6491AE-5DC0-4DE7-A0D4-CBD0E93AE1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8D52B3-7590-4AE0-8C2A-764060A5CE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18F879-ACC8-4DF9-B5DE-BADE08E433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71CB08-688C-4E0E-BBD1-7CC5C5D2CC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54C6B9-2A99-488B-A4F6-B11FB0BB98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F4B4D-B824-4D32-A054-CB0BBA064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5CA2C-5E59-426F-9D63-1B1C5AD42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5E4C9-B349-4393-AC36-E20B783038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lgn="r" rtl="1">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lgn="r" rtl="1">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gn="r" rtl="1">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gn="r" rtl="1">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gn="r" rtl="1">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08960-270B-4E34-9A51-5F6CB2D6EFA9}"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lgn="r" rtl="1">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lgn="r" rtl="1">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gn="r" rtl="1">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gn="r" rtl="1">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gn="r" rtl="1">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4EEA3-C56B-463F-9937-EC89C17C5EC5}"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ubTitle"/>
          </p:nvPr>
        </p:nvSpPr>
        <p:spPr>
          <a:xfrm>
            <a:off x="1371600" y="3962160"/>
            <a:ext cx="6858000" cy="1600200"/>
          </a:xfrm>
          <a:prstGeom prst="rect">
            <a:avLst/>
          </a:prstGeom>
          <a:noFill/>
          <a:ln w="0">
            <a:noFill/>
          </a:ln>
        </p:spPr>
        <p:txBody>
          <a:bodyPr anchor="ctr">
            <a:no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Ophthalmic Prepara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onicity</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14" name="PlaceHolder 2"/>
          <p:cNvSpPr>
            <a:spLocks noGrp="1"/>
          </p:cNvSpPr>
          <p:nvPr>
            <p:ph/>
          </p:nvPr>
        </p:nvSpPr>
        <p:spPr>
          <a:xfrm>
            <a:off x="611280" y="1599840"/>
            <a:ext cx="835344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possible eye drops  are  made  isotonic  with lachrymal fluid (  approximately  equivalent  to 0.9 % w/v sodium chloride solution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ye will tolerate small volumes of  eye  drops having tonicities in the range equivalent 0.7 – 1.5 % w/v sodium chlorid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onicity of hypotonic eye drops by addition of the tonicity of the lachrymal flui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Viscosity Enhancers</a:t>
            </a:r>
            <a:endParaRPr b="0" lang="en-US" sz="4200" spc="-1" strike="noStrike">
              <a:solidFill>
                <a:srgbClr val="330033"/>
              </a:solidFill>
              <a:latin typeface="Times New Roman"/>
            </a:endParaRPr>
          </a:p>
        </p:txBody>
      </p:sp>
      <p:sp>
        <p:nvSpPr>
          <p:cNvPr id="116" name="PlaceHolder 2"/>
          <p:cNvSpPr>
            <a:spLocks noGrp="1"/>
          </p:cNvSpPr>
          <p:nvPr>
            <p:ph/>
          </p:nvPr>
        </p:nvSpPr>
        <p:spPr>
          <a:xfrm>
            <a:off x="611280" y="1599840"/>
            <a:ext cx="853272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general  assumption   that  increase  the viscosity of an  eye  drop  increase  the   residence time of the drop in the eye and results in   increase penetration  and  therapeutic  action  of   the  drug.</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cosity enhancers including polyvinyl alcohol 1.4 %  w/v   &amp;   methylcellulose   derivative    such   as hypromellose    “    hydroxypropyl     derivative    of methylcellulose” 0.5 – 2 % w/v.</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H Adjustment</a:t>
            </a:r>
            <a:endParaRPr b="0" lang="en-US" sz="4200" spc="-1" strike="noStrike">
              <a:solidFill>
                <a:srgbClr val="330033"/>
              </a:solidFill>
              <a:latin typeface="Times New Roman"/>
            </a:endParaRPr>
          </a:p>
        </p:txBody>
      </p:sp>
      <p:sp>
        <p:nvSpPr>
          <p:cNvPr id="118" name="PlaceHolder 2"/>
          <p:cNvSpPr>
            <a:spLocks noGrp="1"/>
          </p:cNvSpPr>
          <p:nvPr>
            <p:ph/>
          </p:nvPr>
        </p:nvSpPr>
        <p:spPr>
          <a:xfrm>
            <a:off x="684000" y="1599840"/>
            <a:ext cx="845964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est compromise is required after  considering the following factors:</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H offering best stability during preparation and storage.</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H   offering   the   best   therapeutic   activity.</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comfort of the pati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611280" y="1599840"/>
            <a:ext cx="8532720" cy="45306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active  ingredient are  salts  of  weak  bases  and are most stable at an  acid  pH  but  most  active  at  a  slightly alkaline pH.</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chrymal    fluid   has   a   pH of 7.2  –  7.4  and  also possesses considerable buffering capacity. Thus a 50  mcl eye  drop  which   is    weakly    buffered    will   be   rapidly neutralized by lachrymal fluid. Where  possible very  acidic solution,  such  as  adrenalin  acid  tartrate   or  pilocarpine hydrochloride are buffered  to  reduce  stinging  instillation.</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itable  buffers  for  eye  drops  including   Borate  buffer, Phosphate buffer, Citrate buffer.</a:t>
            </a:r>
            <a:endParaRPr b="0" lang="en-US" sz="2400" spc="-1" strike="noStrike">
              <a:solidFill>
                <a:srgbClr val="000000"/>
              </a:solidFill>
              <a:latin typeface="Arial"/>
            </a:endParaRPr>
          </a:p>
        </p:txBody>
      </p:sp>
      <p:sp>
        <p:nvSpPr>
          <p:cNvPr id="120" name="PlaceHolder 2"/>
          <p:cNvSpPr>
            <a:spLocks noGrp="1"/>
          </p:cNvSpPr>
          <p:nvPr>
            <p:ph type="title"/>
          </p:nvPr>
        </p:nvSpPr>
        <p:spPr>
          <a:xfrm>
            <a:off x="914400" y="277560"/>
            <a:ext cx="77724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H Adjustment              ( Cont </a:t>
            </a:r>
            <a:r>
              <a:rPr b="0" lang="en-US" sz="4200" spc="-1" strike="noStrike">
                <a:solidFill>
                  <a:srgbClr val="330033"/>
                </a:solidFill>
                <a:latin typeface="Arial"/>
              </a:rPr>
              <a:t>…</a:t>
            </a:r>
            <a:r>
              <a:rPr b="0" lang="en-US" sz="4200" spc="-1" strike="noStrike">
                <a:solidFill>
                  <a:srgbClr val="330033"/>
                </a:solidFill>
                <a:latin typeface="Times New Roman"/>
              </a:rPr>
              <a:t>)</a:t>
            </a:r>
            <a:endParaRPr b="0" lang="en-US" sz="42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ntioxidants</a:t>
            </a:r>
            <a:endParaRPr b="0" lang="en-US" sz="4200" spc="-1" strike="noStrike">
              <a:solidFill>
                <a:srgbClr val="330033"/>
              </a:solidFill>
              <a:latin typeface="Times New Roman"/>
            </a:endParaRPr>
          </a:p>
        </p:txBody>
      </p:sp>
      <p:sp>
        <p:nvSpPr>
          <p:cNvPr id="122" name="PlaceHolder 2"/>
          <p:cNvSpPr>
            <a:spLocks noGrp="1"/>
          </p:cNvSpPr>
          <p:nvPr>
            <p:ph/>
          </p:nvPr>
        </p:nvSpPr>
        <p:spPr>
          <a:xfrm>
            <a:off x="539280" y="1599840"/>
            <a:ext cx="860436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ing agent are preferentially oxidizing and are added to eye drops in  order  to  protect  the  active ingredient from oxidation.</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e  ingredient   requiring   protection  including adrenalin, sulphacetamide, phenylephedrine…et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helating Agent</a:t>
            </a:r>
            <a:endParaRPr b="0" lang="en-US" sz="4200" spc="-1" strike="noStrike">
              <a:solidFill>
                <a:srgbClr val="330033"/>
              </a:solidFill>
              <a:latin typeface="Times New Roman"/>
            </a:endParaRPr>
          </a:p>
        </p:txBody>
      </p:sp>
      <p:sp>
        <p:nvSpPr>
          <p:cNvPr id="124" name="PlaceHolder 2"/>
          <p:cNvSpPr>
            <a:spLocks noGrp="1"/>
          </p:cNvSpPr>
          <p:nvPr>
            <p:ph/>
          </p:nvPr>
        </p:nvSpPr>
        <p:spPr>
          <a:xfrm>
            <a:off x="611280" y="1599840"/>
            <a:ext cx="853272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ces of heavy metals can catalyse breakdown of active     ingredient     by     oxidation    and    other mechanism.  Therefore   chelating  agent  such  as disodium edetate may be including to chelating the metal ions and thus enhance stabilit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sodium  edetate  is  a  very  useful  adjuvant   to ophthalmic preparations at concentration of  up  to 0.1  %  w/v   to   enhance  antimicrobial  activity  &amp; chemical stabilit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ontainer of Eye Drops</a:t>
            </a:r>
            <a:endParaRPr b="0" lang="en-US" sz="4200" spc="-1" strike="noStrike">
              <a:solidFill>
                <a:srgbClr val="330033"/>
              </a:solidFill>
              <a:latin typeface="Times New Roman"/>
            </a:endParaRPr>
          </a:p>
        </p:txBody>
      </p:sp>
      <p:sp>
        <p:nvSpPr>
          <p:cNvPr id="126" name="PlaceHolder 2"/>
          <p:cNvSpPr>
            <a:spLocks noGrp="1"/>
          </p:cNvSpPr>
          <p:nvPr>
            <p:ph/>
          </p:nvPr>
        </p:nvSpPr>
        <p:spPr>
          <a:xfrm>
            <a:off x="611280" y="1557360"/>
            <a:ext cx="8532720" cy="48960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er   should   be   regarded   as   part   of   the   total formulation.</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should   protect   the   eye   drops   from   microbial contamination, moisture and air.</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er materials should  not  be  shed  or  leached  into solution neither should any of the eye drop formulation  be sorbed by the container.</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oduct is to sterilized in the final  container  all  parts of the container  must  withstand  the  sterilization  method.</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er may be made  of  glass or  plastic  and  may  be single or multiple dose. The latter should not contain more than 10 m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00000" y="32126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330033"/>
                </a:solidFill>
                <a:latin typeface="Times New Roman"/>
              </a:rPr>
              <a:t>Thanks</a:t>
            </a:r>
            <a:endParaRPr b="0" lang="en-US" sz="96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  </a:t>
            </a:r>
            <a:r>
              <a:rPr b="0" lang="en-US" sz="4200" spc="-1" strike="noStrike">
                <a:solidFill>
                  <a:srgbClr val="330033"/>
                </a:solidFill>
                <a:latin typeface="Times New Roman"/>
              </a:rPr>
              <a:t>Introduction</a:t>
            </a:r>
            <a:endParaRPr b="0" lang="en-US" sz="4200" spc="-1" strike="noStrike">
              <a:solidFill>
                <a:srgbClr val="330033"/>
              </a:solidFill>
              <a:latin typeface="Times New Roman"/>
            </a:endParaRPr>
          </a:p>
        </p:txBody>
      </p:sp>
      <p:sp>
        <p:nvSpPr>
          <p:cNvPr id="9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human eye is an amazing organ and the ability  to see  is  one  of  our  most  treasure possessions. Thus the highest standards are necessary in the compounding of ophthalmic preparation and the greatest care is required in   their   used. It   is    necessary    that    all ophthalmic    preparation    are   sterile   and essentially free from foreign partic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The ophthalmic preparation may be categorized as follows</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01" name="PlaceHolder 2"/>
          <p:cNvSpPr>
            <a:spLocks noGrp="1"/>
          </p:cNvSpPr>
          <p:nvPr>
            <p:ph/>
          </p:nvPr>
        </p:nvSpPr>
        <p:spPr>
          <a:xfrm>
            <a:off x="611280" y="1557360"/>
            <a:ext cx="8353440" cy="5300640"/>
          </a:xfrm>
          <a:prstGeom prst="rect">
            <a:avLst/>
          </a:prstGeom>
          <a:noFill/>
          <a:ln w="0">
            <a:noFill/>
          </a:ln>
        </p:spPr>
        <p:txBody>
          <a:bodyPr anchor="t">
            <a:normAutofit/>
          </a:bodyPr>
          <a:p>
            <a:pPr marL="533520" indent="-53352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ye drops  including  solution  and suspension of active medicament  for instillation  into   the   conjunctival  sac.</a:t>
            </a:r>
            <a:endParaRPr b="0" lang="en-US" sz="2400" spc="-1" strike="noStrike">
              <a:solidFill>
                <a:srgbClr val="000000"/>
              </a:solidFill>
              <a:latin typeface="Arial"/>
            </a:endParaRPr>
          </a:p>
          <a:p>
            <a:pPr marL="533520" indent="-53352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ye lotions for irrigation and  cleaning  the eye  surface.</a:t>
            </a:r>
            <a:endParaRPr b="0" lang="en-US" sz="2400" spc="-1" strike="noStrike">
              <a:solidFill>
                <a:srgbClr val="000000"/>
              </a:solidFill>
              <a:latin typeface="Arial"/>
            </a:endParaRPr>
          </a:p>
          <a:p>
            <a:pPr marL="533520" indent="-53352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ye  ointment,  creams,   and   gels   containing   active ingredient(s) for application  to  the  lid  margins  and/or conjunctival sac.</a:t>
            </a:r>
            <a:endParaRPr b="0" lang="en-US" sz="2400" spc="-1" strike="noStrike">
              <a:solidFill>
                <a:srgbClr val="000000"/>
              </a:solidFill>
              <a:latin typeface="Arial"/>
            </a:endParaRPr>
          </a:p>
          <a:p>
            <a:pPr marL="533520" indent="-53352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ct lens solution to facilitate the wearing and care of contract lenses.</a:t>
            </a:r>
            <a:endParaRPr b="0" lang="en-US" sz="2400" spc="-1" strike="noStrike">
              <a:solidFill>
                <a:srgbClr val="000000"/>
              </a:solidFill>
              <a:latin typeface="Arial"/>
            </a:endParaRPr>
          </a:p>
          <a:p>
            <a:pPr marL="533520" indent="-53352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enteral  product   for   intracorneal,  intravitreous  or retrobulbar injection.</a:t>
            </a:r>
            <a:endParaRPr b="0" lang="en-US" sz="2400" spc="-1" strike="noStrike">
              <a:solidFill>
                <a:srgbClr val="000000"/>
              </a:solidFill>
              <a:latin typeface="Arial"/>
            </a:endParaRPr>
          </a:p>
          <a:p>
            <a:pPr marL="533520" indent="-53352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id dosage forms placed in the conjunctival  sac  and designed to release  active  ingredient  over  a  prolong perio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Medicaments contained in ophthalmic products including</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03" name="PlaceHolder 2"/>
          <p:cNvSpPr>
            <a:spLocks noGrp="1"/>
          </p:cNvSpPr>
          <p:nvPr>
            <p:ph/>
          </p:nvPr>
        </p:nvSpPr>
        <p:spPr>
          <a:xfrm>
            <a:off x="611280" y="1599840"/>
            <a:ext cx="853272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esthetics used  topically  in  surgical  procedur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i-infective such as antibacterial, antifungal, and antiviral.</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i-inflammatory   such   as   corticosteroid    and antihistamin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iglucoma agent to reduce intraocular pressure, such as beta-blocker.</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tringents      such         as        zinc      sulpha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Medicaments contained in ophthalmic products including :              ( Cont</a:t>
            </a:r>
            <a:r>
              <a:rPr b="0" lang="en-US" sz="3800" spc="-1" strike="noStrike">
                <a:solidFill>
                  <a:srgbClr val="330033"/>
                </a:solidFill>
                <a:latin typeface="Arial"/>
              </a:rPr>
              <a:t>…</a:t>
            </a:r>
            <a:r>
              <a:rPr b="0" lang="en-US" sz="3800" spc="-1" strike="noStrike">
                <a:solidFill>
                  <a:srgbClr val="330033"/>
                </a:solidFill>
                <a:latin typeface="Times New Roman"/>
              </a:rPr>
              <a:t>)</a:t>
            </a:r>
            <a:endParaRPr b="0" lang="en-US" sz="3800" spc="-1" strike="noStrike">
              <a:solidFill>
                <a:srgbClr val="330033"/>
              </a:solidFill>
              <a:latin typeface="Times New Roman"/>
            </a:endParaRPr>
          </a:p>
        </p:txBody>
      </p:sp>
      <p:sp>
        <p:nvSpPr>
          <p:cNvPr id="105" name="PlaceHolder 2"/>
          <p:cNvSpPr>
            <a:spLocks noGrp="1"/>
          </p:cNvSpPr>
          <p:nvPr>
            <p:ph/>
          </p:nvPr>
        </p:nvSpPr>
        <p:spPr>
          <a:xfrm>
            <a:off x="611280" y="1599840"/>
            <a:ext cx="853272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agnostic   agents  such  as   fluorescein    which highlight    damage    to     the     epithelial   tissu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otics such as pilocarpine  which    constrict   the pupil   and   contract   ciliary    muscle   increasing drainage from the anterior chamber.</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ydriatics  and  cycloplegics   such   as   atropine which   dilate  the  pupil  and  paralysis  the  ciliary muscle and thus facilitate the  examination  of  the interior of the ey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ubTitle"/>
          </p:nvPr>
        </p:nvSpPr>
        <p:spPr>
          <a:xfrm>
            <a:off x="1371600" y="3962160"/>
            <a:ext cx="6858000" cy="1600200"/>
          </a:xfrm>
          <a:prstGeom prst="rect">
            <a:avLst/>
          </a:prstGeom>
          <a:noFill/>
          <a:ln w="0">
            <a:noFill/>
          </a:ln>
        </p:spPr>
        <p:txBody>
          <a:bodyPr anchor="ctr">
            <a:no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Eye Drop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Formulation of The Eye Drops</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08" name="PlaceHolder 2"/>
          <p:cNvSpPr>
            <a:spLocks noGrp="1"/>
          </p:cNvSpPr>
          <p:nvPr>
            <p:ph/>
          </p:nvPr>
        </p:nvSpPr>
        <p:spPr>
          <a:xfrm>
            <a:off x="611280" y="1599840"/>
            <a:ext cx="8532720" cy="5257800"/>
          </a:xfrm>
          <a:prstGeom prst="rect">
            <a:avLst/>
          </a:prstGeom>
          <a:noFill/>
          <a:ln w="0">
            <a:noFill/>
          </a:ln>
        </p:spPr>
        <p:txBody>
          <a:bodyPr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 ingredient(s) to produce desired  therapeutics effect.</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hicle,  usually aqueous but occasionally may  be oil  e.g. tetracycline hydrochloride.</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microbial   preservative.</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juvant  to  adjust  tonicity,  viscosity  or   pH  in  order  to increase the comfort  in use and to increase the stability of the active ingredient(s).</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itable container for administration  of  eye  drops  which maintains the preparation  in  a  stable  form  and  protects from contamination during  preparation,  storage  and  us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ntimicrobial   Preservatives</a:t>
            </a:r>
            <a:endParaRPr b="0" lang="en-US" sz="4200" spc="-1" strike="noStrike">
              <a:solidFill>
                <a:srgbClr val="330033"/>
              </a:solidFill>
              <a:latin typeface="Times New Roman"/>
            </a:endParaRPr>
          </a:p>
        </p:txBody>
      </p:sp>
      <p:sp>
        <p:nvSpPr>
          <p:cNvPr id="110" name="PlaceHolder 2"/>
          <p:cNvSpPr>
            <a:spLocks noGrp="1"/>
          </p:cNvSpPr>
          <p:nvPr>
            <p:ph/>
          </p:nvPr>
        </p:nvSpPr>
        <p:spPr>
          <a:xfrm>
            <a:off x="611280" y="1599840"/>
            <a:ext cx="8532720" cy="45306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microbial   preservative    to   eliminate   any   microbial contamination   during   use  and   thus   maintain   sterility.</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essential for multiple dose of eye drop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al   healthy   eyes  are   quite  efficient  at  preventing penetration by microorganisms. Eye  that  have  damaged epithelia have their defenses  compromised  and  may  be colonized by microorganism. </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ck  of  vascularity  of  cornea  and  certain  internal structures of the eye make it very susceptible and  difficult to treat once infection has been establis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0033"/>
                </a:solidFill>
                <a:latin typeface="Times New Roman"/>
              </a:rPr>
              <a:t>Antimicrobial   Preservatives ( Cont </a:t>
            </a:r>
            <a:r>
              <a:rPr b="0" lang="en-US" sz="3600" spc="-1" strike="noStrike">
                <a:solidFill>
                  <a:srgbClr val="330033"/>
                </a:solidFill>
                <a:latin typeface="Arial"/>
              </a:rPr>
              <a:t>…</a:t>
            </a:r>
            <a:r>
              <a:rPr b="0" lang="en-US" sz="3600" spc="-1" strike="noStrike">
                <a:solidFill>
                  <a:srgbClr val="330033"/>
                </a:solidFill>
                <a:latin typeface="Times New Roman"/>
              </a:rPr>
              <a:t>)</a:t>
            </a:r>
            <a:endParaRPr b="0" lang="en-US" sz="3600" spc="-1" strike="noStrike">
              <a:solidFill>
                <a:srgbClr val="330033"/>
              </a:solidFill>
              <a:latin typeface="Times New Roman"/>
            </a:endParaRPr>
          </a:p>
        </p:txBody>
      </p:sp>
      <p:sp>
        <p:nvSpPr>
          <p:cNvPr id="112" name="PlaceHolder 2"/>
          <p:cNvSpPr>
            <a:spLocks noGrp="1"/>
          </p:cNvSpPr>
          <p:nvPr>
            <p:ph/>
          </p:nvPr>
        </p:nvSpPr>
        <p:spPr>
          <a:xfrm>
            <a:off x="611280" y="1599840"/>
            <a:ext cx="8532720" cy="5257800"/>
          </a:xfrm>
          <a:prstGeom prst="rect">
            <a:avLst/>
          </a:prstGeom>
          <a:noFill/>
          <a:ln w="0">
            <a:noFill/>
          </a:ln>
        </p:spPr>
        <p:txBody>
          <a:bodyPr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single substance is entirely satisfactory for use as   a  preservative   for  ophthalmic  solution. The system that have been used.</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ye drops supplied for use  during  intraocular surgery should not contain a preservative because of the risk of damage to the internal surface of  the eye.</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rvative    suitable    eye    drops    such      as  Benzalkonium chloride  0.1%   w/v,   chlorhexidine acetate    0.01    %    w/v,  chlorbutol   0.5  %   w/v, phenylmercuric salts 0.001-0.04 % w/v, thiomersal 0.005-0.01 % w/v.</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4T16:27:03Z</dcterms:created>
  <dc:creator>Ãبو روازن</dc:creator>
  <dc:description/>
  <dc:language>en-US</dc:language>
  <cp:lastModifiedBy>Windows User</cp:lastModifiedBy>
  <dcterms:modified xsi:type="dcterms:W3CDTF">2012-10-13T16:59:30Z</dcterms:modified>
  <cp:revision>7</cp:revision>
  <dc:subject/>
  <dc:title>الشريحة 1</dc:title>
</cp:coreProperties>
</file>