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83511-207A-4A51-A9AD-364A2C447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B3208-E0AC-4A3F-A394-17F8836FC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BB1FF-E594-4464-AB7C-6C0DDB881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84817-E9A1-485C-97DE-7386D9938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802CC-461C-49C5-A3C9-B990567EE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954C2-C715-4F69-81EB-F688E80DF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98B4B-9F0D-4509-95DE-DE9C100D1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498A-5413-461F-85D6-3FD90CC1A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4E64C-9B1E-4DCB-82F9-FB3179DA1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B0AFA-E3A8-4B2B-BE9B-E76899A6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49829-B1C2-47ED-B728-74E1FE34A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0154-D526-44A7-9247-412F1EE76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887E7-6705-40CA-9432-D836F4EF4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8DBB5-6569-4F8D-817A-AFB42DB48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988C3-818B-4AE8-A4A2-F5E37C7A8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28CE2-3BAB-4D37-96F2-DC1635508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77963-A3D3-40F0-823F-9B9FBC4C0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F9C5D-D90E-4A21-887F-C9A6AEFE1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AB3AB-063C-4CDD-9387-8C72B48AB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100AE-D9F3-43F0-A808-8F9F8958B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3EEA-8FC4-4DEB-B324-B5EC000C3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816C-F57D-43A2-8D41-4CDFCFFB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CFD09-389D-4C5F-8283-D025DF4A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95009-D62D-4688-B420-A2D531677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CDA7-8656-481E-A349-31FAEAE3302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DC88-90AE-4649-BF40-85FE563B6F8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r>
              <a:rPr b="0" lang="en-US" sz="4200" spc="-1" strike="noStrike">
                <a:solidFill>
                  <a:srgbClr val="330033"/>
                </a:solidFill>
                <a:latin typeface="Arial"/>
              </a:rPr>
              <a:t>…</a:t>
            </a:r>
            <a:r>
              <a:rPr b="0" lang="en-US" sz="4200" spc="-1" strike="noStrike">
                <a:solidFill>
                  <a:srgbClr val="330033"/>
                </a:solidFill>
                <a:latin typeface="Times New Roman"/>
              </a:rPr>
              <a:t>)</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r>
              <a:rPr b="0" lang="en-US" sz="3800" spc="-1" strike="noStrike">
                <a:solidFill>
                  <a:srgbClr val="330033"/>
                </a:solidFill>
                <a:latin typeface="Arial"/>
              </a:rPr>
              <a:t>…</a:t>
            </a:r>
            <a:r>
              <a:rPr b="0" lang="en-US" sz="3800" spc="-1" strike="noStrike">
                <a:solidFill>
                  <a:srgbClr val="330033"/>
                </a:solidFill>
                <a:latin typeface="Times New Roman"/>
              </a:rPr>
              <a: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r>
              <a:rPr b="0" lang="en-US" sz="3600" spc="-1" strike="noStrike">
                <a:solidFill>
                  <a:srgbClr val="330033"/>
                </a:solidFill>
                <a:latin typeface="Arial"/>
              </a:rPr>
              <a:t>…</a:t>
            </a:r>
            <a:r>
              <a:rPr b="0" lang="en-US" sz="3600" spc="-1" strike="noStrike">
                <a:solidFill>
                  <a:srgbClr val="330033"/>
                </a:solidFill>
                <a:latin typeface="Times New Roman"/>
              </a:rPr>
              <a:t>)</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Windows User</cp:lastModifiedBy>
  <dcterms:modified xsi:type="dcterms:W3CDTF">2012-10-13T16:59:30Z</dcterms:modified>
  <cp:revision>7</cp:revision>
  <dc:subject/>
  <dc:title>الشريحة 1</dc:title>
</cp:coreProperties>
</file>