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2E9-E9C7-4073-986B-834E07A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E37-73D8-4E4C-B49F-4F2B4DE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D6A-3DF4-4E07-A769-7B45EE59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F5F-C77A-46C0-AC43-A23FBEE3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C43-9A74-4508-BEF1-B882AA5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7F5-9B53-4CE8-AD18-FA046205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0B4-601C-4B94-9711-05C1389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1AC-BB1A-41EA-ABA7-0A6E9B2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E88-4367-47F1-A54C-8AAD826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D73-FE42-4D36-84AF-534FE5F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761-F87F-419B-8DF8-5045B1A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528-66D7-4307-9148-6DF0D3FF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74C-F229-4EA0-A129-205FA80BA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صور الاستشعار عن بع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76320" y="1806480"/>
            <a:ext cx="89503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33520" y="274680"/>
            <a:ext cx="816264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المقيا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170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1280" y="1042920"/>
            <a:ext cx="9072720" cy="581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الجة صور الاستشعار عن بعد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31760" y="865080"/>
            <a:ext cx="8555040" cy="5992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الجة صور الاستشعار عن بعد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85680" y="100080"/>
            <a:ext cx="93153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4200480" cy="548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042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192240" y="609480"/>
            <a:ext cx="87231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وسيلة الحم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6122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طريقة تسجيل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678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نواع الصور حسب الأشعة المستخدمة في التصو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88344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85920" y="-15840"/>
            <a:ext cx="83721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نواع الصور حسب ألوان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28600" y="1330200"/>
            <a:ext cx="885024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7:11:12Z</dcterms:created>
  <dc:creator>may</dc:creator>
  <dc:description/>
  <dc:language>en-US</dc:language>
  <cp:lastModifiedBy>Asus</cp:lastModifiedBy>
  <dcterms:modified xsi:type="dcterms:W3CDTF">2013-04-08T02:26:57Z</dcterms:modified>
  <cp:revision>56</cp:revision>
  <dc:subject/>
  <dc:title>أنواع صور الاستشعار عن بعد</dc:title>
</cp:coreProperties>
</file>