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D6C2-B14F-47DC-8858-18E50D61E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6701-F8D1-40CE-973B-423E912C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0B95-74C7-4050-8F7E-F5580EF3E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BD55-CD6D-4DBE-B518-BA730EAF3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7E72-7ED2-4926-B8D7-91596D46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50F1-E576-4F72-87D9-71D05F71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CE7A-2A55-43F4-942B-78CF247B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3428-ED48-485D-8672-2E8FD3D3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15D7-C0C6-4753-B75B-20977FF5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393A-818C-45BF-BCDF-0C971A43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9417-F210-43BA-8FA4-D5E69998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5AEF-7194-44E8-8C6D-9468DD53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2474-7ED8-46D4-9BF1-353088F75AB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faculty.ksu.edu.sa/geography-alsaleh/default.aspx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أنواع صور الاستشعار عن بع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1"/>
          <a:stretch/>
        </p:blipFill>
        <p:spPr>
          <a:xfrm>
            <a:off x="76320" y="1806480"/>
            <a:ext cx="895032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533520" y="274680"/>
            <a:ext cx="8162640" cy="638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أنواع الصور حسب المقيا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71704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71280" y="1042920"/>
            <a:ext cx="9072720" cy="5815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عالجة صور الاستشعار عن بعد الرقم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31760" y="865080"/>
            <a:ext cx="8555040" cy="5992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533520" y="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عالجة صور الاستشعار عن بعد الرقم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-85680" y="100080"/>
            <a:ext cx="931536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مرج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http://faculty.ksu.edu.sa/geography-alsaleh/default.asp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4876920" y="914400"/>
            <a:ext cx="4200480" cy="5487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"/>
          <p:cNvPicPr/>
          <p:nvPr/>
        </p:nvPicPr>
        <p:blipFill>
          <a:blip r:embed="rId2"/>
          <a:stretch/>
        </p:blipFill>
        <p:spPr>
          <a:xfrm>
            <a:off x="76320" y="990720"/>
            <a:ext cx="4714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904240" cy="62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192240" y="609480"/>
            <a:ext cx="872316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أنواع الصور حسب وسيلة الحم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61228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أنواع الصور حسب طريقة تسجيله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86788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أنواع الصور حسب الأشعة المستخدمة في التصوي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76320" y="1219320"/>
            <a:ext cx="883440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385920" y="-15840"/>
            <a:ext cx="837216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نواع الصور حسب ألوانه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228600" y="1330200"/>
            <a:ext cx="8850240" cy="53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7T17:11:12Z</dcterms:created>
  <dc:creator>may</dc:creator>
  <dc:description/>
  <dc:language>en-US</dc:language>
  <cp:lastModifiedBy>Asus</cp:lastModifiedBy>
  <dcterms:modified xsi:type="dcterms:W3CDTF">2013-04-08T02:26:57Z</dcterms:modified>
  <cp:revision>56</cp:revision>
  <dc:subject/>
  <dc:title>أنواع صور الاستشعار عن بعد</dc:title>
</cp:coreProperties>
</file>