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FB0-169C-47D6-91C0-FA3149AB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473-9F57-4344-947E-F8687BA1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958-6955-47A6-9AE1-7DD35994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9F7E-60C0-4BEA-A422-38CF6F76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A076-02BC-4B9D-B8CF-36B0A0C2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3B82-046B-405A-9A2F-3C199A79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8602-7E85-4F35-8782-C1200A34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25EA-FA41-4D15-A3DA-7F2C6E07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4F3E-6A3C-4B28-8A5F-BCEB5D7B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6586-7C23-449D-B6F0-7848319A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5DFB-82B2-4027-AF96-7B60AE24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0FC-8F8F-47C6-A78B-32AD974B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9C8F-F1D9-487F-A0B3-65E1749B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2632-F3E0-4A46-BAD3-E4A0613B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F716-A18C-4B16-B90D-91905244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ACCF-B191-4AE0-89F1-8AE117A1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375A-45EF-4EB8-AC96-A2752B83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CF5-401A-4FE2-9810-656F636D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4E24-789E-4C94-94A2-2859F903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D17-7D65-4EEE-8C27-4D083CDC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7B4-0A60-417F-A33B-947FB97A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100-9E3F-4A61-B808-A2026E60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B5A-EC85-4E22-A5CA-54EA4B0B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1FA-D9D3-4A91-ACBE-9A35D6E5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2F01-D63A-4FDE-8321-871E2DA8907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20E5-3B7B-416B-9178-C862E12E789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11480"/>
            <a:ext cx="7772400" cy="121752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700" spc="-1" strike="noStrike">
                <a:solidFill>
                  <a:srgbClr val="ffffcc"/>
                </a:solidFill>
                <a:latin typeface="Arial"/>
              </a:rPr>
              <a:t>المحاضرة الثالثة عشرة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</a:rPr>
              <a:t>اختبار الاشكال ( الطرز) المظهرية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رمادي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×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أبنوسي      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أ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رمادي    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رمادي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×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  رمادي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: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:1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رمادي       ابنوسي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4859280" y="2205000"/>
            <a:ext cx="0" cy="576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3860640"/>
            <a:ext cx="0" cy="576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ذن كيف نفرق بين الرمادي الاصيل (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) والرمادي الخليط (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هم اختبار يستخدم لهذا الغرض هو التلقيح الاختباري (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stcross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التلقيح الاختباري :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هو تلقيح الفرد المراد معرفة تركيبه الوراثي (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) بفرد متنحي (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) 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اهمية التلقيح الاختباري :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معرفة عدد انواع الامشاج التي يمكن للفرد المراد معرفة تركيبه الوراثي انتاجها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ذا كان اصيلا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   نوع واحد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ذا كان خليط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     نوعان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و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ec85e"/>
                </a:solidFill>
                <a:latin typeface="Verdana"/>
              </a:rPr>
              <a:t>ومثال ذلك 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aeaea"/>
                </a:solidFill>
                <a:latin typeface="Verdana"/>
              </a:rPr>
              <a:t>              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ar-SA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aa8456"/>
                </a:solidFill>
                <a:latin typeface="Verdana"/>
              </a:rPr>
              <a:t>b</a:t>
            </a:r>
            <a:r>
              <a:rPr b="1" lang="ar-SA" sz="2800" spc="-1" strike="noStrike">
                <a:solidFill>
                  <a:srgbClr val="aa8456"/>
                </a:solidFill>
                <a:latin typeface="Verdana"/>
              </a:rPr>
              <a:t>× </a:t>
            </a:r>
            <a:r>
              <a:rPr b="1" lang="en-US" sz="2800" spc="-1" strike="noStrike">
                <a:solidFill>
                  <a:srgbClr val="aa8456"/>
                </a:solidFill>
                <a:latin typeface="Verdana"/>
              </a:rPr>
              <a:t>B</a:t>
            </a:r>
            <a:r>
              <a:rPr b="1" lang="en-US" sz="2800" spc="-1" strike="noStrike">
                <a:solidFill>
                  <a:srgbClr val="aa8456"/>
                </a:solidFill>
                <a:latin typeface="Verdana"/>
              </a:rPr>
              <a:t>-</a:t>
            </a:r>
            <a:r>
              <a:rPr b="1" lang="ar-SA" sz="2800" spc="-1" strike="noStrike">
                <a:solidFill>
                  <a:srgbClr val="aa8456"/>
                </a:solidFill>
                <a:latin typeface="Verdana"/>
              </a:rPr>
              <a:t>     تلقيح اختباري (لماذا؟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eec85e"/>
                </a:solidFill>
                <a:latin typeface="Verdana"/>
              </a:rPr>
              <a:t>      </a:t>
            </a:r>
            <a:r>
              <a:rPr b="1" lang="ar-SA" sz="2400" spc="-1" strike="noStrike">
                <a:solidFill>
                  <a:srgbClr val="eec85e"/>
                </a:solidFill>
                <a:latin typeface="Verdana"/>
              </a:rPr>
              <a:t>اذا كان اصيلا (</a:t>
            </a: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Bb</a:t>
            </a:r>
            <a:r>
              <a:rPr b="1" lang="ar-SA" sz="2400" spc="-1" strike="noStrike">
                <a:solidFill>
                  <a:srgbClr val="eec85e"/>
                </a:solidFill>
                <a:latin typeface="Verdana"/>
              </a:rPr>
              <a:t> )                                        اذا كان خليط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        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×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×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النسل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100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% سائد                                  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50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% سائد: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50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% متنحي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×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 b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: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1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سائد    متنحي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1268280"/>
            <a:ext cx="0" cy="362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1628640"/>
            <a:ext cx="51847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40720" y="1628640"/>
            <a:ext cx="0" cy="576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1628640"/>
            <a:ext cx="0" cy="576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4360" y="4221000"/>
            <a:ext cx="0" cy="576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التلقيح الرجعي: </a:t>
            </a:r>
            <a:r>
              <a:rPr b="1" lang="en-US" sz="3200" spc="-1" strike="noStrike">
                <a:solidFill>
                  <a:srgbClr val="eec85e"/>
                </a:solidFill>
                <a:latin typeface="Verdana"/>
              </a:rPr>
              <a:t>Backcros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تلقيح افراد الجيل الاول باحد الابوين او بافراد لها تراكيب وراثيه مطابقه للاباء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مثال :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: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                          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: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تلقيح رجعي ومتنحي                                                    تلقيح رجعي فقط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في نفس الوقت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أي ان :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×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×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1               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1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1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     تلقيح رجعي واختباري                          تلقيح رجعي فقط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1773360"/>
            <a:ext cx="2304720" cy="1295280"/>
          </a:xfrm>
          <a:prstGeom prst="ellipse">
            <a:avLst/>
          </a:prstGeom>
          <a:solidFill>
            <a:srgbClr val="3399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635280" y="2133720"/>
            <a:ext cx="17748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(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أ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)BB×bb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3213000"/>
            <a:ext cx="0" cy="6476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356000" y="4005360"/>
            <a:ext cx="50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637000"/>
            <a:ext cx="12258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5724000" y="2997000"/>
            <a:ext cx="792360" cy="502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0560" y="2565360"/>
            <a:ext cx="10810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556000" y="2997000"/>
            <a:ext cx="865080" cy="502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eec85e"/>
                </a:solidFill>
                <a:uFillTx/>
                <a:latin typeface="Verdana"/>
              </a:rPr>
              <a:t>قاعدة:</a:t>
            </a:r>
            <a:r>
              <a:rPr b="1" lang="ar-SA" sz="32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نسبة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1:3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ونسبة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1:1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تشير الى ان هناك زوجا واحدا من الاليلات هو المسؤول عن توارث الصفه موضع الدراسة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متى نحصل على النسبة </a:t>
            </a: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1:3</a:t>
            </a: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 ؟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تزواج ابوين خليطين في زوج واحد من الاليلات (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×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سيادة تامه لاحد الاللين على الاخر(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&lt;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خصاب عشوائي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. متى نحصل على النسبة </a:t>
            </a: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1:1</a:t>
            </a: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؟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تزاوج فردين احداهما خليط في زوج واحد من اليلات والاخر متنحي(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×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خصاب عشوائي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86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مثال(</a:t>
            </a: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1</a:t>
            </a: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):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حشرات رمادية الجسم اصيله × حشرات انبوسية الجسم اصيلة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أ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                حشرات رمادية الجسم    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حشرات رمادية الجسم     ×   حشرات رمادية الجسم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1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×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118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حشرات رمادية الجسم و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38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انبوسية الجسم     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السؤال: حلل التزاوجات السابقة تحليلا وراثيا مفصلا ؟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1413000"/>
            <a:ext cx="0" cy="5760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3640" y="3068640"/>
            <a:ext cx="0" cy="576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5694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ec85e"/>
                </a:solidFill>
                <a:latin typeface="Verdana"/>
              </a:rPr>
              <a:t>مثال </a:t>
            </a:r>
            <a:r>
              <a:rPr b="1" lang="ar-SA" sz="2800" spc="-1" strike="noStrike">
                <a:solidFill>
                  <a:srgbClr val="eec85e"/>
                </a:solidFill>
                <a:latin typeface="Verdana"/>
              </a:rPr>
              <a:t>2</a:t>
            </a:r>
            <a:r>
              <a:rPr b="1" lang="ar-SA" sz="2800" spc="-1" strike="noStrike">
                <a:solidFill>
                  <a:srgbClr val="eec85e"/>
                </a:solidFill>
                <a:latin typeface="Verdana"/>
              </a:rPr>
              <a:t>: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تركت مجموعة من حشرات الدروسفيلا طويلة الاجنحة خليطه التراكيب الوراثية لتلقيح بعضها البعض وحصل على النتائج التالية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727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        حشرات طويلة الاجنحة  × حشرات طويلة الاجنحة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727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727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النسل: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72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حشرة طويلة الاجنحة و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25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حشرة مختزلة الاجنحة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727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9966"/>
                </a:solidFill>
                <a:latin typeface="Verdana"/>
              </a:rPr>
              <a:t>فأوجد مايلي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72760" indent="-572760" algn="r" rtl="1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ec85e"/>
                </a:solidFill>
                <a:latin typeface="Verdana"/>
              </a:rPr>
              <a:t>ماهي التراكيب الوراثية للاباء والنسل الناتج من التزاوجات السابقة؟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72760" indent="-572760" algn="r" rtl="1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ec85e"/>
                </a:solidFill>
                <a:latin typeface="Verdana"/>
              </a:rPr>
              <a:t>كم عدد الحشرات طويلة الاجنحة الاصلية المتوقع الحصول عليها بين الحشرات طويلة الاجنحة في النسل الناتج عن التزاوجات السابقة؟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72760" indent="-572760" algn="r" rtl="1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ec85e"/>
                </a:solidFill>
                <a:latin typeface="Verdana"/>
              </a:rPr>
              <a:t>كم عدد الحشرات طويلة الاجنحة الخليطه المتوقع الحصول عليها بين افراد النسل الناتج عن التزاوجات السابقة؟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72760" indent="-572760" algn="r" rtl="1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ec85e"/>
                </a:solidFill>
                <a:latin typeface="Verdana"/>
              </a:rPr>
              <a:t>ملاحظة: لابد من التمرين على هذين المثالين .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076720" y="1916280"/>
            <a:ext cx="0" cy="502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13:47:38Z</dcterms:created>
  <dc:creator>هلا</dc:creator>
  <dc:description/>
  <dc:language>en-US</dc:language>
  <cp:lastModifiedBy>Guest</cp:lastModifiedBy>
  <dcterms:modified xsi:type="dcterms:W3CDTF">2007-12-16T01:58:10Z</dcterms:modified>
  <cp:revision>3</cp:revision>
  <dc:subject/>
  <dc:title>المحاضرة الثالثة عشرة </dc:title>
</cp:coreProperties>
</file>