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947-2EC1-4206-B22B-0D91CAA2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726-5B7C-45D6-ACBF-C8A190B6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3E2-FDE6-40F6-A815-70B75D40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88B-7E01-474E-8FF8-A0E5A0D3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95C3-7752-4C01-ABC9-6A75B9A5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6183-C2C7-49AA-9FA8-0467FC83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05FD-EB35-4F22-9CB5-96842D23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6424-9098-47C9-A2CE-CDE2A946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CFCF-E565-4431-AE6B-A14B3162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0292-99C6-428B-B0A5-F4CEC30F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7796-0258-4B42-B6BF-9E887611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CFE-EFB8-45DC-B7D7-9E79709B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9E2F-152F-4321-9085-AE574CE0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61A0-5E4C-4F04-B429-F7D1926E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5153-9FF7-4388-A843-76530DD9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0E8C-6F9A-4C3B-A1B8-7FA61435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485B-8002-469D-9C67-831E709D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03B-F43B-486A-AED6-B7BCDACA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7B5-8D10-43D5-84F0-91D77A93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AA2-8652-4D5B-9EC1-E95D07EB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31F-A6AA-4FE9-AF0E-63308D53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E66-4893-48FE-847E-3EF88805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C11-E540-4BE6-93CD-C9FF253F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13C-DC01-4A16-8198-3A71D82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D7CA-E428-4838-904A-F3B965C7A51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3ADB-BFDA-40ED-8200-0A50ADF2FAB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11480"/>
            <a:ext cx="7772400" cy="121752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700" spc="-1" strike="noStrike">
                <a:solidFill>
                  <a:srgbClr val="ffffcc"/>
                </a:solidFill>
                <a:latin typeface="Arial"/>
              </a:rPr>
              <a:t>المحاضرة الثالثة عشرة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</a:rPr>
              <a:t>اختبار الاشكال ( الطرز) المظهرية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رمادي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×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أبنوسي      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أ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رمادي  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رمادي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×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رمادي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: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:1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رمادي       ابنوسي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859280" y="2205000"/>
            <a:ext cx="0" cy="576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3860640"/>
            <a:ext cx="0" cy="576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ذن كيف نفرق بين الرمادي الاصيل 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) والرمادي الخليط 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هم اختبار يستخدم لهذا الغرض هو التلقيح الاختباري 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stcross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التلقيح الاختباري :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هو تلقيح الفرد المراد معرفة تركيبه الوراثي 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) بفرد متنحي (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) 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اهمية التلقيح الاختباري :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معرفة عدد انواع الامشاج التي يمكن للفرد المراد معرفة تركيبه الوراثي انتاجها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ذا كان اصيلا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 نوع واحد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ذا كان خليط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   نوعان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و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ec85e"/>
                </a:solidFill>
                <a:latin typeface="Verdana"/>
              </a:rPr>
              <a:t>ومثال ذلك 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        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aa8456"/>
                </a:solidFill>
                <a:latin typeface="Verdana"/>
              </a:rPr>
              <a:t>b</a:t>
            </a:r>
            <a:r>
              <a:rPr b="1" lang="ar-SA" sz="2800" spc="-1" strike="noStrike">
                <a:solidFill>
                  <a:srgbClr val="aa8456"/>
                </a:solidFill>
                <a:latin typeface="Verdana"/>
              </a:rPr>
              <a:t>× </a:t>
            </a:r>
            <a:r>
              <a:rPr b="1" lang="en-US" sz="2800" spc="-1" strike="noStrike">
                <a:solidFill>
                  <a:srgbClr val="aa8456"/>
                </a:solidFill>
                <a:latin typeface="Verdana"/>
              </a:rPr>
              <a:t>B</a:t>
            </a:r>
            <a:r>
              <a:rPr b="1" lang="en-US" sz="2800" spc="-1" strike="noStrike">
                <a:solidFill>
                  <a:srgbClr val="aa8456"/>
                </a:solidFill>
                <a:latin typeface="Verdana"/>
              </a:rPr>
              <a:t>-</a:t>
            </a:r>
            <a:r>
              <a:rPr b="1" lang="ar-SA" sz="2800" spc="-1" strike="noStrike">
                <a:solidFill>
                  <a:srgbClr val="aa8456"/>
                </a:solidFill>
                <a:latin typeface="Verdana"/>
              </a:rPr>
              <a:t>     تلقيح اختباري (لماذا؟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eec85e"/>
                </a:solidFill>
                <a:latin typeface="Verdana"/>
              </a:rPr>
              <a:t>      </a:t>
            </a:r>
            <a:r>
              <a:rPr b="1" lang="ar-SA" sz="2400" spc="-1" strike="noStrike">
                <a:solidFill>
                  <a:srgbClr val="eec85e"/>
                </a:solidFill>
                <a:latin typeface="Verdana"/>
              </a:rPr>
              <a:t>اذا كان اصيلا (</a:t>
            </a: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Bb</a:t>
            </a:r>
            <a:r>
              <a:rPr b="1" lang="ar-SA" sz="2400" spc="-1" strike="noStrike">
                <a:solidFill>
                  <a:srgbClr val="eec85e"/>
                </a:solidFill>
                <a:latin typeface="Verdana"/>
              </a:rPr>
              <a:t> )                                        اذا كان خليط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        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×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×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النسل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00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% سائد                                  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50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% سائد: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50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% متنحي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×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 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: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1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سائد    متنحي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1268280"/>
            <a:ext cx="0" cy="362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1628640"/>
            <a:ext cx="51847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40720" y="1628640"/>
            <a:ext cx="0" cy="576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1628640"/>
            <a:ext cx="0" cy="576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4221000"/>
            <a:ext cx="0" cy="576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التلقيح الرجعي: </a:t>
            </a:r>
            <a:r>
              <a:rPr b="1" lang="en-US" sz="3200" spc="-1" strike="noStrike">
                <a:solidFill>
                  <a:srgbClr val="eec85e"/>
                </a:solidFill>
                <a:latin typeface="Verdana"/>
              </a:rPr>
              <a:t>Backcros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تلقيح افراد الجيل الاول باحد الابوين او بافراد لها تراكيب وراثيه مطابقه للاباء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مثال :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                        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تلقيح رجعي ومتنحي                                                    تلقيح رجعي فقط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في نفس الوقت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أي ان :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×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×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1               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b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          تلقيح رجعي واختباري                          تلقيح رجعي فقط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1773360"/>
            <a:ext cx="2304720" cy="1295280"/>
          </a:xfrm>
          <a:prstGeom prst="ellipse">
            <a:avLst/>
          </a:prstGeom>
          <a:solidFill>
            <a:srgbClr val="3399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635280" y="2133720"/>
            <a:ext cx="17748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(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)BB×bb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3213000"/>
            <a:ext cx="0" cy="6476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356000" y="4005360"/>
            <a:ext cx="50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637000"/>
            <a:ext cx="1225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5724000" y="2997000"/>
            <a:ext cx="792360" cy="502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0560" y="2565360"/>
            <a:ext cx="10810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556000" y="2997000"/>
            <a:ext cx="865080" cy="502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eec85e"/>
                </a:solidFill>
                <a:uFillTx/>
                <a:latin typeface="Verdana"/>
              </a:rPr>
              <a:t>قاعدة:</a:t>
            </a:r>
            <a:r>
              <a:rPr b="1" lang="ar-SA" sz="32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نسبة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1:3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ونسبة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1:1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تشير الى ان هناك زوجا واحدا من الاليلات هو المسؤول عن توارث الصفه موضع الدراسة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متى نحصل على النسبة </a:t>
            </a: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1:3</a:t>
            </a: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 ؟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تزواج ابوين خليطين في زوج واحد من الاليلات 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×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سيادة تامه لاحد الاللين على الاخر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&lt;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خصاب عشوائي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. متى نحصل على النسبة </a:t>
            </a: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1:1</a:t>
            </a: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؟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تزاوج فردين احداهما خليط في زوج واحد من اليلات والاخر متنحي(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×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b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خصاب عشوائي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86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مثال(</a:t>
            </a: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1</a:t>
            </a: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):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حشرات رمادية الجسم اصيله × حشرات انبوسية الجسم اصيلة 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أ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                حشرات رمادية الجسم  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 حشرات رمادية الجسم     ×   حشرات رمادية الجسم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×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118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 حشرات رمادية الجسم و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38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انبوسية الجسم     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ec85e"/>
                </a:solidFill>
                <a:latin typeface="Verdana"/>
              </a:rPr>
              <a:t>السؤال: حلل التزاوجات السابقة تحليلا وراثيا مفصلا ؟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1413000"/>
            <a:ext cx="0" cy="5760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3640" y="3068640"/>
            <a:ext cx="0" cy="576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5694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ec85e"/>
                </a:solidFill>
                <a:latin typeface="Verdana"/>
              </a:rPr>
              <a:t>مثال </a:t>
            </a:r>
            <a:r>
              <a:rPr b="1" lang="ar-SA" sz="2800" spc="-1" strike="noStrike">
                <a:solidFill>
                  <a:srgbClr val="eec85e"/>
                </a:solidFill>
                <a:latin typeface="Verdana"/>
              </a:rPr>
              <a:t>2</a:t>
            </a:r>
            <a:r>
              <a:rPr b="1" lang="ar-SA" sz="2800" spc="-1" strike="noStrike">
                <a:solidFill>
                  <a:srgbClr val="eec85e"/>
                </a:solidFill>
                <a:latin typeface="Verdana"/>
              </a:rPr>
              <a:t>: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تركت مجموعة من حشرات الدروسفيلا طويلة الاجنحة خليطه التراكيب الوراثية لتلقيح بعضها البعض وحصل على النتائج التالية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        حشرات طويلة الاجنحة  × حشرات طويلة الاجنحة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النسل: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72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حشرة طويلة الاجنحة و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25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حشرة مختزلة الاجنحة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9966"/>
                </a:solidFill>
                <a:latin typeface="Verdana"/>
              </a:rPr>
              <a:t>فأوجد مايلي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-572760" algn="r" rtl="1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ec85e"/>
                </a:solidFill>
                <a:latin typeface="Verdana"/>
              </a:rPr>
              <a:t>ماهي التراكيب الوراثية للاباء والنسل الناتج من التزاوجات السابقة؟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-572760" algn="r" rtl="1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ec85e"/>
                </a:solidFill>
                <a:latin typeface="Verdana"/>
              </a:rPr>
              <a:t>كم عدد الحشرات طويلة الاجنحة الاصلية المتوقع الحصول عليها بين الحشرات طويلة الاجنحة في النسل الناتج عن التزاوجات السابقة؟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-572760" algn="r" rtl="1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ec85e"/>
                </a:solidFill>
                <a:latin typeface="Verdana"/>
              </a:rPr>
              <a:t>كم عدد الحشرات طويلة الاجنحة الخليطه المتوقع الحصول عليها بين افراد النسل الناتج عن التزاوجات السابقة؟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-572760" algn="r" rtl="1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ec85e"/>
                </a:solidFill>
                <a:latin typeface="Verdana"/>
              </a:rPr>
              <a:t>ملاحظة: لابد من التمرين على هذين المثالين .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1916280"/>
            <a:ext cx="0" cy="502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13:47:38Z</dcterms:created>
  <dc:creator>هلا</dc:creator>
  <dc:description/>
  <dc:language>en-US</dc:language>
  <cp:lastModifiedBy>Guest</cp:lastModifiedBy>
  <dcterms:modified xsi:type="dcterms:W3CDTF">2007-12-16T01:58:10Z</dcterms:modified>
  <cp:revision>3</cp:revision>
  <dc:subject/>
  <dc:title>المحاضرة الثالثة عشرة </dc:title>
</cp:coreProperties>
</file>