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FDBB-0D6A-4EC8-B382-14CBD70AB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2A38-40C9-4024-9D7B-96A375A27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553D-0072-4014-9FC7-D5BF684C6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AE98-1E23-43CC-A400-D3004BCA7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ACA9-A8B8-4ADF-B3B1-73351946B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9E4B-2395-4FB2-A9B1-BB0AAF9EF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578E-E2DB-4F9B-9D68-4EC6EB0EB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EEC1-2E44-41C2-8355-BA2E52FF1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39B2-182E-45A4-B464-169FF18FE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8086-AFE0-4715-B938-E4CD86565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D0A3CE80-7E83-420A-9CA1-DBF8B7FC18E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401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4AAC1240-0523-40B0-B16C-FC5F7BE770F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445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1231875E-BC98-4A3C-BB1A-8319FD07865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489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D58BCFCB-F4C6-4E7F-9A85-88E7FCDA4CC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53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01817696-2BC5-4DBB-B156-F32043B3418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577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5BDDE3AD-07AE-44CA-8B3D-CBA312AC18D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621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34AF5F38-AE2D-4578-BB37-1CB05764811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665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269941B5-E4E0-40F3-B2E0-808C8F4FAF0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Text Box 13"/>
          <p:cNvSpPr/>
          <p:nvPr/>
        </p:nvSpPr>
        <p:spPr>
          <a:xfrm>
            <a:off x="11160" y="6583320"/>
            <a:ext cx="16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524400" y="654516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9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4EE129B1-DD23-4B89-989A-84B0DB49EAE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137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A2617C46-4B02-4445-B43A-30F3FFFF222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181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DBEEF917-A19D-4118-899B-8D95BF92953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225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5D9482AE-94AA-481D-BC4B-E81C0530B35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269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4C9BC4F3-231F-4E0C-918B-449DAB1CCBC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1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59E50856-E4CF-4376-B0E3-16E315435E4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57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06BC6938-226B-4C78-A169-2970A3BAA32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875880" y="21204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9926"/>
                </a:solidFill>
                <a:latin typeface="Arial"/>
              </a:rPr>
              <a:t>Linear Regression and Correla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578880" y="248400"/>
            <a:ext cx="7833240" cy="63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Regression Equation - Examp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317520" y="1269720"/>
            <a:ext cx="410688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example involving Copier Sales of America. The sales manager gathered information on the number of sales calls made and the number of copiers sold for a random sample of 10 sales representatives. Use the least squares method to determine a linear equation to express the relationship between the two varia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xpected number of copiers sold by a representative who </a:t>
            </a: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made 20 ca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tretch/>
        </p:blipFill>
        <p:spPr>
          <a:xfrm>
            <a:off x="439560" y="3246480"/>
            <a:ext cx="3895920" cy="3249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0" name="Object 1"/>
              <p:cNvSpPr txBox="1"/>
              <p:nvPr/>
            </p:nvSpPr>
            <p:spPr>
              <a:xfrm>
                <a:off x="4897440" y="4289400"/>
                <a:ext cx="2693880" cy="21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regression equation is:</m:t>
                        </m:r>
                      </m:e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lim>
                        </m:limUpp>
                        <m:limUpp>
                          <m:e>
                            <m:r>
                              <m:t xml:space="preserve">Y</m:t>
                            </m:r>
                          </m:e>
                          <m:lim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76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42</m:t>
                            </m:r>
                            <m:r>
                              <m:t xml:space="preserve">X</m:t>
                            </m:r>
                          </m:lim>
                        </m:limUpp>
                        <m:limUpp>
                          <m:e>
                            <m:r>
                              <m:t xml:space="preserve">Y</m:t>
                            </m:r>
                          </m:e>
                          <m:lim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76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42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)</m:t>
                            </m:r>
                          </m:lim>
                        </m:limUpp>
                        <m:limUpp>
                          <m:e>
                            <m:r>
                              <m:t xml:space="preserve">Y</m:t>
                            </m:r>
                          </m:e>
                          <m:lim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16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1" name="Text Box 8"/>
          <p:cNvSpPr/>
          <p:nvPr/>
        </p:nvSpPr>
        <p:spPr>
          <a:xfrm>
            <a:off x="4300560" y="327672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10" descr=""/>
          <p:cNvPicPr/>
          <p:nvPr/>
        </p:nvPicPr>
        <p:blipFill>
          <a:blip r:embed="rId2"/>
          <a:stretch/>
        </p:blipFill>
        <p:spPr>
          <a:xfrm>
            <a:off x="4962600" y="3378240"/>
            <a:ext cx="3487680" cy="75564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7"/>
          <p:cNvGrpSpPr/>
          <p:nvPr/>
        </p:nvGrpSpPr>
        <p:grpSpPr>
          <a:xfrm>
            <a:off x="4959360" y="1209600"/>
            <a:ext cx="3297240" cy="1184400"/>
            <a:chOff x="4959360" y="1209600"/>
            <a:chExt cx="3297240" cy="1184400"/>
          </a:xfrm>
        </p:grpSpPr>
        <p:sp>
          <p:nvSpPr>
            <p:cNvPr id="764" name="Rounded Rectangle 9"/>
            <p:cNvSpPr/>
            <p:nvPr/>
          </p:nvSpPr>
          <p:spPr>
            <a:xfrm>
              <a:off x="4959360" y="1209600"/>
              <a:ext cx="3297240" cy="118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795"/>
                </a:gs>
                <a:gs pos="100000">
                  <a:srgbClr val="fff8e0"/>
                </a:gs>
              </a:gsLst>
              <a:lin ang="16200000"/>
            </a:gradFill>
            <a:ln w="9360">
              <a:solidFill>
                <a:srgbClr val="e5b65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5" name="Object 15" descr=""/>
            <p:cNvPicPr/>
            <p:nvPr/>
          </p:nvPicPr>
          <p:blipFill>
            <a:blip r:embed="rId3"/>
            <a:stretch/>
          </p:blipFill>
          <p:spPr>
            <a:xfrm>
              <a:off x="5090040" y="1332360"/>
              <a:ext cx="3117600" cy="105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6" name="TextBox 13"/>
          <p:cNvSpPr/>
          <p:nvPr/>
        </p:nvSpPr>
        <p:spPr>
          <a:xfrm>
            <a:off x="5270400" y="264168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 = 1.18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2"/>
          <p:cNvSpPr/>
          <p:nvPr/>
        </p:nvSpPr>
        <p:spPr>
          <a:xfrm>
            <a:off x="919440" y="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762120" y="304920"/>
            <a:ext cx="73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IMPLE REGRESSION – ANOTHE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736560" y="914400"/>
            <a:ext cx="733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store conducts an analysis of five-month data to determine the effect of advertising on sales revenue. The data are shown below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least squares method to determine a linear equation to express the relationship between the two variabl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507960" y="2933640"/>
            <a:ext cx="819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dvertising Exp.($100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ales Rev.($1000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X)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2"/>
          <p:cNvSpPr/>
          <p:nvPr/>
        </p:nvSpPr>
        <p:spPr>
          <a:xfrm>
            <a:off x="919440" y="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3"/>
          <p:cNvSpPr/>
          <p:nvPr/>
        </p:nvSpPr>
        <p:spPr>
          <a:xfrm>
            <a:off x="1338840" y="355680"/>
            <a:ext cx="577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SIMPLE REGRESSION – ANOTHER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2297160" y="1189080"/>
            <a:ext cx="391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ct 5"/>
              <p:cNvSpPr txBox="1"/>
              <p:nvPr/>
            </p:nvSpPr>
            <p:spPr>
              <a:xfrm>
                <a:off x="1447920" y="3505320"/>
                <a:ext cx="12952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Object 6"/>
              <p:cNvSpPr txBox="1"/>
              <p:nvPr/>
            </p:nvSpPr>
            <p:spPr>
              <a:xfrm>
                <a:off x="3200400" y="350532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7"/>
              <p:cNvSpPr txBox="1"/>
              <p:nvPr/>
            </p:nvSpPr>
            <p:spPr>
              <a:xfrm>
                <a:off x="4876920" y="3505320"/>
                <a:ext cx="1600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Object 8"/>
              <p:cNvSpPr txBox="1"/>
              <p:nvPr/>
            </p:nvSpPr>
            <p:spPr>
              <a:xfrm>
                <a:off x="6705720" y="3505320"/>
                <a:ext cx="1676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Object 9"/>
              <p:cNvSpPr txBox="1"/>
              <p:nvPr/>
            </p:nvSpPr>
            <p:spPr>
              <a:xfrm>
                <a:off x="1523880" y="4724280"/>
                <a:ext cx="17146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10"/>
              <p:cNvSpPr txBox="1"/>
              <p:nvPr/>
            </p:nvSpPr>
            <p:spPr>
              <a:xfrm>
                <a:off x="3962520" y="4724280"/>
                <a:ext cx="16635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919440" y="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3"/>
          <p:cNvSpPr/>
          <p:nvPr/>
        </p:nvSpPr>
        <p:spPr>
          <a:xfrm>
            <a:off x="1668960" y="343080"/>
            <a:ext cx="577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SIMPLE REGRESSION – ANOTHER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Object 6"/>
              <p:cNvSpPr txBox="1"/>
              <p:nvPr/>
            </p:nvSpPr>
            <p:spPr>
              <a:xfrm>
                <a:off x="1447920" y="3741840"/>
                <a:ext cx="40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Object 7"/>
              <p:cNvSpPr txBox="1"/>
              <p:nvPr/>
            </p:nvSpPr>
            <p:spPr>
              <a:xfrm>
                <a:off x="1447920" y="2895480"/>
                <a:ext cx="2286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Object 8"/>
              <p:cNvSpPr txBox="1"/>
              <p:nvPr/>
            </p:nvSpPr>
            <p:spPr>
              <a:xfrm>
                <a:off x="2133720" y="5105520"/>
                <a:ext cx="3657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5" name="Line 9"/>
          <p:cNvSpPr/>
          <p:nvPr/>
        </p:nvSpPr>
        <p:spPr>
          <a:xfrm>
            <a:off x="2133720" y="57913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10"/>
          <p:cNvSpPr/>
          <p:nvPr/>
        </p:nvSpPr>
        <p:spPr>
          <a:xfrm>
            <a:off x="2133720" y="586728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5"/>
          <p:cNvSpPr/>
          <p:nvPr/>
        </p:nvSpPr>
        <p:spPr>
          <a:xfrm>
            <a:off x="1523880" y="129528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16"/>
          <p:cNvSpPr/>
          <p:nvPr/>
        </p:nvSpPr>
        <p:spPr>
          <a:xfrm>
            <a:off x="1600200" y="9144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ct 17"/>
              <p:cNvSpPr txBox="1"/>
              <p:nvPr/>
            </p:nvSpPr>
            <p:spPr>
              <a:xfrm>
                <a:off x="1676520" y="914400"/>
                <a:ext cx="32684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Object 18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91" name="Text Box 19"/>
          <p:cNvSpPr/>
          <p:nvPr/>
        </p:nvSpPr>
        <p:spPr>
          <a:xfrm>
            <a:off x="5486400" y="12952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 = 0.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565560" y="6674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escribing Relationship between Two Variabl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6" name="AutoShape 4"/>
          <p:cNvSpPr/>
          <p:nvPr/>
        </p:nvSpPr>
        <p:spPr>
          <a:xfrm>
            <a:off x="685800" y="60948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659880" y="1942920"/>
            <a:ext cx="81788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study the relationship between two variables we refer to the data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va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graphical technique we use to show the relationship between variables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tter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raw a scatter diagram we need two variables. We scale one variable along the horizontal axi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xis) of a graph and the other variable along the vertical axi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x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565560" y="6422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escribing Relationship between Two Variables – Scatter Diagram Exampl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9" name="AutoShape 3"/>
          <p:cNvSpPr/>
          <p:nvPr/>
        </p:nvSpPr>
        <p:spPr>
          <a:xfrm>
            <a:off x="685800" y="60948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10" descr="0428"/>
          <p:cNvPicPr/>
          <p:nvPr/>
        </p:nvPicPr>
        <p:blipFill>
          <a:blip r:embed="rId1"/>
          <a:stretch/>
        </p:blipFill>
        <p:spPr>
          <a:xfrm>
            <a:off x="812880" y="1739880"/>
            <a:ext cx="806760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576360" y="29700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Regression Analysis -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66720" y="1002960"/>
            <a:ext cx="825192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96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Correlation Ana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tudy of the relationship between variables. It is also defined as group of techniques to measure the association between two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96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Scatter Diagram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chart that portrays the relationship between the two variables. It is the usual first step in correlations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96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Dependent Varia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variable being predicted or estim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96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In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basis for estimation.  It is the predictor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571680" y="330480"/>
            <a:ext cx="7847640" cy="53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catter Diagram Examp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612360" y="1044360"/>
            <a:ext cx="820908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ales manager of Copier Sales of America, which has a large sales force throughout the United States and Canada, wants to determine whether there is a 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relationship betwe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number of sales calls ma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a month and the 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number of copiers sold that mon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The manager selects a random sample of 10 representatives and determines the number of sales calls each representative made last month and the number of copiers s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4" descr=""/>
          <p:cNvPicPr/>
          <p:nvPr/>
        </p:nvPicPr>
        <p:blipFill>
          <a:blip r:embed="rId1"/>
          <a:stretch/>
        </p:blipFill>
        <p:spPr>
          <a:xfrm>
            <a:off x="557280" y="3006720"/>
            <a:ext cx="3781440" cy="3137040"/>
          </a:xfrm>
          <a:prstGeom prst="rect">
            <a:avLst/>
          </a:prstGeom>
          <a:ln w="0">
            <a:noFill/>
          </a:ln>
        </p:spPr>
      </p:pic>
      <p:grpSp>
        <p:nvGrpSpPr>
          <p:cNvPr id="726" name="Group 7"/>
          <p:cNvGrpSpPr/>
          <p:nvPr/>
        </p:nvGrpSpPr>
        <p:grpSpPr>
          <a:xfrm>
            <a:off x="4660920" y="2976480"/>
            <a:ext cx="4113360" cy="3281400"/>
            <a:chOff x="4660920" y="2976480"/>
            <a:chExt cx="4113360" cy="3281400"/>
          </a:xfrm>
        </p:grpSpPr>
        <p:pic>
          <p:nvPicPr>
            <p:cNvPr id="727" name="Picture 4" descr=""/>
            <p:cNvPicPr/>
            <p:nvPr/>
          </p:nvPicPr>
          <p:blipFill>
            <a:blip r:embed="rId2"/>
            <a:stretch/>
          </p:blipFill>
          <p:spPr>
            <a:xfrm>
              <a:off x="4660920" y="2976480"/>
              <a:ext cx="4113360" cy="322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Oval 7"/>
            <p:cNvSpPr/>
            <p:nvPr/>
          </p:nvSpPr>
          <p:spPr>
            <a:xfrm>
              <a:off x="4842000" y="3683160"/>
              <a:ext cx="302040" cy="14814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8"/>
            <p:cNvSpPr/>
            <p:nvPr/>
          </p:nvSpPr>
          <p:spPr>
            <a:xfrm>
              <a:off x="8011440" y="5511960"/>
              <a:ext cx="647640" cy="745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578160" y="286200"/>
            <a:ext cx="7834680" cy="6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he Coefficient of Correlation, </a:t>
            </a: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r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58920" y="1977840"/>
            <a:ext cx="3643200" cy="42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shows the direction and strength of the linear relationship between two interval or ratio-scal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an range from -1.00 to +1.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-1.00 or +1.00 indicate perfect and strong corre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close to 0.0 indicate weak corre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gative values indicate an 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in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ationship and positive values indicate a 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dir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ation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614520" y="2943360"/>
            <a:ext cx="78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ounded Rectangle 5"/>
          <p:cNvSpPr/>
          <p:nvPr/>
        </p:nvSpPr>
        <p:spPr>
          <a:xfrm>
            <a:off x="331920" y="1177920"/>
            <a:ext cx="8378640" cy="60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795"/>
              </a:gs>
              <a:gs pos="100000">
                <a:srgbClr val="fff8e0"/>
              </a:gs>
            </a:gsLst>
            <a:lin ang="16200000"/>
          </a:gradFill>
          <a:ln w="9360">
            <a:solidFill>
              <a:srgbClr val="e5b6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Coefficient of Corre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s a measure of the strength of the relationship between two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4" descr=""/>
          <p:cNvPicPr/>
          <p:nvPr/>
        </p:nvPicPr>
        <p:blipFill>
          <a:blip r:embed="rId1"/>
          <a:stretch/>
        </p:blipFill>
        <p:spPr>
          <a:xfrm>
            <a:off x="4164120" y="2101680"/>
            <a:ext cx="4622760" cy="2025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" descr=""/>
          <p:cNvPicPr/>
          <p:nvPr/>
        </p:nvPicPr>
        <p:blipFill>
          <a:blip r:embed="rId2"/>
          <a:stretch/>
        </p:blipFill>
        <p:spPr>
          <a:xfrm>
            <a:off x="4183200" y="4653000"/>
            <a:ext cx="4616280" cy="182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919440" y="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"/>
          <p:cNvSpPr/>
          <p:nvPr/>
        </p:nvSpPr>
        <p:spPr>
          <a:xfrm>
            <a:off x="62244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</a:rPr>
              <a:t>Coefficient of Determination ( r</a:t>
            </a:r>
            <a:r>
              <a:rPr b="1" lang="en-US" sz="3600" spc="-1" strike="noStrike" baseline="30000">
                <a:solidFill>
                  <a:srgbClr val="00b05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734400" y="2666880"/>
            <a:ext cx="25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erpre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635040" y="3378240"/>
            <a:ext cx="8089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Coefficient of Determination ( r</a:t>
            </a:r>
            <a:r>
              <a:rPr b="1" lang="en-US" sz="40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provides the amount of the variation in the dependent variable (Y) explained by the variation in the independent variable 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4"/>
              <p:cNvSpPr txBox="1"/>
              <p:nvPr/>
            </p:nvSpPr>
            <p:spPr>
              <a:xfrm>
                <a:off x="863640" y="1092240"/>
                <a:ext cx="75358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569160" y="264600"/>
            <a:ext cx="7852680" cy="49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orrelation Coefficient - Examp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609480" y="1338120"/>
            <a:ext cx="370224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Copier Sales of America data  which a scatterplot is shown below, compute the correlation coefficient and coefficient of deter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Picture 5" descr=""/>
          <p:cNvPicPr/>
          <p:nvPr/>
        </p:nvPicPr>
        <p:blipFill>
          <a:blip r:embed="rId1"/>
          <a:stretch/>
        </p:blipFill>
        <p:spPr>
          <a:xfrm>
            <a:off x="412920" y="2451240"/>
            <a:ext cx="3233520" cy="386064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14"/>
          <p:cNvSpPr/>
          <p:nvPr/>
        </p:nvSpPr>
        <p:spPr>
          <a:xfrm>
            <a:off x="4065480" y="3213000"/>
            <a:ext cx="4672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interpret a correlation of 0.759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it is positive and closer to 1.0. So we see there is a strong direct relationship between the number of sales calls and the number of copiers sold. The value of  coefficient of determination of 57.6% indicates the percentage of variation explained in “the number of copiers sold” by the variation in “the number of calls made by the sales representatives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4"/>
              <p:cNvSpPr txBox="1"/>
              <p:nvPr/>
            </p:nvSpPr>
            <p:spPr>
              <a:xfrm>
                <a:off x="4559400" y="787320"/>
                <a:ext cx="4221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13"/>
              <p:cNvSpPr txBox="1"/>
              <p:nvPr/>
            </p:nvSpPr>
            <p:spPr>
              <a:xfrm>
                <a:off x="4686480" y="2552760"/>
                <a:ext cx="2666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7" name="TextBox 9"/>
          <p:cNvSpPr/>
          <p:nvPr/>
        </p:nvSpPr>
        <p:spPr>
          <a:xfrm>
            <a:off x="4610160" y="186696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 = 0.7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567000" y="30060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Regression Analysi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368280" y="812520"/>
            <a:ext cx="8493120" cy="34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regression analysis we use the independent variable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to estimate the dependent variable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lationship between the variables is lin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variables must be at least interval sc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ast squares criterion is used to determine the equ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REGRESSION EQU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An equation that expresses the linear relationship between two varia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LEAST SQUARES PRINCIP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termining a regression equation by minimizing the sum of the squares of the vertical distances between the actual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 values a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predicted values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11"/>
          <p:cNvSpPr/>
          <p:nvPr/>
        </p:nvSpPr>
        <p:spPr>
          <a:xfrm>
            <a:off x="2925720" y="623880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Group 7"/>
          <p:cNvGrpSpPr/>
          <p:nvPr/>
        </p:nvGrpSpPr>
        <p:grpSpPr>
          <a:xfrm>
            <a:off x="4971960" y="4597560"/>
            <a:ext cx="3297240" cy="1796760"/>
            <a:chOff x="4971960" y="4597560"/>
            <a:chExt cx="3297240" cy="1796760"/>
          </a:xfrm>
        </p:grpSpPr>
        <p:sp>
          <p:nvSpPr>
            <p:cNvPr id="752" name="Rounded Rectangle 9"/>
            <p:cNvSpPr/>
            <p:nvPr/>
          </p:nvSpPr>
          <p:spPr>
            <a:xfrm>
              <a:off x="4971960" y="4597560"/>
              <a:ext cx="3297240" cy="1796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795"/>
                </a:gs>
                <a:gs pos="100000">
                  <a:srgbClr val="fff8e0"/>
                </a:gs>
              </a:gsLst>
              <a:lin ang="16200000"/>
            </a:gradFill>
            <a:ln w="9360">
              <a:solidFill>
                <a:srgbClr val="e5b65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3" name="Object 1" descr=""/>
            <p:cNvPicPr/>
            <p:nvPr/>
          </p:nvPicPr>
          <p:blipFill>
            <a:blip r:embed="rId1"/>
            <a:stretch/>
          </p:blipFill>
          <p:spPr>
            <a:xfrm>
              <a:off x="5064840" y="4668480"/>
              <a:ext cx="3117600" cy="160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4" name="Picture 25" descr=""/>
          <p:cNvPicPr/>
          <p:nvPr/>
        </p:nvPicPr>
        <p:blipFill>
          <a:blip r:embed="rId2"/>
          <a:srcRect l="1509" t="747" r="1509" b="1131"/>
          <a:stretch/>
        </p:blipFill>
        <p:spPr>
          <a:xfrm>
            <a:off x="420840" y="4552920"/>
            <a:ext cx="3985920" cy="19861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3" descr=""/>
          <p:cNvPicPr/>
          <p:nvPr/>
        </p:nvPicPr>
        <p:blipFill>
          <a:blip r:embed="rId3"/>
          <a:stretch/>
        </p:blipFill>
        <p:spPr>
          <a:xfrm>
            <a:off x="777960" y="2090880"/>
            <a:ext cx="6941880" cy="3762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5" descr=""/>
          <p:cNvPicPr/>
          <p:nvPr/>
        </p:nvPicPr>
        <p:blipFill>
          <a:blip r:embed="rId4"/>
          <a:stretch/>
        </p:blipFill>
        <p:spPr>
          <a:xfrm>
            <a:off x="495360" y="2502000"/>
            <a:ext cx="8254800" cy="132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user</cp:lastModifiedBy>
  <dcterms:modified xsi:type="dcterms:W3CDTF">2012-04-16T07:04:24Z</dcterms:modified>
  <cp:revision>363</cp:revision>
  <dc:subject>Simple Regression</dc:subject>
  <dc:title>Chapter 13</dc:title>
</cp:coreProperties>
</file>