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45F-0E7D-49D0-888C-B00168F0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B56-C064-4D7F-8487-A9C1CD23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E25C-CF70-43A6-A2BC-CED7C0F3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A718-AF8F-4567-B199-2A5AE34CC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950C-5D26-419D-898E-34CF31CE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786C-9487-487E-ABF4-79017FC0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4B49-67DE-46E4-85E0-9CAB3D82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0762-3139-4B27-8CD6-4A973A81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3821-4B5F-4786-BB66-4129F999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B69-49F3-4B72-A0A0-2D6570D93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3135C573-D7D3-4FF0-B507-FF56047D3CC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01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3364BDF3-2C2D-40ED-A6B3-E2A2C03866E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45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6F3454AB-0DFE-4278-AFE6-A177311FFC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89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BC32E316-241C-4283-A53B-10CEEBFA4A5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53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3410BC19-6896-44AE-B25F-B7D6099960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577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348A5AAA-66D9-427E-90C8-B3C4766CFD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621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B79E32F1-2C2E-42AE-A2B2-FE3CFA4BB10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665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6F520194-AF9C-4DBD-AFDA-761BDAFFBF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524400" y="654516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9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D696B96D-870C-4ABD-9738-BEDAB7AD87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37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6BE8F465-89DC-4CA6-B5F4-C8C234FC2D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81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B9CCA8C2-3B11-411A-8A6A-0211253B8B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225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EFB3C4F0-54AF-45FB-91AC-DEEF8D401D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269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F96F989E-9269-449D-BF8C-42146F9823E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1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7B8BA62D-5AB1-4085-AA07-9C20E95FD5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57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-</a:t>
            </a:r>
            <a:fld id="{4708B145-13EF-43B3-8E81-7850B97FE7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75880" y="21204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926"/>
                </a:solidFill>
                <a:latin typeface="Arial"/>
              </a:rPr>
              <a:t>Linear Regression and Correla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578880" y="248400"/>
            <a:ext cx="7833240" cy="6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ression Equation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317520" y="1269720"/>
            <a:ext cx="41068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example involving Copier Sales of America. The sales manager gathered information on the number of sales calls made and the number of copiers sold for a random sample of 10 sales representatives. Use the least squares method to determine a linear equation to express the relationship between the two varia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xpected number of copiers sold by a representative who </a:t>
            </a: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made 20 c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439560" y="3246480"/>
            <a:ext cx="3895920" cy="3249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0" name="Object 1"/>
              <p:cNvSpPr txBox="1"/>
              <p:nvPr/>
            </p:nvSpPr>
            <p:spPr>
              <a:xfrm>
                <a:off x="4897440" y="4289400"/>
                <a:ext cx="269388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gression equation is:</m:t>
                        </m:r>
                      </m:e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lim>
                        </m:limUpp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76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42</m:t>
                            </m:r>
                            <m:r>
                              <m:t xml:space="preserve">X</m:t>
                            </m:r>
                          </m:lim>
                        </m:limUpp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76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4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</m:lim>
                        </m:limUpp>
                        <m:limUpp>
                          <m:e>
                            <m:r>
                              <m:t xml:space="preserve">Y</m:t>
                            </m:r>
                          </m:e>
                          <m:lim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16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1" name="Text Box 8"/>
          <p:cNvSpPr/>
          <p:nvPr/>
        </p:nvSpPr>
        <p:spPr>
          <a:xfrm>
            <a:off x="4300560" y="327672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2"/>
          <a:stretch/>
        </p:blipFill>
        <p:spPr>
          <a:xfrm>
            <a:off x="4962600" y="3378240"/>
            <a:ext cx="3487680" cy="75564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7"/>
          <p:cNvGrpSpPr/>
          <p:nvPr/>
        </p:nvGrpSpPr>
        <p:grpSpPr>
          <a:xfrm>
            <a:off x="4959360" y="1209600"/>
            <a:ext cx="3297240" cy="1184400"/>
            <a:chOff x="4959360" y="1209600"/>
            <a:chExt cx="3297240" cy="1184400"/>
          </a:xfrm>
        </p:grpSpPr>
        <p:sp>
          <p:nvSpPr>
            <p:cNvPr id="764" name="Rounded Rectangle 9"/>
            <p:cNvSpPr/>
            <p:nvPr/>
          </p:nvSpPr>
          <p:spPr>
            <a:xfrm>
              <a:off x="4959360" y="1209600"/>
              <a:ext cx="3297240" cy="118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795"/>
                </a:gs>
                <a:gs pos="100000">
                  <a:srgbClr val="fff8e0"/>
                </a:gs>
              </a:gsLst>
              <a:lin ang="16200000"/>
            </a:gradFill>
            <a:ln w="9360">
              <a:solidFill>
                <a:srgbClr val="e5b65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Object 15" descr=""/>
            <p:cNvPicPr/>
            <p:nvPr/>
          </p:nvPicPr>
          <p:blipFill>
            <a:blip r:embed="rId3"/>
            <a:stretch/>
          </p:blipFill>
          <p:spPr>
            <a:xfrm>
              <a:off x="5090040" y="1332360"/>
              <a:ext cx="3117600" cy="105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TextBox 13"/>
          <p:cNvSpPr/>
          <p:nvPr/>
        </p:nvSpPr>
        <p:spPr>
          <a:xfrm>
            <a:off x="5270400" y="26416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= 1.18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762120" y="30492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IMPLE REGRESSION – ANOTHE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736560" y="914400"/>
            <a:ext cx="733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store conducts an analysis of five-month data to determine the effect of advertising on sales revenue. The data are shown below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least squares method to determine a linear equation to express the relationship between the two variabl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507960" y="2933640"/>
            <a:ext cx="819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dvertising Exp.($100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ales Rev.($100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(X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1338840" y="35568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IMPLE REGRESSION –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2297160" y="1189080"/>
            <a:ext cx="391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3"/>
          <p:cNvSpPr/>
          <p:nvPr/>
        </p:nvSpPr>
        <p:spPr>
          <a:xfrm>
            <a:off x="1668960" y="34308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IMPLE REGRESSION –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5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1" name="Text Box 19"/>
          <p:cNvSpPr/>
          <p:nvPr/>
        </p:nvSpPr>
        <p:spPr>
          <a:xfrm>
            <a:off x="5486400" y="1295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 = 0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565560" y="6674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cribing Relationship between Two Variabl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685800" y="60948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59880" y="1942920"/>
            <a:ext cx="8178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study the relationship between two variables we refer to the data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va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graphical technique we use to show the relationship between variables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tter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raw a scatter diagram we need two variables. We scale one variable along the horizontal ax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) of a graph and the other variable along the vertical axi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565560" y="6422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cribing Relationship between Two Variables – Scatter Diagram Exampl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9" name="AutoShape 3"/>
          <p:cNvSpPr/>
          <p:nvPr/>
        </p:nvSpPr>
        <p:spPr>
          <a:xfrm>
            <a:off x="685800" y="60948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10" descr="0428"/>
          <p:cNvPicPr/>
          <p:nvPr/>
        </p:nvPicPr>
        <p:blipFill>
          <a:blip r:embed="rId1"/>
          <a:stretch/>
        </p:blipFill>
        <p:spPr>
          <a:xfrm>
            <a:off x="812880" y="1739880"/>
            <a:ext cx="80676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576360" y="29700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ression Analysis - Introduc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66720" y="1002960"/>
            <a:ext cx="825192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rrelation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tudy of the relationship between variables. It is also defined as group of techniques to measure the association between two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Scatter Diagram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hart that portrays the relationship between the two variables. It is the usual first step in correlations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Dependent Vari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variable being predicted or estim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basis for estimation.  It is the predictor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571680" y="330480"/>
            <a:ext cx="7847640" cy="53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catter Diagram Examp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612360" y="1044360"/>
            <a:ext cx="820908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les manager of Copier Sales of America, which has a large sales force throughout the United States and Canada, wants to determine whether there is a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relationship betwe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number of sales calls ma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 month and the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number of copiers sold that mon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The manager selects a random sample of 10 representatives and determines the number of sales calls each representative made last month and the number of copiers s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557280" y="3006720"/>
            <a:ext cx="3781440" cy="313704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7"/>
          <p:cNvGrpSpPr/>
          <p:nvPr/>
        </p:nvGrpSpPr>
        <p:grpSpPr>
          <a:xfrm>
            <a:off x="4660920" y="2976480"/>
            <a:ext cx="4113360" cy="3281400"/>
            <a:chOff x="4660920" y="2976480"/>
            <a:chExt cx="4113360" cy="3281400"/>
          </a:xfrm>
        </p:grpSpPr>
        <p:pic>
          <p:nvPicPr>
            <p:cNvPr id="727" name="Picture 4" descr=""/>
            <p:cNvPicPr/>
            <p:nvPr/>
          </p:nvPicPr>
          <p:blipFill>
            <a:blip r:embed="rId2"/>
            <a:stretch/>
          </p:blipFill>
          <p:spPr>
            <a:xfrm>
              <a:off x="4660920" y="2976480"/>
              <a:ext cx="4113360" cy="322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Oval 7"/>
            <p:cNvSpPr/>
            <p:nvPr/>
          </p:nvSpPr>
          <p:spPr>
            <a:xfrm>
              <a:off x="4842000" y="3683160"/>
              <a:ext cx="302040" cy="1481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8011440" y="5511960"/>
              <a:ext cx="647640" cy="745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78160" y="286200"/>
            <a:ext cx="7834680" cy="6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Coefficient of Correlation,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r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58920" y="1977840"/>
            <a:ext cx="3643200" cy="42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shows the direction and strength of the linear relationship between two interval or ratio-scal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 range from -1.00 to +1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-1.00 or +1.00 indicate perfect and strong cor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close to 0.0 indicate weak corre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ative values indicate an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in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ship and positive values indicate a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dir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on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614520" y="2943360"/>
            <a:ext cx="787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5"/>
          <p:cNvSpPr/>
          <p:nvPr/>
        </p:nvSpPr>
        <p:spPr>
          <a:xfrm>
            <a:off x="331920" y="1177920"/>
            <a:ext cx="83786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Coefficient of Corre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 measure of the strength of the relationship between two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4164120" y="2101680"/>
            <a:ext cx="4622760" cy="2025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" descr=""/>
          <p:cNvPicPr/>
          <p:nvPr/>
        </p:nvPicPr>
        <p:blipFill>
          <a:blip r:embed="rId2"/>
          <a:stretch/>
        </p:blipFill>
        <p:spPr>
          <a:xfrm>
            <a:off x="4183200" y="4653000"/>
            <a:ext cx="4616280" cy="18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919440" y="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62244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Coefficient of Determination ( r</a:t>
            </a:r>
            <a:r>
              <a:rPr b="1" lang="en-US" sz="3600" spc="-1" strike="noStrike" baseline="30000">
                <a:solidFill>
                  <a:srgbClr val="00b05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734400" y="2666880"/>
            <a:ext cx="25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635040" y="3378240"/>
            <a:ext cx="8089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Coefficient of Determination ( r</a:t>
            </a:r>
            <a:r>
              <a:rPr b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provides the amount of the variation in the dependent variable (Y) explained by the variation in the independent variable 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863640" y="1092240"/>
                <a:ext cx="75358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569160" y="264600"/>
            <a:ext cx="7852680" cy="49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rrelation Coefficient - Examp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609480" y="1338120"/>
            <a:ext cx="370224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Copier Sales of America data  which a scatterplot is shown below, compute the correlation coefficient and coefficient of deter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Picture 5" descr=""/>
          <p:cNvPicPr/>
          <p:nvPr/>
        </p:nvPicPr>
        <p:blipFill>
          <a:blip r:embed="rId1"/>
          <a:stretch/>
        </p:blipFill>
        <p:spPr>
          <a:xfrm>
            <a:off x="412920" y="2451240"/>
            <a:ext cx="3233520" cy="38606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4"/>
          <p:cNvSpPr/>
          <p:nvPr/>
        </p:nvSpPr>
        <p:spPr>
          <a:xfrm>
            <a:off x="4065480" y="3213000"/>
            <a:ext cx="4672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interpret a correlation of 0.759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it is positive and closer to 1.0. So we see there is a strong direct relationship between the number of sales calls and the number of copiers sold. The value of  coefficient of determination of 57.6% indicates the percentage of variation explained in “the number of copiers sold” by the variation in “the number of calls made by the sales representativ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4"/>
              <p:cNvSpPr txBox="1"/>
              <p:nvPr/>
            </p:nvSpPr>
            <p:spPr>
              <a:xfrm>
                <a:off x="4559400" y="787320"/>
                <a:ext cx="4221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13"/>
              <p:cNvSpPr txBox="1"/>
              <p:nvPr/>
            </p:nvSpPr>
            <p:spPr>
              <a:xfrm>
                <a:off x="4686480" y="2552760"/>
                <a:ext cx="2666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Box 9"/>
          <p:cNvSpPr/>
          <p:nvPr/>
        </p:nvSpPr>
        <p:spPr>
          <a:xfrm>
            <a:off x="4610160" y="18669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 = 0.7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567000" y="30060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gression Analysi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368280" y="812520"/>
            <a:ext cx="849312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regression analysis we use the independent variable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estimate the dependent variable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lationship between the variables is lin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variables must be at least interval sc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st squares criterion is used to determine the equ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REGRESSION EQU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An equation that expresses the linear relationship between two vari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LEAST SQUARES PRINCI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termining a regression equation by minimizing the sum of the squares of the vertical distances between the actual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 values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redicted valu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1"/>
          <p:cNvSpPr/>
          <p:nvPr/>
        </p:nvSpPr>
        <p:spPr>
          <a:xfrm>
            <a:off x="2925720" y="623880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4971960" y="4597560"/>
            <a:ext cx="3297240" cy="1796760"/>
            <a:chOff x="4971960" y="4597560"/>
            <a:chExt cx="3297240" cy="1796760"/>
          </a:xfrm>
        </p:grpSpPr>
        <p:sp>
          <p:nvSpPr>
            <p:cNvPr id="752" name="Rounded Rectangle 9"/>
            <p:cNvSpPr/>
            <p:nvPr/>
          </p:nvSpPr>
          <p:spPr>
            <a:xfrm>
              <a:off x="4971960" y="4597560"/>
              <a:ext cx="3297240" cy="179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795"/>
                </a:gs>
                <a:gs pos="100000">
                  <a:srgbClr val="fff8e0"/>
                </a:gs>
              </a:gsLst>
              <a:lin ang="16200000"/>
            </a:gradFill>
            <a:ln w="9360">
              <a:solidFill>
                <a:srgbClr val="e5b65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3" name="Object 1" descr=""/>
            <p:cNvPicPr/>
            <p:nvPr/>
          </p:nvPicPr>
          <p:blipFill>
            <a:blip r:embed="rId1"/>
            <a:stretch/>
          </p:blipFill>
          <p:spPr>
            <a:xfrm>
              <a:off x="5064840" y="4668480"/>
              <a:ext cx="3117600" cy="160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4" name="Picture 25" descr=""/>
          <p:cNvPicPr/>
          <p:nvPr/>
        </p:nvPicPr>
        <p:blipFill>
          <a:blip r:embed="rId2"/>
          <a:srcRect l="1509" t="747" r="1509" b="1131"/>
          <a:stretch/>
        </p:blipFill>
        <p:spPr>
          <a:xfrm>
            <a:off x="420840" y="4552920"/>
            <a:ext cx="3985920" cy="19861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3" descr=""/>
          <p:cNvPicPr/>
          <p:nvPr/>
        </p:nvPicPr>
        <p:blipFill>
          <a:blip r:embed="rId3"/>
          <a:stretch/>
        </p:blipFill>
        <p:spPr>
          <a:xfrm>
            <a:off x="777960" y="2090880"/>
            <a:ext cx="6941880" cy="3762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5" descr=""/>
          <p:cNvPicPr/>
          <p:nvPr/>
        </p:nvPicPr>
        <p:blipFill>
          <a:blip r:embed="rId4"/>
          <a:stretch/>
        </p:blipFill>
        <p:spPr>
          <a:xfrm>
            <a:off x="495360" y="2502000"/>
            <a:ext cx="8254800" cy="132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user</cp:lastModifiedBy>
  <dcterms:modified xsi:type="dcterms:W3CDTF">2012-04-16T07:04:24Z</dcterms:modified>
  <cp:revision>363</cp:revision>
  <dc:subject>Simple Regression</dc:subject>
  <dc:title>Chapter 13</dc:title>
</cp:coreProperties>
</file>