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20.jpeg" ContentType="image/jpeg"/>
  <Override PartName="/ppt/media/image7.wmf" ContentType="image/x-wmf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1EFE-F1C2-422D-95FB-C67DDC42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F8EE-D9F6-4436-9326-231BCEF8198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58B4-EFE8-4D38-A1B6-0142F562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34B-276A-454A-95E8-5D844298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9F4-2361-420D-B375-CFF5CB90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1C89-B6ED-4430-8197-C51B4380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DDE-D01C-4525-9BC0-B7ED4D8E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323-32DC-40CF-8CB0-3D1551AF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8D8-40E4-468F-901D-75BD248A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EA3-61FB-4D54-B003-47D33D4E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DFEA-FFB2-4B1F-8368-FF46ACD3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4387-A0E4-4C9C-8163-0563CA53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095-5813-45A9-BA55-898CEB93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F41-90E9-4743-B276-C9E7B2A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64D8-D28D-4451-877E-4ED85A155E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1080" y="1009440"/>
            <a:ext cx="21718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9560" y="4093920"/>
            <a:ext cx="557208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CH 101 (General Biochemistr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apter 14</a:t>
            </a: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PT Bold Heading"/>
              </a:rPr>
              <a:t>أيض الأحماض الأمينية</a:t>
            </a:r>
            <a:br>
              <a:rPr sz="2400"/>
            </a:br>
            <a:r>
              <a:rPr b="1" lang="ar-KW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MINO ACID METABOLISM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oon 7"/>
          <p:cNvSpPr/>
          <p:nvPr/>
        </p:nvSpPr>
        <p:spPr>
          <a:xfrm rot="5400000">
            <a:off x="2709000" y="-1851840"/>
            <a:ext cx="3726000" cy="914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84" y="1680"/>
                  <a:pt x="9367" y="5080"/>
                  <a:pt x="9367" y="10800"/>
                </a:cubicBezTo>
                <a:cubicBezTo>
                  <a:pt x="9367" y="16520"/>
                  <a:pt x="15484" y="199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\AppData\Local\Temp\SNAGHTMLb486764.PNG"/>
          <p:cNvPicPr/>
          <p:nvPr/>
        </p:nvPicPr>
        <p:blipFill>
          <a:blip r:embed="rId1"/>
          <a:stretch/>
        </p:blipFill>
        <p:spPr>
          <a:xfrm>
            <a:off x="858960" y="24541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\AppData\Local\Temp\SNAGHTMLb49d034.PNG"/>
          <p:cNvPicPr/>
          <p:nvPr/>
        </p:nvPicPr>
        <p:blipFill>
          <a:blip r:embed="rId2"/>
          <a:stretch/>
        </p:blipFill>
        <p:spPr>
          <a:xfrm>
            <a:off x="4211640" y="10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Admin\AppData\Local\Temp\SNAGHTMLb4b1b57.PNG"/>
          <p:cNvPicPr/>
          <p:nvPr/>
        </p:nvPicPr>
        <p:blipFill>
          <a:blip r:embed="rId3"/>
          <a:stretch/>
        </p:blipFill>
        <p:spPr>
          <a:xfrm>
            <a:off x="7564320" y="24573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2179800" y="2519280"/>
            <a:ext cx="4524120" cy="1246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King  Saud University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College of  Science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Department of Biochemi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3693960" y="1986120"/>
            <a:ext cx="1757520" cy="285480"/>
          </a:xfrm>
          <a:prstGeom prst="rect">
            <a:avLst/>
          </a:prstGeom>
          <a:ln w="0">
            <a:noFill/>
          </a:ln>
        </p:spPr>
      </p:pic>
      <p:sp>
        <p:nvSpPr>
          <p:cNvPr id="56" name="Subtitle 2"/>
          <p:cNvSpPr/>
          <p:nvPr/>
        </p:nvSpPr>
        <p:spPr>
          <a:xfrm>
            <a:off x="250920" y="6294600"/>
            <a:ext cx="874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Prepared by  Dr. Farid Ataya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                 http://faculty.ksu.edu.sa/75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أحماض الأمينية الأساس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الأحماض الأمينية التي لا يمكن لجسم الأنسان تكوينها ويجب أن يحصل عليها في غذائ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دد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حماض أمينية و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ylalanine, valine, threonine, tryptophan, isoleucine, methionine, leucine, and lys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539640" y="404640"/>
            <a:ext cx="7993080" cy="93672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التفاعلات الأيضية للأحماض الأمين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2031840"/>
            <a:ext cx="8785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ل مجموعة الأمي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amination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اعل النزع التأكسدي لمجموعة الأمي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ve deamination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اعل النزع غير تأكسدي لمجموعة الأمي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oxidative de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-54216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زع مجموعة الكربوكسيل من الحمض الأميني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arboxylation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نتهى التفاعلات الأيضية بتحويل الأحماض الأمينية إلى يو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144720" y="204840"/>
            <a:ext cx="947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نقل مجموعة الأمين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aminatio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95280" y="143208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عملية نقل مجموعة الأمين من حمض أميني إلى هيكل حمض كيتوني لتكوين حمض أميني آخ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حفز هذه العملية إنزيم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ترانس أمينيز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حتوي على المرافق الإنزيمي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بيريدوكسال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-فوسف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ذي يتحد مع مجموعة الأمين للحمض الأميني متحولاً إلى بيريدوكسامين ثم ينقلها إلى الحمض الكيتوني مكوناً حمض أميني آخ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4" descr=""/>
          <p:cNvPicPr/>
          <p:nvPr/>
        </p:nvPicPr>
        <p:blipFill>
          <a:blip r:embed="rId2"/>
          <a:srcRect l="3806" t="0" r="12976" b="-50862"/>
          <a:stretch/>
        </p:blipFill>
        <p:spPr>
          <a:xfrm>
            <a:off x="179280" y="5396040"/>
            <a:ext cx="8640720" cy="5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24"/>
          <p:cNvGraphicFramePr/>
          <p:nvPr/>
        </p:nvGraphicFramePr>
        <p:xfrm>
          <a:off x="184320" y="189000"/>
          <a:ext cx="8708760" cy="539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320" y="189000"/>
                    <a:ext cx="870876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rc 2"/>
          <p:cNvSpPr/>
          <p:nvPr/>
        </p:nvSpPr>
        <p:spPr>
          <a:xfrm flipH="1" rot="8327400">
            <a:off x="5410080" y="947160"/>
            <a:ext cx="577440" cy="639720"/>
          </a:xfrm>
          <a:custGeom>
            <a:avLst/>
            <a:gdLst>
              <a:gd name="textAreaLeft" fmla="*/ 360 w 577440"/>
              <a:gd name="textAreaRight" fmla="*/ 578160 w 57744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fill="none" w="35654" h="42218">
                <a:moveTo>
                  <a:pt x="0" y="5197"/>
                </a:moveTo>
                <a:cubicBezTo>
                  <a:pt x="3914" y="1843"/>
                  <a:pt x="8899" y="-1"/>
                  <a:pt x="14054" y="0"/>
                </a:cubicBezTo>
                <a:cubicBezTo>
                  <a:pt x="25983" y="0"/>
                  <a:pt x="35654" y="9670"/>
                  <a:pt x="35654" y="21600"/>
                </a:cubicBezTo>
                <a:cubicBezTo>
                  <a:pt x="35654" y="31048"/>
                  <a:pt x="29512" y="39400"/>
                  <a:pt x="20493" y="42217"/>
                </a:cubicBezTo>
              </a:path>
              <a:path stroke="0" w="35654" h="42218">
                <a:moveTo>
                  <a:pt x="0" y="5197"/>
                </a:moveTo>
                <a:cubicBezTo>
                  <a:pt x="3914" y="1843"/>
                  <a:pt x="8899" y="-1"/>
                  <a:pt x="14054" y="0"/>
                </a:cubicBezTo>
                <a:cubicBezTo>
                  <a:pt x="25983" y="0"/>
                  <a:pt x="35654" y="9670"/>
                  <a:pt x="35654" y="21600"/>
                </a:cubicBezTo>
                <a:cubicBezTo>
                  <a:pt x="35654" y="31048"/>
                  <a:pt x="29512" y="39400"/>
                  <a:pt x="20493" y="42217"/>
                </a:cubicBezTo>
                <a:lnTo>
                  <a:pt x="14054" y="21600"/>
                </a:lnTo>
                <a:lnTo>
                  <a:pt x="0" y="5197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rc 3"/>
          <p:cNvSpPr/>
          <p:nvPr/>
        </p:nvSpPr>
        <p:spPr>
          <a:xfrm rot="12138600">
            <a:off x="5994000" y="921960"/>
            <a:ext cx="522360" cy="639720"/>
          </a:xfrm>
          <a:custGeom>
            <a:avLst/>
            <a:gdLst>
              <a:gd name="textAreaLeft" fmla="*/ 0 w 522360"/>
              <a:gd name="textAreaRight" fmla="*/ 522720 w 5223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fill="none" w="32164" h="42218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2493" y="0"/>
                  <a:pt x="32164" y="9670"/>
                  <a:pt x="32164" y="21600"/>
                </a:cubicBezTo>
                <a:cubicBezTo>
                  <a:pt x="32164" y="31048"/>
                  <a:pt x="26022" y="39400"/>
                  <a:pt x="17003" y="42217"/>
                </a:cubicBezTo>
              </a:path>
              <a:path stroke="0" w="32164" h="42218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2493" y="0"/>
                  <a:pt x="32164" y="9670"/>
                  <a:pt x="32164" y="21600"/>
                </a:cubicBezTo>
                <a:cubicBezTo>
                  <a:pt x="32164" y="31048"/>
                  <a:pt x="26022" y="39400"/>
                  <a:pt x="17003" y="42217"/>
                </a:cubicBezTo>
                <a:lnTo>
                  <a:pt x="10564" y="21600"/>
                </a:lnTo>
                <a:lnTo>
                  <a:pt x="-1" y="2759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4"/>
          <p:cNvGrpSpPr/>
          <p:nvPr/>
        </p:nvGrpSpPr>
        <p:grpSpPr>
          <a:xfrm>
            <a:off x="1623960" y="898920"/>
            <a:ext cx="1347120" cy="861840"/>
            <a:chOff x="1623960" y="898920"/>
            <a:chExt cx="1347120" cy="861840"/>
          </a:xfrm>
        </p:grpSpPr>
        <p:sp>
          <p:nvSpPr>
            <p:cNvPr id="185" name="Arc 5"/>
            <p:cNvSpPr/>
            <p:nvPr/>
          </p:nvSpPr>
          <p:spPr>
            <a:xfrm flipH="1" rot="19126800">
              <a:off x="2253600" y="1009800"/>
              <a:ext cx="577440" cy="639720"/>
            </a:xfrm>
            <a:custGeom>
              <a:avLst/>
              <a:gdLst>
                <a:gd name="textAreaLeft" fmla="*/ 360 w 577440"/>
                <a:gd name="textAreaRight" fmla="*/ 578160 w 577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fill="none" w="35654" h="42218">
                  <a:moveTo>
                    <a:pt x="0" y="5197"/>
                  </a:moveTo>
                  <a:cubicBezTo>
                    <a:pt x="3914" y="1843"/>
                    <a:pt x="8899" y="-1"/>
                    <a:pt x="14054" y="0"/>
                  </a:cubicBezTo>
                  <a:cubicBezTo>
                    <a:pt x="25983" y="0"/>
                    <a:pt x="35654" y="9670"/>
                    <a:pt x="35654" y="21600"/>
                  </a:cubicBezTo>
                  <a:cubicBezTo>
                    <a:pt x="35654" y="31048"/>
                    <a:pt x="29512" y="39400"/>
                    <a:pt x="20493" y="42217"/>
                  </a:cubicBezTo>
                </a:path>
                <a:path stroke="0" w="35654" h="42218">
                  <a:moveTo>
                    <a:pt x="0" y="5197"/>
                  </a:moveTo>
                  <a:cubicBezTo>
                    <a:pt x="3914" y="1843"/>
                    <a:pt x="8899" y="-1"/>
                    <a:pt x="14054" y="0"/>
                  </a:cubicBezTo>
                  <a:cubicBezTo>
                    <a:pt x="25983" y="0"/>
                    <a:pt x="35654" y="9670"/>
                    <a:pt x="35654" y="21600"/>
                  </a:cubicBezTo>
                  <a:cubicBezTo>
                    <a:pt x="35654" y="31048"/>
                    <a:pt x="29512" y="39400"/>
                    <a:pt x="20493" y="42217"/>
                  </a:cubicBezTo>
                  <a:lnTo>
                    <a:pt x="14054" y="21600"/>
                  </a:lnTo>
                  <a:lnTo>
                    <a:pt x="0" y="5197"/>
                  </a:ln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rc 6"/>
            <p:cNvSpPr/>
            <p:nvPr/>
          </p:nvSpPr>
          <p:spPr>
            <a:xfrm rot="1338000">
              <a:off x="1725840" y="1034640"/>
              <a:ext cx="522360" cy="63972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fill="none" w="32164" h="42218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2493" y="0"/>
                    <a:pt x="32164" y="9670"/>
                    <a:pt x="32164" y="21600"/>
                  </a:cubicBezTo>
                  <a:cubicBezTo>
                    <a:pt x="32164" y="31048"/>
                    <a:pt x="26022" y="39400"/>
                    <a:pt x="17003" y="42217"/>
                  </a:cubicBezTo>
                </a:path>
                <a:path stroke="0" w="32164" h="42218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2493" y="0"/>
                    <a:pt x="32164" y="9670"/>
                    <a:pt x="32164" y="21600"/>
                  </a:cubicBezTo>
                  <a:cubicBezTo>
                    <a:pt x="32164" y="31048"/>
                    <a:pt x="26022" y="39400"/>
                    <a:pt x="17003" y="42217"/>
                  </a:cubicBezTo>
                  <a:lnTo>
                    <a:pt x="10564" y="21600"/>
                  </a:lnTo>
                  <a:lnTo>
                    <a:pt x="-1" y="2759"/>
                  </a:lnTo>
                  <a:close/>
                </a:path>
              </a:pathLst>
            </a:custGeom>
            <a:noFill/>
            <a:ln w="57240">
              <a:solidFill>
                <a:srgbClr val="0000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7"/>
          <p:cNvSpPr/>
          <p:nvPr/>
        </p:nvSpPr>
        <p:spPr>
          <a:xfrm>
            <a:off x="6752880" y="7383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جلوتا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099840" y="138600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ألفا كيتو جلوت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253960" y="1386000"/>
            <a:ext cx="369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فوسفات بيريدوكسام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2489040" y="738360"/>
            <a:ext cx="33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فوسفات بيريدوكس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458280" y="138744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بيروف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827280" y="7398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ألا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4000" y="2708280"/>
            <a:ext cx="8645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جميع التفاعلات عكسية تفيد الخلية في تصنيع الأحماض الأمينية التي يتوفر هيكلها الكربوني من أيض مصادر غير بروتي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حتل الجلوتاميك والأسبارتيك دوراً مركزياً في عملية نقل الأمين لأنهما يحتويا على مجموعتي كربوكسيل تتحد المجموعة الطرفية مع الأمونيا ليكونا حمضي الجلوتامين والأسباراج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36960" y="204840"/>
            <a:ext cx="91879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النزع التأكسدي لمجموعة الأم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xidative deaminatio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79280" y="206064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قوم إنزيم جلوتامات ديهيدروجينيز </a:t>
            </a:r>
            <a:r>
              <a:rPr b="0" lang="ar-SA" sz="2800" spc="-1" strike="noStrike" u="sng">
                <a:solidFill>
                  <a:srgbClr val="0000ff"/>
                </a:solidFill>
                <a:uFillTx/>
                <a:latin typeface="Arial"/>
              </a:rPr>
              <a:t>في الميتوكوندري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نزع مجموعة الأمين من حمض الجلوتاميك في وجود المرافق الإنزيمي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NAD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فيعطي ألفا كيتوجلوتاريك وأمونيا والمرافق المختز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(P)H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24000" y="3784680"/>
            <a:ext cx="844524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قوم إنزيمات أكسيديز المحتوية على المرافق الإنزيمي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على أكسدة الحمض الأميني ثم تحلل مائياً فتعطي حمض كيتوني وأمونيا ثم يتأكسد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ليكون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D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تحلل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إل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+ ½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واسطة إنزيم الكاتالي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-94320" y="204840"/>
            <a:ext cx="10056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النزع غيرالتأكسدي لمجموعة الأم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noxidative deamination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79280" y="1989000"/>
            <a:ext cx="850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م نزع مجموعة الأمين بواسطة إنزيمات ألفا دي أمينيز فتعطي أمونيا + الأحماض الغير مشبعة المناظ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إنزيم الهستيديز (أحد أنواع أمونيا لييز) الذي يحول الهستيدين إلى حمض يوروكانيك الذي يتحول بعد ذلك جلوتاميك وألفا كيتو جلوتاري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7"/>
          <p:cNvGraphicFramePr/>
          <p:nvPr/>
        </p:nvGraphicFramePr>
        <p:xfrm>
          <a:off x="108000" y="4175280"/>
          <a:ext cx="8785080" cy="183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4175280"/>
                    <a:ext cx="878508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50920" y="549360"/>
            <a:ext cx="85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إنزيم أسبرتيز يحول الأسبارتيك إلى أمونيا وفيوماريك وهذا التفاعل عكسي ففي حالة زيادة الأمونيا (مادة سامة) يتكون الأسبارتيك الذي يدخل في دورة حمض الستري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3"/>
          <p:cNvGraphicFramePr/>
          <p:nvPr/>
        </p:nvGraphicFramePr>
        <p:xfrm>
          <a:off x="176040" y="2965320"/>
          <a:ext cx="8859960" cy="161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040" y="2965320"/>
                    <a:ext cx="8859960" cy="16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250920" y="549360"/>
            <a:ext cx="85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إنزيمات التحلل المائي (هيدراتيز) تقوم بنزع جزيء ماء من الحمض الهيدروكسيلي (السيرين) فينتج مركب حمض ألفا إيمينو وفي وجود البيريدوكسين يتم نزع الأمونيا فيتكون حمض كيتوني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34920" y="2592360"/>
          <a:ext cx="9061560" cy="1397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2592360"/>
                    <a:ext cx="906156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250920" y="549360"/>
            <a:ext cx="850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في حالة حمض السيستايين (محتوي على سلفهيدريل) يقوم إنزيم دي سلفهيدريز بنزع مجموعة ال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ثم مجموعة من التفاعلات تعطي في النهاية حمض البايروفي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7"/>
          <p:cNvGraphicFramePr/>
          <p:nvPr/>
        </p:nvGraphicFramePr>
        <p:xfrm>
          <a:off x="243000" y="2430360"/>
          <a:ext cx="8673840" cy="13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000" y="2430360"/>
                    <a:ext cx="867384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1620720" y="115920"/>
            <a:ext cx="6336000" cy="172872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4803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5400" spc="-1" strike="noStrike">
                <a:solidFill>
                  <a:srgbClr val="333399"/>
                </a:solidFill>
                <a:latin typeface="Arial"/>
              </a:rPr>
              <a:t>تمثيل البروتينات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Times New Roman"/>
              </a:rPr>
              <a:t>Protein metabo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500720" y="4941720"/>
            <a:ext cx="4402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475200" indent="-475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روتينات سهلة الهض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روتينات صعبة الهض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30040" y="2565360"/>
            <a:ext cx="4960080" cy="2299680"/>
            <a:chOff x="230040" y="2565360"/>
            <a:chExt cx="4960080" cy="2299680"/>
          </a:xfrm>
        </p:grpSpPr>
        <p:sp>
          <p:nvSpPr>
            <p:cNvPr id="62" name="AutoShape 7"/>
            <p:cNvSpPr/>
            <p:nvPr/>
          </p:nvSpPr>
          <p:spPr>
            <a:xfrm>
              <a:off x="4592520" y="2919240"/>
              <a:ext cx="576360" cy="1728720"/>
            </a:xfrm>
            <a:custGeom>
              <a:avLst/>
              <a:gdLst>
                <a:gd name="textAreaLeft" fmla="*/ 0 w 576360"/>
                <a:gd name="textAreaRight" fmla="*/ 208080 w 57636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8"/>
            <p:cNvSpPr/>
            <p:nvPr/>
          </p:nvSpPr>
          <p:spPr>
            <a:xfrm>
              <a:off x="230040" y="2565360"/>
              <a:ext cx="4960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Arial"/>
                </a:rPr>
                <a:t>بروتينات داخل الجس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9"/>
            <p:cNvSpPr/>
            <p:nvPr/>
          </p:nvSpPr>
          <p:spPr>
            <a:xfrm>
              <a:off x="1244880" y="4222440"/>
              <a:ext cx="367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Arial"/>
                </a:rPr>
                <a:t>بروتينات مأكولة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5221080" y="2282760"/>
            <a:ext cx="381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بناء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bolis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5034240" y="3430440"/>
            <a:ext cx="41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هدم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tabolis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5"/>
          <p:cNvSpPr/>
          <p:nvPr/>
        </p:nvSpPr>
        <p:spPr>
          <a:xfrm>
            <a:off x="179280" y="11592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نزع مجموعة الكربوكسيل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carboxy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14480" y="981000"/>
            <a:ext cx="8921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ؤدي نزع مجموعة الكربوكسيل إلى تكوين الأمينات الأولية المناظر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حفز تلك التفاعلات إنزيمات دي كربوكسيليز المحتوية على </a:t>
            </a:r>
            <a:r>
              <a:rPr b="1" lang="ar-SA" sz="20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وسفات البيريدوكسال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B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كمرافق إنزيم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نتج من نزع مجموعة الكربوكسيل المرتبطة بذرة الكربون ألفا إلى تكوين مركبات ذات أهمية كبير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4140360" y="2421000"/>
            <a:ext cx="4562280" cy="1008720"/>
            <a:chOff x="4140360" y="2421000"/>
            <a:chExt cx="4562280" cy="1008720"/>
          </a:xfrm>
        </p:grpSpPr>
        <p:sp>
          <p:nvSpPr>
            <p:cNvPr id="213" name="Rectangle 8"/>
            <p:cNvSpPr/>
            <p:nvPr/>
          </p:nvSpPr>
          <p:spPr>
            <a:xfrm>
              <a:off x="4140360" y="2421000"/>
              <a:ext cx="4562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هستيدين                    هيستامي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(ينبه الإفراز المعدي ويتسبب في رفع ضغط الدم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2"/>
            <p:cNvSpPr/>
            <p:nvPr/>
          </p:nvSpPr>
          <p:spPr>
            <a:xfrm flipH="1">
              <a:off x="6443640" y="26384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9"/>
          <p:cNvGrpSpPr/>
          <p:nvPr/>
        </p:nvGrpSpPr>
        <p:grpSpPr>
          <a:xfrm>
            <a:off x="2124000" y="3355920"/>
            <a:ext cx="6578640" cy="703800"/>
            <a:chOff x="2124000" y="3355920"/>
            <a:chExt cx="6578640" cy="703800"/>
          </a:xfrm>
        </p:grpSpPr>
        <p:sp>
          <p:nvSpPr>
            <p:cNvPr id="216" name="Rectangle 9"/>
            <p:cNvSpPr/>
            <p:nvPr/>
          </p:nvSpPr>
          <p:spPr>
            <a:xfrm>
              <a:off x="2124000" y="3355920"/>
              <a:ext cx="657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جلوتاميك                   جاما أمينو بيوتريك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GAB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أحد الناقلات العصبية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 flipH="1">
              <a:off x="6443640" y="357336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0"/>
          <p:cNvGrpSpPr/>
          <p:nvPr/>
        </p:nvGrpSpPr>
        <p:grpSpPr>
          <a:xfrm>
            <a:off x="1835280" y="4221000"/>
            <a:ext cx="6867360" cy="978120"/>
            <a:chOff x="1835280" y="4221000"/>
            <a:chExt cx="6867360" cy="978120"/>
          </a:xfrm>
        </p:grpSpPr>
        <p:sp>
          <p:nvSpPr>
            <p:cNvPr id="219" name="Rectangle 10"/>
            <p:cNvSpPr/>
            <p:nvPr/>
          </p:nvSpPr>
          <p:spPr>
            <a:xfrm>
              <a:off x="1835280" y="4221000"/>
              <a:ext cx="6867360" cy="9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ريبتوفان                    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-هيدروكسي تريبتوفان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      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سيروتوني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أحد الناقلات العصبية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 ويساعد على نشوء الإحساس بالأل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 flipH="1">
              <a:off x="6443640" y="44366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6"/>
            <p:cNvSpPr/>
            <p:nvPr/>
          </p:nvSpPr>
          <p:spPr>
            <a:xfrm flipH="1">
              <a:off x="2987640" y="443664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8"/>
          <p:cNvGrpSpPr/>
          <p:nvPr/>
        </p:nvGrpSpPr>
        <p:grpSpPr>
          <a:xfrm>
            <a:off x="4680" y="5157720"/>
            <a:ext cx="9389160" cy="1008720"/>
            <a:chOff x="4680" y="5157720"/>
            <a:chExt cx="9389160" cy="1008720"/>
          </a:xfrm>
        </p:grpSpPr>
        <p:sp>
          <p:nvSpPr>
            <p:cNvPr id="223" name="Rectangle 11"/>
            <p:cNvSpPr/>
            <p:nvPr/>
          </p:nvSpPr>
          <p:spPr>
            <a:xfrm>
              <a:off x="4680" y="5157720"/>
              <a:ext cx="938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ايروسين                  داي هيدروكسي فينيل ألانين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Dopa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)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            دوبامين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(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Dopamin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دوبا يدخل في تركيب صبغة الميلاني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دوبامين أحد الناقلات العصبية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</a:t>
              </a:r>
              <a:r>
                <a:rPr b="0" lang="ar-SA" sz="20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5"/>
            <p:cNvSpPr/>
            <p:nvPr/>
          </p:nvSpPr>
          <p:spPr>
            <a:xfrm flipH="1">
              <a:off x="6804000" y="5373720"/>
              <a:ext cx="90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7"/>
            <p:cNvSpPr/>
            <p:nvPr/>
          </p:nvSpPr>
          <p:spPr>
            <a:xfrm flipH="1">
              <a:off x="2842920" y="5373720"/>
              <a:ext cx="71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5"/>
          <p:cNvSpPr/>
          <p:nvPr/>
        </p:nvSpPr>
        <p:spPr>
          <a:xfrm>
            <a:off x="324000" y="11592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تحلل الأحماض الأمينية (عشرون حمض أميني) إلى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ركبات وسطية ه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البيروفيت 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أسيتيل كو أ   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أسيتو أستيل كو 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ألفا كيتو جلوتارات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سكسينيل كو أ    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فيوما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أوكسالو أسيت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وبالتالي يمكن تقسيم الأحماض الأمينية حسب مساراتها الأيضية إ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250920" y="27288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الأحماض الأمينية الجلوكوجينية (المولدة للجلوكوز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cogenic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 حمضاً أمينياً وتعطي مركبات وسيطة (مثل البيروفيت، ألفا كيتو جلوتارات، سكسينيل كو أ، فيومارات، أوكسالو أسيتات) ممكن أن تتحول إلى جلوكو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250920" y="402588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الأحماض الأمينية الكيتوجينية (المولدة للأجسام الكيتونية)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etogenic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هي الاحماض التي تؤدي إلى تكوين أجسام كيتونية وتتحلل إلى أسيتيل كو أ و أسيتو أستيل كو أ ولا تؤدي إلى تكوين الجلوكوز في الثدييات. وعددها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أحماض ومن أمثلتها الليوسين واللايسي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250920" y="538020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يلاحظ أن العدد (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18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+ 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25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) يفوق عدد الأحماض الأمينية (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) وهذا لأنه يوجد 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أحماض تكون جلوكوجينية وكيتوجينية في نفس الوقت وهي: آيزوليوسن ، ثريونين، تريبتوفان، فينيل ألانين، تايروس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1620720" y="404640"/>
            <a:ext cx="6336000" cy="93672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592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إخراج الفضلات النيتروجي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3870000"/>
            <a:ext cx="8964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خرجات الأمونيا (كائنات أمونية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monotelic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خرجات حامض البوليك (كائنات يوريكية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icotelic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خرجات اليوريا (كائنات يورية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eotelic organism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79280" y="1557360"/>
            <a:ext cx="86821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ؤدي أيض المركبات النيتروجينية إلى إنتاج الأمونيا التي تعتبر من أكثر المواد سمية للجهاز العص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ختلف الكائنات الحية في طريقة إخراجها للمواد النيتروجينية حسب طبيعتها وطريقة حياتها ولذا فقد قسمت إلى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5"/>
          <p:cNvSpPr/>
          <p:nvPr/>
        </p:nvSpPr>
        <p:spPr>
          <a:xfrm>
            <a:off x="108000" y="846000"/>
            <a:ext cx="8835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خلص الإنسان من الفضلات النيتروجينية في صورة يو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ركيز اليوريا في دم الإنسان الطبيعي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جم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قل عن ذلك في الأطفال والسيدات الحوامل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(لماذا؟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يزيد عند الشيخوخة وأمراض الكلى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(لماذا؟)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و زاد تركيز اليوريا في الدم ع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جم% فإنه يمثل خطر على الحياة وممكن أن يؤدي إلى الوفا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كذلك لو زادت الأمونيا ع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مجم% يمثل خطر على الحياة </a:t>
            </a:r>
            <a:r>
              <a:rPr b="0" lang="ar-SA" sz="2800" spc="-1" strike="noStrike">
                <a:solidFill>
                  <a:srgbClr val="0000ff"/>
                </a:solidFill>
                <a:latin typeface="Arial"/>
              </a:rPr>
              <a:t>(لماذا؟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108000" y="404640"/>
            <a:ext cx="8835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تم عملية نزع الأمين من الأحماض الأمينية في معظم الأنسجة بينما تتكون اليوريا من الأمونيا في الكبد والكليت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تم نقل الأمونيا عن طريق حمض الجلوتاميك الذي يتحد مع الأمونيا فيتحول إلى جلوتام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22"/>
          <p:cNvGrpSpPr/>
          <p:nvPr/>
        </p:nvGrpSpPr>
        <p:grpSpPr>
          <a:xfrm>
            <a:off x="80280" y="2924280"/>
            <a:ext cx="8948160" cy="1036440"/>
            <a:chOff x="80280" y="2924280"/>
            <a:chExt cx="8948160" cy="1036440"/>
          </a:xfrm>
        </p:grpSpPr>
        <p:sp>
          <p:nvSpPr>
            <p:cNvPr id="237" name="Rectangle 3"/>
            <p:cNvSpPr/>
            <p:nvPr/>
          </p:nvSpPr>
          <p:spPr>
            <a:xfrm>
              <a:off x="80280" y="3060720"/>
              <a:ext cx="894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tamate + N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ATP                  Glutamine + ADP + Pi +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"/>
            <p:cNvSpPr/>
            <p:nvPr/>
          </p:nvSpPr>
          <p:spPr>
            <a:xfrm>
              <a:off x="3708360" y="3284640"/>
              <a:ext cx="1403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3564360" y="2995560"/>
              <a:ext cx="149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lutamine synthet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1908000" y="2924280"/>
              <a:ext cx="935280" cy="720720"/>
            </a:xfrm>
            <a:prstGeom prst="ellipse">
              <a:avLst/>
            </a:prstGeom>
            <a:solidFill>
              <a:srgbClr val="339966">
                <a:alpha val="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471600" y="359244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مادة سام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 flipV="1">
              <a:off x="1547640" y="36446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5076720" y="2924280"/>
              <a:ext cx="1654200" cy="720720"/>
            </a:xfrm>
            <a:prstGeom prst="ellipse">
              <a:avLst/>
            </a:prstGeom>
            <a:solidFill>
              <a:srgbClr val="339966">
                <a:alpha val="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3348720" y="3592440"/>
              <a:ext cx="154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Arial"/>
                </a:rPr>
                <a:t>مادة غير سام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 flipV="1">
              <a:off x="4789440" y="3644640"/>
              <a:ext cx="3603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12"/>
          <p:cNvSpPr/>
          <p:nvPr/>
        </p:nvSpPr>
        <p:spPr>
          <a:xfrm>
            <a:off x="108000" y="4216320"/>
            <a:ext cx="883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صل الجلوتامين (مركب غير سام) إلى الكبد والكليتين حيث يتحلل إلى جلوتاميك وأمونيا بواسطة إنزيم جلوتاميني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046160" y="5510160"/>
            <a:ext cx="736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tamin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                          Glutamate 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4105440" y="5734080"/>
            <a:ext cx="1690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322160" y="54450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lutamin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2659680" y="2328840"/>
            <a:ext cx="21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لفا كيتو جلوتار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Kito glut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5072040" y="2328840"/>
            <a:ext cx="189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حمض جلوتامي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-Gluta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949840" y="2160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حمض أمي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mino aci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5191560" y="21600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حمض كيتون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Kit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225520" y="1327320"/>
            <a:ext cx="21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Trans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181120" y="13492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0000ff"/>
                </a:solidFill>
                <a:latin typeface="Arial"/>
              </a:rPr>
              <a:t>نقل الأمي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136160" y="4365720"/>
            <a:ext cx="2679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0000ff"/>
                </a:solidFill>
                <a:latin typeface="Arial"/>
              </a:rPr>
              <a:t>نقل الأمون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Ammonia transport</a:t>
            </a:r>
            <a:r>
              <a:rPr b="1" i="1" lang="ar-SA" sz="1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524120" y="5925960"/>
            <a:ext cx="7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يور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re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2890440" y="5157720"/>
            <a:ext cx="44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0000ff"/>
                </a:solidFill>
                <a:latin typeface="Times New Roman"/>
              </a:rPr>
              <a:t>تفاعلات دورة اليوريا           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Urea cycle</a:t>
            </a:r>
            <a:r>
              <a:rPr b="1" i="1" lang="ar-SA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643280" y="3714840"/>
            <a:ext cx="108108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524040" y="4321080"/>
            <a:ext cx="7369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أمون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947960" y="3525840"/>
            <a:ext cx="53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600" spc="-1" strike="noStrike">
                <a:solidFill>
                  <a:srgbClr val="0000ff"/>
                </a:solidFill>
                <a:latin typeface="Times New Roman"/>
              </a:rPr>
              <a:t>النزع التأكسدي للأمين                   </a:t>
            </a:r>
            <a:r>
              <a:rPr b="1" i="1" lang="en-US" sz="1600" spc="-1" strike="noStrike">
                <a:solidFill>
                  <a:srgbClr val="0000ff"/>
                </a:solidFill>
                <a:latin typeface="Times New Roman"/>
              </a:rPr>
              <a:t>Oxidative de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4976280" y="4249800"/>
            <a:ext cx="2087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ثاني أكسيد الكربو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15"/>
          <p:cNvSpPr/>
          <p:nvPr/>
        </p:nvSpPr>
        <p:spPr>
          <a:xfrm>
            <a:off x="4140360" y="1557360"/>
            <a:ext cx="1223640" cy="1079640"/>
          </a:xfrm>
          <a:custGeom>
            <a:avLst/>
            <a:gdLst>
              <a:gd name="textAreaLeft" fmla="*/ 178920 w 1223640"/>
              <a:gd name="textAreaRight" fmla="*/ 1044720 w 122364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20094" y="11701"/>
                </a:moveTo>
                <a:cubicBezTo>
                  <a:pt x="20123" y="11402"/>
                  <a:pt x="20138" y="11101"/>
                  <a:pt x="20138" y="10800"/>
                </a:cubicBezTo>
                <a:cubicBezTo>
                  <a:pt x="20138" y="5642"/>
                  <a:pt x="15957" y="1462"/>
                  <a:pt x="10800" y="1462"/>
                </a:cubicBezTo>
                <a:cubicBezTo>
                  <a:pt x="5642" y="1462"/>
                  <a:pt x="1462" y="5642"/>
                  <a:pt x="1462" y="10800"/>
                </a:cubicBezTo>
                <a:cubicBezTo>
                  <a:pt x="1461" y="11189"/>
                  <a:pt x="1486" y="11578"/>
                  <a:pt x="1534" y="11964"/>
                </a:cubicBezTo>
                <a:lnTo>
                  <a:pt x="84" y="12146"/>
                </a:lnTo>
                <a:cubicBezTo>
                  <a:pt x="28" y="11699"/>
                  <a:pt x="0" y="11250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148"/>
                  <a:pt x="21583" y="11496"/>
                  <a:pt x="21549" y="11843"/>
                </a:cubicBezTo>
                <a:lnTo>
                  <a:pt x="24236" y="12103"/>
                </a:lnTo>
                <a:lnTo>
                  <a:pt x="20490" y="15187"/>
                </a:lnTo>
                <a:lnTo>
                  <a:pt x="17406" y="11441"/>
                </a:lnTo>
                <a:lnTo>
                  <a:pt x="20094" y="11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16"/>
          <p:cNvSpPr/>
          <p:nvPr/>
        </p:nvSpPr>
        <p:spPr>
          <a:xfrm flipV="1">
            <a:off x="4067280" y="549000"/>
            <a:ext cx="1296720" cy="1079280"/>
          </a:xfrm>
          <a:custGeom>
            <a:avLst/>
            <a:gdLst>
              <a:gd name="textAreaLeft" fmla="*/ 189720 w 1296720"/>
              <a:gd name="textAreaRight" fmla="*/ 1107000 w 129672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20094" y="11701"/>
                </a:moveTo>
                <a:cubicBezTo>
                  <a:pt x="20123" y="11402"/>
                  <a:pt x="20138" y="11101"/>
                  <a:pt x="20138" y="10800"/>
                </a:cubicBezTo>
                <a:cubicBezTo>
                  <a:pt x="20138" y="5642"/>
                  <a:pt x="15957" y="1462"/>
                  <a:pt x="10800" y="1462"/>
                </a:cubicBezTo>
                <a:cubicBezTo>
                  <a:pt x="5642" y="1462"/>
                  <a:pt x="1462" y="5642"/>
                  <a:pt x="1462" y="10800"/>
                </a:cubicBezTo>
                <a:cubicBezTo>
                  <a:pt x="1461" y="11189"/>
                  <a:pt x="1486" y="11578"/>
                  <a:pt x="1534" y="11964"/>
                </a:cubicBezTo>
                <a:lnTo>
                  <a:pt x="84" y="12146"/>
                </a:lnTo>
                <a:cubicBezTo>
                  <a:pt x="28" y="11699"/>
                  <a:pt x="0" y="11250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148"/>
                  <a:pt x="21583" y="11496"/>
                  <a:pt x="21549" y="11843"/>
                </a:cubicBezTo>
                <a:lnTo>
                  <a:pt x="24236" y="12103"/>
                </a:lnTo>
                <a:lnTo>
                  <a:pt x="20490" y="15187"/>
                </a:lnTo>
                <a:lnTo>
                  <a:pt x="17406" y="11441"/>
                </a:lnTo>
                <a:lnTo>
                  <a:pt x="20094" y="11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17"/>
          <p:cNvSpPr/>
          <p:nvPr/>
        </p:nvSpPr>
        <p:spPr>
          <a:xfrm flipH="1" flipV="1">
            <a:off x="4282200" y="2780640"/>
            <a:ext cx="1297080" cy="934920"/>
          </a:xfrm>
          <a:custGeom>
            <a:avLst/>
            <a:gdLst>
              <a:gd name="textAreaLeft" fmla="*/ 189720 w 1297080"/>
              <a:gd name="textAreaRight" fmla="*/ 1107360 w 1297080"/>
              <a:gd name="textAreaTop" fmla="*/ 136800 h 934920"/>
              <a:gd name="textAreaBottom" fmla="*/ 798120 h 934920"/>
            </a:gdLst>
            <a:ahLst/>
            <a:rect l="textAreaLeft" t="textAreaTop" r="textAreaRight" b="textAreaBottom"/>
            <a:pathLst>
              <a:path w="21600" h="21600">
                <a:moveTo>
                  <a:pt x="20094" y="11701"/>
                </a:moveTo>
                <a:cubicBezTo>
                  <a:pt x="20123" y="11402"/>
                  <a:pt x="20138" y="11101"/>
                  <a:pt x="20138" y="10800"/>
                </a:cubicBezTo>
                <a:cubicBezTo>
                  <a:pt x="20138" y="5642"/>
                  <a:pt x="15957" y="1462"/>
                  <a:pt x="10800" y="1462"/>
                </a:cubicBezTo>
                <a:cubicBezTo>
                  <a:pt x="5642" y="1462"/>
                  <a:pt x="1462" y="5642"/>
                  <a:pt x="1462" y="10800"/>
                </a:cubicBezTo>
                <a:cubicBezTo>
                  <a:pt x="1461" y="11557"/>
                  <a:pt x="1554" y="12311"/>
                  <a:pt x="1736" y="13047"/>
                </a:cubicBezTo>
                <a:lnTo>
                  <a:pt x="317" y="13398"/>
                </a:lnTo>
                <a:cubicBezTo>
                  <a:pt x="106" y="12548"/>
                  <a:pt x="0" y="11675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148"/>
                  <a:pt x="21583" y="11496"/>
                  <a:pt x="21549" y="11843"/>
                </a:cubicBezTo>
                <a:lnTo>
                  <a:pt x="24236" y="12103"/>
                </a:lnTo>
                <a:lnTo>
                  <a:pt x="20490" y="15187"/>
                </a:lnTo>
                <a:lnTo>
                  <a:pt x="17406" y="11441"/>
                </a:lnTo>
                <a:lnTo>
                  <a:pt x="20094" y="11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18"/>
          <p:cNvSpPr/>
          <p:nvPr/>
        </p:nvSpPr>
        <p:spPr>
          <a:xfrm flipH="1">
            <a:off x="4282200" y="3645000"/>
            <a:ext cx="1297080" cy="936360"/>
          </a:xfrm>
          <a:custGeom>
            <a:avLst/>
            <a:gdLst>
              <a:gd name="textAreaLeft" fmla="*/ 189720 w 1297080"/>
              <a:gd name="textAreaRight" fmla="*/ 1107360 w 1297080"/>
              <a:gd name="textAreaTop" fmla="*/ 137160 h 936360"/>
              <a:gd name="textAreaBottom" fmla="*/ 799200 h 936360"/>
            </a:gdLst>
            <a:ahLst/>
            <a:rect l="textAreaLeft" t="textAreaTop" r="textAreaRight" b="textAreaBottom"/>
            <a:pathLst>
              <a:path w="21600" h="21600">
                <a:moveTo>
                  <a:pt x="20094" y="11701"/>
                </a:moveTo>
                <a:cubicBezTo>
                  <a:pt x="20123" y="11402"/>
                  <a:pt x="20138" y="11101"/>
                  <a:pt x="20138" y="10800"/>
                </a:cubicBezTo>
                <a:cubicBezTo>
                  <a:pt x="20138" y="5769"/>
                  <a:pt x="16152" y="1642"/>
                  <a:pt x="11125" y="1467"/>
                </a:cubicBezTo>
                <a:lnTo>
                  <a:pt x="11176" y="6"/>
                </a:lnTo>
                <a:cubicBezTo>
                  <a:pt x="16991" y="209"/>
                  <a:pt x="21600" y="4981"/>
                  <a:pt x="21600" y="10800"/>
                </a:cubicBezTo>
                <a:cubicBezTo>
                  <a:pt x="21600" y="11148"/>
                  <a:pt x="21583" y="11496"/>
                  <a:pt x="21549" y="11843"/>
                </a:cubicBezTo>
                <a:lnTo>
                  <a:pt x="24236" y="12103"/>
                </a:lnTo>
                <a:lnTo>
                  <a:pt x="20490" y="15187"/>
                </a:lnTo>
                <a:lnTo>
                  <a:pt x="17406" y="11441"/>
                </a:lnTo>
                <a:lnTo>
                  <a:pt x="20094" y="1170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9"/>
          <p:cNvSpPr/>
          <p:nvPr/>
        </p:nvSpPr>
        <p:spPr>
          <a:xfrm flipV="1" rot="5400000">
            <a:off x="4412160" y="5169960"/>
            <a:ext cx="1798920" cy="936720"/>
          </a:xfrm>
          <a:custGeom>
            <a:avLst/>
            <a:gdLst>
              <a:gd name="textAreaLeft" fmla="*/ 263160 w 1798920"/>
              <a:gd name="textAreaRight" fmla="*/ 1535760 w 1798920"/>
              <a:gd name="textAreaTop" fmla="*/ 137160 h 936720"/>
              <a:gd name="textAreaBottom" fmla="*/ 799560 h 936720"/>
            </a:gdLst>
            <a:ahLst/>
            <a:rect l="textAreaLeft" t="textAreaTop" r="textAreaRight" b="textAreaBottom"/>
            <a:pathLst>
              <a:path w="21600" h="21600">
                <a:moveTo>
                  <a:pt x="10494" y="1610"/>
                </a:moveTo>
                <a:cubicBezTo>
                  <a:pt x="5538" y="1774"/>
                  <a:pt x="1605" y="5840"/>
                  <a:pt x="1605" y="10799"/>
                </a:cubicBezTo>
                <a:cubicBezTo>
                  <a:pt x="1604" y="11183"/>
                  <a:pt x="1628" y="11566"/>
                  <a:pt x="1676" y="11946"/>
                </a:cubicBezTo>
                <a:lnTo>
                  <a:pt x="84" y="12146"/>
                </a:lnTo>
                <a:cubicBezTo>
                  <a:pt x="28" y="11699"/>
                  <a:pt x="0" y="11250"/>
                  <a:pt x="0" y="10800"/>
                </a:cubicBezTo>
                <a:cubicBezTo>
                  <a:pt x="-1" y="4974"/>
                  <a:pt x="4619" y="199"/>
                  <a:pt x="10441" y="5"/>
                </a:cubicBezTo>
                <a:lnTo>
                  <a:pt x="10352" y="-2693"/>
                </a:lnTo>
                <a:lnTo>
                  <a:pt x="13969" y="691"/>
                </a:lnTo>
                <a:lnTo>
                  <a:pt x="10584" y="4308"/>
                </a:lnTo>
                <a:lnTo>
                  <a:pt x="10494" y="161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0"/>
          <p:cNvSpPr/>
          <p:nvPr/>
        </p:nvSpPr>
        <p:spPr>
          <a:xfrm rot="5400000">
            <a:off x="3527280" y="5192640"/>
            <a:ext cx="1873440" cy="936720"/>
          </a:xfrm>
          <a:custGeom>
            <a:avLst/>
            <a:gdLst>
              <a:gd name="textAreaLeft" fmla="*/ 274320 w 1873440"/>
              <a:gd name="textAreaRight" fmla="*/ 1599120 w 1873440"/>
              <a:gd name="textAreaTop" fmla="*/ 137160 h 936720"/>
              <a:gd name="textAreaBottom" fmla="*/ 799560 h 936720"/>
            </a:gdLst>
            <a:ahLst/>
            <a:rect l="textAreaLeft" t="textAreaTop" r="textAreaRight" b="textAreaBottom"/>
            <a:pathLst>
              <a:path w="21600" h="21600">
                <a:moveTo>
                  <a:pt x="10284" y="1688"/>
                </a:moveTo>
                <a:cubicBezTo>
                  <a:pt x="5452" y="1962"/>
                  <a:pt x="1674" y="5960"/>
                  <a:pt x="1674" y="10799"/>
                </a:cubicBezTo>
                <a:cubicBezTo>
                  <a:pt x="1673" y="11314"/>
                  <a:pt x="1717" y="11827"/>
                  <a:pt x="1804" y="12335"/>
                </a:cubicBezTo>
                <a:lnTo>
                  <a:pt x="153" y="12616"/>
                </a:lnTo>
                <a:cubicBezTo>
                  <a:pt x="51" y="12016"/>
                  <a:pt x="0" y="11408"/>
                  <a:pt x="0" y="10800"/>
                </a:cubicBezTo>
                <a:cubicBezTo>
                  <a:pt x="-1" y="5072"/>
                  <a:pt x="4471" y="341"/>
                  <a:pt x="10189" y="17"/>
                </a:cubicBezTo>
                <a:lnTo>
                  <a:pt x="10036" y="-2679"/>
                </a:lnTo>
                <a:lnTo>
                  <a:pt x="13768" y="652"/>
                </a:lnTo>
                <a:lnTo>
                  <a:pt x="10436" y="4384"/>
                </a:lnTo>
                <a:lnTo>
                  <a:pt x="10284" y="168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9"/>
          <p:cNvSpPr/>
          <p:nvPr/>
        </p:nvSpPr>
        <p:spPr>
          <a:xfrm>
            <a:off x="1477080" y="328680"/>
            <a:ext cx="59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ة تكوين اليوريا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Urea Cyc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468360" y="2158920"/>
            <a:ext cx="849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عتبر دورة تكوين اليوريا أول مسار أيضي حلقي تم اكتشافه وذلك عا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932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بواسطة العالمين هانز كرب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s Kre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 كورت هنزلاي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urt Hensele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بدأ دورة اليوريا بتكاثف الأمونيوم مع ثاني أكسيد الكربون لتكوين كربامويل فوسفات الذي يدخل سلسلة من التفاعالات حتى ينتهي بتكوين اليو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411480" y="117360"/>
            <a:ext cx="8116200" cy="6246720"/>
            <a:chOff x="411480" y="117360"/>
            <a:chExt cx="8116200" cy="6246720"/>
          </a:xfrm>
        </p:grpSpPr>
        <p:sp>
          <p:nvSpPr>
            <p:cNvPr id="272" name="Text Box 3"/>
            <p:cNvSpPr/>
            <p:nvPr/>
          </p:nvSpPr>
          <p:spPr>
            <a:xfrm>
              <a:off x="4635000" y="1424880"/>
              <a:ext cx="14137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ورنيثي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4"/>
            <p:cNvSpPr/>
            <p:nvPr/>
          </p:nvSpPr>
          <p:spPr>
            <a:xfrm>
              <a:off x="4875480" y="4693680"/>
              <a:ext cx="14976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سترولي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5"/>
            <p:cNvSpPr/>
            <p:nvPr/>
          </p:nvSpPr>
          <p:spPr>
            <a:xfrm>
              <a:off x="411480" y="4425840"/>
              <a:ext cx="2704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رجنينوسكسينا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6"/>
            <p:cNvSpPr/>
            <p:nvPr/>
          </p:nvSpPr>
          <p:spPr>
            <a:xfrm>
              <a:off x="1562400" y="1535760"/>
              <a:ext cx="1329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رجيني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7"/>
            <p:cNvSpPr/>
            <p:nvPr/>
          </p:nvSpPr>
          <p:spPr>
            <a:xfrm>
              <a:off x="5422320" y="721440"/>
              <a:ext cx="310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ثاني أكسيد الكربون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 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موني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8"/>
            <p:cNvSpPr/>
            <p:nvPr/>
          </p:nvSpPr>
          <p:spPr>
            <a:xfrm>
              <a:off x="6191280" y="2356560"/>
              <a:ext cx="208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اربامويل فوسف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7008480" y="1615680"/>
              <a:ext cx="0" cy="805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0"/>
            <p:cNvSpPr/>
            <p:nvPr/>
          </p:nvSpPr>
          <p:spPr>
            <a:xfrm>
              <a:off x="6986880" y="3507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1"/>
            <p:cNvSpPr/>
            <p:nvPr/>
          </p:nvSpPr>
          <p:spPr>
            <a:xfrm>
              <a:off x="3813840" y="59821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12"/>
            <p:cNvSpPr/>
            <p:nvPr/>
          </p:nvSpPr>
          <p:spPr>
            <a:xfrm>
              <a:off x="2165760" y="5982120"/>
              <a:ext cx="114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MP +PP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3"/>
            <p:cNvSpPr/>
            <p:nvPr/>
          </p:nvSpPr>
          <p:spPr>
            <a:xfrm>
              <a:off x="4912560" y="5828400"/>
              <a:ext cx="108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أسبارت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14"/>
            <p:cNvSpPr/>
            <p:nvPr/>
          </p:nvSpPr>
          <p:spPr>
            <a:xfrm>
              <a:off x="438840" y="2872080"/>
              <a:ext cx="111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فيومار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15"/>
            <p:cNvSpPr/>
            <p:nvPr/>
          </p:nvSpPr>
          <p:spPr>
            <a:xfrm>
              <a:off x="3021840" y="3157920"/>
              <a:ext cx="194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  <a:cs typeface="PT Bold Heading"/>
                </a:rPr>
                <a:t>دورة اليوري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rc 16"/>
            <p:cNvSpPr/>
            <p:nvPr/>
          </p:nvSpPr>
          <p:spPr>
            <a:xfrm flipH="1">
              <a:off x="2606760" y="952560"/>
              <a:ext cx="2689200" cy="2345760"/>
            </a:xfrm>
            <a:custGeom>
              <a:avLst/>
              <a:gdLst>
                <a:gd name="textAreaLeft" fmla="*/ 0 w 2689200"/>
                <a:gd name="textAreaRight" fmla="*/ 2689200 w 2689200"/>
                <a:gd name="textAreaTop" fmla="*/ 0 h 2345760"/>
                <a:gd name="textAreaBottom" fmla="*/ 2346120 h 2345760"/>
              </a:gdLst>
              <a:ahLst/>
              <a:rect l="textAreaLeft" t="textAreaTop" r="textAreaRight" b="textAreaBottom"/>
              <a:pathLst>
                <a:path fill="none" w="25947" h="21600">
                  <a:moveTo>
                    <a:pt x="0" y="4117"/>
                  </a:moveTo>
                  <a:cubicBezTo>
                    <a:pt x="3688" y="1441"/>
                    <a:pt x="8128" y="-1"/>
                    <a:pt x="12685" y="0"/>
                  </a:cubicBezTo>
                  <a:cubicBezTo>
                    <a:pt x="17488" y="0"/>
                    <a:pt x="22155" y="1601"/>
                    <a:pt x="25946" y="4550"/>
                  </a:cubicBezTo>
                </a:path>
                <a:path stroke="0" w="25947" h="21600">
                  <a:moveTo>
                    <a:pt x="0" y="4117"/>
                  </a:moveTo>
                  <a:cubicBezTo>
                    <a:pt x="3688" y="1441"/>
                    <a:pt x="8128" y="-1"/>
                    <a:pt x="12685" y="0"/>
                  </a:cubicBezTo>
                  <a:cubicBezTo>
                    <a:pt x="17488" y="0"/>
                    <a:pt x="22155" y="1601"/>
                    <a:pt x="25946" y="4550"/>
                  </a:cubicBezTo>
                  <a:lnTo>
                    <a:pt x="12685" y="21600"/>
                  </a:lnTo>
                  <a:lnTo>
                    <a:pt x="0" y="4117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rc 17"/>
            <p:cNvSpPr/>
            <p:nvPr/>
          </p:nvSpPr>
          <p:spPr>
            <a:xfrm flipH="1">
              <a:off x="3963240" y="1899000"/>
              <a:ext cx="2239200" cy="2602080"/>
            </a:xfrm>
            <a:custGeom>
              <a:avLst/>
              <a:gdLst>
                <a:gd name="textAreaLeft" fmla="*/ 360 w 2239200"/>
                <a:gd name="textAreaRight" fmla="*/ 2239920 w 2239200"/>
                <a:gd name="textAreaTop" fmla="*/ 0 h 2602080"/>
                <a:gd name="textAreaBottom" fmla="*/ 2602440 h 2602080"/>
              </a:gdLst>
              <a:ahLst/>
              <a:rect l="textAreaLeft" t="textAreaTop" r="textAreaRight" b="textAreaBottom"/>
              <a:pathLst>
                <a:path fill="none" w="21600" h="23955">
                  <a:moveTo>
                    <a:pt x="2866" y="23954"/>
                  </a:moveTo>
                  <a:cubicBezTo>
                    <a:pt x="988" y="20682"/>
                    <a:pt x="0" y="16975"/>
                    <a:pt x="0" y="13203"/>
                  </a:cubicBezTo>
                  <a:cubicBezTo>
                    <a:pt x="-1" y="8424"/>
                    <a:pt x="1584" y="3781"/>
                    <a:pt x="4504" y="-1"/>
                  </a:cubicBezTo>
                </a:path>
                <a:path stroke="0" w="21600" h="23955">
                  <a:moveTo>
                    <a:pt x="2866" y="23954"/>
                  </a:moveTo>
                  <a:cubicBezTo>
                    <a:pt x="988" y="20682"/>
                    <a:pt x="0" y="16975"/>
                    <a:pt x="0" y="13203"/>
                  </a:cubicBezTo>
                  <a:cubicBezTo>
                    <a:pt x="-1" y="8424"/>
                    <a:pt x="1584" y="3781"/>
                    <a:pt x="4504" y="-1"/>
                  </a:cubicBezTo>
                  <a:lnTo>
                    <a:pt x="21600" y="13203"/>
                  </a:lnTo>
                  <a:lnTo>
                    <a:pt x="2866" y="23954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rc 18"/>
            <p:cNvSpPr/>
            <p:nvPr/>
          </p:nvSpPr>
          <p:spPr>
            <a:xfrm flipH="1">
              <a:off x="2296080" y="3297240"/>
              <a:ext cx="3050640" cy="2345760"/>
            </a:xfrm>
            <a:custGeom>
              <a:avLst/>
              <a:gdLst>
                <a:gd name="textAreaLeft" fmla="*/ 360 w 3050640"/>
                <a:gd name="textAreaRight" fmla="*/ 3051360 w 3050640"/>
                <a:gd name="textAreaTop" fmla="*/ 0 h 2345760"/>
                <a:gd name="textAreaBottom" fmla="*/ 2346120 h 2345760"/>
              </a:gdLst>
              <a:ahLst/>
              <a:rect l="textAreaLeft" t="textAreaTop" r="textAreaRight" b="textAreaBottom"/>
              <a:pathLst>
                <a:path fill="none" w="29427" h="21600">
                  <a:moveTo>
                    <a:pt x="29427" y="14207"/>
                  </a:moveTo>
                  <a:cubicBezTo>
                    <a:pt x="25325" y="18904"/>
                    <a:pt x="19393" y="21599"/>
                    <a:pt x="13157" y="21600"/>
                  </a:cubicBezTo>
                  <a:cubicBezTo>
                    <a:pt x="8398" y="21600"/>
                    <a:pt x="3773" y="20028"/>
                    <a:pt x="-1" y="17130"/>
                  </a:cubicBezTo>
                </a:path>
                <a:path stroke="0" w="29427" h="21600">
                  <a:moveTo>
                    <a:pt x="29427" y="14207"/>
                  </a:moveTo>
                  <a:cubicBezTo>
                    <a:pt x="25325" y="18904"/>
                    <a:pt x="19393" y="21599"/>
                    <a:pt x="13157" y="21600"/>
                  </a:cubicBezTo>
                  <a:cubicBezTo>
                    <a:pt x="8398" y="21600"/>
                    <a:pt x="3773" y="20028"/>
                    <a:pt x="-1" y="17130"/>
                  </a:cubicBezTo>
                  <a:lnTo>
                    <a:pt x="13157" y="0"/>
                  </a:lnTo>
                  <a:lnTo>
                    <a:pt x="29427" y="14207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rc 19"/>
            <p:cNvSpPr/>
            <p:nvPr/>
          </p:nvSpPr>
          <p:spPr>
            <a:xfrm flipH="1">
              <a:off x="1741320" y="1956600"/>
              <a:ext cx="2238840" cy="2476080"/>
            </a:xfrm>
            <a:custGeom>
              <a:avLst/>
              <a:gdLst>
                <a:gd name="textAreaLeft" fmla="*/ -360 w 2238840"/>
                <a:gd name="textAreaRight" fmla="*/ 2238840 w 2238840"/>
                <a:gd name="textAreaTop" fmla="*/ 0 h 2476080"/>
                <a:gd name="textAreaBottom" fmla="*/ 2476080 h 2476080"/>
              </a:gdLst>
              <a:ahLst/>
              <a:rect l="textAreaLeft" t="textAreaTop" r="textAreaRight" b="textAreaBottom"/>
              <a:pathLst>
                <a:path fill="none" w="21600" h="22802">
                  <a:moveTo>
                    <a:pt x="17721" y="-1"/>
                  </a:moveTo>
                  <a:cubicBezTo>
                    <a:pt x="20246" y="3623"/>
                    <a:pt x="21600" y="7933"/>
                    <a:pt x="21600" y="12350"/>
                  </a:cubicBezTo>
                  <a:cubicBezTo>
                    <a:pt x="21600" y="16006"/>
                    <a:pt x="20671" y="19602"/>
                    <a:pt x="18902" y="22801"/>
                  </a:cubicBezTo>
                </a:path>
                <a:path stroke="0" w="21600" h="22802">
                  <a:moveTo>
                    <a:pt x="17721" y="-1"/>
                  </a:moveTo>
                  <a:cubicBezTo>
                    <a:pt x="20246" y="3623"/>
                    <a:pt x="21600" y="7933"/>
                    <a:pt x="21600" y="12350"/>
                  </a:cubicBezTo>
                  <a:cubicBezTo>
                    <a:pt x="21600" y="16006"/>
                    <a:pt x="20671" y="19602"/>
                    <a:pt x="18902" y="22801"/>
                  </a:cubicBezTo>
                  <a:lnTo>
                    <a:pt x="0" y="12350"/>
                  </a:lnTo>
                  <a:lnTo>
                    <a:pt x="17721" y="-1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rc 20"/>
            <p:cNvSpPr/>
            <p:nvPr/>
          </p:nvSpPr>
          <p:spPr>
            <a:xfrm flipH="1">
              <a:off x="2753640" y="5591160"/>
              <a:ext cx="1362240" cy="772920"/>
            </a:xfrm>
            <a:custGeom>
              <a:avLst/>
              <a:gdLst>
                <a:gd name="textAreaLeft" fmla="*/ 360 w 1362240"/>
                <a:gd name="textAreaRight" fmla="*/ 1362960 w 1362240"/>
                <a:gd name="textAreaTop" fmla="*/ 0 h 772920"/>
                <a:gd name="textAreaBottom" fmla="*/ 773280 h 772920"/>
              </a:gdLst>
              <a:ahLst/>
              <a:rect l="textAreaLeft" t="textAreaTop" r="textAreaRight" b="textAreaBottom"/>
              <a:pathLst>
                <a:path fill="none" w="33917" h="21600">
                  <a:moveTo>
                    <a:pt x="-1" y="9047"/>
                  </a:moveTo>
                  <a:cubicBezTo>
                    <a:pt x="4053" y="3369"/>
                    <a:pt x="10601" y="-1"/>
                    <a:pt x="17578" y="0"/>
                  </a:cubicBezTo>
                  <a:cubicBezTo>
                    <a:pt x="23850" y="0"/>
                    <a:pt x="29813" y="2727"/>
                    <a:pt x="33916" y="7472"/>
                  </a:cubicBezTo>
                </a:path>
                <a:path stroke="0" w="33917" h="21600">
                  <a:moveTo>
                    <a:pt x="-1" y="9047"/>
                  </a:moveTo>
                  <a:cubicBezTo>
                    <a:pt x="4053" y="3369"/>
                    <a:pt x="10601" y="-1"/>
                    <a:pt x="17578" y="0"/>
                  </a:cubicBezTo>
                  <a:cubicBezTo>
                    <a:pt x="23850" y="0"/>
                    <a:pt x="29813" y="2727"/>
                    <a:pt x="33916" y="7472"/>
                  </a:cubicBezTo>
                  <a:lnTo>
                    <a:pt x="17578" y="21600"/>
                  </a:lnTo>
                  <a:lnTo>
                    <a:pt x="-1" y="9047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rc 21"/>
            <p:cNvSpPr/>
            <p:nvPr/>
          </p:nvSpPr>
          <p:spPr>
            <a:xfrm flipH="1">
              <a:off x="4567320" y="5511240"/>
              <a:ext cx="888120" cy="491400"/>
            </a:xfrm>
            <a:custGeom>
              <a:avLst/>
              <a:gdLst>
                <a:gd name="textAreaLeft" fmla="*/ -360 w 888120"/>
                <a:gd name="textAreaRight" fmla="*/ 888120 w 88812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fill="none" w="25961" h="21600">
                  <a:moveTo>
                    <a:pt x="-1" y="12648"/>
                  </a:moveTo>
                  <a:cubicBezTo>
                    <a:pt x="3507" y="4944"/>
                    <a:pt x="11192" y="-1"/>
                    <a:pt x="19658" y="0"/>
                  </a:cubicBezTo>
                  <a:cubicBezTo>
                    <a:pt x="21793" y="0"/>
                    <a:pt x="23918" y="316"/>
                    <a:pt x="25960" y="940"/>
                  </a:cubicBezTo>
                </a:path>
                <a:path stroke="0" w="25961" h="21600">
                  <a:moveTo>
                    <a:pt x="-1" y="12648"/>
                  </a:moveTo>
                  <a:cubicBezTo>
                    <a:pt x="3507" y="4944"/>
                    <a:pt x="11192" y="-1"/>
                    <a:pt x="19658" y="0"/>
                  </a:cubicBezTo>
                  <a:cubicBezTo>
                    <a:pt x="21793" y="0"/>
                    <a:pt x="23918" y="316"/>
                    <a:pt x="25960" y="940"/>
                  </a:cubicBezTo>
                  <a:lnTo>
                    <a:pt x="19658" y="21600"/>
                  </a:lnTo>
                  <a:lnTo>
                    <a:pt x="-1" y="12648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rc 22"/>
            <p:cNvSpPr/>
            <p:nvPr/>
          </p:nvSpPr>
          <p:spPr>
            <a:xfrm flipH="1">
              <a:off x="6181920" y="2516760"/>
              <a:ext cx="888480" cy="1101600"/>
            </a:xfrm>
            <a:custGeom>
              <a:avLst/>
              <a:gdLst>
                <a:gd name="textAreaLeft" fmla="*/ 360 w 888480"/>
                <a:gd name="textAreaRight" fmla="*/ 889200 w 888480"/>
                <a:gd name="textAreaTop" fmla="*/ 0 h 1101600"/>
                <a:gd name="textAreaBottom" fmla="*/ 1101960 h 1101600"/>
              </a:gdLst>
              <a:ahLst/>
              <a:rect l="textAreaLeft" t="textAreaTop" r="textAreaRight" b="textAreaBottom"/>
              <a:pathLst>
                <a:path fill="none" w="21600" h="37510">
                  <a:moveTo>
                    <a:pt x="13861" y="-1"/>
                  </a:moveTo>
                  <a:cubicBezTo>
                    <a:pt x="18765" y="4104"/>
                    <a:pt x="21600" y="10170"/>
                    <a:pt x="21600" y="16566"/>
                  </a:cubicBezTo>
                  <a:cubicBezTo>
                    <a:pt x="21600" y="26460"/>
                    <a:pt x="14877" y="35089"/>
                    <a:pt x="5283" y="37509"/>
                  </a:cubicBezTo>
                </a:path>
                <a:path stroke="0" w="21600" h="37510">
                  <a:moveTo>
                    <a:pt x="13861" y="-1"/>
                  </a:moveTo>
                  <a:cubicBezTo>
                    <a:pt x="18765" y="4104"/>
                    <a:pt x="21600" y="10170"/>
                    <a:pt x="21600" y="16566"/>
                  </a:cubicBezTo>
                  <a:cubicBezTo>
                    <a:pt x="21600" y="26460"/>
                    <a:pt x="14877" y="35089"/>
                    <a:pt x="5283" y="37509"/>
                  </a:cubicBezTo>
                  <a:lnTo>
                    <a:pt x="0" y="16566"/>
                  </a:lnTo>
                  <a:lnTo>
                    <a:pt x="13861" y="-1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23"/>
            <p:cNvSpPr/>
            <p:nvPr/>
          </p:nvSpPr>
          <p:spPr>
            <a:xfrm flipH="1">
              <a:off x="494640" y="3062880"/>
              <a:ext cx="1292760" cy="812880"/>
            </a:xfrm>
            <a:custGeom>
              <a:avLst/>
              <a:gdLst>
                <a:gd name="textAreaLeft" fmla="*/ -360 w 1292760"/>
                <a:gd name="textAreaRight" fmla="*/ 1292760 w 1292760"/>
                <a:gd name="textAreaTop" fmla="*/ 0 h 812880"/>
                <a:gd name="textAreaBottom" fmla="*/ 813240 h 812880"/>
              </a:gdLst>
              <a:ahLst/>
              <a:rect l="textAreaLeft" t="textAreaTop" r="textAreaRight" b="textAreaBottom"/>
              <a:pathLst>
                <a:path fill="none" w="21600" h="16515">
                  <a:moveTo>
                    <a:pt x="54" y="16515"/>
                  </a:moveTo>
                  <a:cubicBezTo>
                    <a:pt x="18" y="16003"/>
                    <a:pt x="0" y="15490"/>
                    <a:pt x="0" y="14978"/>
                  </a:cubicBezTo>
                  <a:cubicBezTo>
                    <a:pt x="-1" y="9392"/>
                    <a:pt x="2163" y="4024"/>
                    <a:pt x="6036" y="-1"/>
                  </a:cubicBezTo>
                </a:path>
                <a:path stroke="0" w="21600" h="16515">
                  <a:moveTo>
                    <a:pt x="54" y="16515"/>
                  </a:moveTo>
                  <a:cubicBezTo>
                    <a:pt x="18" y="16003"/>
                    <a:pt x="0" y="15490"/>
                    <a:pt x="0" y="14978"/>
                  </a:cubicBezTo>
                  <a:cubicBezTo>
                    <a:pt x="-1" y="9392"/>
                    <a:pt x="2163" y="4024"/>
                    <a:pt x="6036" y="-1"/>
                  </a:cubicBezTo>
                  <a:lnTo>
                    <a:pt x="21600" y="14978"/>
                  </a:lnTo>
                  <a:lnTo>
                    <a:pt x="54" y="16515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rc 24"/>
            <p:cNvSpPr/>
            <p:nvPr/>
          </p:nvSpPr>
          <p:spPr>
            <a:xfrm flipH="1">
              <a:off x="3232080" y="543600"/>
              <a:ext cx="1463040" cy="420480"/>
            </a:xfrm>
            <a:custGeom>
              <a:avLst/>
              <a:gdLst>
                <a:gd name="textAreaLeft" fmla="*/ 360 w 1463040"/>
                <a:gd name="textAreaRight" fmla="*/ 1463760 w 14630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fill="none" w="41754" h="21600">
                  <a:moveTo>
                    <a:pt x="41753" y="6874"/>
                  </a:moveTo>
                  <a:cubicBezTo>
                    <a:pt x="38800" y="15672"/>
                    <a:pt x="30557" y="21599"/>
                    <a:pt x="21277" y="21600"/>
                  </a:cubicBezTo>
                  <a:cubicBezTo>
                    <a:pt x="10782" y="21600"/>
                    <a:pt x="1806" y="14056"/>
                    <a:pt x="-1" y="3719"/>
                  </a:cubicBezTo>
                </a:path>
                <a:path stroke="0" w="41754" h="21600">
                  <a:moveTo>
                    <a:pt x="41753" y="6874"/>
                  </a:moveTo>
                  <a:cubicBezTo>
                    <a:pt x="38800" y="15672"/>
                    <a:pt x="30557" y="21599"/>
                    <a:pt x="21277" y="21600"/>
                  </a:cubicBezTo>
                  <a:cubicBezTo>
                    <a:pt x="10782" y="21600"/>
                    <a:pt x="1806" y="14056"/>
                    <a:pt x="-1" y="3719"/>
                  </a:cubicBezTo>
                  <a:lnTo>
                    <a:pt x="21277" y="0"/>
                  </a:lnTo>
                  <a:lnTo>
                    <a:pt x="41753" y="6874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5"/>
            <p:cNvSpPr/>
            <p:nvPr/>
          </p:nvSpPr>
          <p:spPr>
            <a:xfrm>
              <a:off x="2737080" y="146880"/>
              <a:ext cx="65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6"/>
            <p:cNvSpPr/>
            <p:nvPr/>
          </p:nvSpPr>
          <p:spPr>
            <a:xfrm>
              <a:off x="4369320" y="117360"/>
              <a:ext cx="871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وري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Oval 27"/>
          <p:cNvSpPr/>
          <p:nvPr/>
        </p:nvSpPr>
        <p:spPr>
          <a:xfrm>
            <a:off x="5796000" y="477720"/>
            <a:ext cx="2448000" cy="1295640"/>
          </a:xfrm>
          <a:prstGeom prst="ellipse">
            <a:avLst/>
          </a:prstGeom>
          <a:solidFill>
            <a:srgbClr val="ffff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1477080" y="328680"/>
            <a:ext cx="59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ة تكوين اليوريا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Urea Cyc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2"/>
          <a:stretch/>
        </p:blipFill>
        <p:spPr>
          <a:xfrm>
            <a:off x="108000" y="3544920"/>
            <a:ext cx="8856720" cy="14684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5"/>
          <p:cNvSpPr/>
          <p:nvPr/>
        </p:nvSpPr>
        <p:spPr>
          <a:xfrm>
            <a:off x="250920" y="1125720"/>
            <a:ext cx="87138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تكوين كاربا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يل فوس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amoyl phosph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من اتحاد أيون أمونيو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مصدره الجلوتامات)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مع ثاني أكسيد الكربون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(مصدره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سلسلة التنفس في دورة كرب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يحدث هذا التفاعل في </a:t>
            </a:r>
            <a:r>
              <a:rPr b="1" lang="ar-KW" sz="2000" spc="-1" strike="noStrike">
                <a:solidFill>
                  <a:srgbClr val="0000ff"/>
                </a:solidFill>
                <a:latin typeface="Arial"/>
              </a:rPr>
              <a:t>الميتوكوندريا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 ويحفزه إنزيم كاربا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يل فوسفات سينثتي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amoyl phosphate synthetase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 ويتم استهلا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ATP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9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993080" cy="393696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63"/>
          <p:cNvSpPr/>
          <p:nvPr/>
        </p:nvSpPr>
        <p:spPr>
          <a:xfrm>
            <a:off x="324000" y="4291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انتقال مجموعة الكاربامويل إلى الأورنيث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nithin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لتكوين سترولين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rullin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يحدث هذا التفاعل </a:t>
            </a:r>
            <a:r>
              <a:rPr b="1" lang="ar-KW" sz="2000" spc="-1" strike="noStrike">
                <a:solidFill>
                  <a:srgbClr val="0000ff"/>
                </a:solidFill>
                <a:latin typeface="Arial"/>
              </a:rPr>
              <a:t>في الميتوكوندريا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 ويحفزه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إنزيم أورنيثين كاربامويل ترانسفيري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nithine Transcarbamoyla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بروتيي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te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البروت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539640" y="2085840"/>
            <a:ext cx="7128000" cy="479520"/>
          </a:xfrm>
          <a:custGeom>
            <a:avLst/>
            <a:gdLst>
              <a:gd name="textAreaLeft" fmla="*/ 0 w 7128000"/>
              <a:gd name="textAreaRight" fmla="*/ 7128360 w 71280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4831" h="483">
                <a:moveTo>
                  <a:pt x="0" y="60"/>
                </a:moveTo>
                <a:cubicBezTo>
                  <a:pt x="434" y="30"/>
                  <a:pt x="869" y="0"/>
                  <a:pt x="1043" y="60"/>
                </a:cubicBezTo>
                <a:cubicBezTo>
                  <a:pt x="1217" y="120"/>
                  <a:pt x="952" y="363"/>
                  <a:pt x="1043" y="423"/>
                </a:cubicBezTo>
                <a:cubicBezTo>
                  <a:pt x="1134" y="483"/>
                  <a:pt x="1451" y="476"/>
                  <a:pt x="1587" y="423"/>
                </a:cubicBezTo>
                <a:cubicBezTo>
                  <a:pt x="1723" y="370"/>
                  <a:pt x="1738" y="128"/>
                  <a:pt x="1859" y="105"/>
                </a:cubicBezTo>
                <a:cubicBezTo>
                  <a:pt x="1980" y="82"/>
                  <a:pt x="2207" y="233"/>
                  <a:pt x="2313" y="286"/>
                </a:cubicBezTo>
                <a:cubicBezTo>
                  <a:pt x="2419" y="339"/>
                  <a:pt x="2412" y="400"/>
                  <a:pt x="2495" y="423"/>
                </a:cubicBezTo>
                <a:cubicBezTo>
                  <a:pt x="2578" y="446"/>
                  <a:pt x="2737" y="461"/>
                  <a:pt x="2812" y="423"/>
                </a:cubicBezTo>
                <a:cubicBezTo>
                  <a:pt x="2887" y="385"/>
                  <a:pt x="2895" y="256"/>
                  <a:pt x="2948" y="196"/>
                </a:cubicBezTo>
                <a:cubicBezTo>
                  <a:pt x="3001" y="136"/>
                  <a:pt x="3085" y="83"/>
                  <a:pt x="3130" y="60"/>
                </a:cubicBezTo>
                <a:cubicBezTo>
                  <a:pt x="3175" y="37"/>
                  <a:pt x="3167" y="30"/>
                  <a:pt x="3220" y="60"/>
                </a:cubicBezTo>
                <a:cubicBezTo>
                  <a:pt x="3273" y="90"/>
                  <a:pt x="3379" y="211"/>
                  <a:pt x="3447" y="241"/>
                </a:cubicBezTo>
                <a:cubicBezTo>
                  <a:pt x="3515" y="271"/>
                  <a:pt x="3576" y="241"/>
                  <a:pt x="3629" y="241"/>
                </a:cubicBezTo>
                <a:cubicBezTo>
                  <a:pt x="3682" y="241"/>
                  <a:pt x="3712" y="241"/>
                  <a:pt x="3765" y="241"/>
                </a:cubicBezTo>
                <a:cubicBezTo>
                  <a:pt x="3818" y="241"/>
                  <a:pt x="3871" y="264"/>
                  <a:pt x="3946" y="241"/>
                </a:cubicBezTo>
                <a:cubicBezTo>
                  <a:pt x="4021" y="218"/>
                  <a:pt x="4127" y="135"/>
                  <a:pt x="4218" y="105"/>
                </a:cubicBezTo>
                <a:cubicBezTo>
                  <a:pt x="4309" y="75"/>
                  <a:pt x="4414" y="67"/>
                  <a:pt x="4490" y="60"/>
                </a:cubicBezTo>
                <a:cubicBezTo>
                  <a:pt x="4566" y="53"/>
                  <a:pt x="4619" y="45"/>
                  <a:pt x="4672" y="60"/>
                </a:cubicBezTo>
                <a:cubicBezTo>
                  <a:pt x="4725" y="75"/>
                  <a:pt x="4785" y="113"/>
                  <a:pt x="4808" y="150"/>
                </a:cubicBezTo>
                <a:cubicBezTo>
                  <a:pt x="4831" y="187"/>
                  <a:pt x="4816" y="293"/>
                  <a:pt x="4808" y="286"/>
                </a:cubicBezTo>
                <a:cubicBezTo>
                  <a:pt x="4800" y="279"/>
                  <a:pt x="4781" y="192"/>
                  <a:pt x="4762" y="10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1476360" y="1844640"/>
            <a:ext cx="5616720" cy="792360"/>
            <a:chOff x="1476360" y="1844640"/>
            <a:chExt cx="5616720" cy="792360"/>
          </a:xfrm>
        </p:grpSpPr>
        <p:sp>
          <p:nvSpPr>
            <p:cNvPr id="70" name="AutoShape 5"/>
            <p:cNvSpPr/>
            <p:nvPr/>
          </p:nvSpPr>
          <p:spPr>
            <a:xfrm>
              <a:off x="1476360" y="1844640"/>
              <a:ext cx="433440" cy="576360"/>
            </a:xfrm>
            <a:prstGeom prst="lightningBol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6"/>
            <p:cNvSpPr/>
            <p:nvPr/>
          </p:nvSpPr>
          <p:spPr>
            <a:xfrm>
              <a:off x="4788000" y="2060640"/>
              <a:ext cx="433440" cy="576360"/>
            </a:xfrm>
            <a:prstGeom prst="lightningBol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7"/>
            <p:cNvSpPr/>
            <p:nvPr/>
          </p:nvSpPr>
          <p:spPr>
            <a:xfrm>
              <a:off x="6659640" y="1989360"/>
              <a:ext cx="433440" cy="576000"/>
            </a:xfrm>
            <a:prstGeom prst="lightningBol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AutoShape 8"/>
            <p:cNvSpPr/>
            <p:nvPr/>
          </p:nvSpPr>
          <p:spPr>
            <a:xfrm>
              <a:off x="3132360" y="1989360"/>
              <a:ext cx="433440" cy="576000"/>
            </a:xfrm>
            <a:prstGeom prst="lightningBol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9"/>
          <p:cNvGrpSpPr/>
          <p:nvPr/>
        </p:nvGrpSpPr>
        <p:grpSpPr>
          <a:xfrm>
            <a:off x="395280" y="2637000"/>
            <a:ext cx="7705440" cy="2185920"/>
            <a:chOff x="395280" y="2637000"/>
            <a:chExt cx="7705440" cy="2185920"/>
          </a:xfrm>
        </p:grpSpPr>
        <p:grpSp>
          <p:nvGrpSpPr>
            <p:cNvPr id="75" name="Group 10"/>
            <p:cNvGrpSpPr/>
            <p:nvPr/>
          </p:nvGrpSpPr>
          <p:grpSpPr>
            <a:xfrm>
              <a:off x="395280" y="2637000"/>
              <a:ext cx="7705440" cy="1405440"/>
              <a:chOff x="395280" y="2637000"/>
              <a:chExt cx="7705440" cy="1405440"/>
            </a:xfrm>
          </p:grpSpPr>
          <p:sp>
            <p:nvSpPr>
              <p:cNvPr id="76" name="Line 11"/>
              <p:cNvSpPr/>
              <p:nvPr/>
            </p:nvSpPr>
            <p:spPr>
              <a:xfrm>
                <a:off x="395280" y="4042440"/>
                <a:ext cx="1793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12"/>
              <p:cNvGrpSpPr/>
              <p:nvPr/>
            </p:nvGrpSpPr>
            <p:grpSpPr>
              <a:xfrm>
                <a:off x="3053160" y="2637000"/>
                <a:ext cx="5047560" cy="1405440"/>
                <a:chOff x="3053160" y="2637000"/>
                <a:chExt cx="5047560" cy="1405440"/>
              </a:xfrm>
            </p:grpSpPr>
            <p:grpSp>
              <p:nvGrpSpPr>
                <p:cNvPr id="78" name="Group 13"/>
                <p:cNvGrpSpPr/>
                <p:nvPr/>
              </p:nvGrpSpPr>
              <p:grpSpPr>
                <a:xfrm>
                  <a:off x="3053160" y="4042440"/>
                  <a:ext cx="5047560" cy="0"/>
                  <a:chOff x="3053160" y="4042440"/>
                  <a:chExt cx="5047560" cy="0"/>
                </a:xfrm>
              </p:grpSpPr>
              <p:sp>
                <p:nvSpPr>
                  <p:cNvPr id="79" name="Line 14"/>
                  <p:cNvSpPr/>
                  <p:nvPr/>
                </p:nvSpPr>
                <p:spPr>
                  <a:xfrm>
                    <a:off x="3053160" y="4042440"/>
                    <a:ext cx="7963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15"/>
                  <p:cNvSpPr/>
                  <p:nvPr/>
                </p:nvSpPr>
                <p:spPr>
                  <a:xfrm>
                    <a:off x="4380840" y="4042440"/>
                    <a:ext cx="16606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Line 16"/>
                  <p:cNvSpPr/>
                  <p:nvPr/>
                </p:nvSpPr>
                <p:spPr>
                  <a:xfrm>
                    <a:off x="6306840" y="4042440"/>
                    <a:ext cx="17938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Line 17"/>
                <p:cNvSpPr/>
                <p:nvPr/>
              </p:nvSpPr>
              <p:spPr>
                <a:xfrm>
                  <a:off x="4114800" y="2637000"/>
                  <a:ext cx="0" cy="9950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" name="Text Box 18"/>
            <p:cNvSpPr/>
            <p:nvPr/>
          </p:nvSpPr>
          <p:spPr>
            <a:xfrm>
              <a:off x="5607000" y="4302360"/>
              <a:ext cx="22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800" spc="-1" strike="noStrike">
                  <a:solidFill>
                    <a:srgbClr val="000000"/>
                  </a:solidFill>
                  <a:latin typeface="Arial"/>
                </a:rPr>
                <a:t>عديدات الببتي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20"/>
          <p:cNvSpPr/>
          <p:nvPr/>
        </p:nvSpPr>
        <p:spPr>
          <a:xfrm>
            <a:off x="108000" y="5373720"/>
            <a:ext cx="88930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بروتين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←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بروتيوز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ببتون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ديدات الببتيد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ببتيدا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←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حماض أمي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02"/>
          <p:cNvSpPr/>
          <p:nvPr/>
        </p:nvSpPr>
        <p:spPr>
          <a:xfrm>
            <a:off x="250920" y="26244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انتقال مجموعة أمين أخرى مصدرها الأسبارتات إلى السترولين عن طريق إندماجهما وتكوين المعقد أرجنينوسكس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ininosuccin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يحدث هذا التفاعل في </a:t>
            </a:r>
            <a:r>
              <a:rPr b="1" lang="ar-KW" sz="2000" spc="-1" strike="noStrike">
                <a:solidFill>
                  <a:srgbClr val="0000ff"/>
                </a:solidFill>
                <a:latin typeface="Arial"/>
              </a:rPr>
              <a:t>سيتوزول خلايا الكبد</a:t>
            </a:r>
            <a:r>
              <a:rPr b="1" lang="ar-KW" sz="2000" spc="-1" strike="noStrike">
                <a:solidFill>
                  <a:srgbClr val="000000"/>
                </a:solidFill>
                <a:latin typeface="Arial"/>
              </a:rPr>
              <a:t> بعد أن يغادر السترولين الميتوكوندريا ويحفزه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إنزيم أرجنينوسكسينات سينثتي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ininosuccinate syntheta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في وجود أيونات المغنسيوم 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06"/>
          <p:cNvGrpSpPr/>
          <p:nvPr/>
        </p:nvGrpSpPr>
        <p:grpSpPr>
          <a:xfrm>
            <a:off x="103320" y="2276640"/>
            <a:ext cx="8789760" cy="4051080"/>
            <a:chOff x="103320" y="2276640"/>
            <a:chExt cx="8789760" cy="4051080"/>
          </a:xfrm>
        </p:grpSpPr>
        <p:pic>
          <p:nvPicPr>
            <p:cNvPr id="304" name="Picture 100" descr=""/>
            <p:cNvPicPr/>
            <p:nvPr/>
          </p:nvPicPr>
          <p:blipFill>
            <a:blip r:embed="rId1"/>
            <a:stretch/>
          </p:blipFill>
          <p:spPr>
            <a:xfrm>
              <a:off x="103320" y="2276640"/>
              <a:ext cx="8789760" cy="405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AutoShape 104"/>
            <p:cNvSpPr/>
            <p:nvPr/>
          </p:nvSpPr>
          <p:spPr>
            <a:xfrm>
              <a:off x="4572000" y="4149720"/>
              <a:ext cx="1079640" cy="647640"/>
            </a:xfrm>
            <a:custGeom>
              <a:avLst/>
              <a:gdLst>
                <a:gd name="textAreaLeft" fmla="*/ 158760 w 1079640"/>
                <a:gd name="textAreaRight" fmla="*/ 920880 w 1079640"/>
                <a:gd name="textAreaTop" fmla="*/ 95040 h 647640"/>
                <a:gd name="textAreaBottom" fmla="*/ 55260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915" y="10535"/>
                  </a:moveTo>
                  <a:cubicBezTo>
                    <a:pt x="19771" y="5604"/>
                    <a:pt x="15733" y="1681"/>
                    <a:pt x="10800" y="1681"/>
                  </a:cubicBezTo>
                  <a:cubicBezTo>
                    <a:pt x="5763" y="1681"/>
                    <a:pt x="1681" y="5763"/>
                    <a:pt x="1681" y="10800"/>
                  </a:cubicBezTo>
                  <a:cubicBezTo>
                    <a:pt x="1680" y="10883"/>
                    <a:pt x="1682" y="10967"/>
                    <a:pt x="1684" y="11051"/>
                  </a:cubicBezTo>
                  <a:lnTo>
                    <a:pt x="4" y="11097"/>
                  </a:lnTo>
                  <a:cubicBezTo>
                    <a:pt x="1" y="10998"/>
                    <a:pt x="0" y="10899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642" y="-1"/>
                    <a:pt x="21425" y="4646"/>
                    <a:pt x="21595" y="10486"/>
                  </a:cubicBezTo>
                  <a:lnTo>
                    <a:pt x="24294" y="10407"/>
                  </a:lnTo>
                  <a:lnTo>
                    <a:pt x="20858" y="14049"/>
                  </a:lnTo>
                  <a:lnTo>
                    <a:pt x="17216" y="10613"/>
                  </a:lnTo>
                  <a:lnTo>
                    <a:pt x="19915" y="1053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05"/>
            <p:cNvSpPr/>
            <p:nvPr/>
          </p:nvSpPr>
          <p:spPr>
            <a:xfrm>
              <a:off x="4327920" y="4508640"/>
              <a:ext cx="1680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P            AMP + PP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99" descr=""/>
          <p:cNvPicPr/>
          <p:nvPr/>
        </p:nvPicPr>
        <p:blipFill>
          <a:blip r:embed="rId2"/>
          <a:stretch/>
        </p:blipFill>
        <p:spPr>
          <a:xfrm>
            <a:off x="34920" y="2060640"/>
            <a:ext cx="9004320" cy="3583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01"/>
          <p:cNvSpPr/>
          <p:nvPr/>
        </p:nvSpPr>
        <p:spPr>
          <a:xfrm>
            <a:off x="395280" y="2214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تفكيك أرجينينوسكسينات إلى أرجينين وفيومارا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marat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بواسطة إنزيم أرجنينوسكسيني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ininosuccina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في سيتوزول خلايا الكبد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1"/>
          <p:cNvSpPr/>
          <p:nvPr/>
        </p:nvSpPr>
        <p:spPr>
          <a:xfrm>
            <a:off x="206280" y="270360"/>
            <a:ext cx="861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- تحلل الأرجينين مائياً  بفعل إنزيم أرجيني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inase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ff"/>
                </a:solidFill>
                <a:latin typeface="Arial"/>
              </a:rPr>
              <a:t>في سيتوزول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خلية وتكوين يوريا و أورنيث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ينتقل بعد ذلك الأورنوثين إلى الميتوكوندريا لبداية دورة جديد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3"/>
          <p:cNvGrpSpPr/>
          <p:nvPr/>
        </p:nvGrpSpPr>
        <p:grpSpPr>
          <a:xfrm>
            <a:off x="250920" y="1413000"/>
            <a:ext cx="8675640" cy="4279680"/>
            <a:chOff x="250920" y="1413000"/>
            <a:chExt cx="8675640" cy="4279680"/>
          </a:xfrm>
        </p:grpSpPr>
        <p:pic>
          <p:nvPicPr>
            <p:cNvPr id="311" name="Picture 39" descr=""/>
            <p:cNvPicPr/>
            <p:nvPr/>
          </p:nvPicPr>
          <p:blipFill>
            <a:blip r:embed="rId2"/>
            <a:stretch/>
          </p:blipFill>
          <p:spPr>
            <a:xfrm>
              <a:off x="250920" y="1413000"/>
              <a:ext cx="8675640" cy="42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42"/>
            <p:cNvSpPr/>
            <p:nvPr/>
          </p:nvSpPr>
          <p:spPr>
            <a:xfrm>
              <a:off x="2625120" y="334980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n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8" descr=""/>
          <p:cNvPicPr/>
          <p:nvPr/>
        </p:nvPicPr>
        <p:blipFill>
          <a:blip r:embed="rId1"/>
          <a:stretch/>
        </p:blipFill>
        <p:spPr>
          <a:xfrm>
            <a:off x="2700360" y="3054240"/>
            <a:ext cx="4608360" cy="37324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51"/>
          <p:cNvGrpSpPr/>
          <p:nvPr/>
        </p:nvGrpSpPr>
        <p:grpSpPr>
          <a:xfrm>
            <a:off x="3674520" y="374760"/>
            <a:ext cx="4155120" cy="441360"/>
            <a:chOff x="3674520" y="374760"/>
            <a:chExt cx="4155120" cy="441360"/>
          </a:xfrm>
        </p:grpSpPr>
        <p:sp>
          <p:nvSpPr>
            <p:cNvPr id="315" name="Text Box 37"/>
            <p:cNvSpPr/>
            <p:nvPr/>
          </p:nvSpPr>
          <p:spPr>
            <a:xfrm>
              <a:off x="3674520" y="447840"/>
              <a:ext cx="12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جلوتام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9"/>
            <p:cNvSpPr/>
            <p:nvPr/>
          </p:nvSpPr>
          <p:spPr>
            <a:xfrm>
              <a:off x="5698080" y="374760"/>
              <a:ext cx="213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Arial"/>
                </a:rPr>
                <a:t>حمض ألفا كيتون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55"/>
          <p:cNvGrpSpPr/>
          <p:nvPr/>
        </p:nvGrpSpPr>
        <p:grpSpPr>
          <a:xfrm>
            <a:off x="3351960" y="461520"/>
            <a:ext cx="4185360" cy="956160"/>
            <a:chOff x="3351960" y="461520"/>
            <a:chExt cx="4185360" cy="956160"/>
          </a:xfrm>
        </p:grpSpPr>
        <p:sp>
          <p:nvSpPr>
            <p:cNvPr id="318" name="Arc 30"/>
            <p:cNvSpPr/>
            <p:nvPr/>
          </p:nvSpPr>
          <p:spPr>
            <a:xfrm flipH="1" rot="8327400">
              <a:off x="5049720" y="572400"/>
              <a:ext cx="577440" cy="639720"/>
            </a:xfrm>
            <a:custGeom>
              <a:avLst/>
              <a:gdLst>
                <a:gd name="textAreaLeft" fmla="*/ 360 w 577440"/>
                <a:gd name="textAreaRight" fmla="*/ 578160 w 577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fill="none" w="35654" h="42218">
                  <a:moveTo>
                    <a:pt x="0" y="5197"/>
                  </a:moveTo>
                  <a:cubicBezTo>
                    <a:pt x="3914" y="1843"/>
                    <a:pt x="8899" y="-1"/>
                    <a:pt x="14054" y="0"/>
                  </a:cubicBezTo>
                  <a:cubicBezTo>
                    <a:pt x="25983" y="0"/>
                    <a:pt x="35654" y="9670"/>
                    <a:pt x="35654" y="21600"/>
                  </a:cubicBezTo>
                  <a:cubicBezTo>
                    <a:pt x="35654" y="31048"/>
                    <a:pt x="29512" y="39400"/>
                    <a:pt x="20493" y="42217"/>
                  </a:cubicBezTo>
                </a:path>
                <a:path stroke="0" w="35654" h="42218">
                  <a:moveTo>
                    <a:pt x="0" y="5197"/>
                  </a:moveTo>
                  <a:cubicBezTo>
                    <a:pt x="3914" y="1843"/>
                    <a:pt x="8899" y="-1"/>
                    <a:pt x="14054" y="0"/>
                  </a:cubicBezTo>
                  <a:cubicBezTo>
                    <a:pt x="25983" y="0"/>
                    <a:pt x="35654" y="9670"/>
                    <a:pt x="35654" y="21600"/>
                  </a:cubicBezTo>
                  <a:cubicBezTo>
                    <a:pt x="35654" y="31048"/>
                    <a:pt x="29512" y="39400"/>
                    <a:pt x="20493" y="42217"/>
                  </a:cubicBezTo>
                  <a:lnTo>
                    <a:pt x="14054" y="21600"/>
                  </a:lnTo>
                  <a:lnTo>
                    <a:pt x="0" y="5197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50"/>
            <p:cNvGrpSpPr/>
            <p:nvPr/>
          </p:nvGrpSpPr>
          <p:grpSpPr>
            <a:xfrm>
              <a:off x="3351960" y="471960"/>
              <a:ext cx="4185360" cy="945720"/>
              <a:chOff x="3351960" y="471960"/>
              <a:chExt cx="4185360" cy="945720"/>
            </a:xfrm>
          </p:grpSpPr>
          <p:sp>
            <p:nvSpPr>
              <p:cNvPr id="320" name="Arc 31"/>
              <p:cNvSpPr/>
              <p:nvPr/>
            </p:nvSpPr>
            <p:spPr>
              <a:xfrm rot="12138600">
                <a:off x="5633640" y="547200"/>
                <a:ext cx="522360" cy="63972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fill="none" w="32164" h="42218">
                    <a:moveTo>
                      <a:pt x="-1" y="2759"/>
                    </a:moveTo>
                    <a:cubicBezTo>
                      <a:pt x="3226" y="950"/>
                      <a:pt x="6864" y="-1"/>
                      <a:pt x="10564" y="0"/>
                    </a:cubicBezTo>
                    <a:cubicBezTo>
                      <a:pt x="22493" y="0"/>
                      <a:pt x="32164" y="9670"/>
                      <a:pt x="32164" y="21600"/>
                    </a:cubicBezTo>
                    <a:cubicBezTo>
                      <a:pt x="32164" y="31048"/>
                      <a:pt x="26022" y="39400"/>
                      <a:pt x="17003" y="42217"/>
                    </a:cubicBezTo>
                  </a:path>
                  <a:path stroke="0" w="32164" h="42218">
                    <a:moveTo>
                      <a:pt x="-1" y="2759"/>
                    </a:moveTo>
                    <a:cubicBezTo>
                      <a:pt x="3226" y="950"/>
                      <a:pt x="6864" y="-1"/>
                      <a:pt x="10564" y="0"/>
                    </a:cubicBezTo>
                    <a:cubicBezTo>
                      <a:pt x="22493" y="0"/>
                      <a:pt x="32164" y="9670"/>
                      <a:pt x="32164" y="21600"/>
                    </a:cubicBezTo>
                    <a:cubicBezTo>
                      <a:pt x="32164" y="31048"/>
                      <a:pt x="26022" y="39400"/>
                      <a:pt x="17003" y="42217"/>
                    </a:cubicBezTo>
                    <a:lnTo>
                      <a:pt x="10564" y="21600"/>
                    </a:lnTo>
                    <a:lnTo>
                      <a:pt x="-1" y="2759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38"/>
              <p:cNvSpPr/>
              <p:nvPr/>
            </p:nvSpPr>
            <p:spPr>
              <a:xfrm>
                <a:off x="3351960" y="1049400"/>
                <a:ext cx="2193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</a:rPr>
                  <a:t>ألفا كيتو جلوتارات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40"/>
              <p:cNvSpPr/>
              <p:nvPr/>
            </p:nvSpPr>
            <p:spPr>
              <a:xfrm>
                <a:off x="5866200" y="1023840"/>
                <a:ext cx="1671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Arial"/>
                  </a:rPr>
                  <a:t>أحماض أميني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Group 52"/>
          <p:cNvGrpSpPr/>
          <p:nvPr/>
        </p:nvGrpSpPr>
        <p:grpSpPr>
          <a:xfrm>
            <a:off x="1987560" y="74520"/>
            <a:ext cx="1931400" cy="1514520"/>
            <a:chOff x="1987560" y="74520"/>
            <a:chExt cx="1931400" cy="1514520"/>
          </a:xfrm>
        </p:grpSpPr>
        <p:grpSp>
          <p:nvGrpSpPr>
            <p:cNvPr id="324" name="Group 34"/>
            <p:cNvGrpSpPr/>
            <p:nvPr/>
          </p:nvGrpSpPr>
          <p:grpSpPr>
            <a:xfrm>
              <a:off x="2571840" y="524880"/>
              <a:ext cx="1347120" cy="861840"/>
              <a:chOff x="2571840" y="524880"/>
              <a:chExt cx="1347120" cy="861840"/>
            </a:xfrm>
          </p:grpSpPr>
          <p:sp>
            <p:nvSpPr>
              <p:cNvPr id="325" name="Arc 32"/>
              <p:cNvSpPr/>
              <p:nvPr/>
            </p:nvSpPr>
            <p:spPr>
              <a:xfrm flipH="1" rot="19126800">
                <a:off x="3201480" y="635760"/>
                <a:ext cx="577440" cy="639720"/>
              </a:xfrm>
              <a:custGeom>
                <a:avLst/>
                <a:gdLst>
                  <a:gd name="textAreaLeft" fmla="*/ 360 w 577440"/>
                  <a:gd name="textAreaRight" fmla="*/ 578160 w 57744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fill="none" w="35654" h="42218">
                    <a:moveTo>
                      <a:pt x="0" y="5197"/>
                    </a:moveTo>
                    <a:cubicBezTo>
                      <a:pt x="3914" y="1843"/>
                      <a:pt x="8899" y="-1"/>
                      <a:pt x="14054" y="0"/>
                    </a:cubicBezTo>
                    <a:cubicBezTo>
                      <a:pt x="25983" y="0"/>
                      <a:pt x="35654" y="9670"/>
                      <a:pt x="35654" y="21600"/>
                    </a:cubicBezTo>
                    <a:cubicBezTo>
                      <a:pt x="35654" y="31048"/>
                      <a:pt x="29512" y="39400"/>
                      <a:pt x="20493" y="42217"/>
                    </a:cubicBezTo>
                  </a:path>
                  <a:path stroke="0" w="35654" h="42218">
                    <a:moveTo>
                      <a:pt x="0" y="5197"/>
                    </a:moveTo>
                    <a:cubicBezTo>
                      <a:pt x="3914" y="1843"/>
                      <a:pt x="8899" y="-1"/>
                      <a:pt x="14054" y="0"/>
                    </a:cubicBezTo>
                    <a:cubicBezTo>
                      <a:pt x="25983" y="0"/>
                      <a:pt x="35654" y="9670"/>
                      <a:pt x="35654" y="21600"/>
                    </a:cubicBezTo>
                    <a:cubicBezTo>
                      <a:pt x="35654" y="31048"/>
                      <a:pt x="29512" y="39400"/>
                      <a:pt x="20493" y="42217"/>
                    </a:cubicBezTo>
                    <a:lnTo>
                      <a:pt x="14054" y="21600"/>
                    </a:lnTo>
                    <a:lnTo>
                      <a:pt x="0" y="5197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rc 33"/>
              <p:cNvSpPr/>
              <p:nvPr/>
            </p:nvSpPr>
            <p:spPr>
              <a:xfrm rot="1338000">
                <a:off x="2673720" y="660600"/>
                <a:ext cx="522360" cy="639720"/>
              </a:xfrm>
              <a:custGeom>
                <a:avLst/>
                <a:gdLst>
                  <a:gd name="textAreaLeft" fmla="*/ 0 w 522360"/>
                  <a:gd name="textAreaRight" fmla="*/ 522720 w 52236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fill="none" w="32164" h="42218">
                    <a:moveTo>
                      <a:pt x="-1" y="2759"/>
                    </a:moveTo>
                    <a:cubicBezTo>
                      <a:pt x="3226" y="950"/>
                      <a:pt x="6864" y="-1"/>
                      <a:pt x="10564" y="0"/>
                    </a:cubicBezTo>
                    <a:cubicBezTo>
                      <a:pt x="22493" y="0"/>
                      <a:pt x="32164" y="9670"/>
                      <a:pt x="32164" y="21600"/>
                    </a:cubicBezTo>
                    <a:cubicBezTo>
                      <a:pt x="32164" y="31048"/>
                      <a:pt x="26022" y="39400"/>
                      <a:pt x="17003" y="42217"/>
                    </a:cubicBezTo>
                  </a:path>
                  <a:path stroke="0" w="32164" h="42218">
                    <a:moveTo>
                      <a:pt x="-1" y="2759"/>
                    </a:moveTo>
                    <a:cubicBezTo>
                      <a:pt x="3226" y="950"/>
                      <a:pt x="6864" y="-1"/>
                      <a:pt x="10564" y="0"/>
                    </a:cubicBezTo>
                    <a:cubicBezTo>
                      <a:pt x="22493" y="0"/>
                      <a:pt x="32164" y="9670"/>
                      <a:pt x="32164" y="21600"/>
                    </a:cubicBezTo>
                    <a:cubicBezTo>
                      <a:pt x="32164" y="31048"/>
                      <a:pt x="26022" y="39400"/>
                      <a:pt x="17003" y="42217"/>
                    </a:cubicBezTo>
                    <a:lnTo>
                      <a:pt x="10564" y="21600"/>
                    </a:lnTo>
                    <a:lnTo>
                      <a:pt x="-1" y="2759"/>
                    </a:lnTo>
                    <a:close/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Line 35"/>
            <p:cNvSpPr/>
            <p:nvPr/>
          </p:nvSpPr>
          <p:spPr>
            <a:xfrm>
              <a:off x="3203640" y="474840"/>
              <a:ext cx="0" cy="1114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41"/>
            <p:cNvSpPr/>
            <p:nvPr/>
          </p:nvSpPr>
          <p:spPr>
            <a:xfrm>
              <a:off x="2882160" y="74520"/>
              <a:ext cx="60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42"/>
            <p:cNvSpPr/>
            <p:nvPr/>
          </p:nvSpPr>
          <p:spPr>
            <a:xfrm>
              <a:off x="1987560" y="476280"/>
              <a:ext cx="7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D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Group 53"/>
          <p:cNvGrpSpPr/>
          <p:nvPr/>
        </p:nvGrpSpPr>
        <p:grpSpPr>
          <a:xfrm>
            <a:off x="1819800" y="1125360"/>
            <a:ext cx="1706760" cy="909000"/>
            <a:chOff x="1819800" y="1125360"/>
            <a:chExt cx="1706760" cy="909000"/>
          </a:xfrm>
        </p:grpSpPr>
        <p:sp>
          <p:nvSpPr>
            <p:cNvPr id="331" name="Text Box 43"/>
            <p:cNvSpPr/>
            <p:nvPr/>
          </p:nvSpPr>
          <p:spPr>
            <a:xfrm>
              <a:off x="1819800" y="112536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D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44"/>
            <p:cNvSpPr/>
            <p:nvPr/>
          </p:nvSpPr>
          <p:spPr>
            <a:xfrm>
              <a:off x="2859480" y="1628640"/>
              <a:ext cx="66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4"/>
          <p:cNvGrpSpPr/>
          <p:nvPr/>
        </p:nvGrpSpPr>
        <p:grpSpPr>
          <a:xfrm>
            <a:off x="1419480" y="1773360"/>
            <a:ext cx="1872360" cy="1511280"/>
            <a:chOff x="1419480" y="1773360"/>
            <a:chExt cx="1872360" cy="1511280"/>
          </a:xfrm>
        </p:grpSpPr>
        <p:sp>
          <p:nvSpPr>
            <p:cNvPr id="334" name="Line 36"/>
            <p:cNvSpPr/>
            <p:nvPr/>
          </p:nvSpPr>
          <p:spPr>
            <a:xfrm>
              <a:off x="3203640" y="1986120"/>
              <a:ext cx="0" cy="1298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rc 45"/>
            <p:cNvSpPr/>
            <p:nvPr/>
          </p:nvSpPr>
          <p:spPr>
            <a:xfrm rot="1116000">
              <a:off x="2680920" y="2356920"/>
              <a:ext cx="522360" cy="640080"/>
            </a:xfrm>
            <a:custGeom>
              <a:avLst/>
              <a:gdLst>
                <a:gd name="textAreaLeft" fmla="*/ 0 w 522360"/>
                <a:gd name="textAreaRight" fmla="*/ 522720 w 5223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fill="none" w="32164" h="42218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2493" y="0"/>
                    <a:pt x="32164" y="9670"/>
                    <a:pt x="32164" y="21600"/>
                  </a:cubicBezTo>
                  <a:cubicBezTo>
                    <a:pt x="32164" y="31048"/>
                    <a:pt x="26022" y="39400"/>
                    <a:pt x="17003" y="42217"/>
                  </a:cubicBezTo>
                </a:path>
                <a:path stroke="0" w="32164" h="42218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2493" y="0"/>
                    <a:pt x="32164" y="9670"/>
                    <a:pt x="32164" y="21600"/>
                  </a:cubicBezTo>
                  <a:cubicBezTo>
                    <a:pt x="32164" y="31048"/>
                    <a:pt x="26022" y="39400"/>
                    <a:pt x="17003" y="42217"/>
                  </a:cubicBezTo>
                  <a:lnTo>
                    <a:pt x="10564" y="21600"/>
                  </a:lnTo>
                  <a:lnTo>
                    <a:pt x="-1" y="275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6"/>
            <p:cNvSpPr/>
            <p:nvPr/>
          </p:nvSpPr>
          <p:spPr>
            <a:xfrm>
              <a:off x="1419480" y="2781360"/>
              <a:ext cx="127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P + P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47"/>
            <p:cNvSpPr/>
            <p:nvPr/>
          </p:nvSpPr>
          <p:spPr>
            <a:xfrm>
              <a:off x="1692360" y="2205000"/>
              <a:ext cx="90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A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rc 48"/>
            <p:cNvSpPr/>
            <p:nvPr/>
          </p:nvSpPr>
          <p:spPr>
            <a:xfrm rot="1116000">
              <a:off x="2676240" y="2139480"/>
              <a:ext cx="515880" cy="3272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27240"/>
                <a:gd name="textAreaBottom" fmla="*/ 327600 h 327240"/>
              </a:gdLst>
              <a:ahLst/>
              <a:rect l="textAreaLeft" t="textAreaTop" r="textAreaRight" b="textAreaBottom"/>
              <a:pathLst>
                <a:path fill="none" w="31775" h="21600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0919" y="0"/>
                    <a:pt x="29817" y="7349"/>
                    <a:pt x="31774" y="17518"/>
                  </a:cubicBezTo>
                </a:path>
                <a:path stroke="0" w="31775" h="21600">
                  <a:moveTo>
                    <a:pt x="-1" y="2759"/>
                  </a:moveTo>
                  <a:cubicBezTo>
                    <a:pt x="3226" y="950"/>
                    <a:pt x="6864" y="-1"/>
                    <a:pt x="10564" y="0"/>
                  </a:cubicBezTo>
                  <a:cubicBezTo>
                    <a:pt x="20919" y="0"/>
                    <a:pt x="29817" y="7349"/>
                    <a:pt x="31774" y="17518"/>
                  </a:cubicBezTo>
                  <a:lnTo>
                    <a:pt x="10564" y="21600"/>
                  </a:lnTo>
                  <a:lnTo>
                    <a:pt x="-1" y="2759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49"/>
            <p:cNvSpPr/>
            <p:nvPr/>
          </p:nvSpPr>
          <p:spPr>
            <a:xfrm>
              <a:off x="1692360" y="1773360"/>
              <a:ext cx="906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9"/>
          <p:cNvSpPr/>
          <p:nvPr/>
        </p:nvSpPr>
        <p:spPr>
          <a:xfrm>
            <a:off x="1906560" y="1550880"/>
            <a:ext cx="0" cy="1298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1562760" y="1193760"/>
            <a:ext cx="66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18"/>
          <p:cNvSpPr/>
          <p:nvPr/>
        </p:nvSpPr>
        <p:spPr>
          <a:xfrm rot="1116000">
            <a:off x="1383840" y="1922040"/>
            <a:ext cx="522360" cy="639720"/>
          </a:xfrm>
          <a:custGeom>
            <a:avLst/>
            <a:gdLst>
              <a:gd name="textAreaLeft" fmla="*/ 0 w 522360"/>
              <a:gd name="textAreaRight" fmla="*/ 522720 w 5223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fill="none" w="32164" h="42218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2493" y="0"/>
                  <a:pt x="32164" y="9670"/>
                  <a:pt x="32164" y="21600"/>
                </a:cubicBezTo>
                <a:cubicBezTo>
                  <a:pt x="32164" y="31048"/>
                  <a:pt x="26022" y="39400"/>
                  <a:pt x="17003" y="42217"/>
                </a:cubicBezTo>
              </a:path>
              <a:path stroke="0" w="32164" h="42218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2493" y="0"/>
                  <a:pt x="32164" y="9670"/>
                  <a:pt x="32164" y="21600"/>
                </a:cubicBezTo>
                <a:cubicBezTo>
                  <a:pt x="32164" y="31048"/>
                  <a:pt x="26022" y="39400"/>
                  <a:pt x="17003" y="42217"/>
                </a:cubicBezTo>
                <a:lnTo>
                  <a:pt x="10564" y="21600"/>
                </a:lnTo>
                <a:lnTo>
                  <a:pt x="-1" y="275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122760" y="2346480"/>
            <a:ext cx="12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P +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395280" y="1770120"/>
            <a:ext cx="90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21"/>
          <p:cNvSpPr/>
          <p:nvPr/>
        </p:nvSpPr>
        <p:spPr>
          <a:xfrm rot="1116000">
            <a:off x="1379160" y="1704600"/>
            <a:ext cx="515880" cy="326880"/>
          </a:xfrm>
          <a:custGeom>
            <a:avLst/>
            <a:gdLst>
              <a:gd name="textAreaLeft" fmla="*/ 0 w 515880"/>
              <a:gd name="textAreaRight" fmla="*/ 516240 w 5158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fill="none" w="31775" h="21600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0919" y="0"/>
                  <a:pt x="29817" y="7349"/>
                  <a:pt x="31774" y="17518"/>
                </a:cubicBezTo>
              </a:path>
              <a:path stroke="0" w="31775" h="21600">
                <a:moveTo>
                  <a:pt x="-1" y="2759"/>
                </a:moveTo>
                <a:cubicBezTo>
                  <a:pt x="3226" y="950"/>
                  <a:pt x="6864" y="-1"/>
                  <a:pt x="10564" y="0"/>
                </a:cubicBezTo>
                <a:cubicBezTo>
                  <a:pt x="20919" y="0"/>
                  <a:pt x="29817" y="7349"/>
                  <a:pt x="31774" y="17518"/>
                </a:cubicBezTo>
                <a:lnTo>
                  <a:pt x="10564" y="21600"/>
                </a:lnTo>
                <a:lnTo>
                  <a:pt x="-1" y="275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2"/>
          <p:cNvSpPr/>
          <p:nvPr/>
        </p:nvSpPr>
        <p:spPr>
          <a:xfrm>
            <a:off x="395280" y="1338120"/>
            <a:ext cx="90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0" descr=""/>
          <p:cNvPicPr/>
          <p:nvPr/>
        </p:nvPicPr>
        <p:blipFill>
          <a:blip r:embed="rId2"/>
          <a:stretch/>
        </p:blipFill>
        <p:spPr>
          <a:xfrm>
            <a:off x="1397160" y="2778120"/>
            <a:ext cx="4398840" cy="35305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3" descr=""/>
          <p:cNvPicPr/>
          <p:nvPr/>
        </p:nvPicPr>
        <p:blipFill>
          <a:blip r:embed="rId3"/>
          <a:stretch/>
        </p:blipFill>
        <p:spPr>
          <a:xfrm>
            <a:off x="5219640" y="2633760"/>
            <a:ext cx="3405240" cy="3456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36"/>
          <p:cNvSpPr/>
          <p:nvPr/>
        </p:nvSpPr>
        <p:spPr>
          <a:xfrm>
            <a:off x="-127440" y="189000"/>
            <a:ext cx="92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علاقة بين دورة اليوريا ودورة حمض الستري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2"/>
          <p:cNvSpPr/>
          <p:nvPr/>
        </p:nvSpPr>
        <p:spPr>
          <a:xfrm flipH="1">
            <a:off x="6803640" y="981000"/>
            <a:ext cx="1297080" cy="136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6948360" y="1052640"/>
            <a:ext cx="1079640" cy="129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08000" y="414360"/>
            <a:ext cx="87850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1636560" y="3213000"/>
            <a:ext cx="141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ورنيث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551760" y="873000"/>
            <a:ext cx="1497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ترول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5366160" y="2924280"/>
            <a:ext cx="2704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رجنينوسكسين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3935880" y="5511960"/>
            <a:ext cx="132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رجين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261360" y="692280"/>
            <a:ext cx="24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ارباميل فوس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2700360" y="692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3564000" y="3270240"/>
            <a:ext cx="19479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دورة اليو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rc 9"/>
          <p:cNvSpPr/>
          <p:nvPr/>
        </p:nvSpPr>
        <p:spPr>
          <a:xfrm flipH="1" rot="13596600">
            <a:off x="2330280" y="3064320"/>
            <a:ext cx="2690640" cy="234648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346480"/>
              <a:gd name="textAreaBottom" fmla="*/ 2346840 h 2346480"/>
            </a:gdLst>
            <a:ahLst/>
            <a:rect l="textAreaLeft" t="textAreaTop" r="textAreaRight" b="textAreaBottom"/>
            <a:pathLst>
              <a:path fill="none" w="25947" h="21600">
                <a:moveTo>
                  <a:pt x="0" y="4117"/>
                </a:moveTo>
                <a:cubicBezTo>
                  <a:pt x="3688" y="1441"/>
                  <a:pt x="8128" y="-1"/>
                  <a:pt x="12685" y="0"/>
                </a:cubicBezTo>
                <a:cubicBezTo>
                  <a:pt x="17488" y="0"/>
                  <a:pt x="22155" y="1601"/>
                  <a:pt x="25946" y="4550"/>
                </a:cubicBezTo>
              </a:path>
              <a:path stroke="0" w="25947" h="21600">
                <a:moveTo>
                  <a:pt x="0" y="4117"/>
                </a:moveTo>
                <a:cubicBezTo>
                  <a:pt x="3688" y="1441"/>
                  <a:pt x="8128" y="-1"/>
                  <a:pt x="12685" y="0"/>
                </a:cubicBezTo>
                <a:cubicBezTo>
                  <a:pt x="17488" y="0"/>
                  <a:pt x="22155" y="1601"/>
                  <a:pt x="25946" y="4550"/>
                </a:cubicBezTo>
                <a:lnTo>
                  <a:pt x="12685" y="21600"/>
                </a:lnTo>
                <a:lnTo>
                  <a:pt x="0" y="4117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10"/>
          <p:cNvSpPr/>
          <p:nvPr/>
        </p:nvSpPr>
        <p:spPr>
          <a:xfrm flipH="1" rot="13596600">
            <a:off x="2453040" y="1634400"/>
            <a:ext cx="2238840" cy="2300400"/>
          </a:xfrm>
          <a:custGeom>
            <a:avLst/>
            <a:gdLst>
              <a:gd name="textAreaLeft" fmla="*/ -360 w 2238840"/>
              <a:gd name="textAreaRight" fmla="*/ 2238840 w 223884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fill="none" w="21600" h="21179">
                <a:moveTo>
                  <a:pt x="1526" y="21179"/>
                </a:moveTo>
                <a:cubicBezTo>
                  <a:pt x="518" y="18640"/>
                  <a:pt x="0" y="15934"/>
                  <a:pt x="0" y="13203"/>
                </a:cubicBezTo>
                <a:cubicBezTo>
                  <a:pt x="-1" y="8424"/>
                  <a:pt x="1584" y="3781"/>
                  <a:pt x="4504" y="-1"/>
                </a:cubicBezTo>
              </a:path>
              <a:path stroke="0" w="21600" h="21179">
                <a:moveTo>
                  <a:pt x="1526" y="21179"/>
                </a:moveTo>
                <a:cubicBezTo>
                  <a:pt x="518" y="18640"/>
                  <a:pt x="0" y="15934"/>
                  <a:pt x="0" y="13203"/>
                </a:cubicBezTo>
                <a:cubicBezTo>
                  <a:pt x="-1" y="8424"/>
                  <a:pt x="1584" y="3781"/>
                  <a:pt x="4504" y="-1"/>
                </a:cubicBezTo>
                <a:lnTo>
                  <a:pt x="21600" y="13203"/>
                </a:lnTo>
                <a:lnTo>
                  <a:pt x="1526" y="21179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11"/>
          <p:cNvSpPr/>
          <p:nvPr/>
        </p:nvSpPr>
        <p:spPr>
          <a:xfrm flipH="1" rot="13596600">
            <a:off x="4046760" y="1310760"/>
            <a:ext cx="2397240" cy="2346840"/>
          </a:xfrm>
          <a:custGeom>
            <a:avLst/>
            <a:gdLst>
              <a:gd name="textAreaLeft" fmla="*/ -360 w 2397240"/>
              <a:gd name="textAreaRight" fmla="*/ 2397240 w 2397240"/>
              <a:gd name="textAreaTop" fmla="*/ 0 h 2346840"/>
              <a:gd name="textAreaBottom" fmla="*/ 2347200 h 2346840"/>
            </a:gdLst>
            <a:ahLst/>
            <a:rect l="textAreaLeft" t="textAreaTop" r="textAreaRight" b="textAreaBottom"/>
            <a:pathLst>
              <a:path fill="none" w="23115" h="21600">
                <a:moveTo>
                  <a:pt x="23114" y="19167"/>
                </a:moveTo>
                <a:cubicBezTo>
                  <a:pt x="20038" y="20765"/>
                  <a:pt x="16623" y="21599"/>
                  <a:pt x="13157" y="21600"/>
                </a:cubicBezTo>
                <a:cubicBezTo>
                  <a:pt x="8398" y="21600"/>
                  <a:pt x="3773" y="20028"/>
                  <a:pt x="-1" y="17130"/>
                </a:cubicBezTo>
              </a:path>
              <a:path stroke="0" w="23115" h="21600">
                <a:moveTo>
                  <a:pt x="23114" y="19167"/>
                </a:moveTo>
                <a:cubicBezTo>
                  <a:pt x="20038" y="20765"/>
                  <a:pt x="16623" y="21599"/>
                  <a:pt x="13157" y="21600"/>
                </a:cubicBezTo>
                <a:cubicBezTo>
                  <a:pt x="8398" y="21600"/>
                  <a:pt x="3773" y="20028"/>
                  <a:pt x="-1" y="17130"/>
                </a:cubicBezTo>
                <a:lnTo>
                  <a:pt x="13157" y="0"/>
                </a:lnTo>
                <a:lnTo>
                  <a:pt x="23114" y="19167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rc 12"/>
          <p:cNvSpPr/>
          <p:nvPr/>
        </p:nvSpPr>
        <p:spPr>
          <a:xfrm flipH="1" rot="13596600">
            <a:off x="4390200" y="2673720"/>
            <a:ext cx="2238120" cy="2674800"/>
          </a:xfrm>
          <a:custGeom>
            <a:avLst/>
            <a:gdLst>
              <a:gd name="textAreaLeft" fmla="*/ -360 w 2238120"/>
              <a:gd name="textAreaRight" fmla="*/ 2238120 w 2238120"/>
              <a:gd name="textAreaTop" fmla="*/ 0 h 2674800"/>
              <a:gd name="textAreaBottom" fmla="*/ 2675160 h 2674800"/>
            </a:gdLst>
            <a:ahLst/>
            <a:rect l="textAreaLeft" t="textAreaTop" r="textAreaRight" b="textAreaBottom"/>
            <a:pathLst>
              <a:path fill="none" w="21600" h="24631">
                <a:moveTo>
                  <a:pt x="19438" y="-1"/>
                </a:moveTo>
                <a:cubicBezTo>
                  <a:pt x="20860" y="2936"/>
                  <a:pt x="21600" y="6156"/>
                  <a:pt x="21600" y="9419"/>
                </a:cubicBezTo>
                <a:cubicBezTo>
                  <a:pt x="21600" y="15117"/>
                  <a:pt x="19348" y="20585"/>
                  <a:pt x="15334" y="24630"/>
                </a:cubicBezTo>
              </a:path>
              <a:path stroke="0" w="21600" h="24631">
                <a:moveTo>
                  <a:pt x="19438" y="-1"/>
                </a:moveTo>
                <a:cubicBezTo>
                  <a:pt x="20860" y="2936"/>
                  <a:pt x="21600" y="6156"/>
                  <a:pt x="21600" y="9419"/>
                </a:cubicBezTo>
                <a:cubicBezTo>
                  <a:pt x="21600" y="15117"/>
                  <a:pt x="19348" y="20585"/>
                  <a:pt x="15334" y="24630"/>
                </a:cubicBezTo>
                <a:lnTo>
                  <a:pt x="0" y="9419"/>
                </a:lnTo>
                <a:lnTo>
                  <a:pt x="19438" y="-1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rc 13"/>
          <p:cNvSpPr/>
          <p:nvPr/>
        </p:nvSpPr>
        <p:spPr>
          <a:xfrm flipH="1" rot="13596600">
            <a:off x="1654560" y="729360"/>
            <a:ext cx="1411200" cy="1438200"/>
          </a:xfrm>
          <a:custGeom>
            <a:avLst/>
            <a:gdLst>
              <a:gd name="textAreaLeft" fmla="*/ 360 w 1411200"/>
              <a:gd name="textAreaRight" fmla="*/ 1411920 w 1411200"/>
              <a:gd name="textAreaTop" fmla="*/ 0 h 1438200"/>
              <a:gd name="textAreaBottom" fmla="*/ 1438560 h 1438200"/>
            </a:gdLst>
            <a:ahLst/>
            <a:rect l="textAreaLeft" t="textAreaTop" r="textAreaRight" b="textAreaBottom"/>
            <a:pathLst>
              <a:path fill="none" w="39425" h="42218">
                <a:moveTo>
                  <a:pt x="0" y="9400"/>
                </a:moveTo>
                <a:cubicBezTo>
                  <a:pt x="4026" y="3517"/>
                  <a:pt x="10696" y="-1"/>
                  <a:pt x="17825" y="0"/>
                </a:cubicBezTo>
                <a:cubicBezTo>
                  <a:pt x="29754" y="0"/>
                  <a:pt x="39425" y="9670"/>
                  <a:pt x="39425" y="21600"/>
                </a:cubicBezTo>
                <a:cubicBezTo>
                  <a:pt x="39425" y="31048"/>
                  <a:pt x="33283" y="39400"/>
                  <a:pt x="24264" y="42217"/>
                </a:cubicBezTo>
              </a:path>
              <a:path stroke="0" w="39425" h="42218">
                <a:moveTo>
                  <a:pt x="0" y="9400"/>
                </a:moveTo>
                <a:cubicBezTo>
                  <a:pt x="4026" y="3517"/>
                  <a:pt x="10696" y="-1"/>
                  <a:pt x="17825" y="0"/>
                </a:cubicBezTo>
                <a:cubicBezTo>
                  <a:pt x="29754" y="0"/>
                  <a:pt x="39425" y="9670"/>
                  <a:pt x="39425" y="21600"/>
                </a:cubicBezTo>
                <a:cubicBezTo>
                  <a:pt x="39425" y="31048"/>
                  <a:pt x="33283" y="39400"/>
                  <a:pt x="24264" y="42217"/>
                </a:cubicBezTo>
                <a:lnTo>
                  <a:pt x="17825" y="21600"/>
                </a:lnTo>
                <a:lnTo>
                  <a:pt x="0" y="94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rc 14"/>
          <p:cNvSpPr/>
          <p:nvPr/>
        </p:nvSpPr>
        <p:spPr>
          <a:xfrm flipH="1" rot="13596600">
            <a:off x="1939320" y="4961520"/>
            <a:ext cx="1463760" cy="420840"/>
          </a:xfrm>
          <a:custGeom>
            <a:avLst/>
            <a:gdLst>
              <a:gd name="textAreaLeft" fmla="*/ 360 w 1463760"/>
              <a:gd name="textAreaRight" fmla="*/ 1464480 w 146376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fill="none" w="41754" h="21600">
                <a:moveTo>
                  <a:pt x="41753" y="6874"/>
                </a:moveTo>
                <a:cubicBezTo>
                  <a:pt x="38800" y="15672"/>
                  <a:pt x="30557" y="21599"/>
                  <a:pt x="21277" y="21600"/>
                </a:cubicBezTo>
                <a:cubicBezTo>
                  <a:pt x="10782" y="21600"/>
                  <a:pt x="1806" y="14056"/>
                  <a:pt x="-1" y="3719"/>
                </a:cubicBezTo>
              </a:path>
              <a:path stroke="0" w="41754" h="21600">
                <a:moveTo>
                  <a:pt x="41753" y="6874"/>
                </a:moveTo>
                <a:cubicBezTo>
                  <a:pt x="38800" y="15672"/>
                  <a:pt x="30557" y="21599"/>
                  <a:pt x="21277" y="21600"/>
                </a:cubicBezTo>
                <a:cubicBezTo>
                  <a:pt x="10782" y="21600"/>
                  <a:pt x="1806" y="14056"/>
                  <a:pt x="-1" y="3719"/>
                </a:cubicBezTo>
                <a:lnTo>
                  <a:pt x="21277" y="0"/>
                </a:lnTo>
                <a:lnTo>
                  <a:pt x="41753" y="6874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2692080" y="587700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1187280" y="4508640"/>
            <a:ext cx="8715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ور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1405080" y="260280"/>
            <a:ext cx="6335640" cy="180036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77920" y="333360"/>
            <a:ext cx="8686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ببتيدي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ptid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إندوببتيدي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opeptid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258840" y="2276640"/>
            <a:ext cx="870588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يكسر في داخل السلسلة الببتيدية ليعطي ببتيدات أقص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من أمثلتها الببسين ،تفرزه المعدة، ويحلل الرابطة الببتيدية بعد الأحماض ثنائية الكربوكسيل أو الاحماض الارومات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تربس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يفرزه البنكرياس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يحلل الرابطة الببتيدية التي تربط أي من اللايسين أو الأرجيني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كيموتربسين (تفرزه البنكرياس) ويحلل الرابطة الببتيدية بعد الأحماض ثنائية الكربوكسيل أو الاحماض الاروماتي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بابين (تفرزه بعض النباتات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الفيسين (تفرزه عصارة شجرة التين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1405080" y="260280"/>
            <a:ext cx="6335640" cy="180036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77920" y="333360"/>
            <a:ext cx="8686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ببتيدي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ptid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- إندوببتيديز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opeptid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 flipV="1">
            <a:off x="2989440" y="3763440"/>
            <a:ext cx="2971800" cy="27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992600" y="3346560"/>
            <a:ext cx="999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017040" y="332568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4357800" y="3476520"/>
            <a:ext cx="431640" cy="647640"/>
          </a:xfrm>
          <a:prstGeom prst="lightningBol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479880" y="4413240"/>
            <a:ext cx="4018320" cy="1607400"/>
            <a:chOff x="479880" y="4413240"/>
            <a:chExt cx="4018320" cy="1607400"/>
          </a:xfrm>
        </p:grpSpPr>
        <p:grpSp>
          <p:nvGrpSpPr>
            <p:cNvPr id="95" name="Group 9"/>
            <p:cNvGrpSpPr/>
            <p:nvPr/>
          </p:nvGrpSpPr>
          <p:grpSpPr>
            <a:xfrm>
              <a:off x="479880" y="5302440"/>
              <a:ext cx="4018320" cy="718200"/>
              <a:chOff x="479880" y="5302440"/>
              <a:chExt cx="4018320" cy="718200"/>
            </a:xfrm>
          </p:grpSpPr>
          <p:sp>
            <p:nvSpPr>
              <p:cNvPr id="96" name="Text Box 10"/>
              <p:cNvSpPr/>
              <p:nvPr/>
            </p:nvSpPr>
            <p:spPr>
              <a:xfrm>
                <a:off x="479880" y="5302440"/>
                <a:ext cx="9990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H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1"/>
              <p:cNvSpPr/>
              <p:nvPr/>
            </p:nvSpPr>
            <p:spPr>
              <a:xfrm>
                <a:off x="1449360" y="5643720"/>
                <a:ext cx="1467000" cy="19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2"/>
              <p:cNvSpPr/>
              <p:nvPr/>
            </p:nvSpPr>
            <p:spPr>
              <a:xfrm>
                <a:off x="2921400" y="5308920"/>
                <a:ext cx="1576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O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Line 13"/>
            <p:cNvSpPr/>
            <p:nvPr/>
          </p:nvSpPr>
          <p:spPr>
            <a:xfrm flipH="1">
              <a:off x="2863440" y="4413240"/>
              <a:ext cx="1513080" cy="57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4664160" y="4413240"/>
            <a:ext cx="3793320" cy="1607400"/>
            <a:chOff x="4664160" y="4413240"/>
            <a:chExt cx="3793320" cy="1607400"/>
          </a:xfrm>
        </p:grpSpPr>
        <p:grpSp>
          <p:nvGrpSpPr>
            <p:cNvPr id="101" name="Group 15"/>
            <p:cNvGrpSpPr/>
            <p:nvPr/>
          </p:nvGrpSpPr>
          <p:grpSpPr>
            <a:xfrm>
              <a:off x="5434560" y="5283360"/>
              <a:ext cx="3022920" cy="737280"/>
              <a:chOff x="5434560" y="5283360"/>
              <a:chExt cx="3022920" cy="737280"/>
            </a:xfrm>
          </p:grpSpPr>
          <p:sp>
            <p:nvSpPr>
              <p:cNvPr id="102" name="Line 16"/>
              <p:cNvSpPr/>
              <p:nvPr/>
            </p:nvSpPr>
            <p:spPr>
              <a:xfrm>
                <a:off x="6394320" y="5643720"/>
                <a:ext cx="492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 Box 17"/>
              <p:cNvSpPr/>
              <p:nvPr/>
            </p:nvSpPr>
            <p:spPr>
              <a:xfrm>
                <a:off x="6880680" y="5283360"/>
                <a:ext cx="1576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OH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8"/>
              <p:cNvSpPr/>
              <p:nvPr/>
            </p:nvSpPr>
            <p:spPr>
              <a:xfrm>
                <a:off x="5434560" y="5302440"/>
                <a:ext cx="9990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H</a:t>
                </a:r>
                <a:r>
                  <a:rPr b="1" lang="en-US" sz="36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Line 19"/>
            <p:cNvSpPr/>
            <p:nvPr/>
          </p:nvSpPr>
          <p:spPr>
            <a:xfrm>
              <a:off x="4664160" y="4413240"/>
              <a:ext cx="1441440" cy="648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684360" y="260280"/>
            <a:ext cx="7704000" cy="165600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- إنزيمات تحلل الببتيدات الخارجية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- كاربوكسي ببتيديز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rboxypeptid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520344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NH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-Ala-Glu-Lys-Asp-Met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4500720" y="4278240"/>
            <a:ext cx="1440" cy="70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6012000" y="3284640"/>
            <a:ext cx="288720" cy="822240"/>
          </a:xfrm>
          <a:prstGeom prst="lightningBol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50920" y="2152800"/>
            <a:ext cx="855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نزيمات تكسر أخر رابطة ببتيدية ويحرر الحامض الأميني الطرفي من ناحية الطرف الكاربوكسيلي للببتي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96720" y="3500280"/>
            <a:ext cx="8207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NH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cc66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-Ala-Glu-Lys-Asp-Met - Ser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Arial"/>
              </a:rPr>
              <a:t>يكسر أول رابطة ببتيدية ويحرر الحامض الأميني الأول من ناحية الطرف الأمي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411120" y="3213000"/>
            <a:ext cx="7977240" cy="724680"/>
            <a:chOff x="411120" y="3213000"/>
            <a:chExt cx="7977240" cy="724680"/>
          </a:xfrm>
        </p:grpSpPr>
        <p:sp>
          <p:nvSpPr>
            <p:cNvPr id="115" name="AutoShape 6"/>
            <p:cNvSpPr/>
            <p:nvPr/>
          </p:nvSpPr>
          <p:spPr>
            <a:xfrm>
              <a:off x="2268360" y="3213000"/>
              <a:ext cx="216000" cy="647640"/>
            </a:xfrm>
            <a:prstGeom prst="lightningBol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411120" y="3288960"/>
              <a:ext cx="7977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NH</a:t>
              </a:r>
              <a:r>
                <a:rPr b="1" lang="en-US" sz="32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-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Gly - Ala-Glu-Lys-Asp-Met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–COO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8"/>
          <p:cNvGrpSpPr/>
          <p:nvPr/>
        </p:nvGrpSpPr>
        <p:grpSpPr>
          <a:xfrm>
            <a:off x="250920" y="4149720"/>
            <a:ext cx="8569080" cy="2187000"/>
            <a:chOff x="250920" y="4149720"/>
            <a:chExt cx="8569080" cy="2187000"/>
          </a:xfrm>
        </p:grpSpPr>
        <p:sp>
          <p:nvSpPr>
            <p:cNvPr id="118" name="Line 9"/>
            <p:cNvSpPr/>
            <p:nvPr/>
          </p:nvSpPr>
          <p:spPr>
            <a:xfrm>
              <a:off x="4572000" y="41497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250920" y="5200560"/>
              <a:ext cx="8569080" cy="113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Arial"/>
                </a:rPr>
                <a:t>NH</a:t>
              </a:r>
              <a:r>
                <a:rPr b="1" lang="en-US" sz="3200" spc="-1" strike="noStrike" baseline="-25000">
                  <a:solidFill>
                    <a:srgbClr val="0066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- Ala-Glu-Lys-Asp-Met </a:t>
              </a: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–COOH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AutoShape 12"/>
          <p:cNvSpPr/>
          <p:nvPr/>
        </p:nvSpPr>
        <p:spPr>
          <a:xfrm>
            <a:off x="684360" y="260280"/>
            <a:ext cx="7704000" cy="165600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إنزيمات تحلل الببتيدات الخارجية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ب- أمينو ببتيدي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inopeptid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2203200"/>
            <a:ext cx="896472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Arial"/>
              </a:rPr>
              <a:t>يكسر الرابطة الببتيدية الواقعة بين حمضين أمينيين في ببتيد ثنائ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3995640" y="3213000"/>
            <a:ext cx="216000" cy="647640"/>
          </a:xfrm>
          <a:prstGeom prst="lightningBol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411120" y="3289320"/>
            <a:ext cx="7977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NH</a:t>
            </a:r>
            <a:r>
              <a:rPr b="1" lang="en-US" sz="32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y - Ala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–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250920" y="4149720"/>
            <a:ext cx="8569080" cy="1632240"/>
            <a:chOff x="250920" y="4149720"/>
            <a:chExt cx="8569080" cy="1632240"/>
          </a:xfrm>
        </p:grpSpPr>
        <p:sp>
          <p:nvSpPr>
            <p:cNvPr id="126" name="Line 9"/>
            <p:cNvSpPr/>
            <p:nvPr/>
          </p:nvSpPr>
          <p:spPr>
            <a:xfrm>
              <a:off x="4572000" y="41497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0"/>
            <p:cNvSpPr/>
            <p:nvPr/>
          </p:nvSpPr>
          <p:spPr>
            <a:xfrm>
              <a:off x="250920" y="5200560"/>
              <a:ext cx="8569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la</a:t>
              </a:r>
              <a:r>
                <a:rPr b="1" lang="ar-SA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+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Gl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12"/>
          <p:cNvSpPr/>
          <p:nvPr/>
        </p:nvSpPr>
        <p:spPr>
          <a:xfrm>
            <a:off x="684360" y="260280"/>
            <a:ext cx="7704000" cy="165600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- إنزيمات تحلل الببتيدات الخارجية</a:t>
            </a:r>
            <a:br>
              <a:rPr sz="4400"/>
            </a:b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ج- داي ببتيديز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peptid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1620720" y="189000"/>
            <a:ext cx="6336000" cy="936360"/>
          </a:xfrm>
          <a:prstGeom prst="flowChartAlternateProcess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cc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920" y="-360"/>
            <a:ext cx="549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يض الأحماض الأمين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"/>
          <p:cNvGrpSpPr/>
          <p:nvPr/>
        </p:nvGrpSpPr>
        <p:grpSpPr>
          <a:xfrm>
            <a:off x="1839960" y="1197000"/>
            <a:ext cx="3828960" cy="2735280"/>
            <a:chOff x="1839960" y="1197000"/>
            <a:chExt cx="3828960" cy="2735280"/>
          </a:xfrm>
        </p:grpSpPr>
        <p:grpSp>
          <p:nvGrpSpPr>
            <p:cNvPr id="133" name="Group 5"/>
            <p:cNvGrpSpPr/>
            <p:nvPr/>
          </p:nvGrpSpPr>
          <p:grpSpPr>
            <a:xfrm>
              <a:off x="1839960" y="1197000"/>
              <a:ext cx="3828960" cy="2735280"/>
              <a:chOff x="1839960" y="1197000"/>
              <a:chExt cx="3828960" cy="2735280"/>
            </a:xfrm>
          </p:grpSpPr>
          <p:sp>
            <p:nvSpPr>
              <p:cNvPr id="134" name="Rectangle 6"/>
              <p:cNvSpPr/>
              <p:nvPr/>
            </p:nvSpPr>
            <p:spPr>
              <a:xfrm>
                <a:off x="3926160" y="2391120"/>
                <a:ext cx="3492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7"/>
              <p:cNvSpPr/>
              <p:nvPr/>
            </p:nvSpPr>
            <p:spPr>
              <a:xfrm>
                <a:off x="1839960" y="2465280"/>
                <a:ext cx="413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2204640" y="2465280"/>
                <a:ext cx="3895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9"/>
              <p:cNvSpPr/>
              <p:nvPr/>
            </p:nvSpPr>
            <p:spPr>
              <a:xfrm>
                <a:off x="2579400" y="2707560"/>
                <a:ext cx="4680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"/>
              <p:cNvSpPr/>
              <p:nvPr/>
            </p:nvSpPr>
            <p:spPr>
              <a:xfrm>
                <a:off x="2752560" y="2229840"/>
                <a:ext cx="168480" cy="6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 baseline="-25000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1"/>
              <p:cNvSpPr/>
              <p:nvPr/>
            </p:nvSpPr>
            <p:spPr>
              <a:xfrm>
                <a:off x="3182040" y="2608560"/>
                <a:ext cx="609840" cy="102960"/>
              </a:xfrm>
              <a:custGeom>
                <a:avLst/>
                <a:gdLst>
                  <a:gd name="textAreaLeft" fmla="*/ 0 w 609840"/>
                  <a:gd name="textAreaRight" fmla="*/ 610200 w 60984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32" h="50">
                    <a:moveTo>
                      <a:pt x="232" y="29"/>
                    </a:moveTo>
                    <a:lnTo>
                      <a:pt x="232" y="20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50"/>
                    </a:lnTo>
                    <a:lnTo>
                      <a:pt x="23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2"/>
              <p:cNvSpPr/>
              <p:nvPr/>
            </p:nvSpPr>
            <p:spPr>
              <a:xfrm>
                <a:off x="5279400" y="2465280"/>
                <a:ext cx="3895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3"/>
              <p:cNvSpPr/>
              <p:nvPr/>
            </p:nvSpPr>
            <p:spPr>
              <a:xfrm>
                <a:off x="4512600" y="2608560"/>
                <a:ext cx="576000" cy="102960"/>
              </a:xfrm>
              <a:custGeom>
                <a:avLst/>
                <a:gdLst>
                  <a:gd name="textAreaLeft" fmla="*/ 0 w 576000"/>
                  <a:gd name="textAreaRight" fmla="*/ 576360 w 57600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19" h="50">
                    <a:moveTo>
                      <a:pt x="0" y="20"/>
                    </a:moveTo>
                    <a:lnTo>
                      <a:pt x="0" y="29"/>
                    </a:lnTo>
                    <a:lnTo>
                      <a:pt x="219" y="50"/>
                    </a:lnTo>
                    <a:lnTo>
                      <a:pt x="219" y="25"/>
                    </a:lnTo>
                    <a:lnTo>
                      <a:pt x="219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4"/>
              <p:cNvSpPr/>
              <p:nvPr/>
            </p:nvSpPr>
            <p:spPr>
              <a:xfrm>
                <a:off x="3974760" y="1391760"/>
                <a:ext cx="323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5"/>
              <p:cNvSpPr/>
              <p:nvPr/>
            </p:nvSpPr>
            <p:spPr>
              <a:xfrm>
                <a:off x="4303800" y="1391760"/>
                <a:ext cx="404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6"/>
              <p:cNvSpPr/>
              <p:nvPr/>
            </p:nvSpPr>
            <p:spPr>
              <a:xfrm>
                <a:off x="4687560" y="1391760"/>
                <a:ext cx="404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7"/>
              <p:cNvSpPr/>
              <p:nvPr/>
            </p:nvSpPr>
            <p:spPr>
              <a:xfrm>
                <a:off x="5067720" y="1197000"/>
                <a:ext cx="1548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18"/>
              <p:cNvSpPr/>
              <p:nvPr/>
            </p:nvSpPr>
            <p:spPr>
              <a:xfrm>
                <a:off x="4028760" y="1882080"/>
                <a:ext cx="131040" cy="4424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442440"/>
                  <a:gd name="textAreaBottom" fmla="*/ 442800 h 442440"/>
                </a:gdLst>
                <a:ahLst/>
                <a:rect l="textAreaLeft" t="textAreaTop" r="textAreaRight" b="textAreaBottom"/>
                <a:pathLst>
                  <a:path w="50" h="214">
                    <a:moveTo>
                      <a:pt x="22" y="214"/>
                    </a:moveTo>
                    <a:lnTo>
                      <a:pt x="32" y="214"/>
                    </a:lnTo>
                    <a:lnTo>
                      <a:pt x="5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2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9"/>
              <p:cNvSpPr/>
              <p:nvPr/>
            </p:nvSpPr>
            <p:spPr>
              <a:xfrm>
                <a:off x="3955320" y="3322440"/>
                <a:ext cx="3358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0"/>
              <p:cNvSpPr/>
              <p:nvPr/>
            </p:nvSpPr>
            <p:spPr>
              <a:xfrm>
                <a:off x="4057560" y="2875320"/>
                <a:ext cx="131760" cy="4471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447120"/>
                  <a:gd name="textAreaBottom" fmla="*/ 447480 h 447120"/>
                </a:gdLst>
                <a:ahLst/>
                <a:rect l="textAreaLeft" t="textAreaTop" r="textAreaRight" b="textAreaBottom"/>
                <a:pathLst>
                  <a:path w="50" h="216">
                    <a:moveTo>
                      <a:pt x="32" y="0"/>
                    </a:moveTo>
                    <a:lnTo>
                      <a:pt x="22" y="0"/>
                    </a:lnTo>
                    <a:lnTo>
                      <a:pt x="0" y="216"/>
                    </a:lnTo>
                    <a:lnTo>
                      <a:pt x="25" y="216"/>
                    </a:lnTo>
                    <a:lnTo>
                      <a:pt x="50" y="21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21"/>
            <p:cNvSpPr/>
            <p:nvPr/>
          </p:nvSpPr>
          <p:spPr>
            <a:xfrm>
              <a:off x="3528360" y="1819800"/>
              <a:ext cx="500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22"/>
          <p:cNvSpPr/>
          <p:nvPr/>
        </p:nvSpPr>
        <p:spPr>
          <a:xfrm>
            <a:off x="3492360" y="2276640"/>
            <a:ext cx="289080" cy="1008000"/>
          </a:xfrm>
          <a:prstGeom prst="lightningBol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3"/>
          <p:cNvGrpSpPr/>
          <p:nvPr/>
        </p:nvGrpSpPr>
        <p:grpSpPr>
          <a:xfrm>
            <a:off x="1098000" y="3933720"/>
            <a:ext cx="2610000" cy="1579320"/>
            <a:chOff x="1098000" y="3933720"/>
            <a:chExt cx="2610000" cy="1579320"/>
          </a:xfrm>
        </p:grpSpPr>
        <p:sp>
          <p:nvSpPr>
            <p:cNvPr id="152" name="Line 24"/>
            <p:cNvSpPr/>
            <p:nvPr/>
          </p:nvSpPr>
          <p:spPr>
            <a:xfrm flipH="1">
              <a:off x="2842920" y="3933720"/>
              <a:ext cx="865080" cy="834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5"/>
            <p:cNvSpPr/>
            <p:nvPr/>
          </p:nvSpPr>
          <p:spPr>
            <a:xfrm>
              <a:off x="1098000" y="4725720"/>
              <a:ext cx="1150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 Black"/>
                </a:rPr>
                <a:t>NH</a:t>
              </a:r>
              <a:r>
                <a:rPr b="1" lang="en-US" sz="4000" spc="-1" strike="noStrike" baseline="-25000">
                  <a:solidFill>
                    <a:srgbClr val="000000"/>
                  </a:solidFill>
                  <a:latin typeface="Arial Black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6"/>
          <p:cNvSpPr/>
          <p:nvPr/>
        </p:nvSpPr>
        <p:spPr>
          <a:xfrm>
            <a:off x="5316480" y="481320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7"/>
          <p:cNvSpPr/>
          <p:nvPr/>
        </p:nvSpPr>
        <p:spPr>
          <a:xfrm>
            <a:off x="5765760" y="502272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5853240" y="4608360"/>
            <a:ext cx="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29"/>
          <p:cNvGrpSpPr/>
          <p:nvPr/>
        </p:nvGrpSpPr>
        <p:grpSpPr>
          <a:xfrm>
            <a:off x="4427640" y="3429000"/>
            <a:ext cx="3765600" cy="2901600"/>
            <a:chOff x="4427640" y="3429000"/>
            <a:chExt cx="3765600" cy="2901600"/>
          </a:xfrm>
        </p:grpSpPr>
        <p:sp>
          <p:nvSpPr>
            <p:cNvPr id="158" name="Line 30"/>
            <p:cNvSpPr/>
            <p:nvPr/>
          </p:nvSpPr>
          <p:spPr>
            <a:xfrm>
              <a:off x="4427640" y="3956040"/>
              <a:ext cx="791640" cy="841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Group 31"/>
            <p:cNvGrpSpPr/>
            <p:nvPr/>
          </p:nvGrpSpPr>
          <p:grpSpPr>
            <a:xfrm>
              <a:off x="5414400" y="3429000"/>
              <a:ext cx="2778840" cy="2901600"/>
              <a:chOff x="5414400" y="3429000"/>
              <a:chExt cx="2778840" cy="2901600"/>
            </a:xfrm>
          </p:grpSpPr>
          <p:sp>
            <p:nvSpPr>
              <p:cNvPr id="160" name="Rectangle 32"/>
              <p:cNvSpPr/>
              <p:nvPr/>
            </p:nvSpPr>
            <p:spPr>
              <a:xfrm>
                <a:off x="6374880" y="4716360"/>
                <a:ext cx="3690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33"/>
              <p:cNvSpPr/>
              <p:nvPr/>
            </p:nvSpPr>
            <p:spPr>
              <a:xfrm>
                <a:off x="5414400" y="4777920"/>
                <a:ext cx="82656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O =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34"/>
              <p:cNvSpPr/>
              <p:nvPr/>
            </p:nvSpPr>
            <p:spPr>
              <a:xfrm>
                <a:off x="7803720" y="4797720"/>
                <a:ext cx="38952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35"/>
              <p:cNvSpPr/>
              <p:nvPr/>
            </p:nvSpPr>
            <p:spPr>
              <a:xfrm>
                <a:off x="6994080" y="4950360"/>
                <a:ext cx="608400" cy="112680"/>
              </a:xfrm>
              <a:custGeom>
                <a:avLst/>
                <a:gdLst>
                  <a:gd name="textAreaLeft" fmla="*/ 0 w 608400"/>
                  <a:gd name="textAreaRight" fmla="*/ 608760 w 60840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219" h="50">
                    <a:moveTo>
                      <a:pt x="0" y="20"/>
                    </a:moveTo>
                    <a:lnTo>
                      <a:pt x="0" y="29"/>
                    </a:lnTo>
                    <a:lnTo>
                      <a:pt x="219" y="50"/>
                    </a:lnTo>
                    <a:lnTo>
                      <a:pt x="219" y="25"/>
                    </a:lnTo>
                    <a:lnTo>
                      <a:pt x="219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36"/>
              <p:cNvSpPr/>
              <p:nvPr/>
            </p:nvSpPr>
            <p:spPr>
              <a:xfrm>
                <a:off x="6423840" y="3638880"/>
                <a:ext cx="323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37"/>
              <p:cNvSpPr/>
              <p:nvPr/>
            </p:nvSpPr>
            <p:spPr>
              <a:xfrm>
                <a:off x="6773760" y="3638880"/>
                <a:ext cx="404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38"/>
              <p:cNvSpPr/>
              <p:nvPr/>
            </p:nvSpPr>
            <p:spPr>
              <a:xfrm>
                <a:off x="7178040" y="3638880"/>
                <a:ext cx="40464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39"/>
              <p:cNvSpPr/>
              <p:nvPr/>
            </p:nvSpPr>
            <p:spPr>
              <a:xfrm>
                <a:off x="7583040" y="3429000"/>
                <a:ext cx="16380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-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40"/>
              <p:cNvSpPr/>
              <p:nvPr/>
            </p:nvSpPr>
            <p:spPr>
              <a:xfrm>
                <a:off x="6483240" y="4167720"/>
                <a:ext cx="138240" cy="47736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77360"/>
                  <a:gd name="textAreaBottom" fmla="*/ 477720 h 477360"/>
                </a:gdLst>
                <a:ahLst/>
                <a:rect l="textAreaLeft" t="textAreaTop" r="textAreaRight" b="textAreaBottom"/>
                <a:pathLst>
                  <a:path w="50" h="214">
                    <a:moveTo>
                      <a:pt x="22" y="214"/>
                    </a:moveTo>
                    <a:lnTo>
                      <a:pt x="32" y="214"/>
                    </a:lnTo>
                    <a:lnTo>
                      <a:pt x="50" y="0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22" y="21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41"/>
              <p:cNvSpPr/>
              <p:nvPr/>
            </p:nvSpPr>
            <p:spPr>
              <a:xfrm>
                <a:off x="6406560" y="5720760"/>
                <a:ext cx="3358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Black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42"/>
              <p:cNvSpPr/>
              <p:nvPr/>
            </p:nvSpPr>
            <p:spPr>
              <a:xfrm>
                <a:off x="6513480" y="5239440"/>
                <a:ext cx="138960" cy="480960"/>
              </a:xfrm>
              <a:custGeom>
                <a:avLst/>
                <a:gdLst>
                  <a:gd name="textAreaLeft" fmla="*/ 0 w 138960"/>
                  <a:gd name="textAreaRight" fmla="*/ 139320 w 138960"/>
                  <a:gd name="textAreaTop" fmla="*/ 0 h 480960"/>
                  <a:gd name="textAreaBottom" fmla="*/ 481320 h 480960"/>
                </a:gdLst>
                <a:ahLst/>
                <a:rect l="textAreaLeft" t="textAreaTop" r="textAreaRight" b="textAreaBottom"/>
                <a:pathLst>
                  <a:path w="50" h="216">
                    <a:moveTo>
                      <a:pt x="32" y="0"/>
                    </a:moveTo>
                    <a:lnTo>
                      <a:pt x="22" y="0"/>
                    </a:lnTo>
                    <a:lnTo>
                      <a:pt x="0" y="216"/>
                    </a:lnTo>
                    <a:lnTo>
                      <a:pt x="25" y="216"/>
                    </a:lnTo>
                    <a:lnTo>
                      <a:pt x="50" y="216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3"/>
              <p:cNvSpPr/>
              <p:nvPr/>
            </p:nvSpPr>
            <p:spPr>
              <a:xfrm>
                <a:off x="5952960" y="4100400"/>
                <a:ext cx="883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4:00:19Z</dcterms:created>
  <dc:creator>mimo</dc:creator>
  <dc:description/>
  <dc:language>en-US</dc:language>
  <cp:lastModifiedBy>ksu</cp:lastModifiedBy>
  <dcterms:modified xsi:type="dcterms:W3CDTF">2014-01-19T04:43:29Z</dcterms:modified>
  <cp:revision>115</cp:revision>
  <dc:subject/>
  <dc:title>تمثيل البروتينات Protein metabolism</dc:title>
</cp:coreProperties>
</file>