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3BB-C734-40B1-81FF-7C29FB96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BD7-1431-48BA-A0AD-0389939E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C48-3B0A-4DB9-A488-ECE578F9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147-6610-47DB-9E07-6250BDED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E0A-CB27-4808-B0EA-8658D8CB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15A-0555-4FD9-B92C-799DBE9F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487-FA06-4B1E-A387-02E42D1F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96B-9A9A-41C1-8E92-7B809675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6ED-DBC7-4DCD-8750-FD02D866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31C-0B75-4097-872C-23A9860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CFF-74DB-4F21-8CC2-B7B7BAB2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41E-AEA1-41AA-A964-B72D8556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6BC8-6FF4-40AC-BF45-1AF01D715C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محاضرة الرابعة عشر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قانون التوزيع المستقل (الحر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سلوك زوج واحد من الاليلات 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) قانون الانعزال ينعزل فردي أي زوج اليلي عن بعضها البعض عند تكوين الامشا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ن : زوجان من الاليلات 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:1:1: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انون التوزيع المستق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”تنعزل الجينات التي توجد في كروموسومات مختلفة عن بعضها البعض وبطريقة مستقلة عند تكوين ازواج الامشا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باتات صفراء مستديرة البذور اصيلة × نباتات ذات بذور خضراء مجعدة اصل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أ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باتات ذات ذات بذور صفراء مستديرة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1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بذور مستديرة صفراء      اتحادات ابوية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بذور مجعدة صفراء          جدي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بذور مستديرة خضراء        جدي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بذور مجعدة خضراء         اتحادات ا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556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عند وضع الارقام على هيئة نسب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:3:3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                         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ستديرة ×مجعد               صفراء × خضر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ستدير                          صفر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ستدير مجعد                   صفراء و خضر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2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3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               (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42:41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                           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: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3645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692280"/>
            <a:ext cx="0" cy="43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1484280"/>
            <a:ext cx="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11640" y="1628640"/>
            <a:ext cx="144000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لقيح  ذات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63528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635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ي ان كل زوج ينعزل بطريقة متستقلة عن الزوج الاخر( قاون الانعزال ينطبق دون تغيير على كل زوج على حده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رقام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شير الى ان هناك زوجين من الالي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سياد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صفراء &gt; اخض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مستديرة &gt; مجع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خدام الرموز لتحليل التمر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اصفر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اخض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مستدير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مجع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 استخدام مربع بانت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مشاج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نواع لكل ا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من الجدول استخرج نسبه الأشكال المظهريه ونسبه التراكيب الوراث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= هجين ثنائي = زوجين من الاليلات غير المتطابقه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واع من الامش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لقيح ثنائي الهجين = تلقيح ناتج من تزاوج فردين يختلفان فيما بينهما في زوجين من الأليلات ( الصفات المتفارقه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1341360"/>
          <a:ext cx="6697800" cy="2928960"/>
        </p:xfrm>
        <a:graphic>
          <a:graphicData uri="http://schemas.openxmlformats.org/drawingml/2006/table">
            <a:tbl>
              <a:tblPr/>
              <a:tblGrid>
                <a:gridCol w="766800"/>
                <a:gridCol w="1482840"/>
                <a:gridCol w="1484280"/>
                <a:gridCol w="1481040"/>
                <a:gridCol w="148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لقيح اختباري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 x A-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رد متنحي مزدو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1:1: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 x Aa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اعدة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قانون التوزيع المستقل ليس قانونا عاما ، لكنه ينطبق فقط على أزواج الجينات التي توجد في أزواج كرموسوميه متطابقه مختل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النسب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النسب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1:1: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دل على ان هناك زوجين من الجي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. فردان خليطان في زوجين من الالي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. توزيع مستق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. سياده تامه لأحد الأليلين في زو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الالي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. اخصاب عشوائ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1:1: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. فرد خليط في زوجين من الاليلا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رد متنحي مزدو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. توزيع مستق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. اخصاب عشوا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836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ب:  استخدام طريقه التشع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حشرات طويله الأجنحه رماديه الجسم احبيله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حشرات مختزله أنبوسيه أصيله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حشرات طويله الأجنحه رماديه الجس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طويله الاجنحه رمادي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طويله الاجنحه رمادي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x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62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طويله رماديه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1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طويله انبوس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0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ختزله رماد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8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طويله انبو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7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لل التمرين وراثي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زوجان من الاليل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طويله   &gt;  مختزله      رمادي &gt; انبوس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=  طويله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=  مختزل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= رماديه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= انبوسي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 Bb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 Bb  x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 X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836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916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40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م عدد انواع الامشاج الممكن انتاجها بواسطة كل م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ذكر عدد انواع التراكيب الوراثية الممكن الجصول عليها في كل من التزاوجات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71640" y="692280"/>
          <a:ext cx="7138800" cy="4024080"/>
        </p:xfrm>
        <a:graphic>
          <a:graphicData uri="http://schemas.openxmlformats.org/drawingml/2006/table">
            <a:tbl>
              <a:tblPr/>
              <a:tblGrid>
                <a:gridCol w="1784160"/>
                <a:gridCol w="1785960"/>
                <a:gridCol w="1784520"/>
                <a:gridCol w="1784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زوج الا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زوج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راكيب الوراث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شكال المظهري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a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×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ِ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b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×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 flipV="1">
            <a:off x="2916360" y="22046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284640"/>
            <a:ext cx="718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08360" y="2133720"/>
            <a:ext cx="7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08360" y="2924280"/>
            <a:ext cx="7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780000" y="3789360"/>
            <a:ext cx="64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16360" y="2997360"/>
            <a:ext cx="647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2492280"/>
            <a:ext cx="718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4149720"/>
            <a:ext cx="718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16360" y="3860280"/>
            <a:ext cx="72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21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2492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386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422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45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306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3:47:38Z</dcterms:created>
  <dc:creator>هلا</dc:creator>
  <dc:description/>
  <dc:language>en-US</dc:language>
  <cp:lastModifiedBy>User</cp:lastModifiedBy>
  <dcterms:modified xsi:type="dcterms:W3CDTF">2008-03-03T19:42:01Z</dcterms:modified>
  <cp:revision>5</cp:revision>
  <dc:subject/>
  <dc:title>المحاضرة الثالثة عشرة </dc:title>
</cp:coreProperties>
</file>