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AD4-D88A-4210-AF2A-0DFD2550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A85-4F80-4B7F-A411-9C143B6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BCA-EBF5-4A6D-AC08-E66FDDE3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E75-30DB-4A38-AF40-07FDEEC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1D1-84F9-45CA-B802-E8748E9D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3F1-4388-442E-87AF-D4F9818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BF2-13A1-45F9-8701-D3889A4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A75-FAB2-4207-869B-2CC17FF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0FE-2F2C-4A4D-B238-18A1790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6C9-1C32-4447-8F46-3999104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2C0-BBF3-4722-A879-6DA4608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46F-B0C6-47F9-9FEE-D276328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D5CA-34E9-4F53-B136-909FBCE5D7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محاضرة الرابعة ع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قانون التوزيع المستقل (الح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سلوك زوج واحد من الاليلات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قانون الانعزال ينعزل فردي أي زوج اليلي عن بعضها البعض عند تكوين الامش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ن : زوجان من الاليلات 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انون التوزيع المستق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”تنعزل الجينات التي توجد في كروموسومات مختلفة عن بعضها البعض وبطريقة مستقلة عند تكوين ازواج الامش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باتات صفراء مستديرة البذور اصيلة × نباتات ذات بذور خضراء مجعدة اصل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أ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باتات ذات ذات بذور صفراء مستديرة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1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بذور مستديرة صفراء      اتحادات ابوية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بذور مجعدة صفراء          جد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بذور مستديرة خضراء        جد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بذور مجعدة خضراء         اتحادات ا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5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د وضع الارقام على هيئة نسب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:3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                         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ستديرة ×مجعد               صفراء × خض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ستدير                          صف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ستدير مجعد                   صفراء و خض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2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              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42:41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                           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: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364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692280"/>
            <a:ext cx="0" cy="43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148428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1640" y="1628640"/>
            <a:ext cx="144000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لقيح  ذات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63528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635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ان كل زوج ينعزل بطريقة متستقلة عن الزوج الاخر( قاون الانعزال ينطبق دون تغيير على كل زوج على حد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رقام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شير الى ان هناك زوجين من الالي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ياد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راء &gt; اخ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مستديرة &gt; مجع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خدام الرموز لتحليل التمر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اصفر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اخ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مستدير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مجع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 استخدام مربع بانت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مشا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نواع لكل ا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من الجدول استخرج نسبه الأشكال المظهريه ونسبه التراكيب الوراث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هجين ثنائي = زوجين من الاليلات غير المتطابقه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واع من الامش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لقيح ثنائي الهجين = تلقيح ناتج من تزاوج فردين يختلفان فيما بينهما في زوجين من الأليلات ( الصفات المتفارقه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341360"/>
          <a:ext cx="6697800" cy="2928960"/>
        </p:xfrm>
        <a:graphic>
          <a:graphicData uri="http://schemas.openxmlformats.org/drawingml/2006/table">
            <a:tbl>
              <a:tblPr/>
              <a:tblGrid>
                <a:gridCol w="766800"/>
                <a:gridCol w="1482840"/>
                <a:gridCol w="1484280"/>
                <a:gridCol w="1481040"/>
                <a:gridCol w="148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لقيح اختباري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x A-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متنحي مزد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 x Aa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عدة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قانون التوزيع المستقل ليس قانونا عاما ، لكنه ينطبق فقط على أزواج الجينات التي توجد في أزواج كرموسوميه متطابقه مختل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النسب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النسب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دل على ان هناك زوجين من الجي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. فردان خليطان في زوجين من الالي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توزيع مستق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سياده تامه لأحد الأليلين في زو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الالي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اخصاب عشوائ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1:1: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. فرد خليط في زوجين من الاليلا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متنحي مزد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توزيع مستق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. اخصاب عشوا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83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ب:  استخدام طريقه التشع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حشرات طويله الأجنحه رماديه الجسم احبيل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شرات مختزله أنبوسيه أصيله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حشرات طويله الأجنحه رماديه الج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طويله الاجنحه رمادي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طويله الاجنحه رمادي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x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62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طويله رماديه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1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طويله انبوس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0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ختزله رماد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8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طويله انبو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7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لل التمرين وراثي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:3:3: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زوجان من الاليل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طويله   &gt;  مختزله      رمادي &gt; انبوس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=  طويله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 مختزل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رماديه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= انبوسي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 B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 Bb  x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 X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83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916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40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م عدد انواع الامشاج الممكن انتاجها بواسطة كل 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ذكر عدد انواع التراكيب الوراثية الممكن الجصول عليها في كل من التزاوج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71640" y="692280"/>
          <a:ext cx="7138800" cy="4024080"/>
        </p:xfrm>
        <a:graphic>
          <a:graphicData uri="http://schemas.openxmlformats.org/drawingml/2006/table">
            <a:tbl>
              <a:tblPr/>
              <a:tblGrid>
                <a:gridCol w="1784160"/>
                <a:gridCol w="1785960"/>
                <a:gridCol w="1784520"/>
                <a:gridCol w="1784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زوج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زوج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راكيب الوراث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شكال المظهري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ِ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b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×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 flipV="1">
            <a:off x="2916360" y="2204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284640"/>
            <a:ext cx="718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08360" y="2133720"/>
            <a:ext cx="7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08360" y="2924280"/>
            <a:ext cx="7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80000" y="3789360"/>
            <a:ext cx="6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16360" y="299736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492280"/>
            <a:ext cx="718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149720"/>
            <a:ext cx="718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16360" y="3860280"/>
            <a:ext cx="72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21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2492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86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422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User</cp:lastModifiedBy>
  <dcterms:modified xsi:type="dcterms:W3CDTF">2008-03-03T19:42:01Z</dcterms:modified>
  <cp:revision>5</cp:revision>
  <dc:subject/>
  <dc:title>المحاضرة الثالثة عشرة </dc:title>
</cp:coreProperties>
</file>