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3.png" ContentType="image/png"/>
  <Override PartName="/ppt/media/image3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8.png" ContentType="image/png"/>
  <Override PartName="/ppt/media/image38.png" ContentType="image/png"/>
  <Override PartName="/ppt/media/image14.jpeg" ContentType="image/jpeg"/>
  <Override PartName="/ppt/media/image41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9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4CA3-81FC-4B97-BF0B-05CAAF18514D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3012-F024-45C7-B7EE-6DFB5ECA4A23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C87F-CFF4-4E79-8903-F6A8CB8E2E13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E000-E997-48CF-9A69-EB6A1B4FCDEC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C0C8-63D4-4C59-A999-83B385895AFD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4C53-5BB6-4ACC-A683-DE0EA62FA101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plantscience.com/botanical_biotechnology_biology_chemistry/microbiology_methods/basic_techniques_biotechnologies/streaking_technique_obtain_pure_cultures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BF96-C56C-4996-93FD-97F1C88B69B1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F0B3-7AC3-46D0-A400-3717A924C004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CEBA-439C-4BA9-A466-A2A77A371124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F0E8-1B40-43E3-9128-BC35FF21B2DE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D85D-6C5F-448E-B4BB-64A618D8B288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A4EB-AA13-47D0-809A-7E840C6D7386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4486-F11C-4ADD-8196-10BC480FBBF5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33D8-778D-4D5C-BF4A-6080E8BCE481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afeproduce.eu/PersonalHygien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790E-B9F1-4A97-9AF2-E25B1B623019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2650-21ED-4CC3-B8C9-C2E725CE9D09}" type="slidenum">
              <a:rPr b="0" lang="ar-S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916-DAD8-4D5D-BC65-569B1DB5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3CE-CAA8-4AF7-B816-F06BC5A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F42-151E-44E5-AE16-238D76CB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271-3615-4C13-ABFC-3CEC04D9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584B-29F0-4BA6-A2A4-9DA1BDD6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63FF-F063-41B4-911B-9F486760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99F7-5F1E-4AE8-89FC-8BD00F7F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F957-A327-4327-8795-6020D518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C611-3F0D-489D-8188-CE37359B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2C16-4D7D-4EB1-93D4-A6451083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F690-C898-4F26-90A2-0A65449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E5C-2255-4842-8986-A4F3837A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A359-4AAA-418A-BB00-E3327FB6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365A-6C10-4B70-B862-E0F61A67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E206-EB48-496A-A942-B07336F0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DD92-CDB4-433E-AC7D-F9215B4A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320B-D722-4990-A562-C88E50A3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6D615-8481-4677-BF65-A8F1A3B9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3E71-D735-4F0B-A8E0-D434DC76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383E-68E0-455F-9400-511B9537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83C9-2899-4BD5-80F1-37A771D7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57D1-8F87-49AF-9E26-83D2EBD5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367-E4E3-4861-A481-DA4DB965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4FAB-63B6-4EC6-96D7-B712C9D5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1162-3393-4F48-B762-588ADD0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703E-6C5C-4F03-A58D-0664244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E692-5CCA-4F33-B930-41D0A42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22D7-2B3B-4A08-B425-3E204A4E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2012-ADE1-41B5-99FE-5A2EE049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F87B-EA8D-40C6-8794-06603699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C725-C214-46C9-8ABE-CD2C1EFD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B615-BB48-49C0-B4E7-AA31AEA1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C436-5287-4314-93D7-70B5A732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624-8F95-4D57-A5F3-0E5AE4C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FFD67-3E69-4F31-8F46-6998E67F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B5A0-5823-42D1-A4C8-50C9E50E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2CB8-65DD-490A-AC2B-A95A002F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3B0B-66DA-489C-8D9E-DFC60A8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02BF-B437-4E31-9E9F-81A431A4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5FC3-0C3E-4DAC-98A6-5E6F6350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9EF2-BB4B-4AC9-A9BE-B56BB122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B5F85-DA08-401E-A45D-96E80AD8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A290-1E6D-4D3D-ADAB-D3AE6D9C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1A7F6-8F21-45E6-BE98-3CD62C43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DA3-13A7-44EC-B338-CF59CCC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F4B0E-D877-46D4-A7D6-88E8D6E1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BCB6-02EE-4282-B75A-1D8B56FD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AF9F6-7B24-4F2D-98B4-77F135E0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78E6-817D-44D3-8812-D572D1E6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E47F-E59D-4ADC-890A-5DB1E7EA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158ED-8168-44B0-9AC0-0A9BD167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ACD51-9BF1-4194-AE55-6C22AFAF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342E4-F304-43AD-836D-CCB6D66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F30FF-79BA-450C-AA76-8BDEB76E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3878-4644-40CB-B5F9-429D8069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C4A-61BC-4588-9ED8-741A8C31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CF6A-1C3A-414E-B019-FBE66994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EED-5A50-4966-BE1A-46BC18A1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9EE-BAD8-4BD2-8B31-A0724243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D36-2C51-4EC1-86E3-F4470FC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14BA-1626-412A-88C5-24249D3D58DD}" type="slidenum">
              <a:rPr b="0" lang="ar-SY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9DB7-FC16-477D-802D-330DAD3BFC5F}" type="slidenum">
              <a:rPr b="0" lang="ar-S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D144-2238-4576-83E3-CAB2C638C1A6}" type="slidenum">
              <a:rPr b="0" lang="ar-SY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D0F2-2586-43E9-9CA4-E120C61E6941}" type="slidenum">
              <a:rPr b="0" lang="ar-SY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40546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564c4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c7f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6563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6379-1B43-4056-8125-0FB3695B7E8B}" type="slidenum">
              <a:rPr b="0" lang="ar-SY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25.pn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hyperlink" Target="http://scienceprofonline.googlepages.com/ArmPlate.png/ArmPlate-full.png" TargetMode="External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14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25360"/>
            <a:ext cx="7188120" cy="1481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Berlin Sans FB Demi"/>
              </a:rPr>
              <a:t>140 Micro</a:t>
            </a:r>
            <a:r>
              <a:rPr b="0" lang="ar-SA" sz="4000" spc="-1" strike="noStrike">
                <a:solidFill>
                  <a:srgbClr val="a50021"/>
                </a:solidFill>
                <a:latin typeface="Berlin Sans FB Demi"/>
              </a:rPr>
              <a:t> </a:t>
            </a:r>
            <a:endParaRPr b="0" lang="en-US" sz="4000" spc="-1" strike="noStrike">
              <a:solidFill>
                <a:srgbClr val="4a606e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14" name="Subtitle 2"/>
          <p:cNvSpPr/>
          <p:nvPr/>
        </p:nvSpPr>
        <p:spPr>
          <a:xfrm>
            <a:off x="1447920" y="32004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606e"/>
                </a:solidFill>
                <a:latin typeface="Calibri"/>
              </a:rPr>
              <a:t>Lab 4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lation of microbes from different environments</a:t>
            </a: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http://2.bp.blogspot.com/_7_D70uHS51E/S6-4wokW3xI/AAAAAAAAAzI/UjZ86K_12do/s320/microbiology+and+biotechnology.jpg"/>
          <p:cNvPicPr/>
          <p:nvPr/>
        </p:nvPicPr>
        <p:blipFill>
          <a:blip r:embed="rId2"/>
          <a:stretch/>
        </p:blipFill>
        <p:spPr>
          <a:xfrm>
            <a:off x="2209680" y="4495680"/>
            <a:ext cx="2673360" cy="1905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reiver3.files.wordpress.com/2010/11/microbiology_one.jpg"/>
          <p:cNvPicPr/>
          <p:nvPr/>
        </p:nvPicPr>
        <p:blipFill>
          <a:blip r:embed="rId3"/>
          <a:stretch/>
        </p:blipFill>
        <p:spPr>
          <a:xfrm>
            <a:off x="4876920" y="4495680"/>
            <a:ext cx="1981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228600" y="1066680"/>
            <a:ext cx="86868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c27"/>
                </a:solidFill>
                <a:latin typeface="Calibri"/>
              </a:rPr>
              <a:t>These plates of bacteri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be incubated at 37° C for 24 hours and then stored at refrigerator until next week when you will observe for res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6" descr="030_Incubator_with_plates_P7091090"/>
          <p:cNvPicPr/>
          <p:nvPr/>
        </p:nvPicPr>
        <p:blipFill>
          <a:blip r:embed="rId1"/>
          <a:stretch/>
        </p:blipFill>
        <p:spPr>
          <a:xfrm>
            <a:off x="2362320" y="2971800"/>
            <a:ext cx="4098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Flowchart: Terminator 3"/>
          <p:cNvGrpSpPr/>
          <p:nvPr/>
        </p:nvGrpSpPr>
        <p:grpSpPr>
          <a:xfrm>
            <a:off x="85680" y="1762200"/>
            <a:ext cx="1650960" cy="1041480"/>
            <a:chOff x="85680" y="1762200"/>
            <a:chExt cx="1650960" cy="1041480"/>
          </a:xfrm>
        </p:grpSpPr>
        <p:pic>
          <p:nvPicPr>
            <p:cNvPr id="274" name="Flowchart: Terminator 3" descr=""/>
            <p:cNvPicPr/>
            <p:nvPr/>
          </p:nvPicPr>
          <p:blipFill>
            <a:blip r:embed="rId1"/>
            <a:stretch/>
          </p:blipFill>
          <p:spPr>
            <a:xfrm>
              <a:off x="85680" y="1762200"/>
              <a:ext cx="16509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23920" y="1962000"/>
              <a:ext cx="1380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Air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Flowchart: Terminator 4"/>
          <p:cNvGrpSpPr/>
          <p:nvPr/>
        </p:nvGrpSpPr>
        <p:grpSpPr>
          <a:xfrm>
            <a:off x="85680" y="3365640"/>
            <a:ext cx="1650960" cy="1041120"/>
            <a:chOff x="85680" y="3365640"/>
            <a:chExt cx="1650960" cy="1041120"/>
          </a:xfrm>
        </p:grpSpPr>
        <p:pic>
          <p:nvPicPr>
            <p:cNvPr id="277" name="Flowchart: Terminator 4" descr=""/>
            <p:cNvPicPr/>
            <p:nvPr/>
          </p:nvPicPr>
          <p:blipFill>
            <a:blip r:embed="rId2"/>
            <a:stretch/>
          </p:blipFill>
          <p:spPr>
            <a:xfrm>
              <a:off x="85680" y="3365640"/>
              <a:ext cx="165096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23920" y="3562200"/>
              <a:ext cx="1380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Soi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Flowchart: Terminator 5"/>
          <p:cNvGrpSpPr/>
          <p:nvPr/>
        </p:nvGrpSpPr>
        <p:grpSpPr>
          <a:xfrm>
            <a:off x="85680" y="5041800"/>
            <a:ext cx="1650960" cy="1041480"/>
            <a:chOff x="85680" y="5041800"/>
            <a:chExt cx="1650960" cy="1041480"/>
          </a:xfrm>
        </p:grpSpPr>
        <p:pic>
          <p:nvPicPr>
            <p:cNvPr id="280" name="Flowchart: Terminator 5" descr=""/>
            <p:cNvPicPr/>
            <p:nvPr/>
          </p:nvPicPr>
          <p:blipFill>
            <a:blip r:embed="rId3"/>
            <a:stretch/>
          </p:blipFill>
          <p:spPr>
            <a:xfrm>
              <a:off x="85680" y="5041800"/>
              <a:ext cx="16509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23920" y="5238720"/>
              <a:ext cx="13809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frui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Flowchart: Terminator 6"/>
          <p:cNvGrpSpPr/>
          <p:nvPr/>
        </p:nvGrpSpPr>
        <p:grpSpPr>
          <a:xfrm>
            <a:off x="2603520" y="165240"/>
            <a:ext cx="4314960" cy="1041120"/>
            <a:chOff x="2603520" y="165240"/>
            <a:chExt cx="4314960" cy="1041120"/>
          </a:xfrm>
        </p:grpSpPr>
        <p:pic>
          <p:nvPicPr>
            <p:cNvPr id="283" name="Flowchart: Terminator 6" descr=""/>
            <p:cNvPicPr/>
            <p:nvPr/>
          </p:nvPicPr>
          <p:blipFill>
            <a:blip r:embed="rId4"/>
            <a:stretch/>
          </p:blipFill>
          <p:spPr>
            <a:xfrm>
              <a:off x="2603520" y="165240"/>
              <a:ext cx="431496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863800" y="361800"/>
              <a:ext cx="37972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Isolation of Fung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ight Arrow 7"/>
          <p:cNvSpPr/>
          <p:nvPr/>
        </p:nvSpPr>
        <p:spPr>
          <a:xfrm>
            <a:off x="1752480" y="1981080"/>
            <a:ext cx="609840" cy="60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6ad76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ight Arrow 8"/>
          <p:cNvSpPr/>
          <p:nvPr/>
        </p:nvSpPr>
        <p:spPr>
          <a:xfrm>
            <a:off x="1752480" y="3581280"/>
            <a:ext cx="609840" cy="60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6ad76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ight Arrow 9"/>
          <p:cNvSpPr/>
          <p:nvPr/>
        </p:nvSpPr>
        <p:spPr>
          <a:xfrm>
            <a:off x="1752480" y="5257800"/>
            <a:ext cx="609840" cy="6094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b6ad76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2438280" y="1600200"/>
            <a:ext cx="6324840" cy="129528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the prepared plate of solid media in air for 5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the lid and incubate at 2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2-5 days fungus observe for  g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2438280" y="3352680"/>
            <a:ext cx="5562720" cy="129564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rinkle  a pinch of soil on the solid media 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the lid and incubate at 2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2-3 days fungus observe for  grow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http://www.thedailygreen.com/cm/thedailygreen/images/AU/furtile-soil-sample-mdn.jpg"/>
          <p:cNvPicPr/>
          <p:nvPr/>
        </p:nvPicPr>
        <p:blipFill>
          <a:blip r:embed="rId5"/>
          <a:stretch/>
        </p:blipFill>
        <p:spPr>
          <a:xfrm>
            <a:off x="7696080" y="33526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5"/>
          <p:cNvSpPr/>
          <p:nvPr/>
        </p:nvSpPr>
        <p:spPr>
          <a:xfrm>
            <a:off x="2438280" y="5029200"/>
            <a:ext cx="5562720" cy="129528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n the rotten part of fruit with alcoh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t a piece and inoculate it on the media 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incubate ,after 2-5 days fungus will g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http://winosandfoodies.typepad.com/.a/6a00d8341c5f2153ef00e55413038e8833-800wi"/>
          <p:cNvPicPr/>
          <p:nvPr/>
        </p:nvPicPr>
        <p:blipFill>
          <a:blip r:embed="rId6"/>
          <a:srcRect l="25190" t="0" r="0" b="0"/>
          <a:stretch/>
        </p:blipFill>
        <p:spPr>
          <a:xfrm>
            <a:off x="7543800" y="5029200"/>
            <a:ext cx="15238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c27"/>
                </a:solidFill>
                <a:latin typeface="Calibri"/>
              </a:rPr>
              <a:t>These plates of fungu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be incubated straight at 28° C for 2-5 days and then stored at refrigerator until next week when you will observe for results.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pic>
        <p:nvPicPr>
          <p:cNvPr id="294" name="Picture 2" descr="http://images.carolina.com/images/en_US/local/products/detail/216600_bit.jpg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378000" y="1616040"/>
            <a:ext cx="824220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Flowchart: Terminator 6"/>
          <p:cNvGrpSpPr/>
          <p:nvPr/>
        </p:nvGrpSpPr>
        <p:grpSpPr>
          <a:xfrm>
            <a:off x="1841400" y="927000"/>
            <a:ext cx="2413080" cy="1041480"/>
            <a:chOff x="1841400" y="927000"/>
            <a:chExt cx="2413080" cy="1041480"/>
          </a:xfrm>
        </p:grpSpPr>
        <p:pic>
          <p:nvPicPr>
            <p:cNvPr id="297" name="Flowchart: Terminator 6" descr=""/>
            <p:cNvPicPr/>
            <p:nvPr/>
          </p:nvPicPr>
          <p:blipFill>
            <a:blip r:embed="rId1"/>
            <a:stretch/>
          </p:blipFill>
          <p:spPr>
            <a:xfrm>
              <a:off x="1841400" y="927000"/>
              <a:ext cx="24130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013120" y="1123920"/>
              <a:ext cx="2070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Bacter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Flowchart: Terminator 9"/>
          <p:cNvGrpSpPr/>
          <p:nvPr/>
        </p:nvGrpSpPr>
        <p:grpSpPr>
          <a:xfrm>
            <a:off x="4962600" y="927000"/>
            <a:ext cx="2413080" cy="1041480"/>
            <a:chOff x="4962600" y="927000"/>
            <a:chExt cx="2413080" cy="1041480"/>
          </a:xfrm>
        </p:grpSpPr>
        <p:pic>
          <p:nvPicPr>
            <p:cNvPr id="300" name="Flowchart: Terminator 9" descr=""/>
            <p:cNvPicPr/>
            <p:nvPr/>
          </p:nvPicPr>
          <p:blipFill>
            <a:blip r:embed="rId2"/>
            <a:stretch/>
          </p:blipFill>
          <p:spPr>
            <a:xfrm>
              <a:off x="4962600" y="927000"/>
              <a:ext cx="24130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137200" y="1123920"/>
              <a:ext cx="2070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Fung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2" name="Picture 2" descr="i-baa7f5842895316e8e0aa50f7b4ae8c8-creek_bacteria.jpg"/>
          <p:cNvPicPr/>
          <p:nvPr/>
        </p:nvPicPr>
        <p:blipFill>
          <a:blip r:embed="rId3"/>
          <a:stretch/>
        </p:blipFill>
        <p:spPr>
          <a:xfrm>
            <a:off x="1676520" y="22096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http://www.lbl.gov/Science-Articles/Archive/sb/July-2004/mold_plates.jpg"/>
          <p:cNvPicPr/>
          <p:nvPr/>
        </p:nvPicPr>
        <p:blipFill>
          <a:blip r:embed="rId4"/>
          <a:stretch/>
        </p:blipFill>
        <p:spPr>
          <a:xfrm>
            <a:off x="5029200" y="2133720"/>
            <a:ext cx="28576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عنوان 1" descr=""/>
          <p:cNvPicPr/>
          <p:nvPr/>
        </p:nvPicPr>
        <p:blipFill>
          <a:blip r:embed="rId1"/>
          <a:stretch/>
        </p:blipFill>
        <p:spPr>
          <a:xfrm>
            <a:off x="298440" y="1920960"/>
            <a:ext cx="8242200" cy="136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مستطيل 3"/>
          <p:cNvGrpSpPr/>
          <p:nvPr/>
        </p:nvGrpSpPr>
        <p:grpSpPr>
          <a:xfrm>
            <a:off x="92160" y="6059520"/>
            <a:ext cx="2401920" cy="658800"/>
            <a:chOff x="92160" y="6059520"/>
            <a:chExt cx="2401920" cy="658800"/>
          </a:xfrm>
        </p:grpSpPr>
        <p:pic>
          <p:nvPicPr>
            <p:cNvPr id="306" name="مستطيل 3" descr=""/>
            <p:cNvPicPr/>
            <p:nvPr/>
          </p:nvPicPr>
          <p:blipFill>
            <a:blip r:embed="rId2"/>
            <a:stretch/>
          </p:blipFill>
          <p:spPr>
            <a:xfrm>
              <a:off x="92160" y="6059520"/>
              <a:ext cx="24019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52280" y="6095880"/>
              <a:ext cx="2286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أ.شروق الشهران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olation of micro organisms from various environments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  <p:pic>
        <p:nvPicPr>
          <p:cNvPr id="219" name="Picture 2" descr="http://www.medic.usm.my/microbiology/images/stories/microbiologist1.jpg"/>
          <p:cNvPicPr/>
          <p:nvPr/>
        </p:nvPicPr>
        <p:blipFill>
          <a:blip r:embed="rId2"/>
          <a:stretch/>
        </p:blipFill>
        <p:spPr>
          <a:xfrm>
            <a:off x="1600200" y="2666880"/>
            <a:ext cx="6095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9120" y="255600"/>
            <a:ext cx="8444160" cy="117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solation </a:t>
            </a:r>
            <a:r>
              <a:rPr b="1" lang="en-US" sz="3000" spc="-1" strike="noStrike">
                <a:solidFill>
                  <a:srgbClr val="294144"/>
                </a:solidFill>
                <a:latin typeface="Calibri"/>
              </a:rPr>
              <a:t>–separating one species from another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noculation </a:t>
            </a:r>
            <a:r>
              <a:rPr b="1" lang="en-US" sz="3000" spc="-1" strike="noStrike">
                <a:solidFill>
                  <a:srgbClr val="294144"/>
                </a:solidFill>
                <a:latin typeface="Calibri"/>
              </a:rPr>
              <a:t>– introduction of a sample into a container of media to produce a culture of observable growth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ncubation </a:t>
            </a:r>
            <a:r>
              <a:rPr b="1" lang="en-US" sz="3000" spc="-1" strike="noStrike">
                <a:solidFill>
                  <a:srgbClr val="294144"/>
                </a:solidFill>
                <a:latin typeface="Calibri"/>
              </a:rPr>
              <a:t>–  conditions that allow growth eg., temperature ,humidity etc.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nspection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dentification</a:t>
            </a:r>
            <a:r>
              <a:rPr b="1" lang="en-US" sz="3000" spc="-1" strike="noStrike">
                <a:solidFill>
                  <a:srgbClr val="4a606e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a606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242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685800" y="1219320"/>
            <a:ext cx="3352680" cy="459720"/>
          </a:xfrm>
          <a:prstGeom prst="rect">
            <a:avLst/>
          </a:prstGeom>
          <a:solidFill>
            <a:srgbClr val="776a5b"/>
          </a:solidFill>
          <a:ln w="19440">
            <a:solidFill>
              <a:srgbClr val="564c41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nvironmental 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562720" y="1219320"/>
            <a:ext cx="3352680" cy="459720"/>
          </a:xfrm>
          <a:prstGeom prst="rect">
            <a:avLst/>
          </a:prstGeom>
          <a:solidFill>
            <a:srgbClr val="776a5b"/>
          </a:solidFill>
          <a:ln w="19440">
            <a:solidFill>
              <a:srgbClr val="564c41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ormal Flora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0" descr="taking environmental samples"/>
          <p:cNvPicPr/>
          <p:nvPr/>
        </p:nvPicPr>
        <p:blipFill>
          <a:blip r:embed="rId2"/>
          <a:stretch/>
        </p:blipFill>
        <p:spPr>
          <a:xfrm>
            <a:off x="228600" y="1905120"/>
            <a:ext cx="2160720" cy="1981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2"/>
          <p:cNvSpPr/>
          <p:nvPr/>
        </p:nvSpPr>
        <p:spPr>
          <a:xfrm>
            <a:off x="533520" y="5943600"/>
            <a:ext cx="3467160" cy="703800"/>
          </a:xfrm>
          <a:prstGeom prst="rect">
            <a:avLst/>
          </a:prstGeom>
          <a:solidFill>
            <a:srgbClr val="ffffff"/>
          </a:solidFill>
          <a:ln w="19440">
            <a:solidFill>
              <a:srgbClr val="b4bc4c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rface samples are norm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ken using sterile swabs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1" descr="Allergen testing"/>
          <p:cNvPicPr/>
          <p:nvPr/>
        </p:nvPicPr>
        <p:blipFill>
          <a:blip r:embed="rId3"/>
          <a:stretch/>
        </p:blipFill>
        <p:spPr>
          <a:xfrm>
            <a:off x="2362320" y="1905120"/>
            <a:ext cx="2122200" cy="2022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Fig. 3"/>
          <p:cNvPicPr/>
          <p:nvPr/>
        </p:nvPicPr>
        <p:blipFill>
          <a:blip r:embed="rId4"/>
          <a:srcRect l="0" t="0" r="54638" b="0"/>
          <a:stretch/>
        </p:blipFill>
        <p:spPr>
          <a:xfrm>
            <a:off x="1371600" y="3962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and_germs"/>
          <p:cNvPicPr/>
          <p:nvPr/>
        </p:nvPicPr>
        <p:blipFill>
          <a:blip r:embed="rId5"/>
          <a:stretch/>
        </p:blipFill>
        <p:spPr>
          <a:xfrm>
            <a:off x="5715000" y="1752480"/>
            <a:ext cx="1309680" cy="1371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مشاهدة الصورة بالحجم الكامل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1752480"/>
            <a:ext cx="156060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SterileSwabandPetriDish-medium-init-"/>
          <p:cNvPicPr/>
          <p:nvPr/>
        </p:nvPicPr>
        <p:blipFill>
          <a:blip r:embed="rId8"/>
          <a:stretch/>
        </p:blipFill>
        <p:spPr>
          <a:xfrm>
            <a:off x="6324480" y="31240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ApplyingOralSampletoAgar-medium-init-"/>
          <p:cNvPicPr/>
          <p:nvPr/>
        </p:nvPicPr>
        <p:blipFill>
          <a:blip r:embed="rId9"/>
          <a:stretch/>
        </p:blipFill>
        <p:spPr>
          <a:xfrm>
            <a:off x="6095880" y="42861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4"/>
          <p:cNvSpPr/>
          <p:nvPr/>
        </p:nvSpPr>
        <p:spPr>
          <a:xfrm>
            <a:off x="4495680" y="6067800"/>
            <a:ext cx="4572000" cy="398880"/>
          </a:xfrm>
          <a:prstGeom prst="rect">
            <a:avLst/>
          </a:prstGeom>
          <a:solidFill>
            <a:srgbClr val="ffffff"/>
          </a:solidFill>
          <a:ln w="19440">
            <a:solidFill>
              <a:srgbClr val="b4bc4c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ying oral sample to surface of ag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530280" y="1676520"/>
            <a:ext cx="8242200" cy="1504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Petri plates with media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Soil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Rotten frui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Yoghurt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Mouth swab etc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606e"/>
                </a:solidFill>
                <a:latin typeface="Calibri"/>
              </a:rPr>
              <a:t>Incubator……</a:t>
            </a: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606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624880" cy="1201680"/>
          </a:xfrm>
          <a:prstGeom prst="rect">
            <a:avLst/>
          </a:prstGeom>
          <a:ln w="0">
            <a:noFill/>
          </a:ln>
        </p:spPr>
      </p:pic>
      <p:grpSp>
        <p:nvGrpSpPr>
          <p:cNvPr id="238" name="Flowchart: Terminator 6"/>
          <p:cNvGrpSpPr/>
          <p:nvPr/>
        </p:nvGrpSpPr>
        <p:grpSpPr>
          <a:xfrm>
            <a:off x="1841400" y="1994040"/>
            <a:ext cx="2413080" cy="1041120"/>
            <a:chOff x="1841400" y="1994040"/>
            <a:chExt cx="2413080" cy="1041120"/>
          </a:xfrm>
        </p:grpSpPr>
        <p:pic>
          <p:nvPicPr>
            <p:cNvPr id="239" name="Flowchart: Terminator 6" descr=""/>
            <p:cNvPicPr/>
            <p:nvPr/>
          </p:nvPicPr>
          <p:blipFill>
            <a:blip r:embed="rId2"/>
            <a:stretch/>
          </p:blipFill>
          <p:spPr>
            <a:xfrm>
              <a:off x="1841400" y="1994040"/>
              <a:ext cx="241308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13120" y="2190600"/>
              <a:ext cx="207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Bacter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Flowchart: Terminator 9"/>
          <p:cNvGrpSpPr/>
          <p:nvPr/>
        </p:nvGrpSpPr>
        <p:grpSpPr>
          <a:xfrm>
            <a:off x="4962600" y="1994040"/>
            <a:ext cx="2413080" cy="1041120"/>
            <a:chOff x="4962600" y="1994040"/>
            <a:chExt cx="2413080" cy="1041120"/>
          </a:xfrm>
        </p:grpSpPr>
        <p:pic>
          <p:nvPicPr>
            <p:cNvPr id="242" name="Flowchart: Terminator 9" descr=""/>
            <p:cNvPicPr/>
            <p:nvPr/>
          </p:nvPicPr>
          <p:blipFill>
            <a:blip r:embed="rId3"/>
            <a:stretch/>
          </p:blipFill>
          <p:spPr>
            <a:xfrm>
              <a:off x="4962600" y="1994040"/>
              <a:ext cx="241308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137200" y="2190600"/>
              <a:ext cx="207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Fung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4" name="Picture 2" descr="http://t2.gstatic.com/images?q=tbn:ANd9GcSjjvKrdFefHezmgMqE6sOvBHIj12KslKBd9PNsfYjBb2kAEldt"/>
          <p:cNvPicPr/>
          <p:nvPr/>
        </p:nvPicPr>
        <p:blipFill>
          <a:blip r:embed="rId4"/>
          <a:stretch/>
        </p:blipFill>
        <p:spPr>
          <a:xfrm>
            <a:off x="2563920" y="3276720"/>
            <a:ext cx="3984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Flowchart: Terminator 3"/>
          <p:cNvGrpSpPr/>
          <p:nvPr/>
        </p:nvGrpSpPr>
        <p:grpSpPr>
          <a:xfrm>
            <a:off x="390600" y="1609560"/>
            <a:ext cx="1882800" cy="1041480"/>
            <a:chOff x="390600" y="1609560"/>
            <a:chExt cx="1882800" cy="1041480"/>
          </a:xfrm>
        </p:grpSpPr>
        <p:pic>
          <p:nvPicPr>
            <p:cNvPr id="246" name="Flowchart: Terminator 3" descr=""/>
            <p:cNvPicPr/>
            <p:nvPr/>
          </p:nvPicPr>
          <p:blipFill>
            <a:blip r:embed="rId1"/>
            <a:stretch/>
          </p:blipFill>
          <p:spPr>
            <a:xfrm>
              <a:off x="390600" y="1609560"/>
              <a:ext cx="1882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9640" y="1809720"/>
              <a:ext cx="15876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Yoghur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Flowchart: Terminator 4"/>
          <p:cNvGrpSpPr/>
          <p:nvPr/>
        </p:nvGrpSpPr>
        <p:grpSpPr>
          <a:xfrm>
            <a:off x="317520" y="3365640"/>
            <a:ext cx="1876320" cy="1041120"/>
            <a:chOff x="317520" y="3365640"/>
            <a:chExt cx="1876320" cy="1041120"/>
          </a:xfrm>
        </p:grpSpPr>
        <p:pic>
          <p:nvPicPr>
            <p:cNvPr id="249" name="Flowchart: Terminator 4" descr=""/>
            <p:cNvPicPr/>
            <p:nvPr/>
          </p:nvPicPr>
          <p:blipFill>
            <a:blip r:embed="rId2"/>
            <a:stretch/>
          </p:blipFill>
          <p:spPr>
            <a:xfrm>
              <a:off x="317520" y="3365640"/>
              <a:ext cx="18763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3680" y="3562200"/>
              <a:ext cx="15872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Mouth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Flowchart: Terminator 7"/>
          <p:cNvGrpSpPr/>
          <p:nvPr/>
        </p:nvGrpSpPr>
        <p:grpSpPr>
          <a:xfrm>
            <a:off x="317520" y="5114880"/>
            <a:ext cx="1876320" cy="1041480"/>
            <a:chOff x="317520" y="5114880"/>
            <a:chExt cx="1876320" cy="1041480"/>
          </a:xfrm>
        </p:grpSpPr>
        <p:pic>
          <p:nvPicPr>
            <p:cNvPr id="252" name="Flowchart: Terminator 7" descr=""/>
            <p:cNvPicPr/>
            <p:nvPr/>
          </p:nvPicPr>
          <p:blipFill>
            <a:blip r:embed="rId3"/>
            <a:stretch/>
          </p:blipFill>
          <p:spPr>
            <a:xfrm>
              <a:off x="317520" y="5114880"/>
              <a:ext cx="18763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63680" y="5315040"/>
              <a:ext cx="15872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Han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Flowchart: Terminator 9"/>
          <p:cNvGrpSpPr/>
          <p:nvPr/>
        </p:nvGrpSpPr>
        <p:grpSpPr>
          <a:xfrm>
            <a:off x="2603520" y="165240"/>
            <a:ext cx="4314960" cy="1041120"/>
            <a:chOff x="2603520" y="165240"/>
            <a:chExt cx="4314960" cy="1041120"/>
          </a:xfrm>
        </p:grpSpPr>
        <p:pic>
          <p:nvPicPr>
            <p:cNvPr id="255" name="Flowchart: Terminator 9" descr=""/>
            <p:cNvPicPr/>
            <p:nvPr/>
          </p:nvPicPr>
          <p:blipFill>
            <a:blip r:embed="rId4"/>
            <a:stretch/>
          </p:blipFill>
          <p:spPr>
            <a:xfrm>
              <a:off x="2603520" y="165240"/>
              <a:ext cx="431496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863800" y="361800"/>
              <a:ext cx="37972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Isolation of Bacter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10"/>
          <p:cNvSpPr/>
          <p:nvPr/>
        </p:nvSpPr>
        <p:spPr>
          <a:xfrm>
            <a:off x="3048120" y="1447920"/>
            <a:ext cx="5638680" cy="129528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t a drop of diluted yoghurt on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id media plate of bacteria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ubate at 3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for 1 d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ight Arrow 11"/>
          <p:cNvSpPr/>
          <p:nvPr/>
        </p:nvSpPr>
        <p:spPr>
          <a:xfrm>
            <a:off x="2286000" y="1828800"/>
            <a:ext cx="609480" cy="609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a62a0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124080" y="3352680"/>
            <a:ext cx="5867640" cy="129564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e  some saliva with the help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tton swa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oculate it on the media and incub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3124080" y="5105520"/>
            <a:ext cx="5562720" cy="1371600"/>
          </a:xfrm>
          <a:prstGeom prst="rect">
            <a:avLst/>
          </a:prstGeom>
          <a:solidFill>
            <a:srgbClr val="ffffff">
              <a:alpha val="56000"/>
            </a:srgbClr>
          </a:solidFill>
          <a:ln w="19440">
            <a:solidFill>
              <a:srgbClr val="79b5b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uch the surface of the solid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e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ubate 3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for 1 day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ight Arrow 14"/>
          <p:cNvSpPr/>
          <p:nvPr/>
        </p:nvSpPr>
        <p:spPr>
          <a:xfrm>
            <a:off x="2286000" y="5334120"/>
            <a:ext cx="609480" cy="609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a62a0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ight Arrow 15"/>
          <p:cNvSpPr/>
          <p:nvPr/>
        </p:nvSpPr>
        <p:spPr>
          <a:xfrm>
            <a:off x="2286000" y="3581280"/>
            <a:ext cx="609480" cy="60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a62a0"/>
          </a:solidFill>
          <a:ln w="381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http://t1.gstatic.com/images?q=tbn:ANd9GcRwE4miZmCDR5pe3YwZql8oAi9tS1tl_UxDKQIq6vko3BYqHFLy"/>
          <p:cNvPicPr/>
          <p:nvPr/>
        </p:nvPicPr>
        <p:blipFill>
          <a:blip r:embed="rId5"/>
          <a:stretch/>
        </p:blipFill>
        <p:spPr>
          <a:xfrm>
            <a:off x="7467480" y="15238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SterileSwabandPetriDish-medium-init-"/>
          <p:cNvPicPr/>
          <p:nvPr/>
        </p:nvPicPr>
        <p:blipFill>
          <a:blip r:embed="rId6"/>
          <a:stretch/>
        </p:blipFill>
        <p:spPr>
          <a:xfrm>
            <a:off x="7467480" y="3505320"/>
            <a:ext cx="1447920" cy="10666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4"/>
          <p:cNvSpPr/>
          <p:nvPr/>
        </p:nvSpPr>
        <p:spPr>
          <a:xfrm>
            <a:off x="9016920" y="-8413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6" descr="http://us.123rf.com/400wm/400/400/kaarsten/kaarsten1002/kaarsten100200494/6457691-a-human-hand-with-several-stylized-bacteria-on-it-all-isolated-on-white-background.jpg"/>
          <p:cNvPicPr/>
          <p:nvPr/>
        </p:nvPicPr>
        <p:blipFill>
          <a:blip r:embed="rId7"/>
          <a:srcRect l="15997" t="0" r="21998" b="22098"/>
          <a:stretch/>
        </p:blipFill>
        <p:spPr>
          <a:xfrm>
            <a:off x="7391520" y="5105520"/>
            <a:ext cx="16002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"/>
          <p:cNvGrpSpPr/>
          <p:nvPr/>
        </p:nvGrpSpPr>
        <p:grpSpPr>
          <a:xfrm>
            <a:off x="1142640" y="457200"/>
            <a:ext cx="7099560" cy="5716080"/>
            <a:chOff x="1142640" y="457200"/>
            <a:chExt cx="7099560" cy="5716080"/>
          </a:xfrm>
        </p:grpSpPr>
        <p:pic>
          <p:nvPicPr>
            <p:cNvPr id="268" name="Picture 5" descr="plateconden"/>
            <p:cNvPicPr/>
            <p:nvPr/>
          </p:nvPicPr>
          <p:blipFill>
            <a:blip r:embed="rId1"/>
            <a:stretch/>
          </p:blipFill>
          <p:spPr>
            <a:xfrm rot="5400000">
              <a:off x="361440" y="2228040"/>
              <a:ext cx="4725720" cy="31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6" descr="dishes"/>
            <p:cNvPicPr/>
            <p:nvPr/>
          </p:nvPicPr>
          <p:blipFill>
            <a:blip r:embed="rId2"/>
            <a:stretch/>
          </p:blipFill>
          <p:spPr>
            <a:xfrm>
              <a:off x="4253040" y="1447560"/>
              <a:ext cx="3989160" cy="47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7"/>
            <p:cNvSpPr/>
            <p:nvPr/>
          </p:nvSpPr>
          <p:spPr>
            <a:xfrm>
              <a:off x="1371600" y="457200"/>
              <a:ext cx="6843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gar plates are stored upside down to prevent condensation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6:47:20Z</dcterms:created>
  <dc:creator>salshahrani1</dc:creator>
  <dc:description/>
  <dc:language>en-US</dc:language>
  <cp:lastModifiedBy>Qosmio</cp:lastModifiedBy>
  <dcterms:modified xsi:type="dcterms:W3CDTF">2013-09-16T14:13:21Z</dcterms:modified>
  <cp:revision>51</cp:revision>
  <dc:subject/>
  <dc:title>بسم الله الرحمن الرحيم</dc:title>
</cp:coreProperties>
</file>