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3.png" ContentType="image/png"/>
  <Override PartName="/ppt/media/image3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8.png" ContentType="image/png"/>
  <Override PartName="/ppt/media/image38.png" ContentType="image/png"/>
  <Override PartName="/ppt/media/image14.jpeg" ContentType="image/jpeg"/>
  <Override PartName="/ppt/media/image41.jpeg" ContentType="image/jpeg"/>
  <Override PartName="/ppt/media/image27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9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6CA-20B4-4C45-ADA5-F952B6BF8BD8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EEDD-E7F9-49F6-9AF8-F8DE4CFDF5BD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BA23-6740-48CD-886C-12D38055E087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E5F7-1FFE-461F-B791-CD1FE0078FBD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427A-09C4-4D74-B785-131B21847CE9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D9F2-D67A-43E0-AE7E-B0E4AD561C2D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plantscience.com/botanical_biotechnology_biology_chemistry/microbiology_methods/basic_techniques_biotechnologies/streaking_technique_obtain_pure_cultures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E479-7CEB-46A2-B670-AD4275E0CF08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A58A-0CF6-4748-B747-807CA58FD098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B165-0045-4E21-AF64-C0D63FEA9B73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6590-2BF5-44F3-8C37-2EA887197AAE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AB6F-5DD8-473C-A4A6-FCEC799143B7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B9AA-8573-4B48-B227-CEE97A3BE753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D9F7-4DFD-41C8-BA41-D660EEC8331A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08A8-74A4-40DA-BEFF-979D13CCB017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afeproduce.eu/PersonalHygien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2269-AD32-4636-B45F-082002CA187A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C874-699B-485E-B570-28BDE1216E5C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B4B-7B8C-4ED9-94DA-8D08E464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7CC-EF97-42F0-AFA7-11075FD8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8BE-59DC-47F1-B830-2352FFAC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79A-3111-457D-8A2B-C77BD259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931E-6020-4329-8546-11BED39B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7FCB-70FC-443D-BDC0-C03B5302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ED7E-DC6C-471D-8142-EE9364C2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DB41-46AE-4BB0-83FB-2C595AD1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57F9-AE3C-4BBE-B906-C802A0AF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B9E8-F494-4EE8-8450-189C09F9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F2A4-15B5-4455-8524-142D7DD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D17-02F1-4007-9E8C-6A5983DD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B910-A46E-427B-8C74-FCD48EFA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EB4D-CF1F-4E1C-9B6A-D4CE83DC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8268-DB4E-425B-B58D-C0D5BEA6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19AD-D74B-4619-8593-5CC41A34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564F-4336-49A1-B7CE-4BB0D0C8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E702-8DE4-40DB-ADEC-50451307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1779-7918-43F9-ABB3-5D2996DC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D6F6D-3877-409C-9432-5E0D031A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26C5-A7A2-489E-B4A0-15913AAD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252B-354E-4D55-A3C9-84F19583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48B-ECD4-4FA6-BD29-3CFFEFDC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6212-882B-41FF-A981-2DCE885A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AA5B7-14BA-4EBD-AC66-045298A1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42D2-7BCE-4972-8EAE-54E6F9FA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82CDE-6675-4126-9BC9-CF19F75A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C7F0-2187-47D6-B991-4CCDD525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8374-6680-4ABE-8853-80BDA18F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68DE2-1E7C-4089-80EE-6868D8AC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B4D7E-BA14-4E4B-9257-2B2DF473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2F29-8EC4-425E-8668-47987BC7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09D3-4369-4E4D-945A-DC62AC54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FF8-AA56-4C2A-999C-6FFA1961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3B4C7-588C-4565-8DF3-DD3254EA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9F004-2CB5-450D-8359-F053F0E9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8CB47-B019-4B69-8994-B78AA2B4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B4BFF-25D9-46BF-8873-B13AF539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A667-3583-428F-8D69-1AE92216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2542-E814-4DA4-8D1B-45497D82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EEA0-0505-4931-B6BE-2BF60805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DF15-8E13-48BB-8D2F-0B63C7E8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B9019-089C-4CB3-99C5-4F05EC4E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E8B6-09C4-4F5B-A6B2-04A85FB5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E10-DF4F-4CC5-85F3-15E8BC80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E80D5-6B57-4D45-885C-3D8128E1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2C35-90B8-422E-BAAC-36BD1C94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49945-FE1A-413A-BEC9-2E37CFDF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9D922-9983-4550-8E19-8A016A40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25834-52E8-4CEB-86FB-F91DB7F7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5F40-E0AD-4A79-A91F-14081AC7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F3A49-BEBF-4E0B-9E5C-727812ED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7813E-AD22-4C2C-AA43-879262A8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8220E-4A9B-4BD8-93E0-C122B5C2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4D74B-60B1-47B3-BE95-0BBF069B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02C-EDAE-406E-9EC7-AB3E0B97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01B93-30DE-4833-BF18-680CA863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733-A7B5-4FC8-9558-3388B17B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83E-6742-4619-9F96-EBC618EA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B7C-4D32-40E4-A639-48FEA28E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40546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564c4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c7f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656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C890-49D6-4ABD-9C36-E434A3A42475}" type="slidenum">
              <a:rPr b="0" lang="ar-SY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40546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564c4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c7f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656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6177-57E4-433F-AE63-F1789931818E}" type="slidenum">
              <a:rPr b="0" lang="ar-S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40546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564c4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c7f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656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1257-5541-4785-A0BF-95752ACCB472}" type="slidenum">
              <a:rPr b="0" lang="ar-SY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40546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564c4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c7f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656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B0C7-9E9D-490E-8951-8E28BB52CA9A}" type="slidenum">
              <a:rPr b="0" lang="ar-SY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40546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564c4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c7f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656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92B9-309A-4EAE-BE4F-281212342691}" type="slidenum">
              <a:rPr b="0" lang="ar-SY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25.pn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hyperlink" Target="http://scienceprofonline.googlepages.com/ArmPlate.png/ArmPlate-full.png" TargetMode="External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14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25360"/>
            <a:ext cx="718812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Berlin Sans FB Demi"/>
              </a:rPr>
              <a:t>140 Micro</a:t>
            </a:r>
            <a:r>
              <a:rPr b="0" lang="ar-SA" sz="4000" spc="-1" strike="noStrike">
                <a:solidFill>
                  <a:srgbClr val="a50021"/>
                </a:solidFill>
                <a:latin typeface="Berlin Sans FB Demi"/>
              </a:rPr>
              <a:t> </a:t>
            </a:r>
            <a:endParaRPr b="0" lang="en-US" sz="4000" spc="-1" strike="noStrike">
              <a:solidFill>
                <a:srgbClr val="4a606e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14" name="Subtitle 2"/>
          <p:cNvSpPr/>
          <p:nvPr/>
        </p:nvSpPr>
        <p:spPr>
          <a:xfrm>
            <a:off x="1447920" y="32004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606e"/>
                </a:solidFill>
                <a:latin typeface="Calibri"/>
              </a:rPr>
              <a:t>Lab 4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lation of microbes from different environments</a:t>
            </a: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http://2.bp.blogspot.com/_7_D70uHS51E/S6-4wokW3xI/AAAAAAAAAzI/UjZ86K_12do/s320/microbiology+and+biotechnology.jpg"/>
          <p:cNvPicPr/>
          <p:nvPr/>
        </p:nvPicPr>
        <p:blipFill>
          <a:blip r:embed="rId2"/>
          <a:stretch/>
        </p:blipFill>
        <p:spPr>
          <a:xfrm>
            <a:off x="2209680" y="4495680"/>
            <a:ext cx="2673360" cy="1905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reiver3.files.wordpress.com/2010/11/microbiology_one.jpg"/>
          <p:cNvPicPr/>
          <p:nvPr/>
        </p:nvPicPr>
        <p:blipFill>
          <a:blip r:embed="rId3"/>
          <a:stretch/>
        </p:blipFill>
        <p:spPr>
          <a:xfrm>
            <a:off x="4876920" y="4495680"/>
            <a:ext cx="1981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228600" y="1066680"/>
            <a:ext cx="86868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c27"/>
                </a:solidFill>
                <a:latin typeface="Calibri"/>
              </a:rPr>
              <a:t>These plates of bacteri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be incubated at 37° C for 24 hours and then stored at refrigerator until next week when you will observe for resul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6" descr="030_Incubator_with_plates_P7091090"/>
          <p:cNvPicPr/>
          <p:nvPr/>
        </p:nvPicPr>
        <p:blipFill>
          <a:blip r:embed="rId1"/>
          <a:stretch/>
        </p:blipFill>
        <p:spPr>
          <a:xfrm>
            <a:off x="2362320" y="2971800"/>
            <a:ext cx="4098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Flowchart: Terminator 3"/>
          <p:cNvGrpSpPr/>
          <p:nvPr/>
        </p:nvGrpSpPr>
        <p:grpSpPr>
          <a:xfrm>
            <a:off x="85680" y="1762200"/>
            <a:ext cx="1650960" cy="1041480"/>
            <a:chOff x="85680" y="1762200"/>
            <a:chExt cx="1650960" cy="1041480"/>
          </a:xfrm>
        </p:grpSpPr>
        <p:pic>
          <p:nvPicPr>
            <p:cNvPr id="274" name="Flowchart: Terminator 3" descr=""/>
            <p:cNvPicPr/>
            <p:nvPr/>
          </p:nvPicPr>
          <p:blipFill>
            <a:blip r:embed="rId1"/>
            <a:stretch/>
          </p:blipFill>
          <p:spPr>
            <a:xfrm>
              <a:off x="85680" y="1762200"/>
              <a:ext cx="16509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23920" y="1962000"/>
              <a:ext cx="13809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Air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Flowchart: Terminator 4"/>
          <p:cNvGrpSpPr/>
          <p:nvPr/>
        </p:nvGrpSpPr>
        <p:grpSpPr>
          <a:xfrm>
            <a:off x="85680" y="3365640"/>
            <a:ext cx="1650960" cy="1041120"/>
            <a:chOff x="85680" y="3365640"/>
            <a:chExt cx="1650960" cy="1041120"/>
          </a:xfrm>
        </p:grpSpPr>
        <p:pic>
          <p:nvPicPr>
            <p:cNvPr id="277" name="Flowchart: Terminator 4" descr=""/>
            <p:cNvPicPr/>
            <p:nvPr/>
          </p:nvPicPr>
          <p:blipFill>
            <a:blip r:embed="rId2"/>
            <a:stretch/>
          </p:blipFill>
          <p:spPr>
            <a:xfrm>
              <a:off x="85680" y="3365640"/>
              <a:ext cx="165096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23920" y="3562200"/>
              <a:ext cx="13809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Soi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Flowchart: Terminator 5"/>
          <p:cNvGrpSpPr/>
          <p:nvPr/>
        </p:nvGrpSpPr>
        <p:grpSpPr>
          <a:xfrm>
            <a:off x="85680" y="5041800"/>
            <a:ext cx="1650960" cy="1041480"/>
            <a:chOff x="85680" y="5041800"/>
            <a:chExt cx="1650960" cy="1041480"/>
          </a:xfrm>
        </p:grpSpPr>
        <p:pic>
          <p:nvPicPr>
            <p:cNvPr id="280" name="Flowchart: Terminator 5" descr=""/>
            <p:cNvPicPr/>
            <p:nvPr/>
          </p:nvPicPr>
          <p:blipFill>
            <a:blip r:embed="rId3"/>
            <a:stretch/>
          </p:blipFill>
          <p:spPr>
            <a:xfrm>
              <a:off x="85680" y="5041800"/>
              <a:ext cx="16509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23920" y="5238720"/>
              <a:ext cx="13809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frui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Flowchart: Terminator 6"/>
          <p:cNvGrpSpPr/>
          <p:nvPr/>
        </p:nvGrpSpPr>
        <p:grpSpPr>
          <a:xfrm>
            <a:off x="2603520" y="165240"/>
            <a:ext cx="4314960" cy="1041120"/>
            <a:chOff x="2603520" y="165240"/>
            <a:chExt cx="4314960" cy="1041120"/>
          </a:xfrm>
        </p:grpSpPr>
        <p:pic>
          <p:nvPicPr>
            <p:cNvPr id="283" name="Flowchart: Terminator 6" descr=""/>
            <p:cNvPicPr/>
            <p:nvPr/>
          </p:nvPicPr>
          <p:blipFill>
            <a:blip r:embed="rId4"/>
            <a:stretch/>
          </p:blipFill>
          <p:spPr>
            <a:xfrm>
              <a:off x="2603520" y="165240"/>
              <a:ext cx="431496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863800" y="361800"/>
              <a:ext cx="37972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Isolation of Fung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ight Arrow 7"/>
          <p:cNvSpPr/>
          <p:nvPr/>
        </p:nvSpPr>
        <p:spPr>
          <a:xfrm>
            <a:off x="1752480" y="1981080"/>
            <a:ext cx="609840" cy="60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6ad76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ight Arrow 8"/>
          <p:cNvSpPr/>
          <p:nvPr/>
        </p:nvSpPr>
        <p:spPr>
          <a:xfrm>
            <a:off x="1752480" y="3581280"/>
            <a:ext cx="609840" cy="60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6ad76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ight Arrow 9"/>
          <p:cNvSpPr/>
          <p:nvPr/>
        </p:nvSpPr>
        <p:spPr>
          <a:xfrm>
            <a:off x="1752480" y="5257800"/>
            <a:ext cx="609840" cy="60948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b6ad76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2438280" y="1600200"/>
            <a:ext cx="6324840" cy="129528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the prepared plate of solid media in air for 5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the lid and incubate at 2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2-5 days fungus observe for  gr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2438280" y="3352680"/>
            <a:ext cx="5562720" cy="129564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rinkle  a pinch of soil on the solid media 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the lid and incubate at 2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2-3 days fungus observe for  grow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http://www.thedailygreen.com/cm/thedailygreen/images/AU/furtile-soil-sample-mdn.jpg"/>
          <p:cNvPicPr/>
          <p:nvPr/>
        </p:nvPicPr>
        <p:blipFill>
          <a:blip r:embed="rId5"/>
          <a:stretch/>
        </p:blipFill>
        <p:spPr>
          <a:xfrm>
            <a:off x="7696080" y="33526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5"/>
          <p:cNvSpPr/>
          <p:nvPr/>
        </p:nvSpPr>
        <p:spPr>
          <a:xfrm>
            <a:off x="2438280" y="5029200"/>
            <a:ext cx="5562720" cy="129528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n the rotten part of fruit with alcoh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t a piece and inoculate it on the media 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incubate ,after 2-5 days fungus will gr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6" descr="http://winosandfoodies.typepad.com/.a/6a00d8341c5f2153ef00e55413038e8833-800wi"/>
          <p:cNvPicPr/>
          <p:nvPr/>
        </p:nvPicPr>
        <p:blipFill>
          <a:blip r:embed="rId6"/>
          <a:srcRect l="25190" t="0" r="0" b="0"/>
          <a:stretch/>
        </p:blipFill>
        <p:spPr>
          <a:xfrm>
            <a:off x="7543800" y="5029200"/>
            <a:ext cx="15238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c27"/>
                </a:solidFill>
                <a:latin typeface="Calibri"/>
              </a:rPr>
              <a:t>These plates of fungu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be incubated straight at 28° C for 2-5 days and then stored at refrigerator until next week when you will observe for results.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pic>
        <p:nvPicPr>
          <p:cNvPr id="294" name="Picture 2" descr="http://images.carolina.com/images/en_US/local/products/detail/216600_bit.jpg"/>
          <p:cNvPicPr/>
          <p:nvPr/>
        </p:nvPicPr>
        <p:blipFill>
          <a:blip r:embed="rId1"/>
          <a:stretch/>
        </p:blipFill>
        <p:spPr>
          <a:xfrm>
            <a:off x="2895480" y="31240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378000" y="1616040"/>
            <a:ext cx="824220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Flowchart: Terminator 6"/>
          <p:cNvGrpSpPr/>
          <p:nvPr/>
        </p:nvGrpSpPr>
        <p:grpSpPr>
          <a:xfrm>
            <a:off x="1841400" y="927000"/>
            <a:ext cx="2413080" cy="1041480"/>
            <a:chOff x="1841400" y="927000"/>
            <a:chExt cx="2413080" cy="1041480"/>
          </a:xfrm>
        </p:grpSpPr>
        <p:pic>
          <p:nvPicPr>
            <p:cNvPr id="297" name="Flowchart: Terminator 6" descr=""/>
            <p:cNvPicPr/>
            <p:nvPr/>
          </p:nvPicPr>
          <p:blipFill>
            <a:blip r:embed="rId1"/>
            <a:stretch/>
          </p:blipFill>
          <p:spPr>
            <a:xfrm>
              <a:off x="1841400" y="927000"/>
              <a:ext cx="241308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013120" y="1123920"/>
              <a:ext cx="2070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Bacter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Flowchart: Terminator 9"/>
          <p:cNvGrpSpPr/>
          <p:nvPr/>
        </p:nvGrpSpPr>
        <p:grpSpPr>
          <a:xfrm>
            <a:off x="4962600" y="927000"/>
            <a:ext cx="2413080" cy="1041480"/>
            <a:chOff x="4962600" y="927000"/>
            <a:chExt cx="2413080" cy="1041480"/>
          </a:xfrm>
        </p:grpSpPr>
        <p:pic>
          <p:nvPicPr>
            <p:cNvPr id="300" name="Flowchart: Terminator 9" descr=""/>
            <p:cNvPicPr/>
            <p:nvPr/>
          </p:nvPicPr>
          <p:blipFill>
            <a:blip r:embed="rId2"/>
            <a:stretch/>
          </p:blipFill>
          <p:spPr>
            <a:xfrm>
              <a:off x="4962600" y="927000"/>
              <a:ext cx="241308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137200" y="1123920"/>
              <a:ext cx="2070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Fung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2" name="Picture 2" descr="i-baa7f5842895316e8e0aa50f7b4ae8c8-creek_bacteria.jpg"/>
          <p:cNvPicPr/>
          <p:nvPr/>
        </p:nvPicPr>
        <p:blipFill>
          <a:blip r:embed="rId3"/>
          <a:stretch/>
        </p:blipFill>
        <p:spPr>
          <a:xfrm>
            <a:off x="1676520" y="22096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http://www.lbl.gov/Science-Articles/Archive/sb/July-2004/mold_plates.jpg"/>
          <p:cNvPicPr/>
          <p:nvPr/>
        </p:nvPicPr>
        <p:blipFill>
          <a:blip r:embed="rId4"/>
          <a:stretch/>
        </p:blipFill>
        <p:spPr>
          <a:xfrm>
            <a:off x="5029200" y="2133720"/>
            <a:ext cx="28576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عنوان 1" descr=""/>
          <p:cNvPicPr/>
          <p:nvPr/>
        </p:nvPicPr>
        <p:blipFill>
          <a:blip r:embed="rId1"/>
          <a:stretch/>
        </p:blipFill>
        <p:spPr>
          <a:xfrm>
            <a:off x="298440" y="1920960"/>
            <a:ext cx="8242200" cy="1365120"/>
          </a:xfrm>
          <a:prstGeom prst="rect">
            <a:avLst/>
          </a:prstGeom>
          <a:ln w="0">
            <a:noFill/>
          </a:ln>
        </p:spPr>
      </p:pic>
      <p:grpSp>
        <p:nvGrpSpPr>
          <p:cNvPr id="305" name="مستطيل 3"/>
          <p:cNvGrpSpPr/>
          <p:nvPr/>
        </p:nvGrpSpPr>
        <p:grpSpPr>
          <a:xfrm>
            <a:off x="92160" y="6059520"/>
            <a:ext cx="2401920" cy="658800"/>
            <a:chOff x="92160" y="6059520"/>
            <a:chExt cx="2401920" cy="658800"/>
          </a:xfrm>
        </p:grpSpPr>
        <p:pic>
          <p:nvPicPr>
            <p:cNvPr id="306" name="مستطيل 3" descr=""/>
            <p:cNvPicPr/>
            <p:nvPr/>
          </p:nvPicPr>
          <p:blipFill>
            <a:blip r:embed="rId2"/>
            <a:stretch/>
          </p:blipFill>
          <p:spPr>
            <a:xfrm>
              <a:off x="92160" y="6059520"/>
              <a:ext cx="24019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52280" y="6095880"/>
              <a:ext cx="2286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أ.شروق الشهران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olation of micro organisms from various environments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pic>
        <p:nvPicPr>
          <p:cNvPr id="219" name="Picture 2" descr="http://www.medic.usm.my/microbiology/images/stories/microbiologist1.jpg"/>
          <p:cNvPicPr/>
          <p:nvPr/>
        </p:nvPicPr>
        <p:blipFill>
          <a:blip r:embed="rId2"/>
          <a:stretch/>
        </p:blipFill>
        <p:spPr>
          <a:xfrm>
            <a:off x="1600200" y="2666880"/>
            <a:ext cx="6095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9120" y="255600"/>
            <a:ext cx="8444160" cy="117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solation </a:t>
            </a:r>
            <a:r>
              <a:rPr b="1" lang="en-US" sz="3000" spc="-1" strike="noStrike">
                <a:solidFill>
                  <a:srgbClr val="294144"/>
                </a:solidFill>
                <a:latin typeface="Calibri"/>
              </a:rPr>
              <a:t>–separating one species from another.</a:t>
            </a: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noculation </a:t>
            </a:r>
            <a:r>
              <a:rPr b="1" lang="en-US" sz="3000" spc="-1" strike="noStrike">
                <a:solidFill>
                  <a:srgbClr val="294144"/>
                </a:solidFill>
                <a:latin typeface="Calibri"/>
              </a:rPr>
              <a:t>– introduction of a sample into a container of media to produce a culture of observable growth.</a:t>
            </a: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ncubation </a:t>
            </a:r>
            <a:r>
              <a:rPr b="1" lang="en-US" sz="3000" spc="-1" strike="noStrike">
                <a:solidFill>
                  <a:srgbClr val="294144"/>
                </a:solidFill>
                <a:latin typeface="Calibri"/>
              </a:rPr>
              <a:t>–  conditions that allow growth eg., temperature ,humidity etc..</a:t>
            </a: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nspection.</a:t>
            </a: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dentification</a:t>
            </a:r>
            <a:r>
              <a:rPr b="1" lang="en-US" sz="3000" spc="-1" strike="noStrike">
                <a:solidFill>
                  <a:srgbClr val="4a606e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242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685800" y="1219320"/>
            <a:ext cx="3352680" cy="459720"/>
          </a:xfrm>
          <a:prstGeom prst="rect">
            <a:avLst/>
          </a:prstGeom>
          <a:solidFill>
            <a:srgbClr val="776a5b"/>
          </a:solidFill>
          <a:ln w="19440">
            <a:solidFill>
              <a:srgbClr val="564c41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nvironmental S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562720" y="1219320"/>
            <a:ext cx="3352680" cy="459720"/>
          </a:xfrm>
          <a:prstGeom prst="rect">
            <a:avLst/>
          </a:prstGeom>
          <a:solidFill>
            <a:srgbClr val="776a5b"/>
          </a:solidFill>
          <a:ln w="19440">
            <a:solidFill>
              <a:srgbClr val="564c41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ormal Flora S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0" descr="taking environmental samples"/>
          <p:cNvPicPr/>
          <p:nvPr/>
        </p:nvPicPr>
        <p:blipFill>
          <a:blip r:embed="rId2"/>
          <a:stretch/>
        </p:blipFill>
        <p:spPr>
          <a:xfrm>
            <a:off x="228600" y="1905120"/>
            <a:ext cx="2160720" cy="1981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2"/>
          <p:cNvSpPr/>
          <p:nvPr/>
        </p:nvSpPr>
        <p:spPr>
          <a:xfrm>
            <a:off x="533520" y="5943600"/>
            <a:ext cx="3467160" cy="703800"/>
          </a:xfrm>
          <a:prstGeom prst="rect">
            <a:avLst/>
          </a:prstGeom>
          <a:solidFill>
            <a:srgbClr val="ffffff"/>
          </a:solidFill>
          <a:ln w="19440">
            <a:solidFill>
              <a:srgbClr val="b4bc4c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rface samples are norm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ken using sterile swabs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11" descr="Allergen testing"/>
          <p:cNvPicPr/>
          <p:nvPr/>
        </p:nvPicPr>
        <p:blipFill>
          <a:blip r:embed="rId3"/>
          <a:stretch/>
        </p:blipFill>
        <p:spPr>
          <a:xfrm>
            <a:off x="2362320" y="1905120"/>
            <a:ext cx="2122200" cy="2022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Fig. 3"/>
          <p:cNvPicPr/>
          <p:nvPr/>
        </p:nvPicPr>
        <p:blipFill>
          <a:blip r:embed="rId4"/>
          <a:srcRect l="0" t="0" r="54638" b="0"/>
          <a:stretch/>
        </p:blipFill>
        <p:spPr>
          <a:xfrm>
            <a:off x="1371600" y="3962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and_germs"/>
          <p:cNvPicPr/>
          <p:nvPr/>
        </p:nvPicPr>
        <p:blipFill>
          <a:blip r:embed="rId5"/>
          <a:stretch/>
        </p:blipFill>
        <p:spPr>
          <a:xfrm>
            <a:off x="5715000" y="1752480"/>
            <a:ext cx="1309680" cy="1371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مشاهدة الصورة بالحجم الكامل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8880" y="1752480"/>
            <a:ext cx="156060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SterileSwabandPetriDish-medium-init-"/>
          <p:cNvPicPr/>
          <p:nvPr/>
        </p:nvPicPr>
        <p:blipFill>
          <a:blip r:embed="rId8"/>
          <a:stretch/>
        </p:blipFill>
        <p:spPr>
          <a:xfrm>
            <a:off x="6324480" y="31240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ApplyingOralSampletoAgar-medium-init-"/>
          <p:cNvPicPr/>
          <p:nvPr/>
        </p:nvPicPr>
        <p:blipFill>
          <a:blip r:embed="rId9"/>
          <a:stretch/>
        </p:blipFill>
        <p:spPr>
          <a:xfrm>
            <a:off x="6095880" y="42861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4"/>
          <p:cNvSpPr/>
          <p:nvPr/>
        </p:nvSpPr>
        <p:spPr>
          <a:xfrm>
            <a:off x="4495680" y="6067800"/>
            <a:ext cx="4572000" cy="398880"/>
          </a:xfrm>
          <a:prstGeom prst="rect">
            <a:avLst/>
          </a:prstGeom>
          <a:solidFill>
            <a:srgbClr val="ffffff"/>
          </a:solidFill>
          <a:ln w="19440">
            <a:solidFill>
              <a:srgbClr val="b4bc4c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ying oral sample to surface of ag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530280" y="1676520"/>
            <a:ext cx="8242200" cy="1504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Petri plates with media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oi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Rotten frui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Yoghur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Mouth swab etc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Incubator……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624880" cy="1201680"/>
          </a:xfrm>
          <a:prstGeom prst="rect">
            <a:avLst/>
          </a:prstGeom>
          <a:ln w="0">
            <a:noFill/>
          </a:ln>
        </p:spPr>
      </p:pic>
      <p:grpSp>
        <p:nvGrpSpPr>
          <p:cNvPr id="238" name="Flowchart: Terminator 6"/>
          <p:cNvGrpSpPr/>
          <p:nvPr/>
        </p:nvGrpSpPr>
        <p:grpSpPr>
          <a:xfrm>
            <a:off x="1841400" y="1994040"/>
            <a:ext cx="2413080" cy="1041120"/>
            <a:chOff x="1841400" y="1994040"/>
            <a:chExt cx="2413080" cy="1041120"/>
          </a:xfrm>
        </p:grpSpPr>
        <p:pic>
          <p:nvPicPr>
            <p:cNvPr id="239" name="Flowchart: Terminator 6" descr=""/>
            <p:cNvPicPr/>
            <p:nvPr/>
          </p:nvPicPr>
          <p:blipFill>
            <a:blip r:embed="rId2"/>
            <a:stretch/>
          </p:blipFill>
          <p:spPr>
            <a:xfrm>
              <a:off x="1841400" y="1994040"/>
              <a:ext cx="241308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13120" y="2190600"/>
              <a:ext cx="207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Bacter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Flowchart: Terminator 9"/>
          <p:cNvGrpSpPr/>
          <p:nvPr/>
        </p:nvGrpSpPr>
        <p:grpSpPr>
          <a:xfrm>
            <a:off x="4962600" y="1994040"/>
            <a:ext cx="2413080" cy="1041120"/>
            <a:chOff x="4962600" y="1994040"/>
            <a:chExt cx="2413080" cy="1041120"/>
          </a:xfrm>
        </p:grpSpPr>
        <p:pic>
          <p:nvPicPr>
            <p:cNvPr id="242" name="Flowchart: Terminator 9" descr=""/>
            <p:cNvPicPr/>
            <p:nvPr/>
          </p:nvPicPr>
          <p:blipFill>
            <a:blip r:embed="rId3"/>
            <a:stretch/>
          </p:blipFill>
          <p:spPr>
            <a:xfrm>
              <a:off x="4962600" y="1994040"/>
              <a:ext cx="241308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137200" y="2190600"/>
              <a:ext cx="207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Fung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4" name="Picture 2" descr="http://t2.gstatic.com/images?q=tbn:ANd9GcSjjvKrdFefHezmgMqE6sOvBHIj12KslKBd9PNsfYjBb2kAEldt"/>
          <p:cNvPicPr/>
          <p:nvPr/>
        </p:nvPicPr>
        <p:blipFill>
          <a:blip r:embed="rId4"/>
          <a:stretch/>
        </p:blipFill>
        <p:spPr>
          <a:xfrm>
            <a:off x="2563920" y="3276720"/>
            <a:ext cx="3984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Flowchart: Terminator 3"/>
          <p:cNvGrpSpPr/>
          <p:nvPr/>
        </p:nvGrpSpPr>
        <p:grpSpPr>
          <a:xfrm>
            <a:off x="390600" y="1609560"/>
            <a:ext cx="1882800" cy="1041480"/>
            <a:chOff x="390600" y="1609560"/>
            <a:chExt cx="1882800" cy="1041480"/>
          </a:xfrm>
        </p:grpSpPr>
        <p:pic>
          <p:nvPicPr>
            <p:cNvPr id="246" name="Flowchart: Terminator 3" descr=""/>
            <p:cNvPicPr/>
            <p:nvPr/>
          </p:nvPicPr>
          <p:blipFill>
            <a:blip r:embed="rId1"/>
            <a:stretch/>
          </p:blipFill>
          <p:spPr>
            <a:xfrm>
              <a:off x="390600" y="1609560"/>
              <a:ext cx="18828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9640" y="1809720"/>
              <a:ext cx="15876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Yoghur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Flowchart: Terminator 4"/>
          <p:cNvGrpSpPr/>
          <p:nvPr/>
        </p:nvGrpSpPr>
        <p:grpSpPr>
          <a:xfrm>
            <a:off x="317520" y="3365640"/>
            <a:ext cx="1876320" cy="1041120"/>
            <a:chOff x="317520" y="3365640"/>
            <a:chExt cx="1876320" cy="1041120"/>
          </a:xfrm>
        </p:grpSpPr>
        <p:pic>
          <p:nvPicPr>
            <p:cNvPr id="249" name="Flowchart: Terminator 4" descr=""/>
            <p:cNvPicPr/>
            <p:nvPr/>
          </p:nvPicPr>
          <p:blipFill>
            <a:blip r:embed="rId2"/>
            <a:stretch/>
          </p:blipFill>
          <p:spPr>
            <a:xfrm>
              <a:off x="317520" y="3365640"/>
              <a:ext cx="18763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3680" y="3562200"/>
              <a:ext cx="15872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Mouth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Flowchart: Terminator 7"/>
          <p:cNvGrpSpPr/>
          <p:nvPr/>
        </p:nvGrpSpPr>
        <p:grpSpPr>
          <a:xfrm>
            <a:off x="317520" y="5114880"/>
            <a:ext cx="1876320" cy="1041480"/>
            <a:chOff x="317520" y="5114880"/>
            <a:chExt cx="1876320" cy="1041480"/>
          </a:xfrm>
        </p:grpSpPr>
        <p:pic>
          <p:nvPicPr>
            <p:cNvPr id="252" name="Flowchart: Terminator 7" descr=""/>
            <p:cNvPicPr/>
            <p:nvPr/>
          </p:nvPicPr>
          <p:blipFill>
            <a:blip r:embed="rId3"/>
            <a:stretch/>
          </p:blipFill>
          <p:spPr>
            <a:xfrm>
              <a:off x="317520" y="5114880"/>
              <a:ext cx="18763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63680" y="5315040"/>
              <a:ext cx="15872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Hand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Flowchart: Terminator 9"/>
          <p:cNvGrpSpPr/>
          <p:nvPr/>
        </p:nvGrpSpPr>
        <p:grpSpPr>
          <a:xfrm>
            <a:off x="2603520" y="165240"/>
            <a:ext cx="4314960" cy="1041120"/>
            <a:chOff x="2603520" y="165240"/>
            <a:chExt cx="4314960" cy="1041120"/>
          </a:xfrm>
        </p:grpSpPr>
        <p:pic>
          <p:nvPicPr>
            <p:cNvPr id="255" name="Flowchart: Terminator 9" descr=""/>
            <p:cNvPicPr/>
            <p:nvPr/>
          </p:nvPicPr>
          <p:blipFill>
            <a:blip r:embed="rId4"/>
            <a:stretch/>
          </p:blipFill>
          <p:spPr>
            <a:xfrm>
              <a:off x="2603520" y="165240"/>
              <a:ext cx="431496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863800" y="361800"/>
              <a:ext cx="37972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Isolation of Bacter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10"/>
          <p:cNvSpPr/>
          <p:nvPr/>
        </p:nvSpPr>
        <p:spPr>
          <a:xfrm>
            <a:off x="3048120" y="1447920"/>
            <a:ext cx="5638680" cy="129528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t a drop of diluted yoghurt on t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id media plate of bacteria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ubate at 3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 for 1 da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ight Arrow 11"/>
          <p:cNvSpPr/>
          <p:nvPr/>
        </p:nvSpPr>
        <p:spPr>
          <a:xfrm>
            <a:off x="2286000" y="1828800"/>
            <a:ext cx="609480" cy="609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a62a0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124080" y="3352680"/>
            <a:ext cx="5867640" cy="129564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e  some saliva with the help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tton swa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oculate it on the media and incub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3124080" y="5105520"/>
            <a:ext cx="5562720" cy="137160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uch the surface of the solid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e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ubate 3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 for 1 day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ight Arrow 14"/>
          <p:cNvSpPr/>
          <p:nvPr/>
        </p:nvSpPr>
        <p:spPr>
          <a:xfrm>
            <a:off x="2286000" y="5334120"/>
            <a:ext cx="609480" cy="609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a62a0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ight Arrow 15"/>
          <p:cNvSpPr/>
          <p:nvPr/>
        </p:nvSpPr>
        <p:spPr>
          <a:xfrm>
            <a:off x="2286000" y="3581280"/>
            <a:ext cx="609480" cy="60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a62a0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http://t1.gstatic.com/images?q=tbn:ANd9GcRwE4miZmCDR5pe3YwZql8oAi9tS1tl_UxDKQIq6vko3BYqHFLy"/>
          <p:cNvPicPr/>
          <p:nvPr/>
        </p:nvPicPr>
        <p:blipFill>
          <a:blip r:embed="rId5"/>
          <a:stretch/>
        </p:blipFill>
        <p:spPr>
          <a:xfrm>
            <a:off x="7467480" y="15238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SterileSwabandPetriDish-medium-init-"/>
          <p:cNvPicPr/>
          <p:nvPr/>
        </p:nvPicPr>
        <p:blipFill>
          <a:blip r:embed="rId6"/>
          <a:stretch/>
        </p:blipFill>
        <p:spPr>
          <a:xfrm>
            <a:off x="7467480" y="3505320"/>
            <a:ext cx="1447920" cy="10666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4"/>
          <p:cNvSpPr/>
          <p:nvPr/>
        </p:nvSpPr>
        <p:spPr>
          <a:xfrm>
            <a:off x="9016920" y="-8413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6" descr="http://us.123rf.com/400wm/400/400/kaarsten/kaarsten1002/kaarsten100200494/6457691-a-human-hand-with-several-stylized-bacteria-on-it-all-isolated-on-white-background.jpg"/>
          <p:cNvPicPr/>
          <p:nvPr/>
        </p:nvPicPr>
        <p:blipFill>
          <a:blip r:embed="rId7"/>
          <a:srcRect l="15997" t="0" r="21998" b="22098"/>
          <a:stretch/>
        </p:blipFill>
        <p:spPr>
          <a:xfrm>
            <a:off x="7391520" y="5105520"/>
            <a:ext cx="16002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4"/>
          <p:cNvGrpSpPr/>
          <p:nvPr/>
        </p:nvGrpSpPr>
        <p:grpSpPr>
          <a:xfrm>
            <a:off x="1142640" y="457200"/>
            <a:ext cx="7099560" cy="5716080"/>
            <a:chOff x="1142640" y="457200"/>
            <a:chExt cx="7099560" cy="5716080"/>
          </a:xfrm>
        </p:grpSpPr>
        <p:pic>
          <p:nvPicPr>
            <p:cNvPr id="268" name="Picture 5" descr="plateconden"/>
            <p:cNvPicPr/>
            <p:nvPr/>
          </p:nvPicPr>
          <p:blipFill>
            <a:blip r:embed="rId1"/>
            <a:stretch/>
          </p:blipFill>
          <p:spPr>
            <a:xfrm rot="5400000">
              <a:off x="361440" y="2228040"/>
              <a:ext cx="4725720" cy="31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6" descr="dishes"/>
            <p:cNvPicPr/>
            <p:nvPr/>
          </p:nvPicPr>
          <p:blipFill>
            <a:blip r:embed="rId2"/>
            <a:stretch/>
          </p:blipFill>
          <p:spPr>
            <a:xfrm>
              <a:off x="4253040" y="1447560"/>
              <a:ext cx="3989160" cy="47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7"/>
            <p:cNvSpPr/>
            <p:nvPr/>
          </p:nvSpPr>
          <p:spPr>
            <a:xfrm>
              <a:off x="1371600" y="457200"/>
              <a:ext cx="6843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gar plates are stored upside down to prevent condensation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06:47:20Z</dcterms:created>
  <dc:creator>salshahrani1</dc:creator>
  <dc:description/>
  <dc:language>en-US</dc:language>
  <cp:lastModifiedBy>Qosmio</cp:lastModifiedBy>
  <dcterms:modified xsi:type="dcterms:W3CDTF">2013-09-16T14:13:21Z</dcterms:modified>
  <cp:revision>51</cp:revision>
  <dc:subject/>
  <dc:title>بسم الله الرحمن الرحيم</dc:title>
</cp:coreProperties>
</file>