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2.jpeg" ContentType="image/jpeg"/>
  <Override PartName="/ppt/media/image33.jpeg" ContentType="image/jpeg"/>
  <Override PartName="/ppt/media/image28.jpeg" ContentType="image/jpeg"/>
  <Override PartName="/ppt/media/image40.png" ContentType="image/png"/>
  <Override PartName="/ppt/media/image36.jpeg" ContentType="image/jpeg"/>
  <Override PartName="/ppt/media/image11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0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567B-6D5C-495C-A556-DBF3D2A2966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784-7BA4-4F10-9E40-A71EB2147CEB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E12-74C1-4992-BE1B-2B87B1939ECF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03A-ED78-45C2-82B8-B4E23F02CE5F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BD0-3FAF-4478-8AC0-5296E140567D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253-12CC-4336-A06F-5083621BD20D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3899-AC32-43C5-8B84-67CA68485098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8446-43E9-4043-AB07-1CE539F6CC43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9EA5-8300-4EF1-AA8D-F352B9C1687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E847-3127-47E6-866E-9E474143B98A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C234-A713-4054-9649-97F26C935BB7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975-F90D-4BDA-8020-C3413C8E0C09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FC4-FE1F-4711-95C1-8D56F37E903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1B3-9944-4E97-94DC-50C40AC67D0B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589-B013-407B-AD13-5232855EE5C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2C06-A3EF-4449-8CAB-A8715344D22A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A44-6D87-44A8-8850-0046AE86DDD0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AA7-3C3B-4630-8E22-B4C5C6D8C62C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8739-BF7E-4C6D-8AF5-0D9DFB5921D3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143-1DF9-4776-ACE2-57CEFDD1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F7B-FAEB-435D-8DD9-E5CFB52E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A80-7B20-45AA-898C-D84DAE3D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EC6-662A-42DC-A0E6-CD648649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9727-2204-42D2-A283-A5A91EAA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918E-B97F-4166-BAEF-F199D85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68A-68C8-46DE-94C8-7937D02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B60A-1EE3-47CD-8E24-3C96209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55EC-EB59-4A0A-8058-1C54786E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8DA-DB86-475E-8B04-53705D0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68BC-59A8-4CC9-A9C1-0740C80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84-CDF2-4D23-8096-C7C898F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A45-B120-4F3B-AE19-78461915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B47-6A55-4385-8DE9-9E4F684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0DDF-8FEE-4AE8-9248-8ABDF930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2A6B-1AC7-45BD-81A5-AA0A1BC7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6AF-88F6-4BCF-BBDD-FA89339C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5F0D-9075-46A0-B254-45D1DE41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FA4E-CB40-485A-8EE8-68F2AF9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7166-BB6A-4AE5-97FF-073F88C8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A955-CDD0-4972-8BF4-84EC1B3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BFB5-C203-409E-BCE6-78DB8EA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3D1-16F9-422E-87B5-4DD40CDD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B97A-5412-40F3-8D74-DA10EEA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65E9-771D-41A2-AFFF-A9F791D6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0C44-7820-420E-B26F-F2850E2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C485-EA32-4AAC-9812-E10B21E1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F299-6FDC-4632-8DDB-F3353227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2208-49FE-4F12-A3A6-63E11D6A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86E0-E1E3-4C8F-BE42-4A34E2DF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8E7C-D615-410C-9586-5DC2C75C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BE80-8882-479B-A7C3-85F179B2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4CD1-DA9F-47AE-B993-4E19D463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E0E-0F8A-4A4D-B374-01B0761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450B-5995-49E9-A2C2-794D2E9A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F737-74E6-410A-B78F-93255A9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91D9-6AB0-49A0-9F9F-3635CC4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87A6-F25A-43A3-833A-FD76378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9281-0A2C-4592-9092-497951E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6698-1369-455F-9F67-9F13610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DA6D-D753-43E1-9C16-B3106A49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F2C4-6A56-4C2F-9942-A664A70D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2E79-4346-455C-B809-401267A3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A26A-A0A2-4F02-B8C8-0606F829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4B4-F4E8-4BEB-823B-0C555A4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E94D-8120-4DD1-961E-A9DA128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13F5-EF06-4849-B1A9-197CAB3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0049-28B1-474C-B7BD-AFEEB974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1525-45AC-4238-A97E-3736CD3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0E93-B4D8-4C9D-904B-EF0DC2C1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2667-014A-4C54-8F33-39606207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005A-C4B3-4A0B-9893-6DC192C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B73ED-E88B-42D6-B7BF-091820C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56E5-14E6-41DF-8D1E-281D25E1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3772-DF72-4596-952A-17A90436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1DA-C886-4C75-875B-1CA7090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5AA0-6C2F-40F0-B6B6-0C8A612F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A34-C7DD-411C-A4C8-C2AEF8C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894-73DB-4C69-B7AF-13A0733C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BF8-3B98-47CE-AD22-6D5E713C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817A-9DF1-40FA-9D8C-EEBE05AB0310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60A7-F43A-4CA4-AD03-049D2C3D06FD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DAE-13E1-4D00-A6A2-9385FE40AC98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C4F-8226-46A7-9BE8-1077F34C3D71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53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53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b32c1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5cd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aebad5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729-0294-4084-9326-8604747D08D6}" type="slidenum">
              <a:rPr b="0" lang="ar-SA" sz="14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895320" y="1481040"/>
            <a:ext cx="5164200" cy="12319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64803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orbel"/>
                <a:cs typeface="Akhbar MT"/>
              </a:rPr>
              <a:t>بسم الله الرحمن الرحيم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9" name="مستطيل 3" descr=""/>
          <p:cNvPicPr/>
          <p:nvPr/>
        </p:nvPicPr>
        <p:blipFill>
          <a:blip r:embed="rId2"/>
          <a:stretch/>
        </p:blipFill>
        <p:spPr>
          <a:xfrm>
            <a:off x="963720" y="2981160"/>
            <a:ext cx="6924600" cy="109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dreamstime.com/petri-dishes-thumb4367343.jpg"/>
          <p:cNvPicPr/>
          <p:nvPr/>
        </p:nvPicPr>
        <p:blipFill>
          <a:blip r:embed="rId3"/>
          <a:stretch/>
        </p:blipFill>
        <p:spPr>
          <a:xfrm>
            <a:off x="2700360" y="4334040"/>
            <a:ext cx="33656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800" spc="-1" strike="noStrike">
              <a:solidFill>
                <a:srgbClr val="ffff53"/>
              </a:solidFill>
              <a:latin typeface="Corbe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67" name="مستطيل 3"/>
          <p:cNvSpPr/>
          <p:nvPr/>
        </p:nvSpPr>
        <p:spPr>
          <a:xfrm>
            <a:off x="468360" y="47628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teriliz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8" name="Picture 4" descr="image_culture_media"/>
          <p:cNvPicPr/>
          <p:nvPr/>
        </p:nvPicPr>
        <p:blipFill>
          <a:blip r:embed="rId2"/>
          <a:stretch/>
        </p:blipFill>
        <p:spPr>
          <a:xfrm>
            <a:off x="826920" y="2997360"/>
            <a:ext cx="3467160" cy="2519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https://encrypted-tbn2.gstatic.com/images?q=tbn:ANd9GcRtRHuQC8bd6zfi5HpaIvy5lIOJLs3UEqaHIkBS7gcNuRdU7PsGlA"/>
          <p:cNvPicPr/>
          <p:nvPr/>
        </p:nvPicPr>
        <p:blipFill>
          <a:blip r:embed="rId3"/>
          <a:stretch/>
        </p:blipFill>
        <p:spPr>
          <a:xfrm>
            <a:off x="5076720" y="2276640"/>
            <a:ext cx="2989440" cy="4044960"/>
          </a:xfrm>
          <a:prstGeom prst="rect">
            <a:avLst/>
          </a:prstGeom>
          <a:ln w="0">
            <a:noFill/>
          </a:ln>
        </p:spPr>
      </p:pic>
      <p:sp>
        <p:nvSpPr>
          <p:cNvPr id="270" name="سهم بشكل U 6"/>
          <p:cNvSpPr/>
          <p:nvPr/>
        </p:nvSpPr>
        <p:spPr>
          <a:xfrm>
            <a:off x="3635280" y="1125360"/>
            <a:ext cx="2376720" cy="1440000"/>
          </a:xfrm>
          <a:custGeom>
            <a:avLst/>
            <a:gdLst/>
            <a:ahLst/>
            <a:rect l="l" t="t" r="r" b="b"/>
            <a:pathLst>
              <a:path w="2376264" h="1440160">
                <a:moveTo>
                  <a:pt x="0" y="1440160"/>
                </a:moveTo>
                <a:lnTo>
                  <a:pt x="0" y="630070"/>
                </a:lnTo>
                <a:lnTo>
                  <a:pt x="0" y="630070"/>
                </a:lnTo>
                <a:arcTo wR="630070" hR="630070" stAng="-10799995" swAng="5400000"/>
                <a:lnTo>
                  <a:pt x="1566174" y="0"/>
                </a:lnTo>
                <a:lnTo>
                  <a:pt x="1566174" y="0"/>
                </a:lnTo>
                <a:arcTo wR="630070" hR="630070" stAng="-5399995" swAng="5400000"/>
                <a:lnTo>
                  <a:pt x="2196244" y="720080"/>
                </a:lnTo>
                <a:lnTo>
                  <a:pt x="2376264" y="720080"/>
                </a:lnTo>
                <a:lnTo>
                  <a:pt x="2016224" y="1080120"/>
                </a:lnTo>
                <a:lnTo>
                  <a:pt x="1656184" y="720080"/>
                </a:lnTo>
                <a:lnTo>
                  <a:pt x="1836204" y="720080"/>
                </a:lnTo>
                <a:lnTo>
                  <a:pt x="1836204" y="630070"/>
                </a:lnTo>
                <a:lnTo>
                  <a:pt x="1836204" y="630070"/>
                </a:lnTo>
                <a:arcTo wR="270030" hR="270030" stAng="0" swAng="-5400000"/>
                <a:lnTo>
                  <a:pt x="630070" y="360040"/>
                </a:lnTo>
                <a:lnTo>
                  <a:pt x="630070" y="360040"/>
                </a:lnTo>
                <a:arcTo wR="270030" hR="270030" stAng="-5400000" swAng="-5400000"/>
                <a:lnTo>
                  <a:pt x="360040" y="1440160"/>
                </a:lnTo>
                <a:close/>
              </a:path>
            </a:pathLst>
          </a:custGeom>
          <a:gradFill rotWithShape="0">
            <a:gsLst>
              <a:gs pos="0">
                <a:srgbClr val="e0eaff"/>
              </a:gs>
              <a:gs pos="100000">
                <a:srgbClr val="e4ebff"/>
              </a:gs>
            </a:gsLst>
            <a:lin ang="16200000"/>
          </a:gradFill>
          <a:ln w="9360">
            <a:solidFill>
              <a:srgbClr val="6192ed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مستطيل 3"/>
          <p:cNvSpPr/>
          <p:nvPr/>
        </p:nvSpPr>
        <p:spPr>
          <a:xfrm>
            <a:off x="611280" y="90792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c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مستطيل 4"/>
          <p:cNvSpPr/>
          <p:nvPr/>
        </p:nvSpPr>
        <p:spPr>
          <a:xfrm>
            <a:off x="2987640" y="90792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5- refrigerate till us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4" name="Picture 12" descr="http://glendalecommunitycollege.files.wordpress.com/2012/05/3a-flasks.jpg?w=584"/>
          <p:cNvPicPr/>
          <p:nvPr/>
        </p:nvPicPr>
        <p:blipFill>
          <a:blip r:embed="rId2"/>
          <a:stretch/>
        </p:blipFill>
        <p:spPr>
          <a:xfrm>
            <a:off x="1692360" y="2276640"/>
            <a:ext cx="540540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عنوان 1" descr=""/>
          <p:cNvPicPr/>
          <p:nvPr/>
        </p:nvPicPr>
        <p:blipFill>
          <a:blip r:embed="rId1"/>
          <a:stretch/>
        </p:blipFill>
        <p:spPr>
          <a:xfrm>
            <a:off x="-122400" y="-19080"/>
            <a:ext cx="860760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Image11"/>
          <p:cNvPicPr/>
          <p:nvPr/>
        </p:nvPicPr>
        <p:blipFill>
          <a:blip r:embed="rId2"/>
          <a:stretch/>
        </p:blipFill>
        <p:spPr>
          <a:xfrm>
            <a:off x="1763640" y="1197000"/>
            <a:ext cx="4896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225360" y="-249120"/>
            <a:ext cx="8406000" cy="2249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9144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the lid slightly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ur  the media near bunsen bur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t the pl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date and  time on the sides of pl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9" name="Picture 1" descr="microbiology~aseptic-technique-pour-bacterial-growth-media-petri-dish~~element177~~14"/>
          <p:cNvPicPr/>
          <p:nvPr/>
        </p:nvPicPr>
        <p:blipFill>
          <a:blip r:embed="rId2"/>
          <a:stretch/>
        </p:blipFill>
        <p:spPr>
          <a:xfrm>
            <a:off x="250920" y="4221000"/>
            <a:ext cx="1873080" cy="2428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microbiology~aseptic-technique-pour-bacterial-growth-media-petri-dish~~element177~~11"/>
          <p:cNvPicPr/>
          <p:nvPr/>
        </p:nvPicPr>
        <p:blipFill>
          <a:blip r:embed="rId3"/>
          <a:stretch/>
        </p:blipFill>
        <p:spPr>
          <a:xfrm>
            <a:off x="2124000" y="4221000"/>
            <a:ext cx="204624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microbiology~aseptic-technique-pour-bacterial-growth-media-petri-dish~~element177~~12"/>
          <p:cNvPicPr/>
          <p:nvPr/>
        </p:nvPicPr>
        <p:blipFill>
          <a:blip r:embed="rId4"/>
          <a:stretch/>
        </p:blipFill>
        <p:spPr>
          <a:xfrm>
            <a:off x="4211640" y="4221000"/>
            <a:ext cx="2160720" cy="2362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abel_plate_bottoms_P1302927"/>
          <p:cNvPicPr/>
          <p:nvPr/>
        </p:nvPicPr>
        <p:blipFill>
          <a:blip r:embed="rId5"/>
          <a:stretch/>
        </p:blipFill>
        <p:spPr>
          <a:xfrm>
            <a:off x="6443640" y="4221000"/>
            <a:ext cx="2603520" cy="2449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encrypted-tbn3.gstatic.com/images?q=tbn:ANd9GcStK11lKGNAajs4MMh5Tm33F-Fdtqie0cKRZY7DPYxgF-gaL84mPw"/>
          <p:cNvPicPr/>
          <p:nvPr/>
        </p:nvPicPr>
        <p:blipFill>
          <a:blip r:embed="rId1"/>
          <a:stretch/>
        </p:blipFill>
        <p:spPr>
          <a:xfrm>
            <a:off x="7778880" y="260280"/>
            <a:ext cx="1257120" cy="3048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0" y="134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fter  boiling, pour media in test tub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utoclav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in 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slan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position till the media  solidfy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عنوان 1" descr=""/>
          <p:cNvPicPr/>
          <p:nvPr/>
        </p:nvPicPr>
        <p:blipFill>
          <a:blip r:embed="rId2"/>
          <a:stretch/>
        </p:blipFill>
        <p:spPr>
          <a:xfrm>
            <a:off x="-139680" y="255600"/>
            <a:ext cx="8551800" cy="878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image018"/>
          <p:cNvPicPr/>
          <p:nvPr/>
        </p:nvPicPr>
        <p:blipFill>
          <a:blip r:embed="rId3"/>
          <a:stretch/>
        </p:blipFill>
        <p:spPr>
          <a:xfrm>
            <a:off x="1116000" y="3429000"/>
            <a:ext cx="4176720" cy="2894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https://encrypted-tbn3.gstatic.com/images?q=tbn:ANd9GcTG625BK1lOZmLfsBGmWMpOlu7iTyv3fdzcG-D8giXJWt6w_xDa"/>
          <p:cNvPicPr/>
          <p:nvPr/>
        </p:nvPicPr>
        <p:blipFill>
          <a:blip r:embed="rId4"/>
          <a:stretch/>
        </p:blipFill>
        <p:spPr>
          <a:xfrm>
            <a:off x="6156360" y="3789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عنوان 1" descr=""/>
          <p:cNvPicPr/>
          <p:nvPr/>
        </p:nvPicPr>
        <p:blipFill>
          <a:blip r:embed="rId1"/>
          <a:stretch/>
        </p:blipFill>
        <p:spPr>
          <a:xfrm>
            <a:off x="-139680" y="255600"/>
            <a:ext cx="8551800" cy="878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87480" y="141264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fter  boiling, pour media in test tub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utoclav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in </a:t>
            </a:r>
            <a:r>
              <a:rPr b="1" lang="en-US" sz="3000" spc="-1" strike="noStrike">
                <a:solidFill>
                  <a:srgbClr val="c00000"/>
                </a:solidFill>
                <a:latin typeface="Corbel"/>
              </a:rPr>
              <a:t>vertical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position till the media  solidfy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8588520" y="-1062000"/>
            <a:ext cx="207648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4" descr="http://www.anaerobesystems.com/_/rsrc/1295297483232/Home/pras-tubed-media/as-810-bru-deep/as-810%20brucella%20agar%20deep.jpg?height=320&amp;width=302"/>
          <p:cNvPicPr/>
          <p:nvPr/>
        </p:nvPicPr>
        <p:blipFill>
          <a:blip r:embed="rId2"/>
          <a:stretch/>
        </p:blipFill>
        <p:spPr>
          <a:xfrm>
            <a:off x="3924360" y="3357720"/>
            <a:ext cx="287640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700360" y="5013360"/>
            <a:ext cx="4052880" cy="74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rIns="90000" tIns="46800" bIns="46800" anchor="t">
            <a:normAutofit fontScale="87000"/>
          </a:bodyPr>
          <a:p>
            <a:pPr marL="277200" indent="-277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lant agar  -   Deep ag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3" name="Picture 2" descr="https://encrypted-tbn3.gstatic.com/images?q=tbn:ANd9GcT-BtTMxqqCAfyQWW2vP4cJTH7ikI2I5wgzCTjSi7PRLuwwqr5E"/>
          <p:cNvPicPr/>
          <p:nvPr/>
        </p:nvPicPr>
        <p:blipFill>
          <a:blip r:embed="rId1"/>
          <a:stretch/>
        </p:blipFill>
        <p:spPr>
          <a:xfrm>
            <a:off x="3059280" y="190440"/>
            <a:ext cx="35049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عنوان 1" descr=""/>
          <p:cNvPicPr/>
          <p:nvPr/>
        </p:nvPicPr>
        <p:blipFill>
          <a:blip r:embed="rId1"/>
          <a:stretch/>
        </p:blipFill>
        <p:spPr>
          <a:xfrm>
            <a:off x="208080" y="396720"/>
            <a:ext cx="849780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the testube near a burner and remove the c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our the media in the tube and close the cap at o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lace the tube in upright position in the testube st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2" descr="https://encrypted-tbn0.gstatic.com/images?q=tbn:ANd9GcRZ46exPUHTbSHaZefQrWBABAI0kyLPcV-n4pJrbjmWDQeTFNggQA"/>
          <p:cNvPicPr/>
          <p:nvPr/>
        </p:nvPicPr>
        <p:blipFill>
          <a:blip r:embed="rId2"/>
          <a:stretch/>
        </p:blipFill>
        <p:spPr>
          <a:xfrm>
            <a:off x="3348000" y="3860640"/>
            <a:ext cx="2808360" cy="2746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s://encrypted-tbn2.gstatic.com/images?q=tbn:ANd9GcQPklpwpcpAqygCQACJPATaH9rDO_ULuqbZw2iR5HDpyer5fFIQBw"/>
          <p:cNvPicPr/>
          <p:nvPr/>
        </p:nvPicPr>
        <p:blipFill>
          <a:blip r:embed="rId3"/>
          <a:stretch/>
        </p:blipFill>
        <p:spPr>
          <a:xfrm>
            <a:off x="6372360" y="4221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عنوان 1" descr=""/>
          <p:cNvPicPr/>
          <p:nvPr/>
        </p:nvPicPr>
        <p:blipFill>
          <a:blip r:embed="rId1"/>
          <a:stretch/>
        </p:blipFill>
        <p:spPr>
          <a:xfrm>
            <a:off x="536400" y="1047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s://encrypted-tbn0.gstatic.com/images?q=tbn:ANd9GcQ41QjmoYTW2j28ayAosyIUk9wDDEuoYR7bfVv2iuP0d8cEgorPBg"/>
          <p:cNvPicPr/>
          <p:nvPr/>
        </p:nvPicPr>
        <p:blipFill>
          <a:blip r:embed="rId2"/>
          <a:stretch/>
        </p:blipFill>
        <p:spPr>
          <a:xfrm>
            <a:off x="2484360" y="3284640"/>
            <a:ext cx="3743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repared Media in Petri Dishes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32" name="عنوان 1" descr=""/>
          <p:cNvPicPr/>
          <p:nvPr/>
        </p:nvPicPr>
        <p:blipFill>
          <a:blip r:embed="rId2"/>
          <a:stretch/>
        </p:blipFill>
        <p:spPr>
          <a:xfrm>
            <a:off x="-73080" y="712800"/>
            <a:ext cx="8485200" cy="665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9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9000"/>
          </a:bodyPr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Primary ingredients required by all living organisms include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carbon source, water, minerals, and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nitrogen sourc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hese nutrients together make a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medi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110000"/>
              </a:lnSpc>
              <a:spcBef>
                <a:spcPts val="75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ifferent microbes need different amounts of these nutri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5720" indent="-315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176040" y="530280"/>
            <a:ext cx="8517240" cy="1554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24000" y="240984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liquid (called broth)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semi-solid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901"/>
              </a:spcBef>
              <a:buClr>
                <a:srgbClr val="7598d9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solid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 algn="r" rtl="1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6" name="Picture 6" descr="http://www.foodprocessing-technology.com/contractor_images/biomerieux-australia/3-culture-media.jpg"/>
          <p:cNvPicPr/>
          <p:nvPr/>
        </p:nvPicPr>
        <p:blipFill>
          <a:blip r:embed="rId2"/>
          <a:stretch/>
        </p:blipFill>
        <p:spPr>
          <a:xfrm>
            <a:off x="179280" y="2492280"/>
            <a:ext cx="403236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عنوان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d7"/>
                </a:solidFill>
                <a:latin typeface="Corbel"/>
              </a:rPr>
              <a:t>To prepare  solid and Liquid medi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Picture 2" descr="https://encrypted-tbn0.gstatic.com/images?q=tbn:ANd9GcSk7DG8G_S_Tq2LkFeZi-eZPWalVzcRrnAjVRfwqE2UC1cwDIR_"/>
          <p:cNvPicPr/>
          <p:nvPr/>
        </p:nvPicPr>
        <p:blipFill>
          <a:blip r:embed="rId2"/>
          <a:stretch/>
        </p:blipFill>
        <p:spPr>
          <a:xfrm>
            <a:off x="2700360" y="3573360"/>
            <a:ext cx="332892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عنوان 1" descr=""/>
          <p:cNvPicPr/>
          <p:nvPr/>
        </p:nvPicPr>
        <p:blipFill>
          <a:blip r:embed="rId1"/>
          <a:stretch/>
        </p:blipFill>
        <p:spPr>
          <a:xfrm>
            <a:off x="463680" y="-16524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5640" y="184464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00"/>
              </a:buClr>
              <a:buSzPct val="82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Deffrent media 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Nutreint broth  -  Nutrient agar  - PDA/malt extrac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51"/>
              </a:spcBef>
              <a:buClr>
                <a:srgbClr val="fe8637"/>
              </a:buClr>
              <a:buSzPct val="70000"/>
              <a:buFont typeface="Corbel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3" descr="Assemble_chemicals_Slide 14"/>
          <p:cNvPicPr/>
          <p:nvPr/>
        </p:nvPicPr>
        <p:blipFill>
          <a:blip r:embed="rId2"/>
          <a:stretch/>
        </p:blipFill>
        <p:spPr>
          <a:xfrm>
            <a:off x="1476360" y="3284640"/>
            <a:ext cx="5943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2- Balance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3- Distil water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5- Test tube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6- Petri plat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7- Flaskes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7- Burner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8- Autocla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4" descr="https://media.vwr.com/stibo/low_res/4695825.jpg"/>
          <p:cNvPicPr/>
          <p:nvPr/>
        </p:nvPicPr>
        <p:blipFill>
          <a:blip r:embed="rId1"/>
          <a:stretch/>
        </p:blipFill>
        <p:spPr>
          <a:xfrm>
            <a:off x="4788000" y="4589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245" name="عنوان 1" descr=""/>
          <p:cNvPicPr/>
          <p:nvPr/>
        </p:nvPicPr>
        <p:blipFill>
          <a:blip r:embed="rId2"/>
          <a:stretch/>
        </p:blipFill>
        <p:spPr>
          <a:xfrm>
            <a:off x="463680" y="-165240"/>
            <a:ext cx="8229600" cy="96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s://encrypted-tbn2.gstatic.com/images?q=tbn:ANd9GcTe7HX73d6S-Y08x6wKv-NT183VpSA1G-TkZH359pujkD6DcJM6"/>
          <p:cNvPicPr/>
          <p:nvPr/>
        </p:nvPicPr>
        <p:blipFill>
          <a:blip r:embed="rId3"/>
          <a:stretch/>
        </p:blipFill>
        <p:spPr>
          <a:xfrm>
            <a:off x="6659640" y="692280"/>
            <a:ext cx="2238120" cy="2047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s://encrypted-tbn1.gstatic.com/images?q=tbn:ANd9GcS37kwrutjsI_5tVz3HWk5_8ODhNDX2fynMWR3H4kzTRjGRXYhRyg"/>
          <p:cNvPicPr/>
          <p:nvPr/>
        </p:nvPicPr>
        <p:blipFill>
          <a:blip r:embed="rId4"/>
          <a:stretch/>
        </p:blipFill>
        <p:spPr>
          <a:xfrm>
            <a:off x="5003640" y="263700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s://encrypted-tbn1.gstatic.com/images?q=tbn:ANd9GcT35-iPHHF9HPiOSZsOG4aBkBOqUttLRQnLHzOQ_YGvexQbEBsS6g"/>
          <p:cNvPicPr/>
          <p:nvPr/>
        </p:nvPicPr>
        <p:blipFill>
          <a:blip r:embed="rId5"/>
          <a:srcRect l="14985" t="0" r="13209" b="0"/>
          <a:stretch/>
        </p:blipFill>
        <p:spPr>
          <a:xfrm>
            <a:off x="7524720" y="3213000"/>
            <a:ext cx="136836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https://encrypted-tbn2.gstatic.com/images?q=tbn:ANd9GcRtRHuQC8bd6zfi5HpaIvy5lIOJLs3UEqaHIkBS7gcNuRdU7PsGlA"/>
          <p:cNvPicPr/>
          <p:nvPr/>
        </p:nvPicPr>
        <p:blipFill>
          <a:blip r:embed="rId6"/>
          <a:stretch/>
        </p:blipFill>
        <p:spPr>
          <a:xfrm>
            <a:off x="2843280" y="400536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https://encrypted-tbn2.gstatic.com/images?q=tbn:ANd9GcSpXc7b04-aSYQhf31LfEkgWMrR_13EY70gHDDi8nfYM4OfbLkT"/>
          <p:cNvPicPr/>
          <p:nvPr/>
        </p:nvPicPr>
        <p:blipFill>
          <a:blip r:embed="rId7"/>
          <a:stretch/>
        </p:blipFill>
        <p:spPr>
          <a:xfrm>
            <a:off x="3348000" y="1628640"/>
            <a:ext cx="1478160" cy="20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عنوان 1" descr=""/>
          <p:cNvPicPr/>
          <p:nvPr/>
        </p:nvPicPr>
        <p:blipFill>
          <a:blip r:embed="rId1"/>
          <a:stretch/>
        </p:blipFill>
        <p:spPr>
          <a:xfrm>
            <a:off x="463680" y="0"/>
            <a:ext cx="8242200" cy="963720"/>
          </a:xfrm>
          <a:prstGeom prst="rect">
            <a:avLst/>
          </a:prstGeom>
          <a:ln w="0">
            <a:noFill/>
          </a:ln>
        </p:spPr>
      </p:pic>
      <p:sp>
        <p:nvSpPr>
          <p:cNvPr id="252" name="مستطيل 5"/>
          <p:cNvSpPr/>
          <p:nvPr/>
        </p:nvSpPr>
        <p:spPr>
          <a:xfrm>
            <a:off x="3564000" y="119700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Wei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مستطيل 6"/>
          <p:cNvSpPr/>
          <p:nvPr/>
        </p:nvSpPr>
        <p:spPr>
          <a:xfrm>
            <a:off x="3564000" y="2276640"/>
            <a:ext cx="2016000" cy="93636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issol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مستطيل 7"/>
          <p:cNvSpPr/>
          <p:nvPr/>
        </p:nvSpPr>
        <p:spPr>
          <a:xfrm>
            <a:off x="3564000" y="3357720"/>
            <a:ext cx="2016000" cy="9349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teriliz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مستطيل 8"/>
          <p:cNvSpPr/>
          <p:nvPr/>
        </p:nvSpPr>
        <p:spPr>
          <a:xfrm>
            <a:off x="3564000" y="443700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coo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مستطيل 9"/>
          <p:cNvSpPr/>
          <p:nvPr/>
        </p:nvSpPr>
        <p:spPr>
          <a:xfrm>
            <a:off x="3564000" y="551664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5- refrigerate till us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800" spc="-1" strike="noStrike">
              <a:solidFill>
                <a:srgbClr val="ffff53"/>
              </a:solidFill>
              <a:latin typeface="Corbe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Ingredients_on_scale_Slide 15"/>
          <p:cNvPicPr/>
          <p:nvPr/>
        </p:nvPicPr>
        <p:blipFill>
          <a:blip r:embed="rId2"/>
          <a:stretch/>
        </p:blipFill>
        <p:spPr>
          <a:xfrm>
            <a:off x="2916360" y="1989000"/>
            <a:ext cx="5688000" cy="4552920"/>
          </a:xfrm>
          <a:prstGeom prst="rect">
            <a:avLst/>
          </a:prstGeom>
          <a:ln w="0">
            <a:noFill/>
          </a:ln>
        </p:spPr>
      </p:pic>
      <p:sp>
        <p:nvSpPr>
          <p:cNvPr id="260" name="مستطيل 4"/>
          <p:cNvSpPr/>
          <p:nvPr/>
        </p:nvSpPr>
        <p:spPr>
          <a:xfrm>
            <a:off x="611280" y="549360"/>
            <a:ext cx="2016000" cy="9349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Wei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262" name="مستطيل 3"/>
          <p:cNvSpPr/>
          <p:nvPr/>
        </p:nvSpPr>
        <p:spPr>
          <a:xfrm>
            <a:off x="468360" y="476280"/>
            <a:ext cx="2016000" cy="936720"/>
          </a:xfrm>
          <a:prstGeom prst="rect">
            <a:avLst/>
          </a:prstGeom>
          <a:gradFill rotWithShape="0">
            <a:gsLst>
              <a:gs pos="0">
                <a:srgbClr val="fffdd5"/>
              </a:gs>
              <a:gs pos="100000">
                <a:srgbClr val="fffbda"/>
              </a:gs>
            </a:gsLst>
            <a:lin ang="16200000"/>
          </a:gradFill>
          <a:ln w="9360">
            <a:solidFill>
              <a:srgbClr val="ffe505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issol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3" name="Picture 5" descr="Adding_dry_culture_Slide 16"/>
          <p:cNvPicPr/>
          <p:nvPr/>
        </p:nvPicPr>
        <p:blipFill>
          <a:blip r:embed="rId2"/>
          <a:stretch/>
        </p:blipFill>
        <p:spPr>
          <a:xfrm>
            <a:off x="395280" y="2205000"/>
            <a:ext cx="4065480" cy="273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Luria_broth_hot_plate_Slide 17"/>
          <p:cNvPicPr/>
          <p:nvPr/>
        </p:nvPicPr>
        <p:blipFill>
          <a:blip r:embed="rId3"/>
          <a:stretch/>
        </p:blipFill>
        <p:spPr>
          <a:xfrm>
            <a:off x="4643280" y="2205000"/>
            <a:ext cx="4105440" cy="2736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2:25:17Z</dcterms:created>
  <dc:creator>user</dc:creator>
  <dc:description/>
  <dc:language>en-US</dc:language>
  <cp:lastModifiedBy>Qosmio</cp:lastModifiedBy>
  <dcterms:modified xsi:type="dcterms:W3CDTF">2013-09-16T14:12:29Z</dcterms:modified>
  <cp:revision>26</cp:revision>
  <dc:subject/>
  <dc:title>140 micro</dc:title>
</cp:coreProperties>
</file>