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2.jpeg" ContentType="image/jpeg"/>
  <Override PartName="/ppt/media/image33.jpeg" ContentType="image/jpeg"/>
  <Override PartName="/ppt/media/image28.jpeg" ContentType="image/jpeg"/>
  <Override PartName="/ppt/media/image40.png" ContentType="image/png"/>
  <Override PartName="/ppt/media/image36.jpeg" ContentType="image/jpeg"/>
  <Override PartName="/ppt/media/image11.jpeg" ContentType="image/jpeg"/>
  <Override PartName="/ppt/media/image41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9.png" ContentType="image/png"/>
  <Override PartName="/ppt/media/image7.jpeg" ContentType="image/jpeg"/>
  <Override PartName="/ppt/media/image38.jpeg" ContentType="image/jpeg"/>
  <Override PartName="/ppt/media/image46.png" ContentType="image/png"/>
  <Override PartName="/ppt/media/image31.png" ContentType="image/png"/>
  <Override PartName="/ppt/media/image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0.jpeg" ContentType="image/jpeg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5F4F-5487-4FCB-B5C7-73EA2709E48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8610-D079-4BA0-8FD9-6C4A78D8E05D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D3E9-2CD9-418A-9F71-F7DE6577FA1B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797E-0BD8-45E2-A90B-DF7DFCE8808E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7D40-DAFB-4911-BCC2-21414B305C4E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EE0B-111E-4C5E-BFA7-904FFE86A3A3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8B0-576E-4501-8420-1E921B1CA2B5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29DF-6395-45A9-8D15-A1A27D9122A3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F19F-F829-4EC3-9814-DA66584F60BA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4615-8241-4B19-A6B8-39C0F2925435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4482-A35E-4D30-BE10-EDDCA13382E2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AE37-EB2B-464C-AEAA-2BA7F58DFAD1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BB67-C902-4E27-8BA8-C9685611CD2E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C62A-1FCD-4F70-A25B-D2F9AAF01794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36FF-8FAD-4461-B665-DCACE052FC42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7598-2FF5-43CF-80D6-33B8FD0FC177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CFA5-AD7A-4612-823A-3FF1A82794C6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EF5F-718B-4D53-94A9-CECA6B0B47C6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EEED-734D-40A7-AB3E-D2958FEF65F7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8B6-C3C6-41EF-9D40-5788466B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2E0-1B32-45D1-997C-A16BC0FE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870-725A-4EB1-AF75-BC18049A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6B6-9C94-4D3B-BE75-50E96E35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9DF5-AC79-48D4-971E-D0F527DF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654F-F728-4832-BBAF-F9C9F83C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213F-54F6-40B5-956D-86044B63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C8DC-B419-453D-AFF5-810A791F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B254-24C2-46ED-87FF-8574537E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0A7D-DCD7-4FE2-B8C1-1EA78168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CB39-96A0-443B-B9DE-2CC8B9C0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62F-486D-4494-A4ED-10C0222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5231-52B0-4811-A31F-663DD79D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2CAB-1610-4AAB-ABE4-14819F0A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8299-F319-47D5-A34D-3F9EAE1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43D9-A5B2-4E6D-BBB8-9175C6F1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DD7D-EAC7-4B50-84C0-0081FEC7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0045-ADA1-4A0E-8CE8-A943A35A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21EA-37D6-455B-8AC1-890F1016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B004-E149-4EC0-B8C9-7F76F97B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19C7-7E68-46D0-B87D-144842CE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7DB3-D546-4426-83BF-D52293CA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B78-8EC4-476D-8468-8E6AD920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2ADFD-235E-4C8B-AD67-028C2E87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3862-8358-4D61-8556-76DA99E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FEB2-CFE7-45F8-9CBC-1301F8EF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651B5-14F9-424A-82EA-9002C31C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B3A5-C321-4CF2-AB00-6F8C3293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5AE1-AEEC-4F69-88E3-9A92280A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DCC2D-B587-4158-8132-3C8A9052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E3D4-E4B9-4EB3-BC5E-78835DCF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DA49-9D32-4462-9CD7-434F28C5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A3F2-D1E1-4E56-ADA9-01B1D91E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74D-CEF0-445B-8615-7AF5BE3B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5DFA-970B-40D5-9031-27075F49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2343F-C977-44B7-9EEA-5A00593E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FB98-422E-4509-B13D-D9E0DA27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E65F-EF71-4E44-8198-21BCE6F8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2E692-0111-4BDA-9614-53E8B60F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37FB-07E4-44B1-9608-6FEFC28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3DE9-E323-421A-89D3-DC861A31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60BE-7CB0-402B-B2EC-50AFB2EA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79C5-F242-4604-BA18-FBACCC99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DDD2-B9ED-4DAE-8EA9-F100D234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36E-FAA6-4215-8228-50A087D7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A2F09-E264-4F28-B473-61A9C2D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69BB-259E-48F7-83C5-BD6449BB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B509-6743-47EE-8006-9309F3F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05F9-57E7-4D9A-8C50-1869B523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A37B6-CFD0-410C-911D-89CF3955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ADDD-7ED5-4734-AA8F-470C6FC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1961-D894-4FD0-8B3F-4B2B79B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BDCEE-ABB5-4290-B556-A52E8897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EF2FF-45E1-46C8-B7F5-BC192956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A704D-A12E-43DC-A280-7FAE6324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E25-B602-4F5E-A02F-CA95C6C6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61F9-CB5E-409C-B594-0C00B4D0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26F-3955-4345-BF7D-E7B63957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A21-8F35-4AC2-89C1-31E473FE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347-E692-4F37-B4BA-333F0C26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58EA-9FAA-4BC1-B794-9C7648837A29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11BD-CA9C-4A1A-94E9-22BCD710CF09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5EFC-8817-4287-BDC8-DFD8896632C8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5EBC-A4D7-4E8C-B309-D0B973BB107D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6E84-503C-4194-80E7-1EAAD8DF369F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عنوان 1" descr=""/>
          <p:cNvPicPr/>
          <p:nvPr/>
        </p:nvPicPr>
        <p:blipFill>
          <a:blip r:embed="rId1"/>
          <a:stretch/>
        </p:blipFill>
        <p:spPr>
          <a:xfrm>
            <a:off x="895320" y="1481040"/>
            <a:ext cx="5164200" cy="12319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648036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orbel"/>
                <a:cs typeface="Akhbar MT"/>
              </a:rPr>
              <a:t>بسم الله الرحمن الرحيم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9" name="مستطيل 3" descr=""/>
          <p:cNvPicPr/>
          <p:nvPr/>
        </p:nvPicPr>
        <p:blipFill>
          <a:blip r:embed="rId2"/>
          <a:stretch/>
        </p:blipFill>
        <p:spPr>
          <a:xfrm>
            <a:off x="963720" y="2981160"/>
            <a:ext cx="6924600" cy="1090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dreamstime.com/petri-dishes-thumb4367343.jpg"/>
          <p:cNvPicPr/>
          <p:nvPr/>
        </p:nvPicPr>
        <p:blipFill>
          <a:blip r:embed="rId3"/>
          <a:stretch/>
        </p:blipFill>
        <p:spPr>
          <a:xfrm>
            <a:off x="2700360" y="4334040"/>
            <a:ext cx="33656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800" spc="-1" strike="noStrike">
              <a:solidFill>
                <a:srgbClr val="ffff53"/>
              </a:solidFill>
              <a:latin typeface="Corbe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267" name="مستطيل 3"/>
          <p:cNvSpPr/>
          <p:nvPr/>
        </p:nvSpPr>
        <p:spPr>
          <a:xfrm>
            <a:off x="468360" y="47628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Steriliz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8" name="Picture 4" descr="image_culture_media"/>
          <p:cNvPicPr/>
          <p:nvPr/>
        </p:nvPicPr>
        <p:blipFill>
          <a:blip r:embed="rId2"/>
          <a:stretch/>
        </p:blipFill>
        <p:spPr>
          <a:xfrm>
            <a:off x="826920" y="2997360"/>
            <a:ext cx="3467160" cy="2519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https://encrypted-tbn2.gstatic.com/images?q=tbn:ANd9GcRtRHuQC8bd6zfi5HpaIvy5lIOJLs3UEqaHIkBS7gcNuRdU7PsGlA"/>
          <p:cNvPicPr/>
          <p:nvPr/>
        </p:nvPicPr>
        <p:blipFill>
          <a:blip r:embed="rId3"/>
          <a:stretch/>
        </p:blipFill>
        <p:spPr>
          <a:xfrm>
            <a:off x="5076720" y="2276640"/>
            <a:ext cx="2989440" cy="4044960"/>
          </a:xfrm>
          <a:prstGeom prst="rect">
            <a:avLst/>
          </a:prstGeom>
          <a:ln w="0">
            <a:noFill/>
          </a:ln>
        </p:spPr>
      </p:pic>
      <p:sp>
        <p:nvSpPr>
          <p:cNvPr id="270" name="سهم بشكل U 6"/>
          <p:cNvSpPr/>
          <p:nvPr/>
        </p:nvSpPr>
        <p:spPr>
          <a:xfrm>
            <a:off x="3635280" y="1125360"/>
            <a:ext cx="2376720" cy="1440000"/>
          </a:xfrm>
          <a:custGeom>
            <a:avLst/>
            <a:gdLst/>
            <a:ahLst/>
            <a:rect l="l" t="t" r="r" b="b"/>
            <a:pathLst>
              <a:path w="2376264" h="1440160">
                <a:moveTo>
                  <a:pt x="0" y="1440160"/>
                </a:moveTo>
                <a:lnTo>
                  <a:pt x="0" y="630070"/>
                </a:lnTo>
                <a:lnTo>
                  <a:pt x="0" y="630070"/>
                </a:lnTo>
                <a:arcTo wR="630070" hR="630070" stAng="-10799995" swAng="5400000"/>
                <a:lnTo>
                  <a:pt x="1566174" y="0"/>
                </a:lnTo>
                <a:lnTo>
                  <a:pt x="1566174" y="0"/>
                </a:lnTo>
                <a:arcTo wR="630070" hR="630070" stAng="-5399995" swAng="5400000"/>
                <a:lnTo>
                  <a:pt x="2196244" y="720080"/>
                </a:lnTo>
                <a:lnTo>
                  <a:pt x="2376264" y="720080"/>
                </a:lnTo>
                <a:lnTo>
                  <a:pt x="2016224" y="1080120"/>
                </a:lnTo>
                <a:lnTo>
                  <a:pt x="1656184" y="720080"/>
                </a:lnTo>
                <a:lnTo>
                  <a:pt x="1836204" y="720080"/>
                </a:lnTo>
                <a:lnTo>
                  <a:pt x="1836204" y="630070"/>
                </a:lnTo>
                <a:lnTo>
                  <a:pt x="1836204" y="630070"/>
                </a:lnTo>
                <a:arcTo wR="270030" hR="270030" stAng="0" swAng="-5400000"/>
                <a:lnTo>
                  <a:pt x="630070" y="360040"/>
                </a:lnTo>
                <a:lnTo>
                  <a:pt x="630070" y="360040"/>
                </a:lnTo>
                <a:arcTo wR="270030" hR="270030" stAng="-5400000" swAng="-5400000"/>
                <a:lnTo>
                  <a:pt x="360040" y="1440160"/>
                </a:lnTo>
                <a:close/>
              </a:path>
            </a:pathLst>
          </a:custGeom>
          <a:gradFill rotWithShape="0">
            <a:gsLst>
              <a:gs pos="0">
                <a:srgbClr val="e0eaff"/>
              </a:gs>
              <a:gs pos="100000">
                <a:srgbClr val="e4ebff"/>
              </a:gs>
            </a:gsLst>
            <a:lin ang="16200000"/>
          </a:gradFill>
          <a:ln w="9360">
            <a:solidFill>
              <a:srgbClr val="6192ed"/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272" name="مستطيل 3"/>
          <p:cNvSpPr/>
          <p:nvPr/>
        </p:nvSpPr>
        <p:spPr>
          <a:xfrm>
            <a:off x="611280" y="90792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4- c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مستطيل 4"/>
          <p:cNvSpPr/>
          <p:nvPr/>
        </p:nvSpPr>
        <p:spPr>
          <a:xfrm>
            <a:off x="2987640" y="90792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5- refrigerate till use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4" name="Picture 12" descr="http://glendalecommunitycollege.files.wordpress.com/2012/05/3a-flasks.jpg?w=584"/>
          <p:cNvPicPr/>
          <p:nvPr/>
        </p:nvPicPr>
        <p:blipFill>
          <a:blip r:embed="rId2"/>
          <a:stretch/>
        </p:blipFill>
        <p:spPr>
          <a:xfrm>
            <a:off x="1692360" y="2276640"/>
            <a:ext cx="5405400" cy="3600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عنوان 1" descr=""/>
          <p:cNvPicPr/>
          <p:nvPr/>
        </p:nvPicPr>
        <p:blipFill>
          <a:blip r:embed="rId1"/>
          <a:stretch/>
        </p:blipFill>
        <p:spPr>
          <a:xfrm>
            <a:off x="-122400" y="-19080"/>
            <a:ext cx="860760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Image11"/>
          <p:cNvPicPr/>
          <p:nvPr/>
        </p:nvPicPr>
        <p:blipFill>
          <a:blip r:embed="rId2"/>
          <a:stretch/>
        </p:blipFill>
        <p:spPr>
          <a:xfrm>
            <a:off x="1763640" y="1197000"/>
            <a:ext cx="4896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عنوان 1" descr=""/>
          <p:cNvPicPr/>
          <p:nvPr/>
        </p:nvPicPr>
        <p:blipFill>
          <a:blip r:embed="rId1"/>
          <a:stretch/>
        </p:blipFill>
        <p:spPr>
          <a:xfrm>
            <a:off x="225360" y="-249120"/>
            <a:ext cx="8406000" cy="2249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91440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 the lid slightly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 the media near bunsen bur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rt the pl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date and  time on the sides of pla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9" name="Picture 1" descr="microbiology~aseptic-technique-pour-bacterial-growth-media-petri-dish~~element177~~14"/>
          <p:cNvPicPr/>
          <p:nvPr/>
        </p:nvPicPr>
        <p:blipFill>
          <a:blip r:embed="rId2"/>
          <a:stretch/>
        </p:blipFill>
        <p:spPr>
          <a:xfrm>
            <a:off x="250920" y="4221000"/>
            <a:ext cx="1873080" cy="2428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microbiology~aseptic-technique-pour-bacterial-growth-media-petri-dish~~element177~~11"/>
          <p:cNvPicPr/>
          <p:nvPr/>
        </p:nvPicPr>
        <p:blipFill>
          <a:blip r:embed="rId3"/>
          <a:stretch/>
        </p:blipFill>
        <p:spPr>
          <a:xfrm>
            <a:off x="2124000" y="4221000"/>
            <a:ext cx="2046240" cy="2421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microbiology~aseptic-technique-pour-bacterial-growth-media-petri-dish~~element177~~12"/>
          <p:cNvPicPr/>
          <p:nvPr/>
        </p:nvPicPr>
        <p:blipFill>
          <a:blip r:embed="rId4"/>
          <a:stretch/>
        </p:blipFill>
        <p:spPr>
          <a:xfrm>
            <a:off x="4211640" y="4221000"/>
            <a:ext cx="2160720" cy="2362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abel_plate_bottoms_P1302927"/>
          <p:cNvPicPr/>
          <p:nvPr/>
        </p:nvPicPr>
        <p:blipFill>
          <a:blip r:embed="rId5"/>
          <a:stretch/>
        </p:blipFill>
        <p:spPr>
          <a:xfrm>
            <a:off x="6443640" y="4221000"/>
            <a:ext cx="2603520" cy="2449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s://encrypted-tbn3.gstatic.com/images?q=tbn:ANd9GcStK11lKGNAajs4MMh5Tm33F-Fdtqie0cKRZY7DPYxgF-gaL84mPw"/>
          <p:cNvPicPr/>
          <p:nvPr/>
        </p:nvPicPr>
        <p:blipFill>
          <a:blip r:embed="rId1"/>
          <a:stretch/>
        </p:blipFill>
        <p:spPr>
          <a:xfrm>
            <a:off x="7778880" y="260280"/>
            <a:ext cx="1257120" cy="30481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0" y="134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fter  boiling, pour media in test tube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utoclav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lace in </a:t>
            </a: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slant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position till the media  solidfy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عنوان 1" descr=""/>
          <p:cNvPicPr/>
          <p:nvPr/>
        </p:nvPicPr>
        <p:blipFill>
          <a:blip r:embed="rId2"/>
          <a:stretch/>
        </p:blipFill>
        <p:spPr>
          <a:xfrm>
            <a:off x="-139680" y="255600"/>
            <a:ext cx="8551800" cy="878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image018"/>
          <p:cNvPicPr/>
          <p:nvPr/>
        </p:nvPicPr>
        <p:blipFill>
          <a:blip r:embed="rId3"/>
          <a:stretch/>
        </p:blipFill>
        <p:spPr>
          <a:xfrm>
            <a:off x="1116000" y="3429000"/>
            <a:ext cx="4176720" cy="2894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https://encrypted-tbn3.gstatic.com/images?q=tbn:ANd9GcTG625BK1lOZmLfsBGmWMpOlu7iTyv3fdzcG-D8giXJWt6w_xDa"/>
          <p:cNvPicPr/>
          <p:nvPr/>
        </p:nvPicPr>
        <p:blipFill>
          <a:blip r:embed="rId4"/>
          <a:stretch/>
        </p:blipFill>
        <p:spPr>
          <a:xfrm>
            <a:off x="6156360" y="3789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عنوان 1" descr=""/>
          <p:cNvPicPr/>
          <p:nvPr/>
        </p:nvPicPr>
        <p:blipFill>
          <a:blip r:embed="rId1"/>
          <a:stretch/>
        </p:blipFill>
        <p:spPr>
          <a:xfrm>
            <a:off x="-139680" y="255600"/>
            <a:ext cx="8551800" cy="878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87480" y="141264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fter  boiling, pour media in test tube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utoclav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lace in </a:t>
            </a: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vertical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position till the media  solidfy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AutoShape 2"/>
          <p:cNvSpPr/>
          <p:nvPr/>
        </p:nvSpPr>
        <p:spPr>
          <a:xfrm>
            <a:off x="8588520" y="-1062000"/>
            <a:ext cx="207648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4" descr="http://www.anaerobesystems.com/_/rsrc/1295297483232/Home/pras-tubed-media/as-810-bru-deep/as-810%20brucella%20agar%20deep.jpg?height=320&amp;width=302"/>
          <p:cNvPicPr/>
          <p:nvPr/>
        </p:nvPicPr>
        <p:blipFill>
          <a:blip r:embed="rId2"/>
          <a:stretch/>
        </p:blipFill>
        <p:spPr>
          <a:xfrm>
            <a:off x="3924360" y="3357720"/>
            <a:ext cx="2876400" cy="3047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700360" y="5013360"/>
            <a:ext cx="4052880" cy="74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rIns="90000" tIns="46800" bIns="46800" anchor="t">
            <a:normAutofit fontScale="87000"/>
          </a:bodyPr>
          <a:p>
            <a:pPr marL="277200" indent="-2772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Slant agar  -   Deep aga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3" name="Picture 2" descr="https://encrypted-tbn3.gstatic.com/images?q=tbn:ANd9GcT-BtTMxqqCAfyQWW2vP4cJTH7ikI2I5wgzCTjSi7PRLuwwqr5E"/>
          <p:cNvPicPr/>
          <p:nvPr/>
        </p:nvPicPr>
        <p:blipFill>
          <a:blip r:embed="rId1"/>
          <a:stretch/>
        </p:blipFill>
        <p:spPr>
          <a:xfrm>
            <a:off x="3059280" y="190440"/>
            <a:ext cx="35049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عنوان 1" descr=""/>
          <p:cNvPicPr/>
          <p:nvPr/>
        </p:nvPicPr>
        <p:blipFill>
          <a:blip r:embed="rId1"/>
          <a:stretch/>
        </p:blipFill>
        <p:spPr>
          <a:xfrm>
            <a:off x="208080" y="396720"/>
            <a:ext cx="8497800" cy="7556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395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lace the testube near a burner and remove the ca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our the media in the tube and close the cap at o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lace the tube in upright position in the testube st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6" name="Picture 2" descr="https://encrypted-tbn0.gstatic.com/images?q=tbn:ANd9GcRZ46exPUHTbSHaZefQrWBABAI0kyLPcV-n4pJrbjmWDQeTFNggQA"/>
          <p:cNvPicPr/>
          <p:nvPr/>
        </p:nvPicPr>
        <p:blipFill>
          <a:blip r:embed="rId2"/>
          <a:stretch/>
        </p:blipFill>
        <p:spPr>
          <a:xfrm>
            <a:off x="3348000" y="3860640"/>
            <a:ext cx="2808360" cy="2746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s://encrypted-tbn2.gstatic.com/images?q=tbn:ANd9GcQPklpwpcpAqygCQACJPATaH9rDO_ULuqbZw2iR5HDpyer5fFIQBw"/>
          <p:cNvPicPr/>
          <p:nvPr/>
        </p:nvPicPr>
        <p:blipFill>
          <a:blip r:embed="rId3"/>
          <a:stretch/>
        </p:blipFill>
        <p:spPr>
          <a:xfrm>
            <a:off x="6372360" y="42210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عنوان 1" descr=""/>
          <p:cNvPicPr/>
          <p:nvPr/>
        </p:nvPicPr>
        <p:blipFill>
          <a:blip r:embed="rId1"/>
          <a:stretch/>
        </p:blipFill>
        <p:spPr>
          <a:xfrm>
            <a:off x="536400" y="1047600"/>
            <a:ext cx="8242560" cy="1592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https://encrypted-tbn0.gstatic.com/images?q=tbn:ANd9GcQ41QjmoYTW2j28ayAosyIUk9wDDEuoYR7bfVv2iuP0d8cEgorPBg"/>
          <p:cNvPicPr/>
          <p:nvPr/>
        </p:nvPicPr>
        <p:blipFill>
          <a:blip r:embed="rId2"/>
          <a:stretch/>
        </p:blipFill>
        <p:spPr>
          <a:xfrm>
            <a:off x="2484360" y="3284640"/>
            <a:ext cx="37432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Prepared Media in Petri Dishes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32" name="عنوان 1" descr=""/>
          <p:cNvPicPr/>
          <p:nvPr/>
        </p:nvPicPr>
        <p:blipFill>
          <a:blip r:embed="rId2"/>
          <a:stretch/>
        </p:blipFill>
        <p:spPr>
          <a:xfrm>
            <a:off x="-73080" y="712800"/>
            <a:ext cx="8485200" cy="665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9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9000"/>
          </a:bodyPr>
          <a:p>
            <a:pPr marL="315720" indent="-315720">
              <a:lnSpc>
                <a:spcPct val="11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rimary ingredients required by all living organisms include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carbon source, water, minerals, and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nitrogen sourc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11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These nutrients together make a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med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11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ifferent microbes need different amounts of these nutri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عنوان 1" descr=""/>
          <p:cNvPicPr/>
          <p:nvPr/>
        </p:nvPicPr>
        <p:blipFill>
          <a:blip r:embed="rId1"/>
          <a:stretch/>
        </p:blipFill>
        <p:spPr>
          <a:xfrm>
            <a:off x="176040" y="530280"/>
            <a:ext cx="8517240" cy="1554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924000" y="240984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liquid (called broth)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semi-solid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solid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 algn="r" rtl="1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6" name="Picture 6" descr="http://www.foodprocessing-technology.com/contractor_images/biomerieux-australia/3-culture-media.jpg"/>
          <p:cNvPicPr/>
          <p:nvPr/>
        </p:nvPicPr>
        <p:blipFill>
          <a:blip r:embed="rId2"/>
          <a:stretch/>
        </p:blipFill>
        <p:spPr>
          <a:xfrm>
            <a:off x="179280" y="2492280"/>
            <a:ext cx="4032360" cy="381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عنوان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7d7"/>
                </a:solidFill>
                <a:latin typeface="Corbel"/>
              </a:rPr>
              <a:t>To prepare  solid and Liquid medi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9" name="Picture 2" descr="https://encrypted-tbn0.gstatic.com/images?q=tbn:ANd9GcSk7DG8G_S_Tq2LkFeZi-eZPWalVzcRrnAjVRfwqE2UC1cwDIR_"/>
          <p:cNvPicPr/>
          <p:nvPr/>
        </p:nvPicPr>
        <p:blipFill>
          <a:blip r:embed="rId2"/>
          <a:stretch/>
        </p:blipFill>
        <p:spPr>
          <a:xfrm>
            <a:off x="2700360" y="3573360"/>
            <a:ext cx="332892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عنوان 1" descr=""/>
          <p:cNvPicPr/>
          <p:nvPr/>
        </p:nvPicPr>
        <p:blipFill>
          <a:blip r:embed="rId1"/>
          <a:stretch/>
        </p:blipFill>
        <p:spPr>
          <a:xfrm>
            <a:off x="463680" y="-16524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15640" y="184464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00"/>
              </a:buClr>
              <a:buSzPct val="82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Corbel"/>
              </a:rPr>
              <a:t>Deffrent media 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Nutreint broth  -  Nutrient agar  - PDA/malt extrac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51"/>
              </a:spcBef>
              <a:buClr>
                <a:srgbClr val="fe8637"/>
              </a:buClr>
              <a:buSzPct val="70000"/>
              <a:buFont typeface="Corbel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2" name="Picture 3" descr="Assemble_chemicals_Slide 14"/>
          <p:cNvPicPr/>
          <p:nvPr/>
        </p:nvPicPr>
        <p:blipFill>
          <a:blip r:embed="rId2"/>
          <a:stretch/>
        </p:blipFill>
        <p:spPr>
          <a:xfrm>
            <a:off x="1476360" y="3284640"/>
            <a:ext cx="59436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9000"/>
          </a:bodyPr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2- Balance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3- Distil water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5- Test tubes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6- Petri plat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7- Flaskes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7- Burner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8- Autoclav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4" name="Picture 4" descr="https://media.vwr.com/stibo/low_res/4695825.jpg"/>
          <p:cNvPicPr/>
          <p:nvPr/>
        </p:nvPicPr>
        <p:blipFill>
          <a:blip r:embed="rId1"/>
          <a:stretch/>
        </p:blipFill>
        <p:spPr>
          <a:xfrm>
            <a:off x="4788000" y="45896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245" name="عنوان 1" descr=""/>
          <p:cNvPicPr/>
          <p:nvPr/>
        </p:nvPicPr>
        <p:blipFill>
          <a:blip r:embed="rId2"/>
          <a:stretch/>
        </p:blipFill>
        <p:spPr>
          <a:xfrm>
            <a:off x="463680" y="-165240"/>
            <a:ext cx="8229600" cy="963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s://encrypted-tbn2.gstatic.com/images?q=tbn:ANd9GcTe7HX73d6S-Y08x6wKv-NT183VpSA1G-TkZH359pujkD6DcJM6"/>
          <p:cNvPicPr/>
          <p:nvPr/>
        </p:nvPicPr>
        <p:blipFill>
          <a:blip r:embed="rId3"/>
          <a:stretch/>
        </p:blipFill>
        <p:spPr>
          <a:xfrm>
            <a:off x="6659640" y="692280"/>
            <a:ext cx="2238120" cy="2047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s://encrypted-tbn1.gstatic.com/images?q=tbn:ANd9GcS37kwrutjsI_5tVz3HWk5_8ODhNDX2fynMWR3H4kzTRjGRXYhRyg"/>
          <p:cNvPicPr/>
          <p:nvPr/>
        </p:nvPicPr>
        <p:blipFill>
          <a:blip r:embed="rId4"/>
          <a:stretch/>
        </p:blipFill>
        <p:spPr>
          <a:xfrm>
            <a:off x="5003640" y="2637000"/>
            <a:ext cx="2457720" cy="1857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s://encrypted-tbn1.gstatic.com/images?q=tbn:ANd9GcT35-iPHHF9HPiOSZsOG4aBkBOqUttLRQnLHzOQ_YGvexQbEBsS6g"/>
          <p:cNvPicPr/>
          <p:nvPr/>
        </p:nvPicPr>
        <p:blipFill>
          <a:blip r:embed="rId5"/>
          <a:srcRect l="14985" t="0" r="13209" b="0"/>
          <a:stretch/>
        </p:blipFill>
        <p:spPr>
          <a:xfrm>
            <a:off x="7524720" y="3213000"/>
            <a:ext cx="136836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https://encrypted-tbn2.gstatic.com/images?q=tbn:ANd9GcRtRHuQC8bd6zfi5HpaIvy5lIOJLs3UEqaHIkBS7gcNuRdU7PsGlA"/>
          <p:cNvPicPr/>
          <p:nvPr/>
        </p:nvPicPr>
        <p:blipFill>
          <a:blip r:embed="rId6"/>
          <a:stretch/>
        </p:blipFill>
        <p:spPr>
          <a:xfrm>
            <a:off x="2843280" y="400536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https://encrypted-tbn2.gstatic.com/images?q=tbn:ANd9GcSpXc7b04-aSYQhf31LfEkgWMrR_13EY70gHDDi8nfYM4OfbLkT"/>
          <p:cNvPicPr/>
          <p:nvPr/>
        </p:nvPicPr>
        <p:blipFill>
          <a:blip r:embed="rId7"/>
          <a:stretch/>
        </p:blipFill>
        <p:spPr>
          <a:xfrm>
            <a:off x="3348000" y="1628640"/>
            <a:ext cx="1478160" cy="201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عنوان 1" descr=""/>
          <p:cNvPicPr/>
          <p:nvPr/>
        </p:nvPicPr>
        <p:blipFill>
          <a:blip r:embed="rId1"/>
          <a:stretch/>
        </p:blipFill>
        <p:spPr>
          <a:xfrm>
            <a:off x="463680" y="0"/>
            <a:ext cx="8242200" cy="963720"/>
          </a:xfrm>
          <a:prstGeom prst="rect">
            <a:avLst/>
          </a:prstGeom>
          <a:ln w="0">
            <a:noFill/>
          </a:ln>
        </p:spPr>
      </p:pic>
      <p:sp>
        <p:nvSpPr>
          <p:cNvPr id="252" name="مستطيل 5"/>
          <p:cNvSpPr/>
          <p:nvPr/>
        </p:nvSpPr>
        <p:spPr>
          <a:xfrm>
            <a:off x="3564000" y="119700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Weig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مستطيل 6"/>
          <p:cNvSpPr/>
          <p:nvPr/>
        </p:nvSpPr>
        <p:spPr>
          <a:xfrm>
            <a:off x="3564000" y="2276640"/>
            <a:ext cx="2016000" cy="93636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Dissol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مستطيل 7"/>
          <p:cNvSpPr/>
          <p:nvPr/>
        </p:nvSpPr>
        <p:spPr>
          <a:xfrm>
            <a:off x="3564000" y="3357720"/>
            <a:ext cx="2016000" cy="9349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Steriliz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مستطيل 8"/>
          <p:cNvSpPr/>
          <p:nvPr/>
        </p:nvSpPr>
        <p:spPr>
          <a:xfrm>
            <a:off x="3564000" y="443700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4- c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مستطيل 9"/>
          <p:cNvSpPr/>
          <p:nvPr/>
        </p:nvSpPr>
        <p:spPr>
          <a:xfrm>
            <a:off x="3564000" y="551664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5- refrigerate till use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800" spc="-1" strike="noStrike">
              <a:solidFill>
                <a:srgbClr val="ffff53"/>
              </a:solidFill>
              <a:latin typeface="Corbe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Ingredients_on_scale_Slide 15"/>
          <p:cNvPicPr/>
          <p:nvPr/>
        </p:nvPicPr>
        <p:blipFill>
          <a:blip r:embed="rId2"/>
          <a:stretch/>
        </p:blipFill>
        <p:spPr>
          <a:xfrm>
            <a:off x="2916360" y="1989000"/>
            <a:ext cx="5688000" cy="4552920"/>
          </a:xfrm>
          <a:prstGeom prst="rect">
            <a:avLst/>
          </a:prstGeom>
          <a:ln w="0">
            <a:noFill/>
          </a:ln>
        </p:spPr>
      </p:pic>
      <p:sp>
        <p:nvSpPr>
          <p:cNvPr id="260" name="مستطيل 4"/>
          <p:cNvSpPr/>
          <p:nvPr/>
        </p:nvSpPr>
        <p:spPr>
          <a:xfrm>
            <a:off x="611280" y="549360"/>
            <a:ext cx="2016000" cy="9349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Weig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262" name="مستطيل 3"/>
          <p:cNvSpPr/>
          <p:nvPr/>
        </p:nvSpPr>
        <p:spPr>
          <a:xfrm>
            <a:off x="468360" y="47628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Dissol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3" name="Picture 5" descr="Adding_dry_culture_Slide 16"/>
          <p:cNvPicPr/>
          <p:nvPr/>
        </p:nvPicPr>
        <p:blipFill>
          <a:blip r:embed="rId2"/>
          <a:stretch/>
        </p:blipFill>
        <p:spPr>
          <a:xfrm>
            <a:off x="395280" y="2205000"/>
            <a:ext cx="4065480" cy="2736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Luria_broth_hot_plate_Slide 17"/>
          <p:cNvPicPr/>
          <p:nvPr/>
        </p:nvPicPr>
        <p:blipFill>
          <a:blip r:embed="rId3"/>
          <a:stretch/>
        </p:blipFill>
        <p:spPr>
          <a:xfrm>
            <a:off x="4643280" y="2205000"/>
            <a:ext cx="4105440" cy="2736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2:25:17Z</dcterms:created>
  <dc:creator>user</dc:creator>
  <dc:description/>
  <dc:language>en-US</dc:language>
  <cp:lastModifiedBy>Qosmio</cp:lastModifiedBy>
  <dcterms:modified xsi:type="dcterms:W3CDTF">2013-09-16T14:12:29Z</dcterms:modified>
  <cp:revision>26</cp:revision>
  <dc:subject/>
  <dc:title>140 micro</dc:title>
</cp:coreProperties>
</file>