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C7AC-70D8-4071-8FB6-2F5FD940D05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C8DF-B119-4861-82A7-21DA2C8AFA8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1746-EDA1-48EF-867B-0BBF33A283E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3625-EC11-49C3-8079-8E403784C88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1EE1-70AD-4624-B7A6-2EE40A3C57D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A627-F9BA-4C86-AA6A-CB44CD18B1A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EEE0-5372-40F4-BC23-58182DB4A78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7DCB-9C86-42B3-AD5C-C882F279246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A3AD-6514-47EE-8783-C68C29BF5D9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266B-7C33-48A0-87EE-200E205C4B2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ECF3-C140-4FEE-991C-D5DABF65ED0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32B0-1CD0-418A-9434-7FA202AED38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304A-07EC-4E4B-BF73-874251147F2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9C26-D4D0-4F05-BE8C-494616DB44E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39CC-C9EA-495D-9A77-90BA9A34E1C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CA6E-FFF4-4B62-A5FC-71F3223F37B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D68-9964-48B6-AD05-5588AEB6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5BE-D877-468F-B6AD-6DE57B8E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B0A-C504-4693-B5E9-66935035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BD9-547E-41BE-A2ED-109D3690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4063-E50E-4AC8-BCC4-981FFBBB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B707-E250-4F18-9C8A-38B10EFB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325A-7237-4F25-85D1-186A66D7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C920-5F96-4D86-AE77-9836AE9E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6536-FEC7-4F20-8A4E-F7E2DFB5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7408-C3D2-47BD-A881-0B7E5C3A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7D82-D063-4600-A870-0E6AAA5E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2DC-322B-4058-A501-31B1577C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E782-E47D-4728-B8FA-4851ED14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789C-97D9-49D2-9772-7CE83EC6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B655-CE5C-40D2-86DB-D536C66E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FD18-6EEA-4519-94A3-2667C580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3CAD-4E08-4BB4-B961-622216C2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4B7C-FF34-46C0-9AB6-D12DDFED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574C-3623-4805-B27A-AF9A75BE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E0E10-B590-41F7-9388-4E4B7B11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BC4C-4A5A-48D8-85BF-587F0554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EAE9-F26B-438C-BDC9-C028D94F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148-1704-4355-A3EA-AEF09C6F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CE88-B8F1-4719-A143-9D9EBCD5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552F-82B1-43A8-818E-9E35572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64CD-9FEC-4866-8F7C-D6C489CF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A5BE-D688-40F7-9B4B-38BD058F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5BE4-F060-4E93-B1AD-91F686AD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27828-3FE2-4FE2-BD80-37DD2494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2C69-BFDC-4923-81D2-C66AA42E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5C843-C2AC-4BE8-86A8-44216F04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8AF73-9BEA-45E3-B020-1F609D30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89372-23B4-4A09-A90C-8E1FAB04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889-842F-4BC9-982B-2413A87E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2F70-F29D-4CAC-996D-D89587BA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431C4-5CA7-412B-A330-2E9F1C58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2BBF-3A27-4164-A0E2-935420DE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AB847-C7FF-4F5D-B4C9-B9EFAFDD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FE91-FCF7-4AE7-8C8B-34924212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262DC-C0B7-4561-9E33-B1D8285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F638-AABB-4A05-9D13-AB3CDEB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F4BB-D71E-4682-839C-7EE5536C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F0BBE-EB1D-4AB3-AE46-6872D316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5FB75-4AE0-4C9E-8E3E-DD9D4A50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412-F81A-47AA-9690-765D9415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54B36-3FB7-4E51-9BAE-2E347CF5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F1F36-E39D-443C-B964-3EA21AD2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1D4B4-9A39-4D39-B835-0E1DFE7A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11295-3843-4FC9-9DF6-58CCE0FB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2037A-0161-447C-B94E-91D4487A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775EB-F247-4322-913C-B44175B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670AA-E238-495A-9071-494577E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7D451-A65B-4124-AB06-6F628312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BDFC0-12EE-4D78-8C67-7CB5E4E8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968B3-86ED-444B-9BE8-5BFA60E8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997-71B4-4662-B0B7-09074789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A135-012E-41E8-8E9D-FD924558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2E1-43C7-467D-825B-CC21F64C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D19-D9BD-4702-BF69-51AE0A12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ECE-74AC-4B83-8431-AA398DC8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1e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1e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ff7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AD40-0E1C-488E-ACE3-CBEF6B629B6E}" type="slidenum"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مستطيل مستدير الزوايا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مستطيل مستدير الزوايا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1e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1e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ff7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00AF-1160-467C-B202-C215430B8624}" type="slidenum"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مستطيل مستدير الزوايا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مستطيل مستدير الزوايا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1e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1e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ff7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1BE0-0122-4A87-B102-5D8B7FE381F5}" type="slidenum"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1e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1e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ff7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669F-08EB-41B2-89F3-2972353AB24E}" type="slidenum"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ذو زاوية واحدة مستديرة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1e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1e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ff7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452B-7D18-4839-B56D-5CF480D6F48E}" type="slidenum"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3280" y="530280"/>
            <a:ext cx="8183520" cy="412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00000"/>
                </a:solidFill>
                <a:latin typeface="바탕"/>
                <a:cs typeface="Diwani Letter"/>
              </a:rPr>
              <a:t>بسم الله الرحمن الرحي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4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Verdana"/>
              </a:rPr>
              <a:t> :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</a:rPr>
              <a:t>Lab 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Verdana"/>
              </a:rPr>
              <a:t>Steriliz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https://encrypted-tbn0.google.com/images?q=tbn:ANd9GcTUtNUp27UDx-xzn6hzNBz-e0kltHOX4CJ4Y2kK6AM5BniNmPqA"/>
          <p:cNvPicPr/>
          <p:nvPr/>
        </p:nvPicPr>
        <p:blipFill>
          <a:blip r:embed="rId1"/>
          <a:stretch/>
        </p:blipFill>
        <p:spPr>
          <a:xfrm>
            <a:off x="2771640" y="4365720"/>
            <a:ext cx="3456000" cy="1971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s://encrypted-tbn0.google.com/images?q=tbn:ANd9GcTGAeZlpRW4zQM6giO7OFQdxrtYfsQDLXrfXkTsxM0IkHRsvNhPoQ"/>
          <p:cNvPicPr/>
          <p:nvPr/>
        </p:nvPicPr>
        <p:blipFill>
          <a:blip r:embed="rId2"/>
          <a:stretch/>
        </p:blipFill>
        <p:spPr>
          <a:xfrm>
            <a:off x="6732720" y="333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re are </a:t>
            </a:r>
            <a:r>
              <a:rPr b="1" lang="en-US" sz="32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ifferent sterilization principles:</a:t>
            </a:r>
            <a:endParaRPr b="1" lang="en-US" sz="32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79" name="مستطيل مستدير الزوايا 3"/>
          <p:cNvSpPr/>
          <p:nvPr/>
        </p:nvSpPr>
        <p:spPr>
          <a:xfrm>
            <a:off x="468360" y="3213000"/>
            <a:ext cx="2590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- Heat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مستطيل مستدير الزوايا 4"/>
          <p:cNvSpPr/>
          <p:nvPr/>
        </p:nvSpPr>
        <p:spPr>
          <a:xfrm>
            <a:off x="320364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- Chemical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مستطيل مستدير الزوايا 5"/>
          <p:cNvSpPr/>
          <p:nvPr/>
        </p:nvSpPr>
        <p:spPr>
          <a:xfrm>
            <a:off x="601200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adiation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رابط مستقيم 8"/>
          <p:cNvSpPr/>
          <p:nvPr/>
        </p:nvSpPr>
        <p:spPr>
          <a:xfrm flipH="1">
            <a:off x="1547280" y="1557360"/>
            <a:ext cx="576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سهم للأسفل 9"/>
          <p:cNvSpPr/>
          <p:nvPr/>
        </p:nvSpPr>
        <p:spPr>
          <a:xfrm>
            <a:off x="133200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سهم للأسفل 10"/>
          <p:cNvSpPr/>
          <p:nvPr/>
        </p:nvSpPr>
        <p:spPr>
          <a:xfrm>
            <a:off x="3995640" y="1557360"/>
            <a:ext cx="792360" cy="15112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سهم للأسفل 11"/>
          <p:cNvSpPr/>
          <p:nvPr/>
        </p:nvSpPr>
        <p:spPr>
          <a:xfrm>
            <a:off x="673272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s://encrypted-tbn1.gstatic.com/images?q=tbn:ANd9GcRbrzaCyzabrEjekmzQj0X4y-nmY99rTa9sTBOqxKLtT-DI_3uxsw"/>
          <p:cNvPicPr/>
          <p:nvPr/>
        </p:nvPicPr>
        <p:blipFill>
          <a:blip r:embed="rId1"/>
          <a:stretch/>
        </p:blipFill>
        <p:spPr>
          <a:xfrm>
            <a:off x="6516720" y="4221000"/>
            <a:ext cx="1755720" cy="1892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https://encrypted-tbn3.gstatic.com/images?q=tbn:ANd9GcR6vhJUnehorUIB_NPFQlpt3A9pljL0f-ia1JFM19w-Td4rCbCQ-Q"/>
          <p:cNvPicPr/>
          <p:nvPr/>
        </p:nvPicPr>
        <p:blipFill>
          <a:blip r:embed="rId2"/>
          <a:stretch/>
        </p:blipFill>
        <p:spPr>
          <a:xfrm>
            <a:off x="3276720" y="4292640"/>
            <a:ext cx="2754360" cy="1847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8" name="Picture 6" descr="https://encrypted-tbn0.gstatic.com/images?q=tbn:ANd9GcQOMw5j3DCq2jqH72bxNOoPAXx8A3exmfUSW3kpkejZgDCKhivz"/>
          <p:cNvPicPr/>
          <p:nvPr/>
        </p:nvPicPr>
        <p:blipFill>
          <a:blip r:embed="rId3"/>
          <a:stretch/>
        </p:blipFill>
        <p:spPr>
          <a:xfrm>
            <a:off x="1042920" y="4221000"/>
            <a:ext cx="1441440" cy="20908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مستطيل مستدير الزوايا 3"/>
          <p:cNvSpPr/>
          <p:nvPr/>
        </p:nvSpPr>
        <p:spPr>
          <a:xfrm>
            <a:off x="2050920" y="426960"/>
            <a:ext cx="4824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- Chemical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مخطط انسيابي: محطة طرفية 4"/>
          <p:cNvSpPr/>
          <p:nvPr/>
        </p:nvSpPr>
        <p:spPr>
          <a:xfrm>
            <a:off x="539640" y="1700280"/>
            <a:ext cx="2880000" cy="936720"/>
          </a:xfrm>
          <a:prstGeom prst="flowChartTerminator">
            <a:avLst/>
          </a:prstGeom>
          <a:gradFill rotWithShape="0">
            <a:gsLst>
              <a:gs pos="0">
                <a:srgbClr val="ff68a4"/>
              </a:gs>
              <a:gs pos="100000">
                <a:srgbClr val="ffb8d4"/>
              </a:gs>
            </a:gsLst>
            <a:lin ang="16200000"/>
          </a:gradFill>
          <a:ln w="9360">
            <a:solidFill>
              <a:srgbClr val="ff007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مخطط انسيابي: محطة طرفية 5"/>
          <p:cNvSpPr/>
          <p:nvPr/>
        </p:nvSpPr>
        <p:spPr>
          <a:xfrm>
            <a:off x="4932360" y="1700280"/>
            <a:ext cx="2879640" cy="936720"/>
          </a:xfrm>
          <a:prstGeom prst="flowChartTerminator">
            <a:avLst/>
          </a:prstGeom>
          <a:gradFill rotWithShape="0">
            <a:gsLst>
              <a:gs pos="0">
                <a:srgbClr val="ffc16c"/>
              </a:gs>
              <a:gs pos="100000">
                <a:srgbClr val="ffe0b5"/>
              </a:gs>
            </a:gsLst>
            <a:lin ang="16200000"/>
          </a:gradFill>
          <a:ln w="9360">
            <a:solidFill>
              <a:srgbClr val="ffa62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ene oxide  and forma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https://encrypted-tbn2.gstatic.com/images?q=tbn:ANd9GcQ7I5zfuS92T1FN9kikxWXOjIoL67DoxEUV7ShKOWBzOYJntmyy"/>
          <p:cNvPicPr/>
          <p:nvPr/>
        </p:nvPicPr>
        <p:blipFill>
          <a:blip r:embed="rId1"/>
          <a:stretch/>
        </p:blipFill>
        <p:spPr>
          <a:xfrm>
            <a:off x="7451640" y="1700280"/>
            <a:ext cx="1152720" cy="20890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4" name="Picture 4" descr="https://encrypted-tbn2.gstatic.com/images?q=tbn:ANd9GcS_Epi27rWTUuthhP4T9ItNRcU44KJjNJu9SkjtdY4MSRrF7ImOfQ"/>
          <p:cNvPicPr/>
          <p:nvPr/>
        </p:nvPicPr>
        <p:blipFill>
          <a:blip r:embed="rId2"/>
          <a:srcRect l="26280" t="0" r="27025" b="0"/>
          <a:stretch/>
        </p:blipFill>
        <p:spPr>
          <a:xfrm>
            <a:off x="2987640" y="1700280"/>
            <a:ext cx="1152720" cy="18478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5" name="Picture 2" descr="Cleaning_table_Slide 4"/>
          <p:cNvPicPr/>
          <p:nvPr/>
        </p:nvPicPr>
        <p:blipFill>
          <a:blip r:embed="rId3"/>
          <a:srcRect l="15153" t="0" r="0" b="0"/>
          <a:stretch/>
        </p:blipFill>
        <p:spPr>
          <a:xfrm>
            <a:off x="684360" y="3645000"/>
            <a:ext cx="3627360" cy="23619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6" name="سهم للأسفل 9"/>
          <p:cNvSpPr/>
          <p:nvPr/>
        </p:nvSpPr>
        <p:spPr>
          <a:xfrm>
            <a:off x="1908000" y="2708280"/>
            <a:ext cx="648000" cy="936720"/>
          </a:xfrm>
          <a:prstGeom prst="down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b80054"/>
              </a:gs>
              <a:gs pos="100000">
                <a:srgbClr val="ff1281"/>
              </a:gs>
            </a:gsLst>
            <a:lin ang="16200000"/>
          </a:gradFill>
          <a:ln w="9360">
            <a:solidFill>
              <a:srgbClr val="ff007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403280" y="602208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ches /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4932360" y="3936600"/>
            <a:ext cx="37069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erilizing disposable materials (that can not tolerate high temperatures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سهم للأسفل 13"/>
          <p:cNvSpPr/>
          <p:nvPr/>
        </p:nvSpPr>
        <p:spPr>
          <a:xfrm>
            <a:off x="6156360" y="2708280"/>
            <a:ext cx="647640" cy="9367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c67317"/>
              </a:gs>
              <a:gs pos="100000">
                <a:srgbClr val="ffaf25"/>
              </a:gs>
            </a:gsLst>
            <a:lin ang="16200000"/>
          </a:gradFill>
          <a:ln w="9360">
            <a:solidFill>
              <a:srgbClr val="ffa62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رابط مستقيم 15"/>
          <p:cNvSpPr/>
          <p:nvPr/>
        </p:nvSpPr>
        <p:spPr>
          <a:xfrm flipH="1">
            <a:off x="2700000" y="1268280"/>
            <a:ext cx="3384360" cy="0"/>
          </a:xfrm>
          <a:prstGeom prst="line">
            <a:avLst/>
          </a:prstGeom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رابط كسهم مستقيم 17"/>
          <p:cNvCxnSpPr/>
          <p:nvPr/>
        </p:nvCxnSpPr>
        <p:spPr>
          <a:xfrm>
            <a:off x="6084360" y="1267920"/>
            <a:ext cx="1080" cy="50580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2" name="رابط كسهم مستقيم 21"/>
          <p:cNvCxnSpPr/>
          <p:nvPr/>
        </p:nvCxnSpPr>
        <p:spPr>
          <a:xfrm>
            <a:off x="2700000" y="1267920"/>
            <a:ext cx="1080" cy="50580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re are </a:t>
            </a:r>
            <a:r>
              <a:rPr b="1" lang="en-US" sz="32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ifferent sterilization principles:</a:t>
            </a:r>
            <a:endParaRPr b="1" lang="en-US" sz="32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04" name="مستطيل مستدير الزوايا 3"/>
          <p:cNvSpPr/>
          <p:nvPr/>
        </p:nvSpPr>
        <p:spPr>
          <a:xfrm>
            <a:off x="468360" y="3213000"/>
            <a:ext cx="2590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- Heat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مستطيل مستدير الزوايا 4"/>
          <p:cNvSpPr/>
          <p:nvPr/>
        </p:nvSpPr>
        <p:spPr>
          <a:xfrm>
            <a:off x="320364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- Chemical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مستطيل مستدير الزوايا 5"/>
          <p:cNvSpPr/>
          <p:nvPr/>
        </p:nvSpPr>
        <p:spPr>
          <a:xfrm>
            <a:off x="601200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adiation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رابط مستقيم 8"/>
          <p:cNvSpPr/>
          <p:nvPr/>
        </p:nvSpPr>
        <p:spPr>
          <a:xfrm flipH="1">
            <a:off x="1547280" y="1557360"/>
            <a:ext cx="576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سهم للأسفل 9"/>
          <p:cNvSpPr/>
          <p:nvPr/>
        </p:nvSpPr>
        <p:spPr>
          <a:xfrm>
            <a:off x="133200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سهم للأسفل 10"/>
          <p:cNvSpPr/>
          <p:nvPr/>
        </p:nvSpPr>
        <p:spPr>
          <a:xfrm>
            <a:off x="3995640" y="1557360"/>
            <a:ext cx="792360" cy="15112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سهم للأسفل 11"/>
          <p:cNvSpPr/>
          <p:nvPr/>
        </p:nvSpPr>
        <p:spPr>
          <a:xfrm>
            <a:off x="673272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https://encrypted-tbn1.gstatic.com/images?q=tbn:ANd9GcRbrzaCyzabrEjekmzQj0X4y-nmY99rTa9sTBOqxKLtT-DI_3uxsw"/>
          <p:cNvPicPr/>
          <p:nvPr/>
        </p:nvPicPr>
        <p:blipFill>
          <a:blip r:embed="rId1"/>
          <a:stretch/>
        </p:blipFill>
        <p:spPr>
          <a:xfrm>
            <a:off x="6516720" y="4221000"/>
            <a:ext cx="1755720" cy="18925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https://encrypted-tbn3.gstatic.com/images?q=tbn:ANd9GcR6vhJUnehorUIB_NPFQlpt3A9pljL0f-ia1JFM19w-Td4rCbCQ-Q"/>
          <p:cNvPicPr/>
          <p:nvPr/>
        </p:nvPicPr>
        <p:blipFill>
          <a:blip r:embed="rId2"/>
          <a:stretch/>
        </p:blipFill>
        <p:spPr>
          <a:xfrm>
            <a:off x="3276720" y="4292640"/>
            <a:ext cx="2754360" cy="1847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13" name="Picture 6" descr="https://encrypted-tbn0.gstatic.com/images?q=tbn:ANd9GcQOMw5j3DCq2jqH72bxNOoPAXx8A3exmfUSW3kpkejZgDCKhivz"/>
          <p:cNvPicPr/>
          <p:nvPr/>
        </p:nvPicPr>
        <p:blipFill>
          <a:blip r:embed="rId3"/>
          <a:stretch/>
        </p:blipFill>
        <p:spPr>
          <a:xfrm>
            <a:off x="1042920" y="4221000"/>
            <a:ext cx="1441440" cy="20908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amma rays,U.V  R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مستطيل مستدير الزوايا 3"/>
          <p:cNvSpPr/>
          <p:nvPr/>
        </p:nvSpPr>
        <p:spPr>
          <a:xfrm>
            <a:off x="2050920" y="692280"/>
            <a:ext cx="5257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adiation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ther sterilization techni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https://encrypted-tbn2.gstatic.com/images?q=tbn:ANd9GcQGp-pJqOvZI0zPIZ_t0Eqfbmkc5q_BkNlgt2DM9R1OewqetyXRkg"/>
          <p:cNvPicPr/>
          <p:nvPr/>
        </p:nvPicPr>
        <p:blipFill>
          <a:blip r:embed="rId1"/>
          <a:stretch/>
        </p:blipFill>
        <p:spPr>
          <a:xfrm>
            <a:off x="3780000" y="3429000"/>
            <a:ext cx="2145960" cy="2232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ttps://encrypted-tbn3.gstatic.com/images?q=tbn:ANd9GcTH2Tcocr2CJqPcLsNNKrL3MqhVD1H2tZGwH68mxtS4IIKF_5lc"/>
          <p:cNvPicPr/>
          <p:nvPr/>
        </p:nvPicPr>
        <p:blipFill>
          <a:blip r:embed="rId2"/>
          <a:stretch/>
        </p:blipFill>
        <p:spPr>
          <a:xfrm>
            <a:off x="1332000" y="3429000"/>
            <a:ext cx="2009520" cy="226692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20" name="Picture 6" descr="https://encrypted-tbn2.gstatic.com/images?q=tbn:ANd9GcT4EJFQXfqVhsvc2d_yW3z70JbQeEVvXiHJSzizygOoFLFe2cosMA"/>
          <p:cNvPicPr/>
          <p:nvPr/>
        </p:nvPicPr>
        <p:blipFill>
          <a:blip r:embed="rId3"/>
          <a:stretch/>
        </p:blipFill>
        <p:spPr>
          <a:xfrm>
            <a:off x="6084720" y="1557360"/>
            <a:ext cx="2143440" cy="21430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95280" y="530280"/>
            <a:ext cx="8280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23640" y="1197000"/>
            <a:ext cx="4969080" cy="820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haroni"/>
                <a:ea typeface="Aharoni"/>
              </a:rPr>
              <a:t>Thanks</a:t>
            </a:r>
            <a:r>
              <a:rPr b="0" lang="en-US" sz="4900" spc="-1" strike="noStrike">
                <a:solidFill>
                  <a:srgbClr val="002060"/>
                </a:solidFill>
                <a:latin typeface="Aharoni"/>
                <a:ea typeface="Aharoni"/>
              </a:rPr>
              <a:t>…</a:t>
            </a:r>
            <a:endParaRPr b="1" lang="en-US" sz="49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5157360"/>
            <a:ext cx="8183520" cy="4208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0200"/>
                </a:solidFill>
                <a:latin typeface="Verdana"/>
              </a:rPr>
              <a:t>Shroog Al-Shahra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8" descr="https://encrypted-tbn3.google.com/images?q=tbn:ANd9GcRQphwvTqS6eUJmoGFULRRFR2We6wVzYIeg0Zf9QwGDMUBM5FNy"/>
          <p:cNvPicPr/>
          <p:nvPr/>
        </p:nvPicPr>
        <p:blipFill>
          <a:blip r:embed="rId1"/>
          <a:stretch/>
        </p:blipFill>
        <p:spPr>
          <a:xfrm>
            <a:off x="3132000" y="242100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0000"/>
                </a:solidFill>
                <a:latin typeface="Verdana"/>
              </a:rPr>
              <a:t>Sterilization</a:t>
            </a:r>
            <a:r>
              <a:rPr b="1" lang="ar-SA" sz="3600" spc="-1" strike="noStrike">
                <a:solidFill>
                  <a:srgbClr val="b2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20000"/>
                </a:solidFill>
                <a:latin typeface="Verdana"/>
              </a:rPr>
              <a:t> :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191592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Process which makes things free of microbes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https://encrypted-tbn1.gstatic.com/images?q=tbn:ANd9GcRjECXLjDrW027JULiZYzsei3ao984Y2MEZkL6pLXGA2H41aHEU"/>
          <p:cNvPicPr/>
          <p:nvPr/>
        </p:nvPicPr>
        <p:blipFill>
          <a:blip r:embed="rId1"/>
          <a:stretch/>
        </p:blipFill>
        <p:spPr>
          <a:xfrm>
            <a:off x="3059280" y="3213000"/>
            <a:ext cx="333216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1835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d90000"/>
                </a:solidFill>
                <a:latin typeface="Verdana"/>
              </a:rPr>
              <a:t>Things that can be sterilized</a:t>
            </a:r>
            <a:r>
              <a:rPr b="1" lang="ar-SA" sz="2900" spc="-1" strike="noStrike">
                <a:solidFill>
                  <a:srgbClr val="d90000"/>
                </a:solidFill>
                <a:latin typeface="Verdana"/>
              </a:rPr>
              <a:t> :</a:t>
            </a:r>
            <a:br>
              <a:rPr sz="2900"/>
            </a:br>
            <a:endParaRPr b="1" lang="en-US" sz="29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9640" y="1557000"/>
            <a:ext cx="8183520" cy="453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شكل بيضاوي 3"/>
          <p:cNvSpPr/>
          <p:nvPr/>
        </p:nvSpPr>
        <p:spPr>
          <a:xfrm>
            <a:off x="6659640" y="1700280"/>
            <a:ext cx="144144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l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شكل بيضاوي 7"/>
          <p:cNvSpPr/>
          <p:nvPr/>
        </p:nvSpPr>
        <p:spPr>
          <a:xfrm>
            <a:off x="4572000" y="1700280"/>
            <a:ext cx="172872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e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شكل بيضاوي 8"/>
          <p:cNvSpPr/>
          <p:nvPr/>
        </p:nvSpPr>
        <p:spPr>
          <a:xfrm>
            <a:off x="2556000" y="1700280"/>
            <a:ext cx="172872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شكل بيضاوي 9"/>
          <p:cNvSpPr/>
          <p:nvPr/>
        </p:nvSpPr>
        <p:spPr>
          <a:xfrm>
            <a:off x="684360" y="1773360"/>
            <a:ext cx="1584000" cy="93492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etri d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https://encrypted-tbn2.google.com/images?q=tbn:ANd9GcQXrk5skLp_tGZ_Hm9KxEzcySXL0aaQYcP3JrwrdEYGOCUvTHI3"/>
          <p:cNvPicPr/>
          <p:nvPr/>
        </p:nvPicPr>
        <p:blipFill>
          <a:blip r:embed="rId1"/>
          <a:srcRect l="6719" t="16798" r="9289" b="12649"/>
          <a:stretch/>
        </p:blipFill>
        <p:spPr>
          <a:xfrm>
            <a:off x="611280" y="2852640"/>
            <a:ext cx="1800000" cy="15130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0" name="Picture 4" descr="https://encrypted-tbn1.google.com/images?q=tbn:ANd9GcSSQSLruK0A9CWRKG6yZLXwNhHCB9j7XLcNGY5OSEgL-btULd_avg"/>
          <p:cNvPicPr/>
          <p:nvPr/>
        </p:nvPicPr>
        <p:blipFill>
          <a:blip r:embed="rId2"/>
          <a:stretch/>
        </p:blipFill>
        <p:spPr>
          <a:xfrm>
            <a:off x="2627280" y="2781360"/>
            <a:ext cx="1712880" cy="158436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1" name="Picture 6" descr="https://encrypted-tbn2.google.com/images?q=tbn:ANd9GcTTiMd0aVCT7F4_h1stnjISRMvk9JQXFSrbFOGHYudQThyDdB1j"/>
          <p:cNvPicPr/>
          <p:nvPr/>
        </p:nvPicPr>
        <p:blipFill>
          <a:blip r:embed="rId3"/>
          <a:stretch/>
        </p:blipFill>
        <p:spPr>
          <a:xfrm>
            <a:off x="4572000" y="2781360"/>
            <a:ext cx="1584360" cy="158436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2" name="Picture 8" descr="https://encrypted-tbn2.google.com/images?q=tbn:ANd9GcT-dvgOXqoUtXlm_mKaSjgKGv-brLxCmjz0-vkupP8M_0J2qiXy"/>
          <p:cNvPicPr/>
          <p:nvPr/>
        </p:nvPicPr>
        <p:blipFill>
          <a:blip r:embed="rId4"/>
          <a:stretch/>
        </p:blipFill>
        <p:spPr>
          <a:xfrm>
            <a:off x="6372360" y="2781360"/>
            <a:ext cx="2288880" cy="158436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95280" y="184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000"/>
                </a:solidFill>
                <a:latin typeface="Verdana"/>
              </a:rPr>
              <a:t>Things that can be sterilized</a:t>
            </a:r>
            <a:r>
              <a:rPr b="1" lang="ar-SA" sz="3200" spc="-1" strike="noStrike">
                <a:solidFill>
                  <a:srgbClr val="d90000"/>
                </a:solidFill>
                <a:latin typeface="Verdana"/>
              </a:rPr>
              <a:t> :</a:t>
            </a:r>
            <a:endParaRPr b="1" lang="en-US" sz="32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45" name="شكل بيضاوي 12"/>
          <p:cNvSpPr/>
          <p:nvPr/>
        </p:nvSpPr>
        <p:spPr>
          <a:xfrm>
            <a:off x="2268360" y="1413000"/>
            <a:ext cx="208764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بيضاوي 13"/>
          <p:cNvSpPr/>
          <p:nvPr/>
        </p:nvSpPr>
        <p:spPr>
          <a:xfrm>
            <a:off x="6804000" y="1413000"/>
            <a:ext cx="165564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lot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شكل بيضاوي 14"/>
          <p:cNvSpPr/>
          <p:nvPr/>
        </p:nvSpPr>
        <p:spPr>
          <a:xfrm>
            <a:off x="4859280" y="1484280"/>
            <a:ext cx="144144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شكل بيضاوي 15"/>
          <p:cNvSpPr/>
          <p:nvPr/>
        </p:nvSpPr>
        <p:spPr>
          <a:xfrm>
            <a:off x="324000" y="1413000"/>
            <a:ext cx="180000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e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encrypted-tbn3.google.com/images?q=tbn:ANd9GcS5GsWwI3pstn4yDQRImtd6QyjUkUdFn6H5skGNcAfjMQ1aCgO4"/>
          <p:cNvPicPr/>
          <p:nvPr/>
        </p:nvPicPr>
        <p:blipFill>
          <a:blip r:embed="rId1"/>
          <a:stretch/>
        </p:blipFill>
        <p:spPr>
          <a:xfrm>
            <a:off x="468360" y="2492280"/>
            <a:ext cx="1409760" cy="289584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0" name="Picture 12" descr="https://encrypted-tbn0.google.com/images?q=tbn:ANd9GcS7p2GlIAAEhQl-egup8QeHLEIPnAukPrPaRPIqLRYJlHtbtFwhkw"/>
          <p:cNvPicPr/>
          <p:nvPr/>
        </p:nvPicPr>
        <p:blipFill>
          <a:blip r:embed="rId2"/>
          <a:stretch/>
        </p:blipFill>
        <p:spPr>
          <a:xfrm>
            <a:off x="2124000" y="2492280"/>
            <a:ext cx="2038320" cy="259236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1" name="Picture 14" descr="https://encrypted-tbn3.google.com/images?q=tbn:ANd9GcSI8lEyjd8hTzbk8pcbnC7mRt24fyJHMkh71x-yrfvIczFTIBhhGw"/>
          <p:cNvPicPr/>
          <p:nvPr/>
        </p:nvPicPr>
        <p:blipFill>
          <a:blip r:embed="rId3"/>
          <a:srcRect l="17511" t="0" r="0" b="0"/>
          <a:stretch/>
        </p:blipFill>
        <p:spPr>
          <a:xfrm>
            <a:off x="4408560" y="2565360"/>
            <a:ext cx="2035080" cy="223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2" name="Picture 16" descr="https://encrypted-tbn0.google.com/images?q=tbn:ANd9GcTHool_YrvC4QDFYSNPa3tSTzqMA4p6ydvCXszST-tIHnjVeHNDBQ"/>
          <p:cNvPicPr/>
          <p:nvPr/>
        </p:nvPicPr>
        <p:blipFill>
          <a:blip r:embed="rId4"/>
          <a:stretch/>
        </p:blipFill>
        <p:spPr>
          <a:xfrm>
            <a:off x="6588000" y="2492280"/>
            <a:ext cx="2390760" cy="302436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re are </a:t>
            </a:r>
            <a:r>
              <a:rPr b="1" lang="en-US" sz="32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ifferent sterilization principles:</a:t>
            </a:r>
            <a:endParaRPr b="1" lang="en-US" sz="32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54" name="مستطيل مستدير الزوايا 3"/>
          <p:cNvSpPr/>
          <p:nvPr/>
        </p:nvSpPr>
        <p:spPr>
          <a:xfrm>
            <a:off x="468360" y="3213000"/>
            <a:ext cx="2590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- Heat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مستطيل مستدير الزوايا 4"/>
          <p:cNvSpPr/>
          <p:nvPr/>
        </p:nvSpPr>
        <p:spPr>
          <a:xfrm>
            <a:off x="320364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- Chemical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مستطيل مستدير الزوايا 5"/>
          <p:cNvSpPr/>
          <p:nvPr/>
        </p:nvSpPr>
        <p:spPr>
          <a:xfrm>
            <a:off x="601200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adiation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رابط مستقيم 8"/>
          <p:cNvSpPr/>
          <p:nvPr/>
        </p:nvSpPr>
        <p:spPr>
          <a:xfrm flipH="1">
            <a:off x="1547280" y="1557360"/>
            <a:ext cx="576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سهم للأسفل 9"/>
          <p:cNvSpPr/>
          <p:nvPr/>
        </p:nvSpPr>
        <p:spPr>
          <a:xfrm>
            <a:off x="133200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سهم للأسفل 10"/>
          <p:cNvSpPr/>
          <p:nvPr/>
        </p:nvSpPr>
        <p:spPr>
          <a:xfrm>
            <a:off x="3995640" y="1557360"/>
            <a:ext cx="792360" cy="15112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سهم للأسفل 11"/>
          <p:cNvSpPr/>
          <p:nvPr/>
        </p:nvSpPr>
        <p:spPr>
          <a:xfrm>
            <a:off x="673272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s://encrypted-tbn1.gstatic.com/images?q=tbn:ANd9GcRbrzaCyzabrEjekmzQj0X4y-nmY99rTa9sTBOqxKLtT-DI_3uxsw"/>
          <p:cNvPicPr/>
          <p:nvPr/>
        </p:nvPicPr>
        <p:blipFill>
          <a:blip r:embed="rId1"/>
          <a:stretch/>
        </p:blipFill>
        <p:spPr>
          <a:xfrm>
            <a:off x="6516720" y="4221000"/>
            <a:ext cx="1755720" cy="1892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s://encrypted-tbn3.gstatic.com/images?q=tbn:ANd9GcR6vhJUnehorUIB_NPFQlpt3A9pljL0f-ia1JFM19w-Td4rCbCQ-Q"/>
          <p:cNvPicPr/>
          <p:nvPr/>
        </p:nvPicPr>
        <p:blipFill>
          <a:blip r:embed="rId2"/>
          <a:stretch/>
        </p:blipFill>
        <p:spPr>
          <a:xfrm>
            <a:off x="3276720" y="4292640"/>
            <a:ext cx="2754360" cy="1847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63" name="Picture 6" descr="https://encrypted-tbn0.gstatic.com/images?q=tbn:ANd9GcQOMw5j3DCq2jqH72bxNOoPAXx8A3exmfUSW3kpkejZgDCKhivz"/>
          <p:cNvPicPr/>
          <p:nvPr/>
        </p:nvPicPr>
        <p:blipFill>
          <a:blip r:embed="rId3"/>
          <a:stretch/>
        </p:blipFill>
        <p:spPr>
          <a:xfrm>
            <a:off x="1042920" y="4221000"/>
            <a:ext cx="1441440" cy="20908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03280" y="529920"/>
            <a:ext cx="8316720" cy="577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here are 2 procedures depending on the tolerance of the material us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Advantages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simplest, most effective and inexpensive meth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مستطيل مستدير الزوايا 3"/>
          <p:cNvSpPr/>
          <p:nvPr/>
        </p:nvSpPr>
        <p:spPr>
          <a:xfrm>
            <a:off x="2268360" y="620640"/>
            <a:ext cx="511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- Heat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ذو زاوية واحدة مخدوشة ودائرية 4"/>
          <p:cNvSpPr/>
          <p:nvPr/>
        </p:nvSpPr>
        <p:spPr>
          <a:xfrm>
            <a:off x="1403280" y="3213000"/>
            <a:ext cx="3024360" cy="936720"/>
          </a:xfrm>
          <a:prstGeom prst="pie">
            <a:avLst/>
          </a:prstGeom>
          <a:solidFill>
            <a:srgbClr val="ffffff"/>
          </a:solidFill>
          <a:ln w="42480">
            <a:solidFill>
              <a:srgbClr val="ff6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Steam sterilization </a:t>
            </a:r>
            <a:r>
              <a:rPr b="0" lang="en-US" sz="20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(Autoclaving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ذو زاوية واحدة مخدوشة ودائرية 5"/>
          <p:cNvSpPr/>
          <p:nvPr/>
        </p:nvSpPr>
        <p:spPr>
          <a:xfrm>
            <a:off x="4788000" y="3213000"/>
            <a:ext cx="2952720" cy="936720"/>
          </a:xfrm>
          <a:prstGeom prst="pie">
            <a:avLst/>
          </a:prstGeom>
          <a:solidFill>
            <a:srgbClr val="ffffff"/>
          </a:solidFill>
          <a:ln w="42480">
            <a:solidFill>
              <a:srgbClr val="ff6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Dry heat ster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(hot air ov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68360" y="1773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t includes autocl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d to sterilize culture media, glassware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ually it operates at 15 lb/sq. inch steam pressure (121.5 C) for 30 mi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مستطيل ذو زاوية واحدة مخدوشة ودائرية 4"/>
          <p:cNvSpPr/>
          <p:nvPr/>
        </p:nvSpPr>
        <p:spPr>
          <a:xfrm>
            <a:off x="250920" y="260280"/>
            <a:ext cx="4465440" cy="1368360"/>
          </a:xfrm>
          <a:prstGeom prst="pie">
            <a:avLst/>
          </a:prstGeom>
          <a:solidFill>
            <a:srgbClr val="ffffff"/>
          </a:solidFill>
          <a:ln w="42480">
            <a:solidFill>
              <a:srgbClr val="ff6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Steam sterilization </a:t>
            </a:r>
            <a:r>
              <a:rPr b="1" lang="en-US" sz="28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(Autoclaving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e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autoclave"/>
          <p:cNvPicPr/>
          <p:nvPr/>
        </p:nvPicPr>
        <p:blipFill>
          <a:blip r:embed="rId1"/>
          <a:stretch/>
        </p:blipFill>
        <p:spPr>
          <a:xfrm>
            <a:off x="1403280" y="4044960"/>
            <a:ext cx="59436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68360" y="1833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t includes ov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fter sterilization wrap them in aluminium foil to avoid recont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مستطيل ذو زاوية واحدة مخدوشة ودائرية 3"/>
          <p:cNvSpPr/>
          <p:nvPr/>
        </p:nvSpPr>
        <p:spPr>
          <a:xfrm>
            <a:off x="324000" y="260280"/>
            <a:ext cx="4319280" cy="1297080"/>
          </a:xfrm>
          <a:prstGeom prst="pie">
            <a:avLst/>
          </a:prstGeom>
          <a:solidFill>
            <a:srgbClr val="ffffff"/>
          </a:solidFill>
          <a:ln w="42480">
            <a:solidFill>
              <a:srgbClr val="ff6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Dry heat ster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hot air oven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6" descr="C:\Users\Iffat\Pictures\incuu.jpg"/>
          <p:cNvPicPr/>
          <p:nvPr/>
        </p:nvPicPr>
        <p:blipFill>
          <a:blip r:embed="rId1"/>
          <a:stretch/>
        </p:blipFill>
        <p:spPr>
          <a:xfrm>
            <a:off x="2987640" y="3645000"/>
            <a:ext cx="2762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rect hea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eedles and loops are sterilized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intrinsically-safe-flame-sterilization-P346042"/>
          <p:cNvPicPr/>
          <p:nvPr/>
        </p:nvPicPr>
        <p:blipFill>
          <a:blip r:embed="rId1"/>
          <a:stretch/>
        </p:blipFill>
        <p:spPr>
          <a:xfrm>
            <a:off x="5003640" y="2708280"/>
            <a:ext cx="2857680" cy="265752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6" name="Picture 3" descr="ANd9GcQ-9FQMqCGgPUzSAqPKCI8PpLhqIFziNABEuIWVrzhRSXChfanG"/>
          <p:cNvPicPr/>
          <p:nvPr/>
        </p:nvPicPr>
        <p:blipFill>
          <a:blip r:embed="rId2"/>
          <a:stretch/>
        </p:blipFill>
        <p:spPr>
          <a:xfrm>
            <a:off x="2340000" y="2708280"/>
            <a:ext cx="1838160" cy="2695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1476360" y="5470920"/>
            <a:ext cx="32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sen burners , 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7:32:46Z</dcterms:created>
  <dc:creator>user</dc:creator>
  <dc:description/>
  <dc:language>en-US</dc:language>
  <cp:lastModifiedBy>Qosmio</cp:lastModifiedBy>
  <dcterms:modified xsi:type="dcterms:W3CDTF">2013-09-16T15:02:45Z</dcterms:modified>
  <cp:revision>19</cp:revision>
  <dc:subject/>
  <dc:title>الشريحة 1</dc:title>
</cp:coreProperties>
</file>