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7F0-9E87-4302-BF89-EACABC5933B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61CD-586B-49E6-BDF7-861A62DCDB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697D-8218-44A3-BC89-69679D2A98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93B-0A17-48E4-B1DC-C0F51E6FD09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404-BF24-4291-ABF0-D8069F7FCC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8B2B-FA75-4FA3-8C80-5206ADCFD8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42FC-8DDB-4B70-ACC5-9705EC4CB9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D4D5-A9ED-4E75-9A63-B694F7EB0D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10A-3CF9-40A3-8F4B-31F26A54075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242-758C-435A-9C36-882FC54D1E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6AE-133E-4B76-8947-3F3D71E5D4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5E49-7259-48A1-9499-01E7CCE4FD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49A-D3DB-4341-9051-4DC2B5DC642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608D-1E41-481F-B8D7-4FC78F4B4C2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079-3575-4C86-BB93-605361F5C3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97C-2B14-4771-9684-C011FDBA7F7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69B-BFCB-4A47-B344-0B1D76E0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0D6-1609-482D-8823-98E398D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325-5925-4D6F-8EE2-06687A47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D87-FCAC-4720-AECD-596F25E9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4BA0-8338-4E11-A929-6EC7B707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9922-AB1F-44D0-AC78-9F582880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2DE5-E41B-4132-9118-37BD73C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094B-6AB0-4B9E-B245-65ABA94B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EDEE-9A82-496B-A5C6-B3ED65D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F63A-7677-4F32-80A2-212F5CDB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EFD6-ED76-4689-AA24-01007BE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1E0-0221-4C87-9877-34561731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93E-D18E-4C39-ACE2-5826EE3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C3D8-BF7C-4346-8826-540FE53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4CB-9873-459A-83F8-528C0D58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1680-D95C-4E88-B154-C6D0E2C2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D3EC-E95E-4A67-AB28-CC69C7FF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FFE9-50A4-4E22-B245-B932D55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174E-F349-4CB6-AAEE-55298FD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33FF-E157-4A3B-A05E-FF35A09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C32A-82E4-48CD-98AD-77E083EC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85AC-14FE-4FEF-A115-86F8C66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50C-B819-41FF-8BA4-B17958A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AAAD-5484-40B6-A79B-8FB0573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62C4-DAAD-4124-B663-08023C7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F637-BBC8-41C7-9643-DB5FE30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0A64-4934-485E-B3C6-E2C687E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B576-A264-4D85-8933-B003934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2D2C-9794-40D6-9890-ABA2D78C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F294-F4CB-4737-93E0-B4F0D426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1BF7-E0E6-41C8-9527-65C83712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9A93-A8FB-4B4E-AC96-890D8BB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2F56-9EC1-47D4-B6B9-5EE7403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C85-F0B6-4789-99AA-0F9E46F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D153-D0C7-49CA-8ABB-1B732E1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F1F3-E4E4-4FC2-BBEF-44E23C5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3693-0E8C-48F5-B590-52D9201D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A7D9-9365-4E53-A861-609E1C2A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BC43-D5E2-46D9-8E6E-5656301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BD52-FF31-4C18-859F-DAF6071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9F86-E3EB-4DEC-B9AD-08B94971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AB15-235C-4C25-AA74-D893B3AD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F501-1023-4A97-AA81-6B1B0F46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5CA3-2849-4619-A368-C8F41F7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DB4-C8EE-4608-91C0-70BEF35E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C09B-2AFD-4E7B-B4C9-A0ED26B6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07FA-4BD0-438A-ACD6-85F0CC0D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9D29-4EAD-41FA-831D-B1940C7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A9D7-C083-4999-95EE-E5603B5E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AAEF-4FAE-456B-8B15-941069D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6F25-9261-4829-B077-4E980B5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76EE-37AE-43DB-B8E2-6ACAA3D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BA04-DC60-408E-9008-5940FCE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EDB3-6035-4C78-8767-A21FA9FB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53507-2417-44BC-8358-780045DE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765-F208-47EA-8742-78444F8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65840-942D-49FE-8E6A-4620AED5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5A8-9FF2-40FC-95B2-195657B3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243-7A00-4382-A48A-F6FB1A7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5F8-2D3B-4E06-B50A-E6BC436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9D31-3794-42C0-85E2-28995DE5B928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مستطيل مستدير الزوايا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B526-C2B7-4F06-93FE-2DBF2E8F8404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مستطيل مستدير الزوايا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مستطيل مستدير الزوايا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4A0-E998-4279-AE32-A584538541C2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EF68-575F-47F3-965C-4DFD0677D331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ذو زاوية واحدة مستديرة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23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ff1e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ff1e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ff7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8383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BB71-92E8-4747-BAD3-540CB96F6528}" type="slidenum">
              <a:rPr b="0" lang="ar-SA" sz="1000" spc="-1" strike="noStrike">
                <a:solidFill>
                  <a:srgbClr val="bc8383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30280"/>
            <a:ext cx="8183520" cy="412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00000"/>
                </a:solidFill>
                <a:latin typeface="바탕"/>
                <a:cs typeface="Diwani Letter"/>
              </a:rPr>
              <a:t>بسم الله الرحمن الرحي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Verdana"/>
              </a:rPr>
              <a:t> :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</a:rPr>
              <a:t>Lab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Verdana"/>
              </a:rPr>
              <a:t>Steri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s://encrypted-tbn0.google.com/images?q=tbn:ANd9GcTUtNUp27UDx-xzn6hzNBz-e0kltHOX4CJ4Y2kK6AM5BniNmPqA"/>
          <p:cNvPicPr/>
          <p:nvPr/>
        </p:nvPicPr>
        <p:blipFill>
          <a:blip r:embed="rId1"/>
          <a:stretch/>
        </p:blipFill>
        <p:spPr>
          <a:xfrm>
            <a:off x="2771640" y="4365720"/>
            <a:ext cx="3456000" cy="1971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s://encrypted-tbn0.google.com/images?q=tbn:ANd9GcTGAeZlpRW4zQM6giO7OFQdxrtYfsQDLXrfXkTsxM0IkHRsvNhPoQ"/>
          <p:cNvPicPr/>
          <p:nvPr/>
        </p:nvPicPr>
        <p:blipFill>
          <a:blip r:embed="rId2"/>
          <a:stretch/>
        </p:blipFill>
        <p:spPr>
          <a:xfrm>
            <a:off x="6732720" y="33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32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fferent sterilization principles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79" name="مستطيل مستدير الزوايا 3"/>
          <p:cNvSpPr/>
          <p:nvPr/>
        </p:nvSpPr>
        <p:spPr>
          <a:xfrm>
            <a:off x="468360" y="3213000"/>
            <a:ext cx="2590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مستدير الزوايا 4"/>
          <p:cNvSpPr/>
          <p:nvPr/>
        </p:nvSpPr>
        <p:spPr>
          <a:xfrm>
            <a:off x="320364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مستطيل مستدير الزوايا 5"/>
          <p:cNvSpPr/>
          <p:nvPr/>
        </p:nvSpPr>
        <p:spPr>
          <a:xfrm>
            <a:off x="601200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رابط مستقيم 8"/>
          <p:cNvSpPr/>
          <p:nvPr/>
        </p:nvSpPr>
        <p:spPr>
          <a:xfrm flipH="1">
            <a:off x="1547280" y="1557360"/>
            <a:ext cx="576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سهم للأسفل 9"/>
          <p:cNvSpPr/>
          <p:nvPr/>
        </p:nvSpPr>
        <p:spPr>
          <a:xfrm>
            <a:off x="133200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سهم للأسفل 10"/>
          <p:cNvSpPr/>
          <p:nvPr/>
        </p:nvSpPr>
        <p:spPr>
          <a:xfrm>
            <a:off x="3995640" y="1557360"/>
            <a:ext cx="792360" cy="1511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سهم للأسفل 11"/>
          <p:cNvSpPr/>
          <p:nvPr/>
        </p:nvSpPr>
        <p:spPr>
          <a:xfrm>
            <a:off x="673272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s://encrypted-tbn1.gstatic.com/images?q=tbn:ANd9GcRbrzaCyzabrEjekmzQj0X4y-nmY99rTa9sTBOqxKLtT-DI_3uxsw"/>
          <p:cNvPicPr/>
          <p:nvPr/>
        </p:nvPicPr>
        <p:blipFill>
          <a:blip r:embed="rId1"/>
          <a:stretch/>
        </p:blipFill>
        <p:spPr>
          <a:xfrm>
            <a:off x="6516720" y="4221000"/>
            <a:ext cx="1755720" cy="1892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s://encrypted-tbn3.gstatic.com/images?q=tbn:ANd9GcR6vhJUnehorUIB_NPFQlpt3A9pljL0f-ia1JFM19w-Td4rCbCQ-Q"/>
          <p:cNvPicPr/>
          <p:nvPr/>
        </p:nvPicPr>
        <p:blipFill>
          <a:blip r:embed="rId2"/>
          <a:stretch/>
        </p:blipFill>
        <p:spPr>
          <a:xfrm>
            <a:off x="3276720" y="4292640"/>
            <a:ext cx="2754360" cy="1847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8" name="Picture 6" descr="https://encrypted-tbn0.gstatic.com/images?q=tbn:ANd9GcQOMw5j3DCq2jqH72bxNOoPAXx8A3exmfUSW3kpkejZgDCKhivz"/>
          <p:cNvPicPr/>
          <p:nvPr/>
        </p:nvPicPr>
        <p:blipFill>
          <a:blip r:embed="rId3"/>
          <a:stretch/>
        </p:blipFill>
        <p:spPr>
          <a:xfrm>
            <a:off x="1042920" y="4221000"/>
            <a:ext cx="1441440" cy="2090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مستطيل مستدير الزوايا 3"/>
          <p:cNvSpPr/>
          <p:nvPr/>
        </p:nvSpPr>
        <p:spPr>
          <a:xfrm>
            <a:off x="2050920" y="426960"/>
            <a:ext cx="4824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مخطط انسيابي: محطة طرفية 4"/>
          <p:cNvSpPr/>
          <p:nvPr/>
        </p:nvSpPr>
        <p:spPr>
          <a:xfrm>
            <a:off x="539640" y="1700280"/>
            <a:ext cx="2880000" cy="936720"/>
          </a:xfrm>
          <a:prstGeom prst="flowChartTerminator">
            <a:avLst/>
          </a:prstGeom>
          <a:gradFill rotWithShape="0">
            <a:gsLst>
              <a:gs pos="0">
                <a:srgbClr val="ff68a4"/>
              </a:gs>
              <a:gs pos="100000">
                <a:srgbClr val="ffb8d4"/>
              </a:gs>
            </a:gsLst>
            <a:lin ang="16200000"/>
          </a:gradFill>
          <a:ln w="9360">
            <a:solidFill>
              <a:srgbClr val="ff007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مخطط انسيابي: محطة طرفية 5"/>
          <p:cNvSpPr/>
          <p:nvPr/>
        </p:nvSpPr>
        <p:spPr>
          <a:xfrm>
            <a:off x="4932360" y="1700280"/>
            <a:ext cx="2879640" cy="936720"/>
          </a:xfrm>
          <a:prstGeom prst="flowChartTerminator">
            <a:avLst/>
          </a:prstGeom>
          <a:gradFill rotWithShape="0">
            <a:gsLst>
              <a:gs pos="0">
                <a:srgbClr val="ffc16c"/>
              </a:gs>
              <a:gs pos="100000">
                <a:srgbClr val="ffe0b5"/>
              </a:gs>
            </a:gsLst>
            <a:lin ang="16200000"/>
          </a:gradFill>
          <a:ln w="9360">
            <a:solidFill>
              <a:srgbClr val="ffa62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ene oxide  and form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https://encrypted-tbn2.gstatic.com/images?q=tbn:ANd9GcQ7I5zfuS92T1FN9kikxWXOjIoL67DoxEUV7ShKOWBzOYJntmyy"/>
          <p:cNvPicPr/>
          <p:nvPr/>
        </p:nvPicPr>
        <p:blipFill>
          <a:blip r:embed="rId1"/>
          <a:stretch/>
        </p:blipFill>
        <p:spPr>
          <a:xfrm>
            <a:off x="7451640" y="1700280"/>
            <a:ext cx="1152720" cy="20890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4" name="Picture 4" descr="https://encrypted-tbn2.gstatic.com/images?q=tbn:ANd9GcS_Epi27rWTUuthhP4T9ItNRcU44KJjNJu9SkjtdY4MSRrF7ImOfQ"/>
          <p:cNvPicPr/>
          <p:nvPr/>
        </p:nvPicPr>
        <p:blipFill>
          <a:blip r:embed="rId2"/>
          <a:srcRect l="26280" t="0" r="27025" b="0"/>
          <a:stretch/>
        </p:blipFill>
        <p:spPr>
          <a:xfrm>
            <a:off x="2987640" y="1700280"/>
            <a:ext cx="1152720" cy="1847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95" name="Picture 2" descr="Cleaning_table_Slide 4"/>
          <p:cNvPicPr/>
          <p:nvPr/>
        </p:nvPicPr>
        <p:blipFill>
          <a:blip r:embed="rId3"/>
          <a:srcRect l="15153" t="0" r="0" b="0"/>
          <a:stretch/>
        </p:blipFill>
        <p:spPr>
          <a:xfrm>
            <a:off x="684360" y="3645000"/>
            <a:ext cx="3627360" cy="23619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6" name="سهم للأسفل 9"/>
          <p:cNvSpPr/>
          <p:nvPr/>
        </p:nvSpPr>
        <p:spPr>
          <a:xfrm>
            <a:off x="1908000" y="2708280"/>
            <a:ext cx="648000" cy="93672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b80054"/>
              </a:gs>
              <a:gs pos="100000">
                <a:srgbClr val="ff1281"/>
              </a:gs>
            </a:gsLst>
            <a:lin ang="16200000"/>
          </a:gradFill>
          <a:ln w="9360">
            <a:solidFill>
              <a:srgbClr val="ff007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403280" y="6022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ches /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932360" y="3936600"/>
            <a:ext cx="37069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erilizing disposable materials (that can not tolerate high temperature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سهم للأسفل 13"/>
          <p:cNvSpPr/>
          <p:nvPr/>
        </p:nvSpPr>
        <p:spPr>
          <a:xfrm>
            <a:off x="6156360" y="270828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c67317"/>
              </a:gs>
              <a:gs pos="100000">
                <a:srgbClr val="ffaf25"/>
              </a:gs>
            </a:gsLst>
            <a:lin ang="16200000"/>
          </a:gradFill>
          <a:ln w="9360">
            <a:solidFill>
              <a:srgbClr val="ffa62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رابط مستقيم 15"/>
          <p:cNvSpPr/>
          <p:nvPr/>
        </p:nvSpPr>
        <p:spPr>
          <a:xfrm flipH="1">
            <a:off x="2700000" y="1268280"/>
            <a:ext cx="338436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رابط كسهم مستقيم 17"/>
          <p:cNvCxnSpPr/>
          <p:nvPr/>
        </p:nvCxnSpPr>
        <p:spPr>
          <a:xfrm>
            <a:off x="6084360" y="1267920"/>
            <a:ext cx="1080" cy="5058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رابط كسهم مستقيم 21"/>
          <p:cNvCxnSpPr/>
          <p:nvPr/>
        </p:nvCxnSpPr>
        <p:spPr>
          <a:xfrm>
            <a:off x="2700000" y="1267920"/>
            <a:ext cx="1080" cy="5058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32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fferent sterilization principles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04" name="مستطيل مستدير الزوايا 3"/>
          <p:cNvSpPr/>
          <p:nvPr/>
        </p:nvSpPr>
        <p:spPr>
          <a:xfrm>
            <a:off x="468360" y="3213000"/>
            <a:ext cx="2590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مستطيل مستدير الزوايا 4"/>
          <p:cNvSpPr/>
          <p:nvPr/>
        </p:nvSpPr>
        <p:spPr>
          <a:xfrm>
            <a:off x="320364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مستدير الزوايا 5"/>
          <p:cNvSpPr/>
          <p:nvPr/>
        </p:nvSpPr>
        <p:spPr>
          <a:xfrm>
            <a:off x="601200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8"/>
          <p:cNvSpPr/>
          <p:nvPr/>
        </p:nvSpPr>
        <p:spPr>
          <a:xfrm flipH="1">
            <a:off x="1547280" y="1557360"/>
            <a:ext cx="576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سهم للأسفل 9"/>
          <p:cNvSpPr/>
          <p:nvPr/>
        </p:nvSpPr>
        <p:spPr>
          <a:xfrm>
            <a:off x="133200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سهم للأسفل 10"/>
          <p:cNvSpPr/>
          <p:nvPr/>
        </p:nvSpPr>
        <p:spPr>
          <a:xfrm>
            <a:off x="3995640" y="1557360"/>
            <a:ext cx="792360" cy="1511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سهم للأسفل 11"/>
          <p:cNvSpPr/>
          <p:nvPr/>
        </p:nvSpPr>
        <p:spPr>
          <a:xfrm>
            <a:off x="673272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https://encrypted-tbn1.gstatic.com/images?q=tbn:ANd9GcRbrzaCyzabrEjekmzQj0X4y-nmY99rTa9sTBOqxKLtT-DI_3uxsw"/>
          <p:cNvPicPr/>
          <p:nvPr/>
        </p:nvPicPr>
        <p:blipFill>
          <a:blip r:embed="rId1"/>
          <a:stretch/>
        </p:blipFill>
        <p:spPr>
          <a:xfrm>
            <a:off x="6516720" y="4221000"/>
            <a:ext cx="1755720" cy="189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https://encrypted-tbn3.gstatic.com/images?q=tbn:ANd9GcR6vhJUnehorUIB_NPFQlpt3A9pljL0f-ia1JFM19w-Td4rCbCQ-Q"/>
          <p:cNvPicPr/>
          <p:nvPr/>
        </p:nvPicPr>
        <p:blipFill>
          <a:blip r:embed="rId2"/>
          <a:stretch/>
        </p:blipFill>
        <p:spPr>
          <a:xfrm>
            <a:off x="3276720" y="4292640"/>
            <a:ext cx="2754360" cy="1847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3" name="Picture 6" descr="https://encrypted-tbn0.gstatic.com/images?q=tbn:ANd9GcQOMw5j3DCq2jqH72bxNOoPAXx8A3exmfUSW3kpkejZgDCKhivz"/>
          <p:cNvPicPr/>
          <p:nvPr/>
        </p:nvPicPr>
        <p:blipFill>
          <a:blip r:embed="rId3"/>
          <a:stretch/>
        </p:blipFill>
        <p:spPr>
          <a:xfrm>
            <a:off x="1042920" y="4221000"/>
            <a:ext cx="1441440" cy="2090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amma rays,U.V  R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مستطيل مستدير الزوايا 3"/>
          <p:cNvSpPr/>
          <p:nvPr/>
        </p:nvSpPr>
        <p:spPr>
          <a:xfrm>
            <a:off x="2050920" y="692280"/>
            <a:ext cx="5257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ther sterilization techni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https://encrypted-tbn2.gstatic.com/images?q=tbn:ANd9GcQGp-pJqOvZI0zPIZ_t0Eqfbmkc5q_BkNlgt2DM9R1OewqetyXRkg"/>
          <p:cNvPicPr/>
          <p:nvPr/>
        </p:nvPicPr>
        <p:blipFill>
          <a:blip r:embed="rId1"/>
          <a:stretch/>
        </p:blipFill>
        <p:spPr>
          <a:xfrm>
            <a:off x="3780000" y="3429000"/>
            <a:ext cx="2145960" cy="2232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s://encrypted-tbn3.gstatic.com/images?q=tbn:ANd9GcTH2Tcocr2CJqPcLsNNKrL3MqhVD1H2tZGwH68mxtS4IIKF_5lc"/>
          <p:cNvPicPr/>
          <p:nvPr/>
        </p:nvPicPr>
        <p:blipFill>
          <a:blip r:embed="rId2"/>
          <a:stretch/>
        </p:blipFill>
        <p:spPr>
          <a:xfrm>
            <a:off x="1332000" y="3429000"/>
            <a:ext cx="2009520" cy="22669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20" name="Picture 6" descr="https://encrypted-tbn2.gstatic.com/images?q=tbn:ANd9GcT4EJFQXfqVhsvc2d_yW3z70JbQeEVvXiHJSzizygOoFLFe2cosMA"/>
          <p:cNvPicPr/>
          <p:nvPr/>
        </p:nvPicPr>
        <p:blipFill>
          <a:blip r:embed="rId3"/>
          <a:stretch/>
        </p:blipFill>
        <p:spPr>
          <a:xfrm>
            <a:off x="6084720" y="1557360"/>
            <a:ext cx="2143440" cy="21430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95280" y="530280"/>
            <a:ext cx="8280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23640" y="1197000"/>
            <a:ext cx="4969080" cy="820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2060"/>
                </a:solidFill>
                <a:latin typeface="Aharoni"/>
                <a:ea typeface="Aharoni"/>
              </a:rPr>
              <a:t>Thanks</a:t>
            </a:r>
            <a:r>
              <a:rPr b="0" lang="en-US" sz="4900" spc="-1" strike="noStrike">
                <a:solidFill>
                  <a:srgbClr val="002060"/>
                </a:solidFill>
                <a:latin typeface="Aharoni"/>
                <a:ea typeface="Aharoni"/>
              </a:rPr>
              <a:t>…</a:t>
            </a:r>
            <a:endParaRPr b="1" lang="en-US" sz="49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8183520" cy="420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0200"/>
                </a:solidFill>
                <a:latin typeface="Verdana"/>
              </a:rPr>
              <a:t>Shroog Al-Shahra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8" descr="https://encrypted-tbn3.google.com/images?q=tbn:ANd9GcRQphwvTqS6eUJmoGFULRRFR2We6wVzYIeg0Zf9QwGDMUBM5FNy"/>
          <p:cNvPicPr/>
          <p:nvPr/>
        </p:nvPicPr>
        <p:blipFill>
          <a:blip r:embed="rId1"/>
          <a:stretch/>
        </p:blipFill>
        <p:spPr>
          <a:xfrm>
            <a:off x="3132000" y="242100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0000"/>
                </a:solidFill>
                <a:latin typeface="Verdana"/>
              </a:rPr>
              <a:t>Sterilization</a:t>
            </a:r>
            <a:r>
              <a:rPr b="1" lang="ar-SA" sz="3600" spc="-1" strike="noStrike">
                <a:solidFill>
                  <a:srgbClr val="b2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20000"/>
                </a:solidFill>
                <a:latin typeface="Verdana"/>
              </a:rPr>
              <a:t> :</a:t>
            </a:r>
            <a:endParaRPr b="1" lang="en-US" sz="36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Process which makes things free of microbes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s://encrypted-tbn1.gstatic.com/images?q=tbn:ANd9GcRjECXLjDrW027JULiZYzsei3ao984Y2MEZkL6pLXGA2H41aHEU"/>
          <p:cNvPicPr/>
          <p:nvPr/>
        </p:nvPicPr>
        <p:blipFill>
          <a:blip r:embed="rId1"/>
          <a:stretch/>
        </p:blipFill>
        <p:spPr>
          <a:xfrm>
            <a:off x="3059280" y="3213000"/>
            <a:ext cx="333216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1835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d90000"/>
                </a:solidFill>
                <a:latin typeface="Verdana"/>
              </a:rPr>
              <a:t>Things that can be sterilized</a:t>
            </a:r>
            <a:r>
              <a:rPr b="1" lang="ar-SA" sz="2900" spc="-1" strike="noStrike">
                <a:solidFill>
                  <a:srgbClr val="d90000"/>
                </a:solidFill>
                <a:latin typeface="Verdana"/>
              </a:rPr>
              <a:t> :</a:t>
            </a:r>
            <a:br>
              <a:rPr sz="2900"/>
            </a:br>
            <a:endParaRPr b="1" lang="en-US" sz="29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557000"/>
            <a:ext cx="8183520" cy="453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شكل بيضاوي 3"/>
          <p:cNvSpPr/>
          <p:nvPr/>
        </p:nvSpPr>
        <p:spPr>
          <a:xfrm>
            <a:off x="6659640" y="1700280"/>
            <a:ext cx="14414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l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شكل بيضاوي 7"/>
          <p:cNvSpPr/>
          <p:nvPr/>
        </p:nvSpPr>
        <p:spPr>
          <a:xfrm>
            <a:off x="4572000" y="1700280"/>
            <a:ext cx="172872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شكل بيضاوي 8"/>
          <p:cNvSpPr/>
          <p:nvPr/>
        </p:nvSpPr>
        <p:spPr>
          <a:xfrm>
            <a:off x="2556000" y="1700280"/>
            <a:ext cx="172872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شكل بيضاوي 9"/>
          <p:cNvSpPr/>
          <p:nvPr/>
        </p:nvSpPr>
        <p:spPr>
          <a:xfrm>
            <a:off x="684360" y="1773360"/>
            <a:ext cx="1584000" cy="93492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etri d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s://encrypted-tbn2.google.com/images?q=tbn:ANd9GcQXrk5skLp_tGZ_Hm9KxEzcySXL0aaQYcP3JrwrdEYGOCUvTHI3"/>
          <p:cNvPicPr/>
          <p:nvPr/>
        </p:nvPicPr>
        <p:blipFill>
          <a:blip r:embed="rId1"/>
          <a:srcRect l="6719" t="16798" r="9289" b="12649"/>
          <a:stretch/>
        </p:blipFill>
        <p:spPr>
          <a:xfrm>
            <a:off x="611280" y="2852640"/>
            <a:ext cx="1800000" cy="15130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0" name="Picture 4" descr="https://encrypted-tbn1.google.com/images?q=tbn:ANd9GcSSQSLruK0A9CWRKG6yZLXwNhHCB9j7XLcNGY5OSEgL-btULd_avg"/>
          <p:cNvPicPr/>
          <p:nvPr/>
        </p:nvPicPr>
        <p:blipFill>
          <a:blip r:embed="rId2"/>
          <a:stretch/>
        </p:blipFill>
        <p:spPr>
          <a:xfrm>
            <a:off x="2627280" y="2781360"/>
            <a:ext cx="1712880" cy="158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1" name="Picture 6" descr="https://encrypted-tbn2.google.com/images?q=tbn:ANd9GcTTiMd0aVCT7F4_h1stnjISRMvk9JQXFSrbFOGHYudQThyDdB1j"/>
          <p:cNvPicPr/>
          <p:nvPr/>
        </p:nvPicPr>
        <p:blipFill>
          <a:blip r:embed="rId3"/>
          <a:stretch/>
        </p:blipFill>
        <p:spPr>
          <a:xfrm>
            <a:off x="4572000" y="2781360"/>
            <a:ext cx="1584360" cy="158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2" name="Picture 8" descr="https://encrypted-tbn2.google.com/images?q=tbn:ANd9GcT-dvgOXqoUtXlm_mKaSjgKGv-brLxCmjz0-vkupP8M_0J2qiXy"/>
          <p:cNvPicPr/>
          <p:nvPr/>
        </p:nvPicPr>
        <p:blipFill>
          <a:blip r:embed="rId4"/>
          <a:stretch/>
        </p:blipFill>
        <p:spPr>
          <a:xfrm>
            <a:off x="6372360" y="2781360"/>
            <a:ext cx="2288880" cy="158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184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000"/>
                </a:solidFill>
                <a:latin typeface="Verdana"/>
              </a:rPr>
              <a:t>Things that can be sterilized</a:t>
            </a:r>
            <a:r>
              <a:rPr b="1" lang="ar-SA" sz="3200" spc="-1" strike="noStrike">
                <a:solidFill>
                  <a:srgbClr val="d90000"/>
                </a:solidFill>
                <a:latin typeface="Verdana"/>
              </a:rPr>
              <a:t> 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45" name="شكل بيضاوي 12"/>
          <p:cNvSpPr/>
          <p:nvPr/>
        </p:nvSpPr>
        <p:spPr>
          <a:xfrm>
            <a:off x="2268360" y="1413000"/>
            <a:ext cx="20876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بيضاوي 13"/>
          <p:cNvSpPr/>
          <p:nvPr/>
        </p:nvSpPr>
        <p:spPr>
          <a:xfrm>
            <a:off x="6804000" y="1413000"/>
            <a:ext cx="16556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شكل بيضاوي 14"/>
          <p:cNvSpPr/>
          <p:nvPr/>
        </p:nvSpPr>
        <p:spPr>
          <a:xfrm>
            <a:off x="4859280" y="1484280"/>
            <a:ext cx="144144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شكل بيضاوي 15"/>
          <p:cNvSpPr/>
          <p:nvPr/>
        </p:nvSpPr>
        <p:spPr>
          <a:xfrm>
            <a:off x="324000" y="1413000"/>
            <a:ext cx="1800000" cy="1008000"/>
          </a:xfrm>
          <a:prstGeom prst="ellipse">
            <a:avLst/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encrypted-tbn3.google.com/images?q=tbn:ANd9GcS5GsWwI3pstn4yDQRImtd6QyjUkUdFn6H5skGNcAfjMQ1aCgO4"/>
          <p:cNvPicPr/>
          <p:nvPr/>
        </p:nvPicPr>
        <p:blipFill>
          <a:blip r:embed="rId1"/>
          <a:stretch/>
        </p:blipFill>
        <p:spPr>
          <a:xfrm>
            <a:off x="468360" y="2492280"/>
            <a:ext cx="1409760" cy="289584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0" name="Picture 12" descr="https://encrypted-tbn0.google.com/images?q=tbn:ANd9GcS7p2GlIAAEhQl-egup8QeHLEIPnAukPrPaRPIqLRYJlHtbtFwhkw"/>
          <p:cNvPicPr/>
          <p:nvPr/>
        </p:nvPicPr>
        <p:blipFill>
          <a:blip r:embed="rId2"/>
          <a:stretch/>
        </p:blipFill>
        <p:spPr>
          <a:xfrm>
            <a:off x="2124000" y="2492280"/>
            <a:ext cx="2038320" cy="2592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1" name="Picture 14" descr="https://encrypted-tbn3.google.com/images?q=tbn:ANd9GcSI8lEyjd8hTzbk8pcbnC7mRt24fyJHMkh71x-yrfvIczFTIBhhGw"/>
          <p:cNvPicPr/>
          <p:nvPr/>
        </p:nvPicPr>
        <p:blipFill>
          <a:blip r:embed="rId3"/>
          <a:srcRect l="17511" t="0" r="0" b="0"/>
          <a:stretch/>
        </p:blipFill>
        <p:spPr>
          <a:xfrm>
            <a:off x="4408560" y="2565360"/>
            <a:ext cx="2035080" cy="223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2" name="Picture 16" descr="https://encrypted-tbn0.google.com/images?q=tbn:ANd9GcTHool_YrvC4QDFYSNPa3tSTzqMA4p6ydvCXszST-tIHnjVeHNDBQ"/>
          <p:cNvPicPr/>
          <p:nvPr/>
        </p:nvPicPr>
        <p:blipFill>
          <a:blip r:embed="rId4"/>
          <a:stretch/>
        </p:blipFill>
        <p:spPr>
          <a:xfrm>
            <a:off x="6588000" y="2492280"/>
            <a:ext cx="2390760" cy="302436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1835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</a:t>
            </a:r>
            <a:r>
              <a:rPr b="1" lang="en-US" sz="32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fferent sterilization principles:</a:t>
            </a:r>
            <a:endParaRPr b="1" lang="en-US" sz="3200" spc="-1" strike="noStrike">
              <a:solidFill>
                <a:srgbClr val="ff423f"/>
              </a:solidFill>
              <a:latin typeface="Verdana"/>
            </a:endParaRPr>
          </a:p>
        </p:txBody>
      </p:sp>
      <p:sp>
        <p:nvSpPr>
          <p:cNvPr id="254" name="مستطيل مستدير الزوايا 3"/>
          <p:cNvSpPr/>
          <p:nvPr/>
        </p:nvSpPr>
        <p:spPr>
          <a:xfrm>
            <a:off x="468360" y="3213000"/>
            <a:ext cx="2590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مستطيل مستدير الزوايا 4"/>
          <p:cNvSpPr/>
          <p:nvPr/>
        </p:nvSpPr>
        <p:spPr>
          <a:xfrm>
            <a:off x="320364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- Chemical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مستطيل مستدير الزوايا 5"/>
          <p:cNvSpPr/>
          <p:nvPr/>
        </p:nvSpPr>
        <p:spPr>
          <a:xfrm>
            <a:off x="6012000" y="3213000"/>
            <a:ext cx="2592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adiation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8"/>
          <p:cNvSpPr/>
          <p:nvPr/>
        </p:nvSpPr>
        <p:spPr>
          <a:xfrm flipH="1">
            <a:off x="1547280" y="1557360"/>
            <a:ext cx="576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سهم للأسفل 9"/>
          <p:cNvSpPr/>
          <p:nvPr/>
        </p:nvSpPr>
        <p:spPr>
          <a:xfrm>
            <a:off x="133200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سهم للأسفل 10"/>
          <p:cNvSpPr/>
          <p:nvPr/>
        </p:nvSpPr>
        <p:spPr>
          <a:xfrm>
            <a:off x="3995640" y="1557360"/>
            <a:ext cx="792360" cy="15112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سهم للأسفل 11"/>
          <p:cNvSpPr/>
          <p:nvPr/>
        </p:nvSpPr>
        <p:spPr>
          <a:xfrm>
            <a:off x="6732720" y="1557360"/>
            <a:ext cx="792000" cy="1511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s://encrypted-tbn1.gstatic.com/images?q=tbn:ANd9GcRbrzaCyzabrEjekmzQj0X4y-nmY99rTa9sTBOqxKLtT-DI_3uxsw"/>
          <p:cNvPicPr/>
          <p:nvPr/>
        </p:nvPicPr>
        <p:blipFill>
          <a:blip r:embed="rId1"/>
          <a:stretch/>
        </p:blipFill>
        <p:spPr>
          <a:xfrm>
            <a:off x="6516720" y="4221000"/>
            <a:ext cx="1755720" cy="1892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s://encrypted-tbn3.gstatic.com/images?q=tbn:ANd9GcR6vhJUnehorUIB_NPFQlpt3A9pljL0f-ia1JFM19w-Td4rCbCQ-Q"/>
          <p:cNvPicPr/>
          <p:nvPr/>
        </p:nvPicPr>
        <p:blipFill>
          <a:blip r:embed="rId2"/>
          <a:stretch/>
        </p:blipFill>
        <p:spPr>
          <a:xfrm>
            <a:off x="3276720" y="4292640"/>
            <a:ext cx="2754360" cy="1847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63" name="Picture 6" descr="https://encrypted-tbn0.gstatic.com/images?q=tbn:ANd9GcQOMw5j3DCq2jqH72bxNOoPAXx8A3exmfUSW3kpkejZgDCKhivz"/>
          <p:cNvPicPr/>
          <p:nvPr/>
        </p:nvPicPr>
        <p:blipFill>
          <a:blip r:embed="rId3"/>
          <a:stretch/>
        </p:blipFill>
        <p:spPr>
          <a:xfrm>
            <a:off x="1042920" y="4221000"/>
            <a:ext cx="1441440" cy="20908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03280" y="529920"/>
            <a:ext cx="8316720" cy="577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here are 2 procedures depending on the tolerance of the material u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Advantages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simplest, most effective and inexpensive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مستطيل مستدير الزوايا 3"/>
          <p:cNvSpPr/>
          <p:nvPr/>
        </p:nvSpPr>
        <p:spPr>
          <a:xfrm>
            <a:off x="2268360" y="620640"/>
            <a:ext cx="511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b6b"/>
              </a:gs>
              <a:gs pos="100000">
                <a:srgbClr val="ffb2b2"/>
              </a:gs>
            </a:gsLst>
            <a:lin ang="16200000"/>
          </a:gradFill>
          <a:ln w="9360">
            <a:solidFill>
              <a:srgbClr val="ff3b3b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1- Heat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ذو زاوية واحدة مخدوشة ودائرية 4"/>
          <p:cNvSpPr/>
          <p:nvPr/>
        </p:nvSpPr>
        <p:spPr>
          <a:xfrm>
            <a:off x="1403280" y="3213000"/>
            <a:ext cx="3024360" cy="93672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Steam sterilization </a:t>
            </a:r>
            <a:r>
              <a:rPr b="0" lang="en-US" sz="20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(Autoclaving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ذو زاوية واحدة مخدوشة ودائرية 5"/>
          <p:cNvSpPr/>
          <p:nvPr/>
        </p:nvSpPr>
        <p:spPr>
          <a:xfrm>
            <a:off x="4788000" y="3213000"/>
            <a:ext cx="2952720" cy="93672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ry heat ster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(hot air ov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68360" y="1773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includes autocl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d to sterilize culture media, glassware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ually it operates at 15 lb/sq. inch steam pressure (121.5 C) for 30 m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مستطيل ذو زاوية واحدة مخدوشة ودائرية 4"/>
          <p:cNvSpPr/>
          <p:nvPr/>
        </p:nvSpPr>
        <p:spPr>
          <a:xfrm>
            <a:off x="250920" y="260280"/>
            <a:ext cx="4465440" cy="136836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Steam sterilization </a:t>
            </a:r>
            <a:r>
              <a:rPr b="1" lang="en-US" sz="2800" spc="-1" strike="noStrike">
                <a:solidFill>
                  <a:srgbClr val="af0e01"/>
                </a:solidFill>
                <a:latin typeface="Times New Roman"/>
                <a:ea typeface="Times New Roman"/>
              </a:rPr>
              <a:t>(Autoclaving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e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autoclave"/>
          <p:cNvPicPr/>
          <p:nvPr/>
        </p:nvPicPr>
        <p:blipFill>
          <a:blip r:embed="rId1"/>
          <a:stretch/>
        </p:blipFill>
        <p:spPr>
          <a:xfrm>
            <a:off x="1403280" y="4044960"/>
            <a:ext cx="59436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833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t includes ov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fter sterilization wrap them in aluminium foil to avoid recont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مستطيل ذو زاوية واحدة مخدوشة ودائرية 3"/>
          <p:cNvSpPr/>
          <p:nvPr/>
        </p:nvSpPr>
        <p:spPr>
          <a:xfrm>
            <a:off x="324000" y="260280"/>
            <a:ext cx="4319280" cy="1297080"/>
          </a:xfrm>
          <a:prstGeom prst="pie">
            <a:avLst/>
          </a:prstGeom>
          <a:solidFill>
            <a:srgbClr val="ffffff"/>
          </a:solidFill>
          <a:ln w="42480">
            <a:solidFill>
              <a:srgbClr val="ff6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Dry heat ster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hot air oven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C:\Users\Iffat\Pictures\incuu.jpg"/>
          <p:cNvPicPr/>
          <p:nvPr/>
        </p:nvPicPr>
        <p:blipFill>
          <a:blip r:embed="rId1"/>
          <a:stretch/>
        </p:blipFill>
        <p:spPr>
          <a:xfrm>
            <a:off x="2987640" y="3645000"/>
            <a:ext cx="2762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rect hea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eedles and loops are sterilized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912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intrinsically-safe-flame-sterilization-P346042"/>
          <p:cNvPicPr/>
          <p:nvPr/>
        </p:nvPicPr>
        <p:blipFill>
          <a:blip r:embed="rId1"/>
          <a:stretch/>
        </p:blipFill>
        <p:spPr>
          <a:xfrm>
            <a:off x="5003640" y="2708280"/>
            <a:ext cx="2857680" cy="26575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6" name="Picture 3" descr="ANd9GcQ-9FQMqCGgPUzSAqPKCI8PpLhqIFziNABEuIWVrzhRSXChfanG"/>
          <p:cNvPicPr/>
          <p:nvPr/>
        </p:nvPicPr>
        <p:blipFill>
          <a:blip r:embed="rId2"/>
          <a:stretch/>
        </p:blipFill>
        <p:spPr>
          <a:xfrm>
            <a:off x="2340000" y="2708280"/>
            <a:ext cx="1838160" cy="2695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1476360" y="5470920"/>
            <a:ext cx="32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sen burners , 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7:32:46Z</dcterms:created>
  <dc:creator>user</dc:creator>
  <dc:description/>
  <dc:language>en-US</dc:language>
  <cp:lastModifiedBy>Qosmio</cp:lastModifiedBy>
  <dcterms:modified xsi:type="dcterms:W3CDTF">2013-09-16T15:02:45Z</dcterms:modified>
  <cp:revision>19</cp:revision>
  <dc:subject/>
  <dc:title>الشريحة 1</dc:title>
</cp:coreProperties>
</file>