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0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298-6646-4FF8-9AB4-01E7152CE0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EAF1-F218-4BED-9070-30D4525B4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A23-E1E9-4E62-8127-9AE74B95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023-B2FA-4400-8BF6-4A27814F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F340-428C-4E06-9CD5-0BB1F55C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798-1ABC-4015-B253-1F54CFAB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6710-FFE3-4FDD-BCF9-72F60E77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C373-9F56-44AD-AC35-D567FD83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3328-34B8-4C3D-B480-2EDAC835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8A6E-C64D-4DD2-A0F5-61F62448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4E34-4703-44EA-996C-001329A8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F261-3F52-4CAD-BF22-69B00110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7E0D-C900-4735-A633-F022590C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D67-E984-417C-8E0D-532D0D4C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6F38-B4D4-4A50-A9A7-0D7052A5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DF14-210C-45F6-96DB-F536986A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AD82-0D39-4EDD-AFE6-2E405822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2B5D-DC07-4E7F-A3A8-2978FC63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672F-0C97-4E09-B7FC-BFA849C5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FEA-CDF6-4C26-B60E-08F018F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8AE-29A0-445D-BACF-FC28E3DA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F83-7BCB-44CE-A483-29800D1F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506-01FA-4F01-BCAE-17377928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B75-B8B7-4A03-A90B-4B5310B8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863-6875-4985-910C-AE880744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1F1-7712-4C47-8482-6CED341A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16A0-99CC-4C72-BE24-FC519F124F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2DA8-3256-4CFB-BAAD-9F8ABF0BDDE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cademic.pgcc.edu/~kroberts/web/slant/Saurs.gif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academic.pgcc.edu/~kroberts/web/slant/Bsubs.gif" TargetMode="Externa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3"/>
          <p:cNvSpPr/>
          <p:nvPr/>
        </p:nvSpPr>
        <p:spPr>
          <a:xfrm>
            <a:off x="1981080" y="198108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nstantia"/>
                <a:ea typeface="Arial"/>
              </a:rPr>
              <a:t>Lab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F039-4DE3-4568-A6A3-C0B9A20C82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Calibri"/>
                <a:ea typeface="Traditional Arabic"/>
              </a:rPr>
              <a:t>ASEPTIC TECHNIQUE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      </a:t>
            </a:r>
            <a:r>
              <a:rPr b="1" lang="en-US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Removing inoculum from a broth culture</a:t>
            </a:r>
            <a:r>
              <a:rPr b="1" lang="ar-SA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organisms growing in a liquid mediu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F6CC-3CC9-4949-884C-96D1EBC0D5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Hold the culture tube in one hand and in your other hand hold the sterilized inoculating loop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9" name="Picture 4" descr="looptube"/>
          <p:cNvPicPr/>
          <p:nvPr/>
        </p:nvPicPr>
        <p:blipFill>
          <a:blip r:embed="rId1"/>
          <a:stretch/>
        </p:blipFill>
        <p:spPr>
          <a:xfrm>
            <a:off x="1042920" y="198900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6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D98-1595-41E3-BA18-CE9723A2E5E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Remove the cap of the pure culture tube with the little finger of your loop hand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Picture 6" descr="cap2_final"/>
          <p:cNvPicPr/>
          <p:nvPr/>
        </p:nvPicPr>
        <p:blipFill>
          <a:blip r:embed="rId1"/>
          <a:stretch/>
        </p:blipFill>
        <p:spPr>
          <a:xfrm>
            <a:off x="611280" y="2276640"/>
            <a:ext cx="3562200" cy="4114800"/>
          </a:xfrm>
          <a:prstGeom prst="rect">
            <a:avLst/>
          </a:prstGeom>
          <a:ln w="0">
            <a:noFill/>
          </a:ln>
        </p:spPr>
      </p:pic>
      <p:sp>
        <p:nvSpPr>
          <p:cNvPr id="16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A639-25C1-4C20-9A67-5BBC0F0F662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Keeping the culture tube at an angle, insert the inoculating loop and remove a loopful of inoculum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1" name="Picture 5" descr="removeinoc1_final"/>
          <p:cNvPicPr/>
          <p:nvPr/>
        </p:nvPicPr>
        <p:blipFill>
          <a:blip r:embed="rId1"/>
          <a:stretch/>
        </p:blipFill>
        <p:spPr>
          <a:xfrm>
            <a:off x="900000" y="19890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1808640" y="6236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ve a loopfull of bacteria from your pure cultur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B62-4EA6-4533-B24A-46BEF3DE7A0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onstantia"/>
                <a:ea typeface="Majalla UI"/>
              </a:rPr>
              <a:t>Again flame the lip of the culture tube    </a:t>
            </a:r>
            <a:r>
              <a:rPr b="1" lang="ar-SA" sz="28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982880" y="2460600"/>
            <a:ext cx="38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and Replace the cap</a:t>
            </a:r>
            <a:r>
              <a:rPr b="1" lang="ar-SA" sz="28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EF7F-430C-4BEF-91E8-57D6E05B3D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flame the lip of the culture tube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Picture 7" descr="flametube2_final"/>
          <p:cNvPicPr/>
          <p:nvPr/>
        </p:nvPicPr>
        <p:blipFill>
          <a:blip r:embed="rId1"/>
          <a:stretch/>
        </p:blipFill>
        <p:spPr>
          <a:xfrm>
            <a:off x="755640" y="2276640"/>
            <a:ext cx="3857760" cy="4114800"/>
          </a:xfrm>
          <a:prstGeom prst="rect">
            <a:avLst/>
          </a:prstGeom>
          <a:ln w="0">
            <a:noFill/>
          </a:ln>
        </p:spPr>
      </p:pic>
      <p:sp>
        <p:nvSpPr>
          <p:cNvPr id="18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F2A5-2F2E-41EF-83B6-1D4F711229B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  <a:ea typeface="Majalla UI"/>
              </a:rPr>
              <a:t>Transferring the inoculum into a broth tu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681840" y="1412280"/>
            <a:ext cx="77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ck up the sterile broth tube and remove the cap with the little f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cap2_final"/>
          <p:cNvPicPr/>
          <p:nvPr/>
        </p:nvPicPr>
        <p:blipFill>
          <a:blip r:embed="rId1"/>
          <a:stretch/>
        </p:blipFill>
        <p:spPr>
          <a:xfrm>
            <a:off x="611280" y="2133720"/>
            <a:ext cx="3562200" cy="4114800"/>
          </a:xfrm>
          <a:prstGeom prst="rect">
            <a:avLst/>
          </a:prstGeom>
          <a:ln w="0">
            <a:noFill/>
          </a:ln>
        </p:spPr>
      </p:pic>
      <p:sp>
        <p:nvSpPr>
          <p:cNvPr id="19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DA11-9288-4ED8-BE45-5451BDE2B3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flame the lip of the broth tube      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839080" y="39045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flametube2_final"/>
          <p:cNvPicPr/>
          <p:nvPr/>
        </p:nvPicPr>
        <p:blipFill>
          <a:blip r:embed="rId1"/>
          <a:stretch/>
        </p:blipFill>
        <p:spPr>
          <a:xfrm>
            <a:off x="755640" y="1628640"/>
            <a:ext cx="385776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B1C8-CE81-45F2-BFD9-41FF4F267D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36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Place the loopful of inoculum into the broth and withdraw the loop             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5" descr="inoc1_final"/>
          <p:cNvPicPr/>
          <p:nvPr/>
        </p:nvPicPr>
        <p:blipFill>
          <a:blip r:embed="rId1"/>
          <a:stretch/>
        </p:blipFill>
        <p:spPr>
          <a:xfrm>
            <a:off x="755640" y="19162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7867-2631-46CD-9E4D-43CD4A32A8D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  <a:ea typeface="Majalla UI"/>
              </a:rPr>
              <a:t>Again flame the lip of the tube</a:t>
            </a:r>
            <a:r>
              <a:rPr b="1" lang="ar-SA" sz="2600" spc="-1" strike="noStrike">
                <a:solidFill>
                  <a:srgbClr val="c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533680" y="5831280"/>
            <a:ext cx="34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lace the cap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flametube2_final"/>
          <p:cNvPicPr/>
          <p:nvPr/>
        </p:nvPicPr>
        <p:blipFill>
          <a:blip r:embed="rId1"/>
          <a:stretch/>
        </p:blipFill>
        <p:spPr>
          <a:xfrm>
            <a:off x="1187280" y="1268280"/>
            <a:ext cx="3857760" cy="4114800"/>
          </a:xfrm>
          <a:prstGeom prst="rect">
            <a:avLst/>
          </a:prstGeom>
          <a:ln w="0">
            <a:noFill/>
          </a:ln>
        </p:spPr>
      </p:pic>
      <p:sp>
        <p:nvSpPr>
          <p:cNvPr id="21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09EA-1910-4487-9F0D-23FD91F913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√√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Purification of micro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rganism growing on the media plate is called as cul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Colon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number of cells of any organism living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DE08-F842-4D5B-9370-1E832EB1865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  <a:ea typeface="Majalla UI"/>
              </a:rPr>
              <a:t>Removing inoculum from a plate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Constantia"/>
                <a:ea typeface="Majalla UI"/>
              </a:rPr>
              <a:t>organisms growing on an agar surface in a petri plate                          </a:t>
            </a:r>
            <a:r>
              <a:rPr b="1" lang="ar-SA" sz="2600" spc="-1" strike="noStrike">
                <a:solidFill>
                  <a:srgbClr val="ff0066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1185840" y="3932640"/>
            <a:ext cx="62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Sterilize the inoculating loop in the flame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17160" y="5156280"/>
            <a:ext cx="770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Lift the lid of the culture plate and stab the loop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the agar away from any growth to cool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92D-F64F-4395-A82D-5A71ABEFF5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Scrape off a small amou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of the organisms and cl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r>
              <a:rPr b="1" lang="en-US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the lid                 </a:t>
            </a:r>
            <a:r>
              <a:rPr b="1" lang="ar-SA" sz="2600" spc="-1" strike="noStrike">
                <a:solidFill>
                  <a:srgbClr val="7030a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3C35-61DC-442E-8C61-45C3748781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Picture 4" descr="atplate"/>
          <p:cNvPicPr/>
          <p:nvPr/>
        </p:nvPicPr>
        <p:blipFill>
          <a:blip r:embed="rId1"/>
          <a:stretch/>
        </p:blipFill>
        <p:spPr>
          <a:xfrm>
            <a:off x="1692360" y="191628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22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5B4-2F2B-434B-9483-F71466F8BF2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067280" y="1197000"/>
            <a:ext cx="4572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.Label the sterile nutrient agar slant with the source of the culture and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Initi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. Sterilize the lo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3. Using appropriate aseptic technique, remove a loopful of broth from the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culture tube.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Insert the loop into the sterile agar slant tube and starting at the bas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the slant, draw the loop up the slant. Do not penetrate the agar. Steril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Arial"/>
              </a:rPr>
              <a:t>the loop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5. Incubate the slant at 37o C for 24-48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6. Observe the slant for grow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54920" y="1160640"/>
            <a:ext cx="32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noculating an Agar S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Fig. 4"/>
          <p:cNvPicPr/>
          <p:nvPr/>
        </p:nvPicPr>
        <p:blipFill>
          <a:blip r:embed="rId1"/>
          <a:stretch/>
        </p:blipFill>
        <p:spPr>
          <a:xfrm>
            <a:off x="755640" y="2637000"/>
            <a:ext cx="3306600" cy="1633320"/>
          </a:xfrm>
          <a:prstGeom prst="rect">
            <a:avLst/>
          </a:prstGeom>
          <a:ln w="0">
            <a:noFill/>
          </a:ln>
        </p:spPr>
      </p:pic>
      <p:sp>
        <p:nvSpPr>
          <p:cNvPr id="23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60C6-7F3D-4076-8C8A-2CC531438B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9" name="Picture 5" descr="Agar Slant Inoculation pt.2 by Medical Microbiology.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F85B-677D-4CD2-97D1-E5507C8BBD9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5" descr="Inoculated Agar Slant, before incubation by Medical Microbiology."/>
          <p:cNvPicPr/>
          <p:nvPr/>
        </p:nvPicPr>
        <p:blipFill>
          <a:blip r:embed="rId1"/>
          <a:stretch/>
        </p:blipFill>
        <p:spPr>
          <a:xfrm>
            <a:off x="2268360" y="162864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24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EF0E-EF60-4CE8-B2AD-0AD79B2C73F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Inoculated Agar Slant, after incubation</a:t>
            </a:r>
            <a:r>
              <a:rPr b="0" lang="ar-SA" sz="4000" spc="-1" strike="noStrike">
                <a:solidFill>
                  <a:srgbClr val="04617b"/>
                </a:solidFill>
                <a:latin typeface="Calibri"/>
                <a:ea typeface="Traditional Arabic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5" descr="Inoculated Agar Slant, after incubation by Medical Microbiology."/>
          <p:cNvPicPr/>
          <p:nvPr/>
        </p:nvPicPr>
        <p:blipFill>
          <a:blip r:embed="rId1"/>
          <a:stretch/>
        </p:blipFill>
        <p:spPr>
          <a:xfrm>
            <a:off x="2627280" y="1979640"/>
            <a:ext cx="3571920" cy="4762440"/>
          </a:xfrm>
          <a:prstGeom prst="rect">
            <a:avLst/>
          </a:prstGeom>
          <a:ln w="0">
            <a:noFill/>
          </a:ln>
        </p:spPr>
      </p:pic>
      <p:sp>
        <p:nvSpPr>
          <p:cNvPr id="25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9AC60-9390-4B22-9032-03C4C22976E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onstantia"/>
                <a:ea typeface="Arial"/>
              </a:rPr>
              <a:t>√√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microorganisms exist in nature as mixed populations(A mixed culture contains two or more bacterial species )However, to study microorganisms in the lab we must have them in the form of a pure culture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77C3-2AC1-4119-A85E-E977C72FAB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Majalla U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7030440" y="3956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268360" y="184464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√ 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eak plates allow for the growth of isolated colonies on the surface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r. An isolated colony is a colony that is not touching any other colonies and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d to be a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2FD-3E14-4D92-8C1C-3E4A17FCBC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1760" y="838080"/>
            <a:ext cx="82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COLONY MORPHOLOGY ON AGAR PLATE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3" descr="pigmentml"/>
          <p:cNvPicPr/>
          <p:nvPr/>
        </p:nvPicPr>
        <p:blipFill>
          <a:blip r:embed="rId1"/>
          <a:stretch/>
        </p:blipFill>
        <p:spPr>
          <a:xfrm>
            <a:off x="762120" y="1333440"/>
            <a:ext cx="3162240" cy="28576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Photo"/>
          <p:cNvPicPr/>
          <p:nvPr/>
        </p:nvPicPr>
        <p:blipFill>
          <a:blip r:embed="rId2"/>
          <a:stretch/>
        </p:blipFill>
        <p:spPr>
          <a:xfrm>
            <a:off x="4019400" y="1371600"/>
            <a:ext cx="2610000" cy="261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Photo"/>
          <p:cNvPicPr/>
          <p:nvPr/>
        </p:nvPicPr>
        <p:blipFill>
          <a:blip r:embed="rId3"/>
          <a:stretch/>
        </p:blipFill>
        <p:spPr>
          <a:xfrm>
            <a:off x="3267000" y="4248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6760440" y="32446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Bacillus subtil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6311160" y="58784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Round yeast colo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4F5D-5EBF-451C-8CBE-3DA5008DB7E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Photo"/>
          <p:cNvPicPr/>
          <p:nvPr/>
        </p:nvPicPr>
        <p:blipFill>
          <a:blip r:embed="rId1"/>
          <a:stretch/>
        </p:blipFill>
        <p:spPr>
          <a:xfrm>
            <a:off x="3267000" y="2824200"/>
            <a:ext cx="2610000" cy="2609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00000"/>
                </a:solidFill>
                <a:latin typeface="Calibri"/>
              </a:rPr>
              <a:t>Types of Culture</a:t>
            </a:r>
            <a:br>
              <a:rPr sz="4500"/>
            </a:br>
            <a:r>
              <a:rPr b="0" lang="en-US" sz="4900" spc="-1" strike="noStrike">
                <a:solidFill>
                  <a:srgbClr val="002060"/>
                </a:solidFill>
                <a:latin typeface="Calibri"/>
                <a:ea typeface="Arial"/>
              </a:rPr>
              <a:t>√√</a:t>
            </a: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Pure Culture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57200" y="18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Only one type of microorganism growing on the media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A4F-FC17-4CC8-BF22-D13462A07D1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7" descr="form"/>
          <p:cNvPicPr/>
          <p:nvPr/>
        </p:nvPicPr>
        <p:blipFill>
          <a:blip r:embed="rId1"/>
          <a:stretch/>
        </p:blipFill>
        <p:spPr>
          <a:xfrm>
            <a:off x="914400" y="1268280"/>
            <a:ext cx="7620120" cy="558972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3625920" y="54936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Form of Col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FAE5-D8F8-4E05-ACAB-0E250ED4B76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3106800" y="2296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Elevation of Colony</a:t>
            </a:r>
            <a:r>
              <a:rPr b="1" lang="ar-SA" sz="2400" spc="-1" strike="noStrike">
                <a:solidFill>
                  <a:srgbClr val="cc0099"/>
                </a:solidFill>
                <a:latin typeface="Constantia"/>
                <a:ea typeface="Majalla U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elevat"/>
          <p:cNvPicPr/>
          <p:nvPr/>
        </p:nvPicPr>
        <p:blipFill>
          <a:blip r:embed="rId1"/>
          <a:stretch/>
        </p:blipFill>
        <p:spPr>
          <a:xfrm>
            <a:off x="762120" y="907920"/>
            <a:ext cx="7238880" cy="5950080"/>
          </a:xfrm>
          <a:prstGeom prst="rect">
            <a:avLst/>
          </a:prstGeom>
          <a:ln w="0">
            <a:noFill/>
          </a:ln>
        </p:spPr>
      </p:pic>
      <p:sp>
        <p:nvSpPr>
          <p:cNvPr id="284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23C-0011-4A79-AA5C-CBF57A65847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756240" y="543600"/>
            <a:ext cx="33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Margin of Colony</a:t>
            </a: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margin"/>
          <p:cNvPicPr/>
          <p:nvPr/>
        </p:nvPicPr>
        <p:blipFill>
          <a:blip r:embed="rId1"/>
          <a:stretch/>
        </p:blipFill>
        <p:spPr>
          <a:xfrm>
            <a:off x="228600" y="1285920"/>
            <a:ext cx="8915400" cy="5572080"/>
          </a:xfrm>
          <a:prstGeom prst="rect">
            <a:avLst/>
          </a:prstGeom>
          <a:ln w="0">
            <a:noFill/>
          </a:ln>
        </p:spPr>
      </p:pic>
      <p:sp>
        <p:nvSpPr>
          <p:cNvPr id="29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18DA-A7C5-46B1-88AC-9D545CA91B8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492360" y="39924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Surface of Colony</a:t>
            </a: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surface"/>
          <p:cNvPicPr/>
          <p:nvPr/>
        </p:nvPicPr>
        <p:blipFill>
          <a:blip r:embed="rId1"/>
          <a:stretch/>
        </p:blipFill>
        <p:spPr>
          <a:xfrm>
            <a:off x="685800" y="981000"/>
            <a:ext cx="7924680" cy="5877000"/>
          </a:xfrm>
          <a:prstGeom prst="rect">
            <a:avLst/>
          </a:prstGeom>
          <a:ln w="0">
            <a:noFill/>
          </a:ln>
        </p:spPr>
      </p:pic>
      <p:sp>
        <p:nvSpPr>
          <p:cNvPr id="29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0BEE-CA6D-415C-AA82-C5466101E35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1589040" y="206064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  <a:ea typeface="Arial"/>
              </a:rPr>
              <a:t>MORPHOLOGY ON slant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bhiagar_l33_calbicans_10231_hugo"/>
          <p:cNvPicPr/>
          <p:nvPr/>
        </p:nvPicPr>
        <p:blipFill>
          <a:blip r:embed="rId1"/>
          <a:stretch/>
        </p:blipFill>
        <p:spPr>
          <a:xfrm>
            <a:off x="2987640" y="29718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30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21E-3938-43B8-B7A3-148FF5BD6F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  <a:ea typeface="Arial"/>
              </a:rPr>
              <a:t>√√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Picture 7" descr="slant_patterns"/>
          <p:cNvPicPr/>
          <p:nvPr/>
        </p:nvPicPr>
        <p:blipFill>
          <a:blip r:embed="rId1"/>
          <a:stretch/>
        </p:blipFill>
        <p:spPr>
          <a:xfrm>
            <a:off x="609480" y="1219320"/>
            <a:ext cx="7925040" cy="4800600"/>
          </a:xfrm>
          <a:prstGeom prst="rect">
            <a:avLst/>
          </a:prstGeom>
          <a:ln w="0">
            <a:noFill/>
          </a:ln>
        </p:spPr>
      </p:pic>
      <p:sp>
        <p:nvSpPr>
          <p:cNvPr id="30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901-1684-4232-B825-48D11182C7D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1" name="Picture 5" descr="Sau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349360"/>
            <a:ext cx="1593720" cy="2868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Bsub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4720" y="2349360"/>
            <a:ext cx="1593720" cy="286884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0A52-9269-4919-A1CD-9EA964F718B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Constantia"/>
                <a:ea typeface="Arial"/>
              </a:rPr>
              <a:t>√√</a:t>
            </a:r>
            <a:r>
              <a:rPr b="1" lang="en-US" sz="3600" spc="-1" strike="noStrike">
                <a:solidFill>
                  <a:srgbClr val="cc0099"/>
                </a:solidFill>
                <a:latin typeface="Constantia"/>
              </a:rPr>
              <a:t>In a liquid medium, the region in which the organism grows depends on the oxygen requirement of that particular species.</a:t>
            </a:r>
            <a:br>
              <a:rPr sz="3600"/>
            </a:br>
            <a:r>
              <a:rPr b="1" lang="en-US" sz="3600" spc="-1" strike="noStrike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CD6E-7E51-4C2C-9D21-C35622960A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3212640" y="468360"/>
            <a:ext cx="66229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Liquid medium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√√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* 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Turbid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* 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Pellicle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(thick growth at the top of the tube</a:t>
            </a:r>
            <a:br>
              <a:rPr sz="2800"/>
            </a:br>
            <a:r>
              <a:rPr b="1" lang="ar-SA" sz="2800" spc="-1" strike="noStrike">
                <a:solidFill>
                  <a:srgbClr val="cc0099"/>
                </a:solidFill>
                <a:latin typeface="Constantia"/>
                <a:ea typeface="Majalla UI"/>
              </a:rPr>
              <a:t>* </a:t>
            </a:r>
            <a:r>
              <a:rPr b="1" lang="en-US" sz="2800" spc="-1" strike="noStrike">
                <a:solidFill>
                  <a:srgbClr val="cc0099"/>
                </a:solidFill>
                <a:latin typeface="Constantia"/>
                <a:ea typeface="Arial"/>
              </a:rPr>
              <a:t>Sediment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All+Three"/>
          <p:cNvPicPr/>
          <p:nvPr/>
        </p:nvPicPr>
        <p:blipFill>
          <a:blip r:embed="rId1"/>
          <a:stretch/>
        </p:blipFill>
        <p:spPr>
          <a:xfrm>
            <a:off x="324000" y="189000"/>
            <a:ext cx="2971800" cy="23432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0" descr="Sediment"/>
          <p:cNvPicPr/>
          <p:nvPr/>
        </p:nvPicPr>
        <p:blipFill>
          <a:blip r:embed="rId2"/>
          <a:stretch/>
        </p:blipFill>
        <p:spPr>
          <a:xfrm>
            <a:off x="6084720" y="3573360"/>
            <a:ext cx="2505240" cy="2857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Turbidity"/>
          <p:cNvPicPr/>
          <p:nvPr/>
        </p:nvPicPr>
        <p:blipFill>
          <a:blip r:embed="rId3"/>
          <a:stretch/>
        </p:blipFill>
        <p:spPr>
          <a:xfrm>
            <a:off x="3348000" y="3573360"/>
            <a:ext cx="2333520" cy="2857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4" descr="Pellicle"/>
          <p:cNvPicPr/>
          <p:nvPr/>
        </p:nvPicPr>
        <p:blipFill>
          <a:blip r:embed="rId4"/>
          <a:stretch/>
        </p:blipFill>
        <p:spPr>
          <a:xfrm>
            <a:off x="539640" y="3573360"/>
            <a:ext cx="2419560" cy="2857680"/>
          </a:xfrm>
          <a:prstGeom prst="rect">
            <a:avLst/>
          </a:prstGeom>
          <a:ln w="0">
            <a:noFill/>
          </a:ln>
        </p:spPr>
      </p:pic>
      <p:sp>
        <p:nvSpPr>
          <p:cNvPr id="32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AF48-C1E4-4C16-AF33-5D076B3A4D2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Content Placeholder 3" descr="Photo"/>
          <p:cNvPicPr/>
          <p:nvPr/>
        </p:nvPicPr>
        <p:blipFill>
          <a:blip r:embed="rId1"/>
          <a:stretch/>
        </p:blipFill>
        <p:spPr>
          <a:xfrm>
            <a:off x="2832120" y="2389320"/>
            <a:ext cx="3479760" cy="3479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5"/>
          <p:cNvSpPr/>
          <p:nvPr/>
        </p:nvSpPr>
        <p:spPr>
          <a:xfrm>
            <a:off x="380880" y="609480"/>
            <a:ext cx="8534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√√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  <a:ea typeface="Arial"/>
              </a:rPr>
              <a:t>Contaminated culture </a:t>
            </a:r>
            <a:br>
              <a:rPr sz="1800"/>
            </a:br>
            <a:r>
              <a:rPr b="1" lang="en-US" sz="2400" spc="-1" strike="noStrike">
                <a:solidFill>
                  <a:srgbClr val="cc0099"/>
                </a:solidFill>
                <a:latin typeface="Constantia"/>
                <a:ea typeface="Arial"/>
              </a:rPr>
              <a:t>More than one type of organism growing on the media plat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04A1-795A-40FD-BB65-7D61EE7D62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Purification of microorganism Fungi 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Use a cork borer or pasture pip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0099"/>
                </a:solidFill>
                <a:latin typeface="Constantia"/>
              </a:rPr>
              <a:t>Flame cork borer using alcohol and allow to co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c0099"/>
                </a:solidFill>
                <a:latin typeface="Constantia"/>
              </a:rPr>
              <a:t>Cut few discs </a:t>
            </a: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from the edge of an actively growing fungal colon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Inoculate it (surface facing down) on the center another media plate with the help of flamed forc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Incubate it for 2-3 day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99"/>
                </a:solidFill>
                <a:latin typeface="Constantia"/>
              </a:rPr>
              <a:t>Pure culture of the organism will grow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27CD-F50D-45FC-B4DC-3BE1697361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Content Placeholder 3" descr="Photo"/>
          <p:cNvPicPr/>
          <p:nvPr/>
        </p:nvPicPr>
        <p:blipFill>
          <a:blip r:embed="rId1"/>
          <a:stretch/>
        </p:blipFill>
        <p:spPr>
          <a:xfrm>
            <a:off x="1600200" y="2286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5486400" y="2286000"/>
            <a:ext cx="2695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edle picking up some material from the col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5"/>
          <p:cNvCxnSpPr/>
          <p:nvPr/>
        </p:nvCxnSpPr>
        <p:spPr>
          <a:xfrm flipV="1">
            <a:off x="3505320" y="2409480"/>
            <a:ext cx="196272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Text Box 6"/>
          <p:cNvSpPr/>
          <p:nvPr/>
        </p:nvSpPr>
        <p:spPr>
          <a:xfrm>
            <a:off x="4876920" y="3733920"/>
            <a:ext cx="2133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tively growing fungal col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AutoShape 7"/>
          <p:cNvCxnSpPr/>
          <p:nvPr/>
        </p:nvCxnSpPr>
        <p:spPr>
          <a:xfrm>
            <a:off x="3657600" y="3962520"/>
            <a:ext cx="11152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EC40-5066-4726-B11D-332B6C3FBC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485640" y="2133720"/>
            <a:ext cx="2190960" cy="23810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3"/>
          <p:cNvCxnSpPr/>
          <p:nvPr/>
        </p:nvCxnSpPr>
        <p:spPr>
          <a:xfrm flipV="1">
            <a:off x="1504440" y="1752120"/>
            <a:ext cx="1762920" cy="1362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Text Box 4"/>
          <p:cNvSpPr/>
          <p:nvPr/>
        </p:nvSpPr>
        <p:spPr>
          <a:xfrm>
            <a:off x="3343320" y="1523880"/>
            <a:ext cx="1228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edle inocu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5"/>
          <p:cNvCxnSpPr/>
          <p:nvPr/>
        </p:nvCxnSpPr>
        <p:spPr>
          <a:xfrm>
            <a:off x="2895480" y="3123720"/>
            <a:ext cx="1524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AutoShape 6"/>
          <p:cNvSpPr/>
          <p:nvPr/>
        </p:nvSpPr>
        <p:spPr>
          <a:xfrm>
            <a:off x="5124600" y="1828800"/>
            <a:ext cx="2190600" cy="23814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6276960" y="3048120"/>
            <a:ext cx="123840" cy="12384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38080" y="4800600"/>
            <a:ext cx="1866960" cy="59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w media plate being inoc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105520" y="4867200"/>
            <a:ext cx="2133360" cy="69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ngle colony of organ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12AA-A812-433A-B1DC-E3AD2B32EA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acte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reak plate Meth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s the loop streaks across the agar surfa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More and more bacteria are rubbed of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Until individual separated organism are deposited on the agar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fter incubation, the area at the beginning of the streak pattern will show mix growth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At the end  of the pattern , a single colony will be obser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BEC7-62D6-4F39-8A54-BF6C9D48E5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3" descr="http://student.ccbcmd.edu/courses/bio141/labmanua/lab3/images/atplate.JPG"/>
          <p:cNvPicPr/>
          <p:nvPr/>
        </p:nvPicPr>
        <p:blipFill>
          <a:blip r:embed="rId1"/>
          <a:stretch/>
        </p:blipFill>
        <p:spPr>
          <a:xfrm>
            <a:off x="1714680" y="220500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149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43D9-CA25-471E-96AE-A7D3E0C3E2E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07:14:31Z</dcterms:created>
  <dc:creator>iram</dc:creator>
  <dc:description/>
  <dc:language>en-US</dc:language>
  <cp:lastModifiedBy>m e l o</cp:lastModifiedBy>
  <dcterms:modified xsi:type="dcterms:W3CDTF">2015-10-14T21:21:29Z</dcterms:modified>
  <cp:revision>16</cp:revision>
  <dc:subject/>
  <dc:title>Slide 1</dc:title>
</cp:coreProperties>
</file>