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25B-7971-4FB3-BEA3-BBF4B34C7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0FB-9C95-4E99-9F02-3D81816FE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E70-95D1-4863-B644-430C9200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BF4-037A-455A-97F0-35CC983D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FAF-4CA8-42C7-936D-57C5B0F0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3E9-1C61-49D4-AF38-16766BFB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C72-FDCA-4577-8A80-8A7E949A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A05-5D6E-437C-86DE-23F39A6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744-551D-4D87-A084-FECDB9CE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932C-32BA-4D6A-BE94-430EC51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90F0-A639-40B7-85A1-92025BF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DAF-04F5-4914-9DA9-49E33247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AD4B-2399-49CB-A8E0-F2FEB01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B62-41EA-4233-9DBE-CD00E1E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26BF-46BF-463F-8493-AD91FAF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E76E-D3C9-4C22-A99B-A8D7E5F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F035-FB53-47C9-A8F7-1867ED5A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2AE5-7749-404F-805D-900E2FE0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CFD7-C478-4172-B30F-3C3F3790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C61-C5C9-48BE-B3B8-9C360A30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6BB-D27E-465F-AC52-4AEB23A9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C62-0691-467F-9D40-A68771C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AEE-43F9-49F1-8B60-192AD12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4A9-C1E7-4C2B-A332-E8DE821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768-C8A9-46D9-AAF0-304726F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2DD-D94F-46A7-8664-390BC22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8E7-BB55-4734-BA02-D67FB5677F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B7F2-8D95-46A5-BB78-39A0AECE3C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cademic.pgcc.edu/~kroberts/web/slant/Saurs.gif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academic.pgcc.edu/~kroberts/web/slant/Bsubs.gif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1981080" y="198108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  <a:ea typeface="Arial"/>
              </a:rPr>
              <a:t>Lab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6E8-D4C7-4141-9280-FA658F7858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SEPTIC TECHNIQUE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Removing inoculum from a broth cultur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ganisms growing in a liquid med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6E7-8EA6-4818-A9CC-E19C315E4F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old the culture tube in one hand and in your other hand hold the sterilized inoculating loop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Picture 4" descr="looptube"/>
          <p:cNvPicPr/>
          <p:nvPr/>
        </p:nvPicPr>
        <p:blipFill>
          <a:blip r:embed="rId1"/>
          <a:stretch/>
        </p:blipFill>
        <p:spPr>
          <a:xfrm>
            <a:off x="1042920" y="1989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50F-9E6D-4A70-8379-3DC065A2EF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move the cap of the pure culture tube with the little finger of your loop hand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6" descr="cap2_final"/>
          <p:cNvPicPr/>
          <p:nvPr/>
        </p:nvPicPr>
        <p:blipFill>
          <a:blip r:embed="rId1"/>
          <a:stretch/>
        </p:blipFill>
        <p:spPr>
          <a:xfrm>
            <a:off x="611280" y="2276640"/>
            <a:ext cx="35622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51E5-45F7-4A22-8AC6-2BBB37F03A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Keeping the culture tube at an angle, insert the inoculating loop and remove a loopful of inoculum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5" descr="removeinoc1_final"/>
          <p:cNvPicPr/>
          <p:nvPr/>
        </p:nvPicPr>
        <p:blipFill>
          <a:blip r:embed="rId1"/>
          <a:stretch/>
        </p:blipFill>
        <p:spPr>
          <a:xfrm>
            <a:off x="900000" y="19890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1808640" y="6236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 a loopfull of bacteria from your pure cultu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585-20CC-4202-BE37-3AAD19D5BC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  <a:ea typeface="Majalla UI"/>
              </a:rPr>
              <a:t>Again flame the lip of the culture tube    </a:t>
            </a:r>
            <a:r>
              <a:rPr b="1" lang="ar-SA" sz="28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982880" y="2460600"/>
            <a:ext cx="38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and Replace the cap</a:t>
            </a:r>
            <a:r>
              <a:rPr b="1" lang="ar-SA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73C-E69F-46E1-B1B6-A47B885BB7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lame the lip of the culture tube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Picture 7" descr="flametube2_final"/>
          <p:cNvPicPr/>
          <p:nvPr/>
        </p:nvPicPr>
        <p:blipFill>
          <a:blip r:embed="rId1"/>
          <a:stretch/>
        </p:blipFill>
        <p:spPr>
          <a:xfrm>
            <a:off x="755640" y="227664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9535-1901-4AA9-8FC2-0C5AF54FEB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Transferring the inoculum into a broth tu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1840" y="1412280"/>
            <a:ext cx="77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ck up the sterile broth tube and remove the cap with the little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ap2_final"/>
          <p:cNvPicPr/>
          <p:nvPr/>
        </p:nvPicPr>
        <p:blipFill>
          <a:blip r:embed="rId1"/>
          <a:stretch/>
        </p:blipFill>
        <p:spPr>
          <a:xfrm>
            <a:off x="611280" y="2133720"/>
            <a:ext cx="356220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095-1622-4BF2-8DC6-CA0D00B3E7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flame the lip of the broth tube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839080" y="3904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flametube2_final"/>
          <p:cNvPicPr/>
          <p:nvPr/>
        </p:nvPicPr>
        <p:blipFill>
          <a:blip r:embed="rId1"/>
          <a:stretch/>
        </p:blipFill>
        <p:spPr>
          <a:xfrm>
            <a:off x="755640" y="162864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D93-88D6-4BC0-A797-681B5D6EA0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Place the loopful of inoculum into the broth and withdraw the loop       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5" descr="inoc1_final"/>
          <p:cNvPicPr/>
          <p:nvPr/>
        </p:nvPicPr>
        <p:blipFill>
          <a:blip r:embed="rId1"/>
          <a:stretch/>
        </p:blipFill>
        <p:spPr>
          <a:xfrm>
            <a:off x="755640" y="1916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BA0A-4F79-4131-A221-A4BD8B6358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  <a:ea typeface="Majalla UI"/>
              </a:rPr>
              <a:t>Again flame the lip of the tube</a:t>
            </a:r>
            <a:r>
              <a:rPr b="1" lang="ar-SA" sz="26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533680" y="58312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lace the cap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flametube2_final"/>
          <p:cNvPicPr/>
          <p:nvPr/>
        </p:nvPicPr>
        <p:blipFill>
          <a:blip r:embed="rId1"/>
          <a:stretch/>
        </p:blipFill>
        <p:spPr>
          <a:xfrm>
            <a:off x="1187280" y="126828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908-BAB7-4745-AA90-06B20EC4D9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√√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rification of micro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rganism growing on the media plate is called as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olo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umber of cells of any organism living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6229-6765-4E5F-B2F6-0D44DE48F1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Removing inoculum from a plate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organisms growing on an agar surface in a petri plate                          </a:t>
            </a:r>
            <a:r>
              <a:rPr b="1" lang="ar-SA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85840" y="393264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Sterilize the inoculating loop in the flame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17160" y="5156280"/>
            <a:ext cx="770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Lift the lid of the culture plate and stab the loop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he agar away from any growth to cool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1A02-F6D5-4E7E-BBE0-2CF932CE4F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Scrape off a small am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of the organisms and cl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the lid           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B63-A9BC-4D1A-804B-ECF56AC598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4" descr="atplate"/>
          <p:cNvPicPr/>
          <p:nvPr/>
        </p:nvPicPr>
        <p:blipFill>
          <a:blip r:embed="rId1"/>
          <a:stretch/>
        </p:blipFill>
        <p:spPr>
          <a:xfrm>
            <a:off x="1692360" y="191628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2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061-90D6-40CB-8AA4-AC14B70481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067280" y="11970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.Label the sterile nutrient agar slant with the source of the culture and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nit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. Sterilize the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3. Using appropriate aseptic technique, remove a loopful of broth from the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culture tube.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Insert the loop into the sterile agar slant tube and starting at the bas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the slant, draw the loop up the slant. Do not penetrate the agar. Steri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the loop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5. Incubate the slant at 37o C for 24-48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6. Observe the slant for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54920" y="116064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oculating an Agar S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Fig. 4"/>
          <p:cNvPicPr/>
          <p:nvPr/>
        </p:nvPicPr>
        <p:blipFill>
          <a:blip r:embed="rId1"/>
          <a:stretch/>
        </p:blipFill>
        <p:spPr>
          <a:xfrm>
            <a:off x="755640" y="2637000"/>
            <a:ext cx="3306600" cy="1633320"/>
          </a:xfrm>
          <a:prstGeom prst="rect">
            <a:avLst/>
          </a:prstGeom>
          <a:ln w="0">
            <a:noFill/>
          </a:ln>
        </p:spPr>
      </p:pic>
      <p:sp>
        <p:nvSpPr>
          <p:cNvPr id="23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14F-939C-41FA-BEB4-DCC06BB72D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5" descr="Agar Slant Inoculation pt.2 by Medical Microbiology.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8C2-9EC6-45AA-B8B1-447FF07325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5" descr="Inoculated Agar Slant, before incubation by Medical Microbiology."/>
          <p:cNvPicPr/>
          <p:nvPr/>
        </p:nvPicPr>
        <p:blipFill>
          <a:blip r:embed="rId1"/>
          <a:stretch/>
        </p:blipFill>
        <p:spPr>
          <a:xfrm>
            <a:off x="2268360" y="16286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4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D8D0-92B7-49DD-9532-40A9A65F50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Inoculated Agar Slant, after incubation</a:t>
            </a:r>
            <a:r>
              <a:rPr b="0" lang="ar-SA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5" descr="Inoculated Agar Slant, after incubation by Medical Microbiology."/>
          <p:cNvPicPr/>
          <p:nvPr/>
        </p:nvPicPr>
        <p:blipFill>
          <a:blip r:embed="rId1"/>
          <a:stretch/>
        </p:blipFill>
        <p:spPr>
          <a:xfrm>
            <a:off x="2627280" y="197964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5213-FF92-4EC1-81DA-C97AB2E133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  <a:ea typeface="Arial"/>
              </a:rPr>
              <a:t>√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icroorganisms exist in nature as mixed populations(A mixed culture contains two or more bacterial species )However, to study microorganisms in the lab we must have them in the form of a pure culture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AD3-F7A3-4A94-93D3-3B1AE0DA9C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030440" y="3956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268360" y="18446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√ 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eak plates allow for the growth of isolated colonies on the surfac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r. An isolated colony is a colony that is not touching any other colonies an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d to be a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74F-CD39-476E-934B-46F33222AD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1760" y="838080"/>
            <a:ext cx="82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pigmentml"/>
          <p:cNvPicPr/>
          <p:nvPr/>
        </p:nvPicPr>
        <p:blipFill>
          <a:blip r:embed="rId1"/>
          <a:stretch/>
        </p:blipFill>
        <p:spPr>
          <a:xfrm>
            <a:off x="762120" y="1333440"/>
            <a:ext cx="316224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hoto"/>
          <p:cNvPicPr/>
          <p:nvPr/>
        </p:nvPicPr>
        <p:blipFill>
          <a:blip r:embed="rId2"/>
          <a:stretch/>
        </p:blipFill>
        <p:spPr>
          <a:xfrm>
            <a:off x="4019400" y="1371600"/>
            <a:ext cx="2610000" cy="261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Photo"/>
          <p:cNvPicPr/>
          <p:nvPr/>
        </p:nvPicPr>
        <p:blipFill>
          <a:blip r:embed="rId3"/>
          <a:stretch/>
        </p:blipFill>
        <p:spPr>
          <a:xfrm>
            <a:off x="3267000" y="4248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6760440" y="32446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Bacillus subti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311160" y="58784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Round yeast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3F5-AE86-4459-9489-1ABEAF073B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Photo"/>
          <p:cNvPicPr/>
          <p:nvPr/>
        </p:nvPicPr>
        <p:blipFill>
          <a:blip r:embed="rId1"/>
          <a:stretch/>
        </p:blipFill>
        <p:spPr>
          <a:xfrm>
            <a:off x="3267000" y="2824200"/>
            <a:ext cx="2610000" cy="260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00000"/>
                </a:solidFill>
                <a:latin typeface="Calibri"/>
              </a:rPr>
              <a:t>Types of Culture</a:t>
            </a:r>
            <a:br>
              <a:rPr sz="4500"/>
            </a:br>
            <a:r>
              <a:rPr b="0" lang="en-US" sz="4900" spc="-1" strike="noStrike">
                <a:solidFill>
                  <a:srgbClr val="002060"/>
                </a:solidFill>
                <a:latin typeface="Calibri"/>
                <a:ea typeface="Arial"/>
              </a:rPr>
              <a:t>√√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ure Culture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5720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Only one type of microorganism growing on the media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206-A921-4999-81BD-696161F3FC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form"/>
          <p:cNvPicPr/>
          <p:nvPr/>
        </p:nvPicPr>
        <p:blipFill>
          <a:blip r:embed="rId1"/>
          <a:stretch/>
        </p:blipFill>
        <p:spPr>
          <a:xfrm>
            <a:off x="914400" y="1268280"/>
            <a:ext cx="7620120" cy="5589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625920" y="54936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Form of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B753-6EA4-49F9-9F2E-121447EF7E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106800" y="22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Elevation of Colony</a:t>
            </a:r>
            <a:r>
              <a:rPr b="1" lang="ar-SA" sz="24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elevat"/>
          <p:cNvPicPr/>
          <p:nvPr/>
        </p:nvPicPr>
        <p:blipFill>
          <a:blip r:embed="rId1"/>
          <a:stretch/>
        </p:blipFill>
        <p:spPr>
          <a:xfrm>
            <a:off x="762120" y="907920"/>
            <a:ext cx="7238880" cy="5950080"/>
          </a:xfrm>
          <a:prstGeom prst="rect">
            <a:avLst/>
          </a:prstGeom>
          <a:ln w="0">
            <a:noFill/>
          </a:ln>
        </p:spPr>
      </p:pic>
      <p:sp>
        <p:nvSpPr>
          <p:cNvPr id="28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1BD-E9FB-4630-92F5-837BA1EC5B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756240" y="543600"/>
            <a:ext cx="33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Margin of Colony</a:t>
            </a: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margin"/>
          <p:cNvPicPr/>
          <p:nvPr/>
        </p:nvPicPr>
        <p:blipFill>
          <a:blip r:embed="rId1"/>
          <a:stretch/>
        </p:blipFill>
        <p:spPr>
          <a:xfrm>
            <a:off x="228600" y="1285920"/>
            <a:ext cx="8915400" cy="5572080"/>
          </a:xfrm>
          <a:prstGeom prst="rect">
            <a:avLst/>
          </a:prstGeom>
          <a:ln w="0">
            <a:noFill/>
          </a:ln>
        </p:spPr>
      </p:pic>
      <p:sp>
        <p:nvSpPr>
          <p:cNvPr id="29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071-D442-4896-8BD8-D3FEE27722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492360" y="39924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Surface of Colony</a:t>
            </a: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surface"/>
          <p:cNvPicPr/>
          <p:nvPr/>
        </p:nvPicPr>
        <p:blipFill>
          <a:blip r:embed="rId1"/>
          <a:stretch/>
        </p:blipFill>
        <p:spPr>
          <a:xfrm>
            <a:off x="685800" y="981000"/>
            <a:ext cx="7924680" cy="5877000"/>
          </a:xfrm>
          <a:prstGeom prst="rect">
            <a:avLst/>
          </a:prstGeom>
          <a:ln w="0">
            <a:noFill/>
          </a:ln>
        </p:spPr>
      </p:pic>
      <p:sp>
        <p:nvSpPr>
          <p:cNvPr id="29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3D7-069A-40F1-9971-A2F700EB84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589040" y="206064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  <a:ea typeface="Arial"/>
              </a:rPr>
              <a:t>MORPHOLOGY ON sla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bhiagar_l33_calbicans_10231_hugo"/>
          <p:cNvPicPr/>
          <p:nvPr/>
        </p:nvPicPr>
        <p:blipFill>
          <a:blip r:embed="rId1"/>
          <a:stretch/>
        </p:blipFill>
        <p:spPr>
          <a:xfrm>
            <a:off x="2987640" y="29718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30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9FC-0492-4582-9B6E-A9F3374ECF5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√√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7" descr="slant_patterns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30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B26-8E65-4D2B-99AC-4DF7C8EFD7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1" name="Picture 5" descr="Sau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1593720" cy="2868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Bsub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349360"/>
            <a:ext cx="1593720" cy="286884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667-E1EA-4BB8-B5B7-AFD3B977B8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  <a:ea typeface="Arial"/>
              </a:rPr>
              <a:t>√√</a:t>
            </a:r>
            <a:r>
              <a:rPr b="1" lang="en-US" sz="3600" spc="-1" strike="noStrike">
                <a:solidFill>
                  <a:srgbClr val="cc0099"/>
                </a:solidFill>
                <a:latin typeface="Constantia"/>
              </a:rPr>
              <a:t>In a liquid medium, the region in which the organism grows depends on the oxygen requirement of that particular species.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4E1B-8A3A-4A61-A24F-EEAFEC9196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212640" y="468360"/>
            <a:ext cx="66229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Liquid medium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√√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Turbid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Pellicle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(thick growth at the top of the tube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Sediment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All+Three"/>
          <p:cNvPicPr/>
          <p:nvPr/>
        </p:nvPicPr>
        <p:blipFill>
          <a:blip r:embed="rId1"/>
          <a:stretch/>
        </p:blipFill>
        <p:spPr>
          <a:xfrm>
            <a:off x="324000" y="189000"/>
            <a:ext cx="2971800" cy="2343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Sediment"/>
          <p:cNvPicPr/>
          <p:nvPr/>
        </p:nvPicPr>
        <p:blipFill>
          <a:blip r:embed="rId2"/>
          <a:stretch/>
        </p:blipFill>
        <p:spPr>
          <a:xfrm>
            <a:off x="6084720" y="3573360"/>
            <a:ext cx="2505240" cy="2857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Turbidity"/>
          <p:cNvPicPr/>
          <p:nvPr/>
        </p:nvPicPr>
        <p:blipFill>
          <a:blip r:embed="rId3"/>
          <a:stretch/>
        </p:blipFill>
        <p:spPr>
          <a:xfrm>
            <a:off x="3348000" y="3573360"/>
            <a:ext cx="233352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Pellicle"/>
          <p:cNvPicPr/>
          <p:nvPr/>
        </p:nvPicPr>
        <p:blipFill>
          <a:blip r:embed="rId4"/>
          <a:stretch/>
        </p:blipFill>
        <p:spPr>
          <a:xfrm>
            <a:off x="539640" y="3573360"/>
            <a:ext cx="2419560" cy="2857680"/>
          </a:xfrm>
          <a:prstGeom prst="rect">
            <a:avLst/>
          </a:prstGeom>
          <a:ln w="0">
            <a:noFill/>
          </a:ln>
        </p:spPr>
      </p:pic>
      <p:sp>
        <p:nvSpPr>
          <p:cNvPr id="32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CAA-DEE3-4380-83A1-80CA1A6561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3" descr="Photo"/>
          <p:cNvPicPr/>
          <p:nvPr/>
        </p:nvPicPr>
        <p:blipFill>
          <a:blip r:embed="rId1"/>
          <a:stretch/>
        </p:blipFill>
        <p:spPr>
          <a:xfrm>
            <a:off x="2832120" y="238932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80880" y="60948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√√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  <a:ea typeface="Arial"/>
              </a:rPr>
              <a:t>Contaminated culture </a:t>
            </a:r>
            <a:br>
              <a:rPr sz="1800"/>
            </a:b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More than one type of organism growing on the media pla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51ED-9F6E-43F4-9542-17DE7EE5A8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rification of microorganism Fungi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Use a cork borer or pasture pip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0099"/>
                </a:solidFill>
                <a:latin typeface="Constantia"/>
              </a:rPr>
              <a:t>Flame cork borer using alcohol and allow to c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0099"/>
                </a:solidFill>
                <a:latin typeface="Constantia"/>
              </a:rPr>
              <a:t>Cut few discs </a:t>
            </a: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from the edge of an actively growing fungal colo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Inoculate it (surface facing down) on the center another media plate with the help of flamed forc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Incubate it for 2-3 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Pure culture of the organism will gro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FEB0-6335-4F02-B5F0-7BB882FF12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Photo"/>
          <p:cNvPicPr/>
          <p:nvPr/>
        </p:nvPicPr>
        <p:blipFill>
          <a:blip r:embed="rId1"/>
          <a:stretch/>
        </p:blipFill>
        <p:spPr>
          <a:xfrm>
            <a:off x="1600200" y="2286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5486400" y="2286000"/>
            <a:ext cx="2695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edle picking up some material from the col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5"/>
          <p:cNvCxnSpPr/>
          <p:nvPr/>
        </p:nvCxnSpPr>
        <p:spPr>
          <a:xfrm flipV="1">
            <a:off x="3505320" y="2409480"/>
            <a:ext cx="19627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Text Box 6"/>
          <p:cNvSpPr/>
          <p:nvPr/>
        </p:nvSpPr>
        <p:spPr>
          <a:xfrm>
            <a:off x="4876920" y="3733920"/>
            <a:ext cx="2133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tively growing fungal col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7"/>
          <p:cNvCxnSpPr/>
          <p:nvPr/>
        </p:nvCxnSpPr>
        <p:spPr>
          <a:xfrm>
            <a:off x="3657600" y="3962520"/>
            <a:ext cx="11152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E835-FF00-4205-A9AA-5F76151445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485640" y="2133720"/>
            <a:ext cx="2190960" cy="23810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3"/>
          <p:cNvCxnSpPr/>
          <p:nvPr/>
        </p:nvCxnSpPr>
        <p:spPr>
          <a:xfrm flipV="1">
            <a:off x="1504440" y="1752120"/>
            <a:ext cx="176292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4"/>
          <p:cNvSpPr/>
          <p:nvPr/>
        </p:nvSpPr>
        <p:spPr>
          <a:xfrm>
            <a:off x="3343320" y="1523880"/>
            <a:ext cx="1228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edle inocu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5"/>
          <p:cNvCxnSpPr/>
          <p:nvPr/>
        </p:nvCxnSpPr>
        <p:spPr>
          <a:xfrm>
            <a:off x="2895480" y="312372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AutoShape 6"/>
          <p:cNvSpPr/>
          <p:nvPr/>
        </p:nvSpPr>
        <p:spPr>
          <a:xfrm>
            <a:off x="5124600" y="1828800"/>
            <a:ext cx="2190600" cy="23814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6276960" y="3048120"/>
            <a:ext cx="123840" cy="1238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38080" y="4800600"/>
            <a:ext cx="1866960" cy="5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w media plate being ino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105520" y="4867200"/>
            <a:ext cx="2133360" cy="6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ngle colony of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EA5A-98E1-4CD1-B5D6-8C65E258FF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ac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eak plate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s the loop streaks across the agar surfa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re and more bacteria are rubbed o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ntil individual separated organism are deposited on the ag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fter incubation, the area at the beginning of the streak pattern will show mix growth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t the end  of the pattern , a single colony will b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D43A-D598-4F8C-A754-9550A34340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3" descr="http://student.ccbcmd.edu/courses/bio141/labmanua/lab3/images/atplate.JPG"/>
          <p:cNvPicPr/>
          <p:nvPr/>
        </p:nvPicPr>
        <p:blipFill>
          <a:blip r:embed="rId1"/>
          <a:stretch/>
        </p:blipFill>
        <p:spPr>
          <a:xfrm>
            <a:off x="1714680" y="220500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14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2364-165E-461C-A367-B4B3AC97D9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7:14:31Z</dcterms:created>
  <dc:creator>iram</dc:creator>
  <dc:description/>
  <dc:language>en-US</dc:language>
  <cp:lastModifiedBy>m e l o</cp:lastModifiedBy>
  <dcterms:modified xsi:type="dcterms:W3CDTF">2015-10-14T21:21:29Z</dcterms:modified>
  <cp:revision>16</cp:revision>
  <dc:subject/>
  <dc:title>Slide 1</dc:title>
</cp:coreProperties>
</file>