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2D6-CFA7-4163-8E10-71318643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EA5-0034-4ABB-97E0-C487EA0E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532-C002-45B6-AE9A-1B14722E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394-2B9C-4F90-B993-6659B44E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4B9-CBBD-466B-84C4-6693845F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E88B-7C7C-4498-AB11-D9257528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F36-2933-4157-BEF2-38617155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4AB-6A03-4C6B-8C84-CE7B01B1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C0A-D3CC-4117-A500-C67F75A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043-58C7-4BA3-B5FA-A58A45B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EE4-D0F4-4DA4-818B-71C5AD8B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868-5EA3-4150-A499-6E89F28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F66D-C2C2-4A14-9F2B-6AA36CCC72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#eukaryotic" TargetMode="External"/><Relationship Id="rId2" Type="http://schemas.openxmlformats.org/officeDocument/2006/relationships/hyperlink" Target="http://www.lanesville.k12.in.us/lcsyellowpages/Tickit/Carl/defpage.html#unicellular" TargetMode="External"/><Relationship Id="rId3" Type="http://schemas.openxmlformats.org/officeDocument/2006/relationships/hyperlink" Target="http://www.lanesville.k12.in.us/lcsyellowpages/Tickit/Carl/defpage.html#multicellular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I.  Kingdom Protis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مملكة الطلائعيات (البروتيست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77864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r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ukaryotic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have cells with </a:t>
            </a:r>
            <a:r>
              <a:rPr b="1" lang="en-US" sz="2400" spc="-1" strike="noStrike" u="sng">
                <a:solidFill>
                  <a:srgbClr val="3b1cf6"/>
                </a:solidFill>
                <a:uFillTx/>
                <a:latin typeface="Calibri"/>
              </a:rPr>
              <a:t>nuclei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live in moist environme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n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cellular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microscopic or over 100 meters long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heter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others are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autotrophs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684360" y="1341360"/>
            <a:ext cx="7786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حقيقية النوا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الخلايا فيها تحتوي على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الأنوي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جميعها تعيش في بيئات رطبة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أحادي الخل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أو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عددة الخلايا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الخلايا يمكن أن تكون مجهرية أو تتعدى أطوالها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100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 متر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بعضها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متغاير التغذية </a:t>
            </a:r>
            <a:r>
              <a:rPr b="0" lang="ar-SA" sz="2000" spc="-1" strike="noStrike">
                <a:solidFill>
                  <a:srgbClr val="898989"/>
                </a:solidFill>
                <a:latin typeface="Calibri"/>
                <a:cs typeface="Times New Roman"/>
              </a:rPr>
              <a:t>والبعض الآخر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cs typeface="Times New Roman"/>
              </a:rPr>
              <a:t>ذاتي التغذية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 </a:t>
            </a:r>
            <a:r>
              <a:rPr b="1" lang="ar-SA" sz="2000" spc="-1" strike="noStrike" u="sng">
                <a:solidFill>
                  <a:srgbClr val="558ed5"/>
                </a:solidFill>
                <a:uFillTx/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ubtitle 2"/>
          <p:cNvSpPr/>
          <p:nvPr/>
        </p:nvSpPr>
        <p:spPr>
          <a:xfrm>
            <a:off x="1500120" y="928800"/>
            <a:ext cx="62866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لائعيات تصنف إلى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ista that are classified to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214200" y="3286080"/>
            <a:ext cx="40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نبات تسمى </a:t>
            </a:r>
            <a:r>
              <a:rPr b="1" lang="ar-SA" sz="2800" spc="-1" strike="noStrike" u="sng">
                <a:solidFill>
                  <a:srgbClr val="558ed5"/>
                </a:solidFill>
                <a:uFillTx/>
                <a:latin typeface="Calibri"/>
              </a:rPr>
              <a:t>الطحالب الحقيق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True-alg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4572000" y="3214800"/>
            <a:ext cx="400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طلائعيات الشبيهة بالحيوان تسمى </a:t>
            </a:r>
            <a:r>
              <a:rPr b="1" lang="ar-SA" sz="3200" spc="-1" strike="noStrike" u="sng">
                <a:solidFill>
                  <a:srgbClr val="558ed5"/>
                </a:solidFill>
                <a:uFillTx/>
                <a:latin typeface="Calibri"/>
              </a:rPr>
              <a:t>الاو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-like prot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7"/>
          <p:cNvCxnSpPr>
            <a:stCxn id="44" idx="2"/>
          </p:cNvCxnSpPr>
          <p:nvPr/>
        </p:nvCxnSpPr>
        <p:spPr>
          <a:xfrm>
            <a:off x="4643280" y="2214360"/>
            <a:ext cx="18583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8"/>
          <p:cNvCxnSpPr>
            <a:stCxn id="44" idx="2"/>
          </p:cNvCxnSpPr>
          <p:nvPr/>
        </p:nvCxnSpPr>
        <p:spPr>
          <a:xfrm flipH="1">
            <a:off x="2571840" y="2214720"/>
            <a:ext cx="20718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الطلائعيات الشبيهة بالنبات (الطحالب الحقيقية)</a:t>
            </a:r>
            <a:br>
              <a:rPr sz="2800"/>
            </a:b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Plant like Protista (True-alga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393372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hotosynthet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their nutrition is plant-lik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most all of them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ost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only a few have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hlorophyll</a:t>
            </a:r>
            <a:r>
              <a:rPr b="1" i="1" lang="en-US" sz="2400" spc="-1" strike="noStrike">
                <a:solidFill>
                  <a:srgbClr val="376092"/>
                </a:solidFill>
                <a:latin typeface="Calibri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lso have a variety of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caroten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other </a:t>
            </a:r>
            <a:r>
              <a:rPr b="0" lang="en-US" sz="2400" spc="-1" strike="noStrike" u="sng">
                <a:solidFill>
                  <a:srgbClr val="376092"/>
                </a:solidFill>
                <a:uFillTx/>
                <a:latin typeface="Calibri"/>
              </a:rPr>
              <a:t>pi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116000" y="1700280"/>
            <a:ext cx="75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فيها تشبة التغذية في الن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كل تقريبا قد يحتوي على 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أ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، والبعض على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 الكلوروفيل ج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لكن قلة منها تحتوي على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لوروفيل 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طحالب الحقيقية لديها أيضا مجموعة متنوعة من 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كاروتين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ar-SA" sz="2400" spc="-1" strike="noStrike" u="sng">
                <a:solidFill>
                  <a:srgbClr val="376092"/>
                </a:solidFill>
                <a:uFillTx/>
                <a:latin typeface="Arial"/>
              </a:rPr>
              <a:t>الصبغ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Calibri"/>
              </a:rPr>
              <a:t>The most common are: 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وأكثرها شيوعا هي</a:t>
            </a:r>
            <a:r>
              <a:rPr b="1" lang="ar-SA" sz="2800" spc="-1" strike="noStrike">
                <a:solidFill>
                  <a:srgbClr val="376092"/>
                </a:solidFill>
                <a:latin typeface="Calibri"/>
              </a:rPr>
              <a:t>: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r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glen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illariophyta (diatoms)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عصوية ( الدايوتوم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eophyta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بن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ophyta                                           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طحالب الحم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600" y="5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lorophyta (Green alga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2240" y="3665160"/>
            <a:ext cx="8859600" cy="2940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hyll                   main pigm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live in fresh water, although some marine species exi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s are composed of cellulose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een algae can b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cellular                       colonial                                               multicell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hlamydomonas               Volvox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ight Arrow 3"/>
          <p:cNvSpPr/>
          <p:nvPr/>
        </p:nvSpPr>
        <p:spPr>
          <a:xfrm>
            <a:off x="1835280" y="3797280"/>
            <a:ext cx="730080" cy="71280"/>
          </a:xfrm>
          <a:prstGeom prst="rightArrow">
            <a:avLst>
              <a:gd name="adj1" fmla="val 50000"/>
              <a:gd name="adj2" fmla="val 501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538920" y="4745160"/>
            <a:ext cx="5144400" cy="712800"/>
            <a:chOff x="538920" y="4745160"/>
            <a:chExt cx="5144400" cy="712800"/>
          </a:xfrm>
        </p:grpSpPr>
        <p:cxnSp>
          <p:nvCxnSpPr>
            <p:cNvPr id="57" name="Straight Arrow Connector 5"/>
            <p:cNvCxnSpPr/>
            <p:nvPr/>
          </p:nvCxnSpPr>
          <p:spPr>
            <a:xfrm flipH="1">
              <a:off x="538920" y="4813920"/>
              <a:ext cx="2358360" cy="500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8" name="Straight Arrow Connector 7"/>
            <p:cNvCxnSpPr/>
            <p:nvPr/>
          </p:nvCxnSpPr>
          <p:spPr>
            <a:xfrm flipH="1">
              <a:off x="2895120" y="4745160"/>
              <a:ext cx="21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59" name="Straight Arrow Connector 9"/>
            <p:cNvCxnSpPr/>
            <p:nvPr/>
          </p:nvCxnSpPr>
          <p:spPr>
            <a:xfrm>
              <a:off x="2896920" y="4815000"/>
              <a:ext cx="2786760" cy="6433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60" name="Rectangle 6"/>
          <p:cNvSpPr/>
          <p:nvPr/>
        </p:nvSpPr>
        <p:spPr>
          <a:xfrm>
            <a:off x="160200" y="981000"/>
            <a:ext cx="88916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لوروفيل         الصبغة الرئيسة في الطحالب الخضر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عيش معظمها في المياه العذبة، بالرغم من وجود بعض الأنواع البحر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جدر الخلوية تتكون من السليلو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o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طحالب الخضراء يمكن أن تكون وحيدة الخلي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كلاميدومونا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lamydomona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لى شكل مستعم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n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ثل طحلب الفولفوك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lvo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عديدة الخلا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cellula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ثل طحلب السبيروجير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rogy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ight Arrow 10"/>
          <p:cNvSpPr/>
          <p:nvPr/>
        </p:nvSpPr>
        <p:spPr>
          <a:xfrm flipV="1" rot="10800000">
            <a:off x="7419960" y="1268280"/>
            <a:ext cx="365040" cy="46080"/>
          </a:xfrm>
          <a:prstGeom prst="rightArrow">
            <a:avLst>
              <a:gd name="adj1" fmla="val 50000"/>
              <a:gd name="adj2" fmla="val 499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صورة 20" descr="structure of a Chlamydomonas.jpg"/>
          <p:cNvPicPr/>
          <p:nvPr/>
        </p:nvPicPr>
        <p:blipFill>
          <a:blip r:embed="rId1"/>
          <a:stretch/>
        </p:blipFill>
        <p:spPr>
          <a:xfrm>
            <a:off x="352440" y="1052640"/>
            <a:ext cx="4940280" cy="501624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63" name="Rectangle 4"/>
          <p:cNvSpPr/>
          <p:nvPr/>
        </p:nvSpPr>
        <p:spPr>
          <a:xfrm>
            <a:off x="2627280" y="18900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lamydom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484960" y="1004760"/>
            <a:ext cx="31194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http://sm-a1.yimg.com/image/?url=http%3A%2F%2Fupload.wikimedia.org%2Fwikipedia%2Fcommons%2F5%2F5f%2FAlga_volvox.png&amp;t=1255520559&amp;ttl=43200&amp;sig=g_nqFPfU50QfemGei4xlhQ--~B"/>
          <p:cNvPicPr/>
          <p:nvPr/>
        </p:nvPicPr>
        <p:blipFill>
          <a:blip r:embed="rId1"/>
          <a:stretch/>
        </p:blipFill>
        <p:spPr>
          <a:xfrm>
            <a:off x="1785960" y="1214280"/>
            <a:ext cx="5214960" cy="4854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500040" y="642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olvox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صورة 9" descr="SPIROGYRA.jpg"/>
          <p:cNvPicPr/>
          <p:nvPr/>
        </p:nvPicPr>
        <p:blipFill>
          <a:blip r:embed="rId1"/>
          <a:stretch/>
        </p:blipFill>
        <p:spPr>
          <a:xfrm>
            <a:off x="1500120" y="1428840"/>
            <a:ext cx="5913360" cy="4071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428760" y="5000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irogyr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59:43Z</dcterms:created>
  <dc:creator>DELL</dc:creator>
  <dc:description/>
  <dc:language>en-US</dc:language>
  <cp:lastModifiedBy>ihab moussa</cp:lastModifiedBy>
  <dcterms:modified xsi:type="dcterms:W3CDTF">2016-12-09T19:48:15Z</dcterms:modified>
  <cp:revision>14</cp:revision>
  <dc:subject/>
  <dc:title>II.  Kingdom Protista</dc:title>
</cp:coreProperties>
</file>