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CD2F-34EB-484F-9AA1-4F9082A2A3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part of a euglena used for storage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central organelle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ractile vacuo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cavity of the euglena that is able to contract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llic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membrane that envelops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lorop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organelle of the euglena responsible for photosynthesi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cleol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pherical body that contains the nucleus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ig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light-sensitive part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lagell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long, mobile filament used by the euglena for loco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2ECA-6418-4224-B0D6-4A3D03927C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0AD-E1D8-4176-8DF6-931EF5A3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F52-41BD-4DFC-A231-D229CBEF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46C-B566-4F4E-9B5E-8A861E77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465-A9F7-4A69-A30F-B14053C0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437-9678-47ED-AD05-8CB057A7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3E3-7A50-46A8-B94D-25E53BE3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B31-A9CD-4BAD-B8CB-D5168E50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034-31C6-463A-A36E-5B070C14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D97-4DE1-47FA-85DA-3D375209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D5F-C011-4A4F-9175-63FEB6D1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733-1702-49AE-8824-05B1FE6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4B9-B515-4D05-A536-42E9DEAF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748F-548A-49C9-892B-CA869AF828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Ka6aVZ-6bQ1ATM&amp;tbnid=IFCKeaEL9Zn_uM:&amp;ved=0CAUQjRw&amp;url=http%3A%2F%2Fohscience.tumblr.com%2Fpost%2F4462833122&amp;ei=GThlUpDeJ-X30gWixoGQBg&amp;psig=AFQjCNEwfb2IMf8iGoyF2fGMHbRiEVj98Q&amp;ust=138245156169724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طحالب اليوجيلينية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glenophyta (Euglenoid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3773160"/>
            <a:ext cx="8645400" cy="2865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nd mostly in fresh wa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Unicell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Autotrophs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hoto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when there is l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re is no light = no photosynthesis they can b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heterotroph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ingest foo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ell wall =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ellicle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up of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like animals, i.e ar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motile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flagell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store their foods as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aramylon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ype of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olysacchar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250920" y="1189080"/>
            <a:ext cx="8645400" cy="25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طحالب اليوجيلينية معظمها توجد في المياه العذب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وحيدة الخ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ذاتية التغذ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في وجود الضوء فقط  وتقوم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بعملية البناء الضوئي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عندما لا يوجد الضوء لا تقوم بعملية البناء الضوئي وتصبح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متغايرة التغذ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حيث يمكنها أبتلاع الغذ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 تحتوي على جدر خلوية , وأنما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طبقة رقيق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تكون من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بروتي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شبة الحيوانات من ناحية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أمتلاكها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أسوا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خزن غذائها على هيئية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باراميلون</a:t>
            </a:r>
            <a:r>
              <a:rPr b="0" lang="ar-SA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و نوع من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سكريات العدي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ugl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rcRect l="34848" t="21467" r="13382" b="16975"/>
          <a:stretch/>
        </p:blipFill>
        <p:spPr>
          <a:xfrm>
            <a:off x="1547640" y="1197000"/>
            <a:ext cx="65534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9760" y="115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طحالب العصوية (الداياتومات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cillariophyta (Diatom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0280" y="3609720"/>
            <a:ext cx="8229600" cy="3243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Unicellula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sms of different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sili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their cell w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Autotro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 can live in marine or freshwater environ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chlorophyll as well as pigments called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carotenoid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hich give them an orange-yellow colou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 shel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mble small boxes with lids. These shells are covered with grooves and pores, giving them a decorated appear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toms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reproduce asexually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halves of the shell separate, each producing a new shell that fits inside the original half.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w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generation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produces offspring that are smaller than the par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is point, the diatom produces gametes (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male/fema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that fuse with gametes from other diatoms to produce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zygot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sexual reprodu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 The zygotes develop into full sized diatoms that can begin asexual reproduction once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atoms die, their shells form deposits called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diatomaceous 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posits can be collected and used  as an additive to give certain paints their spark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toms store their foods as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oi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leu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620640"/>
            <a:ext cx="8212320" cy="3503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هي كائنات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وحيدة الخلي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ولها  أشكال مختلف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جدر الخلوية فيها تحتوي على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سيليكا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ذاتية التغذية </a:t>
            </a:r>
            <a:r>
              <a:rPr b="0" lang="en-US" sz="1400" spc="-1" strike="noStrike" u="sng">
                <a:solidFill>
                  <a:srgbClr val="558ed5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مكنها العيش في المياة البحرية أو المياه العذب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أنها تحتوي على الكلوروفيل، كما أنها تحتوي أصباغ أخرى تسمى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كاروتينا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، التي تعطيها اللون الأصفر البرتقالي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قشرتها تشبه المربعات الصغيرة مع وجود أغطية. تغطي هذه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قشور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بأخاديد ومسامات  مما يعطيها مظهر جمي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دياتومات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تتكاثر لا جنسياَ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، حيث كل نصفين من الدياتومة ينفصلوا عن بعض ويكونوا دايوتوم جديد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كل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جيل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من الأجيال الجديدة تنتج ذرية أصغر من الأصل (جيل الآباء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عند هذه النقطة، الدياتوم تنتج الأمشاج (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مذكرة/مؤنث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) التي تلتحم مع الأمشاج من الدياتومات الأخرى لإنتاج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لاقحة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تكاثر الجنس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). اللاقحة تنمو لتصبح دياتومات بالحجم الكامل الذي يمكن أن يبدأ مرة أخرى بالتكاثراللاجنسي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عندما تموت الدياتومات، تشكل قشور الرواسب التي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تسمى الارض الداياتوم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مكن جمع هذه الرواسب وأستخدامها  كمادة تضاف إلى الدهانات لتعطيها التأل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دياتومات تخزن غذائها على هيئة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زيو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لوكوزي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أشكال الدياتومات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dia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7170" t="29358" r="27271" b="21714"/>
          <a:stretch/>
        </p:blipFill>
        <p:spPr>
          <a:xfrm>
            <a:off x="1285920" y="1571760"/>
            <a:ext cx="6438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25.media.tumblr.com/tumblr_ljbaujkync1qhyly2o1_128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341360"/>
            <a:ext cx="54720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awi.de/fileadmin/user_upload/News/Press_Releases/2005/2._Quarter/Hustedt3_p.jpg"/>
          <p:cNvPicPr/>
          <p:nvPr/>
        </p:nvPicPr>
        <p:blipFill>
          <a:blip r:embed="rId1"/>
          <a:stretch/>
        </p:blipFill>
        <p:spPr>
          <a:xfrm>
            <a:off x="1692360" y="1125360"/>
            <a:ext cx="583236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7:47:24Z</dcterms:created>
  <dc:creator>DELL</dc:creator>
  <dc:description/>
  <dc:language>en-US</dc:language>
  <cp:lastModifiedBy>ihab moussa</cp:lastModifiedBy>
  <dcterms:modified xsi:type="dcterms:W3CDTF">2016-12-09T19:48:39Z</dcterms:modified>
  <cp:revision>18</cp:revision>
  <dc:subject/>
  <dc:title>Euglenophyta (Euglenoids)</dc:title>
</cp:coreProperties>
</file>