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307C-387D-46BF-9129-71D1DA95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984A-3E17-4580-9A39-2B31D415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3A04-3CDB-422B-B2E5-F2CF8E42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A50B-6DF1-4264-A3FF-DBB5D8A03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E067-B91A-4DE9-AF26-68F2187D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17E9-90F0-4273-9DFF-E0340226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107C-BF0A-40FF-86F5-91C794A7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9658-1CB2-4C86-9447-2674909B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8FAF-85A4-4A0B-A645-9A771B75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E0E3-5E8B-4FFA-BB73-EA103963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042E-C48A-42C1-94B3-E0C4047F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FA3C-5C18-4FB2-B9CA-977CF6A0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DFBE-443D-4B9A-8C5A-27B7D4D3DE5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cience.jrank.org/pages/2857/Freshwater.html" TargetMode="External"/><Relationship Id="rId2" Type="http://schemas.openxmlformats.org/officeDocument/2006/relationships/hyperlink" Target="http://science.jrank.org/pages/2857/Freshwater.html" TargetMode="External"/><Relationship Id="rId3" Type="http://schemas.openxmlformats.org/officeDocument/2006/relationships/hyperlink" Target="http://science.jrank.org/pages/2857/Freshwater.html" TargetMode="External"/><Relationship Id="rId4" Type="http://schemas.openxmlformats.org/officeDocument/2006/relationships/hyperlink" Target="http://science.jrank.org/pages/2857/Freshwater.html" TargetMode="External"/><Relationship Id="rId5" Type="http://schemas.openxmlformats.org/officeDocument/2006/relationships/hyperlink" Target="http://science.jrank.org/pages/2857/Freshwater.html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cience.jrank.org/pages/1121/Calcium-Carbonate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677960" y="1889280"/>
            <a:ext cx="69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بروتوزوا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otozoa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جميعها متغايرة التغذ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trop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وحيدة الخلية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تغذية فيها تتم بواسطة إلتهام  الكائنات الحية الأخرى أو المواد العضوية للكائنات الميت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بعض الكائنات الطفيلية نظراً لأنها لا يمكنها التقاط الغذاء. يجب أن تعيش في منطقة الكائن الحي المضيف حيث يحتوي على إمدادات غذائية مستمرة، مثل الأمعاء أو مجرى الدم من حيوا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بوروتوزوا صنفت إلى مجاميع على أساس أنماط الحركة إلى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بروتوزوا (الحيوانات الأولية) الشبيه بالحيوان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imal Like-Protista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Protozoa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1642680" y="3643200"/>
            <a:ext cx="285840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4" name="Straight Arrow Connector 6"/>
          <p:cNvCxnSpPr/>
          <p:nvPr/>
        </p:nvCxnSpPr>
        <p:spPr>
          <a:xfrm>
            <a:off x="4499640" y="3642840"/>
            <a:ext cx="321516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" name="Straight Arrow Connector 7"/>
          <p:cNvCxnSpPr/>
          <p:nvPr/>
        </p:nvCxnSpPr>
        <p:spPr>
          <a:xfrm flipH="1">
            <a:off x="3571560" y="3642840"/>
            <a:ext cx="92952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" name="Straight Arrow Connector 8"/>
          <p:cNvCxnSpPr/>
          <p:nvPr/>
        </p:nvCxnSpPr>
        <p:spPr>
          <a:xfrm>
            <a:off x="4499640" y="3642840"/>
            <a:ext cx="121500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" name="Group 9"/>
          <p:cNvGrpSpPr/>
          <p:nvPr/>
        </p:nvGrpSpPr>
        <p:grpSpPr>
          <a:xfrm>
            <a:off x="214200" y="4786200"/>
            <a:ext cx="8572680" cy="1357560"/>
            <a:chOff x="214200" y="4786200"/>
            <a:chExt cx="8572680" cy="1357560"/>
          </a:xfrm>
        </p:grpSpPr>
        <p:sp>
          <p:nvSpPr>
            <p:cNvPr id="48" name="Subtitle 2"/>
            <p:cNvSpPr/>
            <p:nvPr/>
          </p:nvSpPr>
          <p:spPr>
            <a:xfrm>
              <a:off x="214200" y="4786200"/>
              <a:ext cx="2286000" cy="12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1700" spc="-1" strike="noStrike">
                  <a:solidFill>
                    <a:srgbClr val="000000"/>
                  </a:solidFill>
                  <a:latin typeface="Calibri"/>
                </a:rPr>
                <a:t>الأقدام الكاذبة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alibri"/>
                </a:rPr>
                <a:t>Pseudopod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700" spc="-1" strike="noStrike">
                  <a:solidFill>
                    <a:srgbClr val="000000"/>
                  </a:solidFill>
                  <a:latin typeface="Calibri"/>
                </a:rPr>
                <a:t>تتحرك بواسطة الاقدام الكاذبة مثل الاميبا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Calibri"/>
                </a:rPr>
                <a:t>Amoeba</a:t>
              </a: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Subtitle 2"/>
            <p:cNvSpPr/>
            <p:nvPr/>
          </p:nvSpPr>
          <p:spPr>
            <a:xfrm>
              <a:off x="2643120" y="4786200"/>
              <a:ext cx="2000160" cy="13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Calibri"/>
                </a:rPr>
                <a:t>الاسواط</a:t>
              </a:r>
              <a:r>
                <a:rPr b="1" lang="ar-SA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Flagel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تتحرك بواسطة الاسواط مثل الجيارديا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Giardi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Subtitle 2"/>
            <p:cNvSpPr/>
            <p:nvPr/>
          </p:nvSpPr>
          <p:spPr>
            <a:xfrm>
              <a:off x="6715080" y="4786200"/>
              <a:ext cx="2071800" cy="13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Calibri"/>
                </a:rPr>
                <a:t>الكيسيا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porozoan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وهي لا تتحرك مثل البلازموديو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Plasmodium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Subtitle 2"/>
            <p:cNvSpPr/>
            <p:nvPr/>
          </p:nvSpPr>
          <p:spPr>
            <a:xfrm>
              <a:off x="4857840" y="4857480"/>
              <a:ext cx="171432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1800" spc="-1" strike="noStrike">
                  <a:solidFill>
                    <a:srgbClr val="000000"/>
                  </a:solidFill>
                  <a:latin typeface="Calibri"/>
                </a:rPr>
                <a:t>الاهدا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ili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تتحرك بواسطة الاهداب مثل  البراميسيوم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Paramec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iliated Protozoa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e.g Parameciu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6880" y="1213920"/>
            <a:ext cx="38718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ove by the  cilia covering their bodies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ey can be found almost anywhere, in freshwater or marine environments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robably the best-known ciliate is the organism </a:t>
            </a:r>
            <a:r>
              <a:rPr b="1" i="1" lang="en-US" sz="1300" spc="-1" strike="noStrike">
                <a:solidFill>
                  <a:srgbClr val="000000"/>
                </a:solidFill>
                <a:latin typeface="Calibri"/>
              </a:rPr>
              <a:t>Paramecium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ontent Placeholder 2"/>
          <p:cNvSpPr/>
          <p:nvPr/>
        </p:nvSpPr>
        <p:spPr>
          <a:xfrm>
            <a:off x="71280" y="2214720"/>
            <a:ext cx="46436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aramecia have many well-developed organelle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aramecia have two nuclei, a macronucleus and a micronucleus.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500" spc="-1" strike="noStrike">
                <a:solidFill>
                  <a:srgbClr val="c00000"/>
                </a:solidFill>
                <a:latin typeface="Calibri"/>
              </a:rPr>
              <a:t>larger macronucleus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rols most of the metabolic functions of the cel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500" spc="-1" strike="noStrike">
                <a:solidFill>
                  <a:srgbClr val="c00000"/>
                </a:solidFill>
                <a:latin typeface="Calibri"/>
              </a:rPr>
              <a:t>smaller micronucleus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rols much of the pathways involved in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xual reproduction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ousands of cilia appear through the pellicle, a tough, protective covering surrounding the cell membrane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rcRect l="39844" t="27834" r="15038" b="20168"/>
          <a:stretch/>
        </p:blipFill>
        <p:spPr>
          <a:xfrm>
            <a:off x="4786200" y="1500120"/>
            <a:ext cx="4357800" cy="4786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Paramecium [Credit: John J. Lee]"/>
          <p:cNvPicPr/>
          <p:nvPr/>
        </p:nvPicPr>
        <p:blipFill>
          <a:blip r:embed="rId2"/>
          <a:stretch/>
        </p:blipFill>
        <p:spPr>
          <a:xfrm>
            <a:off x="7596360" y="128520"/>
            <a:ext cx="1357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142920" y="785880"/>
            <a:ext cx="5000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00000"/>
                </a:solidFill>
                <a:uFillTx/>
                <a:latin typeface="Calibri"/>
              </a:rPr>
              <a:t>Fee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od enters the cell through th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oral groov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lined with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ili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to "sweep" the food into the cell), where it moves to th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gulle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which packages the meal into a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food vacuo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zymes released into the food vacuole break down the food, and the nutrients are absorbed into the ce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tes are removed from the cell through an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nal po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ontractile vacuole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mp out excess water, since paramecia live in freshwater surround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5191200" y="1000080"/>
            <a:ext cx="39528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3319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mecia usually reproduce asexually, by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ransverse fis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conditions are unfavorable, however, the organism can reproduce sexuall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form of sexual reproduction is called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onjug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ring conjugation, two paramecia join at the oral groove, where they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xchange genetic materi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then separate and divid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sex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كيسيات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orozoans Protozoa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بلازموديوم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.g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lasmodium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0560" y="4652640"/>
            <a:ext cx="550044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orozoans are all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sit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e.g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lasmodiu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y of these organisms produce spores, reproductive cells that can give rise to a new organis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orozoans typically have complex life cycles, as they usually live in more than one host in their lifetim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" descr="Go to fullsize image"/>
          <p:cNvPicPr/>
          <p:nvPr/>
        </p:nvPicPr>
        <p:blipFill>
          <a:blip r:embed="rId1"/>
          <a:stretch/>
        </p:blipFill>
        <p:spPr>
          <a:xfrm>
            <a:off x="5857920" y="1928880"/>
            <a:ext cx="2814480" cy="38574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907920" y="237960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كيسيات ( الحويصلية) جميعها طفيليات مثل البلازموديوم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lasmodium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عديد من هذه الكائنات تنتج أبواغ, خلاياها  تتكاثر وتتنتج كائن آخر جدي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كيسيات بشكل خاص تتمثل بدورة حياة معقده,  حيث يعيشون في أكثر من عائل في دورة حياتها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714680" y="0"/>
            <a:ext cx="5929200" cy="66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nimal Like-Protista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(Protozoa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85480" y="1676160"/>
            <a:ext cx="8429400" cy="19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are unicellular heterotroph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utrition by ingesting other organisms or dead organic materia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organisms are parasitic, since they cannot actively capture food. They must live in an area of the host organism that has a constant food supply, such as the intestines or bloodstream of an anima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tozoans are grouped on the basis of  their modes of locomotion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214200" y="4786200"/>
            <a:ext cx="8572680" cy="1357560"/>
            <a:chOff x="214200" y="4786200"/>
            <a:chExt cx="8572680" cy="1357560"/>
          </a:xfrm>
        </p:grpSpPr>
        <p:sp>
          <p:nvSpPr>
            <p:cNvPr id="55" name="Subtitle 2"/>
            <p:cNvSpPr/>
            <p:nvPr/>
          </p:nvSpPr>
          <p:spPr>
            <a:xfrm>
              <a:off x="214200" y="4786200"/>
              <a:ext cx="2286000" cy="12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seudopo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ve by psedupodia such 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Amoeb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Subtitle 2"/>
            <p:cNvSpPr/>
            <p:nvPr/>
          </p:nvSpPr>
          <p:spPr>
            <a:xfrm>
              <a:off x="2643120" y="4786200"/>
              <a:ext cx="2000160" cy="13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Flagell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ve by flagella such 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Giardi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Subtitle 2"/>
            <p:cNvSpPr/>
            <p:nvPr/>
          </p:nvSpPr>
          <p:spPr>
            <a:xfrm>
              <a:off x="6715080" y="4786200"/>
              <a:ext cx="2071800" cy="13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porozoan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o not mo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uch 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Plasmod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Subtitle 2"/>
            <p:cNvSpPr/>
            <p:nvPr/>
          </p:nvSpPr>
          <p:spPr>
            <a:xfrm>
              <a:off x="4857840" y="4857480"/>
              <a:ext cx="1714320" cy="12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ili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ve by cilia such as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</a:rPr>
                <a:t>Paramec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9" name="Straight Arrow Connector 8"/>
          <p:cNvCxnSpPr>
            <a:stCxn id="53" idx="2"/>
          </p:cNvCxnSpPr>
          <p:nvPr/>
        </p:nvCxnSpPr>
        <p:spPr>
          <a:xfrm flipH="1">
            <a:off x="1642680" y="3643200"/>
            <a:ext cx="285840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Straight Arrow Connector 10"/>
          <p:cNvCxnSpPr>
            <a:stCxn id="53" idx="2"/>
          </p:cNvCxnSpPr>
          <p:nvPr/>
        </p:nvCxnSpPr>
        <p:spPr>
          <a:xfrm>
            <a:off x="4499640" y="3642840"/>
            <a:ext cx="321516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Straight Arrow Connector 12"/>
          <p:cNvCxnSpPr>
            <a:stCxn id="53" idx="2"/>
          </p:cNvCxnSpPr>
          <p:nvPr/>
        </p:nvCxnSpPr>
        <p:spPr>
          <a:xfrm flipH="1">
            <a:off x="3571560" y="3642840"/>
            <a:ext cx="92952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Straight Arrow Connector 14"/>
          <p:cNvCxnSpPr>
            <a:stCxn id="53" idx="2"/>
          </p:cNvCxnSpPr>
          <p:nvPr/>
        </p:nvCxnSpPr>
        <p:spPr>
          <a:xfrm>
            <a:off x="4499640" y="3642840"/>
            <a:ext cx="121500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64000" y="188640"/>
            <a:ext cx="302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ar-SA" sz="2000" spc="-1" strike="noStrike">
                <a:solidFill>
                  <a:srgbClr val="558ed5"/>
                </a:solidFill>
                <a:latin typeface="Calibri"/>
              </a:rPr>
              <a:t>الاقدام الكاذبة</a:t>
            </a:r>
            <a:br>
              <a:rPr sz="2000"/>
            </a:br>
            <a:r>
              <a:rPr b="1" lang="en-US" sz="2000" spc="-1" strike="noStrike">
                <a:solidFill>
                  <a:srgbClr val="558ed5"/>
                </a:solidFill>
                <a:latin typeface="Calibri"/>
              </a:rPr>
              <a:t>Pseudopods</a:t>
            </a:r>
            <a:br>
              <a:rPr sz="2000"/>
            </a:br>
            <a:r>
              <a:rPr b="1" lang="ar-SA" sz="2000" spc="-1" strike="noStrike">
                <a:solidFill>
                  <a:srgbClr val="558ed5"/>
                </a:solidFill>
                <a:latin typeface="Calibri"/>
              </a:rPr>
              <a:t>الاميبا</a:t>
            </a:r>
            <a:br>
              <a:rPr sz="2000"/>
            </a:br>
            <a:r>
              <a:rPr b="1" lang="en-US" sz="20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558ed5"/>
                </a:solidFill>
                <a:latin typeface="Calibri"/>
              </a:rPr>
              <a:t>e.g </a:t>
            </a:r>
            <a:r>
              <a:rPr b="1" i="1" lang="en-US" sz="2000" spc="-1" strike="noStrike">
                <a:solidFill>
                  <a:srgbClr val="558ed5"/>
                </a:solidFill>
                <a:latin typeface="Calibri"/>
              </a:rPr>
              <a:t> Amoeba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254160" y="1700280"/>
            <a:ext cx="44053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اميبا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moeba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لا تملك جدار خارج الاغشية الخلو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ستخدم زوائد من غشاء الخلية (تسمى الاقدام الكاذبة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eudopodia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) للحركة وكذلك لعملية ابتلاع الغذا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الاميبا التي تعيش في المياه يمكنها إنتزاع المغذيات المذاب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solved nutrien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ن البيئة مباشرة من خلال أغشية الخلي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تعيش معظم الاميبا في البيئات البحرية، على الرغم من وجود بعض الأنواع التي تعيش في المياه العذب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أميبا المياة العذبة تستخدم الفجوات المنقبض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actile vacuo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كمضخة للتخلص من الماء خارج الخلي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rcRect l="47462" t="34426" r="10352" b="24560"/>
          <a:stretch/>
        </p:blipFill>
        <p:spPr>
          <a:xfrm>
            <a:off x="5508720" y="1484280"/>
            <a:ext cx="278604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0" y="260280"/>
            <a:ext cx="518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عظم الأميبا تتكاثر لا جنسياَ بواسطة الانشطا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اميبا قد تشكل حويصلات عندما تصبح الظروف البيئية غير المواتية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اميبا تحتوي على شكلين وتميزها القشرة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aminifer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lari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aminifer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تمتلك قشرة صلبة مكونة من كربونات الكالسيو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lari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متلك قشرة مكونة من السيليكا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كل النوعين (الشكلين) لها العديد من الثقوب الصغيرة في قشرتها من خلالها تمتد الاقدام الكاذب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illus002"/>
          <p:cNvPicPr/>
          <p:nvPr/>
        </p:nvPicPr>
        <p:blipFill>
          <a:blip r:embed="rId1"/>
          <a:stretch/>
        </p:blipFill>
        <p:spPr>
          <a:xfrm>
            <a:off x="5724360" y="297000"/>
            <a:ext cx="2576520" cy="35622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468360" y="33415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التغذ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عندما الاقدام الكاذبة تجد الغذاء تحيط به بواسطة تكوين الاقدام الكاذبة ويغلق غشاء الخلية حول الغذاء، وهذا يشكل فجوة غذائي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بعدها تفرز إنزيمات هضمية داخلة الفجوة الغذائية ، التي تعمل إلى تكسير وتبسيط الغذاء ثم تمتص المغذيات من قبل الخلي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5175000" y="42750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58ed5"/>
                </a:solidFill>
                <a:latin typeface="Arial"/>
              </a:rPr>
              <a:t>التكاثر اللاجنسي بالاميبا بواسطة الانشط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seudopod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e.g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Amoeba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5480" y="1650960"/>
            <a:ext cx="418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ve no wall outside of their cell membran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extensions of their cell membrane (called pseudopodia) to move, as well as, to engulf foo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oebas live in water, dissolved nutrients from the environment can diffuse directly through their cell membran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amoebas live in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arine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environments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lthough some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freshwat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pecies exis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eshwater amoebas use contractile vacuoles to pump excess water out of the cel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6"/>
          <a:srcRect l="47462" t="34426" r="10352" b="24560"/>
          <a:stretch/>
        </p:blipFill>
        <p:spPr>
          <a:xfrm>
            <a:off x="4357800" y="1214280"/>
            <a:ext cx="47862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13840" y="285840"/>
            <a:ext cx="56437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amoebas reproduce asexually by fiss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oebas may form cysts when environmental conditions become unfavorabl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 forms of amoebas have shells, the foraminiferans and the radiolaria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aminiferans have a hard shell made of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alcium carbon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diolarians have shells made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lic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th organisms have many tiny holes in their shells, through which they extend their pseudopod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ontent Placeholder 2"/>
          <p:cNvSpPr/>
          <p:nvPr/>
        </p:nvSpPr>
        <p:spPr>
          <a:xfrm>
            <a:off x="285840" y="4071960"/>
            <a:ext cx="5643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c00000"/>
                </a:solidFill>
                <a:uFillTx/>
                <a:latin typeface="Calibri"/>
              </a:rPr>
              <a:t>Feeding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the pseudopodium traps a bit of food, the cell membrane closes around the meal, this forms a food vacuo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gestive enzymes are secreted into the food vacuole, which break down the food. The cell then absorbs th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utri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illus002"/>
          <p:cNvPicPr/>
          <p:nvPr/>
        </p:nvPicPr>
        <p:blipFill>
          <a:blip r:embed="rId2"/>
          <a:stretch/>
        </p:blipFill>
        <p:spPr>
          <a:xfrm>
            <a:off x="6421320" y="79200"/>
            <a:ext cx="2576520" cy="40100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5764320" y="3995640"/>
            <a:ext cx="33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Arial"/>
              </a:rPr>
              <a:t>Reproduce asexually by fission</a:t>
            </a:r>
            <a:r>
              <a:rPr b="0" lang="en-US" sz="1800" spc="-1" strike="noStrike">
                <a:solidFill>
                  <a:srgbClr val="4f81b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ar-SA" sz="2000" spc="-1" strike="noStrike">
                <a:solidFill>
                  <a:srgbClr val="4f81bd"/>
                </a:solidFill>
                <a:latin typeface="Calibri"/>
              </a:rPr>
              <a:t>الهديبات الاولية</a:t>
            </a:r>
            <a:br>
              <a:rPr sz="2000"/>
            </a:br>
            <a:r>
              <a:rPr b="1" lang="en-US" sz="2000" spc="-1" strike="noStrike">
                <a:solidFill>
                  <a:srgbClr val="4f81bd"/>
                </a:solidFill>
                <a:latin typeface="Calibri"/>
              </a:rPr>
              <a:t>Ciliated Protozoa</a:t>
            </a:r>
            <a:br>
              <a:rPr sz="2000"/>
            </a:br>
            <a:r>
              <a:rPr b="1" lang="ar-SA" sz="2000" spc="-1" strike="noStrike">
                <a:solidFill>
                  <a:srgbClr val="4f81bd"/>
                </a:solidFill>
                <a:latin typeface="Calibri"/>
              </a:rPr>
              <a:t>البراميسيوم</a:t>
            </a:r>
            <a:br>
              <a:rPr sz="2000"/>
            </a:br>
            <a:r>
              <a:rPr b="1" i="1" lang="en-US" sz="20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4f81bd"/>
                </a:solidFill>
                <a:latin typeface="Calibri"/>
              </a:rPr>
              <a:t>e.g Paramecium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rcRect l="39844" t="27834" r="15038" b="20168"/>
          <a:stretch/>
        </p:blipFill>
        <p:spPr>
          <a:xfrm>
            <a:off x="4786200" y="1500120"/>
            <a:ext cx="4357800" cy="5097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Paramecium [Credit: John J. Lee]"/>
          <p:cNvPicPr/>
          <p:nvPr/>
        </p:nvPicPr>
        <p:blipFill>
          <a:blip r:embed="rId2"/>
          <a:stretch/>
        </p:blipFill>
        <p:spPr>
          <a:xfrm>
            <a:off x="7093080" y="112680"/>
            <a:ext cx="1946160" cy="13716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"/>
          <p:cNvSpPr/>
          <p:nvPr/>
        </p:nvSpPr>
        <p:spPr>
          <a:xfrm>
            <a:off x="0" y="137160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حركة تكون بواسطة الاهداب التي تغطي جسمها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مكن العثور عليها في أي مكان تقريبا، في البيئات البحرية أو المياه العذب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على الارجح الاكثر شهرة ومعرفة من الهدبيات هو البراميسيوم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aramec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30320" y="3357720"/>
            <a:ext cx="446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براميسيا تمتلك العديد من العضيات المتطور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براميسيا تمتلك نواتين واحدة كبير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cronucleu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الاخرى صغير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cronucle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نواة الكبيرة تتحكم في معظم الوظائف الأيضية للخلي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نواة الصغيرة تتحكم في كثير من المسارات ومن ضمنها التكاثر الجنس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آلاف الأهداب تظهر من خلال القشرة، وهي متينة ومحيطية وتعمل على وقاية الغشاء الخلو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5191200" y="1000080"/>
            <a:ext cx="3952800" cy="49244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"/>
          <p:cNvSpPr/>
          <p:nvPr/>
        </p:nvSpPr>
        <p:spPr>
          <a:xfrm>
            <a:off x="250920" y="620640"/>
            <a:ext cx="4940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التغذ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غذاء يدخل الخلية عن طريق الاخدود الفموي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al groov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(مبطنة بأهداب، يعمل على سحب الغذاء إلى داخل الخلية)، حيث أنه ينتقل إلى المريء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ullet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، التي تنتقل فيها الوجبة إلى الفجوة الغذائية المنقبض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تتحررالإنزيمات داخل الفجوة الغذائية لتكسير وتبسيط الطعام إلى جزئيات صغيرة (مغذيات) يسهل أمتصاصها داخل الخ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تم اللتخلص من النفايات عن طريق الثقب الشرجي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al pore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فجوة المنقبضة تعمل على ضخ المياه الزائدة، لذلك تستطيع الباراميسيا أن تعيش في المياه العذبة والمناطق المحيطة ب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179280" y="620640"/>
            <a:ext cx="842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باراميسيا عادة التكاثر فيها لا جنسي، بواسطة الانشطار العرض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verse fis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عندما تكون الظروف غير مواتية، فأنها تتكاثر جنسياً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ويسمى هذا الشكل من التكاثر الجنسي بالأقترا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jugatio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أثناء الاقتران، تنضم أثنين من البراميسيا عن طريق الأخدود الفموي، حيث يتم تبادل المادة الوراثية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chan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tic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ثم تفصل وتقسم لاجنسيا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exual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9T12:29:36Z</dcterms:created>
  <dc:creator>DELL</dc:creator>
  <dc:description/>
  <dc:language>en-US</dc:language>
  <cp:lastModifiedBy>ihab moussa</cp:lastModifiedBy>
  <dcterms:modified xsi:type="dcterms:W3CDTF">2016-12-09T19:44:18Z</dcterms:modified>
  <cp:revision>32</cp:revision>
  <dc:subject/>
  <dc:title>Animal Like-Protista (Protozoa)</dc:title>
</cp:coreProperties>
</file>