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C0E-089A-4DB0-8BC3-A9E2CBD4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BC0-6001-4F4C-A09A-F36CABC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60D-927C-4639-815A-6BA5C8B9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33E-BCB6-4B2C-85D4-F3F37BBD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04F-77CE-451E-9FE4-C2F3EE6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D57-D347-4ED8-ACB0-8717CE3E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E70-6AA0-4188-B193-4906D2E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EED-CD50-4AC1-B22E-98D9A4EE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E3D-90BF-449E-A2FB-DF6E3A4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339-7F59-454E-9537-67C94FB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96E-910A-4D28-BDCB-CCD2011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6D2-0323-48FC-90B8-78A60B4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0A2E-26CE-4E59-AB60-36F1AF7BD8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hyperlink" Target="http://science.jrank.org/pages/2857/Freshwater.html" TargetMode="External"/><Relationship Id="rId4" Type="http://schemas.openxmlformats.org/officeDocument/2006/relationships/hyperlink" Target="http://science.jrank.org/pages/2857/Freshwater.html" TargetMode="External"/><Relationship Id="rId5" Type="http://schemas.openxmlformats.org/officeDocument/2006/relationships/hyperlink" Target="http://science.jrank.org/pages/2857/Freshwater.html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77960" y="1889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وتوزو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tozo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ميعها متغايرة التغذ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حيدة الخل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غذية فيها تتم بواسطة إلتهام  الكائنات الحية الأخرى أو المواد العضوية للكائنات الميت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لكائنات الطفيلية نظراً لأنها لا يمكنها التقاط الغذاء. يجب أن تعيش في منطقة الكائن الحي المضيف حيث يحتوي على إمدادات غذائية مستمرة، مثل الأمعاء أو مجرى الدم من حيوا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وروتوزوا صنفت إلى مجاميع على أساس أنماط الحركة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بروتوزوا (الحيوانات الأولية) الشبيه بالحيوان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" name="Straight Arrow Connector 6"/>
          <p:cNvCxnSpPr/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8"/>
          <p:cNvCxnSpPr/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" name="Group 9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48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Calibri"/>
                </a:rPr>
                <a:t>الأقدام الكاذب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700" spc="-1" strike="noStrike">
                  <a:solidFill>
                    <a:srgbClr val="000000"/>
                  </a:solidFill>
                  <a:latin typeface="Calibri"/>
                </a:rPr>
                <a:t>تتحرك بواسطة الاقدام الكاذبة مثل الاميبا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سواط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سواط مثل الجيارديا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كيس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وهي لا تتحرك مثل البلازموديو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هد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هداب مثل  البراميسيوم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596360" y="1285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reproduce asexually,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verse f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unfavorable, however, the organism can reproduce sexu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two paramecia join at the oral groove, where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كيسيات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4652640"/>
            <a:ext cx="55004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se organisms produce spores, reproductive cells that can give rise to a new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Go to fullsize image"/>
          <p:cNvPicPr/>
          <p:nvPr/>
        </p:nvPicPr>
        <p:blipFill>
          <a:blip r:embed="rId1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7920" y="2379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( الحويصلية) جميعها طفيليات مثل البلازموديوم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ديد من هذه الكائنات تنتج أبواغ, خلاياها  تتكاثر وتتنتج كائن آخر جد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بشكل خاص تتمثل بدورة حياة معقده,  حيث يعيشون في أكثر من عائل في دورة حيات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parasitic, since they cannot actively capture food. They must live in an area of the host organism that has a constant food supply, such as the intestines or bloodstream 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55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psedupodi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flagell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 not 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h 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cilia such a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>
            <a:stCxn id="53" idx="2"/>
          </p:cNvCxnSpPr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>
            <a:stCxn id="53" idx="2"/>
          </p:cNvCxnSpPr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>
            <a:stCxn id="53" idx="2"/>
          </p:cNvCxnSpPr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>
            <a:stCxn id="53" idx="2"/>
          </p:cNvCxnSpPr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قدام الكاذبة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Pseudopods</a:t>
            </a: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ميبا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e.g </a:t>
            </a:r>
            <a:r>
              <a:rPr b="1" i="1" lang="en-US" sz="2000" spc="-1" strike="noStrike">
                <a:solidFill>
                  <a:srgbClr val="558ed5"/>
                </a:solidFill>
                <a:latin typeface="Calibri"/>
              </a:rPr>
              <a:t> Amoeb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254160" y="1700280"/>
            <a:ext cx="4405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eb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ا تملك جدار خارج الاغشية الخل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تخدم زوائد من غشاء الخلية (تسمى الاقدام الكاذب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po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للحركة وكذلك لعملية ابتلاع الغذ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اميبا التي تعيش في المياه يمكنها إنتزاع المغذيات المذاب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solved nutr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بيئة مباشرة من خلال أغشية ا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يش معظم الاميبا في البيئات البحرية، على الرغم من وجود بعض الأنواع التي تعيش في المياه الع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أميبا المياة العذبة تستخدم الفجوات المنقبض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مضخة للتخلص من الماء خارج الخ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7462" t="34426" r="10352" b="24560"/>
          <a:stretch/>
        </p:blipFill>
        <p:spPr>
          <a:xfrm>
            <a:off x="5508720" y="1484280"/>
            <a:ext cx="278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26028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عظم الأميبا تتكاثر لا جنسياَ بواسطة الانشطا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اميبا قد تشكل حويصلات عندما تصبح الظروف البيئية غير الموات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 تحتوي على شكلين وتميزها القشر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متلك قشرة صلبة مكونة من كربونات الكالسيو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تلك قشرة مكونة من السيليك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 النوعين (الشكلين) لها العديد من الثقوب الصغيرة في قشرتها من خلالها تمتد الاقدام الكا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llus002"/>
          <p:cNvPicPr/>
          <p:nvPr/>
        </p:nvPicPr>
        <p:blipFill>
          <a:blip r:embed="rId1"/>
          <a:stretch/>
        </p:blipFill>
        <p:spPr>
          <a:xfrm>
            <a:off x="5724360" y="297000"/>
            <a:ext cx="2576520" cy="3562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68360" y="3341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الاقدام الكاذبة تجد الغذاء تحيط به بواسطة تكوين الاقدام الكاذبة ويغلق غشاء الخلية حول الغذاء، وهذا يشكل فجوة غذائ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عدها تفرز إنزيمات هضمية داخلة الفجوة الغذائية ، التي تعمل إلى تكسير وتبسيط الغذاء ثم تمتص المغذيات من قبل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175000" y="42750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Arial"/>
              </a:rPr>
              <a:t>التكاثر اللاجنسي بالاميبا بواسطة 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80" y="165096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extensions of their cell membrane (called pseudopodia) to move, as well as, to engulf f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nvironment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contractile vacuoles to pump excess water 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6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reproduce asexually b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form cysts 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forms of amoebas have shells, the foraminiferans and the radiolar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aminiferans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arians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rganisms have many tiny holes in their shells, through which they extend their pseudopod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llus002"/>
          <p:cNvPicPr/>
          <p:nvPr/>
        </p:nvPicPr>
        <p:blipFill>
          <a:blip r:embed="rId2"/>
          <a:stretch/>
        </p:blipFill>
        <p:spPr>
          <a:xfrm>
            <a:off x="6421320" y="79200"/>
            <a:ext cx="2576520" cy="40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764320" y="399564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Reproduce asexually by fission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هديبات الاولية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Ciliated Protozoa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براميسيوم</a:t>
            </a:r>
            <a:br>
              <a:rPr sz="2000"/>
            </a:b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e.g Parameciu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509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093080" y="112680"/>
            <a:ext cx="194616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1371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ركة تكون بواسطة الاهداب التي تغطي جسم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العثور عليها في أي مكان تقريبا، في البيئات البحرية أو المياه العذب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رجح الاكثر شهرة ومعرفة من الهدبيات هو البراميسيو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0320" y="3357720"/>
            <a:ext cx="44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اميسيا تمتلك العديد من العضيات المتطور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براميسيا تمتلك نواتين واحدة كب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ronucle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اخرى صغ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nucle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واة الكبيرة تتحكم في معظم الوظائف الأيضية ل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نواة الصغيرة تتحكم في كثير من المسارات ومن ضمنها التكاثر الجنس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آلاف الأهداب تظهر من خلال القشرة، وهي متينة ومحيطية وتعمل على وقاية الغشاء الخل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50920" y="620640"/>
            <a:ext cx="4940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ذاء يدخل الخلية عن طريق الاخدود الفمو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groo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مبطنة بأهداب، يعمل على سحب الغذاء إلى داخل الخلية)، حيث أنه ينتقل إلى المري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lle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تي تنتقل فيها الوجبة إلى الفجوة الغذائية المنقبض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تتحررالإنزيمات داخل الفجوة الغذائية لتكسير وتبسيط الطعام إلى جزئيات صغيرة (مغذيات) يسهل أمتصاصها داخل ال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 اللتخلص من النفايات عن طريق الثقب الشرج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 p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فجوة المنقبضة تعمل على ضخ المياه الزائدة، لذلك تستطيع الباراميسيا أن تعيش في المياه العذبة والمناطق المحيطة ب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79280" y="62064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اراميسيا عادة التكاثر فيها لا جنسي، بواسطة الانشطار العرض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f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عندما تكون الظروف غير مواتية، فأنها تتكاثر جنسيا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يسمى هذا الشكل من التكاثر الجنسي بالأقتر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ثناء الاقتران، تنضم أثنين من البراميسيا عن طريق الأخدود الفموي، حيث يتم تبادل المادة الوراثية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ثم تفصل وتقسم لاجنس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ihab moussa</cp:lastModifiedBy>
  <dcterms:modified xsi:type="dcterms:W3CDTF">2016-12-09T19:44:18Z</dcterms:modified>
  <cp:revision>32</cp:revision>
  <dc:subject/>
  <dc:title>Animal Like-Protista (Protozoa)</dc:title>
</cp:coreProperties>
</file>