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775A-1D39-4394-A011-2823D39AF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7525-E977-4C2F-ACB0-1764EA1F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0339-B0D6-4126-898B-554F2023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0E19-9439-465F-9468-244B60C3D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13BD-0162-491A-97BE-0018E6AA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7FBC-3959-40A6-AE68-5A03C7D7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7D33-D3D0-4786-8523-1F7BF267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3E71-5152-4999-A746-303FB749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3000-BF31-4C7C-AAFE-D1E508B7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D544-E9B3-4A4F-9865-12415BD8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B122-3013-4545-99D3-8E5AD707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F4F6-E1A3-41B9-B24B-FB7367A6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B160-514B-45AD-BD13-FC3B447B4D7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parajita"/>
                <a:cs typeface="Aparajita"/>
              </a:rPr>
              <a:t>تصنيف الفطريات الحقيقية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Classification of Eumycota </a:t>
            </a:r>
            <a:br>
              <a:rPr sz="2800"/>
            </a:b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تصنف الفطريات الحقيقية إلى خمس فئات استناداً إلى طريقة التكاثر، وهذه الفئات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572080" y="4500720"/>
            <a:ext cx="34290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parajita"/>
                <a:ea typeface="Aparajita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4140360" y="4797360"/>
            <a:ext cx="487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parajita"/>
                <a:cs typeface="Aparajita"/>
              </a:rPr>
              <a:t>الفطريات الناقص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parajita"/>
                <a:ea typeface="Aparajita"/>
              </a:rPr>
              <a:t>Deuter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م يكتشف فيها التكاثر الجنسي بعد ولهذا سميت بهذا الاس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خيط الفطري (الهيفات) فيها مقسم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-141840" y="4803840"/>
            <a:ext cx="4195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parajita"/>
                <a:cs typeface="Aparajita"/>
              </a:rPr>
              <a:t>الفطريات البازيدية ( الدعامي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parajita"/>
                <a:ea typeface="Aparajita"/>
              </a:rPr>
              <a:t>Basidi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جراثيم خارجية، أي تنتج خارجياً في باسيديا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خيط الفطري (الهيفات) فيها مقسم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-695880" y="1844640"/>
            <a:ext cx="5006880" cy="13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parajita"/>
                <a:cs typeface="Aparajita"/>
              </a:rPr>
              <a:t>الفطريات الاقترانية (التزاوجي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parajita"/>
                <a:ea typeface="Aparajita"/>
              </a:rPr>
              <a:t>Zygomycetes</a:t>
            </a:r>
            <a:r>
              <a:rPr b="0" lang="en-US" sz="2000" spc="-1" strike="noStrike">
                <a:solidFill>
                  <a:srgbClr val="ff0000"/>
                </a:solidFill>
                <a:latin typeface="Aparajita"/>
                <a:ea typeface="Aparajit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parajita"/>
                <a:cs typeface="Aparajita"/>
              </a:rPr>
              <a:t>الامشاج الجنسية </a:t>
            </a: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Sexual gametangia</a:t>
            </a:r>
            <a:r>
              <a:rPr b="0" lang="ar-SA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  متشابه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parajita"/>
                <a:cs typeface="Aparajita"/>
              </a:rPr>
              <a:t>الخيط الفطري (الهيفات) غير مقسمة مدمج خلو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4548240" y="18414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parajita"/>
                <a:cs typeface="Aparajita"/>
              </a:rPr>
              <a:t>الفطريات الزقية (الاسكي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parajita"/>
                <a:ea typeface="Aparajita"/>
              </a:rPr>
              <a:t>Ascomy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جراثيم ذاتية، أي تنتج داخل أكياس أسكية تسمى </a:t>
            </a: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asci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خيط الفطري ( الهيفات) مقسم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2511360" y="3168720"/>
            <a:ext cx="42102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parajita"/>
                <a:ea typeface="Aparajita"/>
              </a:rPr>
              <a:t> </a:t>
            </a:r>
            <a:r>
              <a:rPr b="1" lang="ar-SA" sz="1800" spc="-1" strike="noStrike">
                <a:solidFill>
                  <a:srgbClr val="ff0000"/>
                </a:solidFill>
                <a:latin typeface="Aparajita"/>
                <a:cs typeface="Aparajita"/>
              </a:rPr>
              <a:t>الفطريات البيض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parajita"/>
                <a:ea typeface="Aparajita"/>
              </a:rPr>
              <a:t>O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الامشاج الجنسية غير متشابهة، ويجري التمييز بين الامشاج الانثوية (الأوجونيا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ogon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 والامشاج الذكرية (الانثريدا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heri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Aparajita"/>
                <a:cs typeface="Aparajita"/>
              </a:rPr>
              <a:t>الخيط الفطري (الهيفات) غير مقسمة مدمج خلو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9680" y="1499760"/>
            <a:ext cx="80010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*It is a </a:t>
            </a:r>
            <a:r>
              <a:rPr b="0" lang="en-US" sz="2000" spc="-1" strike="noStrike">
                <a:solidFill>
                  <a:srgbClr val="ff0000"/>
                </a:solidFill>
                <a:latin typeface="Aparajita"/>
                <a:ea typeface="Aparajita"/>
              </a:rPr>
              <a:t>saprophytic</a:t>
            </a: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 fungus, which can grow on moist bread, stored fruits, vegetables,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    synthetic nutritive media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*It is called </a:t>
            </a:r>
            <a:r>
              <a:rPr b="0" lang="en-US" sz="2000" spc="-1" strike="noStrike">
                <a:solidFill>
                  <a:srgbClr val="ff0000"/>
                </a:solidFill>
                <a:latin typeface="Aparajita"/>
                <a:ea typeface="Aparajita"/>
              </a:rPr>
              <a:t>bread mould </a:t>
            </a: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since it is mostly seen growing on damp brea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56760" y="2857320"/>
            <a:ext cx="4714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Vegetative structu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The mycelium consists of branched non-septate hyphae, which grow creeping upon the substratum and called stol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Each stolon sends branched rhizoids to the substratum for absorption of the necessary food materia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Opposite to the rhizoids, clusters of erect aerial sporangiophores   arise, each terminating with a single sporangiu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The hypha is full of multinucleated protoplas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714240" y="571680"/>
            <a:ext cx="8229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Rhizopus </a:t>
            </a:r>
            <a:r>
              <a:rPr b="1" lang="en-US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 ( Black bread mould ) </a:t>
            </a:r>
            <a:r>
              <a:rPr b="1" lang="ar-SA" sz="2600" spc="-1" strike="noStrike">
                <a:solidFill>
                  <a:srgbClr val="000000"/>
                </a:solidFill>
                <a:latin typeface="Aparajita"/>
                <a:cs typeface="Aparajita"/>
              </a:rPr>
              <a:t>عفن الخُبز الأسود</a:t>
            </a:r>
            <a:br>
              <a:rPr sz="2600"/>
            </a:br>
            <a:br>
              <a:rPr sz="20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://upload.wikimedia.org/wikipedia/commons/9/9a/Structure_of_Rhizopus_spp.-english.JPG"/>
          <p:cNvPicPr/>
          <p:nvPr/>
        </p:nvPicPr>
        <p:blipFill>
          <a:blip r:embed="rId1"/>
          <a:stretch/>
        </p:blipFill>
        <p:spPr>
          <a:xfrm>
            <a:off x="5286240" y="2857680"/>
            <a:ext cx="3071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parajita"/>
                <a:cs typeface="Aparajita"/>
              </a:rPr>
              <a:t>تصنيف الفطريات الحقيقية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Classification of Eumycota </a:t>
            </a:r>
            <a:br>
              <a:rPr sz="2800"/>
            </a:br>
            <a:br>
              <a:rPr sz="2800"/>
            </a:br>
            <a:r>
              <a:rPr b="0" lang="en-US" sz="2200" spc="-1" strike="noStrike">
                <a:solidFill>
                  <a:srgbClr val="000000"/>
                </a:solidFill>
                <a:latin typeface="Aparajita"/>
                <a:ea typeface="Aparajita"/>
              </a:rPr>
              <a:t>True fungi are grouped into </a:t>
            </a:r>
            <a:r>
              <a:rPr b="0" lang="en-US" sz="2200" spc="-1" strike="noStrike">
                <a:solidFill>
                  <a:srgbClr val="ff0000"/>
                </a:solidFill>
                <a:latin typeface="Aparajita"/>
                <a:ea typeface="Aparajita"/>
              </a:rPr>
              <a:t>five</a:t>
            </a:r>
            <a:r>
              <a:rPr b="0" lang="en-US" sz="2200" spc="-1" strike="noStrike">
                <a:solidFill>
                  <a:srgbClr val="000000"/>
                </a:solidFill>
                <a:latin typeface="Aparajita"/>
                <a:ea typeface="Aparajita"/>
              </a:rPr>
              <a:t> classes based on their </a:t>
            </a:r>
            <a:r>
              <a:rPr b="0" lang="en-US" sz="2200" spc="-1" strike="noStrike">
                <a:solidFill>
                  <a:srgbClr val="ff0000"/>
                </a:solidFill>
                <a:latin typeface="Aparajita"/>
                <a:ea typeface="Aparajita"/>
              </a:rPr>
              <a:t>method of reproduction</a:t>
            </a:r>
            <a:r>
              <a:rPr b="0" lang="en-US" sz="2200" spc="-1" strike="noStrike">
                <a:solidFill>
                  <a:srgbClr val="000000"/>
                </a:solidFill>
                <a:latin typeface="Aparajita"/>
                <a:ea typeface="Aparajita"/>
              </a:rPr>
              <a:t>, these classes are 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5480" y="1928520"/>
            <a:ext cx="34290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parajita"/>
                <a:ea typeface="Aparajita"/>
              </a:rPr>
              <a:t>Zygomycetes</a:t>
            </a:r>
            <a:r>
              <a:rPr b="0" lang="en-US" sz="2600" spc="-1" strike="noStrike">
                <a:solidFill>
                  <a:srgbClr val="ff0000"/>
                </a:solidFill>
                <a:latin typeface="Aparajita"/>
                <a:ea typeface="Aparajit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parajita"/>
                <a:ea typeface="Aparajita"/>
              </a:rPr>
              <a:t>Sexual gametangia are simil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parajita"/>
                <a:ea typeface="Aparajita"/>
              </a:rPr>
              <a:t>Hyphae are coenocytic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ubtitle 2"/>
          <p:cNvSpPr/>
          <p:nvPr/>
        </p:nvSpPr>
        <p:spPr>
          <a:xfrm>
            <a:off x="142920" y="4643280"/>
            <a:ext cx="342900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parajita"/>
                <a:ea typeface="Aparajita"/>
              </a:rPr>
              <a:t>Basidiomyc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Spores are exogenous, i.e. produced externally on basid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Hyphae are septat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ubtitle 2"/>
          <p:cNvSpPr/>
          <p:nvPr/>
        </p:nvSpPr>
        <p:spPr>
          <a:xfrm>
            <a:off x="5572080" y="2000160"/>
            <a:ext cx="34290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parajita"/>
                <a:ea typeface="Aparajita"/>
              </a:rPr>
              <a:t>Ascomys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parajita"/>
                <a:ea typeface="Aparajita"/>
              </a:rPr>
              <a:t>Spores are endogenous, i.e. produced inside special sacs called asc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parajita"/>
                <a:ea typeface="Aparajita"/>
              </a:rPr>
              <a:t>Hyphae are septated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ubtitle 2"/>
          <p:cNvSpPr/>
          <p:nvPr/>
        </p:nvSpPr>
        <p:spPr>
          <a:xfrm>
            <a:off x="5572080" y="4500720"/>
            <a:ext cx="34290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parajita"/>
                <a:ea typeface="Aparajita"/>
              </a:rPr>
              <a:t>Deuteromyce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parajita"/>
                <a:ea typeface="Aparajita"/>
              </a:rPr>
              <a:t>(Imperfect fung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Its perfect stage or its mode of sexual reproduction is not yet known until n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Hyphae are septated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ubtitle 2"/>
          <p:cNvSpPr/>
          <p:nvPr/>
        </p:nvSpPr>
        <p:spPr>
          <a:xfrm>
            <a:off x="2643120" y="3429000"/>
            <a:ext cx="34290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parajita"/>
                <a:ea typeface="Aparajita"/>
              </a:rPr>
              <a:t>Oomyce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parajita"/>
                <a:ea typeface="Aparajita"/>
              </a:rPr>
              <a:t>Sexual gametangia are dissimilar, being distinguished into female gametangia or oogonia and male gametangia or antheridia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parajita"/>
                <a:ea typeface="Aparajita"/>
              </a:rPr>
              <a:t>Hyphae are coenocyti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File:Aspergillus niger 01.jpg"/>
          <p:cNvPicPr/>
          <p:nvPr/>
        </p:nvPicPr>
        <p:blipFill>
          <a:blip r:embed="rId1"/>
          <a:stretch/>
        </p:blipFill>
        <p:spPr>
          <a:xfrm>
            <a:off x="357120" y="857160"/>
            <a:ext cx="4071960" cy="41436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1158120" y="5143680"/>
            <a:ext cx="23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septated Hyph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pergillus ni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File:Penicillium.jpg"/>
          <p:cNvPicPr/>
          <p:nvPr/>
        </p:nvPicPr>
        <p:blipFill>
          <a:blip r:embed="rId2"/>
          <a:stretch/>
        </p:blipFill>
        <p:spPr>
          <a:xfrm>
            <a:off x="4714920" y="857160"/>
            <a:ext cx="4071960" cy="4143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9"/>
          <p:cNvSpPr/>
          <p:nvPr/>
        </p:nvSpPr>
        <p:spPr>
          <a:xfrm>
            <a:off x="5655600" y="5286240"/>
            <a:ext cx="19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ated Hyph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nicill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bitun.jpg (4390 bytes)"/>
          <p:cNvPicPr/>
          <p:nvPr/>
        </p:nvPicPr>
        <p:blipFill>
          <a:blip r:embed="rId1"/>
          <a:stretch/>
        </p:blipFill>
        <p:spPr>
          <a:xfrm>
            <a:off x="5786280" y="857160"/>
            <a:ext cx="2086200" cy="40006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5715000" y="5143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Endogenous Spores (Asc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http://classconnection.s3.amazonaws.com/181/flashcards/794181/png/61334767348994.png"/>
          <p:cNvPicPr/>
          <p:nvPr/>
        </p:nvPicPr>
        <p:blipFill>
          <a:blip r:embed="rId2"/>
          <a:stretch/>
        </p:blipFill>
        <p:spPr>
          <a:xfrm>
            <a:off x="500040" y="785880"/>
            <a:ext cx="4214880" cy="41432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1143000" y="5072040"/>
            <a:ext cx="2600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Rhizopu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ar gametan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ascbasid.gif (16053 bytes)"/>
          <p:cNvPicPr/>
          <p:nvPr/>
        </p:nvPicPr>
        <p:blipFill>
          <a:blip r:embed="rId1"/>
          <a:stretch/>
        </p:blipFill>
        <p:spPr>
          <a:xfrm>
            <a:off x="857160" y="500040"/>
            <a:ext cx="714384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t1.gstatic.com/images?q=tbn:ANd9GcRQXdRQd1SHZim6zxh_QY1TY_gn4xwpxJXia6qOqFj2Z1q1NexKnw"/>
          <p:cNvPicPr/>
          <p:nvPr/>
        </p:nvPicPr>
        <p:blipFill>
          <a:blip r:embed="rId1"/>
          <a:stretch/>
        </p:blipFill>
        <p:spPr>
          <a:xfrm>
            <a:off x="1357200" y="928800"/>
            <a:ext cx="6407280" cy="43574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1571760" y="5572080"/>
            <a:ext cx="57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Oomycetes (oogonia and antheri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Basipet.gif (6470 bytes)"/>
          <p:cNvPicPr/>
          <p:nvPr/>
        </p:nvPicPr>
        <p:blipFill>
          <a:blip r:embed="rId1"/>
          <a:stretch/>
        </p:blipFill>
        <p:spPr>
          <a:xfrm>
            <a:off x="5143680" y="1143000"/>
            <a:ext cx="3124080" cy="2905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oidium.gif (7367 bytes)"/>
          <p:cNvPicPr/>
          <p:nvPr/>
        </p:nvPicPr>
        <p:blipFill>
          <a:blip r:embed="rId2"/>
          <a:stretch/>
        </p:blipFill>
        <p:spPr>
          <a:xfrm>
            <a:off x="714240" y="928800"/>
            <a:ext cx="4210200" cy="37335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7"/>
          <p:cNvSpPr/>
          <p:nvPr/>
        </p:nvSpPr>
        <p:spPr>
          <a:xfrm>
            <a:off x="3286080" y="507204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Exogenous Spores (coni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65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A" sz="2600" spc="-1" strike="noStrike">
                <a:solidFill>
                  <a:srgbClr val="000000"/>
                </a:solidFill>
                <a:latin typeface="Aparajita"/>
                <a:cs typeface="Aparajita"/>
              </a:rPr>
              <a:t>الفطريات التزاوجية (الاقترانية)</a:t>
            </a:r>
            <a:br>
              <a:rPr sz="2600"/>
            </a:br>
            <a:r>
              <a:rPr b="1" lang="en-US" sz="2900" spc="-1" strike="noStrike">
                <a:solidFill>
                  <a:srgbClr val="000000"/>
                </a:solidFill>
                <a:latin typeface="Aparajita"/>
                <a:ea typeface="Aparajita"/>
              </a:rPr>
              <a:t>Class: Zygomycetes</a:t>
            </a:r>
            <a:r>
              <a:rPr b="0" lang="en-US" sz="29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9640" y="371628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The hyphae are coenocytic ( non-septate) without cross walls except where the reproductive organs are c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The hyphae are filled or lined with continuous multinucleated protoplas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This class includes both parasitic and saprophytic spec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892080" y="2060640"/>
            <a:ext cx="73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خيوط الفطرية (الهيفا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دمج خلوي (غير مقسمة ) عبر الجدران باستثناء مكان القطع في الأعضاء التناسلية عبر الجدران 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خيوط الفطرية مليئة  أو مصطفة  بالانوية العديدة والبروتوبلاز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هذه الفئة تتضمن كلا من  الأنواع الطفيلية والمترممة على السوا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tle 1"/>
          <p:cNvSpPr/>
          <p:nvPr/>
        </p:nvSpPr>
        <p:spPr>
          <a:xfrm>
            <a:off x="714240" y="571680"/>
            <a:ext cx="8229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558ed5"/>
                </a:solidFill>
                <a:latin typeface="Aparajita"/>
                <a:ea typeface="Aparajita"/>
              </a:rPr>
              <a:t>Rhizopus </a:t>
            </a:r>
            <a:r>
              <a:rPr b="1" lang="en-US" sz="2600" spc="-1" strike="noStrike">
                <a:solidFill>
                  <a:srgbClr val="558ed5"/>
                </a:solidFill>
                <a:latin typeface="Aparajita"/>
                <a:ea typeface="Aparajita"/>
              </a:rPr>
              <a:t> ( Black bread mould ) </a:t>
            </a:r>
            <a:r>
              <a:rPr b="1" lang="ar-SA" sz="2600" spc="-1" strike="noStrike">
                <a:solidFill>
                  <a:srgbClr val="558ed5"/>
                </a:solidFill>
                <a:latin typeface="Aparajita"/>
                <a:cs typeface="Aparajita"/>
              </a:rPr>
              <a:t>عفن الخُبز الأسود</a:t>
            </a:r>
            <a:br>
              <a:rPr sz="2600"/>
            </a:br>
            <a:br>
              <a:rPr sz="20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upload.wikimedia.org/wikipedia/commons/9/9a/Structure_of_Rhizopus_spp.-english.JPG"/>
          <p:cNvPicPr/>
          <p:nvPr/>
        </p:nvPicPr>
        <p:blipFill>
          <a:blip r:embed="rId1"/>
          <a:stretch/>
        </p:blipFill>
        <p:spPr>
          <a:xfrm>
            <a:off x="5864400" y="3645000"/>
            <a:ext cx="3071520" cy="28573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1042920" y="1773360"/>
            <a:ext cx="7399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فطر الريزوبس من الفطريات المترمم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تي يمكن أن تنمو على الخبز الرطب والفواكة المخزنة والخضروات ، والاوساط المغذية الصناعي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سمى عفن الخبز نظراً لأنها أغلب نموها على الخبز المبل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79280" y="3343320"/>
            <a:ext cx="5513400" cy="38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التركيب الخضري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الغزل الفطري يكون فيها الهيفات متفرعة وغير مقسمة  التي تنمو زاحفة عند الطبقة التحتية ، ويسمى رئ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رسل كل شعير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hizoi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اصات شبة جذرية متفرعة إلى الطبقة السفلى لامتصاص المواد الغذائية الضروري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قابل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izoi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نشأ مجموعة من الحامل البوغي</a:t>
            </a: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sporangiophore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، والنهايات تحتوي على </a:t>
            </a: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sporong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واح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هيفات مملوءة من البروتوبلاست متعددة الانوي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6:57:59Z</dcterms:created>
  <dc:creator>DELL</dc:creator>
  <dc:description/>
  <dc:language>en-US</dc:language>
  <cp:lastModifiedBy>ihab moussa</cp:lastModifiedBy>
  <cp:lastPrinted>2013-11-06T11:29:21Z</cp:lastPrinted>
  <dcterms:modified xsi:type="dcterms:W3CDTF">2016-12-09T19:44:41Z</dcterms:modified>
  <cp:revision>25</cp:revision>
  <dc:subject/>
  <dc:title>Classification of Eumycophyta   True fungi are grouped into five classes based on their method of reproduction, these classes are :</dc:title>
</cp:coreProperties>
</file>