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C4D6-2E98-4130-A14E-D51638743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C470-DD82-40A0-A87C-7FF6991FF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19E7-1186-462E-B406-26FC53D0F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B5F4-0DA4-4392-A47C-6382C80A0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6D88-7FC2-4D83-BF5E-249A2CDD6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328C-D402-4D3F-87E3-D5F9DB86E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10F6-9134-4197-8287-EB74BF02E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370A-CF4C-44D7-A13F-CECBCAEB3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4C22-1D86-4052-9F2E-14691B16F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28D3-74A8-45FF-ADAD-16C3151BA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16CD-2A22-4BEC-8113-33373A184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1BBC-6115-4D41-91D7-C3A16CB25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D6622-F5CC-4F43-BDBC-4A04BBA051C1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85880" y="285480"/>
            <a:ext cx="77724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Aparajita"/>
                <a:ea typeface="Aparajita"/>
              </a:rPr>
              <a:t> </a:t>
            </a:r>
            <a:r>
              <a:rPr b="1" lang="ar-SA" sz="2600" spc="-1" strike="noStrike">
                <a:solidFill>
                  <a:srgbClr val="000000"/>
                </a:solidFill>
                <a:latin typeface="Aparajita"/>
                <a:cs typeface="Aparajita"/>
              </a:rPr>
              <a:t>تصنيف الفطريات الحقيقية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parajita"/>
                <a:ea typeface="Aparajita"/>
              </a:rPr>
              <a:t>Classification of Eumycota </a:t>
            </a:r>
            <a:br>
              <a:rPr sz="2800"/>
            </a:br>
            <a:r>
              <a:rPr b="0" lang="ar-SA" sz="2000" spc="-1" strike="noStrike">
                <a:solidFill>
                  <a:srgbClr val="000000"/>
                </a:solidFill>
                <a:latin typeface="Calibri"/>
              </a:rPr>
              <a:t>تصنف الفطريات الحقيقية إلى خمس فئات استناداً إلى طريقة التكاثر، وهذه الفئات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8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572080" y="4500720"/>
            <a:ext cx="342900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0000"/>
                </a:solidFill>
                <a:latin typeface="Aparajita"/>
                <a:ea typeface="Aparajita"/>
              </a:rPr>
              <a:t>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2"/>
          <p:cNvSpPr/>
          <p:nvPr/>
        </p:nvSpPr>
        <p:spPr>
          <a:xfrm>
            <a:off x="4140360" y="4797360"/>
            <a:ext cx="4879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0000"/>
                </a:solidFill>
                <a:latin typeface="Aparajita"/>
                <a:cs typeface="Aparajita"/>
              </a:rPr>
              <a:t>الفطريات الناقص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parajita"/>
                <a:ea typeface="Aparajita"/>
              </a:rPr>
              <a:t>Deuteromyce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لم يكتشف فيها التكاثر الجنسي بعد ولهذا سميت بهذا الاس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خيط الفطري (الهيفات) فيها مقسم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-141840" y="4803840"/>
            <a:ext cx="4195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0000"/>
                </a:solidFill>
                <a:latin typeface="Aparajita"/>
                <a:cs typeface="Aparajita"/>
              </a:rPr>
              <a:t>الفطريات البازيدية ( الدعامية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parajita"/>
                <a:ea typeface="Aparajita"/>
              </a:rPr>
              <a:t>Basidiomyce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جراثيم خارجية، أي تنتج خارجياً في باسيديا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خيط الفطري (الهيفات) فيها مقسم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5"/>
          <p:cNvSpPr/>
          <p:nvPr/>
        </p:nvSpPr>
        <p:spPr>
          <a:xfrm>
            <a:off x="-695880" y="1844640"/>
            <a:ext cx="5006880" cy="13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Aparajita"/>
                <a:cs typeface="Aparajita"/>
              </a:rPr>
              <a:t>الفطريات الاقترانية (التزاوجية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parajita"/>
                <a:ea typeface="Aparajita"/>
              </a:rPr>
              <a:t>Zygomycetes</a:t>
            </a:r>
            <a:r>
              <a:rPr b="0" lang="en-US" sz="2000" spc="-1" strike="noStrike">
                <a:solidFill>
                  <a:srgbClr val="ff0000"/>
                </a:solidFill>
                <a:latin typeface="Aparajita"/>
                <a:ea typeface="Aparajit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parajita"/>
                <a:cs typeface="Aparajita"/>
              </a:rPr>
              <a:t>الامشاج الجنسية </a:t>
            </a:r>
            <a:r>
              <a:rPr b="0" lang="en-US" sz="1800" spc="-1" strike="noStrike">
                <a:solidFill>
                  <a:srgbClr val="000000"/>
                </a:solidFill>
                <a:latin typeface="Aparajita"/>
                <a:ea typeface="Aparajita"/>
              </a:rPr>
              <a:t>Sexual gametangia</a:t>
            </a:r>
            <a:r>
              <a:rPr b="0" lang="ar-SA" sz="1800" spc="-1" strike="noStrike">
                <a:solidFill>
                  <a:srgbClr val="000000"/>
                </a:solidFill>
                <a:latin typeface="Aparajita"/>
                <a:ea typeface="Aparajita"/>
              </a:rPr>
              <a:t>  متشابه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parajita"/>
                <a:cs typeface="Aparajita"/>
              </a:rPr>
              <a:t>الخيط الفطري (الهيفات) غير مقسمة مدمج خلوي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4548240" y="184140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0000"/>
                </a:solidFill>
                <a:latin typeface="Aparajita"/>
                <a:cs typeface="Aparajita"/>
              </a:rPr>
              <a:t>الفطريات الزقية (الاسكية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parajita"/>
                <a:ea typeface="Aparajita"/>
              </a:rPr>
              <a:t>Ascomys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جراثيم ذاتية، أي تنتج داخل أكياس أسكية تسمى </a:t>
            </a:r>
            <a:r>
              <a:rPr b="0" lang="en-US" sz="1800" spc="-1" strike="noStrike">
                <a:solidFill>
                  <a:srgbClr val="000000"/>
                </a:solidFill>
                <a:latin typeface="Aparajita"/>
                <a:ea typeface="Aparajita"/>
              </a:rPr>
              <a:t>asci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خيط الفطري ( الهيفات) مقسمة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8"/>
          <p:cNvSpPr/>
          <p:nvPr/>
        </p:nvSpPr>
        <p:spPr>
          <a:xfrm>
            <a:off x="2511360" y="3168720"/>
            <a:ext cx="4210200" cy="21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0000"/>
                </a:solidFill>
                <a:latin typeface="Aparajita"/>
                <a:ea typeface="Aparajita"/>
              </a:rPr>
              <a:t> </a:t>
            </a:r>
            <a:r>
              <a:rPr b="1" lang="ar-SA" sz="1800" spc="-1" strike="noStrike">
                <a:solidFill>
                  <a:srgbClr val="ff0000"/>
                </a:solidFill>
                <a:latin typeface="Aparajita"/>
                <a:cs typeface="Aparajita"/>
              </a:rPr>
              <a:t>الفطريات البيض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parajita"/>
                <a:ea typeface="Aparajita"/>
              </a:rPr>
              <a:t>Oomyce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الامشاج الجنسية غير متشابهة، ويجري التمييز بين الامشاج الانثوية (الأوجونيا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ogoni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 والامشاج الذكرية (الانثريدا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therid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Aparajita"/>
                <a:cs typeface="Aparajita"/>
              </a:rPr>
              <a:t>الخيط الفطري (الهيفات) غير مقسمة مدمج خلوي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9680" y="1499760"/>
            <a:ext cx="8001000" cy="135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parajita"/>
                <a:ea typeface="Aparajita"/>
              </a:rPr>
              <a:t>*It is a </a:t>
            </a:r>
            <a:r>
              <a:rPr b="0" lang="en-US" sz="2000" spc="-1" strike="noStrike">
                <a:solidFill>
                  <a:srgbClr val="ff0000"/>
                </a:solidFill>
                <a:latin typeface="Aparajita"/>
                <a:ea typeface="Aparajita"/>
              </a:rPr>
              <a:t>saprophytic</a:t>
            </a:r>
            <a:r>
              <a:rPr b="0" lang="en-US" sz="2000" spc="-1" strike="noStrike">
                <a:solidFill>
                  <a:srgbClr val="000000"/>
                </a:solidFill>
                <a:latin typeface="Aparajita"/>
                <a:ea typeface="Aparajita"/>
              </a:rPr>
              <a:t> fungus, which can grow on moist bread, stored fruits, vegetables, and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parajita"/>
                <a:ea typeface="Aparajita"/>
              </a:rPr>
              <a:t>    synthetic nutritive media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parajita"/>
                <a:ea typeface="Aparajita"/>
              </a:rPr>
              <a:t>*It is called </a:t>
            </a:r>
            <a:r>
              <a:rPr b="0" lang="en-US" sz="2000" spc="-1" strike="noStrike">
                <a:solidFill>
                  <a:srgbClr val="ff0000"/>
                </a:solidFill>
                <a:latin typeface="Aparajita"/>
                <a:ea typeface="Aparajita"/>
              </a:rPr>
              <a:t>bread mould </a:t>
            </a:r>
            <a:r>
              <a:rPr b="0" lang="en-US" sz="2000" spc="-1" strike="noStrike">
                <a:solidFill>
                  <a:srgbClr val="000000"/>
                </a:solidFill>
                <a:latin typeface="Aparajita"/>
                <a:ea typeface="Aparajita"/>
              </a:rPr>
              <a:t>since it is mostly seen growing on damp brea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56760" y="2857320"/>
            <a:ext cx="47149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parajita"/>
                <a:ea typeface="Aparajita"/>
              </a:rPr>
              <a:t>Vegetative structur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parajita"/>
                <a:ea typeface="Aparajita"/>
              </a:rPr>
              <a:t>The mycelium consists of branched non-septate hyphae, which grow creeping upon the substratum and called stol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parajita"/>
                <a:ea typeface="Aparajita"/>
              </a:rPr>
              <a:t>Each stolon sends branched rhizoids to the substratum for absorption of the necessary food material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parajita"/>
                <a:ea typeface="Aparajita"/>
              </a:rPr>
              <a:t>Opposite to the rhizoids, clusters of erect aerial sporangiophores   arise, each terminating with a single sporangium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parajita"/>
                <a:ea typeface="Aparajita"/>
              </a:rPr>
              <a:t>The hypha is full of multinucleated protoplasm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itle 1"/>
          <p:cNvSpPr/>
          <p:nvPr/>
        </p:nvSpPr>
        <p:spPr>
          <a:xfrm>
            <a:off x="714240" y="571680"/>
            <a:ext cx="822960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00"/>
                </a:solidFill>
                <a:latin typeface="Aparajita"/>
                <a:ea typeface="Aparajita"/>
              </a:rPr>
              <a:t>Rhizopus </a:t>
            </a:r>
            <a:r>
              <a:rPr b="1" lang="en-US" sz="2600" spc="-1" strike="noStrike">
                <a:solidFill>
                  <a:srgbClr val="000000"/>
                </a:solidFill>
                <a:latin typeface="Aparajita"/>
                <a:ea typeface="Aparajita"/>
              </a:rPr>
              <a:t> ( Black bread mould ) </a:t>
            </a:r>
            <a:r>
              <a:rPr b="1" lang="ar-SA" sz="2600" spc="-1" strike="noStrike">
                <a:solidFill>
                  <a:srgbClr val="000000"/>
                </a:solidFill>
                <a:latin typeface="Aparajita"/>
                <a:cs typeface="Aparajita"/>
              </a:rPr>
              <a:t>عفن الخُبز الأسود</a:t>
            </a:r>
            <a:br>
              <a:rPr sz="2600"/>
            </a:br>
            <a:br>
              <a:rPr sz="20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http://upload.wikimedia.org/wikipedia/commons/9/9a/Structure_of_Rhizopus_spp.-english.JPG"/>
          <p:cNvPicPr/>
          <p:nvPr/>
        </p:nvPicPr>
        <p:blipFill>
          <a:blip r:embed="rId1"/>
          <a:stretch/>
        </p:blipFill>
        <p:spPr>
          <a:xfrm>
            <a:off x="5286240" y="2857680"/>
            <a:ext cx="30718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285480"/>
            <a:ext cx="77724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Aparajita"/>
                <a:ea typeface="Aparajita"/>
              </a:rPr>
              <a:t> </a:t>
            </a:r>
            <a:r>
              <a:rPr b="1" lang="ar-SA" sz="2600" spc="-1" strike="noStrike">
                <a:solidFill>
                  <a:srgbClr val="000000"/>
                </a:solidFill>
                <a:latin typeface="Aparajita"/>
                <a:cs typeface="Aparajita"/>
              </a:rPr>
              <a:t>تصنيف الفطريات الحقيقية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parajita"/>
                <a:ea typeface="Aparajita"/>
              </a:rPr>
              <a:t>Classification of Eumycota </a:t>
            </a:r>
            <a:br>
              <a:rPr sz="2800"/>
            </a:br>
            <a:br>
              <a:rPr sz="2800"/>
            </a:br>
            <a:r>
              <a:rPr b="0" lang="en-US" sz="2200" spc="-1" strike="noStrike">
                <a:solidFill>
                  <a:srgbClr val="000000"/>
                </a:solidFill>
                <a:latin typeface="Aparajita"/>
                <a:ea typeface="Aparajita"/>
              </a:rPr>
              <a:t>True fungi are grouped into </a:t>
            </a:r>
            <a:r>
              <a:rPr b="0" lang="en-US" sz="2200" spc="-1" strike="noStrike">
                <a:solidFill>
                  <a:srgbClr val="ff0000"/>
                </a:solidFill>
                <a:latin typeface="Aparajita"/>
                <a:ea typeface="Aparajita"/>
              </a:rPr>
              <a:t>five</a:t>
            </a:r>
            <a:r>
              <a:rPr b="0" lang="en-US" sz="2200" spc="-1" strike="noStrike">
                <a:solidFill>
                  <a:srgbClr val="000000"/>
                </a:solidFill>
                <a:latin typeface="Aparajita"/>
                <a:ea typeface="Aparajita"/>
              </a:rPr>
              <a:t> classes based on their </a:t>
            </a:r>
            <a:r>
              <a:rPr b="0" lang="en-US" sz="2200" spc="-1" strike="noStrike">
                <a:solidFill>
                  <a:srgbClr val="ff0000"/>
                </a:solidFill>
                <a:latin typeface="Aparajita"/>
                <a:ea typeface="Aparajita"/>
              </a:rPr>
              <a:t>method of reproduction</a:t>
            </a:r>
            <a:r>
              <a:rPr b="0" lang="en-US" sz="2200" spc="-1" strike="noStrike">
                <a:solidFill>
                  <a:srgbClr val="000000"/>
                </a:solidFill>
                <a:latin typeface="Aparajita"/>
                <a:ea typeface="Aparajita"/>
              </a:rPr>
              <a:t>, these classes are 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85480" y="1928520"/>
            <a:ext cx="34290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parajita"/>
                <a:ea typeface="Aparajita"/>
              </a:rPr>
              <a:t>Zygomycetes</a:t>
            </a:r>
            <a:r>
              <a:rPr b="0" lang="en-US" sz="2600" spc="-1" strike="noStrike">
                <a:solidFill>
                  <a:srgbClr val="ff0000"/>
                </a:solidFill>
                <a:latin typeface="Aparajita"/>
                <a:ea typeface="Aparajit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parajita"/>
                <a:ea typeface="Aparajita"/>
              </a:rPr>
              <a:t>Sexual gametangia are simila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parajita"/>
                <a:ea typeface="Aparajita"/>
              </a:rPr>
              <a:t>Hyphae are coenocytic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Subtitle 2"/>
          <p:cNvSpPr/>
          <p:nvPr/>
        </p:nvSpPr>
        <p:spPr>
          <a:xfrm>
            <a:off x="142920" y="4643280"/>
            <a:ext cx="3429000" cy="15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parajita"/>
                <a:ea typeface="Aparajita"/>
              </a:rPr>
              <a:t>Basidiomyce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parajita"/>
                <a:ea typeface="Aparajita"/>
              </a:rPr>
              <a:t>Spores are exogenous, i.e. produced externally on basid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parajita"/>
                <a:ea typeface="Aparajit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parajita"/>
                <a:ea typeface="Aparajita"/>
              </a:rPr>
              <a:t>Hyphae are septated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ubtitle 2"/>
          <p:cNvSpPr/>
          <p:nvPr/>
        </p:nvSpPr>
        <p:spPr>
          <a:xfrm>
            <a:off x="5572080" y="2000160"/>
            <a:ext cx="342900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Aparajita"/>
                <a:ea typeface="Aparajita"/>
              </a:rPr>
              <a:t>Ascomyst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parajita"/>
                <a:ea typeface="Aparajita"/>
              </a:rPr>
              <a:t>Spores are endogenous, i.e. produced inside special sacs called asci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parajita"/>
                <a:ea typeface="Aparajita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parajita"/>
                <a:ea typeface="Aparajita"/>
              </a:rPr>
              <a:t>Hyphae are septated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ubtitle 2"/>
          <p:cNvSpPr/>
          <p:nvPr/>
        </p:nvSpPr>
        <p:spPr>
          <a:xfrm>
            <a:off x="5572080" y="4500720"/>
            <a:ext cx="342900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Aparajita"/>
                <a:ea typeface="Aparajita"/>
              </a:rPr>
              <a:t>Deuteromycet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parajita"/>
                <a:ea typeface="Aparajita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parajita"/>
                <a:ea typeface="Aparajita"/>
              </a:rPr>
              <a:t>(Imperfect fungi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parajita"/>
                <a:ea typeface="Aparajita"/>
              </a:rPr>
              <a:t>Its perfect stage or its mode of sexual reproduction is not yet known until no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parajita"/>
                <a:ea typeface="Aparajit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parajita"/>
                <a:ea typeface="Aparajita"/>
              </a:rPr>
              <a:t>Hyphae are septated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ubtitle 2"/>
          <p:cNvSpPr/>
          <p:nvPr/>
        </p:nvSpPr>
        <p:spPr>
          <a:xfrm>
            <a:off x="2643120" y="3429000"/>
            <a:ext cx="342900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parajita"/>
                <a:ea typeface="Aparajita"/>
              </a:rPr>
              <a:t>Oomyce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parajita"/>
                <a:ea typeface="Aparajita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parajita"/>
                <a:ea typeface="Aparajita"/>
              </a:rPr>
              <a:t>Sexual gametangia are dissimilar, being distinguished into female gametangia or oogonia and male gametangia or antheridia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parajita"/>
                <a:ea typeface="Aparajita"/>
              </a:rPr>
              <a:t>Hyphae are coenocytic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File:Aspergillus niger 01.jpg"/>
          <p:cNvPicPr/>
          <p:nvPr/>
        </p:nvPicPr>
        <p:blipFill>
          <a:blip r:embed="rId1"/>
          <a:stretch/>
        </p:blipFill>
        <p:spPr>
          <a:xfrm>
            <a:off x="357120" y="857160"/>
            <a:ext cx="4071960" cy="414360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4"/>
          <p:cNvSpPr/>
          <p:nvPr/>
        </p:nvSpPr>
        <p:spPr>
          <a:xfrm>
            <a:off x="1158120" y="5143680"/>
            <a:ext cx="238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 septated Hyph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spergillus ni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File:Penicillium.jpg"/>
          <p:cNvPicPr/>
          <p:nvPr/>
        </p:nvPicPr>
        <p:blipFill>
          <a:blip r:embed="rId2"/>
          <a:stretch/>
        </p:blipFill>
        <p:spPr>
          <a:xfrm>
            <a:off x="4714920" y="857160"/>
            <a:ext cx="4071960" cy="41436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9"/>
          <p:cNvSpPr/>
          <p:nvPr/>
        </p:nvSpPr>
        <p:spPr>
          <a:xfrm>
            <a:off x="5655600" y="5286240"/>
            <a:ext cx="194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ptated Hyph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enicill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bitun.jpg (4390 bytes)"/>
          <p:cNvPicPr/>
          <p:nvPr/>
        </p:nvPicPr>
        <p:blipFill>
          <a:blip r:embed="rId1"/>
          <a:stretch/>
        </p:blipFill>
        <p:spPr>
          <a:xfrm>
            <a:off x="5786280" y="857160"/>
            <a:ext cx="2086200" cy="400068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6"/>
          <p:cNvSpPr/>
          <p:nvPr/>
        </p:nvSpPr>
        <p:spPr>
          <a:xfrm>
            <a:off x="5715000" y="5143680"/>
            <a:ext cx="235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parajita"/>
                <a:ea typeface="Aparajita"/>
              </a:rPr>
              <a:t>Endogenous Spores (Ascu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http://classconnection.s3.amazonaws.com/181/flashcards/794181/png/61334767348994.png"/>
          <p:cNvPicPr/>
          <p:nvPr/>
        </p:nvPicPr>
        <p:blipFill>
          <a:blip r:embed="rId2"/>
          <a:stretch/>
        </p:blipFill>
        <p:spPr>
          <a:xfrm>
            <a:off x="500040" y="785880"/>
            <a:ext cx="4214880" cy="414324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8"/>
          <p:cNvSpPr/>
          <p:nvPr/>
        </p:nvSpPr>
        <p:spPr>
          <a:xfrm>
            <a:off x="1143000" y="5072040"/>
            <a:ext cx="26002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ff"/>
                </a:solidFill>
                <a:latin typeface="Arial"/>
              </a:rPr>
              <a:t>Rhizopu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ar gametang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ascbasid.gif (16053 bytes)"/>
          <p:cNvPicPr/>
          <p:nvPr/>
        </p:nvPicPr>
        <p:blipFill>
          <a:blip r:embed="rId1"/>
          <a:stretch/>
        </p:blipFill>
        <p:spPr>
          <a:xfrm>
            <a:off x="857160" y="500040"/>
            <a:ext cx="7143840" cy="56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http://t1.gstatic.com/images?q=tbn:ANd9GcRQXdRQd1SHZim6zxh_QY1TY_gn4xwpxJXia6qOqFj2Z1q1NexKnw"/>
          <p:cNvPicPr/>
          <p:nvPr/>
        </p:nvPicPr>
        <p:blipFill>
          <a:blip r:embed="rId1"/>
          <a:stretch/>
        </p:blipFill>
        <p:spPr>
          <a:xfrm>
            <a:off x="1357200" y="928800"/>
            <a:ext cx="6407280" cy="435744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4"/>
          <p:cNvSpPr/>
          <p:nvPr/>
        </p:nvSpPr>
        <p:spPr>
          <a:xfrm>
            <a:off x="1571760" y="5572080"/>
            <a:ext cx="578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haroni"/>
                <a:ea typeface="Aharoni"/>
              </a:rPr>
              <a:t>Oomycetes (oogonia and antheridi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6" descr="Basipet.gif (6470 bytes)"/>
          <p:cNvPicPr/>
          <p:nvPr/>
        </p:nvPicPr>
        <p:blipFill>
          <a:blip r:embed="rId1"/>
          <a:stretch/>
        </p:blipFill>
        <p:spPr>
          <a:xfrm>
            <a:off x="5143680" y="1143000"/>
            <a:ext cx="3124080" cy="29052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oidium.gif (7367 bytes)"/>
          <p:cNvPicPr/>
          <p:nvPr/>
        </p:nvPicPr>
        <p:blipFill>
          <a:blip r:embed="rId2"/>
          <a:stretch/>
        </p:blipFill>
        <p:spPr>
          <a:xfrm>
            <a:off x="714240" y="928800"/>
            <a:ext cx="4210200" cy="373356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7"/>
          <p:cNvSpPr/>
          <p:nvPr/>
        </p:nvSpPr>
        <p:spPr>
          <a:xfrm>
            <a:off x="3286080" y="5072040"/>
            <a:ext cx="257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parajita"/>
                <a:ea typeface="Aparajita"/>
              </a:rPr>
              <a:t>Exogenous Spores (conidi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65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ar-SA" sz="2600" spc="-1" strike="noStrike">
                <a:solidFill>
                  <a:srgbClr val="000000"/>
                </a:solidFill>
                <a:latin typeface="Aparajita"/>
                <a:cs typeface="Aparajita"/>
              </a:rPr>
              <a:t>الفطريات التزاوجية (الاقترانية)</a:t>
            </a:r>
            <a:br>
              <a:rPr sz="2600"/>
            </a:br>
            <a:r>
              <a:rPr b="1" lang="en-US" sz="2900" spc="-1" strike="noStrike">
                <a:solidFill>
                  <a:srgbClr val="000000"/>
                </a:solidFill>
                <a:latin typeface="Aparajita"/>
                <a:ea typeface="Aparajita"/>
              </a:rPr>
              <a:t>Class: Zygomycetes</a:t>
            </a:r>
            <a:r>
              <a:rPr b="0" lang="en-US" sz="2900" spc="-1" strike="noStrike">
                <a:solidFill>
                  <a:srgbClr val="000000"/>
                </a:solidFill>
                <a:latin typeface="Aparajita"/>
                <a:ea typeface="Aparajita"/>
              </a:rPr>
              <a:t> 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539640" y="371628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arajita"/>
                <a:ea typeface="Aparajita"/>
              </a:rPr>
              <a:t>The hyphae are coenocytic ( non-septate) without cross walls except where the reproductive organs are cu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arajita"/>
                <a:ea typeface="Aparajit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parajita"/>
                <a:ea typeface="Aparajita"/>
              </a:rPr>
              <a:t>The hyphae are filled or lined with continuous multinucleated protoplasm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arajita"/>
                <a:ea typeface="Aparajita"/>
              </a:rPr>
              <a:t>This class includes both parasitic and saprophytic specie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892080" y="2060640"/>
            <a:ext cx="73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خيوط الفطرية (الهيفات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مدمج خلوي (غير مقسمة ) عبر الجدران باستثناء مكان القطع في الأعضاء التناسلية عبر الجدران 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خيوط الفطرية مليئة  أو مصطفة  بالانوية العديدة والبروتوبلاز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هذه الفئة تتضمن كلا من  الأنواع الطفيلية والمترممة على السواء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itle 1"/>
          <p:cNvSpPr/>
          <p:nvPr/>
        </p:nvSpPr>
        <p:spPr>
          <a:xfrm>
            <a:off x="714240" y="571680"/>
            <a:ext cx="822960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558ed5"/>
                </a:solidFill>
                <a:latin typeface="Aparajita"/>
                <a:ea typeface="Aparajita"/>
              </a:rPr>
              <a:t>Rhizopus </a:t>
            </a:r>
            <a:r>
              <a:rPr b="1" lang="en-US" sz="2600" spc="-1" strike="noStrike">
                <a:solidFill>
                  <a:srgbClr val="558ed5"/>
                </a:solidFill>
                <a:latin typeface="Aparajita"/>
                <a:ea typeface="Aparajita"/>
              </a:rPr>
              <a:t> ( Black bread mould ) </a:t>
            </a:r>
            <a:r>
              <a:rPr b="1" lang="ar-SA" sz="2600" spc="-1" strike="noStrike">
                <a:solidFill>
                  <a:srgbClr val="558ed5"/>
                </a:solidFill>
                <a:latin typeface="Aparajita"/>
                <a:cs typeface="Aparajita"/>
              </a:rPr>
              <a:t>عفن الخُبز الأسود</a:t>
            </a:r>
            <a:br>
              <a:rPr sz="2600"/>
            </a:br>
            <a:br>
              <a:rPr sz="20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http://upload.wikimedia.org/wikipedia/commons/9/9a/Structure_of_Rhizopus_spp.-english.JPG"/>
          <p:cNvPicPr/>
          <p:nvPr/>
        </p:nvPicPr>
        <p:blipFill>
          <a:blip r:embed="rId1"/>
          <a:stretch/>
        </p:blipFill>
        <p:spPr>
          <a:xfrm>
            <a:off x="5864400" y="3645000"/>
            <a:ext cx="3071520" cy="285732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5"/>
          <p:cNvSpPr/>
          <p:nvPr/>
        </p:nvSpPr>
        <p:spPr>
          <a:xfrm>
            <a:off x="1042920" y="1773360"/>
            <a:ext cx="73994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فطر الريزوبس من الفطريات المترمم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،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تي يمكن أن تنمو على الخبز الرطب والفواكة المخزنة والخضروات ، والاوساط المغذية الصناعية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سمى عفن الخبز نظراً لأنها أغلب نموها على الخبز المبلل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7"/>
          <p:cNvSpPr/>
          <p:nvPr/>
        </p:nvSpPr>
        <p:spPr>
          <a:xfrm>
            <a:off x="179280" y="3343320"/>
            <a:ext cx="5513400" cy="38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0000"/>
                </a:solidFill>
                <a:latin typeface="Arial"/>
              </a:rPr>
              <a:t>التركيب الخضري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 الغزل الفطري يكون فيها الهيفات متفرعة وغير مقسمة  التي تنمو زاحفة عند الطبقة التحتية ، ويسمى رئ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ترسل كل شعيرة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hizoid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ماصات شبة جذرية متفرعة إلى الطبقة السفلى لامتصاص المواد الغذائية الضرورية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مقابل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izoid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،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تنشأ مجموعة من الحامل البوغي</a:t>
            </a:r>
            <a:r>
              <a:rPr b="0" lang="en-US" sz="1800" spc="-1" strike="noStrike">
                <a:solidFill>
                  <a:srgbClr val="000000"/>
                </a:solidFill>
                <a:latin typeface="Aparajita"/>
                <a:ea typeface="Aparajit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parajita"/>
                <a:ea typeface="Aparajita"/>
              </a:rPr>
              <a:t>sporangiophores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، والنهايات تحتوي على </a:t>
            </a:r>
            <a:r>
              <a:rPr b="0" lang="en-US" sz="2000" spc="-1" strike="noStrike">
                <a:solidFill>
                  <a:srgbClr val="000000"/>
                </a:solidFill>
                <a:latin typeface="Aparajita"/>
                <a:ea typeface="Aparajita"/>
              </a:rPr>
              <a:t>sporongiu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واحد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الهيفات مملوءة من البروتوبلاست متعددة الانوية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6T06:57:59Z</dcterms:created>
  <dc:creator>DELL</dc:creator>
  <dc:description/>
  <dc:language>en-US</dc:language>
  <cp:lastModifiedBy>ihab moussa</cp:lastModifiedBy>
  <cp:lastPrinted>2013-11-06T11:29:21Z</cp:lastPrinted>
  <dcterms:modified xsi:type="dcterms:W3CDTF">2016-12-09T19:44:41Z</dcterms:modified>
  <cp:revision>25</cp:revision>
  <dc:subject/>
  <dc:title>Classification of Eumycophyta   True fungi are grouped into five classes based on their method of reproduction, these classes are :</dc:title>
</cp:coreProperties>
</file>