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C04-F7D9-4140-892A-12F49272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DAC-5710-4F9D-BBB0-7F59AFD8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46D-2D3C-456C-91CC-33BB0067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4AD-CD63-42E0-8D73-FE830EFA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A77-929C-47E0-B6DD-3EC64A07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C9A-F6E9-4845-9F6C-2D703BB8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F29-42CD-4BF9-8676-5678991B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D02-6246-4074-B61E-439E4037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B5A-5D0F-452F-9F69-43DC0002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3D1-9195-4639-9923-E397C563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6CB-044A-461B-8AEF-0CEC798B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BBA-9734-4730-8CC7-4932C643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FF89-F49D-4180-ABF4-F692E853E6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7040" y="196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Class : Ascomyceteae</a:t>
            </a: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(sac fungi)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parajita"/>
                <a:cs typeface="Aparajita"/>
              </a:rPr>
              <a:t>الفطريات الاسكية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73360"/>
            <a:ext cx="8204040" cy="3151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This class is characterized b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eptated hypha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ion of ascospores enclosed inside sac-like asc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ome forms are unicellula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embers of this class are saprophytes and many are parasites on higher plants causing diseases such as the powdery mildews, ergot disease and apple scab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xamples of fungi belonging to this class a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spergillus, Penicillium, Saccharomyces, Claviceps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eziza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95280" y="981000"/>
            <a:ext cx="8204040" cy="25628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تميز هذه الفئة بالتالي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وط الفطرية مقسم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ept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إنتاج الجراثيم الاسك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osp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محاطة داخليا بشبه كيس حولها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 أشكالها وحيدة الخل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فراد هذه الفئة  مترممة ومتطفلة وكثير من المتطفلات  تتطفل على النباتات الراقية مسببة لها الأمراض مثل  البياض الدقيقي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owdery mildew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مرض الارغو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rgot dise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جرب التفاح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 scab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ن أمثلة الفطريات التي تنتمي إلى هذه الفئة ه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spergillus, Penicillium, Saccharomyces, Claviceps, Peziz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000000"/>
                </a:solidFill>
                <a:latin typeface="Calibri"/>
              </a:rPr>
              <a:t>فطر البنسيليوم والاسبيرجيلس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and   Aspergill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4292640"/>
            <a:ext cx="8640720" cy="172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s genera are commonly known as the black, blue or green mol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species have different other colours such as blue-green, yellow or brow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very widely distributed in all habita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24000" y="2133720"/>
            <a:ext cx="8640720" cy="1922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هذه الأجناس عادة تعرف بالعفن الأسود والأزرق أو العفن الاخضر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أنواع المختلفة منها تمتلك ألوان أخرى مختلفة مثل اللون الاخضر المزرق و الأصفر أو البنى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وهي تتوزع على نطاق واسع جداً في جميع الاوسا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wpe358.jpg (83711 bytes)"/>
          <p:cNvPicPr/>
          <p:nvPr/>
        </p:nvPicPr>
        <p:blipFill>
          <a:blip r:embed="rId1"/>
          <a:stretch/>
        </p:blipFill>
        <p:spPr>
          <a:xfrm>
            <a:off x="250920" y="150840"/>
            <a:ext cx="3564000" cy="244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333360" y="3182760"/>
            <a:ext cx="3564000" cy="2460960"/>
          </a:xfrm>
          <a:prstGeom prst="rect">
            <a:avLst/>
          </a:prstGeom>
          <a:ln w="0">
            <a:noFill/>
          </a:ln>
        </p:spPr>
      </p:pic>
      <p:sp>
        <p:nvSpPr>
          <p:cNvPr id="49" name="Content Placeholder 2"/>
          <p:cNvSpPr/>
          <p:nvPr/>
        </p:nvSpPr>
        <p:spPr>
          <a:xfrm>
            <a:off x="250920" y="2549520"/>
            <a:ext cx="3646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nicilliu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324000" y="5918040"/>
            <a:ext cx="32400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spergillu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3814920" y="549360"/>
            <a:ext cx="51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خصائص المتشابهة لكلا الجنسين هي كالتال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زل الفطر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celium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كلا الجنسين متفرعة ومقسم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نها تنمو مترممة على جميع أنواع المواد العضوية مثل المربيات، والخبز، واللحوم والحبوب والخشب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مكن أن تنمو أيضا  مترممة في الفواكة والخضروات المخزنة مسببة لها تسوس وأضمحلا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يمكن تنميتها  بسهولة على الاوساط الغذائية الاصطناعي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اهما تتكاثر لاجنسيا بواسطة الكونيد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idi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ي تحمل بواسطة الحامل الكونيد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idioph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ذه الكونيدات تحمل عن طريق تيارات الهواء، وأنها قادرة على الإنبات فورا إذا وقعت على بيئة جيد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قد لوحظ التكاثر الجنسي في العديد من أنوا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rgil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400" y="356760"/>
            <a:ext cx="46148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milar characters for both genera are listed below 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ycelium of both genera is branched and sept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grow saprophytically on all kinds of organic materials such as jams, bread, meats, grains and wo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 grow also as saprophytes on stored fruits and vegetables causing their deca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 be subcultured easily on synthetic nutritive med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multiply asexually by conidia, which are carried on conidioph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conidia are carried by air-currents, and they are capable of immediate germination if they fall upon the proper substrat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xual reproduction has been observed in several species of bo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wpe358.jpg (83711 bytes)"/>
          <p:cNvPicPr/>
          <p:nvPr/>
        </p:nvPicPr>
        <p:blipFill>
          <a:blip r:embed="rId1"/>
          <a:stretch/>
        </p:blipFill>
        <p:spPr>
          <a:xfrm>
            <a:off x="5286240" y="500040"/>
            <a:ext cx="3564000" cy="24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5357880" y="3714840"/>
            <a:ext cx="3564000" cy="2460600"/>
          </a:xfrm>
          <a:prstGeom prst="rect">
            <a:avLst/>
          </a:prstGeom>
          <a:ln w="0">
            <a:noFill/>
          </a:ln>
        </p:spPr>
      </p:pic>
      <p:sp>
        <p:nvSpPr>
          <p:cNvPr id="55" name="Content Placeholder 2"/>
          <p:cNvSpPr/>
          <p:nvPr/>
        </p:nvSpPr>
        <p:spPr>
          <a:xfrm>
            <a:off x="5357880" y="2962440"/>
            <a:ext cx="3645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nicilliu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5357880" y="6175440"/>
            <a:ext cx="32385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spergillu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wpe358.jpg (83711 bytes)"/>
          <p:cNvPicPr/>
          <p:nvPr/>
        </p:nvPicPr>
        <p:blipFill>
          <a:blip r:embed="rId1"/>
          <a:stretch/>
        </p:blipFill>
        <p:spPr>
          <a:xfrm>
            <a:off x="19080" y="500040"/>
            <a:ext cx="3206880" cy="244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-52560" y="3201840"/>
            <a:ext cx="3278520" cy="2460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225960" y="455760"/>
            <a:ext cx="5557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خصائص المختلفة في كلا الجنسين هي كالتال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في فطر البنسيليوم الحامل الكونيدي مقسمة ومتفرع  . نهايات الفروع الأخيرة مع ستيريجمات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rigm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سم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al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 التي تحمل سلاسل الكوني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 في النسيليوم الستيريجماتا تكون في مجموعات، وقد تكون مترتبة بستيريجماتا ابتدائية وثانوية وثالث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الاسبيرجيليس الحامل الكونيدي غير مقسم وغير متفرع ونهاية الحامل الكونيدي تنتهي براس متضخم ، تخرج منهاستيريجمات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rigm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سلاسل الكونيدات ، مرتبة في سلسلة متوالية (الاكبر في النهايات الطرفية) يقوم بحملها ستيريجماتا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ظهر الحامل الكونيدي في الاسبيرجليس يتفرع ويشع من  جميع أنحاء الرأس بينما في البنسيليوم تبدو وكأنها مكن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63360" y="5141880"/>
            <a:ext cx="213228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00040"/>
            <a:ext cx="4829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ferences characters for both genera are listed below 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 (fig. A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conidiophores are septated and branched. The last branches terminate with the sterigmata (called phialides), which carry the chains of conid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sterigmate are in clusters, which may be in the order of primary, secondary and sometimes tertiary sterigma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ASpergillus (fig. B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conidiophores are unbranched, non-septate and terminate with swollen heads, each of which carries radiating sterigm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ns of conidia, arranged in acropetal succession (the larger being terminal ) are carried by such sterigm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allover appearance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pergill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idiophore is a radiating head whil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k like a bro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wpe358.jpg (83711 bytes)"/>
          <p:cNvPicPr/>
          <p:nvPr/>
        </p:nvPicPr>
        <p:blipFill>
          <a:blip r:embed="rId1"/>
          <a:stretch/>
        </p:blipFill>
        <p:spPr>
          <a:xfrm>
            <a:off x="5643720" y="500040"/>
            <a:ext cx="3206520" cy="2440080"/>
          </a:xfrm>
          <a:prstGeom prst="rect">
            <a:avLst/>
          </a:prstGeom>
          <a:ln w="0">
            <a:noFill/>
          </a:ln>
        </p:spPr>
      </p:pic>
      <p:sp>
        <p:nvSpPr>
          <p:cNvPr id="63" name="Content Placeholder 2"/>
          <p:cNvSpPr/>
          <p:nvPr/>
        </p:nvSpPr>
        <p:spPr>
          <a:xfrm>
            <a:off x="8143920" y="500040"/>
            <a:ext cx="7048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5715000" y="3214800"/>
            <a:ext cx="3278160" cy="2460600"/>
          </a:xfrm>
          <a:prstGeom prst="rect">
            <a:avLst/>
          </a:prstGeom>
          <a:ln w="0">
            <a:noFill/>
          </a:ln>
        </p:spPr>
      </p:pic>
      <p:sp>
        <p:nvSpPr>
          <p:cNvPr id="65" name="Content Placeholder 2"/>
          <p:cNvSpPr/>
          <p:nvPr/>
        </p:nvSpPr>
        <p:spPr>
          <a:xfrm>
            <a:off x="8439120" y="3214800"/>
            <a:ext cx="490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الأهمية الاقتصادية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conomic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3640" y="3645000"/>
            <a:ext cx="8589960" cy="3052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Aspergillus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 Penicillu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are utilized in the preparation of food and other materials useful to huma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Citric and other organic acids are produced by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Aspergillu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sp. grown on sug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The enzyme, Taka-Diastase, used in medicine, is formed by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Aspergillus oryza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Certain kinds of cheeses, such as Roquefort, Camembert and Gorogonzola have special taste and flavour due to the action of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Penicilliu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sp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Penicilli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, the powerful antibiotic, is produced by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Penicillium notatu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324000" y="1413000"/>
            <a:ext cx="8584920" cy="3385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طر الاسبرجيليس والبنسليوم تستخدم في إعداد الطعام وغيرها من المواد المفيدة للبش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ستريك أسيد  وبعض  الأحماض العضوية وأخرى تنتجه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rgillus 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ندما تنمى على السك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الإنزيم 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</a:rPr>
              <a:t>Taka-Diastas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يستخدم في الطب، وهو ينتج من فطر </a:t>
            </a:r>
            <a:r>
              <a:rPr b="0" i="1" lang="en-US" sz="1800" spc="-1" strike="noStrike">
                <a:solidFill>
                  <a:srgbClr val="000000"/>
                </a:solidFill>
                <a:latin typeface="Andalus"/>
              </a:rPr>
              <a:t>Aspergillus oryzae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</a:rPr>
              <a:t>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نواع معينة من الجبن، مثل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روكفور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اممبير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جوروجونزول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لها طعم خاص ونكهة بسبب  فطرة البنسيليو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مضاد الحيوي البنسلين ينتج بواسطة الفطرة </a:t>
            </a:r>
            <a:r>
              <a:rPr b="0" i="1" lang="en-US" sz="1800" spc="-1" strike="noStrike">
                <a:solidFill>
                  <a:srgbClr val="000000"/>
                </a:solidFill>
                <a:latin typeface="Andalus"/>
              </a:rPr>
              <a:t>Penicillium notatum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5:02:27Z</dcterms:created>
  <dc:creator>DTK</dc:creator>
  <dc:description/>
  <dc:language>en-US</dc:language>
  <cp:lastModifiedBy>ihab moussa</cp:lastModifiedBy>
  <cp:lastPrinted>2013-11-24T06:58:47Z</cp:lastPrinted>
  <dcterms:modified xsi:type="dcterms:W3CDTF">2016-12-09T19:42:50Z</dcterms:modified>
  <cp:revision>17</cp:revision>
  <dc:subject/>
  <dc:title>CLASS  ASCOMYCETEAE (SAC FUNGI)</dc:title>
</cp:coreProperties>
</file>