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083-D301-4DB8-AA2D-D71608FD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24C-6267-4EB7-BDB6-ADC4612E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C0C-1FD1-4DE0-99E3-2E570301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717-7DB3-4CB8-A529-D789AB15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0B1-8D17-4354-935E-13D69DEC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CBE-AE40-48BC-973F-A38549C2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B67-F51A-48F4-B320-DA1D4CCC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C15-8312-4B7F-8818-F96C5F69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370-2414-40C0-B717-7F103F20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F1A-AC6B-4A6C-8977-576888C4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C1D-92B5-4ED8-95C9-6A028062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23D-10D2-42B7-B522-350E4D57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72DA-48E3-4A02-9779-6C7C771939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oogle.com.sa/url?sa=i&amp;rct=j&amp;q=&amp;esrc=s&amp;frm=1&amp;source=images&amp;cd=&amp;cad=rja&amp;docid=FNFD-pZi39YfnM&amp;tbnid=rfUnNXpyog1TvM:&amp;ved=0CAUQjRw&amp;url=http%3A%2F%2Fwww.fungionline.org.uk%2F7sexual%2F7basidio.html&amp;ei=NzmTUuaOOujL0QXlhIHYBw&amp;psig=AFQjCNEdusoIpXJgjxSZP9I8caEA5yJ0jw&amp;ust=1385466226278728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A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طائفة: الفطريات البازيدية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Class  : Basidiomycetea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994200"/>
            <a:ext cx="7885080" cy="2582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Characteriz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Septated myceli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Production of exogenous basidiosp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a are either septated or non-septa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Examples: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garicu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(Mushroo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79280" y="1916280"/>
            <a:ext cx="7885080" cy="2013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صائ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زل الفطري مق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نتاج جراثيم خارجية بازيدية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ospores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اسيديا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a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إما تكون مقسمة أو غير مقس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مثلة: فطرة الاجاريكوس (المشروم) أو عيش الغرا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garicu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Mushro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Agaricus    </a:t>
            </a:r>
            <a:r>
              <a:rPr b="1" lang="en-US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(Mushroom)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فطرة عيش الغراب أو المشرو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Users\DTK\Pictures\mushrooms.jpg"/>
          <p:cNvPicPr/>
          <p:nvPr/>
        </p:nvPicPr>
        <p:blipFill>
          <a:blip r:embed="rId1"/>
          <a:stretch/>
        </p:blipFill>
        <p:spPr>
          <a:xfrm>
            <a:off x="142920" y="368784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DTK\Pictures\mushroom.jpg"/>
          <p:cNvPicPr/>
          <p:nvPr/>
        </p:nvPicPr>
        <p:blipFill>
          <a:blip r:embed="rId2"/>
          <a:stretch/>
        </p:blipFill>
        <p:spPr>
          <a:xfrm>
            <a:off x="142920" y="122544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DTK\Pictures\mush.jpg"/>
          <p:cNvPicPr/>
          <p:nvPr/>
        </p:nvPicPr>
        <p:blipFill>
          <a:blip r:embed="rId3"/>
          <a:stretch/>
        </p:blipFill>
        <p:spPr>
          <a:xfrm>
            <a:off x="2028960" y="122544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DTK\Pictures\fruiting body before it has opened up.jpg"/>
          <p:cNvPicPr/>
          <p:nvPr/>
        </p:nvPicPr>
        <p:blipFill>
          <a:blip r:embed="rId4"/>
          <a:stretch/>
        </p:blipFill>
        <p:spPr>
          <a:xfrm>
            <a:off x="2004840" y="3701880"/>
            <a:ext cx="1764000" cy="2294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68560" y="1225440"/>
            <a:ext cx="5075280" cy="5823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خصائص فطر المشرو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ن الفطريات المترم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ي تظهر في البداية كالحصير أو كتل من خيوط فطرية تحت ارضية التي تتغذى على المواد العضو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فطر ينمو أفضل حول الأشجار المتحللة أو في التربة المخصبة . أنها تنمو برية (بدون زراعة)في الحقول والحدائق، ومجموعة أخرى متنوعة منها يمكن أن تزر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زل الفطري تحت الأرض يبرز لاعلى إلى فوق الارض لتتكون من خيوط متشابكة مدمجة تسمى الجسم الثمري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ui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و حامل البوغ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opho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المراحل الاولى الفتية يغطى الجسم الثمري كله بغشاء ومن ثم يتمزق الغشاء بسبب النمو، ويترك بقايا منه في القاعدة من الجسم الثمري يسمى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volv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ومن ثم يصبح  الجسم الثمري متميزإلى سا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lk or sti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قلنسو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 or pil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رف القلنسوة ملتصق مع الجز العلوي من الساق بواسطة غشاء الذي يتمزق نتيجة للنمو الافقي تاركة بقايا على الساق المعروفة باسم الحلقة او الطو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Agaricus    </a:t>
            </a:r>
            <a:r>
              <a:rPr b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(Mushroom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4280"/>
            <a:ext cx="4686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racter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aprophyti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ungus, appearing initially as mats or masses of subterranean septate hyphae which feed on organic mat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hrooms grow best around decayed trees or in fertilizied soils. It grows wild in fields and gardens, and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 variety of it is cultivat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undergroun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celium gives rise to an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vergrou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ody composed of compact interwoven hyphae called th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fruit body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poropho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young stages the whole fruit body is covered by a membrane which ruptures due to growth , leaving a remnant of it at the base of the fruit body called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volv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The fruit body then becomes differentiated into a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tal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tip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ap or pile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rim of the pileus is attached to the upper part of the stalk by a membrane which ruptures, due to the horizontal growth of pileus, leaving a remnant on the stalk known as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nnul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DTK\Pictures\mushrooms.jpg"/>
          <p:cNvPicPr/>
          <p:nvPr/>
        </p:nvPicPr>
        <p:blipFill>
          <a:blip r:embed="rId1"/>
          <a:stretch/>
        </p:blipFill>
        <p:spPr>
          <a:xfrm>
            <a:off x="7072200" y="38577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DTK\Pictures\mushroom.jpg"/>
          <p:cNvPicPr/>
          <p:nvPr/>
        </p:nvPicPr>
        <p:blipFill>
          <a:blip r:embed="rId2"/>
          <a:stretch/>
        </p:blipFill>
        <p:spPr>
          <a:xfrm>
            <a:off x="5286240" y="142884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DTK\Pictures\mush.jpg"/>
          <p:cNvPicPr/>
          <p:nvPr/>
        </p:nvPicPr>
        <p:blipFill>
          <a:blip r:embed="rId3"/>
          <a:stretch/>
        </p:blipFill>
        <p:spPr>
          <a:xfrm>
            <a:off x="7072200" y="142884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DTK\Pictures\fruiting body before it has opened up.jpg"/>
          <p:cNvPicPr/>
          <p:nvPr/>
        </p:nvPicPr>
        <p:blipFill>
          <a:blip r:embed="rId4"/>
          <a:stretch/>
        </p:blipFill>
        <p:spPr>
          <a:xfrm>
            <a:off x="5286240" y="3857760"/>
            <a:ext cx="1764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33480" y="549360"/>
            <a:ext cx="4969080" cy="417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ttp://www.fungionline.org.uk/images/7sexual/hymenc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06800" y="981000"/>
            <a:ext cx="3743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3571920" y="500040"/>
            <a:ext cx="2786040" cy="5643720"/>
            <a:chOff x="3571920" y="500040"/>
            <a:chExt cx="2786040" cy="5643720"/>
          </a:xfrm>
        </p:grpSpPr>
        <p:pic>
          <p:nvPicPr>
            <p:cNvPr id="59" name="Picture 6" descr="C:\Users\DTK\Pictures\mush.jpg"/>
            <p:cNvPicPr/>
            <p:nvPr/>
          </p:nvPicPr>
          <p:blipFill>
            <a:blip r:embed="rId1"/>
            <a:srcRect l="16674" t="0" r="0" b="0"/>
            <a:stretch/>
          </p:blipFill>
          <p:spPr>
            <a:xfrm>
              <a:off x="3571920" y="3371760"/>
              <a:ext cx="27860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7" descr="C:\Users\DTK\Pictures\fruiting body before it has opened up.jpg"/>
            <p:cNvPicPr/>
            <p:nvPr/>
          </p:nvPicPr>
          <p:blipFill>
            <a:blip r:embed="rId2"/>
            <a:stretch/>
          </p:blipFill>
          <p:spPr>
            <a:xfrm>
              <a:off x="3571920" y="500040"/>
              <a:ext cx="2786040" cy="28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parajita"/>
                <a:cs typeface="Aparajita"/>
              </a:rPr>
              <a:t>الأهمية الاقتصادية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parajita"/>
                <a:ea typeface="Aparajita"/>
              </a:rPr>
              <a:t>Economic import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250920" y="1341360"/>
            <a:ext cx="8748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أهمية الاقتصادية لأفراد فطرالأجاريكاليس تتمثل بالنقاط التالي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ها صالح للأكل قبل الانسان بسبب النكهة و الطعم الطيب وهي قيمة المحتوى من البروتين والفيتامي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تطورت صناعة زراعة الفطر في العديد من بلدان العالم كالولايات المتحدة وفرنس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وبعض الافراد الاخرى من هذه الرتبة سامة جداَ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عضها طفيلية على النباتات الراقية . أنها تسبب أمراضاً مثل تعفن الجذور لشجرة التفاح تدمير الخشب للعديد من أشجار الغابات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 انواع المشروم (فطريات الهلوسة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allucinogenic mushrooms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تستخدم تجريبيا في الطب كوسيلة مساعدة للعلاج النفسي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تستخدم مادة تسمى سيلوسيبين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psilocybin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المستخرجة من هذه الفطر، في دراسة الأنفصا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parajita"/>
                <a:ea typeface="Aparajita"/>
              </a:rPr>
              <a:t>Economic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The economic importance of members of agaricales is revealed by the following poin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of them are edible by human due to their nice flavor, taste and valuable content of protein and vitami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Mushroom-growing industry has developed in many countries of the world as the United States and Franc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Other members are very poisonou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are parasitic on higher plants. They cause diseases such as root rot of apple and wood destruction of many forest tre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mushrooms (hallucinogenic mushrooms) are being used experimentally in medicine as an aid to psychotherap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A substance called psilocybin, extracted from such mushrooms, is being used in the study of schizophren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3:56:06Z</dcterms:created>
  <dc:creator>DTK</dc:creator>
  <dc:description/>
  <dc:language>en-US</dc:language>
  <cp:lastModifiedBy>ihab moussa</cp:lastModifiedBy>
  <dcterms:modified xsi:type="dcterms:W3CDTF">2016-12-09T19:43:28Z</dcterms:modified>
  <cp:revision>18</cp:revision>
  <dc:subject/>
  <dc:title>Class  : Basidiomyceteae Club fungi (that produce spores on basidia )</dc:title>
</cp:coreProperties>
</file>