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49E-45A4-44BE-828F-D0884669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F76-45C5-4273-9546-CB1C6C32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306-AAF7-45DD-A45B-2509F4DA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3D4-2D5E-414C-9E80-C5AF4C77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2A9-6FF8-4AF3-ACA2-346F0C46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AD1-F3CF-458C-9A1F-B114E7C6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6D3-052C-4698-A796-5F757E45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F03-0554-4302-B067-4C466674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80BA-037E-45E7-A8DF-6E29BD25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B3B-6862-4A0D-A2B2-42AB293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8A4-A79F-41B1-9C82-8817948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F12-7742-4420-953D-D145B7E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EFE7-BE7A-41BF-8488-131215F52E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rct=j&amp;q=&amp;esrc=s&amp;frm=1&amp;source=images&amp;cd=&amp;cad=rja&amp;docid=FNFD-pZi39YfnM&amp;tbnid=rfUnNXpyog1TvM:&amp;ved=0CAUQjRw&amp;url=http%3A%2F%2Fwww.fungionline.org.uk%2F7sexual%2F7basidio.html&amp;ei=NzmTUuaOOujL0QXlhIHYBw&amp;psig=AFQjCNEdusoIpXJgjxSZP9I8caEA5yJ0jw&amp;ust=138546622627872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A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طائفة: الفطريات البازيدية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920" y="3994200"/>
            <a:ext cx="7885080" cy="2582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garicu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(Mushroo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79280" y="1916280"/>
            <a:ext cx="7885080" cy="2013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خصائ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مق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تاج جراثيم خارجية بازيدية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ospores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اسيديا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</a:t>
            </a:r>
            <a:r>
              <a:rPr b="0" lang="en-US" sz="20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إما تكون مقسمة أو غير مقس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مثلة: فطرة الاجاريكوس (المشروم) أو عيش الغرا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garic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Mushro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فطرة عيش الغراب أو المشرو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142920" y="368784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14292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2028960" y="1225440"/>
            <a:ext cx="1714320" cy="221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2004840" y="3701880"/>
            <a:ext cx="1764000" cy="2294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68560" y="1225440"/>
            <a:ext cx="5075280" cy="5823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خصائص فطر المشرو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ن الفطريات المترمم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ي تظهر في البداية كالحصير أو كتل من خيوط فطرية تحت ارضية التي تتغذى على المواد العضو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فطر ينمو أفضل حول الأشجار المتحللة أو في التربة المخصبة . أنها تنمو برية (بدون زراعة)في الحقول والحدائق، ومجموعة أخرى متنوعة منها يمكن أن تزر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غزل الفطري تحت الأرض يبرز لاعلى إلى فوق الارض لتتكون من خيوط متشابكة مدمجة تسمى الجسم الثمري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و حامل البوغ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opho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ي المراحل الاولى الفتية يغطى الجسم الثمري كله بغشاء ومن ثم يتمزق الغشاء بسبب النمو، ويترك بقايا منه في القاعدة من الجسم الثمري يسمى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volva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ومن ثم يصبح  الجسم الثمري متميزإلى سا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lk or st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قلنسوة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رف القلنسوة ملتصق مع الجز العلوي من الساق بواسطة غشاء الذي يتمزق نتيجة للنمو الافقي تاركة بقايا على الساق المعروفة باسم الحلقة او الطو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l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3480" y="549360"/>
            <a:ext cx="4969080" cy="417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http://www.fungionline.org.uk/images/7sexual/hymen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06800" y="981000"/>
            <a:ext cx="3743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9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parajita"/>
                <a:cs typeface="Aparajita"/>
              </a:rPr>
              <a:t>الأهمية الاقتصادية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250920" y="1341360"/>
            <a:ext cx="8748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</a:rPr>
              <a:t>الأهمية الاقتصادية لأفراد فطرالأجاريكاليس تتمثل بالنقاط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ها صالح للأكل قبل الانسان بسبب النكهة و الطعم الطيب وهي قيمة المحتوى من البروتين والفيتام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تطورت صناعة زراعة الفطر في العديد من بلدان العالم كالولايات المتحدة وفرنس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وبعض الافراد الاخرى من هذه الرتبة سامة جداَ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عضها طفيلية على النباتات الراقية . أنها تسبب أمراضاً مثل تعفن الجذور لشجرة التفاح تدمير الخشب للعديد من أشجار الغابات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بعض انواع المشروم (فطريات الهلوسة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allucinogenic mushrooms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تستخدم تجريبيا في الطب كوسيلة مساعدة للعلاج النفسي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وتستخدم مادة تسمى سيلوسيبين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psilocybin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المستخرجة من هذه الفطر، في دراسة الأنفصا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hu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) are being used experimentally in medicine as an aid to psychotherap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ihab moussa</cp:lastModifiedBy>
  <dcterms:modified xsi:type="dcterms:W3CDTF">2016-12-09T19:43:28Z</dcterms:modified>
  <cp:revision>18</cp:revision>
  <dc:subject/>
  <dc:title>Class  : Basidiomyceteae Club fungi (that produce spores on basidia )</dc:title>
</cp:coreProperties>
</file>