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6D6-203B-4DC6-9674-A06EC20A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89B-22B1-43FA-8A17-1A970602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1B5-0E33-4362-B96A-1EFADE6F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6C9-D693-4980-A0CE-04B8280D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355-E4D9-4CCE-A6D6-BBAFBF12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010-9C0B-404A-AE45-EEC7764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D50-AE83-4F8E-9F8F-3F17AE76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669-C24A-4425-96E5-247DFBE5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BAF-095B-4B4F-81C3-EFF0BCDE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8F5-2281-49BA-B341-5E4CB55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BCF-E104-4245-AA1A-A0405C9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B43-E676-46F8-9EFE-8CF6875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584-79F9-408C-AAA7-E2BE1775A9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كم (السيطرة) في النمو الميكروبي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76640"/>
            <a:ext cx="7488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141300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نمو الميكروبات أمر ضروري في كثير من الحالات العملية، حيث ساعد على التقدم الكبير في علوم الزراعة والطب، وعلوم الاغذ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النمو الميكروبي تعني منع أو تثبيط نمو الكائنات الحية الدقي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85600" y="1187280"/>
            <a:ext cx="20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uli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70680" y="11970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2. Disinfectants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 السط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22840" y="1197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3. Preservatives</a:t>
            </a:r>
            <a:r>
              <a:rPr b="1" lang="ar-SA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واد الحافظ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1"/>
          <p:cNvCxnSpPr>
            <a:stCxn id="15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6" name="Straight Arrow Connector 12"/>
          <p:cNvCxnSpPr>
            <a:stCxn id="151" idx="2"/>
            <a:endCxn id="154" idx="0"/>
          </p:cNvCxnSpPr>
          <p:nvPr/>
        </p:nvCxnSpPr>
        <p:spPr>
          <a:xfrm>
            <a:off x="4392360" y="650520"/>
            <a:ext cx="316620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7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58" name="Rectangle 1"/>
          <p:cNvSpPr/>
          <p:nvPr/>
        </p:nvSpPr>
        <p:spPr>
          <a:xfrm>
            <a:off x="179280" y="204480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مؤذية كفاية ليتم تطبيقها على الجلد والأغشية المخاط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ينبغي أن لا تؤخذ داخليا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وتشمل مثل الكحول، نترات الفضة، محلول اليود، الكحول، المنظف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798640" y="1738440"/>
            <a:ext cx="3068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يست آمنة التطبيق على الأنسجة الحي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ستخدم في الجمادات مثل الاواني والارضيات  والطاولات، آنية فخارية، إلخ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مثلة: هيبوكلوريت ومركبات الكلور، كبريتات النحاس، والفورمالديهايد، والمركبات الفينول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48360" y="1833480"/>
            <a:ext cx="304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عوامل مثبطة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ic ag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تثبيط النمو للكائنات الحية الدقيق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حفظ الاطعم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فظ يكون للمأكولات في مواد غير سام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ومن الأمثلة بروبيونات الكالسيوم، بنزوات الصوديوم، والنترات وثاني أكسيد الكبريت، وأكسيد الإيثيلين(يمنع تكاثر الميكروبات) والأوزون (تستخدم كمطهر للمياه والأغذية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" name="Straight Arrow Connector 11"/>
          <p:cNvCxnSpPr>
            <a:stCxn id="16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>
            <a:stCxn id="161" idx="2"/>
            <a:endCxn id="166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0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1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72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2833560" y="26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ological agents are antimicrobial agents that kill (cidal effect) or inhibit (static effect)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microbial agents may be of natural or synthetic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9"/>
          <p:cNvCxnSpPr>
            <a:stCxn id="178" idx="2"/>
            <a:endCxn id="176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80" name="Straight Arrow Connector 10"/>
          <p:cNvCxnSpPr>
            <a:stCxn id="178" idx="2"/>
            <a:endCxn id="177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81" name="Rectangle 15"/>
          <p:cNvSpPr/>
          <p:nvPr/>
        </p:nvSpPr>
        <p:spPr>
          <a:xfrm>
            <a:off x="4572000" y="5272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250920" y="5229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50920" y="7905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عوامل البيولوجية هي مضادات الميكروبات (المضادات الحيوية) التي تقتل (تأثير قاتل ) أو تمنع نمو الكائنات الحية الدقيقة (تأثير مثبط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د تكون هذه  المضادات طبيعية المصدر أو 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24452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بيع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64200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-108000" y="40719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تي تنتجها الكائنات الحية الدقيقة قد تقتل أو تثبط نمو  كائنات حية  دقيقة أخرى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تها البنسلين ومشتقا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61080" y="3906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جزيئات التي ينتجها ميكروب يتم تعديلها بواسطة الكيمياء العضوية لتعزيز خصائصها المضادة للميكروبات أو جعلها فريدة من نوعها لبراءة اختراع الأدو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ة سولفونيلاميديس والكلورامفينيكو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فعالية المضادات الحيو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-101520" y="37116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positive and Gram-negative 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043680" y="3757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single organis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5640" y="3341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oad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517200" y="529416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ow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495120" y="31561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mited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835360" y="56484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negative or Gram-positive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own Arrow 9"/>
          <p:cNvSpPr/>
          <p:nvPr/>
        </p:nvSpPr>
        <p:spPr>
          <a:xfrm>
            <a:off x="4500720" y="1700280"/>
            <a:ext cx="215640" cy="16412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43400" y="1601640"/>
            <a:ext cx="2201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واس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22440" y="1587600"/>
            <a:ext cx="22982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محد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76040" y="1955880"/>
            <a:ext cx="294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مجموعة واسعة من السالبة والموجبة لصبغة غرا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43680" y="2001960"/>
            <a:ext cx="27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كائن واح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711600" y="3710160"/>
            <a:ext cx="20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طائفة واسعة من البكتيريا سالبة لغرام أو موجبة لغرا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3610440" y="3341520"/>
            <a:ext cx="2120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ض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بواسطة قتل الكائنات الحية الدقيق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أثر هذا التحكم بطريقتين أساسيت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4500720" y="2133720"/>
            <a:ext cx="417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بواسطة تثبيط النمو للكائنات الحية ال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08000" y="484812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قتل الخلايا تسم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4518000" y="484668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عمل على تثبيط نمو الخلايا تسمى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7"/>
          <p:cNvCxnSpPr>
            <a:endCxn id="44" idx="0"/>
          </p:cNvCxnSpPr>
          <p:nvPr/>
        </p:nvCxnSpPr>
        <p:spPr>
          <a:xfrm flipH="1">
            <a:off x="2369520" y="1341000"/>
            <a:ext cx="2500920" cy="52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4870080" y="1341000"/>
            <a:ext cx="17182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1"/>
          <p:cNvCxnSpPr>
            <a:stCxn id="44" idx="2"/>
          </p:cNvCxnSpPr>
          <p:nvPr/>
        </p:nvCxnSpPr>
        <p:spPr>
          <a:xfrm flipH="1">
            <a:off x="2231640" y="3157560"/>
            <a:ext cx="13896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>
            <a:off x="6588000" y="3573000"/>
            <a:ext cx="5472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Jokerman"/>
                <a:cs typeface="Arial"/>
              </a:rPr>
              <a:t>العوامل المستخدمة في السيطرة على الكائنات الحية الدقيق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 أنوا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Agents used in Controlling of Microorganis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. 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كيميائ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171360" y="232092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ker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طبيعية (الفيزيائي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I.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بيولوج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Biolog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1"/>
          <p:cNvGrpSpPr/>
          <p:nvPr/>
        </p:nvGrpSpPr>
        <p:grpSpPr>
          <a:xfrm>
            <a:off x="602280" y="3429000"/>
            <a:ext cx="2529720" cy="2965320"/>
            <a:chOff x="602280" y="3429000"/>
            <a:chExt cx="2529720" cy="2965320"/>
          </a:xfrm>
        </p:grpSpPr>
        <p:sp>
          <p:nvSpPr>
            <p:cNvPr id="58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Filtr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5.</a:t>
              </a:r>
              <a:r>
                <a:rPr b="1" lang="en-US" sz="32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freezing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Jokerman"/>
                </a:rPr>
                <a:t>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Pasteurization</a:t>
              </a: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.</a:t>
              </a: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602280" y="593460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Dry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50"/>
          <p:cNvGrpSpPr/>
          <p:nvPr/>
        </p:nvGrpSpPr>
        <p:grpSpPr>
          <a:xfrm>
            <a:off x="324000" y="3024720"/>
            <a:ext cx="1152000" cy="3213000"/>
            <a:chOff x="324000" y="3024720"/>
            <a:chExt cx="1152000" cy="3213000"/>
          </a:xfrm>
        </p:grpSpPr>
        <p:cxnSp>
          <p:nvCxnSpPr>
            <p:cNvPr id="65" name="Elbow Connector 15"/>
            <p:cNvCxnSpPr/>
            <p:nvPr/>
          </p:nvCxnSpPr>
          <p:spPr>
            <a:xfrm flipV="1" rot="10800000">
              <a:off x="331200" y="3024720"/>
              <a:ext cx="1145160" cy="330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6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3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4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Antiseptics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200" spc="-1" strike="noStrike">
                  <a:solidFill>
                    <a:srgbClr val="000000"/>
                  </a:solidFill>
                  <a:latin typeface="Gisha"/>
                  <a:ea typeface="Gisha"/>
                </a:rPr>
                <a:t>Preservativ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0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2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3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4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5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6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7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8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Natural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Semisynthetic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0" name="Straight Arrow Connector 64"/>
          <p:cNvCxnSpPr/>
          <p:nvPr/>
        </p:nvCxnSpPr>
        <p:spPr>
          <a:xfrm flipH="1">
            <a:off x="2194920" y="1858680"/>
            <a:ext cx="2329560" cy="462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6"/>
          <p:cNvCxnSpPr/>
          <p:nvPr/>
        </p:nvCxnSpPr>
        <p:spPr>
          <a:xfrm>
            <a:off x="4516560" y="1839960"/>
            <a:ext cx="2071800" cy="4816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2" name="Straight Arrow Connector 69"/>
          <p:cNvCxnSpPr/>
          <p:nvPr/>
        </p:nvCxnSpPr>
        <p:spPr>
          <a:xfrm flipH="1">
            <a:off x="4474800" y="1839960"/>
            <a:ext cx="4176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93" name="Rectangle 5"/>
          <p:cNvSpPr/>
          <p:nvPr/>
        </p:nvSpPr>
        <p:spPr>
          <a:xfrm>
            <a:off x="1982520" y="3522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را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387160" y="3921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اشعا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2421720" y="45306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فل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644200" y="4997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بس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272320" y="5516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مي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2001960" y="59961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في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3880080" y="523728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واد الحافظ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3334680" y="45543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اسطح-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3237840" y="399420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جلدية-غير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7198560" y="461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شبة صنا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8123040" y="384804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بي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Jokerman"/>
              </a:rPr>
              <a:t>العوامل الفيزيائية</a:t>
            </a:r>
            <a:br>
              <a:rPr sz="3200"/>
            </a:b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2</a:t>
            </a: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-Physical Agents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Heating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حرارة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Jokerman"/>
              </a:rPr>
              <a:t>استخدام درجة الحرارة لضمان تدمير جميع الكائنات الحية الدقي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289800" y="1844640"/>
            <a:ext cx="8597520" cy="2591280"/>
            <a:chOff x="289800" y="1844640"/>
            <a:chExt cx="8597520" cy="2591280"/>
          </a:xfrm>
        </p:grpSpPr>
        <p:sp>
          <p:nvSpPr>
            <p:cNvPr id="107" name="Rectangle 15"/>
            <p:cNvSpPr/>
            <p:nvPr/>
          </p:nvSpPr>
          <p:spPr>
            <a:xfrm>
              <a:off x="289800" y="350100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2644560" y="35042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4523040" y="3429000"/>
              <a:ext cx="1993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</a:rPr>
                <a:t>الاوتوكلا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7363800" y="335700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970560" y="1844640"/>
              <a:ext cx="7130880" cy="1597680"/>
              <a:chOff x="970560" y="1844640"/>
              <a:chExt cx="7130880" cy="1597680"/>
            </a:xfrm>
          </p:grpSpPr>
          <p:grpSp>
            <p:nvGrpSpPr>
              <p:cNvPr id="112" name="Group 14"/>
              <p:cNvGrpSpPr/>
              <p:nvPr/>
            </p:nvGrpSpPr>
            <p:grpSpPr>
              <a:xfrm>
                <a:off x="970560" y="1844640"/>
                <a:ext cx="7130880" cy="1584720"/>
                <a:chOff x="970560" y="1844640"/>
                <a:chExt cx="7130880" cy="1584720"/>
              </a:xfrm>
            </p:grpSpPr>
            <p:sp>
              <p:nvSpPr>
                <p:cNvPr id="113" name="Down Arrow 4"/>
                <p:cNvSpPr/>
                <p:nvPr/>
              </p:nvSpPr>
              <p:spPr>
                <a:xfrm>
                  <a:off x="4284360" y="1844640"/>
                  <a:ext cx="431640" cy="648000"/>
                </a:xfrm>
                <a:prstGeom prst="downArrow">
                  <a:avLst>
                    <a:gd name="adj1" fmla="val 50000"/>
                    <a:gd name="adj2" fmla="val 50042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" name="Elbow Connector 6"/>
                <p:cNvCxnSpPr>
                  <a:stCxn id="113" idx="0"/>
                </p:cNvCxnSpPr>
                <p:nvPr/>
              </p:nvCxnSpPr>
              <p:spPr>
                <a:xfrm rot="5400000">
                  <a:off x="2554920" y="90792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" name="Elbow Connector 8"/>
                <p:cNvCxnSpPr>
                  <a:stCxn id="113" idx="1"/>
                </p:cNvCxnSpPr>
                <p:nvPr/>
              </p:nvCxnSpPr>
              <p:spPr>
                <a:xfrm flipH="1" rot="16200000">
                  <a:off x="6120360" y="87192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6" name="Straight Arrow Connector 11"/>
                <p:cNvCxnSpPr/>
                <p:nvPr/>
              </p:nvCxnSpPr>
              <p:spPr>
                <a:xfrm>
                  <a:off x="3060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7" name="Straight Arrow Connector 13"/>
                <p:cNvCxnSpPr/>
                <p:nvPr/>
              </p:nvCxnSpPr>
              <p:spPr>
                <a:xfrm>
                  <a:off x="5508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18" name="Straight Arrow Connector 20"/>
              <p:cNvCxnSpPr/>
              <p:nvPr/>
            </p:nvCxnSpPr>
            <p:spPr>
              <a:xfrm>
                <a:off x="8100720" y="285300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22"/>
              <p:cNvCxnSpPr/>
              <p:nvPr/>
            </p:nvCxnSpPr>
            <p:spPr>
              <a:xfrm>
                <a:off x="970920" y="285300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20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4356000" y="432288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174080" y="520236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0240" y="3776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04600" y="37609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غلي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1000" y="3870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ارة الجا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412640"/>
            <a:ext cx="8229600" cy="103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ادة ما يدمر أو يشوه الأحماض النو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693880" y="54144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Gisha"/>
                <a:ea typeface="Gisha"/>
              </a:rPr>
              <a:t>2. Irradiation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cs typeface="Gisha"/>
              </a:rPr>
              <a:t>الاشعاع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ea typeface="Gish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48080" y="3357720"/>
            <a:ext cx="5790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في تعقيم أسطح الاش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own Arrow 6"/>
          <p:cNvSpPr/>
          <p:nvPr/>
        </p:nvSpPr>
        <p:spPr>
          <a:xfrm>
            <a:off x="4284720" y="2492280"/>
            <a:ext cx="503280" cy="720720"/>
          </a:xfrm>
          <a:prstGeom prst="downArrow">
            <a:avLst>
              <a:gd name="adj1" fmla="val 38463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23920" y="515772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واسطة الأشعة السينية وأشعة جاما وأشعة حزمة الإلكت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own Arrow 7"/>
          <p:cNvSpPr/>
          <p:nvPr/>
        </p:nvSpPr>
        <p:spPr>
          <a:xfrm>
            <a:off x="4264200" y="4406760"/>
            <a:ext cx="502920" cy="654120"/>
          </a:xfrm>
          <a:prstGeom prst="downArrow">
            <a:avLst>
              <a:gd name="adj1" fmla="val 38463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t Placeholder 2"/>
          <p:cNvSpPr/>
          <p:nvPr/>
        </p:nvSpPr>
        <p:spPr>
          <a:xfrm>
            <a:off x="3095640" y="461880"/>
            <a:ext cx="295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3. Filtration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فلترة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2043000"/>
            <a:ext cx="84247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زالة الاشياء المادية (الاستبعاد) لكافة الخلايا في سائل أو غا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960" y="4508640"/>
            <a:ext cx="82072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لإزالة أصغر الخلايا البكتيرية المعروف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own Arrow 6"/>
          <p:cNvSpPr/>
          <p:nvPr/>
        </p:nvSpPr>
        <p:spPr>
          <a:xfrm>
            <a:off x="4537080" y="11970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own Arrow 7"/>
          <p:cNvSpPr/>
          <p:nvPr/>
        </p:nvSpPr>
        <p:spPr>
          <a:xfrm>
            <a:off x="4479840" y="3340080"/>
            <a:ext cx="432000" cy="6732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700360" y="765000"/>
            <a:ext cx="4103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4. Pasteurization 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بست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20640" y="2262240"/>
            <a:ext cx="8344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وهذا يعني استخدام الحرارة المعتدلة لتقليل عدد الكائنات الحية الدقيقة في المنتج أو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المواد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0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20640" y="4541760"/>
            <a:ext cx="7991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BatangChe"/>
                <a:cs typeface="BatangChe"/>
              </a:rPr>
              <a:t>الحليب عادة يبستر بالحرارة عند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63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، أو في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71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5. freezing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Arial"/>
              </a:rPr>
              <a:t>التجميد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Arial"/>
              </a:rPr>
              <a:t> </a:t>
            </a:r>
            <a:br>
              <a:rPr sz="4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328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جات الحرارة المنخفضة (التبريد والتجمي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179280" y="3141720"/>
            <a:ext cx="8734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عظم الكائنات الحية تنمو ببطء أو لا تنمو على الاطلاق  عند درجة التجمد الصفر المئ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أغذية القابلة للتلف تخزن في درجات حرارة منخفضة لإبطاء معدل النم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Perishable foods are stored at low temperatures to slow rate of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59984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معظم الكائنات الحية الدقيقة لا يمكنها أن عند انخفاض النشاط المائ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غالباً ما يتم استخدام التجفيف للحفاظ على الأطعمة (مثل الفواكه، الحبوب، إلخ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icroorganisms cannot grow at reduced water ac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ying is often used to preserve foods (e.g. fruits, grains, etc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85520" y="836640"/>
            <a:ext cx="335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6. Drying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تجفيف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ihab moussa</cp:lastModifiedBy>
  <cp:lastPrinted>2013-12-03T07:01:16Z</cp:lastPrinted>
  <dcterms:modified xsi:type="dcterms:W3CDTF">2016-12-09T19:42:07Z</dcterms:modified>
  <cp:revision>46</cp:revision>
  <dc:subject/>
  <dc:title>Controlling of Microbial Growth</dc:title>
</cp:coreProperties>
</file>