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174-0A89-43AE-ADBE-0B6E4EED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7AF-2E4E-45C0-AB96-C742E9B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18D-E345-4546-A64C-35331080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22D-FC83-41D0-B2D0-65499B6D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8F6-A1AE-486A-802D-DEB36FE8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F14-AD8B-41F1-B2D2-D2BD88B5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DEC2-716C-4BE1-A7BA-0786BD9F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EDD-8040-45AB-96EF-B3BE6705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230-9663-4603-BDB2-94D03269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56-E1E1-471B-A67F-770D99F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4EB-E7B6-45CF-95B2-2D348697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CC8-F0F5-4DEC-81F6-9D90A359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50E-0CAD-4C1C-BC51-EF474EB786B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تحكم (السيطرة) في النمو الميكروبي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4076640"/>
            <a:ext cx="7488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11280" y="141300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نمو الميكروبات أمر ضروري في كثير من الحالات العملية، حيث ساعد على التقدم الكبير في علوم الزراعة والطب، وعلوم الاغذ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سيطرة على النمو الميكروبي تعني منع أو تثبيط نمو الكائنات الحية الدقي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85600" y="1187280"/>
            <a:ext cx="20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uli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70680" y="119700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2. Disinfectants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طهرات السطح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522840" y="1197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Gulim"/>
              </a:rPr>
              <a:t>3. Preservatives</a:t>
            </a:r>
            <a:r>
              <a:rPr b="1" lang="ar-SA" sz="18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مواد الحافظ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1"/>
          <p:cNvCxnSpPr>
            <a:stCxn id="15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6" name="Straight Arrow Connector 12"/>
          <p:cNvCxnSpPr>
            <a:stCxn id="151" idx="2"/>
            <a:endCxn id="154" idx="0"/>
          </p:cNvCxnSpPr>
          <p:nvPr/>
        </p:nvCxnSpPr>
        <p:spPr>
          <a:xfrm>
            <a:off x="4392360" y="650520"/>
            <a:ext cx="316620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57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58" name="Rectangle 1"/>
          <p:cNvSpPr/>
          <p:nvPr/>
        </p:nvSpPr>
        <p:spPr>
          <a:xfrm>
            <a:off x="179280" y="2044800"/>
            <a:ext cx="266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غيرمؤذية كفاية ليتم تطبيقها على الجلد والأغشية المخاط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ينبغي أن لا تؤخذ داخليا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وتشمل مثل الكحول، نترات الفضة، محلول اليود، الكحول، المنظفات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2798640" y="1738440"/>
            <a:ext cx="3068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عوامل قاتل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dal ag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ليست آمنة التطبيق على الأنسجة الحية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ستخدم في الجمادات مثل الاواني والارضيات  والطاولات، آنية فخارية، إلخ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مثلة: هيبوكلوريت ومركبات الكلور، كبريتات النحاس، والفورمالديهايد، والمركبات الفينولي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48360" y="1833480"/>
            <a:ext cx="304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عوامل مثبطة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tic agen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تثبيط النمو للكائنات الحية الدقيق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تستخدم في حفظ الاطعم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فظ يكون للمأكولات في مواد غير سامة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ومن الأمثلة بروبيونات الكالسيوم، بنزوات الصوديوم، والنترات وثاني أكسيد الكبريت، وأكسيد الإيثيلين(يمنع تكاثر الميكروبات) والأوزون (تستخدم كمطهر للمياه والأغذية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8" name="Straight Arrow Connector 11"/>
          <p:cNvCxnSpPr>
            <a:stCxn id="161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69" name="Straight Arrow Connector 12"/>
          <p:cNvCxnSpPr>
            <a:stCxn id="161" idx="2"/>
            <a:endCxn id="166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0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71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72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4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2833560" y="26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iological agents are antimicrobial agents that kill (cidal effect) or inhibit (static effect)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timicrobial agents may be of natural or synthetic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Straight Arrow Connector 9"/>
          <p:cNvCxnSpPr>
            <a:stCxn id="178" idx="2"/>
            <a:endCxn id="176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80" name="Straight Arrow Connector 10"/>
          <p:cNvCxnSpPr>
            <a:stCxn id="178" idx="2"/>
            <a:endCxn id="177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81" name="Rectangle 15"/>
          <p:cNvSpPr/>
          <p:nvPr/>
        </p:nvSpPr>
        <p:spPr>
          <a:xfrm>
            <a:off x="4572000" y="5272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250920" y="5229360"/>
            <a:ext cx="352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250920" y="79056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عوامل البيولوجية هي مضادات الميكروبات (المضادات الحيوية) التي تقتل (تأثير قاتل ) أو تمنع نمو الكائنات الحية الدقيقة (تأثير مثبط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قد تكون هذه  المضادات طبيعية المصدر أو 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24452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طبيع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642000" y="36939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صناع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-108000" y="407196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تي تنتجها الكائنات الحية الدقيقة قد تقتل أو تثبط نمو  كائنات حية  دقيقة أخرى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تها البنسلين ومشتقا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861080" y="3906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جزيئات التي ينتجها ميكروب يتم تعديلها بواسطة الكيمياء العضوية لتعزيز خصائصها المضادة للميكروبات أو جعلها فريدة من نوعها لبراءة اختراع الأدو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ومن أمثلة سولفونيلاميديس والكلورامفينيكو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فعالية المضادات الحيو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-101520" y="37116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positive and Gram-negative 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043680" y="3757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single organis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15640" y="33415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oad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517200" y="529416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ow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6495120" y="315612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mited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835360" y="564840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Gram-negative or Gram-positive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own Arrow 9"/>
          <p:cNvSpPr/>
          <p:nvPr/>
        </p:nvSpPr>
        <p:spPr>
          <a:xfrm>
            <a:off x="4500720" y="1700280"/>
            <a:ext cx="215640" cy="164124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1"/>
          <p:cNvSpPr/>
          <p:nvPr/>
        </p:nvSpPr>
        <p:spPr>
          <a:xfrm>
            <a:off x="743400" y="1601640"/>
            <a:ext cx="2201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واس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6022440" y="1587600"/>
            <a:ext cx="22982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محدو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176040" y="1955880"/>
            <a:ext cx="294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مجموعة واسعة من السالبة والموجبة لصبغة غرا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43680" y="2001960"/>
            <a:ext cx="27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كائن واح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711600" y="3710160"/>
            <a:ext cx="200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ضادات الحيوية الفعالة ضد بدائيات النواة التي تقتل أو تثبط طائفة واسعة من البكتيريا سالبة لغرام أو موجبة لغرا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3610440" y="3341520"/>
            <a:ext cx="2120040" cy="36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r" rtl="1"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ذات طيف ض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بواسطة قتل الكائنات الحية الدقيقة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أثر هذا التحكم بطريقتين أساسيتي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4500720" y="2133720"/>
            <a:ext cx="417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بواسطة تثبيط النمو للكائنات الحية ال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108000" y="484812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قتل الخلايا تسمى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4518000" y="484668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عوامل التي تعمل على تثبيط نمو الخلايا تسمى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7"/>
          <p:cNvCxnSpPr>
            <a:endCxn id="44" idx="0"/>
          </p:cNvCxnSpPr>
          <p:nvPr/>
        </p:nvCxnSpPr>
        <p:spPr>
          <a:xfrm flipH="1">
            <a:off x="2369520" y="1341000"/>
            <a:ext cx="2500920" cy="52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9"/>
          <p:cNvCxnSpPr/>
          <p:nvPr/>
        </p:nvCxnSpPr>
        <p:spPr>
          <a:xfrm>
            <a:off x="4870080" y="1341000"/>
            <a:ext cx="17182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1"/>
          <p:cNvCxnSpPr>
            <a:stCxn id="44" idx="2"/>
          </p:cNvCxnSpPr>
          <p:nvPr/>
        </p:nvCxnSpPr>
        <p:spPr>
          <a:xfrm flipH="1">
            <a:off x="2231640" y="3157560"/>
            <a:ext cx="138960" cy="120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3"/>
          <p:cNvCxnSpPr/>
          <p:nvPr/>
        </p:nvCxnSpPr>
        <p:spPr>
          <a:xfrm>
            <a:off x="6588000" y="3573000"/>
            <a:ext cx="54720" cy="79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5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Jokerman"/>
                <a:cs typeface="Arial"/>
              </a:rPr>
              <a:t>العوامل المستخدمة في السيطرة على الكائنات الحية الدقيق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Jokerman"/>
                <a:ea typeface="Arial"/>
              </a:rPr>
              <a:t> أنوا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Agents used in Controlling of Microorganis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Gisha"/>
                <a:ea typeface="Gisha"/>
              </a:rPr>
              <a:t>3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. 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كيميائ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171360" y="232092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Joker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طبيعية (الفيزيائية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III. 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عوامل البيولوج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Biological A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51"/>
          <p:cNvGrpSpPr/>
          <p:nvPr/>
        </p:nvGrpSpPr>
        <p:grpSpPr>
          <a:xfrm>
            <a:off x="602280" y="3429000"/>
            <a:ext cx="2529720" cy="2965320"/>
            <a:chOff x="602280" y="3429000"/>
            <a:chExt cx="2529720" cy="2965320"/>
          </a:xfrm>
        </p:grpSpPr>
        <p:sp>
          <p:nvSpPr>
            <p:cNvPr id="58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Filtration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5.</a:t>
              </a:r>
              <a:r>
                <a:rPr b="1" lang="en-US" sz="32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freezing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4</a:t>
              </a:r>
              <a:r>
                <a:rPr b="1" lang="en-US" sz="1800" spc="-1" strike="noStrike">
                  <a:solidFill>
                    <a:srgbClr val="000000"/>
                  </a:solidFill>
                  <a:latin typeface="Jokerman"/>
                </a:rPr>
                <a:t>.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Pasteurization</a:t>
              </a:r>
              <a:r>
                <a:rPr b="0" lang="en-US" sz="15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.</a:t>
              </a: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602280" y="5934600"/>
              <a:ext cx="140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6.</a:t>
              </a: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Gisha"/>
                  <a:ea typeface="Gisha"/>
                </a:rPr>
                <a:t>Dry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50"/>
          <p:cNvGrpSpPr/>
          <p:nvPr/>
        </p:nvGrpSpPr>
        <p:grpSpPr>
          <a:xfrm>
            <a:off x="324000" y="3024720"/>
            <a:ext cx="1152000" cy="3213000"/>
            <a:chOff x="324000" y="3024720"/>
            <a:chExt cx="1152000" cy="3213000"/>
          </a:xfrm>
        </p:grpSpPr>
        <p:cxnSp>
          <p:nvCxnSpPr>
            <p:cNvPr id="65" name="Elbow Connector 15"/>
            <p:cNvCxnSpPr/>
            <p:nvPr/>
          </p:nvCxnSpPr>
          <p:spPr>
            <a:xfrm flipV="1" rot="10800000">
              <a:off x="331200" y="3024720"/>
              <a:ext cx="1145160" cy="330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6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7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3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4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6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2300" spc="-1" strike="noStrike">
                  <a:solidFill>
                    <a:srgbClr val="000000"/>
                  </a:solidFill>
                  <a:latin typeface="Gisha"/>
                  <a:ea typeface="Gisha"/>
                </a:rPr>
                <a:t>Antiseptics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3. </a:t>
              </a:r>
              <a:r>
                <a:rPr b="1" lang="en-US" sz="2200" spc="-1" strike="noStrike">
                  <a:solidFill>
                    <a:srgbClr val="000000"/>
                  </a:solidFill>
                  <a:latin typeface="Gisha"/>
                  <a:ea typeface="Gisha"/>
                </a:rPr>
                <a:t>Preservativ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0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2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3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4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5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6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7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8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1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Natural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sha"/>
                  <a:ea typeface="Gisha"/>
                </a:rPr>
                <a:t>2. </a:t>
              </a:r>
              <a:r>
                <a:rPr b="1" lang="en-US" sz="1900" spc="-1" strike="noStrike">
                  <a:solidFill>
                    <a:srgbClr val="000000"/>
                  </a:solidFill>
                  <a:latin typeface="Gisha"/>
                  <a:ea typeface="Gisha"/>
                </a:rPr>
                <a:t>Semisynthetic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90" name="Straight Arrow Connector 64"/>
          <p:cNvCxnSpPr/>
          <p:nvPr/>
        </p:nvCxnSpPr>
        <p:spPr>
          <a:xfrm flipH="1">
            <a:off x="2194920" y="1858680"/>
            <a:ext cx="2329560" cy="4626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6"/>
          <p:cNvCxnSpPr/>
          <p:nvPr/>
        </p:nvCxnSpPr>
        <p:spPr>
          <a:xfrm>
            <a:off x="4516560" y="1839960"/>
            <a:ext cx="2071800" cy="48168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2" name="Straight Arrow Connector 69"/>
          <p:cNvCxnSpPr/>
          <p:nvPr/>
        </p:nvCxnSpPr>
        <p:spPr>
          <a:xfrm flipH="1">
            <a:off x="4474800" y="1839960"/>
            <a:ext cx="4176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93" name="Rectangle 5"/>
          <p:cNvSpPr/>
          <p:nvPr/>
        </p:nvSpPr>
        <p:spPr>
          <a:xfrm>
            <a:off x="1982520" y="352260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حرا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2387160" y="39211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اشعا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2421720" y="453060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فل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2644200" y="4997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بستر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2272320" y="55166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مي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2001960" y="59961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تجفي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3880080" y="5237280"/>
            <a:ext cx="14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واد الحافظ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4"/>
          <p:cNvSpPr/>
          <p:nvPr/>
        </p:nvSpPr>
        <p:spPr>
          <a:xfrm>
            <a:off x="3334680" y="45543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اسطح-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3237840" y="399420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مطهرات (الجلدية-غيرسامة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6"/>
          <p:cNvSpPr/>
          <p:nvPr/>
        </p:nvSpPr>
        <p:spPr>
          <a:xfrm>
            <a:off x="7198560" y="461484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شبة صنا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7"/>
          <p:cNvSpPr/>
          <p:nvPr/>
        </p:nvSpPr>
        <p:spPr>
          <a:xfrm>
            <a:off x="8123040" y="384804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طبيعي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81bd"/>
                </a:solidFill>
                <a:latin typeface="Jokerman"/>
              </a:rPr>
              <a:t>العوامل الفيزيائية</a:t>
            </a:r>
            <a:br>
              <a:rPr sz="3200"/>
            </a:b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2</a:t>
            </a:r>
            <a:r>
              <a:rPr b="1" lang="en-US" sz="2000" spc="-1" strike="noStrike">
                <a:solidFill>
                  <a:srgbClr val="4f81bd"/>
                </a:solidFill>
                <a:latin typeface="Gisha"/>
                <a:ea typeface="Gisha"/>
              </a:rPr>
              <a:t>-Physical Agents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Heating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الحرارة</a:t>
            </a:r>
            <a:r>
              <a:rPr b="1" lang="ar-SA" sz="1800" spc="-1" strike="noStrike">
                <a:solidFill>
                  <a:srgbClr val="000000"/>
                </a:solidFill>
                <a:latin typeface="Joker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Jokerman"/>
              </a:rPr>
              <a:t>استخدام درجة الحرارة لضمان تدمير جميع الكائنات الحية الدقي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Group 27"/>
          <p:cNvGrpSpPr/>
          <p:nvPr/>
        </p:nvGrpSpPr>
        <p:grpSpPr>
          <a:xfrm>
            <a:off x="289800" y="1844640"/>
            <a:ext cx="8597520" cy="2591280"/>
            <a:chOff x="289800" y="1844640"/>
            <a:chExt cx="8597520" cy="2591280"/>
          </a:xfrm>
        </p:grpSpPr>
        <p:sp>
          <p:nvSpPr>
            <p:cNvPr id="107" name="Rectangle 15"/>
            <p:cNvSpPr/>
            <p:nvPr/>
          </p:nvSpPr>
          <p:spPr>
            <a:xfrm>
              <a:off x="289800" y="350100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6"/>
            <p:cNvSpPr/>
            <p:nvPr/>
          </p:nvSpPr>
          <p:spPr>
            <a:xfrm>
              <a:off x="2644560" y="35042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17"/>
            <p:cNvSpPr/>
            <p:nvPr/>
          </p:nvSpPr>
          <p:spPr>
            <a:xfrm>
              <a:off x="4523040" y="3429000"/>
              <a:ext cx="1993320" cy="10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</a:rPr>
                <a:t>الاوتوكلا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8"/>
            <p:cNvSpPr/>
            <p:nvPr/>
          </p:nvSpPr>
          <p:spPr>
            <a:xfrm>
              <a:off x="7363800" y="335700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970560" y="1844640"/>
              <a:ext cx="7130880" cy="1597680"/>
              <a:chOff x="970560" y="1844640"/>
              <a:chExt cx="7130880" cy="1597680"/>
            </a:xfrm>
          </p:grpSpPr>
          <p:grpSp>
            <p:nvGrpSpPr>
              <p:cNvPr id="112" name="Group 14"/>
              <p:cNvGrpSpPr/>
              <p:nvPr/>
            </p:nvGrpSpPr>
            <p:grpSpPr>
              <a:xfrm>
                <a:off x="970560" y="1844640"/>
                <a:ext cx="7130880" cy="1584720"/>
                <a:chOff x="970560" y="1844640"/>
                <a:chExt cx="7130880" cy="1584720"/>
              </a:xfrm>
            </p:grpSpPr>
            <p:sp>
              <p:nvSpPr>
                <p:cNvPr id="113" name="Down Arrow 4"/>
                <p:cNvSpPr/>
                <p:nvPr/>
              </p:nvSpPr>
              <p:spPr>
                <a:xfrm>
                  <a:off x="4284360" y="1844640"/>
                  <a:ext cx="431640" cy="648000"/>
                </a:xfrm>
                <a:prstGeom prst="downArrow">
                  <a:avLst>
                    <a:gd name="adj1" fmla="val 50000"/>
                    <a:gd name="adj2" fmla="val 50042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14" name="Elbow Connector 6"/>
                <p:cNvCxnSpPr>
                  <a:stCxn id="113" idx="0"/>
                </p:cNvCxnSpPr>
                <p:nvPr/>
              </p:nvCxnSpPr>
              <p:spPr>
                <a:xfrm rot="5400000">
                  <a:off x="2554920" y="90792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5" name="Elbow Connector 8"/>
                <p:cNvCxnSpPr>
                  <a:stCxn id="113" idx="1"/>
                </p:cNvCxnSpPr>
                <p:nvPr/>
              </p:nvCxnSpPr>
              <p:spPr>
                <a:xfrm flipH="1" rot="16200000">
                  <a:off x="6120360" y="87192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6" name="Straight Arrow Connector 11"/>
                <p:cNvCxnSpPr/>
                <p:nvPr/>
              </p:nvCxnSpPr>
              <p:spPr>
                <a:xfrm>
                  <a:off x="3060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17" name="Straight Arrow Connector 13"/>
                <p:cNvCxnSpPr/>
                <p:nvPr/>
              </p:nvCxnSpPr>
              <p:spPr>
                <a:xfrm>
                  <a:off x="5508000" y="2852640"/>
                  <a:ext cx="1080" cy="57708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18" name="Straight Arrow Connector 20"/>
              <p:cNvCxnSpPr/>
              <p:nvPr/>
            </p:nvCxnSpPr>
            <p:spPr>
              <a:xfrm>
                <a:off x="8100720" y="285300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19" name="Straight Arrow Connector 22"/>
              <p:cNvCxnSpPr/>
              <p:nvPr/>
            </p:nvCxnSpPr>
            <p:spPr>
              <a:xfrm>
                <a:off x="970920" y="285300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20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4356000" y="432288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174080" y="5202360"/>
            <a:ext cx="185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70240" y="37767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604600" y="37609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غليا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1000" y="387036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حرارة الجا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760" y="1412640"/>
            <a:ext cx="8229600" cy="1036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ادة ما يدمر أو يشوه الأحماض النو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693880" y="541440"/>
            <a:ext cx="37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Gisha"/>
                <a:ea typeface="Gisha"/>
              </a:rPr>
              <a:t>2. Irradiation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cs typeface="Gisha"/>
              </a:rPr>
              <a:t>الاشعاع</a:t>
            </a:r>
            <a:r>
              <a:rPr b="1" lang="ar-SA" sz="2400" spc="-1" strike="noStrike">
                <a:solidFill>
                  <a:srgbClr val="4f81bd"/>
                </a:solidFill>
                <a:latin typeface="Gisha"/>
                <a:ea typeface="Gish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48080" y="3357720"/>
            <a:ext cx="5790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في تعقيم أسطح الاش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Down Arrow 6"/>
          <p:cNvSpPr/>
          <p:nvPr/>
        </p:nvSpPr>
        <p:spPr>
          <a:xfrm>
            <a:off x="4284720" y="2492280"/>
            <a:ext cx="503280" cy="720720"/>
          </a:xfrm>
          <a:prstGeom prst="downArrow">
            <a:avLst>
              <a:gd name="adj1" fmla="val 38463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123920" y="5157720"/>
            <a:ext cx="6840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بواسطة الأشعة السينية وأشعة جاما وأشعة حزمة الإلكت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own Arrow 7"/>
          <p:cNvSpPr/>
          <p:nvPr/>
        </p:nvSpPr>
        <p:spPr>
          <a:xfrm>
            <a:off x="4264200" y="4406760"/>
            <a:ext cx="502920" cy="654120"/>
          </a:xfrm>
          <a:prstGeom prst="downArrow">
            <a:avLst>
              <a:gd name="adj1" fmla="val 38463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ontent Placeholder 2"/>
          <p:cNvSpPr/>
          <p:nvPr/>
        </p:nvSpPr>
        <p:spPr>
          <a:xfrm>
            <a:off x="3095640" y="461880"/>
            <a:ext cx="29527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3. Filtration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فلترة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0" lang="en-US" sz="27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68360" y="2043000"/>
            <a:ext cx="842472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زالة الاشياء المادية (الاستبعاد) لكافة الخلايا في سائل أو غا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960" y="4508640"/>
            <a:ext cx="82072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ستخدم لإزالة أصغر الخلايا البكتيرية المعروف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Down Arrow 6"/>
          <p:cNvSpPr/>
          <p:nvPr/>
        </p:nvSpPr>
        <p:spPr>
          <a:xfrm>
            <a:off x="4537080" y="11970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own Arrow 7"/>
          <p:cNvSpPr/>
          <p:nvPr/>
        </p:nvSpPr>
        <p:spPr>
          <a:xfrm>
            <a:off x="4479840" y="3340080"/>
            <a:ext cx="432000" cy="67320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2700360" y="765000"/>
            <a:ext cx="41036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4. Pasteurization 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بستر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20640" y="2262240"/>
            <a:ext cx="8344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وهذا يعني استخدام الحرارة المعتدلة لتقليل عدد الكائنات الحية الدقيقة في المنتج أو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BatangChe"/>
                <a:cs typeface="BatangChe"/>
              </a:rPr>
              <a:t>المواد الغذائ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0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0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20640" y="4541760"/>
            <a:ext cx="799164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BatangChe"/>
                <a:cs typeface="BatangChe"/>
              </a:rPr>
              <a:t>الحليب عادة يبستر بالحرارة عند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63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30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، أو في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71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رجة مئوية لمدة 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15</a:t>
            </a:r>
            <a:r>
              <a:rPr b="1" lang="ar-SA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 دقي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0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0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5. freezing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Arial"/>
              </a:rPr>
              <a:t>التجميد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Arial"/>
              </a:rPr>
              <a:t> </a:t>
            </a:r>
            <a:br>
              <a:rPr sz="40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328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درجات الحرارة المنخفضة (التبريد والتجمي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ontent Placeholder 2"/>
          <p:cNvSpPr/>
          <p:nvPr/>
        </p:nvSpPr>
        <p:spPr>
          <a:xfrm>
            <a:off x="179280" y="3141720"/>
            <a:ext cx="873468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عظم الكائنات الحية تنمو ببطء أو لا تنمو على الاطلاق  عند درجة التجمد الصفر المئ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أغذية القابلة للتلف تخزن في درجات حرارة منخفضة لإبطاء معدل النم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Perishable foods are stored at low temperatures to slow rate of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1599840"/>
            <a:ext cx="8713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معظم الكائنات الحية الدقيقة لا يمكنها أن عند انخفاض النشاط المائي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غالباً ما يتم استخدام التجفيف للحفاظ على الأطعمة (مثل الفواكه، الحبوب، إلخ)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icroorganisms cannot grow at reduced water acti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ying is often used to preserve foods (e.g. fruits, grains, etc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585520" y="836640"/>
            <a:ext cx="335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f81bd"/>
                </a:solidFill>
                <a:latin typeface="Gulim"/>
                <a:ea typeface="Gulim"/>
              </a:rPr>
              <a:t>6. Drying 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cs typeface="Gulim"/>
              </a:rPr>
              <a:t>التجفيف</a:t>
            </a:r>
            <a:r>
              <a:rPr b="1" lang="ar-SA" sz="2700" spc="-1" strike="noStrike">
                <a:solidFill>
                  <a:srgbClr val="4f81bd"/>
                </a:solidFill>
                <a:latin typeface="Gulim"/>
                <a:ea typeface="Guli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ihab moussa</cp:lastModifiedBy>
  <cp:lastPrinted>2013-12-03T07:01:16Z</cp:lastPrinted>
  <dcterms:modified xsi:type="dcterms:W3CDTF">2016-12-09T19:42:07Z</dcterms:modified>
  <cp:revision>46</cp:revision>
  <dc:subject/>
  <dc:title>Controlling of Microbial Growth</dc:title>
</cp:coreProperties>
</file>