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DF9E-6C48-4710-B46A-12F223D6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365F-3274-4B93-9113-CBF107F7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B8F2-CF7E-4630-BD3C-E6049A5C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6180-1B7B-4FD7-B080-8B08F449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A2C5-5903-459C-A37A-2CDAC84B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4DAA-CE90-4F1D-9F9D-93A446D9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49F1-7171-440A-920A-2EE37C21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935A-8A7C-4779-92CF-6C0D7EE4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FC56-E042-4A09-8D1B-1B4F6F82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8E0E-C989-4A6E-88A0-AECA8BC1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3D59-E6E4-4DE9-85F6-746BE18F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C7B2-09B7-4FCE-9BCD-274A5FC6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CBCB-27D2-4040-9632-6848503E4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0600" y="188640"/>
            <a:ext cx="6377040" cy="7858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جد وتوزيع البكتيريا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rence (Distribution of bacteria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3715920"/>
            <a:ext cx="6400800" cy="259236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t">
            <a:noAutofit/>
          </a:bodyPr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live everywhere. They occur in water ( fresh and salty ) , in soil and air. Some types live a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prophyt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le other ar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asit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plants , animals and humans causing </a:t>
            </a:r>
            <a:r>
              <a:rPr b="0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isea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ome of them can survive in ice and others can live in hot water. They can form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or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are very </a:t>
            </a:r>
            <a:r>
              <a:rPr b="0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esista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drought , chemical , rays and temperature </a:t>
            </a:r>
            <a:r>
              <a:rPr b="0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ari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1258920" y="1268280"/>
            <a:ext cx="6408720" cy="22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كتيريا تتواجد في كل مكان تقريبا، فهي تتواجد في المياة المالحة والعذبة ، في التربة والهواء. بعض الانواع تعيش </a:t>
            </a:r>
            <a:r>
              <a:rPr b="0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ترممة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بعض الآخر يعيش </a:t>
            </a:r>
            <a:r>
              <a:rPr b="0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تطفل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على النبات والحيوان والانسان مسببة لها </a:t>
            </a:r>
            <a:r>
              <a:rPr b="0" lang="ar-SA" sz="1800" spc="-1" strike="noStrike">
                <a:solidFill>
                  <a:srgbClr val="7030a0"/>
                </a:solidFill>
                <a:latin typeface="Times New Roman"/>
                <a:cs typeface="Times New Roman"/>
              </a:rPr>
              <a:t>أمراض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بعض من البكتيريا تستطيع البقاء حية في ظروف صعبة كالجليد والمياة الحارة ، البعض يستطيع انتاج </a:t>
            </a:r>
            <a:r>
              <a:rPr b="0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بواغ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جراثيم) التي تستطيع </a:t>
            </a:r>
            <a:r>
              <a:rPr b="0" lang="ar-SA" sz="1800" spc="-1" strike="noStrike">
                <a:solidFill>
                  <a:srgbClr val="8064a2"/>
                </a:solidFill>
                <a:latin typeface="Times New Roman"/>
                <a:cs typeface="Times New Roman"/>
              </a:rPr>
              <a:t>مقاوم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جفاف، المواد الكيمائية والاشعة و</a:t>
            </a:r>
            <a:r>
              <a:rPr b="0" lang="ar-SA" sz="1800" spc="-1" strike="noStrike">
                <a:solidFill>
                  <a:srgbClr val="8064a2"/>
                </a:solidFill>
                <a:latin typeface="Times New Roman"/>
                <a:cs typeface="Times New Roman"/>
              </a:rPr>
              <a:t>الاختلافات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ي درجة الحرار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phology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Bacterial ce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8920" y="1643040"/>
            <a:ext cx="619308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كتيريا الحقيقة تنقسم إلى ثلاثة اشكال رئيسية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bacteria have three main shape categorie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ar-SA" sz="21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ar-SA" sz="2100" spc="-1" strike="noStrike">
                <a:solidFill>
                  <a:srgbClr val="4f81bd"/>
                </a:solidFill>
                <a:latin typeface="Times New Roman"/>
                <a:cs typeface="Times New Roman"/>
              </a:rPr>
              <a:t>عصوية الشكل</a:t>
            </a:r>
            <a:r>
              <a:rPr b="1" lang="en-US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Rod-shap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bacteria are known as </a:t>
            </a:r>
            <a:r>
              <a:rPr b="1" i="1" lang="en-US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bacill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se are short ro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rding to their arrangement , they are divided to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حادية عصوية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bacilli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have pin-head thickenings and they give an impression of branched structure and they causes diseases in hum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ثنائية عصوية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plobacilli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occur in pairs, also causing diseases in hum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سبحية عصوية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bacilli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occur in chains of different length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rcRect l="0" t="41956" r="38614" b="20297"/>
          <a:stretch/>
        </p:blipFill>
        <p:spPr>
          <a:xfrm>
            <a:off x="6372360" y="2060640"/>
            <a:ext cx="2663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9280" y="1643040"/>
            <a:ext cx="64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2.   </a:t>
            </a:r>
            <a:r>
              <a:rPr b="1" lang="ar-SA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ar-SA" sz="2200" spc="-1" strike="noStrike">
                <a:solidFill>
                  <a:srgbClr val="4f81bd"/>
                </a:solidFill>
                <a:latin typeface="Times New Roman"/>
                <a:cs typeface="Times New Roman"/>
              </a:rPr>
              <a:t>كروية الشكل</a:t>
            </a:r>
            <a:r>
              <a:rPr b="1" lang="en-US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Spherical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bacteria are called </a:t>
            </a:r>
            <a:r>
              <a:rPr b="1" i="1" lang="en-US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occi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divided in six groups depending on the cell arrangement and cell divis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حادية كروية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cocci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single celled and lives as saprophy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ثنائية كروية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plococci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 divides in one plane and the pairs remain attach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cs typeface="Arial"/>
              </a:rPr>
              <a:t>سبحية كروية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treptococci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vision of cell in one plane and causes diseases in hum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cs typeface="Arial"/>
              </a:rPr>
              <a:t>كروية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ea typeface="Arial"/>
              </a:rPr>
              <a:t> رباعيات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etracocci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ell divides in two planes resulting in four cells and causes diseases in hum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alibri"/>
                <a:cs typeface="Arial"/>
              </a:rPr>
              <a:t>حزمة كروية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arcinae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ell divides in three planes resulting in 8 ce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cs typeface="Arial"/>
              </a:rPr>
              <a:t>عنقودية كروية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taphylococci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vision in several planes resulting in cluster of ce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rcRect l="0" t="0" r="38614" b="58183"/>
          <a:stretch/>
        </p:blipFill>
        <p:spPr>
          <a:xfrm>
            <a:off x="6931080" y="1557360"/>
            <a:ext cx="20160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07640" y="691920"/>
            <a:ext cx="5986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3.  </a:t>
            </a:r>
            <a:r>
              <a:rPr b="1" lang="ar-SA" sz="2800" spc="-1" strike="noStrike">
                <a:solidFill>
                  <a:srgbClr val="4f81bd"/>
                </a:solidFill>
                <a:latin typeface="Times New Roman"/>
                <a:cs typeface="Times New Roman"/>
              </a:rPr>
              <a:t>اللولبيات</a:t>
            </a:r>
            <a:r>
              <a:rPr b="1" lang="en-US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Spiral are called </a:t>
            </a:r>
            <a:r>
              <a:rPr b="1" i="1" lang="en-US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spirill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be divided in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br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 resemble a comma in appea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irilli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iled forms exhibiting twists with one or more turns. They have constant shapes and they move by flagel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irochae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intermediate between bacteria and protozoa, they don’t have cell wall and flagella. Their movement is like a w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63928" t="0" r="4040" b="0"/>
          <a:stretch/>
        </p:blipFill>
        <p:spPr>
          <a:xfrm>
            <a:off x="6205680" y="243000"/>
            <a:ext cx="260964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404280"/>
            <a:ext cx="843588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شعاعيا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tinomycetes </a:t>
            </a:r>
            <a:r>
              <a:rPr b="1" lang="en-US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amentous/Mold-like bacter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body consists o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ycel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st like fungi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my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oup belongs to these mold like bacteria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myc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 antibiotic is produced by Streptomy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1905120" y="3284640"/>
            <a:ext cx="533376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ubtitle 2"/>
          <p:cNvSpPr/>
          <p:nvPr/>
        </p:nvSpPr>
        <p:spPr>
          <a:xfrm>
            <a:off x="714240" y="1285920"/>
            <a:ext cx="8250480" cy="22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 are either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moti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ti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Motile forms are either creeping or swimming. Creeping bacteria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.g. Myobacterium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ve or creep slowly on a supporting surface as a result of wave-like contractions ( contract and relax) of their bodies. Swimming bacteria move freely in a liquid medium due to the presence of flagella. Flagellated forms differ with respect to number and pattern of attachment of flagella. The following forms (Fig .3) can be given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trichou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ne flagellum attached to one pole of the cel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photrichou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 tuft of flagella at one pole of the cel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phitrichou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 single or a tuft of flagella at the two poles of the cel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itrichou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flagella distributed over the whole surface of the ce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itle 1"/>
          <p:cNvSpPr/>
          <p:nvPr/>
        </p:nvSpPr>
        <p:spPr>
          <a:xfrm>
            <a:off x="1908000" y="189000"/>
            <a:ext cx="5626440" cy="101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ركة في البكتيري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lity in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ubtitle 2"/>
          <p:cNvSpPr/>
          <p:nvPr/>
        </p:nvSpPr>
        <p:spPr>
          <a:xfrm>
            <a:off x="596880" y="3220920"/>
            <a:ext cx="824868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ubtitle 2"/>
          <p:cNvSpPr/>
          <p:nvPr/>
        </p:nvSpPr>
        <p:spPr>
          <a:xfrm>
            <a:off x="730080" y="3789360"/>
            <a:ext cx="8250480" cy="251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كتيريا أما تكون متحركة او غير متحركة . أشكال الحركة في البكتيريا اما بالزحف أو السباحة . البكتيريا الزاحفة مثل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زحف ببط, على اسطح تدعم الحركة نتيجة لتقلصات في اجسامها تشبه الموجات . اما البكتريا السابحة تتحرك حرة في الاوساط السائلة نتيجة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وجود الاسواط. تختلف اشكال الاسواط وعدد ونمط السوط  حسب التقسيم التالي  والشكل 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حادي  السوط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قد يوجد على خلية البكتيريا سوط واحد فقط وفي جهة واحدة فقط</a:t>
            </a:r>
            <a:r>
              <a:rPr b="1" lang="ar-S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trich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صلية الأسواط :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قد تكون السياط متجمعة في مكان واحد من الخلية البكتيري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photrich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متقابلة الأسواط: </a:t>
            </a:r>
            <a:r>
              <a:rPr b="1" lang="ar-S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وقد يتصل بخلية البكتيريا سوط واحد فقط على اتجاهين مختلفين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phitrich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محيطية الاسواط :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قد تحيط الاسواط بالخلية من كل اتجاه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itrich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051920" y="378936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obacter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Oval 2"/>
          <p:cNvSpPr/>
          <p:nvPr/>
        </p:nvSpPr>
        <p:spPr>
          <a:xfrm>
            <a:off x="4929120" y="5429160"/>
            <a:ext cx="2529000" cy="50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450080" y="128592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حادي  السو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trich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500120" y="2571840"/>
            <a:ext cx="17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صلية الأسوا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photrichu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373760" y="3857760"/>
            <a:ext cx="19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تقابلة الأسوا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hitrichou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1186560" y="5429160"/>
            <a:ext cx="20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حيطية الاسوا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trich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8"/>
          <p:cNvGrpSpPr/>
          <p:nvPr/>
        </p:nvGrpSpPr>
        <p:grpSpPr>
          <a:xfrm>
            <a:off x="4214520" y="2428200"/>
            <a:ext cx="3143520" cy="572040"/>
            <a:chOff x="4214520" y="2428200"/>
            <a:chExt cx="3143520" cy="572040"/>
          </a:xfrm>
        </p:grpSpPr>
        <p:sp>
          <p:nvSpPr>
            <p:cNvPr id="64" name="Oval 2"/>
            <p:cNvSpPr/>
            <p:nvPr/>
          </p:nvSpPr>
          <p:spPr>
            <a:xfrm>
              <a:off x="4829040" y="2500200"/>
              <a:ext cx="2529000" cy="50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" name="Curved Connector 10"/>
            <p:cNvCxnSpPr>
              <a:stCxn id="64" idx="2"/>
            </p:cNvCxnSpPr>
            <p:nvPr/>
          </p:nvCxnSpPr>
          <p:spPr>
            <a:xfrm flipV="1" rot="10800000">
              <a:off x="4214160" y="2748600"/>
              <a:ext cx="614880" cy="10836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66" name="Curved Connector 11"/>
            <p:cNvCxnSpPr>
              <a:stCxn id="64" idx="2"/>
            </p:cNvCxnSpPr>
            <p:nvPr/>
          </p:nvCxnSpPr>
          <p:spPr>
            <a:xfrm rot="10800000">
              <a:off x="4214160" y="2714040"/>
              <a:ext cx="614880" cy="3708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67" name="Curved Connector 12"/>
            <p:cNvCxnSpPr>
              <a:stCxn id="64" idx="2"/>
            </p:cNvCxnSpPr>
            <p:nvPr/>
          </p:nvCxnSpPr>
          <p:spPr>
            <a:xfrm rot="10800000">
              <a:off x="4214160" y="2642400"/>
              <a:ext cx="614880" cy="10836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68" name="Curved Connector 13"/>
            <p:cNvCxnSpPr>
              <a:stCxn id="64" idx="2"/>
            </p:cNvCxnSpPr>
            <p:nvPr/>
          </p:nvCxnSpPr>
          <p:spPr>
            <a:xfrm rot="10800000">
              <a:off x="4214160" y="2428200"/>
              <a:ext cx="614880" cy="32292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  <p:grpSp>
        <p:nvGrpSpPr>
          <p:cNvPr id="69" name="Group 14"/>
          <p:cNvGrpSpPr/>
          <p:nvPr/>
        </p:nvGrpSpPr>
        <p:grpSpPr>
          <a:xfrm>
            <a:off x="4285800" y="1071000"/>
            <a:ext cx="3143880" cy="572040"/>
            <a:chOff x="4285800" y="1071000"/>
            <a:chExt cx="3143880" cy="572040"/>
          </a:xfrm>
        </p:grpSpPr>
        <p:sp>
          <p:nvSpPr>
            <p:cNvPr id="70" name="Oval 2"/>
            <p:cNvSpPr/>
            <p:nvPr/>
          </p:nvSpPr>
          <p:spPr>
            <a:xfrm>
              <a:off x="4900320" y="1143000"/>
              <a:ext cx="2529360" cy="50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Curved Connector 16"/>
            <p:cNvCxnSpPr/>
            <p:nvPr/>
          </p:nvCxnSpPr>
          <p:spPr>
            <a:xfrm rot="10800000">
              <a:off x="4285440" y="1071000"/>
              <a:ext cx="614880" cy="32292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  <p:grpSp>
        <p:nvGrpSpPr>
          <p:cNvPr id="72" name="Group 17"/>
          <p:cNvGrpSpPr/>
          <p:nvPr/>
        </p:nvGrpSpPr>
        <p:grpSpPr>
          <a:xfrm>
            <a:off x="4357440" y="3500280"/>
            <a:ext cx="3672360" cy="571680"/>
            <a:chOff x="4357440" y="3500280"/>
            <a:chExt cx="3672360" cy="571680"/>
          </a:xfrm>
        </p:grpSpPr>
        <p:grpSp>
          <p:nvGrpSpPr>
            <p:cNvPr id="73" name="Group 39"/>
            <p:cNvGrpSpPr/>
            <p:nvPr/>
          </p:nvGrpSpPr>
          <p:grpSpPr>
            <a:xfrm>
              <a:off x="4357440" y="3500280"/>
              <a:ext cx="3143520" cy="571680"/>
              <a:chOff x="4357440" y="3500280"/>
              <a:chExt cx="3143520" cy="571680"/>
            </a:xfrm>
          </p:grpSpPr>
          <p:sp>
            <p:nvSpPr>
              <p:cNvPr id="74" name="Oval 2"/>
              <p:cNvSpPr/>
              <p:nvPr/>
            </p:nvSpPr>
            <p:spPr>
              <a:xfrm>
                <a:off x="4971960" y="3571560"/>
                <a:ext cx="2529000" cy="50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5" name="Curved Connector 21"/>
              <p:cNvCxnSpPr/>
              <p:nvPr/>
            </p:nvCxnSpPr>
            <p:spPr>
              <a:xfrm rot="10800000">
                <a:off x="4357080" y="3500280"/>
                <a:ext cx="614880" cy="322920"/>
              </a:xfrm>
              <a:prstGeom prst="curvedConnector5">
                <a:avLst>
                  <a:gd name="adj1" fmla="val 49970"/>
                  <a:gd name="adj2" fmla="val 50000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</p:grpSp>
        <p:cxnSp>
          <p:nvCxnSpPr>
            <p:cNvPr id="76" name="Curved Connector 19"/>
            <p:cNvCxnSpPr/>
            <p:nvPr/>
          </p:nvCxnSpPr>
          <p:spPr>
            <a:xfrm flipV="1">
              <a:off x="7500960" y="3570840"/>
              <a:ext cx="529200" cy="251640"/>
            </a:xfrm>
            <a:prstGeom prst="curvedConnector5">
              <a:avLst>
                <a:gd name="adj1" fmla="val 49965"/>
                <a:gd name="adj2" fmla="val 50000"/>
                <a:gd name="adj3" fmla="val 49965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  <p:grpSp>
        <p:nvGrpSpPr>
          <p:cNvPr id="77" name="Group 22"/>
          <p:cNvGrpSpPr/>
          <p:nvPr/>
        </p:nvGrpSpPr>
        <p:grpSpPr>
          <a:xfrm>
            <a:off x="4366800" y="4142520"/>
            <a:ext cx="3777120" cy="572400"/>
            <a:chOff x="4366800" y="4142520"/>
            <a:chExt cx="3777120" cy="572400"/>
          </a:xfrm>
        </p:grpSpPr>
        <p:grpSp>
          <p:nvGrpSpPr>
            <p:cNvPr id="78" name="Group 42"/>
            <p:cNvGrpSpPr/>
            <p:nvPr/>
          </p:nvGrpSpPr>
          <p:grpSpPr>
            <a:xfrm>
              <a:off x="4366800" y="4143240"/>
              <a:ext cx="3143880" cy="571680"/>
              <a:chOff x="4366800" y="4143240"/>
              <a:chExt cx="3143880" cy="571680"/>
            </a:xfrm>
          </p:grpSpPr>
          <p:sp>
            <p:nvSpPr>
              <p:cNvPr id="79" name="Oval 2"/>
              <p:cNvSpPr/>
              <p:nvPr/>
            </p:nvSpPr>
            <p:spPr>
              <a:xfrm>
                <a:off x="4981320" y="4214520"/>
                <a:ext cx="2529360" cy="50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0" name="Curved Connector 29"/>
              <p:cNvCxnSpPr>
                <a:stCxn id="79" idx="2"/>
              </p:cNvCxnSpPr>
              <p:nvPr/>
            </p:nvCxnSpPr>
            <p:spPr>
              <a:xfrm flipV="1" rot="10800000">
                <a:off x="4366440" y="4463640"/>
                <a:ext cx="614880" cy="108720"/>
              </a:xfrm>
              <a:prstGeom prst="curvedConnector5">
                <a:avLst>
                  <a:gd name="adj1" fmla="val 49970"/>
                  <a:gd name="adj2" fmla="val 49833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  <p:cxnSp>
            <p:nvCxnSpPr>
              <p:cNvPr id="81" name="Curved Connector 30"/>
              <p:cNvCxnSpPr>
                <a:stCxn id="79" idx="2"/>
              </p:cNvCxnSpPr>
              <p:nvPr/>
            </p:nvCxnSpPr>
            <p:spPr>
              <a:xfrm rot="10800000">
                <a:off x="4366440" y="4428360"/>
                <a:ext cx="614880" cy="37080"/>
              </a:xfrm>
              <a:prstGeom prst="curvedConnector5">
                <a:avLst>
                  <a:gd name="adj1" fmla="val 49970"/>
                  <a:gd name="adj2" fmla="val 50000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  <p:cxnSp>
            <p:nvCxnSpPr>
              <p:cNvPr id="82" name="Curved Connector 31"/>
              <p:cNvCxnSpPr>
                <a:stCxn id="79" idx="2"/>
              </p:cNvCxnSpPr>
              <p:nvPr/>
            </p:nvCxnSpPr>
            <p:spPr>
              <a:xfrm rot="10800000">
                <a:off x="4366440" y="4356720"/>
                <a:ext cx="614880" cy="108720"/>
              </a:xfrm>
              <a:prstGeom prst="curvedConnector5">
                <a:avLst>
                  <a:gd name="adj1" fmla="val 49970"/>
                  <a:gd name="adj2" fmla="val 49833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  <p:cxnSp>
            <p:nvCxnSpPr>
              <p:cNvPr id="83" name="Curved Connector 32"/>
              <p:cNvCxnSpPr>
                <a:stCxn id="79" idx="2"/>
              </p:cNvCxnSpPr>
              <p:nvPr/>
            </p:nvCxnSpPr>
            <p:spPr>
              <a:xfrm rot="10800000">
                <a:off x="4366440" y="4143240"/>
                <a:ext cx="614880" cy="322920"/>
              </a:xfrm>
              <a:prstGeom prst="curvedConnector5">
                <a:avLst>
                  <a:gd name="adj1" fmla="val 49970"/>
                  <a:gd name="adj2" fmla="val 50000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</p:grpSp>
        <p:cxnSp>
          <p:nvCxnSpPr>
            <p:cNvPr id="84" name="Curved Connector 24"/>
            <p:cNvCxnSpPr/>
            <p:nvPr/>
          </p:nvCxnSpPr>
          <p:spPr>
            <a:xfrm flipV="1">
              <a:off x="7472160" y="4428360"/>
              <a:ext cx="600840" cy="356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85" name="Curved Connector 25"/>
            <p:cNvCxnSpPr/>
            <p:nvPr/>
          </p:nvCxnSpPr>
          <p:spPr>
            <a:xfrm flipV="1">
              <a:off x="7472160" y="4285800"/>
              <a:ext cx="672120" cy="180000"/>
            </a:xfrm>
            <a:prstGeom prst="curvedConnector5">
              <a:avLst>
                <a:gd name="adj1" fmla="val 50000"/>
                <a:gd name="adj2" fmla="val 49899"/>
                <a:gd name="adj3" fmla="val 5000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86" name="Curved Connector 26"/>
            <p:cNvCxnSpPr/>
            <p:nvPr/>
          </p:nvCxnSpPr>
          <p:spPr>
            <a:xfrm>
              <a:off x="7472160" y="4465440"/>
              <a:ext cx="600840" cy="1069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87" name="Curved Connector 27"/>
            <p:cNvCxnSpPr>
              <a:stCxn id="79" idx="6"/>
            </p:cNvCxnSpPr>
            <p:nvPr/>
          </p:nvCxnSpPr>
          <p:spPr>
            <a:xfrm flipV="1">
              <a:off x="7510680" y="4142520"/>
              <a:ext cx="491040" cy="321480"/>
            </a:xfrm>
            <a:prstGeom prst="curvedConnector5">
              <a:avLst>
                <a:gd name="adj1" fmla="val 49963"/>
                <a:gd name="adj2" fmla="val 50000"/>
                <a:gd name="adj3" fmla="val 49963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  <p:cxnSp>
        <p:nvCxnSpPr>
          <p:cNvPr id="88" name="Curved Connector 33"/>
          <p:cNvCxnSpPr>
            <a:stCxn id="58" idx="2"/>
          </p:cNvCxnSpPr>
          <p:nvPr/>
        </p:nvCxnSpPr>
        <p:spPr>
          <a:xfrm rot="10800000">
            <a:off x="4714200" y="5643000"/>
            <a:ext cx="214920" cy="37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89" name="Curved Connector 34"/>
          <p:cNvCxnSpPr>
            <a:stCxn id="58" idx="0"/>
          </p:cNvCxnSpPr>
          <p:nvPr/>
        </p:nvCxnSpPr>
        <p:spPr>
          <a:xfrm flipV="1" rot="16200000">
            <a:off x="6025680" y="5259960"/>
            <a:ext cx="214920" cy="123120"/>
          </a:xfrm>
          <a:prstGeom prst="curvedConnector5">
            <a:avLst>
              <a:gd name="adj1" fmla="val 50000"/>
              <a:gd name="adj2" fmla="val 49853"/>
              <a:gd name="adj3" fmla="val 5000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0" name="Curved Connector 35"/>
          <p:cNvCxnSpPr>
            <a:stCxn id="58" idx="1"/>
          </p:cNvCxnSpPr>
          <p:nvPr/>
        </p:nvCxnSpPr>
        <p:spPr>
          <a:xfrm flipV="1" rot="16200000">
            <a:off x="5184720" y="5387040"/>
            <a:ext cx="144720" cy="84960"/>
          </a:xfrm>
          <a:prstGeom prst="curvedConnector5">
            <a:avLst>
              <a:gd name="adj1" fmla="val 49875"/>
              <a:gd name="adj2" fmla="val 49787"/>
              <a:gd name="adj3" fmla="val 49875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1" name="Curved Connector 36"/>
          <p:cNvCxnSpPr>
            <a:stCxn id="58" idx="7"/>
          </p:cNvCxnSpPr>
          <p:nvPr/>
        </p:nvCxnSpPr>
        <p:spPr>
          <a:xfrm flipH="1" flipV="1" rot="5400000">
            <a:off x="7006680" y="5365800"/>
            <a:ext cx="216720" cy="56520"/>
          </a:xfrm>
          <a:prstGeom prst="curvedConnector5">
            <a:avLst>
              <a:gd name="adj1" fmla="val 49916"/>
              <a:gd name="adj2" fmla="val 50000"/>
              <a:gd name="adj3" fmla="val 49916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2" name="Curved Connector 37"/>
          <p:cNvCxnSpPr>
            <a:stCxn id="58" idx="4"/>
          </p:cNvCxnSpPr>
          <p:nvPr/>
        </p:nvCxnSpPr>
        <p:spPr>
          <a:xfrm flipH="1" rot="16200000">
            <a:off x="6096240" y="6026040"/>
            <a:ext cx="215280" cy="20880"/>
          </a:xfrm>
          <a:prstGeom prst="curvedConnector5">
            <a:avLst>
              <a:gd name="adj1" fmla="val 49916"/>
              <a:gd name="adj2" fmla="val 49122"/>
              <a:gd name="adj3" fmla="val 49916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3" name="Curved Connector 38"/>
          <p:cNvCxnSpPr>
            <a:stCxn id="58" idx="5"/>
          </p:cNvCxnSpPr>
          <p:nvPr/>
        </p:nvCxnSpPr>
        <p:spPr>
          <a:xfrm flipH="1" rot="16200000">
            <a:off x="7007040" y="5936040"/>
            <a:ext cx="216720" cy="56520"/>
          </a:xfrm>
          <a:prstGeom prst="curvedConnector5">
            <a:avLst>
              <a:gd name="adj1" fmla="val 49916"/>
              <a:gd name="adj2" fmla="val 50000"/>
              <a:gd name="adj3" fmla="val 49916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4" name="Curved Connector 39"/>
          <p:cNvCxnSpPr>
            <a:stCxn id="58" idx="6"/>
          </p:cNvCxnSpPr>
          <p:nvPr/>
        </p:nvCxnSpPr>
        <p:spPr>
          <a:xfrm flipV="1">
            <a:off x="7458120" y="5643000"/>
            <a:ext cx="257760" cy="37080"/>
          </a:xfrm>
          <a:prstGeom prst="curvedConnector5">
            <a:avLst>
              <a:gd name="adj1" fmla="val 49930"/>
              <a:gd name="adj2" fmla="val 50000"/>
              <a:gd name="adj3" fmla="val 4993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5" name="Shape 40"/>
          <p:cNvCxnSpPr>
            <a:stCxn id="58" idx="3"/>
          </p:cNvCxnSpPr>
          <p:nvPr/>
        </p:nvCxnSpPr>
        <p:spPr>
          <a:xfrm rot="5400000">
            <a:off x="5148720" y="5850720"/>
            <a:ext cx="145440" cy="155880"/>
          </a:xfrm>
          <a:prstGeom prst="curved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96" name="Rectangle 3"/>
          <p:cNvSpPr/>
          <p:nvPr/>
        </p:nvSpPr>
        <p:spPr>
          <a:xfrm>
            <a:off x="2357280" y="257760"/>
            <a:ext cx="421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Fig. 3. Motility of bacte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6:09:36Z</dcterms:created>
  <dc:creator>Baba</dc:creator>
  <dc:description/>
  <dc:language>en-US</dc:language>
  <cp:lastModifiedBy>كلية العلوم</cp:lastModifiedBy>
  <cp:lastPrinted>2013-09-23T14:26:55Z</cp:lastPrinted>
  <dcterms:modified xsi:type="dcterms:W3CDTF">2013-09-23T14:28:11Z</dcterms:modified>
  <cp:revision>27</cp:revision>
  <dc:subject/>
  <dc:title>Occurrence (Distribution of bacteria)</dc:title>
</cp:coreProperties>
</file>