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F1F-B769-4B5C-BEE7-43687C0A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A4C-CC75-4870-979A-4228E29D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CB8-85B6-4724-9250-34BB8CC6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1DA-90E6-4EC8-A981-B09A754A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3A4-B6E9-4630-946D-1417EB48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C82-6043-445F-8F88-9EC2C66A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987-B4B1-4CAF-A556-52D7458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447-C4A5-4993-9133-BBCB1B39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90D-7DC5-494A-9684-CFAD506B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1CB-5225-4B8B-A0AE-7266F76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0F1-B6A6-4E09-9F88-6AD2F44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737-34FB-48F6-B239-765766CC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664F-77AC-4E0B-9476-A1D8C8F8D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0600" y="188640"/>
            <a:ext cx="6377040" cy="785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جد وتوزيع البكتيريا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(Distribution of bacteria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715920"/>
            <a:ext cx="64008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live everywhere. They occur in water ( fresh and salty ) , in soil and air. Some types live a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prophy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le other ar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lants , animals and humans causing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e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of them can survive in ice and others can live in hot water. They can for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are very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sist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rought , chemical , rays and temperature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ari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258920" y="1268280"/>
            <a:ext cx="64087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تتواجد في كل مكان تقريبا، فهي تتواجد في المياة المالحة والعذبة ، في التربة والهواء. بعض الانواع ت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رممة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بعض الآخر ي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طف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النبات والحيوان والانسان مسببة لها </a:t>
            </a:r>
            <a:r>
              <a:rPr b="0" lang="ar-SA" sz="18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أمراض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بعض من البكتيريا تستطيع البقاء حية في ظروف صعبة كالجليد والمياة الحارة ، البعض يستطيع انتاج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بواغ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جراثيم) التي تستطيع 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مقاو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جفاف، المواد الكيمائية والاشعة و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الاختلافات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درجة الحرار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cterial c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8920" y="1643040"/>
            <a:ext cx="61930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الحقيقة تنقسم إلى ثلاثة اشكال رئيسي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have three main shape categorie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عصوية الشكل</a:t>
            </a: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Rod-sha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known as </a:t>
            </a:r>
            <a:r>
              <a:rPr b="1" i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short r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ir arrangement , they are divided to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حاد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have pin-head thickenings and they give an impression of branched structure and they causes diseases in hu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in pairs, also causing diseases in hum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بح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bacilli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ccur in chains of different leng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0" t="41956" r="38614" b="20297"/>
          <a:stretch/>
        </p:blipFill>
        <p:spPr>
          <a:xfrm>
            <a:off x="6372360" y="206064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643040"/>
            <a:ext cx="64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 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كروية الشكل</a:t>
            </a: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herica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called </a:t>
            </a:r>
            <a:r>
              <a:rPr b="1" i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cci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divided in six groups depending on the cell arrangement and cell divis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ادية كروي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ingle celled and lives as saproph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كرو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divides in one plane and the pairs remain att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سبح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rept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of cell in one plane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رباعيات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tra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wo planes resulting in four cells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حزم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rcinae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hree planes resulting in 8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عنقود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aphyl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in several planes resulting in cluster of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0" t="0" r="38614" b="58183"/>
          <a:stretch/>
        </p:blipFill>
        <p:spPr>
          <a:xfrm>
            <a:off x="6931080" y="1557360"/>
            <a:ext cx="201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7640" y="691920"/>
            <a:ext cx="598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 </a:t>
            </a:r>
            <a:r>
              <a:rPr b="1" lang="ar-SA" sz="28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اللولبيات</a:t>
            </a: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al are called </a:t>
            </a:r>
            <a:r>
              <a:rPr b="1" i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il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divided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br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resemble a comma in 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ed forms exhibiting twists with one or more turns. They have constant shapes and they move by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ochae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intermediate between bacteria and protozoa, they don’t have cell wall and flagella. Their movement is like a w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63928" t="0" r="4040" b="0"/>
          <a:stretch/>
        </p:blipFill>
        <p:spPr>
          <a:xfrm>
            <a:off x="6205680" y="243000"/>
            <a:ext cx="26096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04280"/>
            <a:ext cx="84358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شعاعيا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nomycetes </a:t>
            </a: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amentous/Mold-like bacte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body consists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ce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like fungi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belongs to these mold like bacteri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antibiotic is produced by Streptomy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05120" y="3284640"/>
            <a:ext cx="53337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ubtitle 2"/>
          <p:cNvSpPr/>
          <p:nvPr/>
        </p:nvSpPr>
        <p:spPr>
          <a:xfrm>
            <a:off x="714240" y="1285920"/>
            <a:ext cx="825048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re eithe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otile forms are either creeping or swimming. Creeping bacteri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Myobacterium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ve or creep slowly on a supporting surface as a result of wave-like contractions ( contract and relax) of their bodies. Swimming bacteria move freely in a liquid medium due to the presence of flagella. Flagellated forms differ with respect to number and pattern of attachment of flagella. The following forms (Fig .3) can be giv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e flagellum attached to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tuft of flagella at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single or a tuft of flagella at the two poles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flagella distributed over the whole surface of the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908000" y="189000"/>
            <a:ext cx="5626440" cy="10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البكتي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i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2"/>
          <p:cNvSpPr/>
          <p:nvPr/>
        </p:nvSpPr>
        <p:spPr>
          <a:xfrm>
            <a:off x="596880" y="3220920"/>
            <a:ext cx="82486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730080" y="3789360"/>
            <a:ext cx="8250480" cy="251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أما تكون متحركة او غير متحركة . أشكال الحركة في البكتيريا اما بالزحف أو السباحة . البكتيريا الزاحفة مثل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حف ببط, على اسطح تدعم الحركة نتيجة لتقلصات في اجسامها تشبه الموجات . اما البكتريا السابحة تتحرك حرة في الاوساط السائلة نتيج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جود الاسواط. تختلف اشكال الاسواط وعدد ونمط السوط  حسب التقسيم التالي  والشكل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يوجد على خلية البكتيريا سوط واحد فقط وفي جهة واحدة فقط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كون السياط متجمعة في مكان واحد من الخلية البكتير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تقابلة الأسواط: 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قد يتصل بخلية البكتيريا سوط واحد فقط على اتجاهين مختلفين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حيطية الا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حيط الاسواط بالخلية من كل اتجاه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051920" y="378936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bacte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4929120" y="5429160"/>
            <a:ext cx="25290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450080" y="12859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rich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500120" y="2571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hotrichu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373760" y="385776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قابل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186560" y="542916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حيطية الا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214520" y="2428200"/>
            <a:ext cx="3143520" cy="572040"/>
            <a:chOff x="4214520" y="2428200"/>
            <a:chExt cx="3143520" cy="572040"/>
          </a:xfrm>
        </p:grpSpPr>
        <p:sp>
          <p:nvSpPr>
            <p:cNvPr id="64" name="Oval 2"/>
            <p:cNvSpPr/>
            <p:nvPr/>
          </p:nvSpPr>
          <p:spPr>
            <a:xfrm>
              <a:off x="4829040" y="2500200"/>
              <a:ext cx="252900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Curved Connector 10"/>
            <p:cNvCxnSpPr>
              <a:stCxn id="64" idx="2"/>
            </p:cNvCxnSpPr>
            <p:nvPr/>
          </p:nvCxnSpPr>
          <p:spPr>
            <a:xfrm flipV="1" rot="10800000">
              <a:off x="4214160" y="27486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6" name="Curved Connector 11"/>
            <p:cNvCxnSpPr>
              <a:stCxn id="64" idx="2"/>
            </p:cNvCxnSpPr>
            <p:nvPr/>
          </p:nvCxnSpPr>
          <p:spPr>
            <a:xfrm rot="10800000">
              <a:off x="4214160" y="2714040"/>
              <a:ext cx="614880" cy="3708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7" name="Curved Connector 12"/>
            <p:cNvCxnSpPr>
              <a:stCxn id="64" idx="2"/>
            </p:cNvCxnSpPr>
            <p:nvPr/>
          </p:nvCxnSpPr>
          <p:spPr>
            <a:xfrm rot="10800000">
              <a:off x="4214160" y="26424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8" name="Curved Connector 13"/>
            <p:cNvCxnSpPr>
              <a:stCxn id="64" idx="2"/>
            </p:cNvCxnSpPr>
            <p:nvPr/>
          </p:nvCxnSpPr>
          <p:spPr>
            <a:xfrm rot="10800000">
              <a:off x="4214160" y="24282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9" name="Group 14"/>
          <p:cNvGrpSpPr/>
          <p:nvPr/>
        </p:nvGrpSpPr>
        <p:grpSpPr>
          <a:xfrm>
            <a:off x="4285800" y="1071000"/>
            <a:ext cx="3143880" cy="572040"/>
            <a:chOff x="4285800" y="1071000"/>
            <a:chExt cx="3143880" cy="572040"/>
          </a:xfrm>
        </p:grpSpPr>
        <p:sp>
          <p:nvSpPr>
            <p:cNvPr id="70" name="Oval 2"/>
            <p:cNvSpPr/>
            <p:nvPr/>
          </p:nvSpPr>
          <p:spPr>
            <a:xfrm>
              <a:off x="4900320" y="1143000"/>
              <a:ext cx="252936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Curved Connector 16"/>
            <p:cNvCxnSpPr/>
            <p:nvPr/>
          </p:nvCxnSpPr>
          <p:spPr>
            <a:xfrm rot="10800000">
              <a:off x="4285440" y="10710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2" name="Group 17"/>
          <p:cNvGrpSpPr/>
          <p:nvPr/>
        </p:nvGrpSpPr>
        <p:grpSpPr>
          <a:xfrm>
            <a:off x="4357440" y="3500280"/>
            <a:ext cx="3672360" cy="571680"/>
            <a:chOff x="4357440" y="3500280"/>
            <a:chExt cx="3672360" cy="571680"/>
          </a:xfrm>
        </p:grpSpPr>
        <p:grpSp>
          <p:nvGrpSpPr>
            <p:cNvPr id="73" name="Group 39"/>
            <p:cNvGrpSpPr/>
            <p:nvPr/>
          </p:nvGrpSpPr>
          <p:grpSpPr>
            <a:xfrm>
              <a:off x="4357440" y="3500280"/>
              <a:ext cx="3143520" cy="571680"/>
              <a:chOff x="4357440" y="3500280"/>
              <a:chExt cx="3143520" cy="571680"/>
            </a:xfrm>
          </p:grpSpPr>
          <p:sp>
            <p:nvSpPr>
              <p:cNvPr id="74" name="Oval 2"/>
              <p:cNvSpPr/>
              <p:nvPr/>
            </p:nvSpPr>
            <p:spPr>
              <a:xfrm>
                <a:off x="4971960" y="3571560"/>
                <a:ext cx="252900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" name="Curved Connector 21"/>
              <p:cNvCxnSpPr/>
              <p:nvPr/>
            </p:nvCxnSpPr>
            <p:spPr>
              <a:xfrm rot="10800000">
                <a:off x="4357080" y="350028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6" name="Curved Connector 19"/>
            <p:cNvCxnSpPr/>
            <p:nvPr/>
          </p:nvCxnSpPr>
          <p:spPr>
            <a:xfrm flipV="1">
              <a:off x="7500960" y="3570840"/>
              <a:ext cx="529200" cy="25164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7" name="Group 22"/>
          <p:cNvGrpSpPr/>
          <p:nvPr/>
        </p:nvGrpSpPr>
        <p:grpSpPr>
          <a:xfrm>
            <a:off x="4366800" y="4142520"/>
            <a:ext cx="3777120" cy="572400"/>
            <a:chOff x="4366800" y="4142520"/>
            <a:chExt cx="3777120" cy="572400"/>
          </a:xfrm>
        </p:grpSpPr>
        <p:grpSp>
          <p:nvGrpSpPr>
            <p:cNvPr id="78" name="Group 42"/>
            <p:cNvGrpSpPr/>
            <p:nvPr/>
          </p:nvGrpSpPr>
          <p:grpSpPr>
            <a:xfrm>
              <a:off x="4366800" y="4143240"/>
              <a:ext cx="3143880" cy="571680"/>
              <a:chOff x="4366800" y="4143240"/>
              <a:chExt cx="3143880" cy="571680"/>
            </a:xfrm>
          </p:grpSpPr>
          <p:sp>
            <p:nvSpPr>
              <p:cNvPr id="79" name="Oval 2"/>
              <p:cNvSpPr/>
              <p:nvPr/>
            </p:nvSpPr>
            <p:spPr>
              <a:xfrm>
                <a:off x="4981320" y="4214520"/>
                <a:ext cx="252936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" name="Curved Connector 29"/>
              <p:cNvCxnSpPr>
                <a:stCxn id="79" idx="2"/>
              </p:cNvCxnSpPr>
              <p:nvPr/>
            </p:nvCxnSpPr>
            <p:spPr>
              <a:xfrm flipV="1" rot="10800000">
                <a:off x="4366440" y="446364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1" name="Curved Connector 30"/>
              <p:cNvCxnSpPr>
                <a:stCxn id="79" idx="2"/>
              </p:cNvCxnSpPr>
              <p:nvPr/>
            </p:nvCxnSpPr>
            <p:spPr>
              <a:xfrm rot="10800000">
                <a:off x="4366440" y="4428360"/>
                <a:ext cx="614880" cy="3708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2" name="Curved Connector 31"/>
              <p:cNvCxnSpPr>
                <a:stCxn id="79" idx="2"/>
              </p:cNvCxnSpPr>
              <p:nvPr/>
            </p:nvCxnSpPr>
            <p:spPr>
              <a:xfrm rot="10800000">
                <a:off x="4366440" y="435672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3" name="Curved Connector 32"/>
              <p:cNvCxnSpPr>
                <a:stCxn id="79" idx="2"/>
              </p:cNvCxnSpPr>
              <p:nvPr/>
            </p:nvCxnSpPr>
            <p:spPr>
              <a:xfrm rot="10800000">
                <a:off x="4366440" y="414324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84" name="Curved Connector 24"/>
            <p:cNvCxnSpPr/>
            <p:nvPr/>
          </p:nvCxnSpPr>
          <p:spPr>
            <a:xfrm flipV="1">
              <a:off x="7472160" y="4428360"/>
              <a:ext cx="600840" cy="3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5" name="Curved Connector 25"/>
            <p:cNvCxnSpPr/>
            <p:nvPr/>
          </p:nvCxnSpPr>
          <p:spPr>
            <a:xfrm flipV="1">
              <a:off x="7472160" y="4285800"/>
              <a:ext cx="672120" cy="180000"/>
            </a:xfrm>
            <a:prstGeom prst="curvedConnector5">
              <a:avLst>
                <a:gd name="adj1" fmla="val 50000"/>
                <a:gd name="adj2" fmla="val 49899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6" name="Curved Connector 26"/>
            <p:cNvCxnSpPr/>
            <p:nvPr/>
          </p:nvCxnSpPr>
          <p:spPr>
            <a:xfrm>
              <a:off x="7472160" y="4465440"/>
              <a:ext cx="600840" cy="106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7" name="Curved Connector 27"/>
            <p:cNvCxnSpPr>
              <a:stCxn id="79" idx="6"/>
            </p:cNvCxnSpPr>
            <p:nvPr/>
          </p:nvCxnSpPr>
          <p:spPr>
            <a:xfrm flipV="1">
              <a:off x="7510680" y="4142520"/>
              <a:ext cx="491040" cy="32148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cxnSp>
        <p:nvCxnSpPr>
          <p:cNvPr id="88" name="Curved Connector 33"/>
          <p:cNvCxnSpPr>
            <a:stCxn id="58" idx="2"/>
          </p:cNvCxnSpPr>
          <p:nvPr/>
        </p:nvCxnSpPr>
        <p:spPr>
          <a:xfrm rot="10800000">
            <a:off x="4714200" y="5643000"/>
            <a:ext cx="214920" cy="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Curved Connector 34"/>
          <p:cNvCxnSpPr>
            <a:stCxn id="58" idx="0"/>
          </p:cNvCxnSpPr>
          <p:nvPr/>
        </p:nvCxnSpPr>
        <p:spPr>
          <a:xfrm flipV="1" rot="16200000">
            <a:off x="6025680" y="5259960"/>
            <a:ext cx="214920" cy="123120"/>
          </a:xfrm>
          <a:prstGeom prst="curvedConnector5">
            <a:avLst>
              <a:gd name="adj1" fmla="val 50000"/>
              <a:gd name="adj2" fmla="val 49853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Curved Connector 35"/>
          <p:cNvCxnSpPr>
            <a:stCxn id="58" idx="1"/>
          </p:cNvCxnSpPr>
          <p:nvPr/>
        </p:nvCxnSpPr>
        <p:spPr>
          <a:xfrm flipV="1" rot="16200000">
            <a:off x="5184720" y="5387040"/>
            <a:ext cx="144720" cy="84960"/>
          </a:xfrm>
          <a:prstGeom prst="curvedConnector5">
            <a:avLst>
              <a:gd name="adj1" fmla="val 49875"/>
              <a:gd name="adj2" fmla="val 49787"/>
              <a:gd name="adj3" fmla="val 49875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urved Connector 36"/>
          <p:cNvCxnSpPr>
            <a:stCxn id="58" idx="7"/>
          </p:cNvCxnSpPr>
          <p:nvPr/>
        </p:nvCxnSpPr>
        <p:spPr>
          <a:xfrm flipH="1" flipV="1" rot="5400000">
            <a:off x="7006680" y="536580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urved Connector 37"/>
          <p:cNvCxnSpPr>
            <a:stCxn id="58" idx="4"/>
          </p:cNvCxnSpPr>
          <p:nvPr/>
        </p:nvCxnSpPr>
        <p:spPr>
          <a:xfrm flipH="1" rot="16200000">
            <a:off x="6096240" y="6026040"/>
            <a:ext cx="215280" cy="20880"/>
          </a:xfrm>
          <a:prstGeom prst="curvedConnector5">
            <a:avLst>
              <a:gd name="adj1" fmla="val 49916"/>
              <a:gd name="adj2" fmla="val 49122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3" name="Curved Connector 38"/>
          <p:cNvCxnSpPr>
            <a:stCxn id="58" idx="5"/>
          </p:cNvCxnSpPr>
          <p:nvPr/>
        </p:nvCxnSpPr>
        <p:spPr>
          <a:xfrm flipH="1" rot="16200000">
            <a:off x="7007040" y="593604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4" name="Curved Connector 39"/>
          <p:cNvCxnSpPr>
            <a:stCxn id="58" idx="6"/>
          </p:cNvCxnSpPr>
          <p:nvPr/>
        </p:nvCxnSpPr>
        <p:spPr>
          <a:xfrm flipV="1">
            <a:off x="7458120" y="5643000"/>
            <a:ext cx="257760" cy="3708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5" name="Shape 40"/>
          <p:cNvCxnSpPr>
            <a:stCxn id="58" idx="3"/>
          </p:cNvCxnSpPr>
          <p:nvPr/>
        </p:nvCxnSpPr>
        <p:spPr>
          <a:xfrm rot="5400000">
            <a:off x="5148720" y="5850720"/>
            <a:ext cx="145440" cy="1558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Rectangle 3"/>
          <p:cNvSpPr/>
          <p:nvPr/>
        </p:nvSpPr>
        <p:spPr>
          <a:xfrm>
            <a:off x="2357280" y="257760"/>
            <a:ext cx="421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3. Motility of bac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كلية العلوم</cp:lastModifiedBy>
  <cp:lastPrinted>2013-09-23T14:26:55Z</cp:lastPrinted>
  <dcterms:modified xsi:type="dcterms:W3CDTF">2013-09-23T14:28:11Z</dcterms:modified>
  <cp:revision>27</cp:revision>
  <dc:subject/>
  <dc:title>Occurrence (Distribution of bacteria)</dc:title>
</cp:coreProperties>
</file>