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068-1E98-4150-8E66-2DCC337E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41A-7AC2-476A-9A65-DCC952F7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1CF-EF44-49E2-9B1F-2F3C9568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7DE-D0A6-482E-9955-5E265FD7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54A-9D47-48B7-8264-2C2AD367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E68-710B-4401-A419-8AEDA891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539-6C98-4465-A60A-59A0B406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57F-5EF3-48A1-A147-88C85D25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2FB-C096-4720-A280-5BFAB58D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8C3-B3EC-4A0C-9C1E-83A7ADBA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A79-FB8A-49C0-A706-53EE41F8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984-6678-48F0-9E75-D1F657D7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8122-60D6-470D-90B1-D35297A55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0600" y="188640"/>
            <a:ext cx="6377040" cy="7858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جد وتوزيع البكتيريا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rence (Distribution of bacteria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715920"/>
            <a:ext cx="6400800" cy="259236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live everywhere. They occur in water ( fresh and salty ) , in soil and air. Some types live a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prophy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le other ar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si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plants , animals and humans causing </a:t>
            </a: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isea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ome of them can survive in ice and others can live in hot water. They can form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are very </a:t>
            </a: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esista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drought , chemical , rays and temperature </a:t>
            </a: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ari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1258920" y="1268280"/>
            <a:ext cx="6408720" cy="22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كتيريا تتواجد في كل مكان تقريبا، فهي تتواجد في المياة المالحة والعذبة ، في التربة والهواء. بعض الانواع تعيش 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ترممة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بعض الآخر يعيش 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تطفل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لى النبات والحيوان والانسان مسببة لها </a:t>
            </a:r>
            <a:r>
              <a:rPr b="0" lang="ar-SA" sz="18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أمراض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بعض من البكتيريا تستطيع البقاء حية في ظروف صعبة كالجليد والمياة الحارة ، البعض يستطيع انتاج 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بواغ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جراثيم) التي تستطيع </a:t>
            </a:r>
            <a:r>
              <a:rPr b="0" lang="ar-SA" sz="1800" spc="-1" strike="noStrike">
                <a:solidFill>
                  <a:srgbClr val="8064a2"/>
                </a:solidFill>
                <a:latin typeface="Times New Roman"/>
                <a:cs typeface="Times New Roman"/>
              </a:rPr>
              <a:t>مقاوم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جفاف، المواد الكيمائية والاشعة و</a:t>
            </a:r>
            <a:r>
              <a:rPr b="0" lang="ar-SA" sz="1800" spc="-1" strike="noStrike">
                <a:solidFill>
                  <a:srgbClr val="8064a2"/>
                </a:solidFill>
                <a:latin typeface="Times New Roman"/>
                <a:cs typeface="Times New Roman"/>
              </a:rPr>
              <a:t>الاختلافات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ي درجة الحرار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ology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Bacterial ce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8920" y="1643040"/>
            <a:ext cx="619308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كتيريا الحقيقة تنقسم إلى ثلاثة اشكال رئيسية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have three main shape categorie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ar-SA" sz="21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ar-SA" sz="2100" spc="-1" strike="noStrike">
                <a:solidFill>
                  <a:srgbClr val="4f81bd"/>
                </a:solidFill>
                <a:latin typeface="Times New Roman"/>
                <a:cs typeface="Times New Roman"/>
              </a:rPr>
              <a:t>عصوية الشكل</a:t>
            </a: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Rod-shap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are known as </a:t>
            </a:r>
            <a:r>
              <a:rPr b="1" i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bacill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se are short r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ng to their arrangement , they are divided to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حادية عصوية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bacill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have pin-head thickenings and they give an impression of branched structure and they causes diseases in hum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ثنائية عصوية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lobacill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ccur in pairs, also causing diseases in hum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بحية عصوية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bacilli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occur in chains of different length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rcRect l="0" t="41956" r="38614" b="20297"/>
          <a:stretch/>
        </p:blipFill>
        <p:spPr>
          <a:xfrm>
            <a:off x="6372360" y="2060640"/>
            <a:ext cx="2663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9280" y="1643040"/>
            <a:ext cx="64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.   </a:t>
            </a:r>
            <a:r>
              <a:rPr b="1" lang="ar-SA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4f81bd"/>
                </a:solidFill>
                <a:latin typeface="Times New Roman"/>
                <a:cs typeface="Times New Roman"/>
              </a:rPr>
              <a:t>كروية الشكل</a:t>
            </a:r>
            <a:r>
              <a:rPr b="1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pherica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are called </a:t>
            </a:r>
            <a:r>
              <a:rPr b="1" i="1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cci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divided in six groups depending on the cell arrangement and cell divis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حادية كروية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cocci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single celled and lives as saprophy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ثنائية كروية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lococci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divides in one plane and the pairs remain att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سبحية 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reptococci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ision of cell in one plane and causes diseases in hu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 رباعيات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etracocci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ell divides in two planes resulting in four cells and causes diseases in hu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حزمة 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arcinae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ell divides in three planes resulting in 8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عنقودية 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aphylococci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ision in several planes resulting in cluster of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rcRect l="0" t="0" r="38614" b="58183"/>
          <a:stretch/>
        </p:blipFill>
        <p:spPr>
          <a:xfrm>
            <a:off x="6931080" y="1557360"/>
            <a:ext cx="20160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7640" y="691920"/>
            <a:ext cx="5986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3.  </a:t>
            </a:r>
            <a:r>
              <a:rPr b="1" lang="ar-SA" sz="2800" spc="-1" strike="noStrike">
                <a:solidFill>
                  <a:srgbClr val="4f81bd"/>
                </a:solidFill>
                <a:latin typeface="Times New Roman"/>
                <a:cs typeface="Times New Roman"/>
              </a:rPr>
              <a:t>اللولبيات</a:t>
            </a:r>
            <a:r>
              <a:rPr b="1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piral are called </a:t>
            </a:r>
            <a:r>
              <a:rPr b="1" i="1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piril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be divided in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br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resemble a comma in appea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irill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iled forms exhibiting twists with one or more turns. They have constant shapes and they move by flage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irochae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intermediate between bacteria and protozoa, they don’t have cell wall and flagella. Their movement is like a w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63928" t="0" r="4040" b="0"/>
          <a:stretch/>
        </p:blipFill>
        <p:spPr>
          <a:xfrm>
            <a:off x="6205680" y="243000"/>
            <a:ext cx="260964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04280"/>
            <a:ext cx="84358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شعاعيا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nomycetes </a:t>
            </a:r>
            <a:r>
              <a:rPr b="1" lang="en-US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amentous/Mold-like bacter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body consists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cel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st like fungi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my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oup belongs to these mold like bacteria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myc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 antibiotic is produced by Streptomy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905120" y="3284640"/>
            <a:ext cx="533376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ubtitle 2"/>
          <p:cNvSpPr/>
          <p:nvPr/>
        </p:nvSpPr>
        <p:spPr>
          <a:xfrm>
            <a:off x="714240" y="1285920"/>
            <a:ext cx="825048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 are either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mot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t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otile forms are either creeping or swimming. Creeping bacteria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Myobacterium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ve or creep slowly on a supporting surface as a result of wave-like contractions ( contract and relax) of their bodies. Swimming bacteria move freely in a liquid medium due to the presence of flagella. Flagellated forms differ with respect to number and pattern of attachment of flagella. The following forms (Fig .3) can be given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tricho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ne flagellum attached to one pole of the c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photricho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tuft of flagella at one pole of the c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phitricho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single or a tuft of flagella at the two poles of the c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itrichou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flagella distributed over the whole surface of the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1908000" y="189000"/>
            <a:ext cx="5626440" cy="101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ركة في البكتير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lity i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ubtitle 2"/>
          <p:cNvSpPr/>
          <p:nvPr/>
        </p:nvSpPr>
        <p:spPr>
          <a:xfrm>
            <a:off x="596880" y="3220920"/>
            <a:ext cx="824868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ubtitle 2"/>
          <p:cNvSpPr/>
          <p:nvPr/>
        </p:nvSpPr>
        <p:spPr>
          <a:xfrm>
            <a:off x="730080" y="3789360"/>
            <a:ext cx="8250480" cy="251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كتيريا أما تكون متحركة او غير متحركة . أشكال الحركة في البكتيريا اما بالزحف أو السباحة . البكتيريا الزاحفة مثل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حف ببط, على اسطح تدعم الحركة نتيجة لتقلصات في اجسامها تشبه الموجات . اما البكتريا السابحة تتحرك حرة في الاوساط السائلة نتيجة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وجود الاسواط. تختلف اشكال الاسواط وعدد ونمط السوط  حسب التقسيم التالي  والشكل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حادي  السوط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قد يوجد على خلية البكتيريا سوط واحد فقط وفي جهة واحدة فقط</a:t>
            </a:r>
            <a:r>
              <a:rPr b="1" lang="ar-S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صلية الأسواط :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قد تكون السياط متجمعة في مكان واحد من الخلية البكتير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pho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متقابلة الأسواط: </a:t>
            </a:r>
            <a:r>
              <a:rPr b="1" lang="ar-S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قد يتصل بخلية البكتيريا سوط واحد فقط على اتجاهين مختلفين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phi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محيطية الاسواط :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قد تحيط الاسواط بالخلية من كل اتجاه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i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051920" y="378936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obacte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2"/>
          <p:cNvSpPr/>
          <p:nvPr/>
        </p:nvSpPr>
        <p:spPr>
          <a:xfrm>
            <a:off x="4929120" y="5429160"/>
            <a:ext cx="252900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450080" y="128592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حادي  السو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trich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500120" y="257184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صلية الأسو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photrichu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373760" y="3857760"/>
            <a:ext cx="19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تقابلة الأسو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hitricho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186560" y="542916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حيطية الاسو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trich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8"/>
          <p:cNvGrpSpPr/>
          <p:nvPr/>
        </p:nvGrpSpPr>
        <p:grpSpPr>
          <a:xfrm>
            <a:off x="4214520" y="2428200"/>
            <a:ext cx="3143520" cy="572040"/>
            <a:chOff x="4214520" y="2428200"/>
            <a:chExt cx="3143520" cy="572040"/>
          </a:xfrm>
        </p:grpSpPr>
        <p:sp>
          <p:nvSpPr>
            <p:cNvPr id="64" name="Oval 2"/>
            <p:cNvSpPr/>
            <p:nvPr/>
          </p:nvSpPr>
          <p:spPr>
            <a:xfrm>
              <a:off x="4829040" y="2500200"/>
              <a:ext cx="2529000" cy="50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Curved Connector 10"/>
            <p:cNvCxnSpPr>
              <a:stCxn id="64" idx="2"/>
            </p:cNvCxnSpPr>
            <p:nvPr/>
          </p:nvCxnSpPr>
          <p:spPr>
            <a:xfrm flipV="1" rot="10800000">
              <a:off x="4214160" y="2748600"/>
              <a:ext cx="614880" cy="10836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6" name="Curved Connector 11"/>
            <p:cNvCxnSpPr>
              <a:stCxn id="64" idx="2"/>
            </p:cNvCxnSpPr>
            <p:nvPr/>
          </p:nvCxnSpPr>
          <p:spPr>
            <a:xfrm rot="10800000">
              <a:off x="4214160" y="2714040"/>
              <a:ext cx="614880" cy="3708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7" name="Curved Connector 12"/>
            <p:cNvCxnSpPr>
              <a:stCxn id="64" idx="2"/>
            </p:cNvCxnSpPr>
            <p:nvPr/>
          </p:nvCxnSpPr>
          <p:spPr>
            <a:xfrm rot="10800000">
              <a:off x="4214160" y="2642400"/>
              <a:ext cx="614880" cy="10836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8" name="Curved Connector 13"/>
            <p:cNvCxnSpPr>
              <a:stCxn id="64" idx="2"/>
            </p:cNvCxnSpPr>
            <p:nvPr/>
          </p:nvCxnSpPr>
          <p:spPr>
            <a:xfrm rot="10800000">
              <a:off x="4214160" y="2428200"/>
              <a:ext cx="614880" cy="32292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69" name="Group 14"/>
          <p:cNvGrpSpPr/>
          <p:nvPr/>
        </p:nvGrpSpPr>
        <p:grpSpPr>
          <a:xfrm>
            <a:off x="4285800" y="1071000"/>
            <a:ext cx="3143880" cy="572040"/>
            <a:chOff x="4285800" y="1071000"/>
            <a:chExt cx="3143880" cy="572040"/>
          </a:xfrm>
        </p:grpSpPr>
        <p:sp>
          <p:nvSpPr>
            <p:cNvPr id="70" name="Oval 2"/>
            <p:cNvSpPr/>
            <p:nvPr/>
          </p:nvSpPr>
          <p:spPr>
            <a:xfrm>
              <a:off x="4900320" y="1143000"/>
              <a:ext cx="2529360" cy="50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Curved Connector 16"/>
            <p:cNvCxnSpPr/>
            <p:nvPr/>
          </p:nvCxnSpPr>
          <p:spPr>
            <a:xfrm rot="10800000">
              <a:off x="4285440" y="1071000"/>
              <a:ext cx="614880" cy="32292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72" name="Group 17"/>
          <p:cNvGrpSpPr/>
          <p:nvPr/>
        </p:nvGrpSpPr>
        <p:grpSpPr>
          <a:xfrm>
            <a:off x="4357440" y="3500280"/>
            <a:ext cx="3672360" cy="571680"/>
            <a:chOff x="4357440" y="3500280"/>
            <a:chExt cx="3672360" cy="571680"/>
          </a:xfrm>
        </p:grpSpPr>
        <p:grpSp>
          <p:nvGrpSpPr>
            <p:cNvPr id="73" name="Group 39"/>
            <p:cNvGrpSpPr/>
            <p:nvPr/>
          </p:nvGrpSpPr>
          <p:grpSpPr>
            <a:xfrm>
              <a:off x="4357440" y="3500280"/>
              <a:ext cx="3143520" cy="571680"/>
              <a:chOff x="4357440" y="3500280"/>
              <a:chExt cx="3143520" cy="571680"/>
            </a:xfrm>
          </p:grpSpPr>
          <p:sp>
            <p:nvSpPr>
              <p:cNvPr id="74" name="Oval 2"/>
              <p:cNvSpPr/>
              <p:nvPr/>
            </p:nvSpPr>
            <p:spPr>
              <a:xfrm>
                <a:off x="4971960" y="3571560"/>
                <a:ext cx="2529000" cy="50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" name="Curved Connector 21"/>
              <p:cNvCxnSpPr/>
              <p:nvPr/>
            </p:nvCxnSpPr>
            <p:spPr>
              <a:xfrm rot="10800000">
                <a:off x="4357080" y="3500280"/>
                <a:ext cx="614880" cy="32292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</p:grpSp>
        <p:cxnSp>
          <p:nvCxnSpPr>
            <p:cNvPr id="76" name="Curved Connector 19"/>
            <p:cNvCxnSpPr/>
            <p:nvPr/>
          </p:nvCxnSpPr>
          <p:spPr>
            <a:xfrm flipV="1">
              <a:off x="7500960" y="3570840"/>
              <a:ext cx="529200" cy="251640"/>
            </a:xfrm>
            <a:prstGeom prst="curvedConnector5">
              <a:avLst>
                <a:gd name="adj1" fmla="val 49965"/>
                <a:gd name="adj2" fmla="val 50000"/>
                <a:gd name="adj3" fmla="val 49965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77" name="Group 22"/>
          <p:cNvGrpSpPr/>
          <p:nvPr/>
        </p:nvGrpSpPr>
        <p:grpSpPr>
          <a:xfrm>
            <a:off x="4366800" y="4142520"/>
            <a:ext cx="3777120" cy="572400"/>
            <a:chOff x="4366800" y="4142520"/>
            <a:chExt cx="3777120" cy="572400"/>
          </a:xfrm>
        </p:grpSpPr>
        <p:grpSp>
          <p:nvGrpSpPr>
            <p:cNvPr id="78" name="Group 42"/>
            <p:cNvGrpSpPr/>
            <p:nvPr/>
          </p:nvGrpSpPr>
          <p:grpSpPr>
            <a:xfrm>
              <a:off x="4366800" y="4143240"/>
              <a:ext cx="3143880" cy="571680"/>
              <a:chOff x="4366800" y="4143240"/>
              <a:chExt cx="3143880" cy="571680"/>
            </a:xfrm>
          </p:grpSpPr>
          <p:sp>
            <p:nvSpPr>
              <p:cNvPr id="79" name="Oval 2"/>
              <p:cNvSpPr/>
              <p:nvPr/>
            </p:nvSpPr>
            <p:spPr>
              <a:xfrm>
                <a:off x="4981320" y="4214520"/>
                <a:ext cx="2529360" cy="50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0" name="Curved Connector 29"/>
              <p:cNvCxnSpPr>
                <a:stCxn id="79" idx="2"/>
              </p:cNvCxnSpPr>
              <p:nvPr/>
            </p:nvCxnSpPr>
            <p:spPr>
              <a:xfrm flipV="1" rot="10800000">
                <a:off x="4366440" y="4463640"/>
                <a:ext cx="614880" cy="108720"/>
              </a:xfrm>
              <a:prstGeom prst="curvedConnector5">
                <a:avLst>
                  <a:gd name="adj1" fmla="val 49970"/>
                  <a:gd name="adj2" fmla="val 49833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81" name="Curved Connector 30"/>
              <p:cNvCxnSpPr>
                <a:stCxn id="79" idx="2"/>
              </p:cNvCxnSpPr>
              <p:nvPr/>
            </p:nvCxnSpPr>
            <p:spPr>
              <a:xfrm rot="10800000">
                <a:off x="4366440" y="4428360"/>
                <a:ext cx="614880" cy="3708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82" name="Curved Connector 31"/>
              <p:cNvCxnSpPr>
                <a:stCxn id="79" idx="2"/>
              </p:cNvCxnSpPr>
              <p:nvPr/>
            </p:nvCxnSpPr>
            <p:spPr>
              <a:xfrm rot="10800000">
                <a:off x="4366440" y="4356720"/>
                <a:ext cx="614880" cy="108720"/>
              </a:xfrm>
              <a:prstGeom prst="curvedConnector5">
                <a:avLst>
                  <a:gd name="adj1" fmla="val 49970"/>
                  <a:gd name="adj2" fmla="val 49833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83" name="Curved Connector 32"/>
              <p:cNvCxnSpPr>
                <a:stCxn id="79" idx="2"/>
              </p:cNvCxnSpPr>
              <p:nvPr/>
            </p:nvCxnSpPr>
            <p:spPr>
              <a:xfrm rot="10800000">
                <a:off x="4366440" y="4143240"/>
                <a:ext cx="614880" cy="32292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</p:grpSp>
        <p:cxnSp>
          <p:nvCxnSpPr>
            <p:cNvPr id="84" name="Curved Connector 24"/>
            <p:cNvCxnSpPr/>
            <p:nvPr/>
          </p:nvCxnSpPr>
          <p:spPr>
            <a:xfrm flipV="1">
              <a:off x="7472160" y="4428360"/>
              <a:ext cx="600840" cy="35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5" name="Curved Connector 25"/>
            <p:cNvCxnSpPr/>
            <p:nvPr/>
          </p:nvCxnSpPr>
          <p:spPr>
            <a:xfrm flipV="1">
              <a:off x="7472160" y="4285800"/>
              <a:ext cx="672120" cy="180000"/>
            </a:xfrm>
            <a:prstGeom prst="curvedConnector5">
              <a:avLst>
                <a:gd name="adj1" fmla="val 50000"/>
                <a:gd name="adj2" fmla="val 49899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6" name="Curved Connector 26"/>
            <p:cNvCxnSpPr/>
            <p:nvPr/>
          </p:nvCxnSpPr>
          <p:spPr>
            <a:xfrm>
              <a:off x="7472160" y="4465440"/>
              <a:ext cx="600840" cy="1069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7" name="Curved Connector 27"/>
            <p:cNvCxnSpPr>
              <a:stCxn id="79" idx="6"/>
            </p:cNvCxnSpPr>
            <p:nvPr/>
          </p:nvCxnSpPr>
          <p:spPr>
            <a:xfrm flipV="1">
              <a:off x="7510680" y="4142520"/>
              <a:ext cx="491040" cy="32148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cxnSp>
        <p:nvCxnSpPr>
          <p:cNvPr id="88" name="Curved Connector 33"/>
          <p:cNvCxnSpPr>
            <a:stCxn id="58" idx="2"/>
          </p:cNvCxnSpPr>
          <p:nvPr/>
        </p:nvCxnSpPr>
        <p:spPr>
          <a:xfrm rot="10800000">
            <a:off x="4714200" y="5643000"/>
            <a:ext cx="214920" cy="37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9" name="Curved Connector 34"/>
          <p:cNvCxnSpPr>
            <a:stCxn id="58" idx="0"/>
          </p:cNvCxnSpPr>
          <p:nvPr/>
        </p:nvCxnSpPr>
        <p:spPr>
          <a:xfrm flipV="1" rot="16200000">
            <a:off x="6025680" y="5259960"/>
            <a:ext cx="214920" cy="123120"/>
          </a:xfrm>
          <a:prstGeom prst="curvedConnector5">
            <a:avLst>
              <a:gd name="adj1" fmla="val 50000"/>
              <a:gd name="adj2" fmla="val 49853"/>
              <a:gd name="adj3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0" name="Curved Connector 35"/>
          <p:cNvCxnSpPr>
            <a:stCxn id="58" idx="1"/>
          </p:cNvCxnSpPr>
          <p:nvPr/>
        </p:nvCxnSpPr>
        <p:spPr>
          <a:xfrm flipV="1" rot="16200000">
            <a:off x="5184720" y="5387040"/>
            <a:ext cx="144720" cy="84960"/>
          </a:xfrm>
          <a:prstGeom prst="curvedConnector5">
            <a:avLst>
              <a:gd name="adj1" fmla="val 49875"/>
              <a:gd name="adj2" fmla="val 49787"/>
              <a:gd name="adj3" fmla="val 49875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1" name="Curved Connector 36"/>
          <p:cNvCxnSpPr>
            <a:stCxn id="58" idx="7"/>
          </p:cNvCxnSpPr>
          <p:nvPr/>
        </p:nvCxnSpPr>
        <p:spPr>
          <a:xfrm flipH="1" flipV="1" rot="5400000">
            <a:off x="7006680" y="5365800"/>
            <a:ext cx="216720" cy="5652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2" name="Curved Connector 37"/>
          <p:cNvCxnSpPr>
            <a:stCxn id="58" idx="4"/>
          </p:cNvCxnSpPr>
          <p:nvPr/>
        </p:nvCxnSpPr>
        <p:spPr>
          <a:xfrm flipH="1" rot="16200000">
            <a:off x="6096240" y="6026040"/>
            <a:ext cx="215280" cy="20880"/>
          </a:xfrm>
          <a:prstGeom prst="curvedConnector5">
            <a:avLst>
              <a:gd name="adj1" fmla="val 49916"/>
              <a:gd name="adj2" fmla="val 49122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3" name="Curved Connector 38"/>
          <p:cNvCxnSpPr>
            <a:stCxn id="58" idx="5"/>
          </p:cNvCxnSpPr>
          <p:nvPr/>
        </p:nvCxnSpPr>
        <p:spPr>
          <a:xfrm flipH="1" rot="16200000">
            <a:off x="7007040" y="5936040"/>
            <a:ext cx="216720" cy="5652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4" name="Curved Connector 39"/>
          <p:cNvCxnSpPr>
            <a:stCxn id="58" idx="6"/>
          </p:cNvCxnSpPr>
          <p:nvPr/>
        </p:nvCxnSpPr>
        <p:spPr>
          <a:xfrm flipV="1">
            <a:off x="7458120" y="5643000"/>
            <a:ext cx="257760" cy="37080"/>
          </a:xfrm>
          <a:prstGeom prst="curvedConnector5">
            <a:avLst>
              <a:gd name="adj1" fmla="val 49930"/>
              <a:gd name="adj2" fmla="val 50000"/>
              <a:gd name="adj3" fmla="val 4993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5" name="Shape 40"/>
          <p:cNvCxnSpPr>
            <a:stCxn id="58" idx="3"/>
          </p:cNvCxnSpPr>
          <p:nvPr/>
        </p:nvCxnSpPr>
        <p:spPr>
          <a:xfrm rot="5400000">
            <a:off x="5148720" y="5850720"/>
            <a:ext cx="145440" cy="15588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96" name="Rectangle 3"/>
          <p:cNvSpPr/>
          <p:nvPr/>
        </p:nvSpPr>
        <p:spPr>
          <a:xfrm>
            <a:off x="2357280" y="257760"/>
            <a:ext cx="421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Fig. 3. Motility of bac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6:09:36Z</dcterms:created>
  <dc:creator>Baba</dc:creator>
  <dc:description/>
  <dc:language>en-US</dc:language>
  <cp:lastModifiedBy>ihab moussa</cp:lastModifiedBy>
  <cp:lastPrinted>2013-09-23T14:26:55Z</cp:lastPrinted>
  <dcterms:modified xsi:type="dcterms:W3CDTF">2016-12-09T19:45:07Z</dcterms:modified>
  <cp:revision>27</cp:revision>
  <dc:subject/>
  <dc:title>Occurrence (Distribution of bacteria)</dc:title>
</cp:coreProperties>
</file>