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11D-3F37-4972-8422-0FBB7497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9D8-1759-42F0-8828-668D437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A5B-E2C9-4A1C-B24D-7C61DFEA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D9B-A185-4D53-86E8-3BF3F3C7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FAB-21EB-492A-A852-47C0571E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9A0-FE82-48D5-B674-8EED808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0FF-9B08-4B3D-98B2-4542FF4A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DBF-3B81-44DF-A0D5-EA0AAB9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12D-F006-4F3F-A0EC-04D6B46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6BF-8FF0-4DFF-AA5E-C954A26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29E-408D-48C9-BABB-4636E54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0EC-3606-465D-8A07-4E638F7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02C5-F169-4BBD-BA16-0B78AD5FEC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521320" cy="1204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رق العيش في البكتيريا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1557360"/>
            <a:ext cx="83581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ان تصنف البكتيريا نظرا لمتطلبات الاكسجين إ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ing the oxygen demands of bacteria, it can be classified in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3071880"/>
            <a:ext cx="2714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y require free supply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7860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y grow in complete absence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008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. Facultative 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can live either in presence or absence of oxyge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7"/>
          <p:cNvCxnSpPr/>
          <p:nvPr/>
        </p:nvCxnSpPr>
        <p:spPr>
          <a:xfrm flipH="1">
            <a:off x="1571400" y="2213640"/>
            <a:ext cx="2643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9"/>
          <p:cNvCxnSpPr/>
          <p:nvPr/>
        </p:nvCxnSpPr>
        <p:spPr>
          <a:xfrm>
            <a:off x="4214880" y="221472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1"/>
          <p:cNvCxnSpPr/>
          <p:nvPr/>
        </p:nvCxnSpPr>
        <p:spPr>
          <a:xfrm>
            <a:off x="4214880" y="2214720"/>
            <a:ext cx="3286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Subtitle 2"/>
          <p:cNvSpPr/>
          <p:nvPr/>
        </p:nvSpPr>
        <p:spPr>
          <a:xfrm>
            <a:off x="714240" y="3071880"/>
            <a:ext cx="128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678120" y="3071880"/>
            <a:ext cx="1287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597720" y="3000240"/>
            <a:ext cx="1806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 إختي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2640" y="3860280"/>
            <a:ext cx="8229600" cy="2637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consider the mode of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cteria can be divided into two categor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 build up complex organic substances such as carbohydrates from simple inorganic sources (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te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eter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not build up carbohydrates from simple inorganic sources. They depend on ready made organic materials derived from plants , animals of humans. They can live on such compounds , break it down , enzymatic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539640" y="1052640"/>
            <a:ext cx="82296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مكن ان تصنف البكتيريا إلى قسمين من ناحية </a:t>
            </a:r>
            <a:r>
              <a:rPr b="0" lang="ar-SA" sz="1800" spc="-1" strike="noStrike">
                <a:solidFill>
                  <a:srgbClr val="92d050"/>
                </a:solidFill>
                <a:latin typeface="Calibri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ذاتية التغذي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كتيريا التي تستطيع بناء مواد عضوية معقدة مثل الكربوهيدرات من مصادر غير عضوية بسيطة مثل الماء        وثاني اكسيد الكربو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غير ذاتي التغذية (متغاير التغذية)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eterotro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البكتيريا التي لاتستيطيع بناء الكربوهيدارت من المصادر الغير عضوية البسيطة وهي تعتمد على اخذها من النبات  والحيوان والانسان ، وهي تستطيع العيش على مركبات معقدة وتكسيرها إلى جزيئات ابسط بواسطة أنزيمات معينة تساعدها في ذل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ذاتية التغذية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: Aut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271476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divided into 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: Phot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II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m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4"/>
          <p:cNvCxnSpPr/>
          <p:nvPr/>
        </p:nvCxnSpPr>
        <p:spPr>
          <a:xfrm flipH="1">
            <a:off x="2499840" y="3499200"/>
            <a:ext cx="16437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6"/>
          <p:cNvCxnSpPr/>
          <p:nvPr/>
        </p:nvCxnSpPr>
        <p:spPr>
          <a:xfrm>
            <a:off x="4143240" y="3499920"/>
            <a:ext cx="21441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ectangle 1"/>
          <p:cNvSpPr/>
          <p:nvPr/>
        </p:nvSpPr>
        <p:spPr>
          <a:xfrm>
            <a:off x="641160" y="5027760"/>
            <a:ext cx="32486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ضوئ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240" y="5027760"/>
            <a:ext cx="34178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hotoautotroph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ontain in their cells a chlorophyll known 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acterial chlorophyl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which they can perform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otosyn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Here, the energy used in building up processes is derived from light. As an example of such bacteria is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Calibri"/>
              </a:rPr>
              <a:t>Light Energ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6C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+ 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                           C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+ 6 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 +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S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                        </a:t>
            </a: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V="1">
            <a:off x="2340000" y="5280840"/>
            <a:ext cx="172800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7"/>
          <p:cNvCxnSpPr/>
          <p:nvPr/>
        </p:nvCxnSpPr>
        <p:spPr>
          <a:xfrm flipV="1">
            <a:off x="8501040" y="47142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Content Placeholder 2"/>
          <p:cNvSpPr/>
          <p:nvPr/>
        </p:nvSpPr>
        <p:spPr>
          <a:xfrm>
            <a:off x="468360" y="208080"/>
            <a:ext cx="8229600" cy="19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- ذاتية التغذية الضوئ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البكتيريا التي تحتوي على الكلوروفيل الذي يعرف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بالكلوروفيل البكتير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ذي يدخل في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يستمد الطاقة من الضوء مثال على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reen sulphur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 flipH="1">
            <a:off x="468360" y="4437000"/>
            <a:ext cx="8229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3357720"/>
            <a:ext cx="8229600" cy="30002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Chemo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the cells lack chlorophll. Accordingly the source of energy should be something else than light. The energy used here is released from chemical reactions carried out by such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611280" y="189000"/>
            <a:ext cx="8229600" cy="30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- ذاتية التغذي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تفتقر الخلايا إلى الكلوروفيل وبناء على ذلك ينبغي ان يكون مصدر الطاقة غير الضوء. الطاقة المستخدمة هنا يتم تحريرها من التفاعلات الكيمائية التي تقوم بها هذه البكتير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we hav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somona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monia or ammonium salts to nitri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N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­3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bac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itrites to nitra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iobacillus thiooxida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ulphur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S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                                       2 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تستخدم الطاقة المنطلقة من أي تفاعلات الأكسدة  بواسطة كائنات معينة تستطيع بناء الكربوهيدرات العضوية من المصادر غير عضوية بسيط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nergy released from any of these oxidation reactions is utilized by the specific organism in building up organic carbohydrates from the simple inorganic sou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5"/>
          <p:cNvCxnSpPr/>
          <p:nvPr/>
        </p:nvCxnSpPr>
        <p:spPr>
          <a:xfrm>
            <a:off x="3071880" y="2714760"/>
            <a:ext cx="1929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7"/>
          <p:cNvCxnSpPr/>
          <p:nvPr/>
        </p:nvCxnSpPr>
        <p:spPr>
          <a:xfrm>
            <a:off x="3000240" y="3357720"/>
            <a:ext cx="214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>
            <a:off x="3500280" y="4285800"/>
            <a:ext cx="2144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نا سوف نأخذ ثلاثة امثلة لبكتيريا تستخدم تفاعلات الاكس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متباينة التغذ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ter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terotrophs live either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5"/>
          <p:cNvCxnSpPr/>
          <p:nvPr/>
        </p:nvCxnSpPr>
        <p:spPr>
          <a:xfrm flipH="1">
            <a:off x="1213920" y="2143080"/>
            <a:ext cx="292968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>
            <a:off x="3928320" y="2143080"/>
            <a:ext cx="214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>
            <a:off x="4143240" y="2143080"/>
            <a:ext cx="31442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itle 1"/>
          <p:cNvSpPr/>
          <p:nvPr/>
        </p:nvSpPr>
        <p:spPr>
          <a:xfrm>
            <a:off x="285840" y="321480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s, animals and human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using serious dis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581200" y="3143160"/>
            <a:ext cx="27147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aprophy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ad organic mat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43680" y="3214800"/>
            <a:ext cx="3571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mbi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other 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ring benefit, e.g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hizobiu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(nodule bacteria) which lives in symbiosis with the roots of legumes forming root n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can fix nitrogen and build proteins and other nitrogenous compounds to be partially delivered, to the higher plant and get in return the carbohydrates from the lat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6949080" y="3071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كا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72200" y="31431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رم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6840" y="30002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ط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5:37:25Z</dcterms:created>
  <dc:creator>DTK</dc:creator>
  <dc:description/>
  <dc:language>en-US</dc:language>
  <cp:lastModifiedBy>ihab moussa</cp:lastModifiedBy>
  <cp:lastPrinted>2013-09-29T06:59:00Z</cp:lastPrinted>
  <dcterms:modified xsi:type="dcterms:W3CDTF">2016-12-09T19:45:58Z</dcterms:modified>
  <cp:revision>22</cp:revision>
  <dc:subject/>
  <dc:title>Mode of living in Bacteria</dc:title>
</cp:coreProperties>
</file>