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F89-3702-4837-B0B7-C8435F94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1B3-1597-4019-90CC-6782CD1F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144-AE46-4289-8F7F-425F26F0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0FE-5DD4-444A-8C17-17FE41BF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195-242B-4AEA-8400-2D4DD193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F4C-FA20-4501-9C23-919A74AE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B1A-E4C6-4518-9DAE-41D66628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599-6ACA-427F-A1BF-0605FEC8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047-5DD7-4BD7-80CA-9317A4D1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8D0-3BEF-45D3-9E3C-4DAA05FA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68F-279B-4DF7-8837-179FB16D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654-E02D-4CF6-8FD2-07E9213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1423-4624-44E6-B247-FC722FD13C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259920"/>
            <a:ext cx="5521320" cy="12049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رق العيش في البكتيريا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1557360"/>
            <a:ext cx="83581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ان تصنف البكتيريا نظرا لمتطلبات الاكسجين إ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dering the oxygen demands of bacteria, it can be classified int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3071880"/>
            <a:ext cx="2714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y require free supply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7860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y grow in complete absence of oxyg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000840" y="3071880"/>
            <a:ext cx="3071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3. Facultative ae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can live either in presence or absence of oxyge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7"/>
          <p:cNvCxnSpPr/>
          <p:nvPr/>
        </p:nvCxnSpPr>
        <p:spPr>
          <a:xfrm flipH="1">
            <a:off x="1571400" y="2213640"/>
            <a:ext cx="264384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9"/>
          <p:cNvCxnSpPr/>
          <p:nvPr/>
        </p:nvCxnSpPr>
        <p:spPr>
          <a:xfrm>
            <a:off x="4214880" y="2214720"/>
            <a:ext cx="720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11"/>
          <p:cNvCxnSpPr/>
          <p:nvPr/>
        </p:nvCxnSpPr>
        <p:spPr>
          <a:xfrm>
            <a:off x="4214880" y="2214720"/>
            <a:ext cx="3286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Subtitle 2"/>
          <p:cNvSpPr/>
          <p:nvPr/>
        </p:nvSpPr>
        <p:spPr>
          <a:xfrm>
            <a:off x="714240" y="3071880"/>
            <a:ext cx="128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3678120" y="3071880"/>
            <a:ext cx="1287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اهو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6597720" y="3000240"/>
            <a:ext cx="18064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هوائية إختيا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de of living in Bacte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2640" y="3860280"/>
            <a:ext cx="8229600" cy="26370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we consider the mode of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nutr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bacteria can be divided into two categor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 build up complex organic substances such as carbohydrates from simple inorganic sources (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wate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eterotrophic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y cannot build up carbohydrates from simple inorganic sources. They depend on ready made organic materials derived from plants , animals of humans. They can live on such compounds , break it down , enzymatical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539640" y="1052640"/>
            <a:ext cx="8229600" cy="259236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يمكن ان تصنف البكتيريا إلى قسمين من ناحية </a:t>
            </a:r>
            <a:r>
              <a:rPr b="0" lang="ar-SA" sz="1800" spc="-1" strike="noStrike">
                <a:solidFill>
                  <a:srgbClr val="92d050"/>
                </a:solidFill>
                <a:latin typeface="Calibri"/>
              </a:rPr>
              <a:t>التغذ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ذاتية التغذية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utotro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بكتيريا التي تستطيع بناء مواد عضوية معقدة مثل الكربوهيدرات من مصادر غير عضوية بسيطة مثل الماء        وثاني اكسيد الكربو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ff0000"/>
                </a:solidFill>
                <a:latin typeface="Calibri"/>
              </a:rPr>
              <a:t>غير ذاتي التغذية (متغاير التغذية)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eterotroph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هي البكتيريا التي لاتستيطيع بناء الكربوهيدارت من المصادر الغير عضوية البسيطة وهي تعتمد على اخذها من النبات  والحيوان والانسان ، وهي تستطيع العيش على مركبات معقدة وتكسيرها إلى جزيئات ابسط بواسطة أنزيمات معينة تساعدها في ذلك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ذاتية التغذية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: Aut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0040" y="271476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n be divided into two typ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: Phot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II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mo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Straight Arrow Connector 4"/>
          <p:cNvCxnSpPr/>
          <p:nvPr/>
        </p:nvCxnSpPr>
        <p:spPr>
          <a:xfrm flipH="1">
            <a:off x="2499840" y="3499200"/>
            <a:ext cx="16437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6"/>
          <p:cNvCxnSpPr/>
          <p:nvPr/>
        </p:nvCxnSpPr>
        <p:spPr>
          <a:xfrm>
            <a:off x="4143240" y="3499920"/>
            <a:ext cx="214416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Rectangle 1"/>
          <p:cNvSpPr/>
          <p:nvPr/>
        </p:nvSpPr>
        <p:spPr>
          <a:xfrm>
            <a:off x="641160" y="5027760"/>
            <a:ext cx="32486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ضوئ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4683240" y="5027760"/>
            <a:ext cx="3417840" cy="45972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2469960"/>
            <a:ext cx="8229600" cy="365580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hotoautotroph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contain in their cells a chlorophyll known 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bacterial chlorophyl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 which they can perform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otosynthes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Here, the energy used in building up processes is derived from light. As an example of such bacteria is the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US" sz="1600" spc="-1" strike="noStrike">
                <a:solidFill>
                  <a:srgbClr val="7030a0"/>
                </a:solidFill>
                <a:latin typeface="Calibri"/>
              </a:rPr>
              <a:t>Light Energ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6C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+ 1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                             C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1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 + 6 H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 +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S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                         </a:t>
            </a:r>
            <a:r>
              <a:rPr b="0" lang="en-US" sz="1400" spc="-1" strike="noStrike">
                <a:solidFill>
                  <a:srgbClr val="00b050"/>
                </a:solidFill>
                <a:latin typeface="Calibri"/>
              </a:rPr>
              <a:t>Green sulphur bac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V="1">
            <a:off x="2340000" y="5280840"/>
            <a:ext cx="1728000" cy="1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7"/>
          <p:cNvCxnSpPr/>
          <p:nvPr/>
        </p:nvCxnSpPr>
        <p:spPr>
          <a:xfrm flipV="1">
            <a:off x="8501040" y="471420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Content Placeholder 2"/>
          <p:cNvSpPr/>
          <p:nvPr/>
        </p:nvSpPr>
        <p:spPr>
          <a:xfrm>
            <a:off x="468360" y="208080"/>
            <a:ext cx="8229600" cy="19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أ- ذاتية التغذية الضوئ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هي البكتيريا التي تحتوي على الكلوروفيل الذي يعرف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بالكلوروفيل البكتير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الذي يدخل في 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  <a:cs typeface="Arial"/>
              </a:rPr>
              <a:t>عملية البناء الضوئي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ويستمد الطاقة من الضوء مثال على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green sulphur bacte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ذل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5"/>
          <p:cNvSpPr/>
          <p:nvPr/>
        </p:nvSpPr>
        <p:spPr>
          <a:xfrm flipH="1">
            <a:off x="468360" y="4437000"/>
            <a:ext cx="8229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3357720"/>
            <a:ext cx="8229600" cy="3000240"/>
          </a:xfrm>
          <a:prstGeom prst="rect">
            <a:avLst/>
          </a:prstGeom>
          <a:noFill/>
          <a:ln w="93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Chemoautotrop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re the cells lack chlorophll. Accordingly the source of energy should be something else than light. The energy used here is released from chemical reactions carried out by such bacte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611280" y="189000"/>
            <a:ext cx="8229600" cy="300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71640" indent="-514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- ذاتية التغذية الكيميائي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 algn="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في هذا النوع تفتقر الخلايا إلى الكلوروفيل وبناء على ذلك ينبغي ان يكون مصدر الطاقة غير الضوء. الطاقة المستخدمة هنا يتم تحريرها من التفاعلات الكيمائية التي تقوم بها هذه البكتير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examples we hav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somona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mmonia or ammonium salts to nitri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N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­3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Nitrobact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itrites to nitrates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                                 2 HN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hiobacillus thiooxida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oxidiz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ulphur with a release of energy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2S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3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+ 2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O                                        2 H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SO</a:t>
            </a:r>
            <a:r>
              <a:rPr b="0" lang="en-US" sz="2200" spc="-1" strike="noStrike" baseline="-25000">
                <a:solidFill>
                  <a:srgbClr val="0070c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 +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تستخدم الطاقة المنطلقة من أي تفاعلات الأكسدة  بواسطة كائنات معينة تستطيع بناء الكربوهيدرات العضوية من المصادر غير عضوية بسيطة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nergy released from any of these oxidation reactions is utilized by the specific organism in building up organic carbohydrates from the simple inorganic sourc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5"/>
          <p:cNvCxnSpPr/>
          <p:nvPr/>
        </p:nvCxnSpPr>
        <p:spPr>
          <a:xfrm>
            <a:off x="3071880" y="2714760"/>
            <a:ext cx="1929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7"/>
          <p:cNvCxnSpPr/>
          <p:nvPr/>
        </p:nvCxnSpPr>
        <p:spPr>
          <a:xfrm>
            <a:off x="3000240" y="3357720"/>
            <a:ext cx="2144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9"/>
          <p:cNvCxnSpPr/>
          <p:nvPr/>
        </p:nvCxnSpPr>
        <p:spPr>
          <a:xfrm>
            <a:off x="3500280" y="4285800"/>
            <a:ext cx="21441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نا سوف نأخذ ثلاثة امثلة لبكتيريا تستخدم تفاعلات الاكس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بكتيريا متباينة التغذي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eterotrophic Bac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560" y="160020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eterotrophs live either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5"/>
          <p:cNvCxnSpPr/>
          <p:nvPr/>
        </p:nvCxnSpPr>
        <p:spPr>
          <a:xfrm flipH="1">
            <a:off x="1213920" y="2143080"/>
            <a:ext cx="292968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Straight Arrow Connector 7"/>
          <p:cNvCxnSpPr/>
          <p:nvPr/>
        </p:nvCxnSpPr>
        <p:spPr>
          <a:xfrm flipH="1">
            <a:off x="3928320" y="2143080"/>
            <a:ext cx="2149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9"/>
          <p:cNvCxnSpPr/>
          <p:nvPr/>
        </p:nvCxnSpPr>
        <p:spPr>
          <a:xfrm>
            <a:off x="4143240" y="2143080"/>
            <a:ext cx="31442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8" name="Title 1"/>
          <p:cNvSpPr/>
          <p:nvPr/>
        </p:nvSpPr>
        <p:spPr>
          <a:xfrm>
            <a:off x="285840" y="3214800"/>
            <a:ext cx="16430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si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ts, animals and human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using serious dis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2581200" y="3143160"/>
            <a:ext cx="27147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Saprophy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dead organic mat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5143680" y="3214800"/>
            <a:ext cx="357156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ymbio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th other living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haring benefit, e.g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Rhizobium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(nodule bacteria) which lives in symbiosis with the roots of legumes forming root n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can fix nitrogen and build proteins and other nitrogenous compounds to be partially delivered, to the higher plant and get in return the carbohydrates from the latt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6949080" y="3071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كا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472200" y="31431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رم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456840" y="300024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طف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5:37:25Z</dcterms:created>
  <dc:creator>DTK</dc:creator>
  <dc:description/>
  <dc:language>en-US</dc:language>
  <cp:lastModifiedBy>ihab moussa</cp:lastModifiedBy>
  <cp:lastPrinted>2013-09-29T06:59:00Z</cp:lastPrinted>
  <dcterms:modified xsi:type="dcterms:W3CDTF">2016-12-09T19:45:58Z</dcterms:modified>
  <cp:revision>22</cp:revision>
  <dc:subject/>
  <dc:title>Mode of living in Bacteria</dc:title>
</cp:coreProperties>
</file>