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4EDB-90D7-4868-ABFB-146291EE4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0946-7C76-4EDC-8A4B-2F9C7E99A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017C-77A3-47CC-8510-320F71952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5F1D-B797-4C9C-BAB0-36226C733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0715-4E97-4000-8E48-635DDC843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0EA9-4976-4FF7-B65F-0D1E209F2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4539-407A-42E0-9595-92C89F577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A42A-8283-42F9-BCAC-C31D12458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41AC-73E1-4AC2-97FD-7406E0BC3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D006-0457-4C49-97A6-2AD6D6CA5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30F2-3D3F-451F-9476-172B7F595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C8D3-F57F-45DE-B251-85A7C6A3A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32D0D-77F0-44C5-AF4A-7F64A2DD1EA0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52320" y="117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النمو البكتيري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acterial growth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96960" y="4149720"/>
            <a:ext cx="7786800" cy="214632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Autofit/>
          </a:bodyPr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mathematics of bacterial growth is fairly simple, since each original cell divides to form two new cells, with the loss of the original pare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mathematical series describing growth is: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1, 2, 4, 8, 16, … 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s can be written as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US" sz="2400" spc="-1" strike="noStrike" baseline="30000">
                <a:solidFill>
                  <a:srgbClr val="ff0000"/>
                </a:solidFill>
                <a:latin typeface="Calibri"/>
              </a:rPr>
              <a:t>0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, 2</a:t>
            </a:r>
            <a:r>
              <a:rPr b="0" lang="en-US" sz="2400" spc="-1" strike="noStrike" baseline="30000">
                <a:solidFill>
                  <a:srgbClr val="ff0000"/>
                </a:solidFill>
                <a:latin typeface="Calibri"/>
              </a:rPr>
              <a:t>1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, 2</a:t>
            </a:r>
            <a:r>
              <a:rPr b="0" lang="en-US" sz="2400" spc="-1" strike="noStrike" baseline="30000">
                <a:solidFill>
                  <a:srgbClr val="ff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, 2</a:t>
            </a:r>
            <a:r>
              <a:rPr b="0" lang="en-US" sz="2400" spc="-1" strike="noStrike" baseline="30000">
                <a:solidFill>
                  <a:srgbClr val="ff0000"/>
                </a:solidFill>
                <a:latin typeface="Calibri"/>
              </a:rPr>
              <a:t>3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, 2</a:t>
            </a:r>
            <a:r>
              <a:rPr b="0" lang="en-US" sz="2400" spc="-1" strike="noStrike" baseline="30000">
                <a:solidFill>
                  <a:srgbClr val="ff0000"/>
                </a:solidFill>
                <a:latin typeface="Calibri"/>
              </a:rPr>
              <a:t>4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, 2</a:t>
            </a:r>
            <a:r>
              <a:rPr b="0" lang="en-US" sz="2400" spc="-1" strike="noStrike" baseline="30000">
                <a:solidFill>
                  <a:srgbClr val="ff0000"/>
                </a:solidFill>
                <a:latin typeface="Calibri"/>
              </a:rPr>
              <a:t>5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, .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1"/>
          <p:cNvSpPr/>
          <p:nvPr/>
        </p:nvSpPr>
        <p:spPr>
          <a:xfrm>
            <a:off x="755640" y="1125360"/>
            <a:ext cx="7669080" cy="265428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لنمو البكتيري حسابيا بسيط إلى حد ما. حيث ان كل خلية اصلية تنقسم  إلى خليتين جديدتين، مع فقدان الخلية الأم الأصلي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لنمو البكتيري يمكن أن يوصف في شكل سلسلة رياضية: 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ar-SA" sz="2400" spc="-1" strike="noStrike">
                <a:solidFill>
                  <a:srgbClr val="ff0000"/>
                </a:solidFill>
                <a:latin typeface="Arial"/>
              </a:rPr>
              <a:t>،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ar-SA" sz="2400" spc="-1" strike="noStrike">
                <a:solidFill>
                  <a:srgbClr val="ff0000"/>
                </a:solidFill>
                <a:latin typeface="Arial"/>
              </a:rPr>
              <a:t>،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0" lang="ar-SA" sz="2400" spc="-1" strike="noStrike">
                <a:solidFill>
                  <a:srgbClr val="ff0000"/>
                </a:solidFill>
                <a:latin typeface="Arial"/>
              </a:rPr>
              <a:t>،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8</a:t>
            </a:r>
            <a:r>
              <a:rPr b="0" lang="ar-SA" sz="2400" spc="-1" strike="noStrike">
                <a:solidFill>
                  <a:srgbClr val="ff0000"/>
                </a:solidFill>
                <a:latin typeface="Arial"/>
              </a:rPr>
              <a:t>،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6</a:t>
            </a:r>
            <a:r>
              <a:rPr b="0" lang="ar-SA" sz="2400" spc="-1" strike="noStrike">
                <a:solidFill>
                  <a:srgbClr val="ff0000"/>
                </a:solidFill>
                <a:latin typeface="Arial"/>
              </a:rPr>
              <a:t>،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يمكن أن تكتب على النحو التالي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 rtl="1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3"/>
          <p:cNvSpPr/>
          <p:nvPr/>
        </p:nvSpPr>
        <p:spPr>
          <a:xfrm>
            <a:off x="2700360" y="907920"/>
            <a:ext cx="5435640" cy="70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4f81bd"/>
                </a:solidFill>
                <a:latin typeface="Arial"/>
              </a:rPr>
              <a:t>وفقا لدرجات الحرارة وبقاء البكتيريا حية يمكن أن تقسم إلى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البكتيريا المحبة لدرجة الحرارة المنخفضة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sychroph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هي التي تفضل النمو عند درجات الحرارة منخفضة بين صفر -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م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البكتيريا المحبة لدرجة الحرارة المتوسطة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soph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هي التي تفضل النمو عند درجات الحرارة المعتدلة بين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م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البكتيريا المحبة لدرجة الحرارة المرتفعة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moph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هي التي تفضل النمو عند درجات الحرارة المرتفعة أكثر من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م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البكتيريا المحبة للظروف القاسية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tremoph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هي التي تنمو جيدا عند درجة حرارة تتراوح بين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120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م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93560" y="1275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generation tim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time needed for the cell to divide into two) differs according to species and prevailing conditions.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r example, a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bacterium that divides every 30 min has a generation time of 30 mi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 (Fig 1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rcRect l="33231" t="30937" r="36189" b="29606"/>
          <a:stretch/>
        </p:blipFill>
        <p:spPr>
          <a:xfrm>
            <a:off x="1674720" y="2781360"/>
            <a:ext cx="5469120" cy="33624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"/>
          <p:cNvSpPr/>
          <p:nvPr/>
        </p:nvSpPr>
        <p:spPr>
          <a:xfrm>
            <a:off x="684360" y="260280"/>
            <a:ext cx="784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زمن الجيل أو التوالد (الوقت اللازم للخلية لتنقسم إلى قسمين) يختلف حسب الأنواع والظروف السائدة. على سبيل المثال، البكتيريا التي تنقسم كل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دقيقة ان زمن الجيل يكون كل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دقيقة على حسب الشكل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85960" y="274680"/>
            <a:ext cx="557208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 bacterial growth curve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200"/>
            </a:b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منحنى النمو البكتيري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28480" y="1125000"/>
            <a:ext cx="8229600" cy="2590920"/>
          </a:xfrm>
          <a:prstGeom prst="rect">
            <a:avLst/>
          </a:prstGeom>
          <a:noFill/>
          <a:ln w="9360">
            <a:solidFill>
              <a:srgbClr val="8eb4e3"/>
            </a:solidFill>
            <a:miter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acterial growth over time can be graphed as cell number versus tim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s is called a growth curv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s curve typically has four distinct phase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f81bd"/>
                </a:solidFill>
                <a:latin typeface="Calibri"/>
              </a:rPr>
              <a:t>              </a:t>
            </a:r>
            <a:r>
              <a:rPr b="0" lang="en-US" sz="1900" spc="-1" strike="noStrike">
                <a:solidFill>
                  <a:srgbClr val="4f81bd"/>
                </a:solidFill>
                <a:latin typeface="Calibri"/>
              </a:rPr>
              <a:t>Lag                             Exponential        Stationary                 Death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f81bd"/>
                </a:solidFill>
                <a:latin typeface="Calibri"/>
              </a:rPr>
              <a:t>            </a:t>
            </a:r>
            <a:r>
              <a:rPr b="0" lang="en-US" sz="1900" spc="-1" strike="noStrike">
                <a:solidFill>
                  <a:srgbClr val="4f81bd"/>
                </a:solidFill>
                <a:latin typeface="Calibri"/>
              </a:rPr>
              <a:t>phase                          (log) phase            phase                       phas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" name="Group 1"/>
          <p:cNvGrpSpPr/>
          <p:nvPr/>
        </p:nvGrpSpPr>
        <p:grpSpPr>
          <a:xfrm>
            <a:off x="1745640" y="2351160"/>
            <a:ext cx="5572800" cy="714600"/>
            <a:chOff x="1745640" y="2351160"/>
            <a:chExt cx="5572800" cy="714600"/>
          </a:xfrm>
        </p:grpSpPr>
        <p:cxnSp>
          <p:nvCxnSpPr>
            <p:cNvPr id="50" name="Straight Arrow Connector 4"/>
            <p:cNvCxnSpPr/>
            <p:nvPr/>
          </p:nvCxnSpPr>
          <p:spPr>
            <a:xfrm flipH="1">
              <a:off x="1745640" y="2351160"/>
              <a:ext cx="2858040" cy="7149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51" name="Straight Arrow Connector 6"/>
            <p:cNvCxnSpPr/>
            <p:nvPr/>
          </p:nvCxnSpPr>
          <p:spPr>
            <a:xfrm flipH="1">
              <a:off x="4031640" y="2351160"/>
              <a:ext cx="572040" cy="7149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52" name="Straight Arrow Connector 8"/>
            <p:cNvCxnSpPr/>
            <p:nvPr/>
          </p:nvCxnSpPr>
          <p:spPr>
            <a:xfrm>
              <a:off x="4603320" y="2351160"/>
              <a:ext cx="929160" cy="7149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53" name="Straight Arrow Connector 10"/>
            <p:cNvCxnSpPr/>
            <p:nvPr/>
          </p:nvCxnSpPr>
          <p:spPr>
            <a:xfrm>
              <a:off x="4603320" y="2351160"/>
              <a:ext cx="2715480" cy="64332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sp>
        <p:nvSpPr>
          <p:cNvPr id="54" name="Rectangle 3"/>
          <p:cNvSpPr/>
          <p:nvPr/>
        </p:nvSpPr>
        <p:spPr>
          <a:xfrm>
            <a:off x="684360" y="4005360"/>
            <a:ext cx="792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نمو البكتيري يمكن  رسمه بيانيا بوضع عدد الخلايا البكتيرية مقابل الزمن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وهذا ما يسمى منحنى النمو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owth curv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تميز منحنى النمو بأربعة مراحل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12"/>
          <p:cNvGrpSpPr/>
          <p:nvPr/>
        </p:nvGrpSpPr>
        <p:grpSpPr>
          <a:xfrm>
            <a:off x="1460160" y="4928760"/>
            <a:ext cx="5929920" cy="714960"/>
            <a:chOff x="1460160" y="4928760"/>
            <a:chExt cx="5929920" cy="714960"/>
          </a:xfrm>
        </p:grpSpPr>
        <p:cxnSp>
          <p:nvCxnSpPr>
            <p:cNvPr id="56" name="Straight Arrow Connector 13"/>
            <p:cNvCxnSpPr>
              <a:stCxn id="54" idx="2"/>
            </p:cNvCxnSpPr>
            <p:nvPr/>
          </p:nvCxnSpPr>
          <p:spPr>
            <a:xfrm flipH="1">
              <a:off x="1460160" y="4928760"/>
              <a:ext cx="3185280" cy="71532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57" name="Straight Arrow Connector 14"/>
            <p:cNvCxnSpPr/>
            <p:nvPr/>
          </p:nvCxnSpPr>
          <p:spPr>
            <a:xfrm flipH="1">
              <a:off x="4102920" y="4928760"/>
              <a:ext cx="572040" cy="71532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58" name="Straight Arrow Connector 15"/>
            <p:cNvCxnSpPr/>
            <p:nvPr/>
          </p:nvCxnSpPr>
          <p:spPr>
            <a:xfrm>
              <a:off x="4674960" y="4928760"/>
              <a:ext cx="929160" cy="71532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59" name="Straight Arrow Connector 16"/>
            <p:cNvCxnSpPr/>
            <p:nvPr/>
          </p:nvCxnSpPr>
          <p:spPr>
            <a:xfrm>
              <a:off x="4675320" y="4928760"/>
              <a:ext cx="2715120" cy="64404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sp>
        <p:nvSpPr>
          <p:cNvPr id="60" name="Rectangle 5"/>
          <p:cNvSpPr/>
          <p:nvPr/>
        </p:nvSpPr>
        <p:spPr>
          <a:xfrm>
            <a:off x="-35280" y="5753160"/>
            <a:ext cx="3198240" cy="368280"/>
          </a:xfrm>
          <a:prstGeom prst="rect">
            <a:avLst/>
          </a:prstGeom>
          <a:noFill/>
          <a:ln w="93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Arial"/>
              </a:rPr>
              <a:t>المرحلة التمهيدية (طور الركود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"/>
          <p:cNvSpPr/>
          <p:nvPr/>
        </p:nvSpPr>
        <p:spPr>
          <a:xfrm>
            <a:off x="2703600" y="5749920"/>
            <a:ext cx="2495520" cy="368280"/>
          </a:xfrm>
          <a:prstGeom prst="rect">
            <a:avLst/>
          </a:prstGeom>
          <a:noFill/>
          <a:ln w="93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Arial"/>
              </a:rPr>
              <a:t>مرحلة النمو اللوغاريتمي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8"/>
          <p:cNvSpPr/>
          <p:nvPr/>
        </p:nvSpPr>
        <p:spPr>
          <a:xfrm>
            <a:off x="7308000" y="5756400"/>
            <a:ext cx="1432080" cy="368280"/>
          </a:xfrm>
          <a:prstGeom prst="rect">
            <a:avLst/>
          </a:prstGeom>
          <a:noFill/>
          <a:ln w="93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Arial"/>
              </a:rPr>
              <a:t>مرحلة المو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633920" y="5753160"/>
            <a:ext cx="2955960" cy="368280"/>
          </a:xfrm>
          <a:prstGeom prst="rect">
            <a:avLst/>
          </a:prstGeom>
          <a:noFill/>
          <a:ln w="93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Arial"/>
              </a:rPr>
              <a:t>مرحلة السكون (طور الثبات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000" y="498600"/>
            <a:ext cx="4359240" cy="2000160"/>
          </a:xfrm>
          <a:prstGeom prst="rect">
            <a:avLst/>
          </a:prstGeom>
          <a:noFill/>
          <a:ln w="9360">
            <a:solidFill>
              <a:srgbClr val="8eb4e3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Lag phase: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* I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first phase.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* No increase in cell number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* Cells are actively metabolizing, in preparation for cell division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* It may be short or very long, according to the growth medium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rcRect l="26042" t="29169" r="31772" b="31668"/>
          <a:stretch/>
        </p:blipFill>
        <p:spPr>
          <a:xfrm>
            <a:off x="1428840" y="2714760"/>
            <a:ext cx="5786280" cy="335736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1"/>
          <p:cNvSpPr/>
          <p:nvPr/>
        </p:nvSpPr>
        <p:spPr>
          <a:xfrm>
            <a:off x="5003640" y="476280"/>
            <a:ext cx="4111920" cy="2562840"/>
          </a:xfrm>
          <a:prstGeom prst="rect">
            <a:avLst/>
          </a:prstGeom>
          <a:noFill/>
          <a:ln w="93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0000"/>
                </a:solidFill>
                <a:latin typeface="Arial"/>
              </a:rPr>
              <a:t>المرحلة التمهيدية (طور الركود):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Lag phase</a:t>
            </a:r>
            <a:r>
              <a:rPr b="1" lang="ar-SA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هي المرحلة الأولى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لا توجد زيادة في عدد الخلايا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خلايا تكون نشطة أيضيا وتستعد لعمية الانقسا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قد تكونه هذه المرحة  قصيرة أو طويلة جداً، وفقا لوسط النمو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360" y="2971800"/>
            <a:ext cx="6232680" cy="264312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Exponential or log phas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* Is the second phase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* called the exponential or log phase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* This is the period in which the cells grow most rapidly, doubling at a fairly constant rate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* The time it takes the culture to double is called the generation time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* The generation time depends on several factors: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1.  the organism .      2.  the growth medium    3. temperature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rcRect l="26042" t="29169" r="31772" b="31668"/>
          <a:stretch/>
        </p:blipFill>
        <p:spPr>
          <a:xfrm>
            <a:off x="6281640" y="3357720"/>
            <a:ext cx="2862360" cy="241452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2"/>
          <p:cNvSpPr/>
          <p:nvPr/>
        </p:nvSpPr>
        <p:spPr>
          <a:xfrm>
            <a:off x="1908000" y="260280"/>
            <a:ext cx="6966000" cy="228852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0000"/>
                </a:solidFill>
                <a:latin typeface="Arial"/>
              </a:rPr>
              <a:t>مرحلة النمو اللوغاريتمي 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  <a:ea typeface="Times New Roman"/>
              </a:rPr>
              <a:t>Exponential or log phase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هي المرحلة الثانية في منحنى النمو البكتيري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تسمى مرحلة النمو الاسي أو اللوغاريتمي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في هذه المرحلة يكون نمو الخلايا سريعا والتضاعف في عدد الخلايا يكون بمعدل ثابت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إن الزمن الذي تؤخذه للتضاعف يسمى زمن التوالد (زمن الجيل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زمن التوالد يعتمد على عدة عوامل وهي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-الكائن الحي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- وسط النمو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- درجة الحرار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"/>
          <p:cNvPicPr/>
          <p:nvPr/>
        </p:nvPicPr>
        <p:blipFill>
          <a:blip r:embed="rId1"/>
          <a:srcRect l="26042" t="29169" r="31772" b="31668"/>
          <a:stretch/>
        </p:blipFill>
        <p:spPr>
          <a:xfrm>
            <a:off x="250920" y="4221000"/>
            <a:ext cx="4475160" cy="252108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8760" y="1988640"/>
            <a:ext cx="8229600" cy="235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* 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Is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phase .      * metabolism slows.  * cells cease rapid cell division.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Why?</a:t>
            </a:r>
            <a:br>
              <a:rPr sz="2000"/>
            </a:br>
            <a:r>
              <a:rPr b="0" lang="en-US" sz="2000" spc="-1" strike="noStrike">
                <a:solidFill>
                  <a:srgbClr val="00b050"/>
                </a:solidFill>
                <a:latin typeface="Calibri"/>
              </a:rPr>
              <a:t>Due to 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* high cell density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* depletion of nutrients 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* accumulation of waste products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itle 1"/>
          <p:cNvSpPr/>
          <p:nvPr/>
        </p:nvSpPr>
        <p:spPr>
          <a:xfrm>
            <a:off x="611280" y="1989000"/>
            <a:ext cx="82296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Times New Roman"/>
              </a:rPr>
              <a:t>Stationary phas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"/>
          <p:cNvSpPr/>
          <p:nvPr/>
        </p:nvSpPr>
        <p:spPr>
          <a:xfrm>
            <a:off x="1500120" y="446040"/>
            <a:ext cx="73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0000"/>
                </a:solidFill>
                <a:latin typeface="Arial"/>
              </a:rPr>
              <a:t>مرحلة الثبات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  <a:ea typeface="Times New Roman"/>
              </a:rPr>
              <a:t>Stationary phase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  <a:ea typeface="Times New Roman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هي المرحلة الثالثة من منحى النم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كون فيها العمليات الايضية بطيئ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تتوقف الخلايا عن الانقسام السريع بسب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- كثافة الخلايا مرتفعة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- تستنفذ المغذيات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- تراكم النفاي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"/>
          <p:cNvPicPr/>
          <p:nvPr/>
        </p:nvPicPr>
        <p:blipFill>
          <a:blip r:embed="rId1"/>
          <a:srcRect l="26042" t="29169" r="31772" b="31668"/>
          <a:stretch/>
        </p:blipFill>
        <p:spPr>
          <a:xfrm>
            <a:off x="1428840" y="2714760"/>
            <a:ext cx="5786280" cy="335736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0040" y="713880"/>
            <a:ext cx="493560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Death phase: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* 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Is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2000" spc="-1" strike="noStrike">
                <a:solidFill>
                  <a:srgbClr val="00b0f0"/>
                </a:solidFill>
                <a:latin typeface="Calibri"/>
              </a:rPr>
              <a:t>final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phase .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* cells </a:t>
            </a:r>
            <a:r>
              <a:rPr b="0" lang="en-US" sz="2000" spc="-1" strike="noStrike">
                <a:solidFill>
                  <a:srgbClr val="00b0f0"/>
                </a:solidFill>
                <a:latin typeface="Calibri"/>
              </a:rPr>
              <a:t>quickly lose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ability to divide.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* </a:t>
            </a:r>
            <a:r>
              <a:rPr b="0" lang="en-US" sz="2000" spc="-1" strike="noStrike">
                <a:solidFill>
                  <a:srgbClr val="00b0f0"/>
                </a:solidFill>
                <a:latin typeface="Calibri"/>
              </a:rPr>
              <a:t>exponential deat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"/>
          <p:cNvSpPr/>
          <p:nvPr/>
        </p:nvSpPr>
        <p:spPr>
          <a:xfrm>
            <a:off x="4327560" y="76500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0000"/>
                </a:solidFill>
                <a:latin typeface="Arial"/>
              </a:rPr>
              <a:t>مرحلة الموت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Death phase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هي المرحلة الاخيرة من منحنى النمو البكتي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تفقد الخلايا القدرة على الانقسا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موت الاسي (السري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4f81bd"/>
                </a:solidFill>
                <a:latin typeface="Calibri"/>
              </a:rPr>
              <a:t>العوامل المؤثرة على النمو البكتيري</a:t>
            </a:r>
            <a:br>
              <a:rPr sz="3200"/>
            </a:br>
            <a:r>
              <a:rPr b="1" lang="en-US" sz="3200" spc="-1" strike="noStrike">
                <a:solidFill>
                  <a:srgbClr val="4f81bd"/>
                </a:solidFill>
                <a:latin typeface="Calibri"/>
              </a:rPr>
              <a:t>Factors affecting bacterial grow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هناك عدة عوامل تؤثر على زمن التوالد في الخلية البكتيرية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ny factors affect the generation time of the bacterium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erature   pH   oxygen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alt concentrati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nutrient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9" name="Straight Arrow Connector 4"/>
          <p:cNvCxnSpPr/>
          <p:nvPr/>
        </p:nvCxnSpPr>
        <p:spPr>
          <a:xfrm flipH="1">
            <a:off x="2071080" y="2642760"/>
            <a:ext cx="572040" cy="715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0" name="Straight Arrow Connector 6"/>
          <p:cNvCxnSpPr/>
          <p:nvPr/>
        </p:nvCxnSpPr>
        <p:spPr>
          <a:xfrm>
            <a:off x="2642040" y="2643120"/>
            <a:ext cx="429480" cy="643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1" name="Straight Arrow Connector 8"/>
          <p:cNvCxnSpPr/>
          <p:nvPr/>
        </p:nvCxnSpPr>
        <p:spPr>
          <a:xfrm>
            <a:off x="2642760" y="2642760"/>
            <a:ext cx="1500840" cy="715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2" name="Straight Arrow Connector 10"/>
          <p:cNvCxnSpPr/>
          <p:nvPr/>
        </p:nvCxnSpPr>
        <p:spPr>
          <a:xfrm>
            <a:off x="2642760" y="2643120"/>
            <a:ext cx="3644280" cy="572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3" name="Rectangle 11"/>
          <p:cNvSpPr/>
          <p:nvPr/>
        </p:nvSpPr>
        <p:spPr>
          <a:xfrm>
            <a:off x="438120" y="5805360"/>
            <a:ext cx="792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ile most bacteria grow best when these parameters a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tim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"/>
          <p:cNvSpPr/>
          <p:nvPr/>
        </p:nvSpPr>
        <p:spPr>
          <a:xfrm>
            <a:off x="438120" y="4280040"/>
            <a:ext cx="1633680" cy="63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درجة الحرار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9"/>
          <p:cNvSpPr/>
          <p:nvPr/>
        </p:nvSpPr>
        <p:spPr>
          <a:xfrm>
            <a:off x="2255760" y="4259160"/>
            <a:ext cx="1631880" cy="63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الاس الهيدروجين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1"/>
          <p:cNvSpPr/>
          <p:nvPr/>
        </p:nvSpPr>
        <p:spPr>
          <a:xfrm>
            <a:off x="3995640" y="4309920"/>
            <a:ext cx="1285920" cy="63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الاكسجي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2"/>
          <p:cNvSpPr/>
          <p:nvPr/>
        </p:nvSpPr>
        <p:spPr>
          <a:xfrm>
            <a:off x="7093080" y="4211640"/>
            <a:ext cx="1631880" cy="63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تركيز الاملاح والمغذي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9" descr=""/>
          <p:cNvPicPr/>
          <p:nvPr/>
        </p:nvPicPr>
        <p:blipFill>
          <a:blip r:embed="rId1"/>
          <a:stretch/>
        </p:blipFill>
        <p:spPr>
          <a:xfrm>
            <a:off x="684360" y="5145120"/>
            <a:ext cx="7056360" cy="6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4f81bd"/>
                </a:solidFill>
                <a:latin typeface="Calibri"/>
              </a:rPr>
              <a:t>درجة الحرارة</a:t>
            </a:r>
            <a:br>
              <a:rPr sz="3600"/>
            </a:br>
            <a:r>
              <a:rPr b="0" lang="en-US" sz="3600" spc="-1" strike="noStrike">
                <a:solidFill>
                  <a:srgbClr val="4f81bd"/>
                </a:solidFill>
                <a:latin typeface="Calibri"/>
              </a:rPr>
              <a:t>Temperatur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285840" y="1268280"/>
            <a:ext cx="8400960" cy="35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ccording the temperature degree that bacteria survive, they can classified to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وفقا لدرجات الحرارة وبقاء البكتيريا حية يمكن أن تقسم إلى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1" name="Straight Arrow Connector 4"/>
          <p:cNvCxnSpPr/>
          <p:nvPr/>
        </p:nvCxnSpPr>
        <p:spPr>
          <a:xfrm flipH="1">
            <a:off x="856440" y="2856600"/>
            <a:ext cx="3072600" cy="5720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2" name="Straight Arrow Connector 6"/>
          <p:cNvCxnSpPr/>
          <p:nvPr/>
        </p:nvCxnSpPr>
        <p:spPr>
          <a:xfrm flipH="1">
            <a:off x="2928600" y="2857680"/>
            <a:ext cx="1000800" cy="714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3" name="Straight Arrow Connector 8"/>
          <p:cNvCxnSpPr/>
          <p:nvPr/>
        </p:nvCxnSpPr>
        <p:spPr>
          <a:xfrm>
            <a:off x="3929040" y="2857320"/>
            <a:ext cx="1357920" cy="643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4" name="Straight Arrow Connector 10"/>
          <p:cNvCxnSpPr/>
          <p:nvPr/>
        </p:nvCxnSpPr>
        <p:spPr>
          <a:xfrm>
            <a:off x="3929040" y="2857320"/>
            <a:ext cx="3643920" cy="5720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5" name="Rectangle 11"/>
          <p:cNvSpPr/>
          <p:nvPr/>
        </p:nvSpPr>
        <p:spPr>
          <a:xfrm>
            <a:off x="320760" y="357192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psychroph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2"/>
          <p:cNvSpPr/>
          <p:nvPr/>
        </p:nvSpPr>
        <p:spPr>
          <a:xfrm>
            <a:off x="2293200" y="3559320"/>
            <a:ext cx="12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mesoph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3"/>
          <p:cNvSpPr/>
          <p:nvPr/>
        </p:nvSpPr>
        <p:spPr>
          <a:xfrm>
            <a:off x="4294080" y="3571920"/>
            <a:ext cx="14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thermoph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4"/>
          <p:cNvSpPr/>
          <p:nvPr/>
        </p:nvSpPr>
        <p:spPr>
          <a:xfrm>
            <a:off x="6683400" y="3559320"/>
            <a:ext cx="159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extremophile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5"/>
          <p:cNvSpPr/>
          <p:nvPr/>
        </p:nvSpPr>
        <p:spPr>
          <a:xfrm>
            <a:off x="285840" y="4071960"/>
            <a:ext cx="1500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e bacteria that grow best from about 0 - 20 º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6"/>
          <p:cNvSpPr/>
          <p:nvPr/>
        </p:nvSpPr>
        <p:spPr>
          <a:xfrm>
            <a:off x="1928880" y="4214880"/>
            <a:ext cx="2000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row best at ambient temperatures 20 -40 º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7"/>
          <p:cNvSpPr/>
          <p:nvPr/>
        </p:nvSpPr>
        <p:spPr>
          <a:xfrm>
            <a:off x="4071960" y="4214880"/>
            <a:ext cx="1857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acteria that have an optimum temperature above 40 º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8"/>
          <p:cNvSpPr/>
          <p:nvPr/>
        </p:nvSpPr>
        <p:spPr>
          <a:xfrm>
            <a:off x="6365520" y="4286160"/>
            <a:ext cx="203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at grow well at 100- 120 º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8T09:18:21Z</dcterms:created>
  <dc:creator>DTK</dc:creator>
  <dc:description/>
  <dc:language>en-US</dc:language>
  <cp:lastModifiedBy>ihab moussa</cp:lastModifiedBy>
  <dcterms:modified xsi:type="dcterms:W3CDTF">2016-12-09T19:46:57Z</dcterms:modified>
  <cp:revision>30</cp:revision>
  <dc:subject/>
  <dc:title>Bacterial growth</dc:title>
</cp:coreProperties>
</file>