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584-D706-46CB-9A49-86BE9DAF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D42-88DB-4362-B7F3-3E928D71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9B2-0882-43CC-AB63-183780E8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5FF-ED4B-4532-BD6B-B8A4FFAB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77A-7372-48AD-BE9C-084CB675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37E-F765-4BD9-A43C-450F9485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03B-566D-4BD3-A81D-7DFB25AB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85F-6A70-49B6-ABDC-F32019AE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C13-0997-4C41-B9CE-BD2131D3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D5D-571E-4CE8-B914-F89C0C8C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912-4CA6-477F-BA53-6F7E56BE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C91-140B-4CDE-8601-6BB05A24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15D0-A350-4B8B-9AF9-BD79FE2BAA1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logie.uni-hamburg.de/b-online/library/webb/BOT311/Cyanobacteria/MicrocystisLab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8840" y="259920"/>
            <a:ext cx="54007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1360" indent="-171360" algn="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. Cyanobacteria</a:t>
            </a:r>
            <a:br>
              <a:rPr sz="2400"/>
            </a:br>
            <a:br>
              <a:rPr sz="1100"/>
            </a:b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السيانوبكتيريا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عادة تعرف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بالطحالب الخضراء المزرقة</a:t>
            </a:r>
            <a:br>
              <a:rPr sz="1100"/>
            </a:b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ذاتية التغذية 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(تقوم بعملية البناء الضوئي)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حتوي على الصبغات التالية: كلوروفيل ب، فايكوسيانين (أزرق)، فايكواريثرين (أحمر)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عيش في البيئات المائية التي تشمل المحيطات والبرك والبحيرات وعلى مسطحات المد والجزر والتربة الرطبة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وجد غالبا على شكل مستعمرات وخيوط وأحيانا على شكل وحيد الخلية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بعض خيطيات الشكل تستطيع الحركة والمثال عليها النوع </a:t>
            </a:r>
            <a:r>
              <a:rPr b="0" i="1" lang="en-US" sz="1100" spc="-1" strike="noStrike">
                <a:solidFill>
                  <a:srgbClr val="c0504d"/>
                </a:solidFill>
                <a:latin typeface="Calibri"/>
              </a:rPr>
              <a:t>Oscillatoria</a:t>
            </a:r>
            <a:r>
              <a:rPr b="0" lang="en-US" sz="1100" spc="-1" strike="noStrike">
                <a:solidFill>
                  <a:srgbClr val="c0504d"/>
                </a:solidFill>
                <a:latin typeface="Calibri"/>
              </a:rPr>
              <a:t> Sp</a:t>
            </a:r>
            <a:r>
              <a:rPr b="0" lang="en-US" sz="1100" spc="-1" strike="noStrike">
                <a:solidFill>
                  <a:srgbClr val="c0504d"/>
                </a:solidFill>
                <a:latin typeface="Calibri"/>
              </a:rPr>
              <a:t>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نتج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كبسولة  جيلاتينية 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تي غالبا ما تكون أخف من الماء وبالتالي تساعد الطحلب في البقاء قريبا من السطح وطافيا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تكاثر يكون بواسطة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الانشطار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خلايا بدائية النواة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فتقد لصبغة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الكلورفيل أ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منتجات عمليات البناء الضوئي تختزنها على شكل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نشاء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 الذي يشبه تركيب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الجليكوجين الحيواني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3429000"/>
            <a:ext cx="564336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monly known as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blue-green alga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Autotrophic (Photosynthet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ain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chlorophyll 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phycocyan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(blue) and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phycoerythr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(r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y live in aquatic environments including oceans, ponds, lakes, tidal flats, and moist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y exist mostly as colonies and filaments and sometimes as singl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me filamentous forms can move. For example, filamentous forms such as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Oscillatoria sp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tate in a screw like ma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uce gelatinous capsules which are often lighter than water and therefore help keep the algae up near the surface of the water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production in  by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fissio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on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karyotic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ck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chlorophyll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 b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photosynthetic product is stored in their own form of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starc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which is similar to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animal glycoge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DTK\Pictures\Oscillatoria4.jpg"/>
          <p:cNvPicPr/>
          <p:nvPr/>
        </p:nvPicPr>
        <p:blipFill>
          <a:blip r:embed="rId1"/>
          <a:srcRect l="28126" t="0" r="29693" b="0"/>
          <a:stretch/>
        </p:blipFill>
        <p:spPr>
          <a:xfrm>
            <a:off x="6572160" y="1357200"/>
            <a:ext cx="2214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48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شكال السيانوبكتيري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s of Cyano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00080" y="2714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eocaps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85840" y="1630440"/>
            <a:ext cx="47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حيدة الخلية أو في تجمعات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cellular or aggreg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-cyanosite.bio.purdue.edu/images/lgimages/gloesp.jpg"/>
          <p:cNvPicPr/>
          <p:nvPr/>
        </p:nvPicPr>
        <p:blipFill>
          <a:blip r:embed="rId1"/>
          <a:stretch/>
        </p:blipFill>
        <p:spPr>
          <a:xfrm>
            <a:off x="4714920" y="1857240"/>
            <a:ext cx="40863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000080" y="2714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rocystis 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00040" y="135720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ى هيئة مستعم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MicrocystisLab.jpg (147108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1857240"/>
            <a:ext cx="40626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rcRect l="0" t="0" r="0" b="10207"/>
          <a:stretch/>
        </p:blipFill>
        <p:spPr>
          <a:xfrm>
            <a:off x="4322880" y="2143080"/>
            <a:ext cx="4821120" cy="3143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976320" y="325296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abaen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642960" y="1389240"/>
            <a:ext cx="4357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شكال خيط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amentous 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غير متفر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bra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1"/>
          <p:cNvSpPr/>
          <p:nvPr/>
        </p:nvSpPr>
        <p:spPr>
          <a:xfrm>
            <a:off x="1000080" y="306864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igon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0" t="21949" r="51223" b="37944"/>
          <a:stretch/>
        </p:blipFill>
        <p:spPr>
          <a:xfrm>
            <a:off x="5035680" y="1500120"/>
            <a:ext cx="2894040" cy="378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677880" y="1125360"/>
            <a:ext cx="4357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شكال خيط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amentous 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تفر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90240" y="476280"/>
            <a:ext cx="43815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ركيب الخلية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ll structur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322280"/>
            <a:ext cx="36720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ell structure is very primiti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cell is composed of two par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 wal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oplas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ell wall is composed of 2 lay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 inner lay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which is thin and firm 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composed of cellulo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 outer lay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the wall is thicker and gelatinous known as the sheath and mainly constituted of 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pectic compou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4798080" y="4462560"/>
            <a:ext cx="3303000" cy="1855800"/>
            <a:chOff x="4798080" y="4462560"/>
            <a:chExt cx="3303000" cy="1855800"/>
          </a:xfrm>
        </p:grpSpPr>
        <p:sp>
          <p:nvSpPr>
            <p:cNvPr id="60" name="Rectangle 10"/>
            <p:cNvSpPr/>
            <p:nvPr/>
          </p:nvSpPr>
          <p:spPr>
            <a:xfrm>
              <a:off x="4798080" y="539100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8ed5"/>
                  </a:solidFill>
                  <a:latin typeface="Arial"/>
                </a:rPr>
                <a:t>Chromopl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4856040" y="595008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8ed5"/>
                  </a:solidFill>
                  <a:latin typeface="Arial"/>
                </a:rPr>
                <a:t>Central 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5011560" y="4462560"/>
              <a:ext cx="3089520" cy="1829520"/>
              <a:chOff x="5011560" y="4462560"/>
              <a:chExt cx="3089520" cy="1829520"/>
            </a:xfrm>
          </p:grpSpPr>
          <p:grpSp>
            <p:nvGrpSpPr>
              <p:cNvPr id="63" name="Group 2"/>
              <p:cNvGrpSpPr/>
              <p:nvPr/>
            </p:nvGrpSpPr>
            <p:grpSpPr>
              <a:xfrm>
                <a:off x="6514200" y="4462560"/>
                <a:ext cx="1586880" cy="1829520"/>
                <a:chOff x="6514200" y="4462560"/>
                <a:chExt cx="1586880" cy="1829520"/>
              </a:xfrm>
            </p:grpSpPr>
            <p:sp>
              <p:nvSpPr>
                <p:cNvPr id="64" name="Oval 3"/>
                <p:cNvSpPr/>
                <p:nvPr/>
              </p:nvSpPr>
              <p:spPr>
                <a:xfrm>
                  <a:off x="6514200" y="4462560"/>
                  <a:ext cx="1586880" cy="182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Oval 4"/>
                <p:cNvSpPr/>
                <p:nvPr/>
              </p:nvSpPr>
              <p:spPr>
                <a:xfrm>
                  <a:off x="6698880" y="4691160"/>
                  <a:ext cx="1214280" cy="1371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Line 5"/>
              <p:cNvSpPr/>
              <p:nvPr/>
            </p:nvSpPr>
            <p:spPr>
              <a:xfrm>
                <a:off x="5989320" y="5146920"/>
                <a:ext cx="60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6"/>
              <p:cNvSpPr/>
              <p:nvPr/>
            </p:nvSpPr>
            <p:spPr>
              <a:xfrm flipV="1">
                <a:off x="6216480" y="5376960"/>
                <a:ext cx="58896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5011560" y="4962600"/>
                <a:ext cx="102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58ed5"/>
                    </a:solidFill>
                    <a:latin typeface="Arial"/>
                  </a:rPr>
                  <a:t>Cell w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8"/>
              <p:cNvSpPr/>
              <p:nvPr/>
            </p:nvSpPr>
            <p:spPr>
              <a:xfrm>
                <a:off x="6981840" y="5105520"/>
                <a:ext cx="652320" cy="68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7"/>
              <p:cNvSpPr/>
              <p:nvPr/>
            </p:nvSpPr>
            <p:spPr>
              <a:xfrm flipV="1">
                <a:off x="6055920" y="5462280"/>
                <a:ext cx="128304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Content Placeholder 2"/>
          <p:cNvSpPr/>
          <p:nvPr/>
        </p:nvSpPr>
        <p:spPr>
          <a:xfrm>
            <a:off x="5208480" y="1200240"/>
            <a:ext cx="36086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يب الخلية بدائية جداً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كل خلية تتكون من جزأين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أ) الجدار الخلو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ب) البروتوبل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دار الخلية يتكون من طبقتين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طبقة الداخلي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ون رقيقة ومكونة من </a:t>
            </a:r>
            <a:r>
              <a:rPr b="0" lang="ar-SA" sz="1800" spc="-1" strike="noStrike">
                <a:solidFill>
                  <a:srgbClr val="c0504d"/>
                </a:solidFill>
                <a:latin typeface="Calibri"/>
                <a:cs typeface="Times New Roman"/>
              </a:rPr>
              <a:t>السليلوز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طبقة الخارجي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ون أكثر سمكا وهلامية وتعرف بالغلاف وتتشكل أساسا من مركبات </a:t>
            </a:r>
            <a:r>
              <a:rPr b="0" lang="ar-SA" sz="1800" spc="-1" strike="noStrike">
                <a:solidFill>
                  <a:srgbClr val="c0504d"/>
                </a:solidFill>
                <a:latin typeface="Calibri"/>
                <a:cs typeface="Times New Roman"/>
              </a:rPr>
              <a:t>البيكتيك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94920" y="735120"/>
            <a:ext cx="41432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e protoplast consists of 2 par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ipheral pigmented (coloured) region surrounding a colourless central regio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the blue pigment phycocyanin together with chlorophyll and known as chromoplas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lourless inner region (central body) contains several chromatin granules (DNA) which represent a primitive type of nucleus that lacks nuclear membrane and nucle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4554360" y="4665600"/>
            <a:ext cx="3781440" cy="1856160"/>
            <a:chOff x="4554360" y="4665600"/>
            <a:chExt cx="3781440" cy="1856160"/>
          </a:xfrm>
        </p:grpSpPr>
        <p:sp>
          <p:nvSpPr>
            <p:cNvPr id="74" name="Rectangle 10"/>
            <p:cNvSpPr/>
            <p:nvPr/>
          </p:nvSpPr>
          <p:spPr>
            <a:xfrm>
              <a:off x="4554360" y="559440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8ed5"/>
                  </a:solidFill>
                  <a:latin typeface="Arial"/>
                </a:rPr>
                <a:t>Chromopl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3"/>
            <p:cNvGrpSpPr/>
            <p:nvPr/>
          </p:nvGrpSpPr>
          <p:grpSpPr>
            <a:xfrm>
              <a:off x="4696920" y="4665600"/>
              <a:ext cx="3638880" cy="1856160"/>
              <a:chOff x="4696920" y="4665600"/>
              <a:chExt cx="3638880" cy="1856160"/>
            </a:xfrm>
          </p:grpSpPr>
          <p:grpSp>
            <p:nvGrpSpPr>
              <p:cNvPr id="76" name="Group 2"/>
              <p:cNvGrpSpPr/>
              <p:nvPr/>
            </p:nvGrpSpPr>
            <p:grpSpPr>
              <a:xfrm>
                <a:off x="6393240" y="4665600"/>
                <a:ext cx="1942560" cy="1829160"/>
                <a:chOff x="6393240" y="4665600"/>
                <a:chExt cx="1942560" cy="1829160"/>
              </a:xfrm>
            </p:grpSpPr>
            <p:sp>
              <p:nvSpPr>
                <p:cNvPr id="77" name="Oval 3"/>
                <p:cNvSpPr/>
                <p:nvPr/>
              </p:nvSpPr>
              <p:spPr>
                <a:xfrm>
                  <a:off x="6393240" y="4665600"/>
                  <a:ext cx="1942560" cy="1829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Oval 4"/>
                <p:cNvSpPr/>
                <p:nvPr/>
              </p:nvSpPr>
              <p:spPr>
                <a:xfrm>
                  <a:off x="6621840" y="4893840"/>
                  <a:ext cx="1484640" cy="1371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Line 5"/>
              <p:cNvSpPr/>
              <p:nvPr/>
            </p:nvSpPr>
            <p:spPr>
              <a:xfrm>
                <a:off x="5751000" y="5349960"/>
                <a:ext cx="74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6"/>
              <p:cNvSpPr/>
              <p:nvPr/>
            </p:nvSpPr>
            <p:spPr>
              <a:xfrm flipV="1">
                <a:off x="6028920" y="5580000"/>
                <a:ext cx="72072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9"/>
              <p:cNvSpPr/>
              <p:nvPr/>
            </p:nvSpPr>
            <p:spPr>
              <a:xfrm>
                <a:off x="4714560" y="5165640"/>
                <a:ext cx="102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58ed5"/>
                    </a:solidFill>
                    <a:latin typeface="Arial"/>
                  </a:rPr>
                  <a:t>Cell w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4696920" y="6153480"/>
                <a:ext cx="147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58ed5"/>
                    </a:solidFill>
                    <a:latin typeface="Arial"/>
                  </a:rPr>
                  <a:t>Central bod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8"/>
              <p:cNvSpPr/>
              <p:nvPr/>
            </p:nvSpPr>
            <p:spPr>
              <a:xfrm>
                <a:off x="6964200" y="5308560"/>
                <a:ext cx="799920" cy="68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7"/>
              <p:cNvSpPr/>
              <p:nvPr/>
            </p:nvSpPr>
            <p:spPr>
              <a:xfrm flipV="1">
                <a:off x="5832000" y="5665320"/>
                <a:ext cx="156996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Rectangle 1"/>
          <p:cNvSpPr/>
          <p:nvPr/>
        </p:nvSpPr>
        <p:spPr>
          <a:xfrm>
            <a:off x="5622840" y="735120"/>
            <a:ext cx="3165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بروتوبلاست يحتوي على جزأين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صبغة المحيطية (الملونة) حول المنطقة المركزية عديمة اللون. التي تحتوي عل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cocyan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صبغة الزرقاءجنبا إلى جنب مع الكلوروفيل ب، والمعروفة باسم الكروموبلاز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نطقة الداخلية عديم اللون (الجسم المركزي) يحتوي على بعض من حبيبات الكروماتي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ذي يمثل نوع بدائي من النواة التي تفتقر إلى الغشاء النووي والان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yanobacterial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1116-18B"/>
          <p:cNvPicPr/>
          <p:nvPr/>
        </p:nvPicPr>
        <p:blipFill>
          <a:blip r:embed="rId1"/>
          <a:stretch/>
        </p:blipFill>
        <p:spPr>
          <a:xfrm>
            <a:off x="1071720" y="1643040"/>
            <a:ext cx="750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8:21Z</dcterms:created>
  <dc:creator>DTK</dc:creator>
  <dc:description/>
  <dc:language>en-US</dc:language>
  <cp:lastModifiedBy>ihab moussa</cp:lastModifiedBy>
  <cp:lastPrinted>2013-10-06T07:02:04Z</cp:lastPrinted>
  <dcterms:modified xsi:type="dcterms:W3CDTF">2016-12-09T19:47:24Z</dcterms:modified>
  <cp:revision>40</cp:revision>
  <dc:subject/>
  <dc:title>Bacterial growth</dc:title>
</cp:coreProperties>
</file>