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595E-DA95-4136-BEA7-EB4F23B70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1CE8-E2D7-4E49-A7FA-BA853B421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1A4F-023D-4D4B-B496-6C17533B2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206E-2FD9-4DC6-BFFC-C1EEE93F7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A67B-09AD-4EF6-830D-7A5BAE6C9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E2FE-B3CA-41CC-A176-6568FA19B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C873-BD41-4CDE-8B67-4372E4FC2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B2EA-0C16-4504-9139-35B851F58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FBC9-63EF-4D72-8E85-A3DB4F147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F113-F6D6-47E4-83AC-7B8442F8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65F3-E618-4FEB-AA1A-FCDE73BAE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0879-99AC-4395-B44D-C7EFB676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A39B7-62A2-47B2-9F18-795EED20DD3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otany.hawaii.edu/faculty/webb/BOT311/Cyanobacteria/AkineteHeterocystLMHigh300Lab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734544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Nosto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85840" y="3606480"/>
            <a:ext cx="6215040" cy="27874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Autofit/>
          </a:bodyPr>
          <a:p>
            <a:pPr algn="just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Grows in water and on damp soils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Unbranched filaments with barrel-like cells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Certain enlarged cells appear at intervals, which are known as heterocysts . Its transparent and thick walls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The whole filament is surrounded with gelatinous material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Each two heterocysts delimit in between , a number of cells called hormogonia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In most cases clusters of filaments are grouped together in the form of gelatinous masses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ttp://silicasecchidisk.conncoll.edu/Pics/Other%20Algae/Blue_Green%20jpegs/Nostoc_Key16.jpg"/>
          <p:cNvPicPr/>
          <p:nvPr/>
        </p:nvPicPr>
        <p:blipFill>
          <a:blip r:embed="rId1"/>
          <a:stretch/>
        </p:blipFill>
        <p:spPr>
          <a:xfrm rot="5400000">
            <a:off x="5106240" y="2022120"/>
            <a:ext cx="5295960" cy="2428920"/>
          </a:xfrm>
          <a:prstGeom prst="rect">
            <a:avLst/>
          </a:prstGeom>
          <a:ln w="0">
            <a:noFill/>
          </a:ln>
        </p:spPr>
      </p:pic>
      <p:sp>
        <p:nvSpPr>
          <p:cNvPr id="44" name="Title 1"/>
          <p:cNvSpPr/>
          <p:nvPr/>
        </p:nvSpPr>
        <p:spPr>
          <a:xfrm>
            <a:off x="6939000" y="5884920"/>
            <a:ext cx="16336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Nost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324000" y="588960"/>
            <a:ext cx="6176880" cy="33793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ينمو في المياه وعلى التربة الرطبة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خيوط غير متفرع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تظهر بعض الخلايا المتضخمة على فترات، التي تعرف باسم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terocyst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التي تكون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شفافة و سميكة الجدران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خيوط كلها تكون محاطة بمادة هلامية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يوجد بين كل أثنين من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terocyst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عدد من الخلايا يسمى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rmogonia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في معظم الحالات تتجمع الخيوط  في مجاميع  مكونة كتل هلامية  (جيلاتينية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alibri"/>
              </a:rPr>
              <a:t>التكاثر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Reprodu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14360" y="1622520"/>
            <a:ext cx="4043520" cy="61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1000"/>
          </a:bodyPr>
          <a:p>
            <a:pPr marL="210600" indent="-210600" algn="ctr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0600" indent="-210600" algn="ctr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كاثر الخضر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0600" indent="-2106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Vegetative reproduc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0600" indent="-2106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0600" indent="-2106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Content Placeholder 2"/>
          <p:cNvSpPr/>
          <p:nvPr/>
        </p:nvSpPr>
        <p:spPr>
          <a:xfrm>
            <a:off x="785880" y="4857840"/>
            <a:ext cx="760572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0000"/>
                </a:solidFill>
                <a:latin typeface="Calibri"/>
                <a:cs typeface="Times New Roman"/>
              </a:rPr>
              <a:t>التكاثر الجنسي غير معروف في هذا النو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Sexual reproduction is not known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Content Placeholder 2"/>
          <p:cNvSpPr/>
          <p:nvPr/>
        </p:nvSpPr>
        <p:spPr>
          <a:xfrm>
            <a:off x="4457880" y="2071800"/>
            <a:ext cx="40431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.     </a:t>
            </a: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كاثر اللاجنسي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Asexual reproduction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Content Placeholder 2"/>
          <p:cNvSpPr/>
          <p:nvPr/>
        </p:nvSpPr>
        <p:spPr>
          <a:xfrm>
            <a:off x="6572160" y="3860640"/>
            <a:ext cx="2286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) By Akinetes.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975120" y="3860640"/>
            <a:ext cx="18572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y fission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Straight Arrow Connector 9"/>
          <p:cNvCxnSpPr>
            <a:stCxn id="49" idx="2"/>
          </p:cNvCxnSpPr>
          <p:nvPr/>
        </p:nvCxnSpPr>
        <p:spPr>
          <a:xfrm>
            <a:off x="6480000" y="2643120"/>
            <a:ext cx="950400" cy="572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3" name="Straight Arrow Connector 11"/>
          <p:cNvCxnSpPr>
            <a:stCxn id="49" idx="2"/>
          </p:cNvCxnSpPr>
          <p:nvPr/>
        </p:nvCxnSpPr>
        <p:spPr>
          <a:xfrm flipH="1">
            <a:off x="5143320" y="2643120"/>
            <a:ext cx="1337040" cy="572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Straight Arrow Connector 13"/>
          <p:cNvCxnSpPr>
            <a:stCxn id="46" idx="2"/>
          </p:cNvCxnSpPr>
          <p:nvPr/>
        </p:nvCxnSpPr>
        <p:spPr>
          <a:xfrm flipH="1">
            <a:off x="2785320" y="1417680"/>
            <a:ext cx="1786680" cy="51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5" name="Straight Arrow Connector 15"/>
          <p:cNvCxnSpPr>
            <a:stCxn id="46" idx="2"/>
          </p:cNvCxnSpPr>
          <p:nvPr/>
        </p:nvCxnSpPr>
        <p:spPr>
          <a:xfrm>
            <a:off x="4570920" y="1417680"/>
            <a:ext cx="1786680" cy="583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6" name="Rectangle 1"/>
          <p:cNvSpPr/>
          <p:nvPr/>
        </p:nvSpPr>
        <p:spPr>
          <a:xfrm>
            <a:off x="7176960" y="3333600"/>
            <a:ext cx="107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أكينيت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4525920" y="3343320"/>
            <a:ext cx="107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انشطا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3500280"/>
            <a:ext cx="8229600" cy="30974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                          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By fragmentation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lament                                    breaks into fragment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ach                  gives rise to                 a new filament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sually fragmentation occurs at the heterocyst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s fragment is capable of creeping movements in the gelatinous sheath until it escapes and grows into a new filament.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ight Arrow 3"/>
          <p:cNvSpPr/>
          <p:nvPr/>
        </p:nvSpPr>
        <p:spPr>
          <a:xfrm>
            <a:off x="1811160" y="4178160"/>
            <a:ext cx="1071720" cy="214560"/>
          </a:xfrm>
          <a:prstGeom prst="rightArrow">
            <a:avLst>
              <a:gd name="adj1" fmla="val 50000"/>
              <a:gd name="adj2" fmla="val 4995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ight Arrow 4"/>
          <p:cNvSpPr/>
          <p:nvPr/>
        </p:nvSpPr>
        <p:spPr>
          <a:xfrm>
            <a:off x="1311120" y="4799160"/>
            <a:ext cx="505080" cy="142560"/>
          </a:xfrm>
          <a:prstGeom prst="rightArrow">
            <a:avLst>
              <a:gd name="adj1" fmla="val 50000"/>
              <a:gd name="adj2" fmla="val 5014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ontent Placeholder 2"/>
          <p:cNvSpPr/>
          <p:nvPr/>
        </p:nvSpPr>
        <p:spPr>
          <a:xfrm>
            <a:off x="609480" y="334800"/>
            <a:ext cx="82296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58ed5"/>
                </a:solidFill>
                <a:latin typeface="Calibri"/>
                <a:ea typeface="Times New Roman"/>
              </a:rPr>
              <a:t>1- </a:t>
            </a:r>
            <a:r>
              <a:rPr b="1" lang="ar-SA" sz="2400" spc="-1" strike="noStrike">
                <a:solidFill>
                  <a:srgbClr val="558ed5"/>
                </a:solidFill>
                <a:latin typeface="Calibri"/>
                <a:cs typeface="Times New Roman"/>
              </a:rPr>
              <a:t>التكاثر الخضر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8ed5"/>
                </a:solidFill>
                <a:latin typeface="Calibri"/>
              </a:rPr>
              <a:t>1-Vegetative reprodu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58ed5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ight Arrow 7"/>
          <p:cNvSpPr/>
          <p:nvPr/>
        </p:nvSpPr>
        <p:spPr>
          <a:xfrm>
            <a:off x="3130560" y="4799160"/>
            <a:ext cx="504720" cy="142560"/>
          </a:xfrm>
          <a:prstGeom prst="rightArrow">
            <a:avLst>
              <a:gd name="adj1" fmla="val 50000"/>
              <a:gd name="adj2" fmla="val 5010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Content Placeholder 2"/>
          <p:cNvSpPr/>
          <p:nvPr/>
        </p:nvSpPr>
        <p:spPr>
          <a:xfrm>
            <a:off x="468360" y="1300320"/>
            <a:ext cx="8229600" cy="17683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بواسطة التجز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الخيط يتجزأ ويتفكك إلى أجزاء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كل جزء ينمو ويعطي خيطا جديد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etrocysts 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غالبا التجزؤ يحدث عند خلاي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هذا الجزء (الخيط الجديد) قادر على الحركة بواسطة الزحف على الغلاف  الهلامي حتى أنه يبتعد وينمو إلى خيوط جديدة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012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4f81bd"/>
                </a:solidFill>
                <a:latin typeface="Calibri"/>
              </a:rPr>
              <a:t>2</a:t>
            </a:r>
            <a:r>
              <a:rPr b="1" lang="ar-SA" sz="2900" spc="-1" strike="noStrike">
                <a:solidFill>
                  <a:srgbClr val="4f81bd"/>
                </a:solidFill>
                <a:latin typeface="Calibri"/>
              </a:rPr>
              <a:t>- التكاثر اللاجنسي</a:t>
            </a:r>
            <a:br>
              <a:rPr sz="2900"/>
            </a:br>
            <a:r>
              <a:rPr b="1" lang="en-US" sz="2900" spc="-1" strike="noStrike">
                <a:solidFill>
                  <a:srgbClr val="4f81bd"/>
                </a:solidFill>
                <a:latin typeface="Calibri"/>
              </a:rPr>
              <a:t>2</a:t>
            </a:r>
            <a:r>
              <a:rPr b="1" lang="en-US" sz="2900" spc="-1" strike="noStrike">
                <a:solidFill>
                  <a:srgbClr val="4f81bd"/>
                </a:solidFill>
                <a:latin typeface="Calibri"/>
              </a:rPr>
              <a:t>. </a:t>
            </a:r>
            <a:r>
              <a:rPr b="1" lang="en-US" sz="2900" spc="-1" strike="noStrike">
                <a:solidFill>
                  <a:srgbClr val="4f81bd"/>
                </a:solidFill>
                <a:latin typeface="Calibri"/>
              </a:rPr>
              <a:t>Asexual reproduction</a:t>
            </a:r>
            <a:r>
              <a:rPr b="1" lang="en-US" sz="2900" spc="-1" strike="noStrike">
                <a:solidFill>
                  <a:srgbClr val="4f81bd"/>
                </a:solidFill>
                <a:latin typeface="Calibri"/>
              </a:rPr>
              <a:t>.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0000"/>
                </a:solidFill>
                <a:latin typeface="Calibri"/>
              </a:rPr>
              <a:t>أ) بواسطة الأنشطار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A) By fission.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00" spc="-1" strike="noStrike">
                <a:solidFill>
                  <a:srgbClr val="000000"/>
                </a:solidFill>
                <a:latin typeface="Calibri"/>
              </a:rPr>
              <a:t>تكون إنحسار في منتصف الخلية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 constriction is formed in the middle of the cel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00" spc="-1" strike="noStrike">
                <a:solidFill>
                  <a:srgbClr val="000000"/>
                </a:solidFill>
                <a:latin typeface="Calibri"/>
              </a:rPr>
              <a:t>يمتد الأنحسار من السطح حتى يصل إلى المركز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ends from the surface inwards towards the c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00" spc="-1" strike="noStrike">
                <a:solidFill>
                  <a:srgbClr val="000000"/>
                </a:solidFill>
                <a:latin typeface="Calibri"/>
              </a:rPr>
              <a:t>تنقسم إلى خليتين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ivision into two cell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00" spc="-1" strike="noStrike">
                <a:solidFill>
                  <a:srgbClr val="000000"/>
                </a:solidFill>
                <a:latin typeface="Calibri"/>
              </a:rPr>
              <a:t>يؤدي إلى الزيادة في عدد الخلايا لكل الخيوط دون إنتاج خيط جديد</a:t>
            </a:r>
            <a:r>
              <a:rPr b="0" lang="ar-SA" sz="1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leads to the increase in number of cells per filament without production of a new one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own Arrow 3"/>
          <p:cNvSpPr/>
          <p:nvPr/>
        </p:nvSpPr>
        <p:spPr>
          <a:xfrm>
            <a:off x="4286160" y="2637000"/>
            <a:ext cx="428760" cy="500040"/>
          </a:xfrm>
          <a:prstGeom prst="downArrow">
            <a:avLst>
              <a:gd name="adj1" fmla="val 50000"/>
              <a:gd name="adj2" fmla="val 4998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Down Arrow 4"/>
          <p:cNvSpPr/>
          <p:nvPr/>
        </p:nvSpPr>
        <p:spPr>
          <a:xfrm>
            <a:off x="4303800" y="3792600"/>
            <a:ext cx="428400" cy="500040"/>
          </a:xfrm>
          <a:prstGeom prst="downArrow">
            <a:avLst>
              <a:gd name="adj1" fmla="val 50000"/>
              <a:gd name="adj2" fmla="val 5002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wn Arrow 5"/>
          <p:cNvSpPr/>
          <p:nvPr/>
        </p:nvSpPr>
        <p:spPr>
          <a:xfrm>
            <a:off x="4317840" y="4944960"/>
            <a:ext cx="428760" cy="500040"/>
          </a:xfrm>
          <a:prstGeom prst="downArrow">
            <a:avLst>
              <a:gd name="adj1" fmla="val 50000"/>
              <a:gd name="adj2" fmla="val 4998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57200" y="928800"/>
            <a:ext cx="8229600" cy="56433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Calibri"/>
              </a:rPr>
              <a:t>B) By Akinetes </a:t>
            </a:r>
            <a:r>
              <a:rPr b="0" lang="en-US" sz="15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0000"/>
                </a:solidFill>
                <a:latin typeface="Calibri"/>
              </a:rPr>
              <a:t>ب) بواسطة الأكاينيتات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00" spc="-1" strike="noStrike">
                <a:solidFill>
                  <a:srgbClr val="000000"/>
                </a:solidFill>
                <a:latin typeface="Calibri"/>
              </a:rPr>
              <a:t>الخلايا الخضرية</a:t>
            </a:r>
            <a:r>
              <a:rPr b="0" lang="ar-SA" sz="1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egetative cells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00" spc="-1" strike="noStrike">
                <a:solidFill>
                  <a:srgbClr val="000000"/>
                </a:solidFill>
                <a:latin typeface="Calibri"/>
              </a:rPr>
              <a:t>تزداد في الحجم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large in siz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00" spc="-1" strike="noStrike">
                <a:solidFill>
                  <a:srgbClr val="000000"/>
                </a:solidFill>
                <a:latin typeface="Calibri"/>
              </a:rPr>
              <a:t>تصبح غنية بالمواد الغذائية، ويتشكل جدار سميك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ecome rich in food materials and form a thick wal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500" spc="-1" strike="noStrike">
                <a:solidFill>
                  <a:srgbClr val="000000"/>
                </a:solidFill>
                <a:latin typeface="Calibri"/>
              </a:rPr>
              <a:t>هذه الأكاينيتات</a:t>
            </a:r>
            <a:r>
              <a:rPr b="0" lang="ar-SA" sz="15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ar-SA" sz="1500" spc="-1" strike="noStrike">
                <a:solidFill>
                  <a:srgbClr val="000000"/>
                </a:solidFill>
                <a:latin typeface="Calibri"/>
              </a:rPr>
              <a:t>تكون</a:t>
            </a:r>
            <a:r>
              <a:rPr b="0" lang="ar-SA" sz="15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ar-SA" sz="1500" spc="-1" strike="noStrike">
                <a:solidFill>
                  <a:srgbClr val="000000"/>
                </a:solidFill>
                <a:latin typeface="Calibri"/>
              </a:rPr>
              <a:t>صفراء أو بنية اللون، تكون ظروف مقاومة للظروف غير المناسبة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hese akinetes are yellow or brown in colour and they are very resistant to un-favourable conditio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00" spc="-1" strike="noStrike">
                <a:solidFill>
                  <a:srgbClr val="000000"/>
                </a:solidFill>
                <a:latin typeface="Calibri"/>
              </a:rPr>
              <a:t>عندما تكون الظروف مواتية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When the conditions are favourable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00" spc="-1" strike="noStrike">
                <a:solidFill>
                  <a:srgbClr val="000000"/>
                </a:solidFill>
                <a:latin typeface="Calibri"/>
              </a:rPr>
              <a:t>الأكاينيتات</a:t>
            </a:r>
            <a:r>
              <a:rPr b="0" lang="ar-SA" sz="15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ar-SA" sz="1500" spc="-1" strike="noStrike">
                <a:solidFill>
                  <a:srgbClr val="000000"/>
                </a:solidFill>
                <a:latin typeface="Calibri"/>
              </a:rPr>
              <a:t>تنموإلى خيط جديد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he akinetes germinate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o new filaments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Down Arrow 4"/>
          <p:cNvSpPr/>
          <p:nvPr/>
        </p:nvSpPr>
        <p:spPr>
          <a:xfrm>
            <a:off x="4468680" y="1833480"/>
            <a:ext cx="357480" cy="241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Down Arrow 5"/>
          <p:cNvSpPr/>
          <p:nvPr/>
        </p:nvSpPr>
        <p:spPr>
          <a:xfrm>
            <a:off x="4468680" y="2563920"/>
            <a:ext cx="357480" cy="320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wn Arrow 6"/>
          <p:cNvSpPr/>
          <p:nvPr/>
        </p:nvSpPr>
        <p:spPr>
          <a:xfrm>
            <a:off x="4468680" y="3565440"/>
            <a:ext cx="357480" cy="322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Down Arrow 7"/>
          <p:cNvSpPr/>
          <p:nvPr/>
        </p:nvSpPr>
        <p:spPr>
          <a:xfrm>
            <a:off x="4468680" y="4429080"/>
            <a:ext cx="357480" cy="320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wn Arrow 8"/>
          <p:cNvSpPr/>
          <p:nvPr/>
        </p:nvSpPr>
        <p:spPr>
          <a:xfrm>
            <a:off x="4468680" y="5295960"/>
            <a:ext cx="357480" cy="322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AkineteHeterocystLMHigh300Lab.jpg (15127 bytes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12000" y="4716360"/>
            <a:ext cx="255096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2T04:16:58Z</dcterms:created>
  <dc:creator>DELL</dc:creator>
  <dc:description/>
  <dc:language>en-US</dc:language>
  <cp:lastModifiedBy>ihab moussa</cp:lastModifiedBy>
  <dcterms:modified xsi:type="dcterms:W3CDTF">2016-12-09T19:47:50Z</dcterms:modified>
  <cp:revision>20</cp:revision>
  <dc:subject/>
  <dc:title>Nostoc</dc:title>
</cp:coreProperties>
</file>