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202-FB62-459B-8A6F-5509C039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3D0-AE68-4A53-ACE4-03CA7949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F14-BB52-4B4A-ABD3-AC581529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FDA-60DF-473E-B074-A0A6C686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CDF-40B6-4E1C-874B-5F95771A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763-4687-4874-826D-FA59206B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186A-DD82-44A7-B26F-662BF7CE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9384-CCA7-419C-BE99-EC020F64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528-3992-470C-88AB-376F50F6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81F-A7C2-44F3-A505-B814E655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1B5-993B-405E-9378-92D91B08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7CA-BC49-426F-9747-C78E6753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51F2-8760-4BF5-AAD9-8D2FF6821A3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tany.hawaii.edu/faculty/webb/BOT311/Cyanobacteria/AkineteHeterocystLMHigh300Lab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3454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Nosto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3606480"/>
            <a:ext cx="6215040" cy="2787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Grows in water and on damp soil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Unbranched filaments with barrel-like cell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Certain enlarged cells appear at intervals, which are known as heterocysts . Its transparent and thick wall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The whole filament is surrounded with gelatinous material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Each two heterocysts delimit in between , a number of cells called hormogonia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In most cases clusters of filaments are grouped together in the form of gelatinous mass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silicasecchidisk.conncoll.edu/Pics/Other%20Algae/Blue_Green%20jpegs/Nostoc_Key16.jpg"/>
          <p:cNvPicPr/>
          <p:nvPr/>
        </p:nvPicPr>
        <p:blipFill>
          <a:blip r:embed="rId1"/>
          <a:stretch/>
        </p:blipFill>
        <p:spPr>
          <a:xfrm rot="5400000">
            <a:off x="5106240" y="2022120"/>
            <a:ext cx="5295960" cy="2428920"/>
          </a:xfrm>
          <a:prstGeom prst="rect">
            <a:avLst/>
          </a:prstGeom>
          <a:ln w="0">
            <a:noFill/>
          </a:ln>
        </p:spPr>
      </p:pic>
      <p:sp>
        <p:nvSpPr>
          <p:cNvPr id="44" name="Title 1"/>
          <p:cNvSpPr/>
          <p:nvPr/>
        </p:nvSpPr>
        <p:spPr>
          <a:xfrm>
            <a:off x="6939000" y="5884920"/>
            <a:ext cx="1633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Nost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24000" y="588960"/>
            <a:ext cx="6176880" cy="3379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نمو في المياه وعلى التربة الرطب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خيوط غير متفر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تظهر بعض الخلايا المتضخمة على فترات، التي تعرف باس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cys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التي تكون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شفافة و سميكة الجدرا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خيوط كلها تكون محاطة بمادة هلامية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وجد بين كل أثنين من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cys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عدد من الخلايا يسمى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rmogonia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في معظم الحالات تتجمع الخيوط  في مجاميع  مكونة كتل هلامية  (جيلاتينية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التكاثر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14360" y="1622520"/>
            <a:ext cx="404352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210600" indent="-210600"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0600" indent="-210600"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كاثر الخضر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0600" indent="-21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Vegetative reprodu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0600" indent="-21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0600" indent="-210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785880" y="4857840"/>
            <a:ext cx="76057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Calibri"/>
                <a:cs typeface="Times New Roman"/>
              </a:rPr>
              <a:t>التكاثر الجنسي غير معروف في هذا النو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Sexual reproduction is not known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4457880" y="2071800"/>
            <a:ext cx="4043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.     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كاثر اللاجنسي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Asexual reproduc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6572160" y="3860640"/>
            <a:ext cx="2286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) By Akinetes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975120" y="3860640"/>
            <a:ext cx="1857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y fiss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9"/>
          <p:cNvCxnSpPr>
            <a:stCxn id="49" idx="2"/>
          </p:cNvCxnSpPr>
          <p:nvPr/>
        </p:nvCxnSpPr>
        <p:spPr>
          <a:xfrm>
            <a:off x="6480000" y="2643120"/>
            <a:ext cx="95040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11"/>
          <p:cNvCxnSpPr>
            <a:stCxn id="49" idx="2"/>
          </p:cNvCxnSpPr>
          <p:nvPr/>
        </p:nvCxnSpPr>
        <p:spPr>
          <a:xfrm flipH="1">
            <a:off x="5143320" y="2643120"/>
            <a:ext cx="13370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Straight Arrow Connector 13"/>
          <p:cNvCxnSpPr>
            <a:stCxn id="46" idx="2"/>
          </p:cNvCxnSpPr>
          <p:nvPr/>
        </p:nvCxnSpPr>
        <p:spPr>
          <a:xfrm flipH="1">
            <a:off x="2785320" y="1417680"/>
            <a:ext cx="1786680" cy="51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15"/>
          <p:cNvCxnSpPr>
            <a:stCxn id="46" idx="2"/>
          </p:cNvCxnSpPr>
          <p:nvPr/>
        </p:nvCxnSpPr>
        <p:spPr>
          <a:xfrm>
            <a:off x="4570920" y="1417680"/>
            <a:ext cx="1786680" cy="583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Rectangle 1"/>
          <p:cNvSpPr/>
          <p:nvPr/>
        </p:nvSpPr>
        <p:spPr>
          <a:xfrm>
            <a:off x="7176960" y="3333600"/>
            <a:ext cx="107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أكينيت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4525920" y="33433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انشط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3500280"/>
            <a:ext cx="8229600" cy="3097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   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By fragment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lament                                    breaks into fragment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ach                  gives rise to                 a new filam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ually fragmentation occurs at the heterocyst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fragment is capable of creeping movements in the gelatinous sheath until it escapes and grows into a new filament.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ight Arrow 3"/>
          <p:cNvSpPr/>
          <p:nvPr/>
        </p:nvSpPr>
        <p:spPr>
          <a:xfrm>
            <a:off x="1811160" y="4178160"/>
            <a:ext cx="1071720" cy="21456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4"/>
          <p:cNvSpPr/>
          <p:nvPr/>
        </p:nvSpPr>
        <p:spPr>
          <a:xfrm>
            <a:off x="1311120" y="4799160"/>
            <a:ext cx="505080" cy="142560"/>
          </a:xfrm>
          <a:prstGeom prst="rightArrow">
            <a:avLst>
              <a:gd name="adj1" fmla="val 50000"/>
              <a:gd name="adj2" fmla="val 501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609480" y="33480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58ed5"/>
                </a:solidFill>
                <a:latin typeface="Calibri"/>
                <a:ea typeface="Times New Roman"/>
              </a:rPr>
              <a:t>1- </a:t>
            </a:r>
            <a:r>
              <a:rPr b="1" lang="ar-SA" sz="2400" spc="-1" strike="noStrike">
                <a:solidFill>
                  <a:srgbClr val="558ed5"/>
                </a:solidFill>
                <a:latin typeface="Calibri"/>
                <a:cs typeface="Times New Roman"/>
              </a:rPr>
              <a:t>التكاثر الخض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Calibri"/>
              </a:rPr>
              <a:t>1-Vegetative re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ight Arrow 7"/>
          <p:cNvSpPr/>
          <p:nvPr/>
        </p:nvSpPr>
        <p:spPr>
          <a:xfrm>
            <a:off x="3130560" y="4799160"/>
            <a:ext cx="504720" cy="142560"/>
          </a:xfrm>
          <a:prstGeom prst="rightArrow">
            <a:avLst>
              <a:gd name="adj1" fmla="val 50000"/>
              <a:gd name="adj2" fmla="val 501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ontent Placeholder 2"/>
          <p:cNvSpPr/>
          <p:nvPr/>
        </p:nvSpPr>
        <p:spPr>
          <a:xfrm>
            <a:off x="468360" y="1300320"/>
            <a:ext cx="8229600" cy="1768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بواسطة التجز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الخيط يتجزأ ويتفكك إلى أجزاء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كل جزء ينمو ويعطي خيطا جديد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etrocysts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غالبا التجزؤ يحدث عند خلا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هذا الجزء (الخيط الجديد) قادر على الحركة بواسطة الزحف على الغلاف  الهلامي حتى أنه يبتعد وينمو إلى خيوط جديدة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01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f81bd"/>
                </a:solidFill>
                <a:latin typeface="Calibri"/>
              </a:rPr>
              <a:t>2</a:t>
            </a:r>
            <a:r>
              <a:rPr b="1" lang="ar-SA" sz="2900" spc="-1" strike="noStrike">
                <a:solidFill>
                  <a:srgbClr val="4f81bd"/>
                </a:solidFill>
                <a:latin typeface="Calibri"/>
              </a:rPr>
              <a:t>- التكاثر اللاجنسي</a:t>
            </a:r>
            <a:br>
              <a:rPr sz="2900"/>
            </a:br>
            <a:r>
              <a:rPr b="1" lang="en-US" sz="2900" spc="-1" strike="noStrike">
                <a:solidFill>
                  <a:srgbClr val="4f81bd"/>
                </a:solidFill>
                <a:latin typeface="Calibri"/>
              </a:rPr>
              <a:t>2</a:t>
            </a:r>
            <a:r>
              <a:rPr b="1" lang="en-US" sz="2900" spc="-1" strike="noStrike">
                <a:solidFill>
                  <a:srgbClr val="4f81bd"/>
                </a:solidFill>
                <a:latin typeface="Calibri"/>
              </a:rPr>
              <a:t>. </a:t>
            </a:r>
            <a:r>
              <a:rPr b="1" lang="en-US" sz="2900" spc="-1" strike="noStrike">
                <a:solidFill>
                  <a:srgbClr val="4f81bd"/>
                </a:solidFill>
                <a:latin typeface="Calibri"/>
              </a:rPr>
              <a:t>Asexual reproduction</a:t>
            </a:r>
            <a:r>
              <a:rPr b="1" lang="en-US" sz="2900" spc="-1" strike="noStrike">
                <a:solidFill>
                  <a:srgbClr val="4f81bd"/>
                </a:solidFill>
                <a:latin typeface="Calibri"/>
              </a:rPr>
              <a:t>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Calibri"/>
              </a:rPr>
              <a:t>أ) بواسطة الأنشطا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A) By fission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كون إنحسار في منتصف الخلي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 constriction is formed in the middle of the cel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يمتد الأنحسار من السطح حتى يصل إلى المركز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ds from the surface inwards towards the c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نقسم إلى خليتين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ivision into two cel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يؤدي إلى الزيادة في عدد الخلايا لكل الخيوط دون إنتاج خيط جديد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eads to the increase in number of cells per filament without production of a new one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own Arrow 3"/>
          <p:cNvSpPr/>
          <p:nvPr/>
        </p:nvSpPr>
        <p:spPr>
          <a:xfrm>
            <a:off x="4286160" y="263700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own Arrow 4"/>
          <p:cNvSpPr/>
          <p:nvPr/>
        </p:nvSpPr>
        <p:spPr>
          <a:xfrm>
            <a:off x="4303800" y="3792600"/>
            <a:ext cx="428400" cy="50004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wn Arrow 5"/>
          <p:cNvSpPr/>
          <p:nvPr/>
        </p:nvSpPr>
        <p:spPr>
          <a:xfrm>
            <a:off x="4317840" y="494496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928800"/>
            <a:ext cx="8229600" cy="5643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B) By Akinetes </a:t>
            </a: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" spc="-1" strike="noStrike">
                <a:solidFill>
                  <a:srgbClr val="ff0000"/>
                </a:solidFill>
                <a:latin typeface="Calibri"/>
              </a:rPr>
              <a:t>ب) بواسطة الأكاينيتات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الخلايا الخضرية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egetative cell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زداد في الحجم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large in siz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صبح غنية بالمواد الغذائية، ويتشكل جدار سمي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ecome rich in food materials and form a thick wal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هذه الأكاينيتات</a:t>
            </a:r>
            <a:r>
              <a:rPr b="0" lang="ar-SA" sz="1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كون</a:t>
            </a:r>
            <a:r>
              <a:rPr b="0" lang="ar-SA" sz="1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صفراء أو بنية اللون، تكون ظروف مقاومة للظروف غير المناسب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se akinetes are yellow or brown in colour and they are very resistant to un-favourable conditio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عندما تكون الظروف مواتية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en the conditions are favourabl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الأكاينيتات</a:t>
            </a:r>
            <a:r>
              <a:rPr b="0" lang="ar-SA" sz="1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ar-SA" sz="1500" spc="-1" strike="noStrike">
                <a:solidFill>
                  <a:srgbClr val="000000"/>
                </a:solidFill>
                <a:latin typeface="Calibri"/>
              </a:rPr>
              <a:t>تنموإلى خيط جديد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akinetes germinat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new filament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own Arrow 4"/>
          <p:cNvSpPr/>
          <p:nvPr/>
        </p:nvSpPr>
        <p:spPr>
          <a:xfrm>
            <a:off x="4468680" y="1833480"/>
            <a:ext cx="357480" cy="241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Down Arrow 5"/>
          <p:cNvSpPr/>
          <p:nvPr/>
        </p:nvSpPr>
        <p:spPr>
          <a:xfrm>
            <a:off x="4468680" y="2563920"/>
            <a:ext cx="357480" cy="320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wn Arrow 6"/>
          <p:cNvSpPr/>
          <p:nvPr/>
        </p:nvSpPr>
        <p:spPr>
          <a:xfrm>
            <a:off x="4468680" y="3565440"/>
            <a:ext cx="357480" cy="322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own Arrow 7"/>
          <p:cNvSpPr/>
          <p:nvPr/>
        </p:nvSpPr>
        <p:spPr>
          <a:xfrm>
            <a:off x="4468680" y="4429080"/>
            <a:ext cx="357480" cy="320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wn Arrow 8"/>
          <p:cNvSpPr/>
          <p:nvPr/>
        </p:nvSpPr>
        <p:spPr>
          <a:xfrm>
            <a:off x="4468680" y="5295960"/>
            <a:ext cx="357480" cy="322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AkineteHeterocystLMHigh300Lab.jpg (15127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4716360"/>
            <a:ext cx="25509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4:16:58Z</dcterms:created>
  <dc:creator>DELL</dc:creator>
  <dc:description/>
  <dc:language>en-US</dc:language>
  <cp:lastModifiedBy>ihab moussa</cp:lastModifiedBy>
  <dcterms:modified xsi:type="dcterms:W3CDTF">2016-12-09T19:47:50Z</dcterms:modified>
  <cp:revision>20</cp:revision>
  <dc:subject/>
  <dc:title>Nostoc</dc:title>
</cp:coreProperties>
</file>