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/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8CE621D-A8CE-446D-812E-0E1EBA230B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Num" idx="48"/>
          </p:nvPr>
        </p:nvSpPr>
        <p:spPr>
          <a:xfrm>
            <a:off x="144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3A15D862-C75B-4934-927A-D1408DE126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Num" idx="49"/>
          </p:nvPr>
        </p:nvSpPr>
        <p:spPr>
          <a:xfrm>
            <a:off x="144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75B5BF2F-CB46-4DC4-8A60-03551BD992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sldNum" idx="50"/>
          </p:nvPr>
        </p:nvSpPr>
        <p:spPr>
          <a:xfrm>
            <a:off x="144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47D74990-CF2F-4765-B7CA-29675746D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sldNum" idx="47"/>
          </p:nvPr>
        </p:nvSpPr>
        <p:spPr>
          <a:xfrm>
            <a:off x="144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78F881CC-0480-4E5B-89F1-B9F1E8C51D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D65F-C5B0-444E-9822-479DC2AAD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783960"/>
            <a:ext cx="822924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4BD4-D284-4D4A-863C-2BFAB144A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9A6A-C622-4C5C-AE2D-5C316AE86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783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783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783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FB02-C315-444A-9069-4CB795282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FBBFB-AA76-4F8E-A1F8-FCCAE513F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94F15-3A2A-4F84-910D-16DB2A203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54F9E-2BF7-42B9-856C-878D3816B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92B2E-03A8-4064-BF03-4896DEC9E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6E1A9-6ECE-46BB-ADFC-849FA4409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01E0D-7473-4E27-87CC-58BFB2ADF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B5152-0F50-4A53-8F85-09CC43CE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26FD-6E65-4783-9581-F04A7E651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AF837-75B0-4551-AABD-E4C836E3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783960"/>
            <a:ext cx="822924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1BACB-175C-4049-A11A-0EF4394B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783960"/>
            <a:ext cx="822924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EC387-7150-4120-87B7-5CA846968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20AEA-2778-4FB6-B830-D35727AAD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783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783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783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746AA-8FB8-4415-BF0A-1A3527B51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80409-9A13-4404-8E2B-33318AF31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DFAEE-F132-4E38-8A7A-F83C4CA64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E8F9F-CA81-420B-96C4-69A5C1F4F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88CD9-59F0-4BC1-BD76-EE649F4E4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07F21-9C0A-4C4D-A18C-23BCE57B8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0036-1A4A-4CFC-922F-DE1714C5F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0EA49-22FC-452B-A03D-EC58311BD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0B102-7412-42D7-888E-180DC763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9CC6E-D7A9-49A8-86DD-3971A23D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783960"/>
            <a:ext cx="822924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58BFC-9650-40C8-B869-A3E2129C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783960"/>
            <a:ext cx="822924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9DC4F-57E4-48DA-B8A8-F11B8BF71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DFEE9-6A54-4379-A568-4A628816F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783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783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783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3624B-1090-45BF-97B3-D90FE453C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CB76-8418-4DB3-B5B3-BECD3A28C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4C65-5E26-4DFD-B04D-DFF4B9BE3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2976-2DDC-4428-A974-47DECE8BD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B6AC-8B2B-4E95-BD52-EFCA706C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9BDE-A609-4EAD-898E-3095C30A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83960"/>
            <a:ext cx="822924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6C2B-EBD2-4864-8398-E99FE8EE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Isosceles Triangle 9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00800" y="6355080"/>
            <a:ext cx="2285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98720" y="6355080"/>
            <a:ext cx="347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216080" y="635508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5DB29EA5-F607-4C48-ABED-F191428F3F4E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20"/>
          <p:cNvSpPr/>
          <p:nvPr/>
        </p:nvSpPr>
        <p:spPr>
          <a:xfrm>
            <a:off x="905040" y="3648240"/>
            <a:ext cx="7314840" cy="1279800"/>
          </a:xfrm>
          <a:prstGeom prst="rect">
            <a:avLst/>
          </a:prstGeom>
          <a:noFill/>
          <a:ln cap="rnd" w="6350">
            <a:solidFill>
              <a:srgbClr val="727ca3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8" name="Rectangle 32"/>
          <p:cNvSpPr/>
          <p:nvPr/>
        </p:nvSpPr>
        <p:spPr>
          <a:xfrm>
            <a:off x="914400" y="5048280"/>
            <a:ext cx="7314840" cy="685440"/>
          </a:xfrm>
          <a:prstGeom prst="rect">
            <a:avLst/>
          </a:prstGeom>
          <a:noFill/>
          <a:ln cap="rnd" w="6350">
            <a:solidFill>
              <a:srgbClr val="9fb8c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" name="Rectangle 21"/>
          <p:cNvSpPr/>
          <p:nvPr/>
        </p:nvSpPr>
        <p:spPr>
          <a:xfrm>
            <a:off x="905040" y="3648240"/>
            <a:ext cx="228240" cy="1279800"/>
          </a:xfrm>
          <a:prstGeom prst="rect">
            <a:avLst/>
          </a:prstGeom>
          <a:solidFill>
            <a:schemeClr val="accent1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" name="Rectangle 31"/>
          <p:cNvSpPr/>
          <p:nvPr/>
        </p:nvSpPr>
        <p:spPr>
          <a:xfrm>
            <a:off x="914400" y="5048280"/>
            <a:ext cx="228240" cy="685440"/>
          </a:xfrm>
          <a:prstGeom prst="rect">
            <a:avLst/>
          </a:prstGeom>
          <a:solidFill>
            <a:schemeClr val="accent2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Isosceles Triangle 9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dt" idx="4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7DC10711-52FA-4AA8-BBBC-F64462B06F7A}" type="slidenum">
              <a:rPr b="0" lang="en-US" sz="14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Straight Connector 4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Isosceles Triangle 5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Isosceles Triangle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464653"/>
                </a:solidFill>
                <a:latin typeface="Bookman Old Style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ECAF826A-DE2F-463B-9FC4-EE5A8D9BC58D}" type="slidenum">
              <a:rPr b="0" lang="en-US" sz="14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3380e6"/>
                </a:solidFill>
                <a:latin typeface="Goudy Sans Medium"/>
              </a:rPr>
              <a:t>Object-Oriented Programming: Classes and Objects   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219320" y="5124600"/>
            <a:ext cx="6857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Bookman Old Style"/>
              </a:rPr>
              <a:t>Chapte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13"/>
          </p:nvPr>
        </p:nvSpPr>
        <p:spPr>
          <a:xfrm>
            <a:off x="2898720" y="6355080"/>
            <a:ext cx="347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lass Property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5638320" cy="5180400"/>
          </a:xfrm>
          <a:prstGeom prst="rect">
            <a:avLst/>
          </a:prstGeom>
          <a:ln w="9525">
            <a:noFill/>
          </a:ln>
        </p:spPr>
      </p:pic>
      <p:sp>
        <p:nvSpPr>
          <p:cNvPr id="175" name="PlaceHolder 3"/>
          <p:cNvSpPr>
            <a:spLocks noGrp="1"/>
          </p:cNvSpPr>
          <p:nvPr>
            <p:ph type="ftr" idx="22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lass Constructor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32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When you create an object of a class, the class’s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constructor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is called to initialize the object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onstructors must be named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New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and are generally declared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Public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onstructors are implemented as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Sub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procedures, because they cannot return value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Rounded Rectangle 4"/>
          <p:cNvSpPr/>
          <p:nvPr/>
        </p:nvSpPr>
        <p:spPr>
          <a:xfrm>
            <a:off x="914400" y="1219320"/>
            <a:ext cx="7162560" cy="220932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fada7a"/>
            </a:solidFill>
            <a:prstDash val="dash"/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Public Class C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Private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number As Integ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300" spc="-1" strike="noStrike">
                <a:solidFill>
                  <a:srgbClr val="da1f28"/>
                </a:solidFill>
                <a:latin typeface="Times New Roman"/>
              </a:rPr>
              <a:t>Public Sub New( ByVal  n As Integer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da1f28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da1f28"/>
                </a:solidFill>
                <a:latin typeface="Times New Roman"/>
              </a:rPr>
              <a:t>number = 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da1f28"/>
                </a:solidFill>
                <a:latin typeface="Times New Roman"/>
              </a:rPr>
              <a:t>      </a:t>
            </a:r>
            <a:r>
              <a:rPr b="0" lang="en-US" sz="2300" spc="-1" strike="noStrike">
                <a:solidFill>
                  <a:srgbClr val="da1f28"/>
                </a:solidFill>
                <a:latin typeface="Times New Roman"/>
              </a:rPr>
              <a:t>End Sub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End Clas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ftr" idx="23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lass Constructor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 constructor call is required for every object that’s created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You can provide a parameterless constructor that contains code and takes no parameters, or that takes only Optional parameters so you can call it with no argument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ftr" idx="24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reate Objec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ach object in Visual Basic is defined by a clas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class describes the variables, properties, procedures, and events of an object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bjects are instances of classes; you can create as many objects you need once you have defined a clas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You can also specify Public, Protected, Friend, Protected Friend, Private, Shared, or Static in the declaration. 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ftr" idx="2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186" name="Rounded Rectangle 4"/>
          <p:cNvSpPr/>
          <p:nvPr/>
        </p:nvSpPr>
        <p:spPr>
          <a:xfrm>
            <a:off x="1371600" y="3733920"/>
            <a:ext cx="5943240" cy="114264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fada7a"/>
            </a:solidFill>
            <a:prstDash val="dash"/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Dim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VariableName As [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New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] ClassNam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asses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Accoun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AccountTe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Accoun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lass represents a bank account that has a balance, deposit and withdraw money transactio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AccountTe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lass creates and uses an object of class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Accoun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ftr" idx="26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  <p:pic>
        <p:nvPicPr>
          <p:cNvPr id="190" name="Picture 1" descr="vbhtp5_09_ClassesAndObjectsImges_Page_04.png"/>
          <p:cNvPicPr/>
          <p:nvPr/>
        </p:nvPicPr>
        <p:blipFill>
          <a:blip r:embed="rId1"/>
          <a:srcRect l="4165" t="8240" r="24168" b="65147"/>
          <a:stretch/>
        </p:blipFill>
        <p:spPr>
          <a:xfrm>
            <a:off x="-36360" y="3573000"/>
            <a:ext cx="8940960" cy="2016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omposition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class can have references to objects of other classes as member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s is called 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</a:rPr>
              <a:t>composi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is sometimes referred to as a </a:t>
            </a:r>
            <a:r>
              <a:rPr b="1" i="1" lang="en-US" sz="2600" spc="-1" strike="noStrike">
                <a:solidFill>
                  <a:srgbClr val="3380e6"/>
                </a:solidFill>
                <a:latin typeface="Times New Roman"/>
              </a:rPr>
              <a:t>has-a</a:t>
            </a:r>
            <a:r>
              <a:rPr b="1" i="1" lang="en-US" sz="2600" spc="-1" strike="noStrike">
                <a:solidFill>
                  <a:srgbClr val="0000ff"/>
                </a:solidFill>
                <a:latin typeface="Times New Roman"/>
              </a:rPr>
              <a:t> relationship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ftr" idx="27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 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lass Scop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 class’s instance variables and methods have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class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scop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Within this scope, a class’s members are accessible to all of the class’s other members and can be referenced simply by name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Outside a class’s scope, class members cannot be referenced directly by name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ose class members that are visible (such as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Public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members) can be accessed through a variable that refers to an object of the clas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ftr" idx="28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  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Object Initializer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ff"/>
                </a:solidFill>
                <a:latin typeface="Times New Roman"/>
              </a:rPr>
              <a:t>Object initializer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use the </a:t>
            </a:r>
            <a:r>
              <a:rPr b="0" lang="en-US" sz="2600" spc="-1" strike="noStrike">
                <a:solidFill>
                  <a:srgbClr val="0000ff"/>
                </a:solidFill>
                <a:latin typeface="Lucida Console"/>
              </a:rPr>
              <a:t>With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</a:rPr>
              <a:t> keywor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allow you to create an object and initialize its properties in the same statemen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s is useful when a class does not provide an appropriate constructor to meet your need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ftr" idx="29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  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Object Initializer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o use object initializers, you follow the object creation expression with the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With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keyword and an </a:t>
            </a:r>
            <a:r>
              <a:rPr b="0" lang="en-US" sz="2100" spc="-1" strike="noStrike">
                <a:solidFill>
                  <a:srgbClr val="0000ff"/>
                </a:solidFill>
                <a:latin typeface="Times New Roman"/>
              </a:rPr>
              <a:t>object initializer lis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—a comma-separated list in curly braces (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{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}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) of properties and their values as in the following statements: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822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im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timeObj1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 New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Time()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{.Minute=</a:t>
            </a:r>
            <a:r>
              <a:rPr b="0" lang="en-US" sz="1600" spc="-1" strike="noStrike">
                <a:solidFill>
                  <a:srgbClr val="128aff"/>
                </a:solidFill>
                <a:latin typeface="Lucida Console"/>
              </a:rPr>
              <a:t>33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, .Second=</a:t>
            </a:r>
            <a:r>
              <a:rPr b="0" lang="en-US" sz="1600" spc="-1" strike="noStrike">
                <a:solidFill>
                  <a:srgbClr val="128aff"/>
                </a:solidFill>
                <a:latin typeface="Lucida Console"/>
              </a:rPr>
              <a:t>12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im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timeObj2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 New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Time()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{.Minute = </a:t>
            </a:r>
            <a:r>
              <a:rPr b="0" lang="en-US" sz="1600" spc="-1" strike="noStrike">
                <a:solidFill>
                  <a:srgbClr val="128aff"/>
                </a:solidFill>
                <a:latin typeface="Lucida Console"/>
              </a:rPr>
              <a:t>45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With</a:t>
            </a:r>
            <a:r>
              <a:rPr b="0" lang="en-US" sz="21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keyword indicates that the new object is used to access the properties specified in the object-initializer list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ach property name must be preceded by the dot separator (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.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) and can appear only once in the object-initializer list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ftr" idx="30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 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Object Initializer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e object-initializer list cannot be empty and cannot contain properties that are declared as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Cons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ReadOnly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e object initializer then executes the property initializers in the order in which they appear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ftr" idx="31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1" descr="vbhtp5_09_ClassesAndObjectsImges_Page_02.png"/>
          <p:cNvPicPr/>
          <p:nvPr/>
        </p:nvPicPr>
        <p:blipFill>
          <a:blip r:embed="rId1"/>
          <a:stretch/>
        </p:blipFill>
        <p:spPr>
          <a:xfrm>
            <a:off x="0" y="652320"/>
            <a:ext cx="9143640" cy="5551200"/>
          </a:xfrm>
          <a:prstGeom prst="rect">
            <a:avLst/>
          </a:prstGeom>
          <a:ln w="9525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ftr" idx="14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 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Auto-Implemented Propertie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5000"/>
          </a:bodyPr>
          <a:p>
            <a:pPr marL="260280" indent="-2602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write properties that do not have any additional logic in their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cessors, there is a new feature in Visual Basic 2010 called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uto-implemented propert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allows you to write one line of code and have the compiler to generate the property’s code for you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0280" indent="-2602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20920" indent="-2602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Hou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operty did not require validation in, we could have replaced line 5 and lines 29–41 with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781560" indent="-217080">
              <a:lnSpc>
                <a:spcPct val="8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ublic Property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Hour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As Integer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520920" indent="-2602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ompiler would then generate a Private instance variable of type Integer named _Hour and the following property cod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78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ublic Property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Hour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As Intege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G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_Hou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End Get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Set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ByVa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value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As Integ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_Hour = 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End Set</a:t>
            </a:r>
            <a:br>
              <a:rPr sz="1400"/>
            </a:b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End Property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ftr" idx="32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Using </a:t>
            </a:r>
            <a:r>
              <a:rPr b="0" lang="en-US" sz="3600" spc="-1" strike="noStrike">
                <a:solidFill>
                  <a:srgbClr val="3380e6"/>
                </a:solidFill>
                <a:latin typeface="Lucida Console"/>
              </a:rPr>
              <a:t>Me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 to Access the Current Objec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Every object of a class shares one copy of the class’s method declaration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object’s methods can manipulate the object’s data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ut how do methods know which object’s instance variables to manipulate? Every object can access itself through its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Me referenc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On every call to a non-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method, the compiler passes an object’s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M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reference as an implicit argument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ftr" idx="33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Using </a:t>
            </a:r>
            <a:r>
              <a:rPr b="0" lang="en-US" sz="3600" spc="-1" strike="noStrike">
                <a:solidFill>
                  <a:srgbClr val="3380e6"/>
                </a:solidFill>
                <a:latin typeface="Lucida Console"/>
              </a:rPr>
              <a:t>Me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 to Access the Current Objec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ccessing Shadowed Instance Variables with Me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When a method has a parameter or local variable with the same name as one of the class’s instance variables, the instance variable is “hidden” until the method terminates execution—this is called </a:t>
            </a:r>
            <a:r>
              <a:rPr b="0" lang="en-US" sz="2100" spc="-1" strike="noStrike">
                <a:solidFill>
                  <a:srgbClr val="0000ff"/>
                </a:solidFill>
                <a:latin typeface="Times New Roman"/>
              </a:rPr>
              <a:t>shadowing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You can use the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M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reference to access the shadowed instance variable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ssume that we have a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Tim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class with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hour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minut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secon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instance variables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ftr" idx="34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Using </a:t>
            </a:r>
            <a:r>
              <a:rPr b="0" lang="en-US" sz="3600" spc="-1" strike="noStrike">
                <a:solidFill>
                  <a:srgbClr val="3380e6"/>
                </a:solidFill>
                <a:latin typeface="Lucida Console"/>
              </a:rPr>
              <a:t>Me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 to Access the Current Objec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ollowing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Ti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ass constructor’s parameters shadow (have the same name as) the class’s instance variables, so we use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access each shadowed instance variable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2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Sub New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ByVa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hour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 Integer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ByVa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minute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 Integer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,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ByVa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second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 Integer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)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Me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.hour = hour </a:t>
            </a:r>
            <a:r>
              <a:rPr b="0" lang="en-US" sz="1600" spc="-1" strike="noStrike">
                <a:solidFill>
                  <a:srgbClr val="00bf00"/>
                </a:solidFill>
                <a:latin typeface="Lucida Console"/>
              </a:rPr>
              <a:t>' initialize instance var hou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Me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.minute = minute</a:t>
            </a:r>
            <a:r>
              <a:rPr b="0" lang="en-US" sz="1600" spc="-1" strike="noStrike">
                <a:solidFill>
                  <a:srgbClr val="00bf00"/>
                </a:solidFill>
                <a:latin typeface="Lucida Console"/>
              </a:rPr>
              <a:t> ' initialize instance var minut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Me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.second = second </a:t>
            </a:r>
            <a:r>
              <a:rPr b="0" lang="en-US" sz="1600" spc="-1" strike="noStrike">
                <a:solidFill>
                  <a:srgbClr val="00bf00"/>
                </a:solidFill>
                <a:latin typeface="Lucida Console"/>
              </a:rPr>
              <a:t>' initialize instance var second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End Sub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bf00"/>
                </a:solidFill>
                <a:latin typeface="Lucida Console"/>
              </a:rPr>
              <a:t>' New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ftr" idx="3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Lucida Console"/>
              </a:rPr>
              <a:t>Shared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 Class Member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ach object has its own copy of the instance variables of its class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n certain cases, all objects of a class should share only one copy of a particular variable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500" spc="-1" strike="noStrike">
                <a:solidFill>
                  <a:srgbClr val="0000ff"/>
                </a:solidFill>
                <a:latin typeface="Times New Roman"/>
              </a:rPr>
              <a:t>Share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ff"/>
                </a:solidFill>
                <a:latin typeface="Times New Roman"/>
              </a:rPr>
              <a:t>class variabl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represents </a:t>
            </a:r>
            <a:r>
              <a:rPr b="0" lang="en-US" sz="2500" spc="-1" strike="noStrike">
                <a:solidFill>
                  <a:srgbClr val="0000ff"/>
                </a:solidFill>
                <a:latin typeface="Times New Roman"/>
              </a:rPr>
              <a:t>classwide informatio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—all objects of the class share the same variable, no matter how many objects of the class have been instantiated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ogether, a class’s instance variables and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variables are know as the class’s </a:t>
            </a:r>
            <a:r>
              <a:rPr b="0" lang="en-US" sz="2500" spc="-1" strike="noStrike">
                <a:solidFill>
                  <a:srgbClr val="0000ff"/>
                </a:solidFill>
                <a:latin typeface="Times New Roman"/>
              </a:rPr>
              <a:t>field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36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1" descr="vbhtp5_09_ClassesAndObjectsImges_Page_38.png"/>
          <p:cNvPicPr/>
          <p:nvPr/>
        </p:nvPicPr>
        <p:blipFill>
          <a:blip r:embed="rId1"/>
          <a:srcRect l="8263" t="14995" r="25987" b="24045"/>
          <a:stretch/>
        </p:blipFill>
        <p:spPr>
          <a:xfrm>
            <a:off x="1296000" y="404640"/>
            <a:ext cx="6011640" cy="3384000"/>
          </a:xfrm>
          <a:prstGeom prst="rect">
            <a:avLst/>
          </a:prstGeom>
          <a:ln w="9525">
            <a:noFill/>
          </a:ln>
        </p:spPr>
      </p:pic>
      <p:pic>
        <p:nvPicPr>
          <p:cNvPr id="222" name="Picture 1" descr="vbhtp5_09_ClassesAndObjectsImges_Page_39.png"/>
          <p:cNvPicPr/>
          <p:nvPr/>
        </p:nvPicPr>
        <p:blipFill>
          <a:blip r:embed="rId2"/>
          <a:srcRect l="8263" t="0" r="25200" b="46820"/>
          <a:stretch/>
        </p:blipFill>
        <p:spPr>
          <a:xfrm>
            <a:off x="1296000" y="3213000"/>
            <a:ext cx="6083640" cy="2952000"/>
          </a:xfrm>
          <a:prstGeom prst="rect">
            <a:avLst/>
          </a:prstGeom>
          <a:ln w="9525">
            <a:noFill/>
          </a:ln>
        </p:spPr>
      </p:pic>
      <p:sp>
        <p:nvSpPr>
          <p:cNvPr id="223" name="Title 1"/>
          <p:cNvSpPr/>
          <p:nvPr/>
        </p:nvSpPr>
        <p:spPr>
          <a:xfrm rot="16200000">
            <a:off x="-472680" y="553680"/>
            <a:ext cx="216000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3600" spc="-1" strike="noStrike">
                <a:solidFill>
                  <a:srgbClr val="3380e6"/>
                </a:solidFill>
                <a:latin typeface="Arial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ftr" idx="37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Shared Class Member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cope of </a:t>
            </a:r>
            <a:r>
              <a:rPr b="1" lang="en-US" sz="26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mber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class members have class scope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 class’s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Public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members can be accessed via the class name using the dot separator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 class’s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Privat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members can be accessed by clients only indirectly through the class’s non-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Privat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methods and propertie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ftr" idx="38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 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Shared Class Member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i="1" lang="en-US" sz="25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 Members and the </a:t>
            </a:r>
            <a:r>
              <a:rPr b="1" i="1" lang="en-US" sz="2500" spc="-1" strike="noStrike">
                <a:solidFill>
                  <a:srgbClr val="000000"/>
                </a:solidFill>
                <a:latin typeface="Lucida Console"/>
              </a:rPr>
              <a:t>Me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 Reference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methods and properties do not have access to the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M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reference, which can be used to directly access only non-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class members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ftr" idx="39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 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Shared Class Member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i="1" lang="en-US" sz="26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Constructor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variables are often initialized to their default values or to other values in their declaration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When a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variable requires initialization that cannot be accomplished in its declaration (such as complex calculations or constructor arguments), you can perform the initialization in a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Shared constructor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hared constructor preceded by the shared modifier and must be declared public, without parameter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40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Shared Method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lass Math provides a collection of Shared methods that enable to perform common mathematical calculation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5486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Math.Sqrt(900.0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ftr" idx="41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 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any applications consist of one or more classes, each containing one or more method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f you become part of a development team in industry, you may work on applications that contain hundreds, or even thousands, of classe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this chapter, we motivate the notion of classes with real-world examples and use complete working applications to demonstrate creating your own classes and manipulating objects of those classes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ftr" idx="1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onst and ReadOnly Field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Constan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re fields whose values cannot change during program executio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create a constant in a class, declare an identifier as either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Con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ReadOnl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either type of constant can be modified once initialized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ftr" idx="42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onst and ReadOnly Field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Cons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Cons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identifier must be initialized at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compile time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n its declaration and can be initialized only to constant values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xample :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82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bf00"/>
                </a:solidFill>
                <a:latin typeface="Lucida Console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Private Const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128aff"/>
                </a:solidFill>
                <a:latin typeface="Lucida Console"/>
              </a:rPr>
              <a:t>NUMBER_OF_CARDS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As Integer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= </a:t>
            </a:r>
            <a:r>
              <a:rPr b="0" lang="en-US" sz="1800" spc="-1" strike="noStrike">
                <a:solidFill>
                  <a:srgbClr val="128aff"/>
                </a:solidFill>
                <a:latin typeface="Lucida Console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548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43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onst and ReadOnly Field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ReadOnl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some cases, a constant’s value is not known until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xecution tim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nstant is initialized with a non-constant value (such as a variable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nstant must be initialized with a (possibly) different value on a per-object basi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 identifier declared as </a:t>
            </a:r>
            <a:r>
              <a:rPr b="0" lang="en-US" sz="2200" spc="-1" strike="noStrike">
                <a:solidFill>
                  <a:srgbClr val="0000ff"/>
                </a:solidFill>
                <a:latin typeface="Times New Roman"/>
              </a:rPr>
              <a:t>ReadOnl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an be initialized either in its declaration or in the class’s constructor(s)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44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onst and ReadOnly Field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 following declaration creates an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employeeID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constant that might be part of an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Employe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class: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82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1900" spc="-1" strike="noStrike">
                <a:solidFill>
                  <a:srgbClr val="00bf00"/>
                </a:solidFill>
                <a:latin typeface="Lucida Console"/>
              </a:rPr>
              <a:t>	</a:t>
            </a:r>
            <a:br>
              <a:rPr sz="1900"/>
            </a:b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Private ReadOnly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employeeID </a:t>
            </a: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As Integer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o initialize the constant employee-by-employee, you can use the constructor: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82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bf00"/>
                </a:solidFill>
                <a:latin typeface="Lucida Console"/>
              </a:rPr>
              <a:t>	</a:t>
            </a:r>
            <a:r>
              <a:rPr b="0" lang="en-US" sz="1900" spc="-1" strike="noStrike">
                <a:solidFill>
                  <a:srgbClr val="00bf00"/>
                </a:solidFill>
                <a:latin typeface="Lucida Console"/>
              </a:rPr>
              <a:t> </a:t>
            </a:r>
            <a:br>
              <a:rPr sz="1900"/>
            </a:b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Public Sub New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(</a:t>
            </a: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ByVal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ID </a:t>
            </a: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As Integer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)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  employeeID = ID</a:t>
            </a:r>
            <a:r>
              <a:rPr b="0" lang="en-US" sz="1900" spc="-1" strike="noStrike">
                <a:solidFill>
                  <a:srgbClr val="00bf00"/>
                </a:solidFill>
                <a:latin typeface="Lucida Console"/>
              </a:rPr>
              <a:t> </a:t>
            </a:r>
            <a:br>
              <a:rPr sz="1900"/>
            </a:b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End Sub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ftr" idx="4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onst and ReadOnly Field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ccessing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Public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Constants from Client Code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Cons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 are implicitly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f you have a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Public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Cons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value, client code can access it with the class name followed by the dot separator and the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Cons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’s name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ach object of a class with a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ReadOnly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constant has a separate copy of the constant, unless you explicitly declare the constant as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f you have a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Public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ReadOnly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constant in your class, client code can access it via a reference to an object of that class. 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ftr" idx="46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 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lasses and Object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is an abstract representation of something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is a usable example of the thing the class represent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 is a structure containing data and methods that manipulate the data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ftr" idx="16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Fields, Properties and method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es are made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el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thod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iel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properties represent information that an object contain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elds are like variables in that they can be read or set directly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 Car color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pert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retrieved and set like fields, but are implemented using property Get and property Set procedure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ho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present actions that an object can perform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xample, a "Car" object could have "StartEngine," "Drive," and "Stop" methods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ftr" idx="17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lass Declaration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 keyword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Public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is an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access modifier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Public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classes can be reused in other project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Every class declaration contains keyword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Class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followed immediately by the class’s name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Every class’s body ends with the keywords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End Class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Rounded Rectangle 4"/>
          <p:cNvSpPr/>
          <p:nvPr/>
        </p:nvSpPr>
        <p:spPr>
          <a:xfrm>
            <a:off x="2362320" y="1447920"/>
            <a:ext cx="3200040" cy="175212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fada7a"/>
            </a:solidFill>
            <a:prstDash val="dash"/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Public Class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End Clas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ftr" idx="18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Access Levels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 access level of a declared element is the extent of the ability to access it, that is, what code has permission to read it or write to i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Public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- elements are accessible from code anywhere within the same project, from other projects that reference the project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Protected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- elements are accessible only from within the same class, or from a class derived from this class.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Privat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- elements are accessible only from within the same module, class, or structure. 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ftr" idx="19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lass Member Variable (Field)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lass members declared with member access modifier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Privat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are accessible only within the class, which gives the class complete control over how those members are used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lass members declared with member-access modifier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Public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are accessible wherever the program has a reference to an Account object.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Member variables declared with Dim default to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Privat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acces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Rounded Rectangle 4"/>
          <p:cNvSpPr/>
          <p:nvPr/>
        </p:nvSpPr>
        <p:spPr>
          <a:xfrm>
            <a:off x="2362320" y="1447920"/>
            <a:ext cx="3657240" cy="175212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fada7a"/>
            </a:solidFill>
            <a:prstDash val="dash"/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Public Class C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Private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olor As Str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End Clas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ftr" idx="20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lass Property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9000"/>
          </a:bodyPr>
          <a:p>
            <a:pPr marL="263520" indent="-263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property procedure whe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27400" indent="-2635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control when and how a value is set or retrieved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27400" indent="-2635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validate value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27400" indent="-2635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ting the property causes changes to other internal variables or to the values of other propertie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ual Basic provides for the following property procedure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27400" indent="-2635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 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procedure returns the value of a property. It is called when you access the property in an expressio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27400" indent="-2635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 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procedure sets a property to a value, including an object reference. It is called when you assign a value to the property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usually define property procedures in pairs, using the Get and Set statements, but you can define either procedure alone if the property is read-only (Get Statement) or write-only (Set Statement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21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  <Words>1478</Words>
  <Paragraphs>19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1T20:00:59Z</dcterms:created>
  <dc:creator>Nasser</dc:creator>
  <dc:description/>
  <dc:language>en-US</dc:language>
  <cp:lastModifiedBy>Aseel</cp:lastModifiedBy>
  <dcterms:modified xsi:type="dcterms:W3CDTF">2013-09-09T16:41:14Z</dcterms:modified>
  <cp:revision>5</cp:revision>
  <dc:subject/>
  <dc:title>Object-Oriented Programming: Classes and Objec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4</vt:r8>
  </property>
  <property fmtid="{D5CDD505-2E9C-101B-9397-08002B2CF9AE}" pid="3" name="PresentationFormat">
    <vt:lpwstr>On-screen Show (4:3)</vt:lpwstr>
  </property>
  <property fmtid="{D5CDD505-2E9C-101B-9397-08002B2CF9AE}" pid="4" name="Slides">
    <vt:r8>34</vt:r8>
  </property>
</Properties>
</file>