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17B-D186-48FA-8723-DB32FDCF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9DE-7F57-4B0F-A385-10F81898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0EF5-F1A6-4A3B-A67B-0099ED64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F402-A68D-40A1-9CDF-0F015B09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1B0D-ACBB-4FFC-9B82-EAEBB4D8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F16E-9071-44E7-974A-48A7272E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DF4C-8283-480E-AC73-ED9EC21A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C364-E2B4-4415-B004-1B49CB9C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0418-CE41-4EA0-BBDC-A62E2F78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F620-EB78-4E8E-AC6C-A205783B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ABDA-9C6C-4EB2-9004-2093047F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6AD-59F4-460B-90AB-CA4DE14F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D896-97E8-44C3-8E85-9A09121D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49C4-9DB8-4AA6-A7CF-9DB7C4D5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1B4C-A32E-4DA3-9033-CBEC5114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64C1-2689-42A9-B354-01F46AE1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EE6B-1285-4338-ABEB-450FEBD9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6F333-FA51-4413-AE7A-94EC5457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72C4A-BEF9-4D7A-8479-CF69C982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4B2D6-5568-4CC4-84D2-47EEBCCE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FC67B-9879-4751-9E2F-0F6A7D00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58B97-7D6F-4D55-8B49-8875A7C7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612-DE2A-4A33-8F1E-00158B9E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6DF82-D80D-4E3D-9B50-2AD86A5E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856AF-4124-446A-9077-9AB81EEF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F2DB-DC83-439C-AF2B-34D5FA16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0F2B-5270-47D2-B122-55E8BF3A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6031E-293D-4010-BC33-58944EA2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95D2A-D895-46ED-847B-B7EA7786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95B70-4927-4E2C-A5D6-619AE225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AB207-A088-45BB-8288-CA40C4ED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CA4EC-3246-4CB6-9A07-808EF332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EF1DF-79A6-45ED-9CBD-BE1BB402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F793-AE24-424E-92FE-58E80609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845AB-F283-4B3D-9A37-AC1D915C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55B6E-7DAF-4FFD-8D0C-9876CB01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33BEA-1470-4464-A2E0-E887AA52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E29A8-B521-4485-BF48-9FE8C22B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31CDA-4830-410C-96F8-56836D37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134FF-8D26-433B-99ED-82756C56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249E4-8CB5-4B53-934A-A69D0870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E6384-8630-4D12-8D33-A0D07022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A0E19-D5ED-4FDF-A521-D9EDC361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C00A7-F6C3-4236-BA10-151597D0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FD3-1649-4E05-8142-9D82225B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65C8D-C111-4EF4-A9C8-FEFE2359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02A80-A561-4082-91F0-A46A3930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23741-4877-4CB9-8906-46AC1848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290BA-2B71-4A0B-8868-2380E5D9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14E09-9B73-49F9-8C82-86D049AD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1D8D9-EDC8-4386-A92C-6EC2478B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FEE9D-D656-4882-8571-31AA9823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279A2-FF56-44A4-A7F3-CBACBC6A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AEA41-2FA8-45E5-B20F-DD01F78D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05B50-B08A-44E5-AFDC-B89AF547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089-1692-47B8-B378-AA65BD86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0CE3F-35BA-4C7C-A13B-1064C4ED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E57-76BC-4A1E-B109-A5FD2150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721F-57FF-4F8E-92A6-9EF4215C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42C-58B6-4177-8B35-6E325CFB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C54433E-C74C-49F0-8120-2B0978125D6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206E81B-0B0B-40CE-B2F2-B4E9EECA785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D6FA6B9-1441-4D2F-A542-0FC2AA3B7AF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traight Connector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FFAC0A-E5E5-4923-A376-8D626768254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07484E-BF1C-4C45-983C-7CA523B611B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380e6"/>
                </a:solidFill>
                <a:latin typeface="Goudy Sans Medium"/>
              </a:rPr>
              <a:t>Introduction to LINQ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219320" y="4952880"/>
            <a:ext cx="6857640" cy="7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Lectur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Querying an Array of Primitive-Type Elements Using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use a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Nex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atement to iterate over the results of any LINQ quer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2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Querying an Array of Primitive-Type Elements Using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orting LINQ Query Result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INQ query in the above example selects the elements of the array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returns an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Enumer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containing a sorted copy of the element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2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ounded Rectangle 4"/>
          <p:cNvSpPr/>
          <p:nvPr/>
        </p:nvSpPr>
        <p:spPr>
          <a:xfrm>
            <a:off x="1691640" y="3069000"/>
            <a:ext cx="504036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1"/>
              </a:gs>
              <a:gs pos="50000">
                <a:srgbClr val="b1b7d7"/>
              </a:gs>
              <a:gs pos="100000">
                <a:srgbClr val="c9cde1"/>
              </a:gs>
            </a:gsLst>
            <a:lin ang="948000"/>
          </a:gradFill>
          <a:ln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Dim values() As Integer = {2,9,5,0,3,7,1,4,8,6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Dim sort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Gill Sans MT"/>
              </a:rPr>
              <a:t>From</a:t>
            </a: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  value </a:t>
            </a:r>
            <a:r>
              <a:rPr b="0" lang="en-US" sz="1800" spc="-1" strike="noStrike">
                <a:solidFill>
                  <a:schemeClr val="accent1"/>
                </a:solidFill>
                <a:latin typeface="Gill Sans MT"/>
              </a:rPr>
              <a:t>In</a:t>
            </a: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Gill Sans MT"/>
              </a:rPr>
              <a:t>Order By</a:t>
            </a: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Gill Sans MT"/>
              </a:rPr>
              <a:t>Select</a:t>
            </a: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Querying an Array of Primitive-Type Elements Using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rder By cl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rts the query resul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cending ord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sce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ifier in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 to sort query resul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cending ord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sce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ifier also exists but is rarely used, because it’s the defaul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 only for values that can be compared to one anoth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 supports values of any type that implements the interfac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Compar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uch as the primitive numeric types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ypes provide a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Querying an Array of Reference-Type Elements Using LINQ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INQ is not limited to querying arrays of primitive typ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t can be used with most data typ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251640" y="1295280"/>
            <a:ext cx="8623800" cy="4800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rcRect l="9375" t="15000" r="51242" b="30996"/>
          <a:stretch/>
        </p:blipFill>
        <p:spPr>
          <a:xfrm>
            <a:off x="1856880" y="1412640"/>
            <a:ext cx="5523120" cy="473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155160" y="1917000"/>
            <a:ext cx="9097200" cy="1923840"/>
          </a:xfrm>
          <a:prstGeom prst="rect">
            <a:avLst/>
          </a:prstGeom>
          <a:ln w="9525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10692360" cy="2517120"/>
          </a:xfrm>
          <a:prstGeom prst="rect">
            <a:avLst/>
          </a:prstGeom>
          <a:ln w="9525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2"/>
          <a:srcRect l="9375" t="15000" r="51242" b="30996"/>
          <a:stretch/>
        </p:blipFill>
        <p:spPr>
          <a:xfrm>
            <a:off x="4284000" y="2709000"/>
            <a:ext cx="4800240" cy="4114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-180360" y="764640"/>
            <a:ext cx="9324000" cy="2232000"/>
          </a:xfrm>
          <a:prstGeom prst="rect">
            <a:avLst/>
          </a:prstGeom>
          <a:ln w="9525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2"/>
          <a:srcRect l="9375" t="15000" r="51242" b="30996"/>
          <a:stretch/>
        </p:blipFill>
        <p:spPr>
          <a:xfrm>
            <a:off x="4140000" y="2599200"/>
            <a:ext cx="4968360" cy="4258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-9360" y="1124640"/>
            <a:ext cx="9281880" cy="2088000"/>
          </a:xfrm>
          <a:prstGeom prst="rect">
            <a:avLst/>
          </a:prstGeom>
          <a:ln w="9525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rcRect l="9375" t="15000" r="51242" b="30996"/>
          <a:stretch/>
        </p:blipFill>
        <p:spPr>
          <a:xfrm>
            <a:off x="4343400" y="2743200"/>
            <a:ext cx="4800240" cy="4114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arge amounts of data are often stored in a database—an organized collection of data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database management system (DBMS) provides mechanisms for storing, organizing, retrieving and modifying data contained in the database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oday’s most popular database systems are relational database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language called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Structured Query Language (SQL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an international standard used with relational databases to perform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queri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(that is, to request information that satisfies given criteria) and to manipulate data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764640"/>
            <a:ext cx="9223560" cy="2088000"/>
          </a:xfrm>
          <a:prstGeom prst="rect">
            <a:avLst/>
          </a:prstGeom>
          <a:ln w="9525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2"/>
          <a:srcRect l="9998" t="15000" r="51242" b="30996"/>
          <a:stretch/>
        </p:blipFill>
        <p:spPr>
          <a:xfrm>
            <a:off x="4356000" y="2709000"/>
            <a:ext cx="4723920" cy="4114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Querying an Array of Reference-Type Elements Using LINQ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en you type the name of an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IEnumera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bject (such as an array or the result of a LINQ query) then type the dot (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separator, the list of the methods and properties that can be used with that object are show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ome of the methods are so-called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extension method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xample, if you have an array of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Doubl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 called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number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nd you want to calculate the average of its values, you can simply call the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Averag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extension method, as in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numbers.Average(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ome of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IEnumerabl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’s 45 extension methods are shown in Fig. 11.5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1" descr="vbhtp5_11_LINQimages_Page_16.png"/>
          <p:cNvPicPr/>
          <p:nvPr/>
        </p:nvPicPr>
        <p:blipFill>
          <a:blip r:embed="rId1"/>
          <a:srcRect l="0" t="0" r="22436" b="0"/>
          <a:stretch/>
        </p:blipFill>
        <p:spPr>
          <a:xfrm>
            <a:off x="0" y="0"/>
            <a:ext cx="860400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Creating Objects of Anonymous Typ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068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0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ounded Rectangle 3"/>
          <p:cNvSpPr/>
          <p:nvPr/>
        </p:nvSpPr>
        <p:spPr>
          <a:xfrm>
            <a:off x="1547640" y="2853000"/>
            <a:ext cx="6048360" cy="13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f81bd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Dim names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alibri"/>
              </a:rPr>
              <a:t>From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  Employee </a:t>
            </a:r>
            <a:r>
              <a:rPr b="0" lang="en-US" sz="1800" spc="-1" strike="noStrike">
                <a:solidFill>
                  <a:schemeClr val="accent1"/>
                </a:solidFill>
                <a:latin typeface="Calibri"/>
              </a:rPr>
              <a:t>In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alibri"/>
              </a:rPr>
              <a:t>Select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 Employee.firstName, Employee.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Creating Objects of Anonymous Typ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46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Q query in this example selects only the FirstName and LastName from each Employee ob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select portions of matching objects by specifying the properties to select in a comma-separated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the selected instance can be accessed when iterating over the query resul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 select a portion of an object’s instance, the compiler creates a new class containing those instance—FirstName and LastName in this example—and the methods that are inherited by all classes from class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class does not have a name and cannot be used by you to create new objects—such classes are call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nonymous 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Deferred Execution and Transforming Query 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Q uses a technique call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ferred exec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a query executes only when you iterate over the results, not when the query is defi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llows you to create a query once and execute it many ti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make any changes to the data in a LINQ query’s data source, the next time you iterate over the query’s results, the query will process the current data in the data sour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© 1992-2011 by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Deferred Execution and Transforming Query 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22560" indent="-32256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 11.7 filters an array of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by searching for those that begin with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"r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 the array (lines 8–9) contains two such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in the program we modify the array then reexecute the LINQ query to demonstrate deferred exec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example also demonstrates how to transform the items that match the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—in this case, each matching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verted to uppercase in the query res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© 1992-2011 by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" descr="vbhtp5_11_LINQimages_Page_18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476760"/>
          </a:xfrm>
          <a:prstGeom prst="rect">
            <a:avLst/>
          </a:prstGeom>
          <a:ln w="9525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© 1992-2011 by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vbhtp5_11_LINQimages_Page_19.png"/>
          <p:cNvPicPr/>
          <p:nvPr/>
        </p:nvPicPr>
        <p:blipFill>
          <a:blip r:embed="rId1"/>
          <a:stretch/>
        </p:blipFill>
        <p:spPr>
          <a:xfrm>
            <a:off x="0" y="652320"/>
            <a:ext cx="9143640" cy="5551200"/>
          </a:xfrm>
          <a:prstGeom prst="rect">
            <a:avLst/>
          </a:prstGeom>
          <a:ln w="9525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© 1992-2011 by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years, programs that accessed a relational database passed SQL queries as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 to the database management system then processed the results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icrosoft developed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LINQ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Language Integrated Quer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to enable you to write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query expression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imilar to SQL queries that retrieve information from a wide variety of data sources—not just relational databases—using a common syntax that is built into Visual Basic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LINQ to Object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query the contents of arrays, selecting elements that satisfy a set of conditions—this is known a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filte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e also use LINQ to Objects to perform common array manipulations such as sorting an array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1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vbhtp5_11_LINQimages_Page_03.png"/>
          <p:cNvPicPr/>
          <p:nvPr/>
        </p:nvPicPr>
        <p:blipFill>
          <a:blip r:embed="rId1"/>
          <a:stretch/>
        </p:blipFill>
        <p:spPr>
          <a:xfrm>
            <a:off x="0" y="0"/>
            <a:ext cx="11048760" cy="6203520"/>
          </a:xfrm>
          <a:prstGeom prst="rect">
            <a:avLst/>
          </a:prstGeom>
          <a:ln w="9525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ftr" idx="1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Querying an Array of </a:t>
            </a:r>
            <a:r>
              <a:rPr b="1" lang="en-US" sz="3600" spc="-1" strike="noStrike">
                <a:solidFill>
                  <a:srgbClr val="3380e6"/>
                </a:solidFill>
                <a:latin typeface="Arial"/>
              </a:rPr>
              <a:t>Primitiv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-Type Elements Using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imitive types are the basic type of data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yte, short, int, long, float, double, boolean, char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rimitive variables store primitive valu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INQ allows you to look at collections of data, extract information and manipulate data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2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Querying an Array of Primitive-Type Elements Using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2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ounded Rectangle 4"/>
          <p:cNvSpPr/>
          <p:nvPr/>
        </p:nvSpPr>
        <p:spPr>
          <a:xfrm>
            <a:off x="1331640" y="2349000"/>
            <a:ext cx="504036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1"/>
              </a:gs>
              <a:gs pos="50000">
                <a:srgbClr val="b1b7d7"/>
              </a:gs>
              <a:gs pos="100000">
                <a:srgbClr val="c9cde1"/>
              </a:gs>
            </a:gsLst>
            <a:lin ang="948000"/>
          </a:gradFill>
          <a:ln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Dim values() As Integer = {2,9,5,0,3,7,1,4,8,6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Dim filter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Gill Sans MT"/>
              </a:rPr>
              <a:t>From</a:t>
            </a: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  value </a:t>
            </a:r>
            <a:r>
              <a:rPr b="0" lang="en-US" sz="1800" spc="-1" strike="noStrike">
                <a:solidFill>
                  <a:schemeClr val="accent1"/>
                </a:solidFill>
                <a:latin typeface="Gill Sans MT"/>
              </a:rPr>
              <a:t>In</a:t>
            </a: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Gill Sans MT"/>
              </a:rPr>
              <a:t>where</a:t>
            </a: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 (value &gt;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Gill Sans MT"/>
              </a:rPr>
              <a:t>Select</a:t>
            </a: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Querying an Array of Primitive-Type Elements Using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ur first LINQ query begins with a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From clau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which specifies a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range variabl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val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and the data source to query (the array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values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range variable represents each item in the data source, much like the control variable i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F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ach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Nex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the condition in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Where clau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evaluates to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 the element is selected—that is, it’s included in the collection of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Integ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 that represents the query resul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ere,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Integ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 in the array are included only if they’re greater th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4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2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Querying an Array of Primitive-Type Elements Using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item in the data source, the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Select clau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termines what value appears in the result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this case, it’s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Integ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hat the range variable currently represent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lause is usually placed at the end of the query for clarity, though it may be placed after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From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lause and before other clauses, or omit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omitted, the range variable is implicitly selec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lause can transform the selected items—for example,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valu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this example would have multiplied each selected value in the result by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2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  <Words>1399</Words>
  <Paragraphs>10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7:27:47Z</dcterms:created>
  <dc:creator>user</dc:creator>
  <dc:description/>
  <dc:language>en-US</dc:language>
  <cp:lastModifiedBy>Mac</cp:lastModifiedBy>
  <dcterms:modified xsi:type="dcterms:W3CDTF">2013-09-16T16:07:17Z</dcterms:modified>
  <cp:revision>23</cp:revision>
  <dc:subject/>
  <dc:title>Introduction to LINQ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8</vt:r8>
  </property>
</Properties>
</file>