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CD4B-263D-4EF4-9DEA-723BFCD7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6DE7-EECD-4E72-81D5-7C54A4E7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D2AE-0C04-4027-9D86-1C2BBE1B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6B6-ABC7-4862-BC04-218D1B1F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CA01-C4FB-4B6E-8FC6-CFCD52FC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1F8-27E7-4E05-AFBB-F61C860BF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508-E6A8-4FA5-8314-7446EF9D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638C-0720-4E7E-928F-024C3A82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72F6-941D-49FE-BD18-F975BA4E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6AA7-FCE5-417A-8535-E70508184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92E1-C61F-4293-AD81-15F296DE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5789-9577-42E3-9832-6FC3B7C6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220C-DF5B-4473-B40B-40D62ADD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3489-0B57-4800-962D-418DE0E1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43B-F356-4E27-8AAD-3C966EAA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E2B-5C68-48AA-8D71-0786DF58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392-E9B5-4A17-8052-25A59D26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475-3B9A-48A2-9FF1-1E28DAE4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92B-7D44-4D19-92BB-2B7FBF3A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AEB1-0325-41E2-B0F2-EF9C304D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65BD-53E6-49C1-8AE5-D1EAF42B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9201-E56F-45EA-93F6-73DBA0C7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D803-B12B-4AD1-B540-315031CF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9B41-D038-4743-B83C-C614E93C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522-13C4-40D8-BECC-3ACFF5B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C9B6-F5DB-4714-BD70-BF27379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A7D-C761-43CA-AAFF-774CFF1A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332F-03EA-499A-9127-D0DFE49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337C-2654-4DD4-9BE7-4C0D4AD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5B5F-FF3F-497E-AA50-FDDB8472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D017-3760-41BA-A506-62BBBCED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FFAD-4706-4AD1-ABB6-A21A5832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1B0-BA44-4195-8AB7-67D43714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4F0-9F4E-4FC6-9A0E-3025DBA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FCB-24E3-437B-A417-240A1DC8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C0B-8875-4F60-9C55-1510F6A6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899-5751-4790-8ED7-56F40E4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EC5-A620-4147-A6C0-2C3B2E7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43B-6122-43F8-B7B4-731F671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4D55-0248-4A43-9116-8ECFFB57EA78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23A-EAEE-4FF2-B82C-F26B7BCB189D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c5252"/>
                </a:solidFill>
                <a:latin typeface="Times New Roman"/>
              </a:rPr>
              <a:t>Graphics and Multimedia 2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entury Gothic"/>
              </a:rPr>
              <a:t>Lecture 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Drawing Lines, Rectangles and Oval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748240" y="601992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ipse bounded by a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1219320" y="2514600"/>
            <a:ext cx="6400800" cy="2666880"/>
            <a:chOff x="1219320" y="2514600"/>
            <a:chExt cx="6400800" cy="2666880"/>
          </a:xfrm>
        </p:grpSpPr>
        <p:sp>
          <p:nvSpPr>
            <p:cNvPr id="122" name="Rectangle 5"/>
            <p:cNvSpPr/>
            <p:nvPr/>
          </p:nvSpPr>
          <p:spPr>
            <a:xfrm>
              <a:off x="1219320" y="2514600"/>
              <a:ext cx="64008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3384720" y="2806200"/>
              <a:ext cx="2133000" cy="1867680"/>
              <a:chOff x="3384720" y="2806200"/>
              <a:chExt cx="2133000" cy="1867680"/>
            </a:xfrm>
          </p:grpSpPr>
          <p:sp>
            <p:nvSpPr>
              <p:cNvPr id="124" name="Oval 7"/>
              <p:cNvSpPr/>
              <p:nvPr/>
            </p:nvSpPr>
            <p:spPr>
              <a:xfrm>
                <a:off x="3396960" y="2825280"/>
                <a:ext cx="2094120" cy="183024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3384720" y="2806200"/>
                <a:ext cx="2133000" cy="1867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2" y="0"/>
                    </a:moveTo>
                    <a:lnTo>
                      <a:pt x="19992" y="19986"/>
                    </a:lnTo>
                    <a:lnTo>
                      <a:pt x="0" y="19986"/>
                    </a:lnTo>
                    <a:lnTo>
                      <a:pt x="0" y="0"/>
                    </a:lnTo>
                    <a:lnTo>
                      <a:pt x="1999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9"/>
            <p:cNvSpPr/>
            <p:nvPr/>
          </p:nvSpPr>
          <p:spPr>
            <a:xfrm>
              <a:off x="3352680" y="2760840"/>
              <a:ext cx="71640" cy="117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5623920" y="2806200"/>
              <a:ext cx="720" cy="184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6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3384720" y="4849560"/>
              <a:ext cx="2120040" cy="1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5699160" y="3603960"/>
              <a:ext cx="925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he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4241520" y="4901400"/>
              <a:ext cx="533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2712600" y="2618280"/>
              <a:ext cx="60516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(</a:t>
              </a: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, </a:t>
              </a: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</a:t>
              </a: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5"/>
          <p:cNvSpPr/>
          <p:nvPr/>
        </p:nvSpPr>
        <p:spPr>
          <a:xfrm>
            <a:off x="2286000" y="3330720"/>
            <a:ext cx="428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77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ig. 16.14: LinesRectanglesOvals.vb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Demonstrating lines, rectangles, and ovals.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mDrawing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 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herit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Windows.Forms.Form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6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7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Visual Studio .NET generated cod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8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9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display ovals lines, and rectangle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0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rotected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Override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OnPaint(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ByVal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intEventArgs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2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' get graphics object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 = paintEvent.Graphic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rush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(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6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en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en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en(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AliceBlue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7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8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create filled rectangl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19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FillRectangle(brush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0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1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lines to connect rectangle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2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1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1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6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6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6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7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top rectangl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8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Rectangl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1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9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0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set brush to red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brush.Color = 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Red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2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3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base Ellips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FillEllipse(brush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5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5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11280" y="476280"/>
            <a:ext cx="6400800" cy="244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6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connecting line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7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8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9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0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draw Ellipse outline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1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Ellipse(pen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2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ub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OnPaint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3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4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FrmDrawing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5" name="Picture 4" descr="LinesRectsOvals"/>
          <p:cNvPicPr/>
          <p:nvPr/>
        </p:nvPicPr>
        <p:blipFill>
          <a:blip r:embed="rId1"/>
          <a:stretch/>
        </p:blipFill>
        <p:spPr>
          <a:xfrm>
            <a:off x="1219320" y="3124080"/>
            <a:ext cx="4572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Palatino Linotype"/>
              </a:rPr>
              <a:t>Drawing a General Path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47560"/>
            <a:ext cx="8229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Century Gothic"/>
              </a:rPr>
              <a:t>General path </a:t>
            </a:r>
            <a:r>
              <a:rPr b="0" i="1" lang="en-US" sz="2200" spc="-1" strike="noStrike">
                <a:solidFill>
                  <a:srgbClr val="2f5897"/>
                </a:solidFill>
                <a:latin typeface="Century Gothic"/>
              </a:rPr>
              <a:t>is a</a:t>
            </a:r>
            <a:r>
              <a:rPr b="0" lang="en-US" sz="2200" spc="-1" strike="noStrike">
                <a:solidFill>
                  <a:srgbClr val="2f5897"/>
                </a:solidFill>
                <a:latin typeface="Century Gothic"/>
              </a:rPr>
              <a:t> shape constructed from straight lines and complex curves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Century Gothic"/>
              </a:rPr>
              <a:t>TranslateTransform</a:t>
            </a:r>
            <a:r>
              <a:rPr b="1" i="1" lang="en-US" sz="22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2f5897"/>
                </a:solidFill>
                <a:latin typeface="Century Gothic"/>
              </a:rPr>
              <a:t>is a graphics method to indicate that the origin of an object should be translated to the coordinates (X,Y)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Century Gothic"/>
              </a:rPr>
              <a:t>RotateTransform</a:t>
            </a:r>
            <a:r>
              <a:rPr b="0" lang="en-US" sz="2200" spc="-1" strike="noStrike">
                <a:solidFill>
                  <a:srgbClr val="2f5897"/>
                </a:solidFill>
                <a:latin typeface="Century Gothic"/>
              </a:rPr>
              <a:t> is a graphics method to move an object to the next position with a particular rotation angle in degree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Century Gothic"/>
              </a:rPr>
              <a:t>How to use…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408680" y="5589720"/>
            <a:ext cx="5385240" cy="1008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graphicsObject </a:t>
            </a:r>
            <a:r>
              <a:rPr b="0" sz="2000" spc="-1" strike="noStrike">
                <a:solidFill>
                  <a:srgbClr val="000099"/>
                </a:solidFill>
                <a:latin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Graphics = e.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graphicsObject.TranslateTransfor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graphicsObject.RotateTransfor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5897"/>
                </a:solidFill>
                <a:latin typeface="Courier New"/>
              </a:rPr>
              <a:t>DrawStars.vb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693432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ig. 16.22: DrawStars.vb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Using paths to draw stars on a form.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mport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Drawing.Drawing2D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6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mDrawStar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7 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herit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Windows.Forms.Form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8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9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Visual Studio .NET generated cod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0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create path and draw stars along it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2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rotected Overrides Sub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OnPaint(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ByVal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e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Args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Object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 = e.Graphic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teger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5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   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random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Random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Random(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6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rush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 =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7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(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DarkMagenta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8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9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x and y points of path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0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xPoints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teger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) =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{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67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9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3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83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7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7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3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}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2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yPoints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teger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) =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{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4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2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4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}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4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create graphics path for star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6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tar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Path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Path(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7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8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translate origin to (150, 150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9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TranslateTransform(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0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create star from series of point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2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 =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8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tep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 2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star.AddLine(xPoints(i), yPoints(i),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   xPoints(i +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yPoints(i +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xt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3357720"/>
            <a:ext cx="280836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tw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rays, representing the x- and y-coordinates of the points in the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H="1">
            <a:off x="298728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400800" cy="39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6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7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close shape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38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ar.CloseFigure(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9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0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' rotate origin and draw stars in random colors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41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 = 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8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42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graphicsObject.RotateTransform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3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4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brush.Color = Color.FromArgb(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_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5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   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6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47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graphicsObject.FillPath(brush, star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8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xt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9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0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 Sub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OnPaint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1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2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rmDrawStars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3" descr="DrawStars"/>
          <p:cNvPicPr/>
          <p:nvPr/>
        </p:nvPicPr>
        <p:blipFill>
          <a:blip r:embed="rId1"/>
          <a:stretch/>
        </p:blipFill>
        <p:spPr>
          <a:xfrm>
            <a:off x="1754280" y="3657600"/>
            <a:ext cx="2970000" cy="2970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700360" y="189000"/>
            <a:ext cx="6248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Fig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mplete the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H="1">
            <a:off x="1908000" y="26028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148360" y="1125360"/>
            <a:ext cx="274320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times, rotating it around the 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 flipH="1" flipV="1">
            <a:off x="2124000" y="1267920"/>
            <a:ext cx="2952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952880" y="1844640"/>
            <a:ext cx="419112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tateTrans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ove to the next position on the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 flipV="1">
            <a:off x="3347640" y="14839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495680" y="2924280"/>
            <a:ext cx="464832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aws a filled version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us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d ear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 flipV="1">
            <a:off x="3276360" y="2565360"/>
            <a:ext cx="1150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OUTLIN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Font Contro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Drawing Lines, Rectangles and Oval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Drawing a General Path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Font Control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Font</a:t>
            </a: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fter a </a:t>
            </a:r>
            <a:r>
              <a:rPr b="1" lang="en-US" sz="2000" spc="-1" strike="noStrike">
                <a:solidFill>
                  <a:srgbClr val="2f5897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is created, its properties cannot be modified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Programmers must create a new </a:t>
            </a:r>
            <a:r>
              <a:rPr b="1" lang="en-US" sz="2000" spc="-1" strike="noStrike">
                <a:solidFill>
                  <a:srgbClr val="2f5897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object to be differen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Font</a:t>
            </a: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 construct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Must require a </a:t>
            </a:r>
            <a:r>
              <a:rPr b="0" i="1" lang="en-US" sz="2000" spc="-1" strike="noStrike">
                <a:solidFill>
                  <a:srgbClr val="2f5897"/>
                </a:solidFill>
                <a:latin typeface="Century Gothic"/>
              </a:rPr>
              <a:t>font nam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s an argumen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hey usually require the </a:t>
            </a:r>
            <a:r>
              <a:rPr b="0" i="1" lang="en-US" sz="2000" spc="-1" strike="noStrike">
                <a:solidFill>
                  <a:srgbClr val="2f5897"/>
                </a:solidFill>
                <a:latin typeface="Century Gothic"/>
              </a:rPr>
              <a:t>font siz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s an argumen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nd usually require the </a:t>
            </a:r>
            <a:r>
              <a:rPr b="0" i="1" lang="en-US" sz="2000" spc="-1" strike="noStrike">
                <a:solidFill>
                  <a:srgbClr val="2f5897"/>
                </a:solidFill>
                <a:latin typeface="Century Gothic"/>
              </a:rPr>
              <a:t>font styl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which is a member of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he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FontStyl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enumeration: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Bold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Italic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Regular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Strikeou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Underline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Graphics 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method </a:t>
            </a:r>
            <a:r>
              <a:rPr b="1" i="1" lang="en-US" sz="2400" spc="-1" strike="noStrike">
                <a:solidFill>
                  <a:srgbClr val="2f5897"/>
                </a:solidFill>
                <a:latin typeface="Century Gothic"/>
              </a:rPr>
              <a:t>DrawString 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ets the current drawing font—the font in which the text displays—to its </a:t>
            </a: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Font 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argumen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Font Control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Century Gothic"/>
              </a:rPr>
              <a:t>DrawString</a:t>
            </a:r>
            <a:r>
              <a:rPr b="1" i="1" lang="en-US" sz="24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constructors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akes a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String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o display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he display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Fon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Brush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nd the x- and y-coordinates of the location for the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String</a:t>
            </a:r>
            <a:r>
              <a:rPr b="0" lang="ja-JP" sz="2000" spc="-1" strike="noStrike">
                <a:solidFill>
                  <a:srgbClr val="2f5897"/>
                </a:solidFill>
                <a:latin typeface="Century Gothic"/>
                <a:ea typeface="HGS明朝E"/>
              </a:rPr>
              <a:t>’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s first character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Font Control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324000" y="981000"/>
          <a:ext cx="7051680" cy="45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705168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4"/>
          <p:cNvSpPr/>
          <p:nvPr/>
        </p:nvSpPr>
        <p:spPr>
          <a:xfrm>
            <a:off x="324000" y="5045040"/>
            <a:ext cx="4572000" cy="1797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raphicsUni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rgument—an enum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at allows users to specify the unit of measurement employed to describe the 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ize. Members of th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raphicsUni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numeration includ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Poin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(1/72 inch)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(1/75 inch)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Documen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(1/300 inch)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Millimeter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Inc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Pixel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1763640" y="3068640"/>
            <a:ext cx="0" cy="1944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930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ig. 16.9: UsingFonts.vb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Demonstrating various font settings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 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mFont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 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herit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Windows.Forms.Form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6    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9 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demonstrate various font and style setting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0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Protected Overrides Sub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OnPaint(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Args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2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3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Object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 = paintEvent.Graphic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14</a:t>
            </a: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rush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(Color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DarkBlue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5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6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arial, 12 pt bold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17</a:t>
            </a: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tyle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Style =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Bold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8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rial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Family(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Arial"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0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1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times new roman, 12 pt regular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2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yle =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Regular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3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timesNewRoman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Times New Roman"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5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6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' courier new, 16 pt bold and italic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7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yle =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Bold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Italic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8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courierNew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Courier New"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0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904000" y="620640"/>
            <a:ext cx="3240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rk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idBrus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us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causing all strings drawn with that brush to appear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rk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5508360" y="1700280"/>
            <a:ext cx="16556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956720" cy="566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1   </a:t>
            </a:r>
            <a:r>
              <a:rPr b="0" lang="en-US" sz="16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tahoma, 18 pt strikeou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2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yle = FontStyle.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Strikeou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3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tahoma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Tahoma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4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5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arial.Name &amp;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2 point bold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arial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7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8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timesNewRoman.Name &amp; _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9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2 point plain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timesNewRoman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0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1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courierNew.Name &amp; _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2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6 point bold and italic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courierNew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4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3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4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tahoma.Name &amp; _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5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8 point strikeout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tahoma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5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6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OnPain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7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8  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 Class </a:t>
            </a:r>
            <a:r>
              <a:rPr b="0" lang="en-US" sz="16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rmFont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3" descr="UsingFonts"/>
          <p:cNvPicPr/>
          <p:nvPr/>
        </p:nvPicPr>
        <p:blipFill>
          <a:blip r:embed="rId1"/>
          <a:stretch/>
        </p:blipFill>
        <p:spPr>
          <a:xfrm>
            <a:off x="2698920" y="4221000"/>
            <a:ext cx="644508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Palatino Linotype"/>
              </a:rPr>
              <a:t>Drawing Lines, Rectangles and Ovals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Drawing shape outlin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Versions that take a </a:t>
            </a: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Pen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 and four </a:t>
            </a:r>
            <a:r>
              <a:rPr b="1" lang="en-US" sz="2400" spc="-1" strike="noStrike">
                <a:solidFill>
                  <a:srgbClr val="2f5897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 are used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Drawing solid shap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Versions that take a </a:t>
            </a: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Brush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 and four </a:t>
            </a:r>
            <a:r>
              <a:rPr b="1" lang="en-US" sz="2400" spc="-1" strike="noStrike">
                <a:solidFill>
                  <a:srgbClr val="2f5897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 argument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First two represent the </a:t>
            </a: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coordinates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 of the upper-left corner of the shape or its enclosing are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Last two indicate the shape</a:t>
            </a:r>
            <a:r>
              <a:rPr b="0" lang="ja-JP" sz="2400" spc="-1" strike="noStrike">
                <a:solidFill>
                  <a:srgbClr val="2f5897"/>
                </a:solidFill>
                <a:latin typeface="Century Gothic"/>
                <a:ea typeface="HGS明朝E"/>
              </a:rPr>
              <a:t>’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 </a:t>
            </a: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width and heigh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5252"/>
                </a:solidFill>
                <a:latin typeface="Palatino Linotype"/>
              </a:rPr>
              <a:t>Drawing Lines, Rectangles and Ovals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79280" y="1738440"/>
          <a:ext cx="8713800" cy="51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8440"/>
                    <a:ext cx="871380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19:27Z</dcterms:created>
  <dc:creator>Reham O. J.</dc:creator>
  <dc:description/>
  <dc:language>en-US</dc:language>
  <cp:lastModifiedBy>Aseel</cp:lastModifiedBy>
  <dcterms:modified xsi:type="dcterms:W3CDTF">2013-11-11T20:22:25Z</dcterms:modified>
  <cp:revision>51</cp:revision>
  <dc:subject/>
  <dc:title>Slide 1</dc:title>
</cp:coreProperties>
</file>