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5580-C0C0-4E63-BAD4-6843A5D046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A9C5-88CE-4E27-A3AE-F79791E80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1E0B-BEB6-4B78-B0D1-15D4C2B48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1002-A883-4DBD-9025-86DE2D978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06D2-73FB-4E1B-84D4-1A8FEA1C1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F3BB-383D-412A-B3A9-0ADC4568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C8EE-B8F0-447C-8EB2-07E1B9A9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9746-F37F-4E68-AE2E-80D09648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275D-04B0-4BD9-8A4B-817E70F7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7726-69D7-449B-9048-BDD29D6C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FACF-4518-445B-8062-B08BCA8A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1F93-B97A-492E-A1A2-53D0B511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244E-CC56-469A-95A5-18D27A07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967F-D906-4258-8919-D3CACF90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5C49-7759-42D9-B07C-0B6D3A96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A2AE-5EBA-46EC-A161-1589F322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D535-5CF4-4697-880F-4B351F27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5EA2-6778-40F6-A67F-6082BEE8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3540-2D2C-4CEA-95F8-6C1108D4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FDA5-1646-49E7-9F8B-1DA2B7FB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533C-16EC-4727-BD31-88E7EB7B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59D1-0348-44E3-94DC-DEFB1175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3C2F-E7AC-4C1F-B072-5A9B4B5A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99E-A01A-4325-88BF-7A38465E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6EA-DEA2-454F-8168-E464001D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6B35-42AC-47D1-B19A-A6E925C8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15F-F7C1-4299-B5B8-CC8766B5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67E6-64C7-4EE4-9D9E-FA590F1F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C07C-87B0-495C-A317-98C772BC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CAB1-B828-4036-BB3F-C3E2D2D8A6C5}" type="slidenum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BC9F-C523-481F-9A0D-3F1A89E38A26}" type="slidenum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c5252"/>
                </a:solidFill>
                <a:latin typeface="Times New Roman"/>
              </a:rPr>
              <a:t>Graphics and Multimedia</a:t>
            </a:r>
            <a:endParaRPr b="0" lang="en-US" sz="8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c5252"/>
                </a:solidFill>
                <a:latin typeface="Times New Roman"/>
              </a:rPr>
              <a:t>Lecture 9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c5252"/>
                </a:solidFill>
                <a:latin typeface="Palatino Linotype"/>
              </a:rPr>
              <a:t>Outlin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Drawing Polygons and Polylin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Advanced Graphics Capabiliti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c5252"/>
                </a:solidFill>
                <a:latin typeface="Palatino Linotype"/>
              </a:rPr>
              <a:t>Drawing Polygons and Polylines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Gothic"/>
              </a:rPr>
              <a:t>Polygon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5897"/>
                </a:solidFill>
                <a:latin typeface="Century Gothic"/>
              </a:rPr>
              <a:t>Multisided shapes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897"/>
                </a:solidFill>
                <a:latin typeface="Courier New"/>
              </a:rPr>
              <a:t>Graphics</a:t>
            </a:r>
            <a:r>
              <a:rPr b="0" lang="en-US" sz="1600" spc="-1" strike="noStrike">
                <a:solidFill>
                  <a:srgbClr val="2f5897"/>
                </a:solidFill>
                <a:latin typeface="Century Gothic"/>
              </a:rPr>
              <a:t> methods used to draw polygons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2f589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897"/>
                </a:solidFill>
                <a:latin typeface="Courier New"/>
              </a:rPr>
              <a:t>DrawLines</a:t>
            </a:r>
            <a:r>
              <a:rPr b="0" lang="en-US" sz="1600" spc="-1" strike="noStrike">
                <a:solidFill>
                  <a:srgbClr val="2f5897"/>
                </a:solidFill>
                <a:latin typeface="Century Gothic"/>
              </a:rPr>
              <a:t>, </a:t>
            </a:r>
            <a:r>
              <a:rPr b="1" lang="en-US" sz="1600" spc="-1" strike="noStrike">
                <a:solidFill>
                  <a:srgbClr val="2f5897"/>
                </a:solidFill>
                <a:latin typeface="Courier New"/>
              </a:rPr>
              <a:t>DrawPolygon</a:t>
            </a:r>
            <a:r>
              <a:rPr b="0" lang="en-US" sz="1600" spc="-1" strike="noStrike">
                <a:solidFill>
                  <a:srgbClr val="2f5897"/>
                </a:solidFill>
                <a:latin typeface="Century Gothic"/>
              </a:rPr>
              <a:t>, and </a:t>
            </a:r>
            <a:r>
              <a:rPr b="1" lang="en-US" sz="1600" spc="-1" strike="noStrike">
                <a:solidFill>
                  <a:srgbClr val="2f5897"/>
                </a:solidFill>
                <a:latin typeface="Courier New"/>
              </a:rPr>
              <a:t>FillPolygon</a:t>
            </a:r>
            <a:r>
              <a:rPr b="0" lang="en-US" sz="1600" spc="-1" strike="noStrike">
                <a:solidFill>
                  <a:srgbClr val="2f5897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c5252"/>
                </a:solidFill>
                <a:latin typeface="Palatino Linotype"/>
              </a:rPr>
              <a:t>Drawing Polygons and Polylines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684360" y="2060640"/>
          <a:ext cx="7548480" cy="503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60640"/>
                    <a:ext cx="754848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Drawing a Triangle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Override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Sub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OnPaint(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ByVal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e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2b91af"/>
                </a:solidFill>
                <a:latin typeface="Consolas"/>
              </a:rPr>
              <a:t>PaintEventArg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Consolas"/>
              </a:rPr>
              <a:t>Dim</a:t>
            </a:r>
            <a:r>
              <a:rPr b="0" lang="fr-FR" sz="2000" spc="-1" strike="noStrike">
                <a:solidFill>
                  <a:srgbClr val="000000"/>
                </a:solidFill>
                <a:latin typeface="Consolas"/>
              </a:rPr>
              <a:t> myGraphics </a:t>
            </a:r>
            <a:r>
              <a:rPr b="0" lang="fr-FR" sz="2000" spc="-1" strike="noStrike">
                <a:solidFill>
                  <a:srgbClr val="0000ff"/>
                </a:solidFill>
                <a:latin typeface="Consolas"/>
              </a:rPr>
              <a:t>As</a:t>
            </a:r>
            <a:r>
              <a:rPr b="0" lang="fr-FR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fr-FR" sz="2000" spc="-1" strike="noStrike">
                <a:solidFill>
                  <a:srgbClr val="2b91af"/>
                </a:solidFill>
                <a:latin typeface="Consolas"/>
              </a:rPr>
              <a:t>Graphics</a:t>
            </a:r>
            <a:r>
              <a:rPr b="0" lang="fr-FR" sz="2000" spc="-1" strike="noStrike">
                <a:solidFill>
                  <a:srgbClr val="000000"/>
                </a:solidFill>
                <a:latin typeface="Consolas"/>
              </a:rPr>
              <a:t> = e.Graphics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Dim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myPen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2b91af"/>
                </a:solidFill>
                <a:latin typeface="Consolas"/>
              </a:rPr>
              <a:t>Pen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Dim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A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2b91af"/>
                </a:solidFill>
                <a:latin typeface="Consolas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(10, 10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Dim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B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2b91af"/>
                </a:solidFill>
                <a:latin typeface="Consolas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(100, 50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Dim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C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2b91af"/>
                </a:solidFill>
                <a:latin typeface="Consolas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(60, 150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Dim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myPoints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2b91af"/>
                </a:solidFill>
                <a:latin typeface="Consolas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() = {A, B, C}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myPen =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2b91af"/>
                </a:solidFill>
                <a:latin typeface="Consolas"/>
              </a:rPr>
              <a:t>Pen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(Drawing.</a:t>
            </a:r>
            <a:r>
              <a:rPr b="0" lang="en-US" sz="2000" spc="-1" strike="noStrike">
                <a:solidFill>
                  <a:srgbClr val="2b91af"/>
                </a:solidFill>
                <a:latin typeface="Consolas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.Blue, 5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myGraphics.DrawPolygon(myPen, myPoints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Sub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2B94-B5AF-46CC-8CB8-903024D7E6AC}" type="slidenum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c5252"/>
                </a:solidFill>
                <a:latin typeface="Palatino Linotype"/>
              </a:rPr>
              <a:t>Advanced Graphics Capabilities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Visual Basic offers many additional graphics capabiliti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Exampl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5897"/>
                </a:solidFill>
                <a:latin typeface="Century Gothic"/>
              </a:rPr>
              <a:t>Brush hierarchy also includes: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2f589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5897"/>
                </a:solidFill>
                <a:latin typeface="Century Gothic"/>
              </a:rPr>
              <a:t>HatchBrush, LinearGradientBrush, PathGradientBrush and TextureBrush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2f589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5897"/>
                </a:solidFill>
                <a:latin typeface="Century Gothic"/>
              </a:rPr>
              <a:t>Additional graphics features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2f589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5897"/>
                </a:solidFill>
                <a:latin typeface="Century Gothic"/>
              </a:rPr>
              <a:t>Dashed lines, thick lines, filling shapes with patterns, etc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c5252"/>
                </a:solidFill>
                <a:latin typeface="Palatino Linotype"/>
              </a:rPr>
              <a:t>Advanced Graphics Capabilities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5280"/>
            <a:ext cx="8229600" cy="25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entury Gothic"/>
              </a:rPr>
              <a:t>Bitmap Clas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Produce images in color and gray scale with a particular width and height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5897"/>
                </a:solidFill>
                <a:latin typeface="Century Gothic"/>
              </a:rPr>
              <a:t>Used to work with images defined by pixel data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Gothic"/>
              </a:rPr>
              <a:t>How to use…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26920" y="4005360"/>
            <a:ext cx="7620120" cy="2228400"/>
          </a:xfrm>
          <a:prstGeom prst="rect">
            <a:avLst/>
          </a:prstGeom>
          <a:noFill/>
          <a:ln w="2844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99"/>
                </a:solidFill>
                <a:latin typeface="Arial"/>
                <a:ea typeface="Arial"/>
              </a:rPr>
              <a:t>Dim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 graphicsObject </a:t>
            </a:r>
            <a:r>
              <a:rPr b="0" sz="2000" spc="-1" strike="noStrike">
                <a:solidFill>
                  <a:srgbClr val="000099"/>
                </a:solidFill>
                <a:latin typeface="Arial"/>
                <a:ea typeface="Arial"/>
              </a:rPr>
              <a:t>As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 Graphics = e.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99"/>
                </a:solidFill>
                <a:latin typeface="Arial"/>
                <a:ea typeface="Arial"/>
              </a:rPr>
              <a:t>Dim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 Bit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sz="2000" spc="-1" strike="noStrike">
                <a:solidFill>
                  <a:srgbClr val="000099"/>
                </a:solidFill>
                <a:latin typeface="Arial"/>
                <a:ea typeface="Arial"/>
              </a:rPr>
              <a:t>As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 Bitmap = New Bitmap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dth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ight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99"/>
                </a:solidFill>
                <a:latin typeface="Arial"/>
                <a:ea typeface="Arial"/>
              </a:rPr>
              <a:t>Dim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 Bru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sz="2000" spc="-1" strike="noStrike">
                <a:solidFill>
                  <a:srgbClr val="000099"/>
                </a:solidFill>
                <a:latin typeface="Arial"/>
                <a:ea typeface="Arial"/>
              </a:rPr>
              <a:t>As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 TextureBrush = </a:t>
            </a:r>
            <a:r>
              <a:rPr b="0" sz="2000" spc="-1" strike="noStrike">
                <a:solidFill>
                  <a:srgbClr val="000099"/>
                </a:solidFill>
                <a:latin typeface="Arial"/>
                <a:ea typeface="Arial"/>
              </a:rPr>
              <a:t>New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 TextureBrush(Bit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graphicsObject.FillRectangle(Bru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dth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ight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Texture Brush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24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Dim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pts()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2b91af"/>
                </a:solidFill>
                <a:latin typeface="Consolas"/>
              </a:rPr>
              <a:t>Po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= { _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2b91af"/>
                </a:solidFill>
                <a:latin typeface="Consolas"/>
              </a:rPr>
              <a:t>Po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(20, 5), _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2b91af"/>
                </a:solidFill>
                <a:latin typeface="Consolas"/>
              </a:rPr>
              <a:t>Po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(100, 30), _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2b91af"/>
                </a:solidFill>
                <a:latin typeface="Consolas"/>
              </a:rPr>
              <a:t>Po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(80, 100), _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2b91af"/>
                </a:solidFill>
                <a:latin typeface="Consolas"/>
              </a:rPr>
              <a:t>Po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(120, 120), _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2b91af"/>
                </a:solidFill>
                <a:latin typeface="Consolas"/>
              </a:rPr>
              <a:t>Po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(60, 140), _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2b91af"/>
                </a:solidFill>
                <a:latin typeface="Consolas"/>
              </a:rPr>
              <a:t>Po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(5, 60) _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8000"/>
                </a:solidFill>
                <a:latin typeface="Consolas"/>
              </a:rPr>
              <a:t>' Fill a polygon with a textured brush.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e.Graphics.FillPolygon(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Drawing.</a:t>
            </a:r>
            <a:r>
              <a:rPr b="0" lang="en-US" sz="1400" spc="-1" strike="noStrike">
                <a:solidFill>
                  <a:srgbClr val="2b91af"/>
                </a:solidFill>
                <a:latin typeface="Consolas"/>
              </a:rPr>
              <a:t>TextureBrush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(picFace.Image), pts)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8000"/>
                </a:solidFill>
                <a:latin typeface="Consolas"/>
              </a:rPr>
              <a:t>' Make a pen.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Dim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a_pen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2b91af"/>
                </a:solidFill>
                <a:latin typeface="Consolas"/>
              </a:rPr>
              <a:t>Pen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(</a:t>
            </a:r>
            <a:r>
              <a:rPr b="0" lang="en-US" sz="1400" spc="-1" strike="noStrike">
                <a:solidFill>
                  <a:srgbClr val="2b91af"/>
                </a:solidFill>
                <a:latin typeface="Consolas"/>
              </a:rPr>
              <a:t>Color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.Tomato, 3)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a_pen.DashStyle = Drawing.Drawing2D.</a:t>
            </a:r>
            <a:r>
              <a:rPr b="0" lang="en-US" sz="1400" spc="-1" strike="noStrike">
                <a:solidFill>
                  <a:srgbClr val="2b91af"/>
                </a:solidFill>
                <a:latin typeface="Consolas"/>
              </a:rPr>
              <a:t>DashStyle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.Dash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8000"/>
                </a:solidFill>
                <a:latin typeface="Consolas"/>
              </a:rPr>
              <a:t>' Outline the polygon.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e.Graphics.DrawPolygon(a_pen, pts)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112A-5B0A-4CC4-89FC-B45162E63341}" type="slidenum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9" name="Content Placeholder 5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3733560" cy="3380040"/>
          </a:xfrm>
          <a:prstGeom prst="rect">
            <a:avLst/>
          </a:prstGeom>
          <a:ln w="0">
            <a:noFill/>
          </a:ln>
        </p:spPr>
      </p:pic>
      <p:sp>
        <p:nvSpPr>
          <p:cNvPr id="120" name="Footer Placeholder 3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18FA-5A49-4D31-9480-FD7C505BBC2D}" type="slidenum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3:38:12Z</dcterms:created>
  <dc:creator>Reham O. J.</dc:creator>
  <dc:description/>
  <dc:language>en-US</dc:language>
  <cp:lastModifiedBy>Aseel</cp:lastModifiedBy>
  <dcterms:modified xsi:type="dcterms:W3CDTF">2013-11-16T18:35:47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