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EDA8-E7C6-4AB4-B47B-7B243E7355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FC35-FD81-46CE-ACEB-B2FD8AE4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02D8-FB60-4C84-9A75-E35DAFB9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4B30-6B97-486F-BC64-57B537A7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A4BC-CC17-4482-8289-FED42C5DA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5E7-6848-4752-8061-18414BE6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171-23A4-4366-AA4C-A5DF239A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D91-6910-42E9-BF02-1DB6904F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7AB-EAA8-40F7-9254-653E4FBE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0199-A6CF-4C0F-A94A-9AC3EEAC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B279-588D-4996-AF1A-0EE24896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791-68A7-48A4-82C7-F47FD5A0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39B4-A3AE-4D7D-95E6-B677C77D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9A1-DDFF-420A-A0CD-FD29F422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113D-CED1-471D-ABB1-4A198FCB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2053-0FC9-409C-B615-D3396583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698-7D67-495A-B9D2-4519EDF7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A8BD-C069-46D3-BA5E-D9CA93F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56FC-99A5-4BD7-A984-AA957210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83B6-85EB-4C3B-8A0A-E4BE3148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D04-29CD-45D9-9CB1-F3819BEB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0FAE-4662-44B5-AA22-D1C71380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256-B02B-4829-8BB2-F177C7A9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536-87D0-404A-B15F-5496391A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6E4-B764-49ED-9EE6-C3077FEB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7B1-B24F-441B-85E7-75AB42A8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C2F-CE9A-4B87-A2D8-854C84B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E5C-6C10-438C-9C07-2F8A0DB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B1F-456A-43C6-999D-08CAF84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ED1-7EB3-4EF0-A391-FCC88082243B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F88D-8AF8-4736-8406-E49477911C94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c5252"/>
                </a:solidFill>
                <a:latin typeface="Times New Roman"/>
              </a:rPr>
              <a:t>Graphics and Multimedia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5252"/>
                </a:solidFill>
                <a:latin typeface="Times New Roman"/>
              </a:rPr>
              <a:t>Lecture 9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5252"/>
                </a:solidFill>
                <a:latin typeface="Palatino Linotype"/>
              </a:rPr>
              <a:t>Outlin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Drawing Polygons and Polylin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Advanced Graphics Capabilit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5252"/>
                </a:solidFill>
                <a:latin typeface="Palatino Linotype"/>
              </a:rPr>
              <a:t>Drawing Polygons and Polylin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Polygon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Multisided shapes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897"/>
                </a:solidFill>
                <a:latin typeface="Courier New"/>
              </a:rPr>
              <a:t>Graphics</a:t>
            </a: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 methods used to draw polygons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2f589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897"/>
                </a:solidFill>
                <a:latin typeface="Courier New"/>
              </a:rPr>
              <a:t>DrawLines</a:t>
            </a: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lang="en-US" sz="1600" spc="-1" strike="noStrike">
                <a:solidFill>
                  <a:srgbClr val="2f5897"/>
                </a:solidFill>
                <a:latin typeface="Courier New"/>
              </a:rPr>
              <a:t>DrawPolygon</a:t>
            </a: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, and </a:t>
            </a:r>
            <a:r>
              <a:rPr b="1" lang="en-US" sz="1600" spc="-1" strike="noStrike">
                <a:solidFill>
                  <a:srgbClr val="2f5897"/>
                </a:solidFill>
                <a:latin typeface="Courier New"/>
              </a:rPr>
              <a:t>FillPolygon</a:t>
            </a: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5252"/>
                </a:solidFill>
                <a:latin typeface="Palatino Linotype"/>
              </a:rPr>
              <a:t>Drawing Polygons and Polylin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84360" y="2060640"/>
          <a:ext cx="7548480" cy="503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54848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Drawing a Triangle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Override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OnPaint(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ByV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e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aintEventArg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fr-FR" sz="2000" spc="-1" strike="noStrike">
                <a:solidFill>
                  <a:srgbClr val="000000"/>
                </a:solidFill>
                <a:latin typeface="Consolas"/>
              </a:rPr>
              <a:t> myGraphics </a:t>
            </a:r>
            <a:r>
              <a:rPr b="0" lang="fr-FR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fr-FR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fr-FR" sz="2000" spc="-1" strike="noStrike">
                <a:solidFill>
                  <a:srgbClr val="2b91af"/>
                </a:solidFill>
                <a:latin typeface="Consolas"/>
              </a:rPr>
              <a:t>Graphics</a:t>
            </a:r>
            <a:r>
              <a:rPr b="0" lang="fr-FR" sz="2000" spc="-1" strike="noStrike">
                <a:solidFill>
                  <a:srgbClr val="000000"/>
                </a:solidFill>
                <a:latin typeface="Consolas"/>
              </a:rPr>
              <a:t> = e.Graphic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yPen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e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A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10, 10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100, 50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C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60, 150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yPoints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) = {A, B, C}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myPen =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en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Drawing.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.Blue, 5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myGraphics.DrawPolygon(myPen, myPoints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ub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8623-92CC-4ECD-91CD-4B4FEA95F6B4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Advanced Graphics Capabiliti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Visual Basic offers many additional graphics capabilit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Exampl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Brush hierarchy also includes: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2f589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HatchBrush, LinearGradientBrush, PathGradientBrush and TextureBrush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Additional graphics features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2f589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Dashed lines, thick lines, filling shapes with patterns, etc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5252"/>
                </a:solidFill>
                <a:latin typeface="Palatino Linotype"/>
              </a:rPr>
              <a:t>Advanced Graphics Capabilities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528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entury Gothic"/>
              </a:rPr>
              <a:t>Bitmap Clas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Produce images in color and gray scale with a particular width and height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Used to work with images defined by pixel dat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How to use…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26920" y="4005360"/>
            <a:ext cx="7620120" cy="2228400"/>
          </a:xfrm>
          <a:prstGeom prst="rect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Dim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graphicsObject </a:t>
            </a: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As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Graphics = e.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Dim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Bit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As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Bitmap = New Bitmap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ight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Dim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Br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As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TextureBrush = </a:t>
            </a: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New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TextureBrush(Bit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graphicsObject.FillRectangle(Br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ight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Texture Brush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pts()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= {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20, 5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100, 30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80, 100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120, 120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60, 140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5, 60)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' Fill a polygon with a textured brush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e.Graphics.FillPolygon(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rawing.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TextureBrush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picFace.Image), pts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' Make a pen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a_pen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e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Color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.Tomato, 3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a_pen.DashStyle = Drawing.Drawing2D.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DashStyle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.Dash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' Outline the polygon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e.Graphics.DrawPolygon(a_pen, pts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544E-1D54-48EC-B928-5C09888CD347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733560" cy="338004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60B5-8C9B-4CFE-8CE1-7AE31E4B32FA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3:38:12Z</dcterms:created>
  <dc:creator>Reham O. J.</dc:creator>
  <dc:description/>
  <dc:language>en-US</dc:language>
  <cp:lastModifiedBy>Aseel</cp:lastModifiedBy>
  <dcterms:modified xsi:type="dcterms:W3CDTF">2013-11-16T18:35:47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