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D2D-0A5C-4770-B20E-AD3C74F5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564-92F1-4534-8719-02ED5ED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69A-7396-43A9-A180-8B4AD982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1A5-3B53-4028-83A3-CB4C1064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4EA0-34EE-415C-9F16-D8580463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367-4754-423A-9946-F6D134D8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ECF-97BE-4D77-975A-269E74AC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14E-743C-4FBA-9975-8395973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8E36-DE24-419B-B0AA-A2CE7B78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0D0-C848-4D1F-92FE-C6E2BF2D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D5D-86F6-4823-963E-A4D8179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5DA-6311-4E63-BC0D-B8E67F1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0CEE-8B9B-446E-8BE9-279415D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194-468D-42E5-B0E8-D1E38CD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AF3E-02AA-4359-9909-F01FEB8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7D52-7EA1-4988-83A9-C5D94D13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78E3-BE92-4FDC-9505-3DA05DDD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7ED3-216E-419D-B3BA-202F957D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9204-935D-4E85-8CCA-C217C99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9CBA-4FAD-4F2A-A378-4032622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AE5B-42A4-47BB-AD0C-CBDF19A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30F8-90BE-4A51-BDB1-72C907C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615-9D4D-4007-8030-8ED10712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DC88-5FA6-4A42-B9FE-4D1F5E5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F222-6FFF-4779-8CE8-D72F596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EAD0-0975-4C69-8E89-071B9AD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CDE4-943B-498E-A6EB-CB324E3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BAB7-CF99-4921-9A77-DB4C0AA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EFFA-E7B6-43B7-8C1B-9D9FFCC8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1C50-7FE3-414E-8E07-0CDC19B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D45-EE7A-431B-B7DF-41C7151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899-E6BB-4CA1-97B2-5BC24C5F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ACD-5AF6-42A4-A51F-5C67A727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BBE-5330-495B-A0C3-25770ED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46E-E265-41D3-801A-4D6DC64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FEE-6382-4999-A97B-2432B0C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2245BDE-998D-4D0D-9916-D36193B03AF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1DAA3B-8D99-45C5-9D8F-4E092E10650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500BE8-190B-480B-9B98-61239B813DF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INQ to DATABASE-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vbhtp5_12_Databaseimages_Page_35.png"/>
          <p:cNvPicPr/>
          <p:nvPr/>
        </p:nvPicPr>
        <p:blipFill>
          <a:blip r:embed="rId1"/>
          <a:stretch/>
        </p:blipFill>
        <p:spPr>
          <a:xfrm>
            <a:off x="-76320" y="-76320"/>
            <a:ext cx="11421000" cy="69339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e 29 introduces th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et query operat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which allows you to declare a new variable in a LINQ query—usually to create a shorter name for an expressio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variable can be accessed in later statements just like a range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 created in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refers to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.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(line 31) use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introduced earlier in the query to get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f each author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 and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f each book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ganizing Book Titles by Auth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queries return results with data arranged in a relational-style table of rows and colum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st query (Fig. 12.25, lines 45–51) returns hierarchical resul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ach element in the results contains the name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 list of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that the author wrot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INQ query does this by using a nested query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outer query iterates over the authors in the databa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inner query takes a specific author and retrieves all titles that the author worked 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(lines 47–51) creates an anonymous type with two propertie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pert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line 47) combines each author’s name, separating the first and last names by a spac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pert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line 48) receives the result of the nested query, which returns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f each book written by the current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neste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s (lines 57–67) use the properties of the anonymous type created by the query to output the hierarchical resul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uter loop displays the author’s name and the inner loop displays the titles of all the books written by that autho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vbhtp5_12_Databaseimages_Page_36.png"/>
          <p:cNvPicPr/>
          <p:nvPr/>
        </p:nvPicPr>
        <p:blipFill>
          <a:blip r:embed="rId1"/>
          <a:stretch/>
        </p:blipFill>
        <p:spPr>
          <a:xfrm>
            <a:off x="-135000" y="0"/>
            <a:ext cx="12801600" cy="7772040"/>
          </a:xfrm>
          <a:prstGeom prst="rect">
            <a:avLst/>
          </a:prstGeom>
          <a:ln w="9525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vbhtp5_12_Databaseimages_Page_37.png"/>
          <p:cNvPicPr/>
          <p:nvPr/>
        </p:nvPicPr>
        <p:blipFill>
          <a:blip r:embed="rId1"/>
          <a:stretch/>
        </p:blipFill>
        <p:spPr>
          <a:xfrm>
            <a:off x="-228600" y="-76320"/>
            <a:ext cx="12656880" cy="768384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tice the duplicat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dentifier in the expression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.Title.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used in the inne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s (lines 50–51)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s is due to the database having 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lumn in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, and is another example of following foreign-key relationship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range variabl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terates over the rows of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or the current author’s book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property contains the corresponding row from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able for that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the expression return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lumn (the title of the book) from that row of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ng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BooksDataCont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code combines data from the three tables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Book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database and displays the relationships between the book titles and authors in three different way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uses LINQ to SQL classes that have been created using the same steps as the previous examp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s in previous examples,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BooksDataConte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bject (Fig. 12.22, line 7) allows the program to interact with the databas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vbhtp5_12_Databaseimages_Page_33.png"/>
          <p:cNvPicPr/>
          <p:nvPr/>
        </p:nvPicPr>
        <p:blipFill>
          <a:blip r:embed="rId1"/>
          <a:stretch/>
        </p:blipFill>
        <p:spPr>
          <a:xfrm>
            <a:off x="0" y="652320"/>
            <a:ext cx="10058040" cy="673848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ing Author Names with the ISBNs of the Books They’ve Wr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irst query (Fig. 12.23, lines 11–14) joins data from two tables and returns a list of author names and the ISBNs representing the books they’ve written, sorted b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query takes advantage of the properties that LINQ to SQL creates based on foreign-key relationships between the database’s tab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se properties enable you to easily combine data from related rows in multiple tab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vbhtp5_12_Databaseimages_Page_34.png"/>
          <p:cNvPicPr/>
          <p:nvPr/>
        </p:nvPicPr>
        <p:blipFill>
          <a:blip r:embed="rId1"/>
          <a:stretch/>
        </p:blipFill>
        <p:spPr>
          <a:xfrm>
            <a:off x="-228600" y="652320"/>
            <a:ext cx="11662200" cy="658620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11) gets on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12) uses the generate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of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to get only the rows i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that link to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that is, the ones that have the sam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ombined result of the two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 is a collection of all the authors and the ISBNs of the books they’ve author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two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 introduce two range variables into the scope of this query—other clauses can access both range variables to combine data from multiple tab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e 14 combines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irs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Las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n author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with a corresponding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ing Author Names with the Titles of the Books They’ve Wr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second query (Fig. 12.24, lines 27–31) gives similar output, but uses the foreign-key relationships to go one step further and get the actual title of each book that an author wrot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use (line 27) gets on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itl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12.7  Retrieving Data from Multiple Tables with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line 28) uses the generate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of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to get only the rows i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that link to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that is, the ones that have the sam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SB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current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it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f thos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boo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bjects contains an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that represents the foreign-key relationship between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ISB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 and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uth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perty gives us access to the names of the authors for the current boo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19</TotalTime>
  <Application>LibreOffice/7.4.7.2$Linux_X86_64 LibreOffice_project/40$Build-2</Application>
  <AppVersion>15.0000</AppVersion>
  <Words>1212</Words>
  <Paragraphs>6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5:21:44Z</dcterms:created>
  <dc:creator>Mac</dc:creator>
  <dc:description/>
  <dc:language>en-US</dc:language>
  <cp:lastModifiedBy>Mac</cp:lastModifiedBy>
  <dcterms:modified xsi:type="dcterms:W3CDTF">2013-09-28T15:40:56Z</dcterms:modified>
  <cp:revision>7</cp:revision>
  <dc:subject/>
  <dc:title>LINQ to DATABASE-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