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C6B-5670-4E3E-9422-83F68B99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29C-E597-4C4E-A3BB-868C1834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131-18ED-441D-A224-2E5D76CC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7B8-D804-45E8-9966-61DD9D87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41ED-508C-47CB-98CC-94CFBDF5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00B8-694D-44E2-A754-E96461D1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60B5-B38B-4DA5-BC31-FD9A6D57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2901-E32C-4A33-8D4F-CB11BFD5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B2F0-B574-4FAD-A620-8146B5CA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34A8-EDCB-43D9-BA42-358607E7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5BF8-308D-4951-81B0-88297946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CFF-C022-4B7F-A532-035D4F08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B45F-8BFC-4812-BCE0-6465C8A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1BDC-350F-496C-837E-39CCA0AE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8D55-2340-4689-BEC3-15E3D87B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6886-C1A8-41A5-8AED-1340C158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AFDC-FDFB-4B4F-9047-F6597535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6053-5306-4029-BC93-2F6D5C12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A35E-8EA9-4DB0-9E86-CBE3D702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2762-5C5F-47A0-B9A8-FDC2FA0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CA56-3F41-4B7F-A253-DCA5A09A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A05F6-8E79-4DAB-8655-AFD47921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287-6916-4A19-B971-82ECBB36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F3753-3647-40DD-900B-F38F42BE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4BC5-0820-4193-9CB9-379F30A3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B081-2EB4-455A-806D-4E02C926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DDDF-2D43-4598-A9A2-38AC1282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FE30-DA3C-460D-B295-0513C3A7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7C9F-38AB-4548-9536-F8E8BE28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77428-2CC2-4609-B8B2-DDD258EF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F4E-773F-4352-BCD0-BC6E44E6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826-C571-4AC1-84CB-296DA59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0F0-CF83-4FA3-8161-17FC103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419-F30F-46C2-95BF-E89E7979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F99-050E-4F8A-ABC5-E899CEC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221-64DA-43CF-BA55-28F1191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590FDF4-EB7E-436C-AE6B-1B1E2F556BA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6EDE2A3-5539-4062-A7EA-396D391DBD1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D05B50-4D0E-416C-BFBA-426BB1875D0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INQ to DATABASE-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vbhtp5_12_Databaseimages_Page_35.png"/>
          <p:cNvPicPr/>
          <p:nvPr/>
        </p:nvPicPr>
        <p:blipFill>
          <a:blip r:embed="rId1"/>
          <a:stretch/>
        </p:blipFill>
        <p:spPr>
          <a:xfrm>
            <a:off x="-76320" y="-76320"/>
            <a:ext cx="11421000" cy="69339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ine 29 introduces the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Let query operat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which allows you to declare a new variable in a LINQ query—usually to create a shorter name for an express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variable can be accessed in later statements just like a range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 created in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refers to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ook.Auth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(line 31) uses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introduced earlier in the query to get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FirstNa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LastNa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f each author from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Author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able and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f each book from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able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ganizing Book Titles by Auth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st queries return results with data arranged in a relational-style table of rows and colum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ast query (Fig. 12.25, lines 45–51) returns hierarchical resul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ach element in the results contains the name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 list of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that the author wrot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INQ query does this by using a nested query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us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outer query iterates over the authors in the databas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inner query takes a specific author and retrieves all titles that the author worked 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(lines 47–51) creates an anonymous type with two properties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propert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line 47) combines each author’s name, separating the first and last names by a spac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propert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line 48) receives the result of the nested query, which returns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of each book written by the current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neste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Eac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Nex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s (lines 57–67) use the properties of the anonymous type created by the query to output the hierarchical result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uter loop displays the author’s name and the inner loop displays the titles of all the books written by that autho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vbhtp5_12_Databaseimages_Page_36.png"/>
          <p:cNvPicPr/>
          <p:nvPr/>
        </p:nvPicPr>
        <p:blipFill>
          <a:blip r:embed="rId1"/>
          <a:stretch/>
        </p:blipFill>
        <p:spPr>
          <a:xfrm>
            <a:off x="-135000" y="0"/>
            <a:ext cx="12801600" cy="7772040"/>
          </a:xfrm>
          <a:prstGeom prst="rect">
            <a:avLst/>
          </a:prstGeom>
          <a:ln w="9525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vbhtp5_12_Databaseimages_Page_37.png"/>
          <p:cNvPicPr/>
          <p:nvPr/>
        </p:nvPicPr>
        <p:blipFill>
          <a:blip r:embed="rId1"/>
          <a:stretch/>
        </p:blipFill>
        <p:spPr>
          <a:xfrm>
            <a:off x="-228600" y="-76320"/>
            <a:ext cx="12656880" cy="768384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otice the duplicat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dentifier in the expression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ook.Title.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used in the inne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Ord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s (lines 50–51)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s is due to the database having 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lumn in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able, and is another example of following foreign-key relationship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range variabl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oo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terates over the rows of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AuthorISB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or the current author’s book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oo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property contains the corresponding row from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able for that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oo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seco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the expression returns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lumn (the title of the book) from that row of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ing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BooksDataCont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code combines data from the three tables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Book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database and displays the relationships between the book titles and authors in three different way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uses LINQ to SQL classes that have been created using the same steps as the previous exampl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s in previous examples,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BooksDataContex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bject (Fig. 12.22, line 7) allows the program to interact with the databas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vbhtp5_12_Databaseimages_Page_33.png"/>
          <p:cNvPicPr/>
          <p:nvPr/>
        </p:nvPicPr>
        <p:blipFill>
          <a:blip r:embed="rId1"/>
          <a:stretch/>
        </p:blipFill>
        <p:spPr>
          <a:xfrm>
            <a:off x="0" y="652320"/>
            <a:ext cx="10058040" cy="6738480"/>
          </a:xfrm>
          <a:prstGeom prst="rect">
            <a:avLst/>
          </a:prstGeom>
          <a:ln w="9525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bining Author Names with the ISBNs of the Books They’ve Wr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irst query (Fig. 12.23, lines 11–14) joins data from two tables and returns a list of author names and the ISBNs representing the books they’ve written, sorted b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LastNa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FirstNa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query takes advantage of the properties that LINQ to SQL creates based on foreign-key relationships between the database’s tab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se properties enable you to easily combine data from related rows in multiple tab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vbhtp5_12_Databaseimages_Page_34.png"/>
          <p:cNvPicPr/>
          <p:nvPr/>
        </p:nvPicPr>
        <p:blipFill>
          <a:blip r:embed="rId1"/>
          <a:stretch/>
        </p:blipFill>
        <p:spPr>
          <a:xfrm>
            <a:off x="-228600" y="652320"/>
            <a:ext cx="11662200" cy="6586200"/>
          </a:xfrm>
          <a:prstGeom prst="rect">
            <a:avLst/>
          </a:prstGeom>
          <a:ln w="9525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(line 11) gets on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co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(line 12) uses the generate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perty of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to get only the rows in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 that link to the current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—that is, the ones that have the sam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 the current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ombined result of the two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s is a collection of all the authors and the ISBNs of the books they’ve author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two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s introduce two range variables into the scope of this query—other clauses can access both range variables to combine data from multiple tabl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ne 14 combines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irst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Last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an author from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 with a corresponding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SB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bining Author Names with the Titles of the Books They’ve Wr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second query (Fig. 12.24, lines 27–31) gives similar output, but uses the foreign-key relationships to go one step further and get the actual title of each book that an author wrot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irst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use (line 27) gets on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abl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co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(line 28) uses the generate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perty of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to get only the rows in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 that link to the current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—that is, the ones that have the sam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SB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 the current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f thos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boo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bjects contains an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perty that represents the foreign-key relationship between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 and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perty gives us access to the names of the authors for the current boo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19</TotalTime>
  <Application>LibreOffice/7.4.7.2$Linux_X86_64 LibreOffice_project/40$Build-2</Application>
  <AppVersion>15.0000</AppVersion>
  <Words>1212</Words>
  <Paragraphs>6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5:21:44Z</dcterms:created>
  <dc:creator>Mac</dc:creator>
  <dc:description/>
  <dc:language>en-US</dc:language>
  <cp:lastModifiedBy>Mac</cp:lastModifiedBy>
  <dcterms:modified xsi:type="dcterms:W3CDTF">2013-09-28T15:40:56Z</dcterms:modified>
  <cp:revision>7</cp:revision>
  <dc:subject/>
  <dc:title>LINQ to DATABASE-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6</vt:r8>
  </property>
</Properties>
</file>