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67E872-0426-482A-887E-9D4E7B134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CBD8396-8805-49F9-9BC0-A003F446E13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B55EFF4-86F2-4ABE-B56F-0DDF42817F4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5FA-3BB0-4726-93EA-42F3CC42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450-2B4F-46D9-B00E-70DEDB84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066-D3A2-4C73-B557-3C68BA00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B59-AD7D-4C10-A48A-9A88D010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A372-9C3D-49D6-952D-67B84FC9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4CB0-613F-45BC-9082-2A430C9C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398A-00A6-44ED-9651-A5534C9E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DC69-8D22-4A5B-9713-333CBE6E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23A1-AA6E-47F3-856D-54345C6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6D4-D621-4970-A987-BA362BD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A8EE-3836-4B86-BDA9-9CE14439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FC1-55B3-4C3F-B69E-0B905C6E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DDAA-AE66-41F7-B068-99CAD23D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6364-9646-4DE3-8A2A-45C86AD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ADBF-C2D9-4273-8BCF-C5E9B52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661F-95A6-4598-9E0B-8EE42808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E328-E4CC-4A78-8F9E-D9697071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2C88-BB37-4433-B1D2-4C9D13E7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BEE5-52FD-4691-996B-2B41D067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C8BA-86E7-44AB-B34B-3AAF9954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CB83-16F2-4DFA-8F0C-DC7A005B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B304-C2F6-4B37-A6A0-390467F7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431-375F-4078-9BED-85BA72F8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7B56-5348-4648-86B2-C4EF41ED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810F-75F4-4532-A9D7-C9388E2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974E-3EB7-4B4E-B952-9C38103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2173-3152-4509-A35B-D6EEE9BB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9069-D500-47BE-ADA8-ECDE81FE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2F7A-7F65-4675-9881-0105B0A5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F404-89AE-47EE-8B22-46169577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4598F-8973-44D7-866A-0102D68B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0F1F-439C-4201-9B49-3B556E1C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E2C1-5D2F-4A46-BE5E-FC3418D2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33A-1749-4D7A-9FCE-47DF927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1F83-5223-4454-BDF1-C5989451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C5AE0-8E6E-45CF-8D01-593B58A0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7886F-F290-4CBC-BEDB-425B3213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F43AF-B9E2-4579-8262-0022E20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6A2F-3FEF-488B-941C-D0F042A1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F772-949F-45F3-A323-650087B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B9F4F-8378-4767-ADDF-943B3B66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AEF5-65BE-44C5-9A9A-E7D91DDF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55FF-25A8-4E4F-B8C6-60F0E74E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138-7153-427B-BBF9-4BCC4191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F4D-2405-4380-96CE-1EF6B3B5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A6C-B056-4CD5-BF45-FB39E253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61B-3085-42D9-98B8-4D426481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825-7115-4ADD-8602-16AF8AEF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2F0C1FF-89ED-41BF-AF6F-1715928CC5E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7E2272CF-5855-4413-8CB5-30B53538B1B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2568F01-5306-43D6-A0D1-E290C6F22CB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00AD04B-BE85-4014-8451-9C9B8D9117E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troduction To System Analysis and Desig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ED2-4AF2-48A6-83C3-853FB209AD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wo Approaches to System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Traditional (Structured) approach</a:t>
            </a:r>
            <a:r>
              <a:rPr b="0" lang="en-US" sz="2400" spc="-1" strike="noStrike">
                <a:solidFill>
                  <a:srgbClr val="0099cc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lso called structured system develop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tructured analysis and design technique (SA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cludes information engineering (I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Object-oriented appro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lso called OOA, OOD, and 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Views information system as collection of interacting objects that work together to accomplish ta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FECE-ED73-4F32-AE17-F1AFAB1D2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ctured System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e Programm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p-down Programm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ed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ed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0829-EA69-4D6E-8E49-A31DC62908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-Oriented Appro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letely different approach to information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ews information system as collection of interacting objects that work together to accomplish tas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chemeClr val="hlink"/>
                </a:solidFill>
                <a:latin typeface="Gill Sans MT"/>
              </a:rPr>
              <a:t>Objects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– things in computer system that can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onceptually, no processes, programs, data entities, or files are defined – just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O languages: Java, C++, C# .NET, VB .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7BFF-FF9A-4C5C-A854-C070FBDAAE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5080" y="18864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-oriented Analysis and design (OOA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741680"/>
            <a:ext cx="827928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OAD essential for creating well-designed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&amp; maintainable software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Software Analysis and Design is preceded by the analysis of requireme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alysis models the “real-world” requirements, independent of the implementation environ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ign applies object-oriented concepts to develop and communicate the architecture and details of how to meet requireme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7706-E859-4119-B69A-5D6B57BED2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nified Modeling Language (UM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788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UM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Unified Modeling Language) is a graphical language that is suit-able to express software or system requirements, architecture, and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UM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used for both database and software mode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UM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odeling also supports multiple views of the same syst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use case diagra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shows the purposes of the system (use cases) and the users (actors)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8A13-ACEA-4135-8AC2-C9A5D67B6C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ML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2720" y="1340640"/>
            <a:ext cx="815292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727ca3"/>
              </a:buClr>
              <a:buSzPct val="76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be categorized as the fallowing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1" lang="en-US" sz="1800" spc="-1" strike="noStrike">
                <a:solidFill>
                  <a:srgbClr val="464653"/>
                </a:solidFill>
                <a:latin typeface="Gill Sans MT"/>
              </a:rPr>
              <a:t>Structural diagrams: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o show the building blocks of your system—features that don’t change with time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: Class diagra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1" lang="en-US" sz="1800" spc="-1" strike="noStrike">
                <a:solidFill>
                  <a:srgbClr val="464653"/>
                </a:solidFill>
                <a:latin typeface="Gill Sans MT"/>
              </a:rPr>
              <a:t>Behavioral diagram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o show how your system responds to requests or otherwise evolves over tim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: Use case diagra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1" lang="en-US" sz="1800" spc="-1" strike="noStrike">
                <a:solidFill>
                  <a:srgbClr val="464653"/>
                </a:solidFill>
                <a:latin typeface="Gill Sans MT"/>
              </a:rPr>
              <a:t>Interaction diagrams: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s a type of behavioral diagram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o depict the exchange of messages within a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llaboration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(a group of cooperating objects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: Sequence diagram &amp;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llaboration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iagram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988F-1E86-47F7-AB91-1DE7F6EA05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3640" y="-183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ML Diagra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other way of categorizing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UM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agram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76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Franklin Gothic Book"/>
              <a:buAutoNum type="arabicPeriod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Static diagram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50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how the static features of the system. (no chang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6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Franklin Gothic Book"/>
              <a:buAutoNum type="arabicPeriod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Dynamic diagram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50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how how your system evolves over tim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6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Franklin Gothic Book"/>
              <a:buAutoNum type="arabicPeriod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Functional diagrams: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50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how the details of behaviors and algorithm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29D9-E1AC-4642-BDCB-D8DE272B87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-oriented analysis (OO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ying to figure out what the users and customers of a software effort want the System to 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ilds a “real-world” model from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client interviews, domain knowledge, real-world experience collected in use cases and other simple not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OA models address three aspects of the system (its objec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class structure and relationship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sequencing of interactions and event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data transformations and comput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DA81-9D24-42CC-A5DB-5A190EE021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dels of Object-Oriented Analysis (UM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al Mode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(Data-Orient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tatic featur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 objects are in the system?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ow are they related?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ynamic Mode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(Action-Orient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ehavioral aspect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 events occur in the syste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en do they occur and in what order?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nctional Mode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(Both Data and Actio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ata transforma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” does the system d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B737-C330-42E6-B3A8-30CD6A5465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Num" idx="1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3FC9233-363C-46B9-8CA3-9E70AFAC48D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27640" y="214200"/>
            <a:ext cx="8316000" cy="14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ass Diagram Created During OO Analy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8720" cy="429228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An Information Syste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information system is a collection of interrelated components that </a:t>
            </a:r>
            <a:r>
              <a:rPr b="0" lang="en-US" sz="2600" spc="-1" strike="noStrike">
                <a:solidFill>
                  <a:schemeClr val="hlink"/>
                </a:solidFill>
                <a:latin typeface="Gill Sans MT"/>
              </a:rPr>
              <a:t>collec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chemeClr val="hlink"/>
                </a:solidFill>
                <a:latin typeface="Gill Sans MT"/>
              </a:rPr>
              <a:t>proces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chemeClr val="hlink"/>
                </a:solidFill>
                <a:latin typeface="Gill Sans MT"/>
              </a:rPr>
              <a:t>sto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and provide as </a:t>
            </a:r>
            <a:r>
              <a:rPr b="0" lang="en-US" sz="2600" spc="-1" strike="noStrike">
                <a:solidFill>
                  <a:srgbClr val="ffc000"/>
                </a:solidFill>
                <a:latin typeface="Gill Sans MT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information needed to complete a business tas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3093-C67C-470C-AB38-09727653D4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7" dur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-27360"/>
            <a:ext cx="7806960" cy="1145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 Use Case (Analysi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6960" cy="43207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rt from require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cribe response of system to ev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Symbol" charset="2"/>
              <a:buChar char="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Normal flow of ac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Symbol" charset="2"/>
              <a:buChar char="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Error and exception handl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an implement tests to check use ca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ECE7-090F-4C79-A1CD-53780C17BE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OD: Object Oriented Desig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609480" y="1600200"/>
            <a:ext cx="81529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phasizes a conceptual solution that fulfils the requirements specified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to define softwar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bjec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how the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llabo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fulfill th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example, in the Library Information System, a Book object may have a title attribute and a display()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s are implemented in a programm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the example, we will have a Book class in J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5920-A2A3-46F6-9615-11E7DFB428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an OO approach, a system consist of a collection of interacting obje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object is a computational entity which Provide services with which other entities ma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ra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ly, the services consumer sends a messag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 requesting the service) to the provides ob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sse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at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124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Information that the object holds , called (attribu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ehaviou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124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Operation it can perform , called (metho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EEED-93BA-419D-B2AE-291BA5ED95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ss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raction is achieved by one object sending a message to anoth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ssage ha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sende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receive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essage contents 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reference to an operation of the receive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ssible additional information (parameters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ome messages return information to the sende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7E91-F4AF-4D4B-BAF5-64C70D4B68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y Object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capsul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elps to organize data &amp; behavior into meaningful association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ssage-based Invoc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elps to make code adaptable and reusable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ta Hi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elps to manage complexity, since programmer can control the data that objects are allowed to do manipulate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DD55-4B4A-4A27-BFCE-C9DDCC050C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lass Describes a set of equivalent objec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○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ence, operates like a data type of object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○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ypically, every object in a system belongs to a clas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s a useful way of representing and implementing the shared state and behavior of the objects that it describ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B1FC-A61D-42E4-97AE-DABAD38E92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y Clas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form of reuse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lymorphism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eans same operation may behave differently on different class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4417-1113-4626-A61B-05A7BF97D1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56840" y="1628640"/>
            <a:ext cx="8219160" cy="4608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D60C-B765-4044-966B-2A1A0B2BB0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s of Information Syste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rse registration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line order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line banking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14BF-7DEC-46B7-AD84-5F9B275AE6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20" dur="1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26" dur="1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32" dur="1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System Analysis Abou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derstanding the goals and strategies of the busine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ining the information requirements that support those goals and strateg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not about programm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6AAE-7F03-45C7-8AA4-8891FC3A9C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39" dur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44" dur="1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49" dur="1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stem Analysis vs. System Desig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stem Analysi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vestigation of the problem and requirement rather than solu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stem Desig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conceptual solution that fulfills the requirements, rather than implement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DA30-80E3-4053-90DF-C2095F2B4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62" dur="1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66" dur="1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72" dur="1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76" dur="1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stem Analy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business professional who uses analysis and design techniques to solve business problems using information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EE8D-7790-4A3D-B49F-AE08603B4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Role of a System Analy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igate, analyze, design, develop, install, evaluate, and maintain a company’s information system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knowledg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blem solv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lp translate business requirements into IT proje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9950-0D20-4318-B68E-C2C980DE5E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08160" y="115920"/>
            <a:ext cx="7935480" cy="14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raditional System Development Life Cycle (SDL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686440" cy="3233520"/>
          </a:xfrm>
          <a:prstGeom prst="rect">
            <a:avLst/>
          </a:prstGeom>
          <a:ln w="1270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E9C1-AA2B-4D58-BF5D-E184B15722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raditional System Development life Cycle (SDL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Project planning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initiate, ensure feasibility, plan schedule, obtain approval for pro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Analysis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understand business needs and processing requir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Design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define solution system based on requirements and analysis deci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construct, test, train users, and install new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Support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keep system running and improve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406C-6696-428C-93C9-6CCA133C3B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531</TotalTime>
  <Application>LibreOffice/7.4.7.2$Linux_X86_64 LibreOffice_project/40$Build-2</Application>
  <AppVersion>15.0000</AppVersion>
  <Words>1097</Words>
  <Paragraphs>1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7:42:57Z</dcterms:created>
  <dc:creator>Nasser</dc:creator>
  <dc:description/>
  <dc:language>en-US</dc:language>
  <cp:lastModifiedBy>Aseel</cp:lastModifiedBy>
  <dcterms:modified xsi:type="dcterms:W3CDTF">2013-09-10T18:05:1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27</vt:r8>
  </property>
</Properties>
</file>