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A196FD-4FCF-41DD-833E-F3899E47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938B02F-BC87-4B94-BFE5-DDF9B667B1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016D442E-3EE6-4CAC-B862-D77B012EB6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31D-93D7-44F6-BA63-ED97B258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64E-EE3C-4892-917D-52EEC6A6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E9F-76F2-4A43-A806-C13C8321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FDA-2DD7-4E95-8D7E-88977035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FED-0B37-422D-A98C-7467B4D9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1D3A-01A9-4B69-97C6-2477EB3D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581B-4E72-4069-9F29-218BA12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478-C4AC-4AD5-8866-1ABC39C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4BCE-1B95-4766-8876-E537AB6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BA2-DF22-4A31-9426-33901071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B1AF-66F4-4CE3-B795-1AD7D68C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D68-E358-499E-B9AE-7D19FFF5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1B18-7CC4-4F9C-8659-1AC1577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0F57-61A1-4B1A-A053-7F4B0FD1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0CD1-3111-431C-97B2-BE5478E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E79-5027-4FD4-A313-B2813CA7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3DEE-C66E-46E9-995A-47236332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7D0F-847F-462A-A48B-C36B7536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19C9-CFA7-4A45-A5B8-5F9F811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64C5-1D8D-4D18-9DF9-8EA266D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A8679-0CD4-4C3E-9C50-265B8B95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9C03-9EA2-4BA6-AD50-8E4415E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595-4C80-41B1-A126-3C508702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98BC-0EC6-47C0-8673-287EA5D8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15B9-4E42-4DA5-80E9-1CE867E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08CB-F94A-41E9-8D69-94EAD414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E2DB-B5C7-48F8-90D9-A70BFF9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78BC-E49D-4668-9172-EAFD6EB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8B28-3BB1-47E8-BF18-95F22E73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5EFA-1648-4735-8787-0655FF79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FDA9-8500-4AB8-A6A1-E7E58324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EAC6-4ABC-4C5A-A5B1-064C94E8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5AB74-D2CF-4701-B124-DC82610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16A-3B1B-4866-8B74-5BB5F37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750F-A900-4EF1-B16D-A7604A11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9BB2-D7A4-47B1-AED8-63513E71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9233-162B-4191-A660-691807BE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B93F-228F-4445-8949-4A43BE7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D341-7E47-4D99-9BD6-942E9903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FC8C-573B-4417-8EE5-44DDF6A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B455-E197-4C52-B54F-1EE6BA4C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D10C-02DC-4F10-98EE-053CD0B9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602C-AC04-48C9-861A-D1821CFF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047-7AF2-4525-A8A6-18DE4ED9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C21-5E68-4FE4-A495-099A5B07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A51-A4CF-48AD-AEEF-90B7A04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11A-5C61-474F-ADC3-B1DE64B7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257-35AA-4954-8E71-45229659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FF7248F4-F3EB-4E4D-A36A-99E2958FE6E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66807F5-4C70-45AE-80F9-031FD773006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1514326-23AD-4BA5-B75C-7562BFFCD6F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63905F3-4FCF-4EC0-A70D-F249398D306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roduction To System Analysis and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D12-5A8C-42E2-BC18-D896737A7D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wo Approaches to Syste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Traditional (Structured) approach</a:t>
            </a:r>
            <a:r>
              <a:rPr b="0" lang="en-US" sz="2400" spc="-1" strike="noStrike">
                <a:solidFill>
                  <a:srgbClr val="0099cc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so called structured system develop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tructured analysis and design technique (SA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cludes information engineering (I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Object-oriented appro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Also called OOA, OOD, and 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Views information system as collection of interacting objects that work together to accomplish ta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4158-25F0-4E62-A2FD-DBE472BC63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ctured Syste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 Programm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p-down Programm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d De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ed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C188-1512-4625-BE44-9BA68B630D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ppro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ly different approach to information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ews information system as collection of interacting objects that work together to accomplish tas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chemeClr val="hlink"/>
                </a:solidFill>
                <a:latin typeface="Gill Sans MT"/>
              </a:rPr>
              <a:t>Objects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– things in computer system that can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Conceptually, no processes, programs, data entities, or files are defined – just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O languages: Java, C++, C# .NET, VB .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DA74-969F-4217-904A-7BF32DCA3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18864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nalysis and design (OOA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741680"/>
            <a:ext cx="827928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OAD essential for creating well-designed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&amp; maintainable software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oftware Analysis and Design is preceded by the analysis of require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alysis models the “real-world” requirements, independent of the implementation environ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ign applies object-oriented concepts to develop and communicate the architecture and details of how to meet require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AF24-502C-4660-986E-3DB1822CA2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nified Modeling Language (UM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788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Unified Modeling Language) is a graphical language that is suit-able to express software or system requirements, architecture, and desig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used for both database and software mode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UM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odeling also supports multiple views of the same syste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use case diagram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shows the purposes of the system (use cases) and the users (actors)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AAD2-CA43-4CE0-9346-3AB2CB3673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ML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340640"/>
            <a:ext cx="815292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727ca3"/>
              </a:buClr>
              <a:buSzPct val="76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be categorized as the fallowing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Structural diagrams: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show the building blocks of your system—features that don’t change with time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Class diagra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Behavioral diagram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show how your system responds to requests or otherwise evolves over tim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Use case diagra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777240" indent="-457200">
              <a:lnSpc>
                <a:spcPct val="100000"/>
              </a:lnSpc>
              <a:spcBef>
                <a:spcPts val="371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1" lang="en-US" sz="1800" spc="-1" strike="noStrike">
                <a:solidFill>
                  <a:srgbClr val="464653"/>
                </a:solidFill>
                <a:latin typeface="Gill Sans MT"/>
              </a:rPr>
              <a:t>Interaction diagrams:</a:t>
            </a: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s a type of behavioral diagram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 depict the exchange of messages within a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(a group of cooperating objects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bbbece"/>
              </a:buClr>
              <a:buSzPct val="76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: Sequence diagram &amp;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llaboration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iagram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BBB9-A776-40E6-A70C-5A82628D4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3640" y="-1836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other way of categorizing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UM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agram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Static diagram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the static features of the system. (no chang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Dynamic diagram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how your system evolves over tim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76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Franklin Gothic Book"/>
              <a:buAutoNum type="arabicPeriod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Functional diagrams: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1050840" indent="-4572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show the details of behaviors and algorithm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475A-0C85-4816-ABC9-BD9A47D87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-oriented analysis (OO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ying to figure out what the users and customers of a software effort want the System to 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ilds a “real-world” model from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lient interviews, domain knowledge, real-world experience collected in use cases and other simple not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OA models address three aspects of the system (its objec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class structure and relationship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sequencing of interactions and event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data transformations and computations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2083-87C7-44F3-807F-D5BA3F0CB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els of Object-Oriented Analysis (UM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ructural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Data-Orient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tatic featur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objects are in the system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ow are they related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ynamic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Action-Orient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havioral aspect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 events occur in the system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en do they occur and in what order?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ional Mode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(Both Data and Actio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ta transformation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09760" indent="-254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what” does the system d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675-030F-45D5-B272-F381DB01D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26574B1-8B18-4FEC-8981-526A2D7D191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27640" y="214200"/>
            <a:ext cx="831600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 Diagram Created During OO Analys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8720" cy="42922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An Information Syste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information system is a collection of interrelated components that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colle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proce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chemeClr val="hlink"/>
                </a:solidFill>
                <a:latin typeface="Gill Sans MT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nd provide as </a:t>
            </a:r>
            <a:r>
              <a:rPr b="0" lang="en-US" sz="2600" spc="-1" strike="noStrike">
                <a:solidFill>
                  <a:srgbClr val="ffc000"/>
                </a:solidFill>
                <a:latin typeface="Gill Sans MT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information needed to complete a business tas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85A-E4C6-4C44-ACD3-8FAEC8E50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7" dur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-27360"/>
            <a:ext cx="7806960" cy="1145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: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 Use Case (Analysi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6960" cy="43207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art from requir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cribe response of system to ev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Symbol" charset="2"/>
              <a:buChar char="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Normal flow of a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Symbol" charset="2"/>
              <a:buChar char="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Error and exception handl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n implement tests to check use ca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5430-21AF-4697-87EA-BA689D6B6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OD: Object Oriented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609480" y="1600200"/>
            <a:ext cx="81529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phasizes a conceptual solution that fulfils the requirements specified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to define softwar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how the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llabo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fulfill th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example, in the Library Information System, a Book object may have a title attribute and a display()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s are implemented in a programm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d2da7a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example, we will have a Book class in J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679D-14DC-45D9-BE7F-E3068BC5F6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n OO approach, a system consist of a collection of interacting ob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object is a computational entity which Provide services with which other entities ma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a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ically, the services consumer sends a messag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 requesting the service) to the provides ob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ssess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t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124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Information that the object holds , called (attribu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ehaviou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124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-Operation it can perform , called (metho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1271-61B8-48BA-9C98-3777AAB675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ssa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eraction is achieved by one object sending a message to anothe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ssage ha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send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receiv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essage contents 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reference to an operation of the receiv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sible additional information (parameter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me messages return information to the sende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5DA5-08D2-430A-B029-DA33BB1C84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Objects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capsul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organize data &amp; behavior into meaningful association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ssage-based Invocati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make code adaptable and reusabl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ata Hid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lps to manage complexity, since programmer can control the data that objects are allowed to do manipulat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6B50-F4A7-45BE-AB62-6EC105E1FC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lass Describes a set of equivalent objec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○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Hence, operates like a data type of object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○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ypically, every object in a system belongs to a clas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vides a useful way of representing and implementing the shared state and behavior of the objects that it describ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BBD8-CEAB-4F6E-9864-D162D19820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y Clas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form of reuse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lymorphism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eans same operation may behave differently on different classe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FCF0-4B9C-4FF8-BFC6-89E941152C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56840" y="1628640"/>
            <a:ext cx="8219160" cy="46080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07E-F393-4222-A12E-79940A188D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s of Information Syste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urse registration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ine order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ine banking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C8A1-0379-4C01-BB5D-485EE76D0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0" dur="1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26" dur="1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32" dur="1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System Analysis Abou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derstanding the goals and strategies of the busi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ng the information requirements that support those goals and strateg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not about programm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090B-5898-477F-8ED9-B4BCA46C7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39" dur="1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4" dur="1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Clr clrSpc="rgb">
                                      <p:cBhvr>
                                        <p:cTn id="49" dur="1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stem Analysis vs. System Desig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stem Analysi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vestigation of the problem and requirement rather than solu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ystem Desig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conceptual solution that fulfills the requirements, rather than implementation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60E2-8603-465E-845B-17E8E3F28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2" dur="1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66" dur="1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2" dur="1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76" dur="1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dde9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ystem Anal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business professional who uses analysis and design techniques to solve business problems using information technolog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497D-B0D9-49C8-9132-3DA2FABA13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ole of a System Analy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igate, analyze, design, develop, install, evaluate, and maintain a company’s information system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knowledg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blem solv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lp translate business requirements into IT proje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F56C-0323-42C1-9A66-6BCBEA5B4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8160" y="115920"/>
            <a:ext cx="7935480" cy="14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raditional System Development Life Cycle (SDL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686440" cy="3233520"/>
          </a:xfrm>
          <a:prstGeom prst="rect">
            <a:avLst/>
          </a:prstGeom>
          <a:ln w="1270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CE18-165C-401F-8EF3-DF41256E2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raditional System Development life Cycle (SDL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Project planning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initiate, ensure feasibility, plan schedule, obtain approval for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Analysis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understand business needs and processing requir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Design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define solution system based on requirements and analysis deci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construct, test, train users, and install new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chemeClr val="hlink"/>
                </a:solidFill>
                <a:latin typeface="Gill Sans MT"/>
              </a:rPr>
              <a:t>Support</a:t>
            </a:r>
            <a:r>
              <a:rPr b="0" lang="en-US" sz="2800" spc="-1" strike="noStrike">
                <a:solidFill>
                  <a:srgbClr val="0099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keep system running and improve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8BF8-62CE-44F0-8FB1-A5DFA9405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531</TotalTime>
  <Application>LibreOffice/7.4.7.2$Linux_X86_64 LibreOffice_project/40$Build-2</Application>
  <AppVersion>15.0000</AppVersion>
  <Words>1097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42:57Z</dcterms:created>
  <dc:creator>Nasser</dc:creator>
  <dc:description/>
  <dc:language>en-US</dc:language>
  <cp:lastModifiedBy>Aseel</cp:lastModifiedBy>
  <dcterms:modified xsi:type="dcterms:W3CDTF">2013-09-10T18:05:1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27</vt:r8>
  </property>
</Properties>
</file>