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27B-3B2F-4C07-AF10-2A1F83BB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454-C451-4174-81FE-24FC810E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6D9-9118-48CB-AF50-71001FFF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9D0-9370-4847-B80D-1FC4FDA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9883-E3AF-44F7-AAD4-A67AD1AE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81A-715A-4202-ABA7-1D1AE27A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CFF-0304-4692-886D-E360DD0A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50E2-7D8A-4F13-84C1-8B7EDD0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0C7-5A10-4694-A1F6-880898E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352-E4E6-4889-9C63-0D0A469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2AC-2307-47B5-B8A5-A315B1C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FF4-A7FA-4F48-BF4D-8817572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567-AF17-4749-B9F5-AA44E6B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7C4-474E-4B27-BB78-48997EA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DDC-890B-43C9-B523-2475C863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9F2E-D26F-4AE2-9DB1-7A5B2C49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7D2-41DA-4782-B48A-533DCE20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AD2D-01BA-4288-86A4-EF1B5A16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71CA-AB5C-4DC8-B1C5-94611B5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C5FE-1A21-480E-88F2-A1DFA8B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FA34-F718-4B4F-B19C-67066D8A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5D40-F7A3-4BD5-9B58-BC12770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DD2-CD37-461F-8DAB-6C3E813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EAF9-E8CE-4D37-80C3-B12FA438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B4C1-82FD-44BF-A18B-DC23903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9983-EB67-4B14-9B94-CE4399B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96FB-DAF8-4DE1-8A38-5587F30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172E-272E-46AF-99E7-8FA0592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F7CB-2E3D-4CB9-B9F2-1A8F0C81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29FE-3865-4B4C-A79E-3F4ACC12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7DBD-B108-44AD-A514-9BCE2DE9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9171-1DBE-4F78-9D40-82858FA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A988-79BD-4980-A576-CB9DC63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461-94A6-44FB-B070-9008E369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2ADD-5DCC-4CBC-B942-6E26E1F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CA15-4427-4B3B-9AE6-31A406AB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A092-41EE-432D-A1DB-B3926C2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306E-39F5-406B-B058-175660F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CCE2-77C3-4B60-A4A3-5350FFC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2EB3-8816-47A8-B85B-54FADAA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05BE-729E-43EB-834B-1030885E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2AF9-71C1-4B47-A49B-9B3980A5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09B6-80B8-49E7-B6B0-176FC6A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08F7-5EF1-4715-B578-949ECDA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42E-20A9-44FE-B772-C0B9661E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C53B-5C7C-4FEB-B097-E7EFFA83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5586-E108-4697-BC95-6C66DF9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273D-8705-4929-8786-C757E5CE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CBCD-CD74-4DEF-90CC-D79C152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A6E3-6FE5-4C68-974C-37EFE82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8F1C-AC7C-43C5-AF5D-A3694BA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16AB-9C71-42A8-9AEB-DDA2DFD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CB7F6-F2EE-4629-B691-D2DA051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8D1A-FA19-4C15-8405-2689E0A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78FB-F399-47B5-B05D-3DAC3092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D2C-6B6A-4BC0-9B83-4804B87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4BB3-ACD7-4E75-BE94-87012470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73E-9EF7-4A76-BD3E-5FD66EA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ADF-3139-443B-8809-AD08DD5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59B-F45B-4B45-A042-A280A51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51E-F19D-451F-BD2F-EEBF33DCEC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4C2-36D0-4251-AF04-C388057EF3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6E7-9DDE-4664-8C6C-0F7D3C7A65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B7BD-13C7-4B9B-9EC7-2C02C9C78645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FA5-76FF-4D24-93B9-3E66347652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ecture 9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est techniqu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hite box or glass box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lack box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8A7-D1B6-4329-9651-DD5F0219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Unit Testing Techniqu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-box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ing the specified function that a product has been designed to perform, test to see if that function is fully operational and error fre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concerned with internal logical structure of the software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ing the internal workings of a product, test that all internal operations are performed according to specifications and all internal components have been exercis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paths through the software are test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ases exercise specific sets of conditions and loop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ite 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10016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s are derived from the internal design specification or actual code for the progra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dvantage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Tests the internal details of the code;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Checks all paths that a program can execute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Limitation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Wait until after designing and coding the program under test in order to select test cases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Content Placeholder 3" descr="Screen shot 2013-11-24 at 8.02.23 PM.png"/>
          <p:cNvPicPr/>
          <p:nvPr/>
        </p:nvPicPr>
        <p:blipFill>
          <a:blip r:embed="rId1"/>
          <a:srcRect l="0" t="13554" r="0" b="13554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2163-E544-42FC-A124-1DD5E5AE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100160"/>
            <a:ext cx="85341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test cas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independent pa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in a module have been exercised at least on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all logical decisions on their true and false sid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all loops at their boundaries and within their operational bound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internal data structures to ensure their valid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4D72-90B8-457D-B1AA-44B2F04D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Path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te-box testing technique proposed by Tom McCabe enables the test case designer to derive a logical complexity measure of a procedural desig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this measure as a guide for defining a basis set of execution path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cases derived to exercise the basis set are guaranteed to execut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ery statem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progra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e t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uring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E21-3F69-4F75-BF75-703857C16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Graph Not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ircle in a graph represent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ich stands fo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qu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one or more procedural statement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ode containing a simple conditional expression is referred to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dicate nod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und 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 conditional expression containing one or more Boolean operators (e.g., and, or) is represented by a separate predicate no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edicate node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dges leading out from it (True and False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d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r a link, is a an arrow representing flow of control in a specific direc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dge must start and terminate at a no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dge does not intersect or cross over another edg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BE9-CCAF-40AD-954F-0430153A7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Graph Exampl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1905120" y="1905120"/>
            <a:ext cx="838080" cy="365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905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2133720" y="12193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905120" y="3216240"/>
            <a:ext cx="838080" cy="365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048120" y="4038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048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1066680" y="4038480"/>
            <a:ext cx="838440" cy="36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5335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75248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066680" y="5486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2362320" y="6248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6320" y="6095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23623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 flipH="1">
            <a:off x="1447920" y="3505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25146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429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 flipH="1">
            <a:off x="914400" y="4343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1676520" y="4343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91440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H="1">
            <a:off x="167652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>
            <a:off x="1676520" y="5791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2971800" y="51055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 flipH="1">
            <a:off x="30456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30492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"/>
          <p:cNvSpPr/>
          <p:nvPr/>
        </p:nvSpPr>
        <p:spPr>
          <a:xfrm>
            <a:off x="3200400" y="6400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4267080" y="17524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1"/>
          <p:cNvSpPr/>
          <p:nvPr/>
        </p:nvSpPr>
        <p:spPr>
          <a:xfrm flipH="1">
            <a:off x="2361960" y="1828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"/>
          <p:cNvSpPr/>
          <p:nvPr/>
        </p:nvSpPr>
        <p:spPr>
          <a:xfrm>
            <a:off x="6858000" y="1905120"/>
            <a:ext cx="457200" cy="365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3"/>
          <p:cNvSpPr/>
          <p:nvPr/>
        </p:nvSpPr>
        <p:spPr>
          <a:xfrm>
            <a:off x="6858000" y="2666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>
            <a:off x="6858000" y="3429000"/>
            <a:ext cx="457200" cy="365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5"/>
          <p:cNvSpPr/>
          <p:nvPr/>
        </p:nvSpPr>
        <p:spPr>
          <a:xfrm>
            <a:off x="8153280" y="41148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6"/>
          <p:cNvSpPr/>
          <p:nvPr/>
        </p:nvSpPr>
        <p:spPr>
          <a:xfrm>
            <a:off x="5791320" y="4038480"/>
            <a:ext cx="457200" cy="365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7"/>
          <p:cNvSpPr/>
          <p:nvPr/>
        </p:nvSpPr>
        <p:spPr>
          <a:xfrm>
            <a:off x="518148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8"/>
          <p:cNvSpPr/>
          <p:nvPr/>
        </p:nvSpPr>
        <p:spPr>
          <a:xfrm>
            <a:off x="647712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9"/>
          <p:cNvSpPr/>
          <p:nvPr/>
        </p:nvSpPr>
        <p:spPr>
          <a:xfrm>
            <a:off x="815328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0"/>
          <p:cNvSpPr/>
          <p:nvPr/>
        </p:nvSpPr>
        <p:spPr>
          <a:xfrm>
            <a:off x="5943600" y="57150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1"/>
          <p:cNvSpPr/>
          <p:nvPr/>
        </p:nvSpPr>
        <p:spPr>
          <a:xfrm>
            <a:off x="6934320" y="63244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2"/>
          <p:cNvSpPr/>
          <p:nvPr/>
        </p:nvSpPr>
        <p:spPr>
          <a:xfrm>
            <a:off x="4876920" y="63244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3"/>
          <p:cNvSpPr/>
          <p:nvPr/>
        </p:nvSpPr>
        <p:spPr>
          <a:xfrm>
            <a:off x="708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 flipH="1">
            <a:off x="624816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6"/>
          <p:cNvSpPr/>
          <p:nvPr/>
        </p:nvSpPr>
        <p:spPr>
          <a:xfrm>
            <a:off x="73152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7"/>
          <p:cNvSpPr/>
          <p:nvPr/>
        </p:nvSpPr>
        <p:spPr>
          <a:xfrm flipH="1">
            <a:off x="5486400" y="43434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8"/>
          <p:cNvSpPr/>
          <p:nvPr/>
        </p:nvSpPr>
        <p:spPr>
          <a:xfrm>
            <a:off x="6172200" y="43434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9"/>
          <p:cNvSpPr/>
          <p:nvPr/>
        </p:nvSpPr>
        <p:spPr>
          <a:xfrm>
            <a:off x="5486400" y="5334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0"/>
          <p:cNvSpPr/>
          <p:nvPr/>
        </p:nvSpPr>
        <p:spPr>
          <a:xfrm flipH="1">
            <a:off x="632412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1"/>
          <p:cNvSpPr/>
          <p:nvPr/>
        </p:nvSpPr>
        <p:spPr>
          <a:xfrm>
            <a:off x="6400800" y="6019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2"/>
          <p:cNvSpPr/>
          <p:nvPr/>
        </p:nvSpPr>
        <p:spPr>
          <a:xfrm flipH="1">
            <a:off x="7315200" y="53341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3"/>
          <p:cNvSpPr/>
          <p:nvPr/>
        </p:nvSpPr>
        <p:spPr>
          <a:xfrm>
            <a:off x="8381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4"/>
          <p:cNvSpPr/>
          <p:nvPr/>
        </p:nvSpPr>
        <p:spPr>
          <a:xfrm flipH="1">
            <a:off x="502920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5"/>
          <p:cNvSpPr/>
          <p:nvPr/>
        </p:nvSpPr>
        <p:spPr>
          <a:xfrm>
            <a:off x="50292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6"/>
          <p:cNvSpPr/>
          <p:nvPr/>
        </p:nvSpPr>
        <p:spPr>
          <a:xfrm flipV="1">
            <a:off x="7391520" y="56383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7"/>
          <p:cNvSpPr/>
          <p:nvPr/>
        </p:nvSpPr>
        <p:spPr>
          <a:xfrm flipV="1">
            <a:off x="8915400" y="2971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8"/>
          <p:cNvSpPr/>
          <p:nvPr/>
        </p:nvSpPr>
        <p:spPr>
          <a:xfrm flipH="1" flipV="1">
            <a:off x="7314840" y="2133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3"/>
          <p:cNvSpPr/>
          <p:nvPr/>
        </p:nvSpPr>
        <p:spPr>
          <a:xfrm>
            <a:off x="109728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4"/>
          <p:cNvSpPr/>
          <p:nvPr/>
        </p:nvSpPr>
        <p:spPr>
          <a:xfrm>
            <a:off x="563292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5"/>
          <p:cNvSpPr/>
          <p:nvPr/>
        </p:nvSpPr>
        <p:spPr>
          <a:xfrm>
            <a:off x="6858000" y="12193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70866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769-36C0-41D5-8702-8223EA8F0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Program Path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d as a path through the program from the start node until the end node that introduces at least one new set of processing statements or a new condition (i.e., new nodes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t move alo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dge that has not been traversed before by a previous pat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s set for flow graph on previous slid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1: 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2: 0-1-2-3-4-5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3: 0-1-2-3-6-8-9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4: 0-1-2-3-6-7-9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path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basis set is determined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yclomatic complexit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bservations about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00160"/>
            <a:ext cx="80773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esting is the process of executing a program with the intention of finding errors.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– Mye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esting can show the presence of bugs but never their absence.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- Dijkstra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794-9F17-4106-AF82-4435EE527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omatic Complex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quantitative measur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gical complex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program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independent path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basis s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number of tests that must be conducted to ensu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 stat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been execu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c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 compu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y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E – N + 2, where E is the number of edges and N is the number of nodes in graph 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P + 1, where P is the number of predicate nodes in the flow graph 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in the following equations for the example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14 edges – 12 nodes + 2 =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3 predicate nodes + 1 =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4F3-D5AF-48C6-B84D-A495F35B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6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ing the Basis Set and Test Cas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00160"/>
            <a:ext cx="7886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design or code as a foundation, draw a corresponding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cyclomatic complexity of the resultant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a basis set of linearly independent path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test cases that will force execution of each path in the basis s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-box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s are derived from formal specification of the syste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 selection can be done without any reference to the program design or code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Only tests the functionality and features of the progra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Not the internal operat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dvantage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4160" indent="-164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st case selection is done before the implementation of a program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4160" indent="-164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lp in getting the design and coding correct with respect to the specificatio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9" name="Content Placeholder 3" descr="Screen shot 2013-11-24 at 8.02.16 PM.png"/>
          <p:cNvPicPr/>
          <p:nvPr/>
        </p:nvPicPr>
        <p:blipFill>
          <a:blip r:embed="rId1"/>
          <a:srcRect l="0" t="20823" r="0" b="20823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7FE-70D6-4202-9969-F159FB858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-box Testing Categor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rect or missing functio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 in data structures or external data base acces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 or performance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ation and termination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ood Testing Practic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00160"/>
            <a:ext cx="81532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non reproducible or on-the-fly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est cases for valid as well as invalid input condition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ly inspect the results of each tes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number of detected defects in a piece of software increases, the probability of the existence of more undetected defects also increas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ood Testing Practic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your best people to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estability is a key objective in your software desig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alter the program to make testing easi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evels of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10666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nce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lgorithms and logic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ata structures (global and local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dependent path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undary condition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rror handl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y Integration Testing Is Necessa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ne module can have an adverse effect on anoth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ubfunctions, when combined, may not produce the desired major func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rfacing errors not detected in unit testing may appea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iming problems (in real-time systems) are not detectable by unit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alidation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termine if the software meets all of the requirements defined in the S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aving written requirements is essenti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gression testing involves selectively repeating existing validation tests, not developing new tes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cceptance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440" y="11426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imilar to validation testing except that customers are present or directly involved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Usually the tests are developed by the custom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02:49Z</dcterms:created>
  <dc:creator>Robert W. Lingard</dc:creator>
  <dc:description/>
  <dc:language>en-US</dc:language>
  <cp:lastModifiedBy>Aseel</cp:lastModifiedBy>
  <dcterms:modified xsi:type="dcterms:W3CDTF">2013-11-24T20:41:05Z</dcterms:modified>
  <cp:revision>35</cp:revision>
  <dc:subject/>
  <dc:title>Software Testing</dc:title>
</cp:coreProperties>
</file>