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308-FC2D-4046-AE52-48EDC73A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FC3-4172-4111-AECB-CBAFE20B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40A-9ADA-42FB-92AD-DEF21131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0FC-A316-4A8D-BC36-BD9B1E8D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4728-E421-4AB1-87D4-382251EB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017-360E-4A45-99B3-4B04EE8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AEE-E374-4088-8FC2-A453652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C5BE-44DD-45D4-9E2B-62E84182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8E2B-1C32-43CF-848C-2F73198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95E9-E49B-4358-8128-46241938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3DBB-1A56-456D-9B22-9577D69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261-BE5E-4D10-8087-E2A894D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88B-0A2F-43CC-9587-8B54B60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AE9-0E9A-4CC0-B44C-485F522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476-E748-4023-91BB-68A55E4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0BC5-4B5F-4F36-AA7D-98B6FF8B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9F9-39C1-4261-8C39-D0ADA584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8E94-C419-4B90-9683-C728163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30B3-F40E-4B04-BF80-36EBA0F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8357-3ABA-4DF8-99B1-1CF2CD4E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3A9F-FAA6-4B15-B1D8-9826439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1D79-1E6B-4336-ADF2-F032B15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D1F-0257-4AFD-B5EC-D5D8C3F2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C2B7-1CC1-44B7-8220-57A9D76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31B0-E3E9-429B-B818-3D07EFC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BCF0-A570-41B4-919F-A7421F9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9672-E6AD-44FF-B362-3A3FF10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8EB1-ADEA-4520-8F22-F2212344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478A-E61F-4983-88DC-2886771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5D74-43F3-494A-81A6-846D930A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A3B7-8C1C-46AF-807F-C642B66F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2232-F74A-44DB-90DA-0D2B3C90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586E-AD60-47C1-994A-44F8F28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7CE-A31C-49C0-A4C0-D8701E02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B0ED-20BE-495E-B734-3D435CF1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094A-6B0B-4227-AB44-A6E44101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C971-798B-44B7-9EE6-1AC3760C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76E54-0DDA-467F-96AC-33FB82F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3DB7-927C-44D1-98CB-F4268B8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FB1FA-6A85-4C21-9115-CD57F93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E1CD-3592-4004-8BF1-E98E442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F86A-EB65-48C4-99DD-7EB82F16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F7C6-1D00-4F69-9295-F7BA9267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3D34-EE67-4510-A67F-9D163A62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99D-23D3-4632-A623-19E006D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B344E-6E24-4806-8C05-E8490DB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8537-0D0D-4BD0-8EEA-E349CDA3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37F3-8EE0-4E84-9418-061EBB8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25B0-B437-486B-B494-44A6EFCD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4A2E3-69AF-4A87-8C08-63908B32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03F0-3CC5-4682-BC4E-A5448C8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67C2-2328-4C3C-BE93-7B4B1BC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A1FCE-9E04-4EEC-8CF1-AC15869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B7A5-6EF6-4C1E-A6AD-B449882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4F61-7C61-4C94-8309-68B46DCA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31F-F70D-4CC5-9E5F-962865F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42DA-78F8-4DEB-98C0-8D39E162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5F6-F6D0-486B-AA87-43861BA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FD0-6C4A-4DD3-A87F-0ACAD42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6AA-5F94-4F97-9A1B-AED8F6F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0ED8-7DF7-496F-B3FB-DC3DAC55E4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545F-4460-4D2A-91E3-05E0397097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B3C-46BC-4379-B56D-A9B1FD1410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254C-38ED-416E-ABC5-A9E774B93768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8D7C-4492-4121-935C-099A8043C8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oftware Test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Lecture 9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est techniqu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hite box or glass box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lack box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1E4D-E017-4984-B3B0-E98A5DE90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Unit Testing Techniqu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-box test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ing the specified function that a product has been designed to perform, test to see if that function is fully operational and error fre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concerned with internal logical structure of the software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te-box test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ing the internal workings of a product, test that all internal operations are performed according to specifications and all internal components have been exercise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paths through the software are teste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cases exercise specific sets of conditions and loop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-box Test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ite Box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100160"/>
            <a:ext cx="86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est cases are derived from the internal design specification or actual code for the progra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dvantage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4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Tests the internal details of the code;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4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Checks all paths that a program can execute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Limitation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4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Wait until after designing and coding the program under test in order to select test cases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Content Placeholder 3" descr="Screen shot 2013-11-24 at 8.02.23 PM.png"/>
          <p:cNvPicPr/>
          <p:nvPr/>
        </p:nvPicPr>
        <p:blipFill>
          <a:blip r:embed="rId1"/>
          <a:srcRect l="0" t="13554" r="0" b="13554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EBD-E70E-4359-BE8D-8D167FDA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-box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100160"/>
            <a:ext cx="85341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test cas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independent pa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in a module have been exercised at least on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all logical decisions on their true and false sid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all loops at their boundaries and within their operational bound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internal data structures to ensure their validi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E2C-AA33-483B-AA6F-7F7F3BFBA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Path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te-box testing technique proposed by Tom McCabe enables the test case designer to derive a logical complexity measure of a procedural desig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this measure as a guide for defining a basis set of execution path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cases derived to exercise the basis set are guaranteed to execut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ery statem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progra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e ti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uring test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A1B-8EAB-4DAF-AD23-73D253631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Graph Not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ircle in a graph represent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ich stands for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qu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one or more procedural statement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ode containing a simple conditional expression is referred to 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dicate nod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und 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 conditional expression containing one or more Boolean operators (e.g., and, or) is represented by a separate predicate no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edicate node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dges leading out from it (True and False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d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or a link, is a an arrow representing flow of control in a specific directio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dge must start and terminate at a no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dge does not intersect or cross over another edg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0CB-FD4B-47FB-A247-F9FD704CF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Graph Exampl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1905120" y="1905120"/>
            <a:ext cx="838080" cy="365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905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2133720" y="121932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905120" y="3216240"/>
            <a:ext cx="838080" cy="365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048120" y="4038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3048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1066680" y="4038480"/>
            <a:ext cx="838440" cy="36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5335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75248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066680" y="5486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2362320" y="6248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6320" y="6095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23623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 flipH="1">
            <a:off x="1447920" y="3505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25146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3429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 flipH="1">
            <a:off x="914400" y="4343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1676520" y="4343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91440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H="1">
            <a:off x="167652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>
            <a:off x="1676520" y="5791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2971800" y="51055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 flipH="1">
            <a:off x="30456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>
            <a:off x="30492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9"/>
          <p:cNvSpPr/>
          <p:nvPr/>
        </p:nvSpPr>
        <p:spPr>
          <a:xfrm>
            <a:off x="3200400" y="6400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4267080" y="17524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1"/>
          <p:cNvSpPr/>
          <p:nvPr/>
        </p:nvSpPr>
        <p:spPr>
          <a:xfrm flipH="1">
            <a:off x="2361960" y="1828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"/>
          <p:cNvSpPr/>
          <p:nvPr/>
        </p:nvSpPr>
        <p:spPr>
          <a:xfrm>
            <a:off x="6858000" y="1905120"/>
            <a:ext cx="457200" cy="365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3"/>
          <p:cNvSpPr/>
          <p:nvPr/>
        </p:nvSpPr>
        <p:spPr>
          <a:xfrm>
            <a:off x="6858000" y="2666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>
            <a:off x="6858000" y="3429000"/>
            <a:ext cx="457200" cy="365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5"/>
          <p:cNvSpPr/>
          <p:nvPr/>
        </p:nvSpPr>
        <p:spPr>
          <a:xfrm>
            <a:off x="8153280" y="411480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6"/>
          <p:cNvSpPr/>
          <p:nvPr/>
        </p:nvSpPr>
        <p:spPr>
          <a:xfrm>
            <a:off x="5791320" y="4038480"/>
            <a:ext cx="457200" cy="365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7"/>
          <p:cNvSpPr/>
          <p:nvPr/>
        </p:nvSpPr>
        <p:spPr>
          <a:xfrm>
            <a:off x="5181480" y="4952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8"/>
          <p:cNvSpPr/>
          <p:nvPr/>
        </p:nvSpPr>
        <p:spPr>
          <a:xfrm>
            <a:off x="6477120" y="4952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9"/>
          <p:cNvSpPr/>
          <p:nvPr/>
        </p:nvSpPr>
        <p:spPr>
          <a:xfrm>
            <a:off x="8153280" y="49528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0"/>
          <p:cNvSpPr/>
          <p:nvPr/>
        </p:nvSpPr>
        <p:spPr>
          <a:xfrm>
            <a:off x="5943600" y="571500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1"/>
          <p:cNvSpPr/>
          <p:nvPr/>
        </p:nvSpPr>
        <p:spPr>
          <a:xfrm>
            <a:off x="6934320" y="63244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2"/>
          <p:cNvSpPr/>
          <p:nvPr/>
        </p:nvSpPr>
        <p:spPr>
          <a:xfrm>
            <a:off x="4876920" y="632448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3"/>
          <p:cNvSpPr/>
          <p:nvPr/>
        </p:nvSpPr>
        <p:spPr>
          <a:xfrm>
            <a:off x="7086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4"/>
          <p:cNvSpPr/>
          <p:nvPr/>
        </p:nvSpPr>
        <p:spPr>
          <a:xfrm>
            <a:off x="70866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5"/>
          <p:cNvSpPr/>
          <p:nvPr/>
        </p:nvSpPr>
        <p:spPr>
          <a:xfrm flipH="1">
            <a:off x="6248160" y="3733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6"/>
          <p:cNvSpPr/>
          <p:nvPr/>
        </p:nvSpPr>
        <p:spPr>
          <a:xfrm>
            <a:off x="73152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7"/>
          <p:cNvSpPr/>
          <p:nvPr/>
        </p:nvSpPr>
        <p:spPr>
          <a:xfrm flipH="1">
            <a:off x="5486400" y="43434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8"/>
          <p:cNvSpPr/>
          <p:nvPr/>
        </p:nvSpPr>
        <p:spPr>
          <a:xfrm>
            <a:off x="6172200" y="43434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9"/>
          <p:cNvSpPr/>
          <p:nvPr/>
        </p:nvSpPr>
        <p:spPr>
          <a:xfrm>
            <a:off x="5486400" y="5334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0"/>
          <p:cNvSpPr/>
          <p:nvPr/>
        </p:nvSpPr>
        <p:spPr>
          <a:xfrm flipH="1">
            <a:off x="632412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1"/>
          <p:cNvSpPr/>
          <p:nvPr/>
        </p:nvSpPr>
        <p:spPr>
          <a:xfrm>
            <a:off x="6400800" y="6019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2"/>
          <p:cNvSpPr/>
          <p:nvPr/>
        </p:nvSpPr>
        <p:spPr>
          <a:xfrm flipH="1">
            <a:off x="7315200" y="53341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3"/>
          <p:cNvSpPr/>
          <p:nvPr/>
        </p:nvSpPr>
        <p:spPr>
          <a:xfrm>
            <a:off x="83818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4"/>
          <p:cNvSpPr/>
          <p:nvPr/>
        </p:nvSpPr>
        <p:spPr>
          <a:xfrm flipH="1">
            <a:off x="502920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5"/>
          <p:cNvSpPr/>
          <p:nvPr/>
        </p:nvSpPr>
        <p:spPr>
          <a:xfrm>
            <a:off x="502920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6"/>
          <p:cNvSpPr/>
          <p:nvPr/>
        </p:nvSpPr>
        <p:spPr>
          <a:xfrm flipV="1">
            <a:off x="7391520" y="56383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7"/>
          <p:cNvSpPr/>
          <p:nvPr/>
        </p:nvSpPr>
        <p:spPr>
          <a:xfrm flipV="1">
            <a:off x="8915400" y="2971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8"/>
          <p:cNvSpPr/>
          <p:nvPr/>
        </p:nvSpPr>
        <p:spPr>
          <a:xfrm flipH="1" flipV="1">
            <a:off x="7314840" y="2133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3"/>
          <p:cNvSpPr/>
          <p:nvPr/>
        </p:nvSpPr>
        <p:spPr>
          <a:xfrm>
            <a:off x="109728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4"/>
          <p:cNvSpPr/>
          <p:nvPr/>
        </p:nvSpPr>
        <p:spPr>
          <a:xfrm>
            <a:off x="563292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OW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5"/>
          <p:cNvSpPr/>
          <p:nvPr/>
        </p:nvSpPr>
        <p:spPr>
          <a:xfrm>
            <a:off x="6858000" y="121932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70866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9A1-F909-4D49-BBCD-0897BCF0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Program Path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d as a path through the program from the start node until the end node that introduces at least one new set of processing statements or a new condition (i.e., new nodes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t move alo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dge that has not been traversed before by a previous pat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s set for flow graph on previous slid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1: 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2: 0-1-2-3-4-5-1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3: 0-1-2-3-6-8-9-1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4: 0-1-2-3-6-7-9-10-1-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path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basis set is determined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yclomatic complexit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bservations about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00160"/>
            <a:ext cx="80773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esting is the process of executing a program with the intention of finding errors.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– Mye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esting can show the presence of bugs but never their absence.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- Dijkstra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2EB-CC9F-4981-AB5B-ACB4A3E1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omatic Complexit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quantitative measure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gical complex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program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independent path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basis se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number of tests that must be conducted to ensu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 stat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been execu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 least onc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 comput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ay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E – N + 2, where E is the number of edges and N is the number of nodes in graph 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P + 1, where P is the number of predicate nodes in the flow graph 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in the following equations for the example flow grap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14 edges – 12 nodes + 2 = 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G) = 3 predicate nodes + 1 = 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4CF3-A402-4816-9A77-A522681D1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6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ing the Basis Set and Test Cas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00160"/>
            <a:ext cx="78868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design or code as a foundation, draw a corresponding flow grap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cyclomatic complexity of the resultant flow graph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a basis set of linearly independent path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test cases that will force execution of each path in the basis se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-box Test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lack Box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est cases are derived from formal specification of the syste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Test case selection can be done without any reference to the program design or code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Only tests the functionality and features of the progra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Not the internal operatio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dvantage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4160" indent="-164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est case selection is done before the implementation of a program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4160" indent="-164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lp in getting the design and coding correct with respect to the specificatio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9" name="Content Placeholder 3" descr="Screen shot 2013-11-24 at 8.02.16 PM.png"/>
          <p:cNvPicPr/>
          <p:nvPr/>
        </p:nvPicPr>
        <p:blipFill>
          <a:blip r:embed="rId1"/>
          <a:srcRect l="0" t="20823" r="0" b="20823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ABFF-09E6-480A-99F2-F2F87EFC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-box Testing Categori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rect or missing function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 error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 in data structures or external data base acces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 or performance error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ation and termination error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ood Testing Practic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100160"/>
            <a:ext cx="81532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non reproducible or on-the-fly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est cases for valid as well as invalid input condition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oughly inspect the results of each tes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number of detected defects in a piece of software increases, the probability of the existence of more undetected defects also increas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ood Testing Practic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your best people to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estability is a key objective in your software desig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alter the program to make testing easi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evels of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1066680"/>
            <a:ext cx="7010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nce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lgorithms and logic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ata structures (global and local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dependent path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undary condition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rror handl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y Integration Testing Is Necessar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ne module can have an adverse effect on anoth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ubfunctions, when combined, may not produce the desired major func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terfacing errors not detected in unit testing may appea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iming problems (in real-time systems) are not detectable by unit test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alidation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termine if the software meets all of the requirements defined in the S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aving written requirements is essentia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gression testing involves selectively repeating existing validation tests, not developing new tes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cceptance Test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440" y="11426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imilar to validation testing except that customers are present or directly involved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Usually the tests are developed by the custom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02:49Z</dcterms:created>
  <dc:creator>Robert W. Lingard</dc:creator>
  <dc:description/>
  <dc:language>en-US</dc:language>
  <cp:lastModifiedBy>Aseel</cp:lastModifiedBy>
  <dcterms:modified xsi:type="dcterms:W3CDTF">2013-11-24T20:41:05Z</dcterms:modified>
  <cp:revision>35</cp:revision>
  <dc:subject/>
  <dc:title>Software Testing</dc:title>
</cp:coreProperties>
</file>