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238042-A506-4548-8815-F3843417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394A7D-8E2E-4E7D-8F1E-63E9D7E60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23669D-776C-45C3-940B-9E770D78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475A93-FC6E-4E0C-8026-B9761819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43BD44-F51D-4DE5-892A-A1E25F6D9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E058C-3CE2-4E31-A89C-1B3CC86B8D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4E8049-F849-43EC-8A76-D370A502CE1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7EA-F016-4FF8-A5C2-997713DD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40F-4E3A-4551-9D26-E701351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7F5-426E-4E10-AD15-E33F902A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4AD-76F7-4E53-B5AA-7701769A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3B62-799F-4C47-A069-CB484591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7F86-A76F-467D-856D-6E15E197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E0B1-0720-4AAB-ADFE-5498E1D5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A5E8-125D-43E0-BD78-5645865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DE86-BC83-43A2-9FF6-CC82D1C1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E66-F5CB-4B4D-82C0-B5CDBC20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5A3-0347-4BED-BAE5-16D0BAB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9C6-1A16-4784-84FD-9ACD1525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5499-E540-4FDE-B050-E835B260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8352-441B-41FD-9C40-135E484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BEBD-3797-4EDC-A9E6-0A51AEC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C6D-A260-478A-B8FD-87EA511C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ACF7-3F93-474B-8EB6-00A27FF5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698E-5778-4BE0-B2FF-C56E8C49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8E21-8600-4E1A-A52B-2D0892A6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E093-422A-4574-89B0-C33C8751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E53B-C658-4B88-9250-368280D8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8FC6-C502-44BA-BE97-D3A7B47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431-065F-415C-A80A-7545804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1F01-B365-4256-955C-F2B9E8D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155C-C17F-4311-A409-7D830C2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4162-8D6D-46A3-90D9-6F86808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4850-6D28-4CAF-9719-CBEC3E4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B002-0296-425C-A347-C04C5987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2C09-A1B8-4DB3-9C33-71A59690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F60E-BD0A-4916-8C06-81772C0C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D085-93AE-4019-B8D2-D3832B98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E3E7-1E40-4467-9E19-C12BEEF4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F44F-F55F-4B62-9117-DF32A54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B14-EDCC-47BD-810B-641C6C2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511B-F7EE-4C72-9804-A598C41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BDCB-DB2A-40B4-82BE-A0A361E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F482-4769-4E06-9FCE-5B76B584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DD1A-C311-4B79-BBFC-6D06CA4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5780-7C25-4A3A-97A9-761D2477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6AE9-D3EC-42A8-8D62-7AB633B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1A0B-E56A-4CC4-83D6-3A17352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863B-C7E9-4D80-8EC4-6E76BBC6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934A-83AA-44E4-8393-7C5CE84A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A71-3D5A-4A64-B378-DED040B8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7A2-076D-4EAA-BF70-7AE040A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B17-9C99-499A-A1A1-7A0A248A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C13-5EE9-4643-BF6A-4C09CA3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E0A-5C49-44C8-9C13-E32E3BC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8CC34C0-D02F-4F07-85C1-162AE4EAD34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F3B438D-F8C2-4B64-A43F-C4EA458ED128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06DD7B4-2AAC-45A9-B720-695A71255C8E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4411284-FF85-4E67-8D0A-15EE0970DD83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6177960" y="306360"/>
            <a:ext cx="360" cy="603504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Isosceles Triangle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body"/>
          </p:nvPr>
        </p:nvSpPr>
        <p:spPr>
          <a:xfrm>
            <a:off x="304920" y="304920"/>
            <a:ext cx="57146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ecture 4 :Use cases I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(UC description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89C-A4F3-4E66-9E9C-E80300FBE3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-Cases – Common Mistak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lex dia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a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o many user interface deta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“</a:t>
            </a: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types ID and password, clicks OK or hits Enter”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ry low goal deta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provides na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provides addre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provides telephone numb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5C5E-C5F8-4391-B185-70DA929802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Writing Use Case Descriptio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FFA284E-E826-4B22-8A7B-51B22CD3178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lect a use cas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AutoNum type="arabicPeriod" startAt="2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rite abbreviated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full descriptio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Use case name, Scenario (if any), Business Event, Actors, Flow of steps, Exception condition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AutoNum type="arabicPeriod" startAt="3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figuring Flow of step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- Keep in mind general system model: Input-Processing-Outpu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- Steps should be at nearly the same level of abstraction (each    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  makes nearly same progress toward use case completio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AutoNum type="arabicPeriod" startAt="4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figuring exception conditions, focus on if-then logi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bining Proce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Number Limi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iagram should have between 3 to 10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ase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use-case. No more than 15 use cases (base + included + extending)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l use-cases should be in similar abstraction level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cases should be described in half a page or more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-cases which are carried out as part of the same interac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1AAA-ADC1-44EB-A6B2-C9550418CB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ividing Proce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z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a use-cases takes more than a page, consider include/exten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ak dependenc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dependency between two parts of a use-case is weak, they should be divid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18FB-7922-4502-A5B9-E83CD4B80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Guideli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 out common usages that are required by multiple use ca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usage is required use &lt;&lt;include&gt;&g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base use case is complete and the usage may be optional, consider use &lt;&lt;extend&gt;&g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use case diagram shoul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tain only use cases at the same level of abstra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lude only actors who are requir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BA6-5043-4E4C-A348-669CE9F75F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090F501-B295-4B67-A288-1E81A32390F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ept of Use Case Descrip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vels of Use Case Descrip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ing and writing Use Case Descrip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Use Case Diagram of the Customer Support System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36323FC-EA69-432D-83EE-773883DEC2A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Fig"/>
          <p:cNvPicPr/>
          <p:nvPr/>
        </p:nvPicPr>
        <p:blipFill>
          <a:blip r:embed="rId1"/>
          <a:stretch/>
        </p:blipFill>
        <p:spPr>
          <a:xfrm>
            <a:off x="1085400" y="1393200"/>
            <a:ext cx="2784600" cy="458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Cases  grouped into system modu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e: Same actor interacts with different mod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 Case Descri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913F50-5814-4369-970F-C28777F8BAE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fld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121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ments Use Case Dia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121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breakdown of a single use case (e.g., sequence of steps included in the function “Look up item availability”); process logic includ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121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contrast to Use Case Diagram, Use Case Description captures variations of a Use Case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1210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ample:  “Create new order” can be done via phone+clerk and via Internet ordering – 2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cenari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vel of Use Case Descriptio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592339-1A60-4A34-9545-15F3912C575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fld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13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ee levels of detai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51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C* Brief description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1001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mmary of what system does in response to actor’s 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51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C Intermediate descrip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1001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ws steps in use case, if-th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51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C Full descrip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1001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ludes Brief description, expands intermediate description, show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scenari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1752480" y="6172200"/>
            <a:ext cx="2286000" cy="409320"/>
            <a:chOff x="1752480" y="6172200"/>
            <a:chExt cx="2286000" cy="409320"/>
          </a:xfrm>
        </p:grpSpPr>
        <p:sp>
          <p:nvSpPr>
            <p:cNvPr id="211" name="Text Box 4"/>
            <p:cNvSpPr/>
            <p:nvPr/>
          </p:nvSpPr>
          <p:spPr>
            <a:xfrm>
              <a:off x="2122560" y="6248520"/>
              <a:ext cx="1603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* UC=Use C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752480" y="6172200"/>
              <a:ext cx="2286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Brief Description of Create New Order Use Cas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ig"/>
          <p:cNvPicPr/>
          <p:nvPr/>
        </p:nvPicPr>
        <p:blipFill>
          <a:blip r:embed="rId1"/>
          <a:stretch/>
        </p:blipFill>
        <p:spPr>
          <a:xfrm>
            <a:off x="457200" y="2057400"/>
            <a:ext cx="8229240" cy="19692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460440" y="4800600"/>
            <a:ext cx="7555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description that is usually captured in in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44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ermediate Use Case Description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Fig"/>
          <p:cNvPicPr/>
          <p:nvPr/>
        </p:nvPicPr>
        <p:blipFill>
          <a:blip r:embed="rId1"/>
          <a:stretch/>
        </p:blipFill>
        <p:spPr>
          <a:xfrm>
            <a:off x="120960" y="1878840"/>
            <a:ext cx="8870400" cy="4216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457200" y="1182600"/>
            <a:ext cx="577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lephone Order Scenario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eate New Order Use Ca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Full Use Case Descriptio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ows steps (“Flow of Events”) broken down to the actor and the system side – useful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24480" y="-609480"/>
            <a:ext cx="2819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464653"/>
                </a:solidFill>
                <a:latin typeface="Gill Sans MT"/>
              </a:rPr>
              <a:t>Full Use Case Descriptio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24480" y="5029200"/>
            <a:ext cx="2514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464653"/>
                </a:solidFill>
                <a:latin typeface="Gill Sans MT"/>
              </a:rPr>
              <a:t>Telephone Order  Scenario  for  Create New Order  Use C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480963-B9AC-4E64-A3E6-FD10BDC6890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Fig"/>
          <p:cNvPicPr/>
          <p:nvPr/>
        </p:nvPicPr>
        <p:blipFill>
          <a:blip r:embed="rId1"/>
          <a:stretch/>
        </p:blipFill>
        <p:spPr>
          <a:xfrm>
            <a:off x="581040" y="304920"/>
            <a:ext cx="5285880" cy="60195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57</TotalTime>
  <Application>LibreOffice/7.4.7.2$Linux_X86_64 LibreOffice_project/40$Build-2</Application>
  <AppVersion>15.0000</AppVersion>
  <Words>653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8:03:59Z</dcterms:created>
  <dc:creator>ALjaffan</dc:creator>
  <dc:description/>
  <dc:language>en-US</dc:language>
  <cp:lastModifiedBy>Mac</cp:lastModifiedBy>
  <dcterms:modified xsi:type="dcterms:W3CDTF">2013-09-30T08:05:15Z</dcterms:modified>
  <cp:revision>14</cp:revision>
  <dc:subject/>
  <dc:title>Lecture 3 :Use cases II (UC descrip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