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F20C2F-54C5-4B0B-86CC-9B302B0F8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2EB95D-8990-4C18-834B-74E54AEAF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F0EB56-E7EE-4691-9618-37F683A43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95450B-3F1E-4418-B128-90A4264F4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693203-ED0A-42E9-AFA7-CC0139155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0B3A9C-817D-47BF-9C1F-A16C8E7B15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38A2FB-672C-4EA8-957C-AE846FEF109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AD5-959C-4836-BCF9-6BFB37D4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643-E060-4C3A-95A4-7FABEF23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16D-E7B0-4D9D-A8EA-584A3C11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ABA-A648-48FF-83E9-8DDC0BED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5640-0547-4678-904D-3F902AC5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AC1D-0ACE-45C2-BA62-84CB245B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A3A4-73A8-486C-A8DC-BF6075CF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31B7-7CD4-4399-93F0-7ABB7B49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99EB-579B-438F-B6C3-C3CCF8BA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92CF-81B6-40C2-8A20-2D94BC3D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7058-CD2C-4E91-BC16-B6A27368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DDE-5D79-4BA9-B2A8-34D34791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D2AB-A45F-4943-A165-99AF7091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1A04-E794-49AD-B52B-FF8A1FE6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0A64-00E0-4957-B286-B99ECD25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4200-0A1F-4B46-967D-AC0E8327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9CB0-B6B1-4919-94AA-117B3C72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44D8-333D-46F7-BB00-FC4C1B1B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6DCE-35E0-49AE-BDB3-19B3786D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DD9FE-7883-4615-9AB8-8FE6F955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030CD-41FE-4FFA-8760-05FADEA7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5A87E-21B9-49DE-8051-A5EEC3C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783-4B8E-43BD-BBA4-FB10863B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E8F4-FCD0-437A-A8BD-EF11033D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B08B-CFB2-4CD7-9C8C-04A957F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AF00-AEEC-4AC3-91D2-E2EC7F47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F513-827C-4D93-96B0-39C28CA3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E9F0-5B6F-42D8-AE79-99EEC851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A326-A6CC-4341-9F62-8C4939B7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BE7C-F64C-44BB-8F35-62E4178F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B3F9A-CFC8-44C2-BC6D-BC28E0DD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054B-0FA0-46EE-A78D-5C4C95E4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B2FB-E61F-43D9-8348-B3B2F505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31F-ED88-4B2F-85D0-33535271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C1D10-7DBD-4A8B-AF9D-623D02D1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199F-E078-4350-BAE4-DE38C71C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06D50-061C-4B01-824E-6E9D7D6E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1846-0A09-466F-90C6-63538827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443C-9567-44D6-8CD5-A628B20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435D-B2D1-4E5F-9C57-2D7B806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7012-1062-4D6D-95C4-B7B82787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6641-EFAD-4CE5-9EEE-F6062715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2767F-E98C-4C2A-90C7-0B51B3EE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211-C7E0-4BE9-BACE-7877395F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C3C-3286-4D08-BF99-1CDAA294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6D7-03D7-44EF-9860-7326BD1D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57A-88DD-4C50-AA53-B7FD17D0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126-37A5-4FAC-8AFB-D410EC2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B81D0DC-1EBB-40A1-BBE8-DF50A8C3670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DCCF8D2-3F17-4E16-818D-6ED0DB81F6E4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10C8456-1630-4383-988F-152C23CD5ED3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24480" y="304920"/>
            <a:ext cx="25142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24480" y="1219320"/>
            <a:ext cx="251424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FCFBF8B-E748-445D-9851-EE75456AC24D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Straight Connector 9"/>
          <p:cNvSpPr/>
          <p:nvPr/>
        </p:nvSpPr>
        <p:spPr>
          <a:xfrm>
            <a:off x="6177960" y="306360"/>
            <a:ext cx="360" cy="603504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Isosceles Triangle 8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body"/>
          </p:nvPr>
        </p:nvSpPr>
        <p:spPr>
          <a:xfrm>
            <a:off x="304920" y="304920"/>
            <a:ext cx="571464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ecture 4 :Use cases II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(UC description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9B9-7D36-4678-A023-E54BCCB18A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-Cases – Common Mistak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plex diagr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ac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o many user interface detai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“</a:t>
            </a: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User types ID and password, clicks OK or hits Enter”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ery low goal detai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User provides na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User provides addres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User provides telephone number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chemeClr val="accent2"/>
                </a:solidFill>
                <a:latin typeface="Gill Sans MT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7B36-8453-4B35-A0B5-5D1BDD048C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Writing Use Case Description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3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3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630F21E-66F8-4F66-8EEA-DEE8BDFA16F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lect a use cas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AutoNum type="arabicPeriod" startAt="2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rite abbreviated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full descriptio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Use case name, Scenario (if any), Business Event, Actors, Flow of steps, Exception condition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AutoNum type="arabicPeriod" startAt="3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 figuring Flow of step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3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- Keep in mind general system model: Input-Processing-Outpu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3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- Steps should be at nearly the same level of abstraction (each    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  makes nearly same progress toward use case completion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AutoNum type="arabicPeriod" startAt="4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 figuring exception conditions, focus on if-then logic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mbining Proce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Number Limi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diagram should have between 3 to 10 </a:t>
            </a: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ase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use-case. No more than 15 use cases (base + included + extending)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bstract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ll use-cases should be in similar abstraction level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iz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cases should be described in half a page or more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ac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-cases which are carried out as part of the same interac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T 1414 * Nouf Aljaff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0B7E-7E89-45AD-AACD-98E35A5715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ividing Proce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z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a use-cases takes more than a page, consider include/exten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ak dependency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the dependency between two parts of a use-case is weak, they should be divid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T 1414 * Nouf Aljaff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C275-71C6-4EFA-9D50-0EFADE094A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Guideli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ctor out common usages that are required by multiple use ca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the usage is required use &lt;&lt;include&gt;&gt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the base use case is complete and the usage may be optional, consider use &lt;&lt;extend&gt;&gt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use case diagram shoul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ntain only use cases at the same level of abstrac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clude only actors who are requir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T 1414 * Nouf Aljaff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9C7D-7113-4063-AEBD-1BE6F51ED9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890D8C5-C983-42E4-8AD1-19936E83D75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ept of Use Case Descrip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vels of Use Case Descrip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ing and writing Use Case Descrip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7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Use Case Diagram of the Customer Support System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24EA5CF-91D7-4627-A171-FF71E4B3066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Fig"/>
          <p:cNvPicPr/>
          <p:nvPr/>
        </p:nvPicPr>
        <p:blipFill>
          <a:blip r:embed="rId1"/>
          <a:stretch/>
        </p:blipFill>
        <p:spPr>
          <a:xfrm>
            <a:off x="1085400" y="1393200"/>
            <a:ext cx="2784600" cy="458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Cases  grouped into system modu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e: Same actor interacts with different modu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 Case Descrip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77E82AB-459A-4308-8854-4CCDA47E47D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fld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1210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ments Use Case Dia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210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1210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 breakdown of a single use case (e.g., sequence of steps included in the function “Look up item availability”); process logic includ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210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1210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 contrast to Use Case Diagram, Use Case Description captures variations of a Use Case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1210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ample:  “Create new order” can be done via phone+clerk and via Internet ordering – 2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scenario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vel of Use Case Descriptio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250A098-AC10-4C3C-AFB6-103AE5FE2B2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fld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13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ree levels of detai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1151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C* Brief description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1001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mmary of what system does in response to actor’s a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1151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C Intermediate descrip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1001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ws steps in use case, if-th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1151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C Full descrip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1001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cludes Brief description, expands intermediate description, show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scenari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0" name="Group 6"/>
          <p:cNvGrpSpPr/>
          <p:nvPr/>
        </p:nvGrpSpPr>
        <p:grpSpPr>
          <a:xfrm>
            <a:off x="1752480" y="6172200"/>
            <a:ext cx="2286000" cy="409320"/>
            <a:chOff x="1752480" y="6172200"/>
            <a:chExt cx="2286000" cy="409320"/>
          </a:xfrm>
        </p:grpSpPr>
        <p:sp>
          <p:nvSpPr>
            <p:cNvPr id="211" name="Text Box 4"/>
            <p:cNvSpPr/>
            <p:nvPr/>
          </p:nvSpPr>
          <p:spPr>
            <a:xfrm>
              <a:off x="2122560" y="6248520"/>
              <a:ext cx="16030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* UC=Use C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1752480" y="6172200"/>
              <a:ext cx="2286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Brief Description of Create New Order Use Cas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ig"/>
          <p:cNvPicPr/>
          <p:nvPr/>
        </p:nvPicPr>
        <p:blipFill>
          <a:blip r:embed="rId1"/>
          <a:stretch/>
        </p:blipFill>
        <p:spPr>
          <a:xfrm>
            <a:off x="457200" y="2057400"/>
            <a:ext cx="8229240" cy="19692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460440" y="4800600"/>
            <a:ext cx="7555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description that is usually captured in ini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44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termediate Use Case Description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2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4" descr="Fig"/>
          <p:cNvPicPr/>
          <p:nvPr/>
        </p:nvPicPr>
        <p:blipFill>
          <a:blip r:embed="rId1"/>
          <a:stretch/>
        </p:blipFill>
        <p:spPr>
          <a:xfrm>
            <a:off x="120960" y="1878840"/>
            <a:ext cx="8870400" cy="42166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457200" y="1182600"/>
            <a:ext cx="5771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lephone Order Scenario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reate New Order Use Ca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Full Use Case Descriptio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2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hows steps (“Flow of Events”) broken down to the actor and the system side – useful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24480" y="-609480"/>
            <a:ext cx="28191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464653"/>
                </a:solidFill>
                <a:latin typeface="Gill Sans MT"/>
              </a:rPr>
              <a:t>Full Use Case Descriptio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24480" y="5029200"/>
            <a:ext cx="2514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464653"/>
                </a:solidFill>
                <a:latin typeface="Gill Sans MT"/>
              </a:rPr>
              <a:t>Telephone Order  Scenario  for  Create New Order  Use C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22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3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T 1414 *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3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C6BE38A-1227-49B6-A9B6-8D6F6FAA001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Fig"/>
          <p:cNvPicPr/>
          <p:nvPr/>
        </p:nvPicPr>
        <p:blipFill>
          <a:blip r:embed="rId1"/>
          <a:stretch/>
        </p:blipFill>
        <p:spPr>
          <a:xfrm>
            <a:off x="581040" y="304920"/>
            <a:ext cx="5285880" cy="60195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284400" y="1447920"/>
            <a:ext cx="18432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57</TotalTime>
  <Application>LibreOffice/7.4.7.2$Linux_X86_64 LibreOffice_project/40$Build-2</Application>
  <AppVersion>15.0000</AppVersion>
  <Words>653</Words>
  <Paragraphs>1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8:03:59Z</dcterms:created>
  <dc:creator>ALjaffan</dc:creator>
  <dc:description/>
  <dc:language>en-US</dc:language>
  <cp:lastModifiedBy>Mac</cp:lastModifiedBy>
  <dcterms:modified xsi:type="dcterms:W3CDTF">2013-09-30T08:05:15Z</dcterms:modified>
  <cp:revision>14</cp:revision>
  <dc:subject/>
  <dc:title>Lecture 3 :Use cases II (UC description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