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36D64C-DAAE-4E94-AD7D-3A95ED075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C86291-2192-4977-8042-79116EC6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790D65-F524-412F-8FC5-F75A8BBB9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C972A5-1687-4022-B069-085A139DB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CE798C-1331-47BC-9F4E-DC4C7D705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4E3A02-8653-48BE-83D0-26B96927B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48C957-BAD1-4CB5-B1A5-80EEFF8EF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2912A2-69D6-4787-B18F-A4CEA5B21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9423A5-B4D4-4E6A-A77A-94AE01B5DC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320" cy="3412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921960" y="4357800"/>
            <a:ext cx="5014080" cy="40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5D63A9-B444-4653-B6F2-2BB2974B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49850E-8BEF-4536-B743-401B7795E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1A515F-EBA9-4D89-B2D4-3C9F67235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0895B2-8544-48FF-8772-07C90E4EE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45D-1753-42FE-9CFA-CC6BC294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261-756D-4399-BE9D-5AEE05EA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4D7-CE5A-42E5-B63B-5E59FAB9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CDE-4650-4E06-B174-B5E72F9B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46AB-2C52-4648-ACDB-7DB5D77D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4443-E1E5-48DD-B908-A849EF5F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B029-DE87-4930-B7BA-C47B11D9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6098-598D-4520-AC67-6EEDB51E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410E-07FC-4540-BEEB-3CA428F9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204B-2CC4-4683-A594-5BCC6108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0D9B-4130-4AE2-B6A7-9677C37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DFE-0311-407A-ABCA-1AE011B1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ABA0-55D6-41D7-B6F6-A070D4FC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5C2E-CEA3-4DE4-A8A2-F9E50DE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44C7-43AD-4BAB-ACC8-69BAA563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360E-FCF4-4359-B42D-1220D113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B979-B437-4919-B065-8425544F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33E5-D957-4104-8DAA-544A9305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C50E9-A0E8-4FD1-978E-A6A35071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D88C-96D8-41CB-BB8E-704571B9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AFE3-78AE-4A46-AA12-64527C59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8B55-AC77-49CE-9748-39C722F8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6DA-1C5C-472E-9D50-6A2DEC6F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CC00-D7AA-4FC3-8FE7-908D6549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CDFC-50A6-4507-A998-6542574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6B4A-3CF2-4E82-A6C5-84A2BD22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4157-ADB9-43FF-B1D3-49B9F4A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B239-2C7B-456C-9059-94152F25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7BD76-8145-48CF-88BB-6F5ED127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0FD0-7073-4BA1-8AA1-0E2204B6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FF69-D920-473A-8035-8CE99CED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D4E5-5917-4A3F-848A-756EE16F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54BD-9A49-4324-8B33-FEDB6FA0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C64-6BC2-4BC7-B841-F8C5B2CE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B7CF2-0F13-4470-A289-774DB35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C6EC2-F465-4C3B-BCD0-53252D81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A598-F054-411D-B116-2D604A6D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4AFF-2216-4956-91C8-B4B311B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87E1-580D-400B-A9B5-AA7354DA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064D-800A-4256-95CA-82E1146A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706E-42E4-488C-864B-C761CB4D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E110-3F2F-42EA-AF81-7FC6F9EF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6E4FF-38EE-4D68-A4F2-368E037C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B26B4-0E9E-42EC-AADB-FE12A6B5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EA6-5126-451D-9B08-46745EB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2F39-DCA0-40B7-8C57-696EB698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715BA-6F20-46FF-A739-69CF850B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2A456-5F15-4880-80D5-F5AAF78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E8CD8-C296-4E2F-8F12-37AE3419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E6C6E-2519-4C6B-9827-F08C8F7F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D262-CFEC-4404-9E72-8073CC14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2D24B-D5B9-4B57-978B-2142C60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64EBC-9A07-499B-9E36-7BBFA1C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F6F92-F711-4FE5-A861-97A9F7E3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17FC-42AF-4FDA-B0C6-0B742F49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5A3-2B0C-46CA-8A58-EBABABD4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28072-DD88-424B-9085-EC626BAA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4EC-3781-4D7C-9037-2EFB31A4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153-8DDB-41CD-AD4A-BBD751AA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70C-FCC9-4B08-9119-C86987FD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7904159-14A8-4C08-A1C3-6B2123FC48AA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99B7E18-9900-4678-B0C4-82EFE6CBEAA9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BEEEB4E-9D7A-4077-B352-18B27FDB7BF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24480" y="30492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24480" y="121932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8F16F03-E5D4-421A-BC1D-667D532D7C8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6177960" y="306360"/>
            <a:ext cx="360" cy="603504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Isosceles Triangle 8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body"/>
          </p:nvPr>
        </p:nvSpPr>
        <p:spPr>
          <a:xfrm>
            <a:off x="304920" y="304920"/>
            <a:ext cx="571464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C2364A4-060F-47A1-993B-C3E331620AE9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1143000" y="838080"/>
            <a:ext cx="33620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llege Of Applied Studies And Communit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ecture 5 :</a:t>
            </a: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USE Case Model( Sequence Diagram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9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15C-C8A3-4EEA-8FF6-CBDD9ADA16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新細明體"/>
              </a:rPr>
              <a:t>SSD Notation (continue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FF35991-C6CB-4602-B8CD-16DB30EE9102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2599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Message syntax can take several form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22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Depends on send/return direc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2599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Message semantics: actions (like commands) invoked on destination object 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2599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Complete message notation:*[true/false condition] return-value :=  message-name (parameter-li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24480" y="30492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  <a:ea typeface="新細明體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324480" y="121932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  <a:ea typeface="新細明體"/>
              </a:rPr>
              <a:t>Repeating Message (A) Detailed Notation (B) Alternate Nota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12BE29B-2181-4198-98FE-8BD8EAC8F0BF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1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Fig"/>
          <p:cNvPicPr/>
          <p:nvPr/>
        </p:nvPicPr>
        <p:blipFill>
          <a:blip r:embed="rId1"/>
          <a:stretch/>
        </p:blipFill>
        <p:spPr>
          <a:xfrm>
            <a:off x="1995480" y="-29880"/>
            <a:ext cx="4376520" cy="6240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533520" y="6095880"/>
            <a:ext cx="7695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ure 6-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新細明體"/>
              </a:rPr>
              <a:t>Developing a System Sequence Diagra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2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AB01D75-AEDC-4902-9D53-C5BD3116032D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78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Begin with detailed description of use c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Fully developed for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Activity diagrams ( out of our subject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78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(4) step process for turning activity diagram or UC Description into SSD 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[1] Identify the input message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[2] Describe messages from external actor to system 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[3] Identify/apply special conditions to input messag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[4] Identify and add the output return messages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Activity Diagram and Resulting SSD for Telephone Order Scenar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3" name="Picture 1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57200" y="1569960"/>
            <a:ext cx="4041360" cy="4235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752360" y="1216080"/>
            <a:ext cx="3801600" cy="49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2E3F9-5314-4CC4-B19B-631A54CA1F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Case Study: How to do SSD in the POS Proj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2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Simpl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cash-only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Process Sa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scenari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1. Customer arrives at a POS checkout with goods and/or services to purcha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2. Cashier starts a new sa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3. Cashier enters item identifi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4. System records sale line item and presents item description, price, and running tot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Cashier repeats steps 3-4 until indicates do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5. System presents total with taxes calculate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6. Cashier tells Customer the total, and asks for pay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7. Customer pays and System handles pay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843D-508D-4A48-8122-F1BCB10688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24480" y="220968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0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464653"/>
                </a:solidFill>
                <a:latin typeface="Gill Sans MT"/>
                <a:ea typeface="SimSun"/>
              </a:rPr>
              <a:t>Step 1: Define System Events and the System Bound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324480" y="399564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the system boundary is usually chosen to be the software system itself; in this context, a system event is an external event that directly stimulates the softwar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304920" y="588600"/>
            <a:ext cx="5638320" cy="54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CB93-6CF6-4AD7-8C48-D044E765D0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tep 2: Naming System Events and 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icture 4"/>
          <p:cNvSpPr/>
          <p:nvPr/>
        </p:nvSpPr>
        <p:spPr>
          <a:xfrm>
            <a:off x="685800" y="1395360"/>
            <a:ext cx="7772040" cy="42429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T 1414 * Nouf Aljaff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2E8E-5D36-48A9-BAD3-0796D47CE1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7004330-39B9-4B27-B427-B1C2EBA8ADAC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tep 3: show Use C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Simpl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cash-only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Process Sa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scenari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1. Customer arrives at a POS checkout with goods and/or services to purcha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2. Cashier starts a new sa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3. Cashier enters item identifi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4. System records sale line item and presents item description, price, and running tot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Cashier repeats steps 3-4 until indicates do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5. System presents total with taxes calculate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6. Cashier tells Customer the total, and asks for pay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7. Customer pays and System handles pay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3924-8964-41CC-8DA4-4D3E8A517D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tep 4: Do SS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240" cy="5111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0DB6-5C61-4EEC-82A7-00FF874287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grating Object-Oriented Mod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lete use case diagram is needed to understand total scope of new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main model class diagrams should also be as complete as possible for entire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iterative approach, only construct use case descriptions, activity diagrams, and system sequence diagrams for use cases in ite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elopment of a new diagram often helps refine and correct previous diagra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5714-A669-40C1-A82E-63A3AC5863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ML Frame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41" name="Picture Placeholder 7"/>
          <p:cNvGraphicFramePr/>
          <p:nvPr/>
        </p:nvGraphicFramePr>
        <p:xfrm>
          <a:off x="26640" y="1295280"/>
          <a:ext cx="8897400" cy="50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Picture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" y="1295280"/>
                    <a:ext cx="8897400" cy="50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571A-5290-4C6E-88BA-E37FF66ECB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lationships Between OO Requirements Mod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" name="Picture 1036" descr=""/>
          <p:cNvPicPr/>
          <p:nvPr/>
        </p:nvPicPr>
        <p:blipFill>
          <a:blip r:embed="rId1"/>
          <a:stretch/>
        </p:blipFill>
        <p:spPr>
          <a:xfrm>
            <a:off x="0" y="2249640"/>
            <a:ext cx="8462880" cy="270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DDFB-01F3-4AB0-86FA-BDBAFA6E54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880920" y="-107640"/>
            <a:ext cx="7234920" cy="704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79D3-2EA6-4D04-B828-D0ABCA046E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Introduction – System Sequence Diagr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2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A </a:t>
            </a:r>
            <a:r>
              <a:rPr b="1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system sequence diagra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 is a fast and easily created artifact that illustrates input and output events related to the systems under discus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Before proceeding to a logical design of how a software application will work, we should investigate and define the system behavior as a "</a:t>
            </a:r>
            <a:r>
              <a:rPr b="1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black bo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“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E0A0-0F8D-4CB7-A248-0199C8F9B0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ystem Event and Respon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Use cases describe how external actors interact with the software system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During this interaction an actor generates </a:t>
            </a:r>
            <a:r>
              <a:rPr b="0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 to a system, usually requesting some operation in </a:t>
            </a:r>
            <a:r>
              <a:rPr b="0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For example, when a cashier enters an item's ID, the cashier is requesting the POS system to record that item's sale. That request event initiates an operation upon the syst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A316-DE88-4A7B-8E46-7B0BC8B88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SimSun"/>
              </a:rPr>
              <a:t>System sequence diagra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A system sequence diagram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(SSD) is a picture that shows, for </a:t>
            </a:r>
            <a:r>
              <a:rPr b="0" lang="en-US" sz="2800" spc="-1" strike="noStrike">
                <a:solidFill>
                  <a:schemeClr val="accent2"/>
                </a:solidFill>
                <a:latin typeface="Gill Sans MT"/>
                <a:ea typeface="SimSun"/>
              </a:rPr>
              <a:t>a particular scenario of a use c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, the events that external actors generate, their order, and inter-system event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  <a:ea typeface="SimSun"/>
              </a:rPr>
              <a:t>The emphasis of the diagram is events that cross the system boundary from actors to syst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  <a:ea typeface="SimSun"/>
              </a:rPr>
              <a:t>An SSD should be done for the main success scenario of the use case, and frequent or complex alternative scenari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  <a:ea typeface="SimSun"/>
              </a:rPr>
              <a:t>An SSD is generated from inspection of a use c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Sugges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One SSD – one Use C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883C-E8B1-4F11-82F1-6A7E2DB9AF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  <a:ea typeface="新細明體"/>
              </a:rPr>
              <a:t>Identifying Inputs and Outputs — the System Sequence Diagram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6A94F79-F1FE-49A3-BC77-D311E9460ED5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2599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System sequence diagram (SS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22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Describes flow of information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22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Identifies interaction between actors and syste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22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Message orient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新細明體"/>
              </a:rPr>
              <a:t>SSD Notati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EEF6039-E2B2-4B7E-936C-4C6FD5B6D3B5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251280" indent="-251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Actor “interacts” with the system via input/outpu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1280" indent="-251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SSDs use object no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Box (rectangle) refers to individual object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Name of the object underlin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280" indent="-251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Life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is a vertical line under object or actor to show passage of time for object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Indicates sequence of the messages sent/received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If vertical line dash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54920" indent="-20952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新細明體"/>
              </a:rPr>
              <a:t>Creation and destruction of thing is not important for scenar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02920" indent="-2512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新細明體"/>
              </a:rPr>
              <a:t>Long narrow rectangl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54920" indent="-20952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新細明體"/>
              </a:rPr>
              <a:t>Activation lifelines emphasize that object is active only during part of scenar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19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280" indent="-251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Gill Sans MT"/>
                <a:ea typeface="新細明體"/>
              </a:rPr>
              <a:t>Messag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新細明體"/>
              </a:rPr>
              <a:t> is labeled on arrows to show messages sent to or  received by actor or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D9B2E95-6D0D-4DFF-B743-1ECA249E11CB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" descr="Fig"/>
          <p:cNvPicPr/>
          <p:nvPr/>
        </p:nvPicPr>
        <p:blipFill>
          <a:blip r:embed="rId1"/>
          <a:srcRect l="0" t="12673" r="0" b="12673"/>
          <a:stretch/>
        </p:blipFill>
        <p:spPr>
          <a:xfrm>
            <a:off x="0" y="380880"/>
            <a:ext cx="9143640" cy="51080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685800" y="5562720"/>
            <a:ext cx="7695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ure 6-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mple System Sequenc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355</TotalTime>
  <Application>LibreOffice/7.4.7.2$Linux_X86_64 LibreOffice_project/40$Build-2</Application>
  <AppVersion>15.0000</AppVersion>
  <Words>932</Words>
  <Paragraphs>1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6:08:35Z</dcterms:created>
  <dc:creator>ALjaffan</dc:creator>
  <dc:description/>
  <dc:language>en-US</dc:language>
  <cp:lastModifiedBy>Mac</cp:lastModifiedBy>
  <dcterms:modified xsi:type="dcterms:W3CDTF">2013-10-02T16:28:44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