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00A706-F23F-4CAE-AEDB-B1D58D8F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9D194-A1DF-4001-8BA9-E6205640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22364-E52D-4DCF-86BF-B5D6F6D4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8101C6-4EC5-4BB4-A693-A6A40577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D0475E-4B2C-44FC-B4F3-35C49FE0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87B948-A314-49AD-9DC2-1FD1CEF9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3C852E-FDCE-4DB2-B477-83F91F0C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465268-0D3C-40D5-BDDF-FE7C3C7D8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43128-4A9A-4400-B430-DD1626676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320" cy="3412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921960" y="4357800"/>
            <a:ext cx="5014080" cy="40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79870-D514-4E3E-ABE2-A28892D2D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E37FAB-7B80-4D63-BFAD-01C9BB01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7F146C-A918-4ACF-AF94-58FA9A1D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58FC33-FDB8-4055-845D-23BBC818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D5A-2246-4902-9F44-A14393D5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4E5-9F0D-471B-B85D-4735F884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9B5-34C6-46AD-A337-B76C6A65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984-3031-41D9-9849-AA03A73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9502-9402-40B9-B607-0121B92C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58DA-6B2B-438B-8621-68193967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AC3-E08D-4A47-BA04-D957DB5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79DB-88FF-44A9-9366-1B8329D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8D2F-4B12-4AD7-9033-0DAE03A8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435-8CEE-4FAC-9D14-DB8348C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BA8C-DFC4-4A15-92F9-E5B410B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C89-C2ED-401C-BC30-7BE656F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CC75-29FD-4149-B4C5-75E7C8A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C749-0F68-4C46-B2DD-AADBABD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9B4A-A442-4722-93A6-B34A2CD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313F-BA9C-45A7-80A1-99A73B10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579-3109-4474-98A1-824D2F56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2BE7-0F7B-4DA1-BDB7-5E78918A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AB1A-A608-4183-92E8-E46F0F80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EB11-2227-4B5D-8B29-B75173A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ACA6-13E4-4724-BD23-6D8FBFB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EDF2-A459-491C-A6C5-5611B8A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088-677E-4B37-AD60-648A715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C9AF-15FD-4CA8-85FB-35B8F3A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0A6D-F13A-44BC-BE5B-E010346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F7F2-2FD1-4CC6-A591-21AEA99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C417-FDBE-4CB8-B9AA-B5AC805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95FC-3613-4F1D-81D8-D61EE04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49A7-46A9-46FB-B962-BEBE54EE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88C3-C10E-4F9F-8338-890AC8BF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C5EC-EB69-4422-B4CD-C78D2D2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729E-A6FD-499A-8E4C-064202BA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59E1-7FCB-499E-BB19-D355877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FBA-AF8C-49A0-8C6A-9BCBCF6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D371-684E-4636-BEDD-25C4AEC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8631-CCC0-4E69-8EF1-20DA3C4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4D3C-7285-4508-953D-846838B3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2A68-30C4-491F-BC83-2526C5F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1941-CDD5-4C94-8FEF-CA98F05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7448-54F8-4268-8169-A3B4CB4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D7CE0-803B-4112-880F-AA4177BA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B2F4-9BE8-48EB-BE67-4545DFA4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02E6-3666-43CE-BA45-E7F5B6A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6EEC-D9B4-4971-BCBE-91CC9CA2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7C2-4E68-45D2-92AD-A4B798C0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6411-8EC4-430D-A808-FE796CC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1600-A7A9-4219-A971-138F5A5D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0590-2230-4E5A-B565-15202E89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3AB3-700F-40EA-8793-314FAB9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45A2-60FA-499D-9168-80EACCD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0FB9-D6B9-4F23-9C52-A2875D4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BB1A-3863-4578-BD3E-2F6049C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C317-6130-4DC5-BE6C-D339F32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A7C2-725B-48F4-AD67-ED4274C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AE51-0B29-43B5-969E-5CE423EA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651-7989-4A15-B383-2A2B1FD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6646-10DA-4635-9474-B0694ECF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BEE-166C-4689-AE24-7CDA5CE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FA-4899-48D6-8AB9-C615C983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090-10AE-4489-82B0-764D399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D9DF0DB-ADDB-4765-9A37-6C5218DE743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D4AD818-93B8-4133-9CBA-50D1B336EEEA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86EF73-5CFE-4A0D-A9CD-E35FB7BB920B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1337A5D-AC93-4C2C-BB86-30549818A16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FDA0BB3-BEE3-44E1-8A53-FB5489EF54E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143000" y="838080"/>
            <a:ext cx="3362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llege Of Applied Studies And Commun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5 :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USE Case Model( Sequence Diagra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9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B44-F005-4A3E-9E72-6047EDB8E3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SSD Notation (continue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BBFB539-905E-4AC0-8B1C-A15309222023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Message syntax can take several form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Depends on send/return dire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Message semantics: actions (like commands) invoked on destination object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Complete message notation:*[true/false condition] return-value :=  message-name (parameter-li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  <a:ea typeface="新細明體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  <a:ea typeface="新細明體"/>
              </a:rPr>
              <a:t>Repeating Message (A) Detailed Notation (B) Alternate Nota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2053AA6-C727-42AD-AF3D-985EE37A7C38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1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Fig"/>
          <p:cNvPicPr/>
          <p:nvPr/>
        </p:nvPicPr>
        <p:blipFill>
          <a:blip r:embed="rId1"/>
          <a:stretch/>
        </p:blipFill>
        <p:spPr>
          <a:xfrm>
            <a:off x="1995480" y="-29880"/>
            <a:ext cx="4376520" cy="6240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533520" y="6095880"/>
            <a:ext cx="7695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ure 6-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Developing a System Sequence Dia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D499C4-315E-4087-986E-2A89922E2C78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8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Begin with detailed description of use c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Fully developed for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Activity diagrams ( out of our subject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78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(4) step process for turning activity diagram or UC Description into SSD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1] Identify the input message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2] Describe messages from external actor to system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3] Identify/apply special conditions to input messag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4] Identify and add the output return messages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" y="1569960"/>
            <a:ext cx="4041360" cy="4235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52360" y="1216080"/>
            <a:ext cx="3801600" cy="49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7AFC-3F7B-4A28-97CC-5843768FC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Case Study: How to do SSD in the POS Pro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2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-only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Process Sa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1. Customer arrives at a POS checkout with goods and/or services to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2. Cashier starts a new sa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3. Cashier enters item identifi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4. System records sale line item and presents item description, price, and running tot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ier repeats steps 3-4 until indicates d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5. System presents total with taxes calculate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6. Cashier tells Customer the total, and asks for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7. Customer pays and System handles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DF10-81B0-4E54-AB16-E9B3D303C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24480" y="220968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0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53"/>
                </a:solidFill>
                <a:latin typeface="Gill Sans MT"/>
                <a:ea typeface="SimSun"/>
              </a:rPr>
              <a:t>Step 1: Define System Events and the System Bound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24480" y="399564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the system boundary is usually chosen to be the software system itself; in this context, a system event is an external event that directly stimulates the softwar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304920" y="588600"/>
            <a:ext cx="563832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72C4-06BF-482C-8F32-DB0544DBE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2: Naming System Events and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icture 4"/>
          <p:cNvSpPr/>
          <p:nvPr/>
        </p:nvSpPr>
        <p:spPr>
          <a:xfrm>
            <a:off x="685800" y="1395360"/>
            <a:ext cx="7772040" cy="42429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CD64-7389-49BE-8F82-CFBCA6BA48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884610-676C-451F-B358-900D2F9CDED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3: show Use C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-only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Process Sa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1. Customer arrives at a POS checkout with goods and/or services to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2. Cashier starts a new sa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3. Cashier enters item identifi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4. System records sale line item and presents item description, price, and running tot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ier repeats steps 3-4 until indicates d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5. System presents total with taxes calculate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6. Cashier tells Customer the total, and asks for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7. Customer pays and System handles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E03C-6167-4911-9696-7F437DDBF7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4: Do SS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240" cy="5111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E09D-641F-421F-8EA2-25B188A9AE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lete use case diagram is needed to understand total scope of new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main model class diagrams should also be as complete as possible for entire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iterative approach, only construct use case descriptions, activity diagrams, and system sequence diagrams for use cases in ite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ment of a new diagram often helps refine and correct previous diagra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8374-7A95-4C8C-986C-DA2C33BD7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ML Frame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41" name="Picture Placeholder 7"/>
          <p:cNvGraphicFramePr/>
          <p:nvPr/>
        </p:nvGraphicFramePr>
        <p:xfrm>
          <a:off x="26640" y="1295280"/>
          <a:ext cx="8897400" cy="50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Picture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" y="1295280"/>
                    <a:ext cx="8897400" cy="50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36C1-5CD4-41C8-B985-3DFA6B77F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lationships Between OO Requirements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1036" descr=""/>
          <p:cNvPicPr/>
          <p:nvPr/>
        </p:nvPicPr>
        <p:blipFill>
          <a:blip r:embed="rId1"/>
          <a:stretch/>
        </p:blipFill>
        <p:spPr>
          <a:xfrm>
            <a:off x="0" y="2249640"/>
            <a:ext cx="8462880" cy="270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4D8-8E1D-4B53-AE88-063C75467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880920" y="-107640"/>
            <a:ext cx="7234920" cy="70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737E-38FC-4C52-94CC-66E7E6BD83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Introduction – System Sequence Dia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2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A </a:t>
            </a:r>
            <a:r>
              <a:rPr b="1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system sequence diagra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is a fast and easily created artifact that illustrates input and output events related to the systems under discu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Before proceeding to a logical design of how a software application will work, we should investigate and define the system behavior as a "</a:t>
            </a:r>
            <a:r>
              <a:rPr b="1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“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27D5-3E25-4A04-82FC-F0928C842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ystem Event and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Use cases describe how external actors interact with the software syste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During this interaction an actor generates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to a system, usually requesting some operation in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For example, when a cashier enters an item's ID, the cashier is requesting the POS system to record that item's sale. That request event initiates an operation upon the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6A2F-B530-4CD1-B4FD-4F7DCDAB7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ystem sequence dia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A system sequence diagram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(SSD) is a picture that shows, for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a particular scenario of a use c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, the events that external actors generate, their order, and inter-system event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The emphasis of the diagram is events that cross the system boundary from actors to 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An SSD should be done for the main success scenario of the use case, and frequent or complex alternative scenari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An SSD is generated from inspection of a use c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Sugges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One SSD – one Use C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606E-8423-4D1F-93CF-B2D7D160CB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Identifying Inputs and Outputs — the System Sequence Diagram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048EAA-FF50-46D3-85A8-2629CFE88263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System sequence diagram (SS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Describes flow of information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dentifies interaction between actors and syste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Message orient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SSD Nota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5EA35B-BFAF-4DB7-9B3F-7BF5E150DBF7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Actor “interacts” with the system via input/outpu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SSDs use object no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Box (rectangle) refers to individual objec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Name of the object underlin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Life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s a vertical line under object or actor to show passage of time for objec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ndicates sequence of the messages sent/received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f vertical line dash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54920" indent="-20952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新細明體"/>
              </a:rPr>
              <a:t>Creation and destruction of thing is not important for scen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Long narrow rectangl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54920" indent="-20952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新細明體"/>
              </a:rPr>
              <a:t>Activation lifelines emphasize that object is active only during part of scen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19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Gill Sans MT"/>
                <a:ea typeface="新細明體"/>
              </a:rPr>
              <a:t>Messag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 is labeled on arrows to show messages sent to or  received by actor or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DC2707-42BA-4900-9749-1413AEAFF3DF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Fig"/>
          <p:cNvPicPr/>
          <p:nvPr/>
        </p:nvPicPr>
        <p:blipFill>
          <a:blip r:embed="rId1"/>
          <a:srcRect l="0" t="12673" r="0" b="12673"/>
          <a:stretch/>
        </p:blipFill>
        <p:spPr>
          <a:xfrm>
            <a:off x="0" y="380880"/>
            <a:ext cx="9143640" cy="51080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685800" y="5562720"/>
            <a:ext cx="7695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ure 6-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ple System Sequenc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55</TotalTime>
  <Application>LibreOffice/7.4.7.2$Linux_X86_64 LibreOffice_project/40$Build-2</Application>
  <AppVersion>15.0000</AppVersion>
  <Words>932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6:08:35Z</dcterms:created>
  <dc:creator>ALjaffan</dc:creator>
  <dc:description/>
  <dc:language>en-US</dc:language>
  <cp:lastModifiedBy>Mac</cp:lastModifiedBy>
  <dcterms:modified xsi:type="dcterms:W3CDTF">2013-10-02T16:28:4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