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DDE-800F-4F6A-8ED2-CADF6809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69D-B4DB-4516-ADA7-AA7CD758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16334-BCF5-47F1-9202-1E4A677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EE372-4348-44A5-ABA2-368AF924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102C5-5DA2-4C66-9E9A-9194C384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69E22-A1BA-4171-8BA2-F58A06F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FFC4-1DE1-46A1-9B94-AD7893D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273B8-CE11-4F98-A035-F7C3B8F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7D1A7-3208-4C80-ACF5-3380ED4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5D94F-9783-4B94-8BF3-898F0302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E33F-B620-41DE-AFDD-B7BFB20F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600-26E1-4691-BA68-DCAEBD5C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252-C889-4400-80AE-B0D1CEE9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FE2A-0EDD-4A12-98DE-CBEEB465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1E3F-5AAF-4498-9EE0-B25C730D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7EA7-35B4-43C0-A4D4-EA112DEB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9096-4964-4AFC-84B8-D6AFF952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E723-5A7D-4EB8-978A-6038EF5E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F3EE-FCC3-43A1-9034-7E03C8D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B896-F4C9-4F7C-B82B-AC0970B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FFA-4BEB-4D50-A39F-DFD9D1D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97D-517A-4EAA-91CB-88C09D4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4EBA-4260-4A49-B4F6-26DEB65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A911-0D89-4134-AEB6-8AE1FE64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D62A-488F-4BBB-80BD-4078495A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857B-B619-4BF2-910B-C634DBD9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0529-9498-45E2-82EF-D61C360E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915A-84F0-45BB-8AC4-19F9CC9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71EB-DB04-4696-8AB6-2F84366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E488-3EC7-4373-A546-38D9C8AB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FD2E-2B4D-48D4-B2D4-1F5D56D3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155-D5B1-4C29-A7F0-47ED415C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1D94-85EF-40C9-887C-F3F9B2A9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72E3-5EDD-4D49-ACE3-37E4B60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46F0-C49C-44F0-97E2-DE0E0B8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058A-1EA0-437D-94A1-1B9870F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AB35-782C-448F-96AF-4B75E77D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042D-28A1-4001-A84A-8F6966AC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B6B0-8739-4E10-95AD-C7EA22F9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5B2B-97FF-4A6C-8230-4E8F4A16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E945-368C-4888-828F-5B80CCB0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1A57-EA28-409D-93FF-4CA4077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6BD-61E7-4003-BD6A-EF9F3911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B94D-3D58-4DA3-9E70-88E29C72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0922-E61F-4EC8-B960-50210E5F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060C-4843-44B6-A58A-9A1B4F3E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6DF3-798B-4037-A865-26873A5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6A52-3FA0-4107-90BB-A730911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A133-DBA3-4CB9-AEB9-8B10E2C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4808-8D68-4E5B-8877-4505828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935D-EE17-4901-A25A-261DD0D6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4A5C-2891-4AC9-AE71-B6FB3E06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87E14-7138-4879-A63E-5645308A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CD1-DF58-40A0-AAD3-97A2B343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F496-61E4-4482-897D-F39467E8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0E19-6DC9-4EE7-9350-A2FBA5FC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8B41-B215-4390-B4CB-6F32618A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0742-1945-43E1-816F-03F6BC39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FB98B-A570-4C29-A775-FB315D9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905E4-298B-4254-9BDA-1F0B9C6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14688-8BCB-4E9C-9222-07C63DF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C520-EFFF-49F3-9B72-B530F05B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A5E79-EEA2-44A0-9D6A-D03CAFDE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8A99-41F1-467A-9FDF-F84B8D69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F1C-4A1B-4CBD-BCE1-70DCFE47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0520-2D63-4F81-8541-AE610EC3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75E35-B247-469C-8FFA-AAF27625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A787-31F5-4449-8F50-818E295C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E4FD1-3D02-48FF-8818-6B4058D7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51D8C-03FC-43C9-9C97-2E8B61B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2C95F-3844-4AE8-9740-5FF9DFB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1267-0E32-42C0-8F68-B6DF5F86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AFC3-2356-4517-A3F3-BEDE8783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87C4F-8D40-45C5-973F-30F9A4D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608ED-7716-4E3A-9662-B0118B4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36C-C9DF-43C5-A029-E85719A7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91ED-0364-499F-8922-B75CBAB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00BF-F210-4D27-9C2C-DBE6DE6F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BBB0-3347-4EA9-8C02-D016A9D2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A477-D4C8-4642-BEB5-9128D5F0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6F3A5-8B1A-4125-B02A-0F62CA0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F4E9-3663-4173-9C8A-0DE118D3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826B-625F-4469-A3EF-D5C2534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47A5C-2251-4908-A7D9-34B6D36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BE09F-2F6F-43A7-B636-C8983CE9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CD3B-CD5F-4E0A-BBD8-863E168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A04-B90D-417A-9642-BB3ACFB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9B9A-CB92-41D9-8047-EF7F7CA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D3EFE-72C3-4099-916D-052CE66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8B39-5444-4552-B5A9-A7FE894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E406F-7B9D-4618-8C3F-8149FA6A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2314B-A0C6-48A1-8107-BD72D004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FCCE-9273-4D7F-A9B9-BBDBF3F6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5D87F-CB20-46A6-B24E-1E9C490D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5426B-F60A-4EF8-8631-D3AD8C4D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7C0A8-E490-4F06-9BF2-44A966C1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B846-0823-43DD-B3F7-443F101A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F9F-7566-4474-B547-EA39D41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AF460-C7C8-46AA-A7BD-534F4F9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87A98-01EE-4FA3-8F8E-1AC78CC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89D23-84EA-4729-9FC4-F4FD7C2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5E99E-DB5D-4901-AB4C-F4398AB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D8DC-AC8E-4D0D-8F09-E51CAE40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9CEFE-7D56-40F5-A5BC-AD8986E8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E6B5F-366D-49DD-B7FE-D35AAAC8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5A53F-3880-4EDB-8ABE-0387E285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6CBE3-9B9A-4FAB-80B0-A80DFC65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FF80C-D492-4F94-B5BD-994E5CA2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3D4D9F1-21BE-4F33-8DD6-C72ADE3E189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0A3229B-E53A-4BE6-AAC2-8CF96C0D74A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6051EE5-A4DC-4FA0-9207-56861C26940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ick to edit Master title style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Click to edit Master text styles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2AFA09B-1461-4117-978F-1A739D891BC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6177960" y="306360"/>
            <a:ext cx="360" cy="603504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sosceles Triangle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body"/>
          </p:nvPr>
        </p:nvSpPr>
        <p:spPr>
          <a:xfrm>
            <a:off x="304920" y="304920"/>
            <a:ext cx="57146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188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DC7A3BB-0522-49B3-A221-8C05C29BD8C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234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A2C66A3-9F91-49D5-BF0F-C4739818A86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281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1" hidden="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B66984-E668-4DD5-89A2-9EE7F638CC3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331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 hidden="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dt" idx="22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0E04E2D-552B-4336-AEA2-A02CDF997CA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379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5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1B38F44-37A5-42B1-AB23-B2BC425E720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ecture 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ructural Modeling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ck-Side of a CRC Card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320840" y="1897200"/>
            <a:ext cx="6501960" cy="35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lements of a Class Diagram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567720" y="1066680"/>
            <a:ext cx="789012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ttribute Visibility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tribute visibility can be specified in the class diagram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attributes (+) are visible to all clas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attributes (-) are visible only to an instance of the class in which they are define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otected attributes (#) are like private attributes, but are also visible to descendant clas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isibility helps restrict access to the attributes and thus ensure consistency and integrity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peration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or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s object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ry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kes information about state availabl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pdate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hanges values of some or all attribut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Elements of Class Diagram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30360" y="1219320"/>
            <a:ext cx="7979760" cy="52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iciti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1143000" y="1752480"/>
            <a:ext cx="1371240" cy="914400"/>
            <a:chOff x="1143000" y="1752480"/>
            <a:chExt cx="1371240" cy="914400"/>
          </a:xfrm>
        </p:grpSpPr>
        <p:sp>
          <p:nvSpPr>
            <p:cNvPr id="464" name="Rectangle 3"/>
            <p:cNvSpPr/>
            <p:nvPr/>
          </p:nvSpPr>
          <p:spPr>
            <a:xfrm>
              <a:off x="11430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Depar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"/>
            <p:cNvSpPr/>
            <p:nvPr/>
          </p:nvSpPr>
          <p:spPr>
            <a:xfrm>
              <a:off x="11430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66" name="Rectangle 5"/>
            <p:cNvSpPr/>
            <p:nvPr/>
          </p:nvSpPr>
          <p:spPr>
            <a:xfrm>
              <a:off x="11430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67" name="Group 7"/>
          <p:cNvGrpSpPr/>
          <p:nvPr/>
        </p:nvGrpSpPr>
        <p:grpSpPr>
          <a:xfrm>
            <a:off x="4114800" y="1752480"/>
            <a:ext cx="1371240" cy="914400"/>
            <a:chOff x="4114800" y="1752480"/>
            <a:chExt cx="1371240" cy="914400"/>
          </a:xfrm>
        </p:grpSpPr>
        <p:sp>
          <p:nvSpPr>
            <p:cNvPr id="468" name="Rectangle 8"/>
            <p:cNvSpPr/>
            <p:nvPr/>
          </p:nvSpPr>
          <p:spPr>
            <a:xfrm>
              <a:off x="41148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B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"/>
            <p:cNvSpPr/>
            <p:nvPr/>
          </p:nvSpPr>
          <p:spPr>
            <a:xfrm>
              <a:off x="41148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70" name="Rectangle 10"/>
            <p:cNvSpPr/>
            <p:nvPr/>
          </p:nvSpPr>
          <p:spPr>
            <a:xfrm>
              <a:off x="41148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71" name="Group 11"/>
          <p:cNvGrpSpPr/>
          <p:nvPr/>
        </p:nvGrpSpPr>
        <p:grpSpPr>
          <a:xfrm>
            <a:off x="1143000" y="3200400"/>
            <a:ext cx="1371240" cy="914040"/>
            <a:chOff x="1143000" y="3200400"/>
            <a:chExt cx="1371240" cy="914040"/>
          </a:xfrm>
        </p:grpSpPr>
        <p:sp>
          <p:nvSpPr>
            <p:cNvPr id="472" name="Rectangle 12"/>
            <p:cNvSpPr/>
            <p:nvPr/>
          </p:nvSpPr>
          <p:spPr>
            <a:xfrm>
              <a:off x="11430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3"/>
            <p:cNvSpPr/>
            <p:nvPr/>
          </p:nvSpPr>
          <p:spPr>
            <a:xfrm>
              <a:off x="11430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74" name="Rectangle 14"/>
            <p:cNvSpPr/>
            <p:nvPr/>
          </p:nvSpPr>
          <p:spPr>
            <a:xfrm>
              <a:off x="11430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75" name="Group 15"/>
          <p:cNvGrpSpPr/>
          <p:nvPr/>
        </p:nvGrpSpPr>
        <p:grpSpPr>
          <a:xfrm>
            <a:off x="4114800" y="3200400"/>
            <a:ext cx="1371240" cy="914040"/>
            <a:chOff x="4114800" y="3200400"/>
            <a:chExt cx="1371240" cy="914040"/>
          </a:xfrm>
        </p:grpSpPr>
        <p:sp>
          <p:nvSpPr>
            <p:cNvPr id="476" name="Rectangle 16"/>
            <p:cNvSpPr/>
            <p:nvPr/>
          </p:nvSpPr>
          <p:spPr>
            <a:xfrm>
              <a:off x="41148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7"/>
            <p:cNvSpPr/>
            <p:nvPr/>
          </p:nvSpPr>
          <p:spPr>
            <a:xfrm>
              <a:off x="41148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78" name="Rectangle 18"/>
            <p:cNvSpPr/>
            <p:nvPr/>
          </p:nvSpPr>
          <p:spPr>
            <a:xfrm>
              <a:off x="41148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79" name="Group 19"/>
          <p:cNvGrpSpPr/>
          <p:nvPr/>
        </p:nvGrpSpPr>
        <p:grpSpPr>
          <a:xfrm>
            <a:off x="1143000" y="4648320"/>
            <a:ext cx="1371240" cy="914040"/>
            <a:chOff x="1143000" y="4648320"/>
            <a:chExt cx="1371240" cy="914040"/>
          </a:xfrm>
        </p:grpSpPr>
        <p:sp>
          <p:nvSpPr>
            <p:cNvPr id="480" name="Rectangle 20"/>
            <p:cNvSpPr/>
            <p:nvPr/>
          </p:nvSpPr>
          <p:spPr>
            <a:xfrm>
              <a:off x="11430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B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1"/>
            <p:cNvSpPr/>
            <p:nvPr/>
          </p:nvSpPr>
          <p:spPr>
            <a:xfrm>
              <a:off x="11430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82" name="Rectangle 22"/>
            <p:cNvSpPr/>
            <p:nvPr/>
          </p:nvSpPr>
          <p:spPr>
            <a:xfrm>
              <a:off x="11430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4114800" y="4648320"/>
            <a:ext cx="1371240" cy="914040"/>
            <a:chOff x="4114800" y="4648320"/>
            <a:chExt cx="1371240" cy="914040"/>
          </a:xfrm>
        </p:grpSpPr>
        <p:sp>
          <p:nvSpPr>
            <p:cNvPr id="484" name="Rectangle 24"/>
            <p:cNvSpPr/>
            <p:nvPr/>
          </p:nvSpPr>
          <p:spPr>
            <a:xfrm>
              <a:off x="41148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5"/>
            <p:cNvSpPr/>
            <p:nvPr/>
          </p:nvSpPr>
          <p:spPr>
            <a:xfrm>
              <a:off x="41148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86" name="Rectangle 26"/>
            <p:cNvSpPr/>
            <p:nvPr/>
          </p:nvSpPr>
          <p:spPr>
            <a:xfrm>
              <a:off x="41148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cxnSp>
        <p:nvCxnSpPr>
          <p:cNvPr id="487" name="Straight Connector 28"/>
          <p:cNvCxnSpPr/>
          <p:nvPr/>
        </p:nvCxnSpPr>
        <p:spPr>
          <a:xfrm>
            <a:off x="2514600" y="220968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488" name="TextBox 31"/>
          <p:cNvSpPr/>
          <p:nvPr/>
        </p:nvSpPr>
        <p:spPr>
          <a:xfrm>
            <a:off x="2517120" y="22096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2"/>
          <p:cNvSpPr/>
          <p:nvPr/>
        </p:nvSpPr>
        <p:spPr>
          <a:xfrm>
            <a:off x="3812400" y="22096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Straight Connector 33"/>
          <p:cNvCxnSpPr/>
          <p:nvPr/>
        </p:nvCxnSpPr>
        <p:spPr>
          <a:xfrm>
            <a:off x="2514600" y="365760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491" name="TextBox 34"/>
          <p:cNvSpPr/>
          <p:nvPr/>
        </p:nvSpPr>
        <p:spPr>
          <a:xfrm>
            <a:off x="2517120" y="36576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5"/>
          <p:cNvSpPr/>
          <p:nvPr/>
        </p:nvSpPr>
        <p:spPr>
          <a:xfrm>
            <a:off x="3584160" y="3657600"/>
            <a:ext cx="52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Straight Connector 36"/>
          <p:cNvCxnSpPr/>
          <p:nvPr/>
        </p:nvCxnSpPr>
        <p:spPr>
          <a:xfrm>
            <a:off x="2514600" y="5105160"/>
            <a:ext cx="1600560" cy="216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494" name="TextBox 37"/>
          <p:cNvSpPr/>
          <p:nvPr/>
        </p:nvSpPr>
        <p:spPr>
          <a:xfrm>
            <a:off x="2517120" y="51055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8"/>
          <p:cNvSpPr/>
          <p:nvPr/>
        </p:nvSpPr>
        <p:spPr>
          <a:xfrm>
            <a:off x="3584160" y="5105520"/>
            <a:ext cx="52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1"/>
          <p:cNvSpPr/>
          <p:nvPr/>
        </p:nvSpPr>
        <p:spPr>
          <a:xfrm>
            <a:off x="5715000" y="174312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ctly 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partment has one and only one 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2"/>
          <p:cNvSpPr/>
          <p:nvPr/>
        </p:nvSpPr>
        <p:spPr>
          <a:xfrm>
            <a:off x="5715000" y="319104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or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has zero to many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3"/>
          <p:cNvSpPr/>
          <p:nvPr/>
        </p:nvSpPr>
        <p:spPr>
          <a:xfrm>
            <a:off x="5715000" y="463860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r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ss is responsible for one or mor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Multipliciti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6"/>
          <p:cNvGrpSpPr/>
          <p:nvPr/>
        </p:nvGrpSpPr>
        <p:grpSpPr>
          <a:xfrm>
            <a:off x="1143000" y="1752480"/>
            <a:ext cx="1371240" cy="914400"/>
            <a:chOff x="1143000" y="1752480"/>
            <a:chExt cx="1371240" cy="914400"/>
          </a:xfrm>
        </p:grpSpPr>
        <p:sp>
          <p:nvSpPr>
            <p:cNvPr id="501" name="Rectangle 3"/>
            <p:cNvSpPr/>
            <p:nvPr/>
          </p:nvSpPr>
          <p:spPr>
            <a:xfrm>
              <a:off x="11430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4"/>
            <p:cNvSpPr/>
            <p:nvPr/>
          </p:nvSpPr>
          <p:spPr>
            <a:xfrm>
              <a:off x="11430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03" name="Rectangle 5"/>
            <p:cNvSpPr/>
            <p:nvPr/>
          </p:nvSpPr>
          <p:spPr>
            <a:xfrm>
              <a:off x="11430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04" name="Group 7"/>
          <p:cNvGrpSpPr/>
          <p:nvPr/>
        </p:nvGrpSpPr>
        <p:grpSpPr>
          <a:xfrm>
            <a:off x="4114800" y="1752480"/>
            <a:ext cx="1371240" cy="914400"/>
            <a:chOff x="4114800" y="1752480"/>
            <a:chExt cx="1371240" cy="914400"/>
          </a:xfrm>
        </p:grpSpPr>
        <p:sp>
          <p:nvSpPr>
            <p:cNvPr id="505" name="Rectangle 8"/>
            <p:cNvSpPr/>
            <p:nvPr/>
          </p:nvSpPr>
          <p:spPr>
            <a:xfrm>
              <a:off x="41148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Sp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9"/>
            <p:cNvSpPr/>
            <p:nvPr/>
          </p:nvSpPr>
          <p:spPr>
            <a:xfrm>
              <a:off x="41148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07" name="Rectangle 10"/>
            <p:cNvSpPr/>
            <p:nvPr/>
          </p:nvSpPr>
          <p:spPr>
            <a:xfrm>
              <a:off x="41148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08" name="Group 11"/>
          <p:cNvGrpSpPr/>
          <p:nvPr/>
        </p:nvGrpSpPr>
        <p:grpSpPr>
          <a:xfrm>
            <a:off x="1143000" y="3200400"/>
            <a:ext cx="1371240" cy="914040"/>
            <a:chOff x="1143000" y="3200400"/>
            <a:chExt cx="1371240" cy="914040"/>
          </a:xfrm>
        </p:grpSpPr>
        <p:sp>
          <p:nvSpPr>
            <p:cNvPr id="509" name="Rectangle 12"/>
            <p:cNvSpPr/>
            <p:nvPr/>
          </p:nvSpPr>
          <p:spPr>
            <a:xfrm>
              <a:off x="11430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3"/>
            <p:cNvSpPr/>
            <p:nvPr/>
          </p:nvSpPr>
          <p:spPr>
            <a:xfrm>
              <a:off x="11430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11" name="Rectangle 14"/>
            <p:cNvSpPr/>
            <p:nvPr/>
          </p:nvSpPr>
          <p:spPr>
            <a:xfrm>
              <a:off x="11430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12" name="Group 15"/>
          <p:cNvGrpSpPr/>
          <p:nvPr/>
        </p:nvGrpSpPr>
        <p:grpSpPr>
          <a:xfrm>
            <a:off x="4114800" y="3200400"/>
            <a:ext cx="1371240" cy="914040"/>
            <a:chOff x="4114800" y="3200400"/>
            <a:chExt cx="1371240" cy="914040"/>
          </a:xfrm>
        </p:grpSpPr>
        <p:sp>
          <p:nvSpPr>
            <p:cNvPr id="513" name="Rectangle 16"/>
            <p:cNvSpPr/>
            <p:nvPr/>
          </p:nvSpPr>
          <p:spPr>
            <a:xfrm>
              <a:off x="41148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Va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7"/>
            <p:cNvSpPr/>
            <p:nvPr/>
          </p:nvSpPr>
          <p:spPr>
            <a:xfrm>
              <a:off x="41148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15" name="Rectangle 18"/>
            <p:cNvSpPr/>
            <p:nvPr/>
          </p:nvSpPr>
          <p:spPr>
            <a:xfrm>
              <a:off x="41148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16" name="Group 19"/>
          <p:cNvGrpSpPr/>
          <p:nvPr/>
        </p:nvGrpSpPr>
        <p:grpSpPr>
          <a:xfrm>
            <a:off x="1143000" y="4648320"/>
            <a:ext cx="1371240" cy="914040"/>
            <a:chOff x="1143000" y="4648320"/>
            <a:chExt cx="1371240" cy="914040"/>
          </a:xfrm>
        </p:grpSpPr>
        <p:sp>
          <p:nvSpPr>
            <p:cNvPr id="517" name="Rectangle 20"/>
            <p:cNvSpPr/>
            <p:nvPr/>
          </p:nvSpPr>
          <p:spPr>
            <a:xfrm>
              <a:off x="11430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1"/>
            <p:cNvSpPr/>
            <p:nvPr/>
          </p:nvSpPr>
          <p:spPr>
            <a:xfrm>
              <a:off x="11430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19" name="Rectangle 22"/>
            <p:cNvSpPr/>
            <p:nvPr/>
          </p:nvSpPr>
          <p:spPr>
            <a:xfrm>
              <a:off x="11430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20" name="Group 23"/>
          <p:cNvGrpSpPr/>
          <p:nvPr/>
        </p:nvGrpSpPr>
        <p:grpSpPr>
          <a:xfrm>
            <a:off x="4114800" y="4648320"/>
            <a:ext cx="1371240" cy="914040"/>
            <a:chOff x="4114800" y="4648320"/>
            <a:chExt cx="1371240" cy="914040"/>
          </a:xfrm>
        </p:grpSpPr>
        <p:sp>
          <p:nvSpPr>
            <p:cNvPr id="521" name="Rectangle 24"/>
            <p:cNvSpPr/>
            <p:nvPr/>
          </p:nvSpPr>
          <p:spPr>
            <a:xfrm>
              <a:off x="41148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5"/>
            <p:cNvSpPr/>
            <p:nvPr/>
          </p:nvSpPr>
          <p:spPr>
            <a:xfrm>
              <a:off x="41148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23" name="Rectangle 26"/>
            <p:cNvSpPr/>
            <p:nvPr/>
          </p:nvSpPr>
          <p:spPr>
            <a:xfrm>
              <a:off x="41148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cxnSp>
        <p:nvCxnSpPr>
          <p:cNvPr id="524" name="Straight Connector 28"/>
          <p:cNvCxnSpPr/>
          <p:nvPr/>
        </p:nvCxnSpPr>
        <p:spPr>
          <a:xfrm>
            <a:off x="2514600" y="220968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525" name="TextBox 31"/>
          <p:cNvSpPr/>
          <p:nvPr/>
        </p:nvSpPr>
        <p:spPr>
          <a:xfrm>
            <a:off x="2517120" y="22096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2"/>
          <p:cNvSpPr/>
          <p:nvPr/>
        </p:nvSpPr>
        <p:spPr>
          <a:xfrm>
            <a:off x="3548520" y="220968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Connector 33"/>
          <p:cNvCxnSpPr/>
          <p:nvPr/>
        </p:nvCxnSpPr>
        <p:spPr>
          <a:xfrm>
            <a:off x="2514600" y="365760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528" name="TextBox 34"/>
          <p:cNvSpPr/>
          <p:nvPr/>
        </p:nvSpPr>
        <p:spPr>
          <a:xfrm>
            <a:off x="2517120" y="36576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5"/>
          <p:cNvSpPr/>
          <p:nvPr/>
        </p:nvSpPr>
        <p:spPr>
          <a:xfrm>
            <a:off x="3548520" y="365760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Straight Connector 36"/>
          <p:cNvCxnSpPr/>
          <p:nvPr/>
        </p:nvCxnSpPr>
        <p:spPr>
          <a:xfrm>
            <a:off x="2514600" y="5105160"/>
            <a:ext cx="1600560" cy="216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531" name="TextBox 37"/>
          <p:cNvSpPr/>
          <p:nvPr/>
        </p:nvSpPr>
        <p:spPr>
          <a:xfrm>
            <a:off x="2517120" y="51055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8"/>
          <p:cNvSpPr/>
          <p:nvPr/>
        </p:nvSpPr>
        <p:spPr>
          <a:xfrm>
            <a:off x="3281040" y="5105520"/>
            <a:ext cx="8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.3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5715000" y="174312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or 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can be married to 0 or 1 sp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2"/>
          <p:cNvSpPr/>
          <p:nvPr/>
        </p:nvSpPr>
        <p:spPr>
          <a:xfrm>
            <a:off x="5715000" y="319104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d 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can take 2 to 4 vacations each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3"/>
          <p:cNvSpPr/>
          <p:nvPr/>
        </p:nvSpPr>
        <p:spPr>
          <a:xfrm>
            <a:off x="5715000" y="4638600"/>
            <a:ext cx="2819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disjoint 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can be in 1 to 3 or 5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2320" y="-38088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ample Class Diagram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icture 3"/>
          <p:cNvSpPr/>
          <p:nvPr/>
        </p:nvSpPr>
        <p:spPr>
          <a:xfrm>
            <a:off x="645480" y="762120"/>
            <a:ext cx="7964640" cy="60987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Domain Model : visualizing concep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5"/>
          <p:cNvGraphicFramePr/>
          <p:nvPr/>
        </p:nvGraphicFramePr>
        <p:xfrm>
          <a:off x="1752480" y="2819520"/>
          <a:ext cx="5409720" cy="32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5409720" cy="32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7"/>
          <p:cNvSpPr/>
          <p:nvPr/>
        </p:nvSpPr>
        <p:spPr>
          <a:xfrm>
            <a:off x="325440" y="914400"/>
            <a:ext cx="858816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Object modeling might support a reduced “semantic gap” in models at different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5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b8b8b"/>
                </a:solidFill>
                <a:latin typeface="Gill Sans MT"/>
              </a:rPr>
              <a:t>But an exact 1-1 mapping is not always present or desi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 the rules and style guidelines for creating CRC cards, class diagrams, and object diagram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 the processes used to create CRC cards, class diagrams, and object diagram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 able to create CRC cards, class diagrams, and object diagram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 the relationship between the structural and use case model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ot A Diagram of Software Component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eptual models represent ideas, things, and objects in the real-world problem domain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nceptual model is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 picture of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ftware components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es in an object-oriented programming language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llustrates real-world concept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 Steps to 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omain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del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ake a list of candidate concepts 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CRC Card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the class diagram (Domain Model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view the class diagram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STEP 1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Make a list of candidate conce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trategies to Identify Conceptual Class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a conceptual class category lis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Make a list of candidate concept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noun phrase identifica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noun ( and noun phrases) in textual descriptions of the problem domain, and consider them as concepts or attribute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Cases are excellent description to draw for this analysi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 Identificatio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extual analysis of use-case informa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s a rough first cu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mon object lis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ident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o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xtual analysis of use-case informatio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Nou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ommon or improper noun implies a class of object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proper noun or direct reference implies an instance of a clas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ollective noun implies a class of objects made up of groups of instances of another clas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adjective implies an attribute of an object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ver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verb doing verb implies an opera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being verb implies a classification relationship between an object and its clas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having verb implies an aggregation or association relationship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transitive verb implies an opera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n intransitive verb implies an excep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predicate or descriptive verb phrase implies an opera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adverb implies an attribute of a relationship or an operation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76320" y="0"/>
            <a:ext cx="90342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>
            <a:off x="76320" y="22320"/>
            <a:ext cx="9143640" cy="63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1035720" y="1219320"/>
            <a:ext cx="707220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Step 2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reate CRC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al Model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ormal way of representing the objects that are used and created by a business system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opl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lac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ing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n using an iterative proces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rst drawn in a conceptual, business-centric way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n refined in a technology-centric way describing the actual databases and fil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signing with CRC card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F7736FF-BF0F-436A-895B-0E781733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C Cards—Classes, Responsibilities, Collaboration Card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O design is about assigning Responsibilities to Classes for how they Collaborate to accomplish a use case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ually a manual process done in a brainstorming session 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3 X 5 note card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e card per clas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ront has responsibilities and collaboration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ck has attributes neede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tailed Design with CRC card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477C17E-953C-44C7-8114-6EF63266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ign proces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class with primary responsibility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other classes that collaborate with primary class (become requests for service to other classes)</a:t>
            </a:r>
            <a:r>
              <a:rPr b="0" lang="x-none" sz="2300" spc="-1" strike="noStrike">
                <a:solidFill>
                  <a:srgbClr val="464653"/>
                </a:solidFill>
                <a:latin typeface="Gill Sans MT"/>
              </a:rPr>
              <a:t>‏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responsibilities within each class (these become methods)</a:t>
            </a:r>
            <a:r>
              <a:rPr b="0" lang="x-none" sz="2300" spc="-1" strike="noStrike">
                <a:solidFill>
                  <a:srgbClr val="464653"/>
                </a:solidFill>
                <a:latin typeface="Gill Sans MT"/>
              </a:rPr>
              <a:t>‏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RC Card Notatio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18EAB4-7782-43B7-BB01-E672AC61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64680" y="1905120"/>
            <a:ext cx="83980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RC Card Result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DC82B9F-D1D5-414D-9726-AF815CAA2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219320" y="1737360"/>
            <a:ext cx="6833160" cy="39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Step 3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reate Domai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ing the CRC card  you can identify the following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ttributes related to each classe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ssociation between classe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2" name="Picture 1028" descr=""/>
          <p:cNvPicPr/>
          <p:nvPr/>
        </p:nvPicPr>
        <p:blipFill>
          <a:blip r:embed="rId1"/>
          <a:stretch/>
        </p:blipFill>
        <p:spPr>
          <a:xfrm>
            <a:off x="833040" y="1143000"/>
            <a:ext cx="727668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816120" y="1143000"/>
            <a:ext cx="756540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6" name="Picture 1028" descr=""/>
          <p:cNvPicPr/>
          <p:nvPr/>
        </p:nvPicPr>
        <p:blipFill>
          <a:blip r:embed="rId1"/>
          <a:stretch/>
        </p:blipFill>
        <p:spPr>
          <a:xfrm>
            <a:off x="848160" y="1102680"/>
            <a:ext cx="76096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75720" y="685800"/>
            <a:ext cx="747720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al Model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in goal: to discover the key data contained in the problem domain and to build a structural model of the object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Cloud 5"/>
          <p:cNvSpPr/>
          <p:nvPr/>
        </p:nvSpPr>
        <p:spPr>
          <a:xfrm>
            <a:off x="838080" y="3821040"/>
            <a:ext cx="2971440" cy="1904760"/>
          </a:xfrm>
          <a:prstGeom prst="cloud">
            <a:avLst/>
          </a:prstGeom>
          <a:solidFill>
            <a:srgbClr val="ffffff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32" name="Cloud 6"/>
          <p:cNvSpPr/>
          <p:nvPr/>
        </p:nvSpPr>
        <p:spPr>
          <a:xfrm>
            <a:off x="5715000" y="3745080"/>
            <a:ext cx="2590560" cy="1676160"/>
          </a:xfrm>
          <a:prstGeom prst="cloud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33" name="Curved Down Arrow 7"/>
          <p:cNvSpPr/>
          <p:nvPr/>
        </p:nvSpPr>
        <p:spPr>
          <a:xfrm>
            <a:off x="2438280" y="3440160"/>
            <a:ext cx="4266720" cy="914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1461240" y="5726160"/>
            <a:ext cx="187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9"/>
          <p:cNvSpPr/>
          <p:nvPr/>
        </p:nvSpPr>
        <p:spPr>
          <a:xfrm>
            <a:off x="6184440" y="5421240"/>
            <a:ext cx="185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ube 10"/>
          <p:cNvSpPr/>
          <p:nvPr/>
        </p:nvSpPr>
        <p:spPr>
          <a:xfrm>
            <a:off x="2362320" y="4811760"/>
            <a:ext cx="380520" cy="38052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1600200" y="4202280"/>
            <a:ext cx="483840" cy="6854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2"/>
          <p:cNvSpPr/>
          <p:nvPr/>
        </p:nvSpPr>
        <p:spPr>
          <a:xfrm>
            <a:off x="3894120" y="3600360"/>
            <a:ext cx="1485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3" descr="Slide1.jpg"/>
          <p:cNvPicPr/>
          <p:nvPr/>
        </p:nvPicPr>
        <p:blipFill>
          <a:blip r:embed="rId2"/>
          <a:stretch/>
        </p:blipFill>
        <p:spPr>
          <a:xfrm>
            <a:off x="6324480" y="4495680"/>
            <a:ext cx="686880" cy="655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4" descr="Slide2.jpg"/>
          <p:cNvPicPr/>
          <p:nvPr/>
        </p:nvPicPr>
        <p:blipFill>
          <a:blip r:embed="rId3"/>
          <a:stretch/>
        </p:blipFill>
        <p:spPr>
          <a:xfrm>
            <a:off x="7086600" y="4114800"/>
            <a:ext cx="63612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ssociation Category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corded i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uses or manages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a transaction of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mmunicates with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a transaction related to another transactio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next to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B via a transac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corded i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uses or manages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a transaction of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mmunicates with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a transaction related to another transactio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next to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B via a transac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1"/>
          <a:stretch/>
        </p:blipFill>
        <p:spPr>
          <a:xfrm>
            <a:off x="226080" y="609480"/>
            <a:ext cx="853668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1028880" y="1219320"/>
            <a:ext cx="708588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1320840" y="1477800"/>
            <a:ext cx="6501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1314360" y="1510560"/>
            <a:ext cx="6514920" cy="43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01" name="Picture 1028" descr=""/>
          <p:cNvPicPr/>
          <p:nvPr/>
        </p:nvPicPr>
        <p:blipFill>
          <a:blip r:embed="rId1"/>
          <a:stretch/>
        </p:blipFill>
        <p:spPr>
          <a:xfrm>
            <a:off x="1314360" y="1510560"/>
            <a:ext cx="6514920" cy="43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4" name="Picture 1028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 Common Languag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838720" cy="49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al models create a well-defined vocabulary  shared by users and analyst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es created during analysis are not the classes that programmers develop during implementatio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is refinement comes late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structural model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C card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(and Object) diagram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 rot="21540000">
            <a:off x="698400" y="3118320"/>
            <a:ext cx="3064320" cy="15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asses, Attributes, &amp; Operations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152920" cy="38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mplates for instances of people, places, or thing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tribut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operties that describe the state of an instance of a class (an object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peration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tions or functions that a class can perform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4" descr="Slide2.jpg"/>
          <p:cNvPicPr/>
          <p:nvPr/>
        </p:nvPicPr>
        <p:blipFill>
          <a:blip r:embed="rId1"/>
          <a:stretch/>
        </p:blipFill>
        <p:spPr>
          <a:xfrm>
            <a:off x="990720" y="4791240"/>
            <a:ext cx="1837800" cy="1761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lationship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4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how classes relate to one another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basic types in UML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eneralization 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inheritance of attributes and operations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ggregation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ates parts to wholes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ssociation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scellaneous relationships between classes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ponsibilities &amp; Collaboration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ponsibilitie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Knowing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Doing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laboratio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Objects working together to service a request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ont-Side of a CRC Card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320840" y="1986120"/>
            <a:ext cx="6501960" cy="34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ushpin</Template>
  <TotalTime>2921</TotalTime>
  <Application>LibreOffice/7.4.7.2$Linux_X86_64 LibreOffice_project/40$Build-2</Application>
  <AppVersion>15.0000</AppVersion>
  <Words>1070</Words>
  <Paragraphs>191</Paragraphs>
  <Company>USM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7:24:34Z</dcterms:created>
  <dc:creator>Fernando Maymí</dc:creator>
  <dc:description/>
  <dc:language>en-US</dc:language>
  <cp:lastModifiedBy>Mac</cp:lastModifiedBy>
  <dcterms:modified xsi:type="dcterms:W3CDTF">2013-10-20T17:39:49Z</dcterms:modified>
  <cp:revision>72</cp:revision>
  <dc:subject/>
  <dc:title>Chapter 2: Project Selection &amp;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6</vt:r8>
  </property>
</Properties>
</file>