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19C-0FD9-464F-A38E-FA14BB86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4AA-5294-4726-800A-2D211B2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8A4CF-3161-474A-B861-0A3C9B8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88A3D-68D9-469D-87B8-4D4A18BF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05C23-5E48-4146-AEFB-507CC71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E283-FBD9-4B0F-A6AC-69C28CA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2597B-6429-4DF1-AD57-14A6A1C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23FD9-66B9-43C2-9FD4-D3276C9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AA5DD-ACA8-4946-B8B1-F8C62B1D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DC5E4-28D5-402E-AE87-40507711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94A3-8C9E-429F-9A91-AC4F7D97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A2D-5E78-45EA-94BE-689C34F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789-87B7-42D7-832C-4AAC438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B38C-171E-4F2F-BFF8-82F3AAA7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0E86-C90C-4BDC-BED0-BD2F4A4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02D-F46C-4C00-ADCA-D0CC700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3C6-5E80-4B37-B546-C34210C9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2610-2061-4A1B-9141-78E2BEF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973D-3A70-428D-BA22-1446C842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6B3-CFFD-44F7-B4EF-F38760B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C4F-4B7E-4CBF-BDD2-9AA4A89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7F84-AD1C-44A4-926F-82EC082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A08F-A61D-46FC-B499-0EB2182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A21-D715-4CD5-B3ED-35053EE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FFBC-A0E9-4213-8248-9956A51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FAA-F6C0-45F8-87C1-49D2A27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2BBC-41F7-4854-99C2-8BF663C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0B99-FDEA-43D3-B49D-1432F8B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C007-0D38-4DDB-8F1B-3EE17829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C04B-8277-40CC-BA76-4F4641C7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8163-DD7E-4943-B589-9B1D821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97D-7F1E-4783-A4E6-8A284D5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908B-A3E8-4FC1-B135-49734C31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FB35-972D-4D77-ABE9-F26A830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8290-6FB5-48AC-9C8E-E0732C4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AF71-E262-426D-BDB2-6BC0150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1485-8F60-4A89-9CC2-8B0CD1DC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EFEC-4155-4068-A9C3-298FEC3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69D0-1629-4B60-BBA0-0F66D4BF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B9D9-C3A6-4D73-A712-9366C74A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FA4F-89AC-48B3-BDA0-D115A41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1907-7C99-4878-831F-E5AE4CF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1BA-594F-4A92-B5DF-EFB1132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C913-1CC3-4965-A237-57921487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8890-1919-4EB4-B934-397B6DF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EE82-9D46-4328-899D-34FC9C7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8183-93A2-4FE0-8CEA-6CE344E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D88BC-73FA-41F2-BF21-BF90DF8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9682-75F1-4B82-A59B-2B6CA30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6320-AE9E-4C50-B592-7BC13B8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5311-F9D7-4B93-ABDD-173CD3D7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D6C3-1A1E-4AE5-B055-70D347A3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3446-086D-4D3F-85A6-921F9CDB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EE2-8FD8-4CA2-859B-1B9B9E7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097B-B131-4936-B89C-C5560D6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3D1C-BCF5-4795-B25D-150BD69B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F71D-CDF8-41B7-8D34-C012291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BE1A-9AA1-4CD4-B9B2-AAB3CE3C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A3A5-EF6F-4B44-907E-9B7FCE5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E81C-8BE0-4436-BC4D-90CBBEE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096A-C162-41FE-8239-21B5DBD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58C7-020D-492B-9649-D57F7E92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568F-74C2-4DDD-94C6-5C89DC5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4548-97DC-4AC2-B1A5-F88C0E79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06E-E090-42AC-ABB7-0BF02515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FA23-7FFD-47BA-A5B8-757D36E2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12B0-2C79-4727-B99B-8D8F0685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9347-2516-46F6-99B8-C2462DF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E028-6CDE-458B-A491-99FE0B7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6EEB-C97D-4FA1-9265-9FE2B2C2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A896-E5D4-4AB3-B478-0DD3656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673C-3E24-4AA5-9D7E-7356CF6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3980-080A-45B7-A2AC-4AB1A96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3AD2-214F-4B59-BA88-1DB9DD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595B-5024-484C-B5DA-D2C8C40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D5C-889F-4E6D-9A60-CE68998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5151-654A-4C92-B418-8F5F62B3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61F1-992E-4E34-93E5-AE7CEC5A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60D3-B22D-4F82-A728-E5B7AD87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CFB8-877E-4169-B88F-DC60CFDB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4670-A864-4BBE-B17B-5C31680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3083-29AD-4B76-A8A9-A0450E5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9BF3-8035-49FE-BFEF-3441AD77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8392-8D46-44D0-A07D-72DE7B08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C4F7-14C4-4490-88F6-BF0CAB4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7E54-9E9E-4734-9EDC-684D266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1A1-2D99-476E-BCDD-8C3DD01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C06C-B5A7-44B3-AD5A-97AF353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D2AE-2C7A-41E4-8424-EB807F8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2228-6D67-4A6E-B957-C5EB965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1732-A42F-4E69-AE61-4FCF2F4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D3B8-F404-4B21-B988-ED4E649F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093E-FDC0-4015-9ABD-59418D32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8B78-E9FA-4FCB-9803-D2C324E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76DC1-0D93-441C-BBE7-DD2F75FF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C693-340A-44D4-A564-B91B8A2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7284-4D6E-4AA3-8DCC-EC7EAF9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778-D22A-4B51-9199-C96DF912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EE3F-F589-4256-A8E6-DAB25499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2D04-2DD0-4AAB-B0A5-4B32004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6A710-E82C-4E53-8096-5AFFAAA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2E0F-2F64-4F43-B3F6-02BF6A4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8A13-4742-4A07-9A20-63BAC2D3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32F8B-380D-4D7D-9C05-8E5C5B93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7082-32E3-4CFC-A9CD-E40D1F30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4D005-FEE4-4B8A-A26B-EF1780DB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37646-DC74-4830-B405-6CC40DA0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AE08-9B97-4ED0-A30D-8BC58AC8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8645D94-ABED-4139-9EF8-96326B9FA21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37AEB43-71A9-455E-A88B-8EEEF155010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1E2FDE-11F8-4DE0-B8E6-9C6C55C91E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E7F8C7-635B-44C1-AA84-4062B1BB924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188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DC29FF6-2D59-40E8-89D3-F98A9CF52F0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234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5B0DE0-5CE3-44D6-9B16-0810DE5AEF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281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1" hidden="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B1368B-8C1D-4A58-968E-9A9A863800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331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 hidden="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dt" idx="22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A1A2C85-B902-4366-BA58-61F45140B6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379" name="Picture 10" descr="wiley_logo.png"/>
          <p:cNvPicPr/>
          <p:nvPr/>
        </p:nvPicPr>
        <p:blipFill>
          <a:blip r:embed="rId2"/>
          <a:stretch/>
        </p:blipFill>
        <p:spPr>
          <a:xfrm>
            <a:off x="476280" y="6248520"/>
            <a:ext cx="361440" cy="4852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1"/>
          <p:cNvSpPr/>
          <p:nvPr/>
        </p:nvSpPr>
        <p:spPr>
          <a:xfrm>
            <a:off x="840600" y="6289560"/>
            <a:ext cx="6303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werPoint Presentation for Dennis, Wixom, &amp; Tegarden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ystems Analysis and Design with UML, 3rd Ed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09 John Wiley &amp; Sons, Inc. 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5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8FAAB62-411B-43CA-B8EF-31C4059E49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ructural Modeling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ck-Side of a CRC Card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320840" y="1897200"/>
            <a:ext cx="650196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lements of a Class Diagram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567720" y="1066680"/>
            <a:ext cx="789012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ttribute Visibility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 visibility can be specified in the class diagra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attributes (+) are visible to all clas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attributes (-) are visible only to an instance of the class in which they are define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otected attributes (#) are like private attributes, but are also visible to descendant clas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isibility helps restrict access to the attributes and thus ensure consistency and integrity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peration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s object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ry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kes information about state availabl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pdate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hanges values of some or all attribu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Elements of Class Diagram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30360" y="1219320"/>
            <a:ext cx="797976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iciti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1143000" y="1752480"/>
            <a:ext cx="1371240" cy="914400"/>
            <a:chOff x="1143000" y="1752480"/>
            <a:chExt cx="1371240" cy="914400"/>
          </a:xfrm>
        </p:grpSpPr>
        <p:sp>
          <p:nvSpPr>
            <p:cNvPr id="464" name="Rectangle 3"/>
            <p:cNvSpPr/>
            <p:nvPr/>
          </p:nvSpPr>
          <p:spPr>
            <a:xfrm>
              <a:off x="11430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Depar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"/>
            <p:cNvSpPr/>
            <p:nvPr/>
          </p:nvSpPr>
          <p:spPr>
            <a:xfrm>
              <a:off x="11430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66" name="Rectangle 5"/>
            <p:cNvSpPr/>
            <p:nvPr/>
          </p:nvSpPr>
          <p:spPr>
            <a:xfrm>
              <a:off x="11430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67" name="Group 7"/>
          <p:cNvGrpSpPr/>
          <p:nvPr/>
        </p:nvGrpSpPr>
        <p:grpSpPr>
          <a:xfrm>
            <a:off x="4114800" y="1752480"/>
            <a:ext cx="1371240" cy="914400"/>
            <a:chOff x="4114800" y="1752480"/>
            <a:chExt cx="1371240" cy="914400"/>
          </a:xfrm>
        </p:grpSpPr>
        <p:sp>
          <p:nvSpPr>
            <p:cNvPr id="468" name="Rectangle 8"/>
            <p:cNvSpPr/>
            <p:nvPr/>
          </p:nvSpPr>
          <p:spPr>
            <a:xfrm>
              <a:off x="41148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B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"/>
            <p:cNvSpPr/>
            <p:nvPr/>
          </p:nvSpPr>
          <p:spPr>
            <a:xfrm>
              <a:off x="41148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0" name="Rectangle 10"/>
            <p:cNvSpPr/>
            <p:nvPr/>
          </p:nvSpPr>
          <p:spPr>
            <a:xfrm>
              <a:off x="41148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1" name="Group 11"/>
          <p:cNvGrpSpPr/>
          <p:nvPr/>
        </p:nvGrpSpPr>
        <p:grpSpPr>
          <a:xfrm>
            <a:off x="1143000" y="3200400"/>
            <a:ext cx="1371240" cy="914040"/>
            <a:chOff x="1143000" y="3200400"/>
            <a:chExt cx="1371240" cy="914040"/>
          </a:xfrm>
        </p:grpSpPr>
        <p:sp>
          <p:nvSpPr>
            <p:cNvPr id="472" name="Rectangle 12"/>
            <p:cNvSpPr/>
            <p:nvPr/>
          </p:nvSpPr>
          <p:spPr>
            <a:xfrm>
              <a:off x="11430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3"/>
            <p:cNvSpPr/>
            <p:nvPr/>
          </p:nvSpPr>
          <p:spPr>
            <a:xfrm>
              <a:off x="11430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4" name="Rectangle 14"/>
            <p:cNvSpPr/>
            <p:nvPr/>
          </p:nvSpPr>
          <p:spPr>
            <a:xfrm>
              <a:off x="11430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5" name="Group 15"/>
          <p:cNvGrpSpPr/>
          <p:nvPr/>
        </p:nvGrpSpPr>
        <p:grpSpPr>
          <a:xfrm>
            <a:off x="4114800" y="3200400"/>
            <a:ext cx="1371240" cy="914040"/>
            <a:chOff x="4114800" y="3200400"/>
            <a:chExt cx="1371240" cy="914040"/>
          </a:xfrm>
        </p:grpSpPr>
        <p:sp>
          <p:nvSpPr>
            <p:cNvPr id="476" name="Rectangle 16"/>
            <p:cNvSpPr/>
            <p:nvPr/>
          </p:nvSpPr>
          <p:spPr>
            <a:xfrm>
              <a:off x="41148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7"/>
            <p:cNvSpPr/>
            <p:nvPr/>
          </p:nvSpPr>
          <p:spPr>
            <a:xfrm>
              <a:off x="41148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78" name="Rectangle 18"/>
            <p:cNvSpPr/>
            <p:nvPr/>
          </p:nvSpPr>
          <p:spPr>
            <a:xfrm>
              <a:off x="41148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79" name="Group 19"/>
          <p:cNvGrpSpPr/>
          <p:nvPr/>
        </p:nvGrpSpPr>
        <p:grpSpPr>
          <a:xfrm>
            <a:off x="1143000" y="4648320"/>
            <a:ext cx="1371240" cy="914040"/>
            <a:chOff x="1143000" y="4648320"/>
            <a:chExt cx="1371240" cy="914040"/>
          </a:xfrm>
        </p:grpSpPr>
        <p:sp>
          <p:nvSpPr>
            <p:cNvPr id="480" name="Rectangle 20"/>
            <p:cNvSpPr/>
            <p:nvPr/>
          </p:nvSpPr>
          <p:spPr>
            <a:xfrm>
              <a:off x="11430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B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1"/>
            <p:cNvSpPr/>
            <p:nvPr/>
          </p:nvSpPr>
          <p:spPr>
            <a:xfrm>
              <a:off x="11430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82" name="Rectangle 22"/>
            <p:cNvSpPr/>
            <p:nvPr/>
          </p:nvSpPr>
          <p:spPr>
            <a:xfrm>
              <a:off x="11430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4114800" y="4648320"/>
            <a:ext cx="1371240" cy="914040"/>
            <a:chOff x="4114800" y="4648320"/>
            <a:chExt cx="1371240" cy="914040"/>
          </a:xfrm>
        </p:grpSpPr>
        <p:sp>
          <p:nvSpPr>
            <p:cNvPr id="484" name="Rectangle 24"/>
            <p:cNvSpPr/>
            <p:nvPr/>
          </p:nvSpPr>
          <p:spPr>
            <a:xfrm>
              <a:off x="41148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5"/>
            <p:cNvSpPr/>
            <p:nvPr/>
          </p:nvSpPr>
          <p:spPr>
            <a:xfrm>
              <a:off x="41148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86" name="Rectangle 26"/>
            <p:cNvSpPr/>
            <p:nvPr/>
          </p:nvSpPr>
          <p:spPr>
            <a:xfrm>
              <a:off x="41148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cxnSp>
        <p:nvCxnSpPr>
          <p:cNvPr id="487" name="Straight Connector 28"/>
          <p:cNvCxnSpPr/>
          <p:nvPr/>
        </p:nvCxnSpPr>
        <p:spPr>
          <a:xfrm>
            <a:off x="2514600" y="220968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88" name="TextBox 31"/>
          <p:cNvSpPr/>
          <p:nvPr/>
        </p:nvSpPr>
        <p:spPr>
          <a:xfrm>
            <a:off x="251712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381240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Connector 33"/>
          <p:cNvCxnSpPr/>
          <p:nvPr/>
        </p:nvCxnSpPr>
        <p:spPr>
          <a:xfrm>
            <a:off x="2514600" y="365760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91" name="TextBox 34"/>
          <p:cNvSpPr/>
          <p:nvPr/>
        </p:nvSpPr>
        <p:spPr>
          <a:xfrm>
            <a:off x="2517120" y="36576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5"/>
          <p:cNvSpPr/>
          <p:nvPr/>
        </p:nvSpPr>
        <p:spPr>
          <a:xfrm>
            <a:off x="3584160" y="3657600"/>
            <a:ext cx="52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Straight Connector 36"/>
          <p:cNvCxnSpPr/>
          <p:nvPr/>
        </p:nvCxnSpPr>
        <p:spPr>
          <a:xfrm>
            <a:off x="2514600" y="5105160"/>
            <a:ext cx="1600560" cy="216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494" name="TextBox 37"/>
          <p:cNvSpPr/>
          <p:nvPr/>
        </p:nvSpPr>
        <p:spPr>
          <a:xfrm>
            <a:off x="2517120" y="5105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8"/>
          <p:cNvSpPr/>
          <p:nvPr/>
        </p:nvSpPr>
        <p:spPr>
          <a:xfrm>
            <a:off x="3584160" y="5105520"/>
            <a:ext cx="52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1"/>
          <p:cNvSpPr/>
          <p:nvPr/>
        </p:nvSpPr>
        <p:spPr>
          <a:xfrm>
            <a:off x="5715000" y="174312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ly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partment has one and only one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2"/>
          <p:cNvSpPr/>
          <p:nvPr/>
        </p:nvSpPr>
        <p:spPr>
          <a:xfrm>
            <a:off x="5715000" y="319104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or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has zero to many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3"/>
          <p:cNvSpPr/>
          <p:nvPr/>
        </p:nvSpPr>
        <p:spPr>
          <a:xfrm>
            <a:off x="5715000" y="463860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r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ss is responsible for one or mor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Multipliciti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6"/>
          <p:cNvGrpSpPr/>
          <p:nvPr/>
        </p:nvGrpSpPr>
        <p:grpSpPr>
          <a:xfrm>
            <a:off x="1143000" y="1752480"/>
            <a:ext cx="1371240" cy="914400"/>
            <a:chOff x="1143000" y="1752480"/>
            <a:chExt cx="1371240" cy="914400"/>
          </a:xfrm>
        </p:grpSpPr>
        <p:sp>
          <p:nvSpPr>
            <p:cNvPr id="501" name="Rectangle 3"/>
            <p:cNvSpPr/>
            <p:nvPr/>
          </p:nvSpPr>
          <p:spPr>
            <a:xfrm>
              <a:off x="11430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4"/>
            <p:cNvSpPr/>
            <p:nvPr/>
          </p:nvSpPr>
          <p:spPr>
            <a:xfrm>
              <a:off x="11430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03" name="Rectangle 5"/>
            <p:cNvSpPr/>
            <p:nvPr/>
          </p:nvSpPr>
          <p:spPr>
            <a:xfrm>
              <a:off x="11430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04" name="Group 7"/>
          <p:cNvGrpSpPr/>
          <p:nvPr/>
        </p:nvGrpSpPr>
        <p:grpSpPr>
          <a:xfrm>
            <a:off x="4114800" y="1752480"/>
            <a:ext cx="1371240" cy="914400"/>
            <a:chOff x="4114800" y="1752480"/>
            <a:chExt cx="1371240" cy="914400"/>
          </a:xfrm>
        </p:grpSpPr>
        <p:sp>
          <p:nvSpPr>
            <p:cNvPr id="505" name="Rectangle 8"/>
            <p:cNvSpPr/>
            <p:nvPr/>
          </p:nvSpPr>
          <p:spPr>
            <a:xfrm>
              <a:off x="4114800" y="175248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Sp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9"/>
            <p:cNvSpPr/>
            <p:nvPr/>
          </p:nvSpPr>
          <p:spPr>
            <a:xfrm>
              <a:off x="4114800" y="20574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07" name="Rectangle 10"/>
            <p:cNvSpPr/>
            <p:nvPr/>
          </p:nvSpPr>
          <p:spPr>
            <a:xfrm>
              <a:off x="4114800" y="2362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1143000" y="3200400"/>
            <a:ext cx="1371240" cy="914040"/>
            <a:chOff x="1143000" y="3200400"/>
            <a:chExt cx="1371240" cy="914040"/>
          </a:xfrm>
        </p:grpSpPr>
        <p:sp>
          <p:nvSpPr>
            <p:cNvPr id="509" name="Rectangle 12"/>
            <p:cNvSpPr/>
            <p:nvPr/>
          </p:nvSpPr>
          <p:spPr>
            <a:xfrm>
              <a:off x="11430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>
              <a:off x="11430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>
              <a:off x="11430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4114800" y="3200400"/>
            <a:ext cx="1371240" cy="914040"/>
            <a:chOff x="4114800" y="3200400"/>
            <a:chExt cx="1371240" cy="914040"/>
          </a:xfrm>
        </p:grpSpPr>
        <p:sp>
          <p:nvSpPr>
            <p:cNvPr id="513" name="Rectangle 16"/>
            <p:cNvSpPr/>
            <p:nvPr/>
          </p:nvSpPr>
          <p:spPr>
            <a:xfrm>
              <a:off x="4114800" y="320040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Va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"/>
            <p:cNvSpPr/>
            <p:nvPr/>
          </p:nvSpPr>
          <p:spPr>
            <a:xfrm>
              <a:off x="4114800" y="350532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5" name="Rectangle 18"/>
            <p:cNvSpPr/>
            <p:nvPr/>
          </p:nvSpPr>
          <p:spPr>
            <a:xfrm>
              <a:off x="4114800" y="3809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16" name="Group 19"/>
          <p:cNvGrpSpPr/>
          <p:nvPr/>
        </p:nvGrpSpPr>
        <p:grpSpPr>
          <a:xfrm>
            <a:off x="1143000" y="4648320"/>
            <a:ext cx="1371240" cy="914040"/>
            <a:chOff x="1143000" y="4648320"/>
            <a:chExt cx="1371240" cy="914040"/>
          </a:xfrm>
        </p:grpSpPr>
        <p:sp>
          <p:nvSpPr>
            <p:cNvPr id="517" name="Rectangle 20"/>
            <p:cNvSpPr/>
            <p:nvPr/>
          </p:nvSpPr>
          <p:spPr>
            <a:xfrm>
              <a:off x="11430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1"/>
            <p:cNvSpPr/>
            <p:nvPr/>
          </p:nvSpPr>
          <p:spPr>
            <a:xfrm>
              <a:off x="11430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19" name="Rectangle 22"/>
            <p:cNvSpPr/>
            <p:nvPr/>
          </p:nvSpPr>
          <p:spPr>
            <a:xfrm>
              <a:off x="11430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grpSp>
        <p:nvGrpSpPr>
          <p:cNvPr id="520" name="Group 23"/>
          <p:cNvGrpSpPr/>
          <p:nvPr/>
        </p:nvGrpSpPr>
        <p:grpSpPr>
          <a:xfrm>
            <a:off x="4114800" y="4648320"/>
            <a:ext cx="1371240" cy="914040"/>
            <a:chOff x="4114800" y="4648320"/>
            <a:chExt cx="1371240" cy="914040"/>
          </a:xfrm>
        </p:grpSpPr>
        <p:sp>
          <p:nvSpPr>
            <p:cNvPr id="521" name="Rectangle 24"/>
            <p:cNvSpPr/>
            <p:nvPr/>
          </p:nvSpPr>
          <p:spPr>
            <a:xfrm>
              <a:off x="4114800" y="4648320"/>
              <a:ext cx="1371240" cy="304560"/>
            </a:xfrm>
            <a:prstGeom prst="rect">
              <a:avLst/>
            </a:prstGeom>
            <a:solidFill>
              <a:schemeClr val="accent1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1"/>
                  </a:solidFill>
                  <a:latin typeface="Gill Sans MT"/>
                </a:rPr>
                <a:t>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5"/>
            <p:cNvSpPr/>
            <p:nvPr/>
          </p:nvSpPr>
          <p:spPr>
            <a:xfrm>
              <a:off x="4114800" y="495288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23" name="Rectangle 26"/>
            <p:cNvSpPr/>
            <p:nvPr/>
          </p:nvSpPr>
          <p:spPr>
            <a:xfrm>
              <a:off x="4114800" y="5257800"/>
              <a:ext cx="1371240" cy="304560"/>
            </a:xfrm>
            <a:prstGeom prst="rect">
              <a:avLst/>
            </a:pr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cxnSp>
        <p:nvCxnSpPr>
          <p:cNvPr id="524" name="Straight Connector 28"/>
          <p:cNvCxnSpPr/>
          <p:nvPr/>
        </p:nvCxnSpPr>
        <p:spPr>
          <a:xfrm>
            <a:off x="2514600" y="220968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25" name="TextBox 31"/>
          <p:cNvSpPr/>
          <p:nvPr/>
        </p:nvSpPr>
        <p:spPr>
          <a:xfrm>
            <a:off x="2517120" y="22096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2"/>
          <p:cNvSpPr/>
          <p:nvPr/>
        </p:nvSpPr>
        <p:spPr>
          <a:xfrm>
            <a:off x="3548520" y="220968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Connector 33"/>
          <p:cNvCxnSpPr/>
          <p:nvPr/>
        </p:nvCxnSpPr>
        <p:spPr>
          <a:xfrm>
            <a:off x="2514600" y="3657600"/>
            <a:ext cx="1600560" cy="180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28" name="TextBox 34"/>
          <p:cNvSpPr/>
          <p:nvPr/>
        </p:nvSpPr>
        <p:spPr>
          <a:xfrm>
            <a:off x="2517120" y="36576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5"/>
          <p:cNvSpPr/>
          <p:nvPr/>
        </p:nvSpPr>
        <p:spPr>
          <a:xfrm>
            <a:off x="3548520" y="365760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Straight Connector 36"/>
          <p:cNvCxnSpPr/>
          <p:nvPr/>
        </p:nvCxnSpPr>
        <p:spPr>
          <a:xfrm>
            <a:off x="2514600" y="5105160"/>
            <a:ext cx="1600560" cy="2160"/>
          </a:xfrm>
          <a:prstGeom prst="straightConnector1">
            <a:avLst/>
          </a:prstGeom>
          <a:ln w="25400">
            <a:solidFill>
              <a:srgbClr val="727ca3"/>
            </a:solidFill>
            <a:round/>
          </a:ln>
        </p:spPr>
      </p:cxnSp>
      <p:sp>
        <p:nvSpPr>
          <p:cNvPr id="531" name="TextBox 37"/>
          <p:cNvSpPr/>
          <p:nvPr/>
        </p:nvSpPr>
        <p:spPr>
          <a:xfrm>
            <a:off x="2517120" y="51055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8"/>
          <p:cNvSpPr/>
          <p:nvPr/>
        </p:nvSpPr>
        <p:spPr>
          <a:xfrm>
            <a:off x="3281040" y="5105520"/>
            <a:ext cx="8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.3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5715000" y="174312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or 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be married to 0 or 1 sp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715000" y="3191040"/>
            <a:ext cx="266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take 2 to 4 vacations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715000" y="4638600"/>
            <a:ext cx="2819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disjoint 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ployee can be in 1 to 3 or 5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2320" y="-3808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ample Class Diagram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icture 3"/>
          <p:cNvSpPr/>
          <p:nvPr/>
        </p:nvSpPr>
        <p:spPr>
          <a:xfrm>
            <a:off x="645480" y="762120"/>
            <a:ext cx="7964640" cy="60987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Domain Model : visualizing concep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5"/>
          <p:cNvGraphicFramePr/>
          <p:nvPr/>
        </p:nvGraphicFramePr>
        <p:xfrm>
          <a:off x="1752480" y="2819520"/>
          <a:ext cx="5409720" cy="32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5409720" cy="32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7"/>
          <p:cNvSpPr/>
          <p:nvPr/>
        </p:nvSpPr>
        <p:spPr>
          <a:xfrm>
            <a:off x="325440" y="914400"/>
            <a:ext cx="858816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bject modeling might support a reduced “semantic gap” in models at different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5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b8b8b"/>
                </a:solidFill>
                <a:latin typeface="Gill Sans MT"/>
              </a:rPr>
              <a:t>But an exact 1-1 mapping is not always present or desi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rules and style guidelines for creating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processes used to create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able to create CRC cards, class diagrams, and object diagram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 the relationship between the structural and use case model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ot A Diagram of Software Component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ptual models represent ideas, things, and objects in the real-world problem domain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nceptual model is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 picture of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ftware component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es in an object-oriented programming language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llustrates real-world concept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 Steps to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omain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el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ake a list of candidate concepts 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CRC Card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the class diagram (Domain Model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view the class diagra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1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Make a list of candidate conce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ategies to Identify Conceptual Classe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a conceptual class category lis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Make a list of candidate concept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noun phrase identifica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noun ( and noun phrases) in textual descriptions of the problem domain, and consider them as concepts or attribut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Cases are excellent description to draw for this analysi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 Identific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extual analysis of use-case informa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s a rough first cu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on object lis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iden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l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xtual analysis of use-case inform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Nou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ommon or improper noun implies a class of object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proper noun or direct reference implies an instance of a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ollective noun implies a class of objects made up of groups of instances of another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adjective implies an attribute of an object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ver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verb doing verb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being verb implies a classification relationship between an object and its clas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having verb implies an aggregation or association relationship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transitive verb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n intransitive verb implies an excep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6440" indent="-2480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predicate or descriptive verb phrase implies an operation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adverb implies an attribute of a relationship or an operation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76320" y="0"/>
            <a:ext cx="90342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76320" y="22320"/>
            <a:ext cx="9143640" cy="63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1035720" y="1219320"/>
            <a:ext cx="707220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2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reate 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al Model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ormal way of representing the objects that are used and created by a business system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opl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lac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ing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n using an iterative proces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 drawn in a conceptual, business-centric way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n refined in a technology-centric way describing the actual databases and fil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signing with CRC card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0FC596F-50B9-437E-A35D-2E691329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C Cards—Classes, Responsibilities, Collaboration Cards.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O design is about assigning Responsibilities to Classes for how they Collaborate to accomplish a use case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ually a manual process done in a brainstorming session 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3 X 5 note card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e card per clas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ront has responsibilities and collaboration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ck has attributes neede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tailed Design with CRC card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16118C-23FD-4815-ABFC-C36F7B3E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ign proces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class with primary responsibility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other classes that collaborate with primary class (become requests for service to other classes)</a:t>
            </a:r>
            <a:r>
              <a:rPr b="0" lang="x-none" sz="2300" spc="-1" strike="noStrike">
                <a:solidFill>
                  <a:srgbClr val="464653"/>
                </a:solidFill>
                <a:latin typeface="Gill Sans MT"/>
              </a:rPr>
              <a:t>‏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dentify responsibilities within each class (these become methods)</a:t>
            </a:r>
            <a:r>
              <a:rPr b="0" lang="x-none" sz="2300" spc="-1" strike="noStrike">
                <a:solidFill>
                  <a:srgbClr val="464653"/>
                </a:solidFill>
                <a:latin typeface="Gill Sans MT"/>
              </a:rPr>
              <a:t>‏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RC Card Notatio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ACCE7C-C7AC-4589-833A-12DC1253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64680" y="1905120"/>
            <a:ext cx="83980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RC Card Result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ADBF7AE-5EAB-4165-BB6C-602E288C5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219320" y="1737360"/>
            <a:ext cx="6833160" cy="39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ep 3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reate Domai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ing the CRC card  you can identify the following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ttributes related to each class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ssociation between classes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2" name="Picture 1028" descr=""/>
          <p:cNvPicPr/>
          <p:nvPr/>
        </p:nvPicPr>
        <p:blipFill>
          <a:blip r:embed="rId1"/>
          <a:stretch/>
        </p:blipFill>
        <p:spPr>
          <a:xfrm>
            <a:off x="833040" y="1143000"/>
            <a:ext cx="727668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816120" y="1143000"/>
            <a:ext cx="756540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6" name="Picture 1028" descr=""/>
          <p:cNvPicPr/>
          <p:nvPr/>
        </p:nvPicPr>
        <p:blipFill>
          <a:blip r:embed="rId1"/>
          <a:stretch/>
        </p:blipFill>
        <p:spPr>
          <a:xfrm>
            <a:off x="848160" y="1102680"/>
            <a:ext cx="76096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75720" y="685800"/>
            <a:ext cx="747720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al Model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in goal: to discover the key data contained in the problem domain and to build a structural model of the objec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Cloud 5"/>
          <p:cNvSpPr/>
          <p:nvPr/>
        </p:nvSpPr>
        <p:spPr>
          <a:xfrm>
            <a:off x="838080" y="3821040"/>
            <a:ext cx="2971440" cy="1904760"/>
          </a:xfrm>
          <a:prstGeom prst="cloud">
            <a:avLst/>
          </a:prstGeom>
          <a:solidFill>
            <a:srgbClr val="ffffff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32" name="Cloud 6"/>
          <p:cNvSpPr/>
          <p:nvPr/>
        </p:nvSpPr>
        <p:spPr>
          <a:xfrm>
            <a:off x="5715000" y="3745080"/>
            <a:ext cx="2590560" cy="1676160"/>
          </a:xfrm>
          <a:prstGeom prst="cloud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33" name="Curved Down Arrow 7"/>
          <p:cNvSpPr/>
          <p:nvPr/>
        </p:nvSpPr>
        <p:spPr>
          <a:xfrm>
            <a:off x="2438280" y="3440160"/>
            <a:ext cx="4266720" cy="914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1461240" y="5726160"/>
            <a:ext cx="187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9"/>
          <p:cNvSpPr/>
          <p:nvPr/>
        </p:nvSpPr>
        <p:spPr>
          <a:xfrm>
            <a:off x="6184440" y="5421240"/>
            <a:ext cx="185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ube 10"/>
          <p:cNvSpPr/>
          <p:nvPr/>
        </p:nvSpPr>
        <p:spPr>
          <a:xfrm>
            <a:off x="2362320" y="4811760"/>
            <a:ext cx="380520" cy="38052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600200" y="4202280"/>
            <a:ext cx="483840" cy="6854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2"/>
          <p:cNvSpPr/>
          <p:nvPr/>
        </p:nvSpPr>
        <p:spPr>
          <a:xfrm>
            <a:off x="3894120" y="3600360"/>
            <a:ext cx="1485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3" descr="Slide1.jpg"/>
          <p:cNvPicPr/>
          <p:nvPr/>
        </p:nvPicPr>
        <p:blipFill>
          <a:blip r:embed="rId2"/>
          <a:stretch/>
        </p:blipFill>
        <p:spPr>
          <a:xfrm>
            <a:off x="6324480" y="4495680"/>
            <a:ext cx="686880" cy="655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Slide2.jpg"/>
          <p:cNvPicPr/>
          <p:nvPr/>
        </p:nvPicPr>
        <p:blipFill>
          <a:blip r:embed="rId3"/>
          <a:stretch/>
        </p:blipFill>
        <p:spPr>
          <a:xfrm>
            <a:off x="7086600" y="4114800"/>
            <a:ext cx="636120" cy="6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ssociation Category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corded i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s or manages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a transaction of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unicates with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a transaction related to another transactio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next to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B via a transac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corded i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s or manages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a transaction of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unicates with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a transaction related to another transaction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next to B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is related to B via a transactio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226080" y="609480"/>
            <a:ext cx="853668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1028880" y="1219320"/>
            <a:ext cx="708588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1320840" y="1477800"/>
            <a:ext cx="6501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1314360" y="1510560"/>
            <a:ext cx="6514920" cy="43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1" name="Picture 1028" descr=""/>
          <p:cNvPicPr/>
          <p:nvPr/>
        </p:nvPicPr>
        <p:blipFill>
          <a:blip r:embed="rId1"/>
          <a:stretch/>
        </p:blipFill>
        <p:spPr>
          <a:xfrm>
            <a:off x="1314360" y="1510560"/>
            <a:ext cx="6514920" cy="43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s-E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4" name="Picture 1028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Common Language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838720" cy="49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al models create a well-defined vocabulary  shared by users and analyst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es created during analysis are not the classes that programmers develop during implementati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is refinement comes late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structural model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C card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(and Object) diagram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 rot="21540000">
            <a:off x="698400" y="3118320"/>
            <a:ext cx="3064320" cy="15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asses, Attributes, &amp; Operation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152920" cy="38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mplates for instances of people, places, or thing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operties that describe the state of an instance of a class (an object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tions or functions that a class can perform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4" descr="Slide2.jpg"/>
          <p:cNvPicPr/>
          <p:nvPr/>
        </p:nvPicPr>
        <p:blipFill>
          <a:blip r:embed="rId1"/>
          <a:stretch/>
        </p:blipFill>
        <p:spPr>
          <a:xfrm>
            <a:off x="990720" y="4791240"/>
            <a:ext cx="1837800" cy="1761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lationship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4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how classes relate to one another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basic types in UML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eneralization 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inheritance of attributes and operation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ggregation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ates parts to whole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ssociation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cellaneous relationships between classes</a:t>
            </a: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ponsibilities &amp; Collaborations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onsibiliti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Knowing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Doing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Objects working together to service a request</a:t>
            </a:r>
            <a:endParaRPr b="0" lang="es-E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ont-Side of a CRC Card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320840" y="1986120"/>
            <a:ext cx="6501960" cy="34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ushpin</Template>
  <TotalTime>2921</TotalTime>
  <Application>LibreOffice/7.4.7.2$Linux_X86_64 LibreOffice_project/40$Build-2</Application>
  <AppVersion>15.0000</AppVersion>
  <Words>1070</Words>
  <Paragraphs>191</Paragraphs>
  <Company>US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7:24:34Z</dcterms:created>
  <dc:creator>Fernando Maymí</dc:creator>
  <dc:description/>
  <dc:language>en-US</dc:language>
  <cp:lastModifiedBy>Mac</cp:lastModifiedBy>
  <dcterms:modified xsi:type="dcterms:W3CDTF">2013-10-20T17:39:49Z</dcterms:modified>
  <cp:revision>72</cp:revision>
  <dc:subject/>
  <dc:title>Chapter 2: Project Selection &amp;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6</vt:r8>
  </property>
</Properties>
</file>