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8A23-CFC4-4676-819E-89C71F9CA2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5280-2DB6-4EDF-B3D5-798E831D44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In the conceptual model , we don’t mention the type of attribute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In the multiplicity between associations show the “max”  only , especially when “min” can’t be determined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You can mention the main attributes even if its not mentioned in the conceptual mod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In the sales transaction, we first wrote the num of passenger , but later we remove after showing the association between ticket and sales trans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Special Requests(handicap,meal) either to be added to the sale transaction which means the special requests is for all the tickets related to this sa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added to the ticket to show a special request for each ticket. Both are corr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you can add a special concept for “special requests” and associate it with Sale transaction or Ticket according to your assump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3569-1E33-4E47-8E1C-8039C8308FD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date the conceptual model while writing the post condi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5822-8FD5-450B-B418-17435C1ADFA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00BF-B234-4919-A70E-001F646E136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f special request is attached with the sale trans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we can say : request R was cre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as updated by these values and was attached to 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8C2E-06FD-4133-B77C-CD7A08686A3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add “Confirmed boolean to the ticket 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when can we add the passenger nam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E8D2-A03E-489F-B7EB-737670D137F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During SSD : we might discover problems in use case , we have to fix it t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Airline is an actor but not mentioned as actor in use case , so we cant draw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(Seats available, airline notified is not necessary to be mentioned as return in this SS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At this use case we are not adding the passenger n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have to mention the parameters . But if its unknow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qinfo , instead of handicap and meal . Because in the use case its mentioned as requests like handicap and me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0DA8-296D-4F77-9F73-62E1FE78336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don’t know whether it’s an attribute or concept -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dd it as concep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it as attribute in the right concept  or stand alone concept are both correct because this is the first initial of conceptual mode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E664-7FD5-4489-A9A0-AB4F4D62BA9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369E-FAC7-464B-BD72-AE35D7766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C8E9-91D4-421C-AD29-45963CDA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40B2-27B6-4BEE-93E6-11C90C4DF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4809-B599-401E-BDBA-5EE7C427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DB49-334D-4F8A-A6D1-EE2D8101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C5A5-4808-41F6-96AC-AD02BC41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63F0-7280-4FE9-9DB8-19C01DC5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672A-A202-44BB-8973-C63AC645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05F2-D5D4-4E5F-BBBE-72C81372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8254-10EE-4888-A017-EEDF0834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84AB-8912-4F27-B658-32B437B0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D2D5-E7A4-4974-B56C-3CF292CB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B5D9-8C1C-4A3F-BFD5-625F38AA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5AB3-9D1C-475D-B9D8-A74F4B71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698F-A3D4-4E73-8704-EBC8AA3D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8FED-FE99-406B-AA1D-B7307C0F8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5268-2D05-4535-8B33-F4F43F124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FC2B-7D76-4014-A500-EF7D1B41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A9A0-52A3-45EE-AA68-8342DA54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EDA6-BB8E-4D17-AFDF-1CAF70DA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88EF-337C-420B-8F5A-A0928B26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A45E-31C2-4722-B4C4-BBE14976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0D5E-EDF3-4749-9274-3CC84AEE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E44B-F9BA-41AC-B0DB-ECB26344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22F3-50A1-4238-92E3-976F78B91F9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EE1F-6B18-4E38-B58F-0C54B88A4962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1"/>
          <p:cNvCxnSpPr/>
          <p:nvPr/>
        </p:nvCxnSpPr>
        <p:spPr>
          <a:xfrm>
            <a:off x="0" y="380520"/>
            <a:ext cx="9144720" cy="1080"/>
          </a:xfrm>
          <a:prstGeom prst="straightConnector1">
            <a:avLst/>
          </a:prstGeom>
          <a:ln w="9360">
            <a:solidFill>
              <a:srgbClr val="bacece"/>
            </a:solidFill>
            <a:miter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18E1-EF0C-48F2-898B-C1C4CBCA9EA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4DBB-6188-400A-8D80-9505A35919E9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Content Placeholder 5"/>
          <p:cNvSpPr/>
          <p:nvPr/>
        </p:nvSpPr>
        <p:spPr>
          <a:xfrm>
            <a:off x="228600" y="4724280"/>
            <a:ext cx="8763120" cy="1752840"/>
          </a:xfrm>
          <a:prstGeom prst="rect">
            <a:avLst/>
          </a:prstGeom>
          <a:solidFill>
            <a:srgbClr val="ba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9863-0A72-42CD-8422-289618A04C33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600" y="533520"/>
            <a:ext cx="8763120" cy="403848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ase Study: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Purchase Tick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825480" y="4724280"/>
            <a:ext cx="2882880" cy="1752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4383000" y="4773600"/>
            <a:ext cx="4365720" cy="16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EA4F-41B2-4329-9773-AA9FC45588BD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2824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nceptual Model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7"/>
          <p:cNvSpPr/>
          <p:nvPr/>
        </p:nvSpPr>
        <p:spPr>
          <a:xfrm>
            <a:off x="3848040" y="2133720"/>
            <a:ext cx="1295640" cy="30456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19"/>
          <p:cNvSpPr/>
          <p:nvPr/>
        </p:nvSpPr>
        <p:spPr>
          <a:xfrm>
            <a:off x="3848040" y="2438280"/>
            <a:ext cx="1295640" cy="76212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us_i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am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ho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21"/>
          <p:cNvSpPr/>
          <p:nvPr/>
        </p:nvSpPr>
        <p:spPr>
          <a:xfrm>
            <a:off x="2340000" y="3809880"/>
            <a:ext cx="1295280" cy="30492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22"/>
          <p:cNvSpPr/>
          <p:nvPr/>
        </p:nvSpPr>
        <p:spPr>
          <a:xfrm>
            <a:off x="4846680" y="5410080"/>
            <a:ext cx="1295280" cy="30492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lig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23"/>
          <p:cNvSpPr/>
          <p:nvPr/>
        </p:nvSpPr>
        <p:spPr>
          <a:xfrm>
            <a:off x="6591240" y="2133720"/>
            <a:ext cx="1295640" cy="30456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ck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Group 1"/>
          <p:cNvGrpSpPr/>
          <p:nvPr/>
        </p:nvGrpSpPr>
        <p:grpSpPr>
          <a:xfrm>
            <a:off x="762120" y="2209680"/>
            <a:ext cx="1295280" cy="990720"/>
            <a:chOff x="762120" y="2209680"/>
            <a:chExt cx="1295280" cy="990720"/>
          </a:xfrm>
        </p:grpSpPr>
        <p:sp>
          <p:nvSpPr>
            <p:cNvPr id="174" name="Rectangle 20"/>
            <p:cNvSpPr/>
            <p:nvPr/>
          </p:nvSpPr>
          <p:spPr>
            <a:xfrm>
              <a:off x="762120" y="2438280"/>
              <a:ext cx="1295280" cy="762120"/>
            </a:xfrm>
            <a:prstGeom prst="rect">
              <a:avLst/>
            </a:prstGeom>
            <a:gradFill rotWithShape="0">
              <a:gsLst>
                <a:gs pos="0">
                  <a:srgbClr val="c5e6e7"/>
                </a:gs>
                <a:gs pos="100000">
                  <a:srgbClr val="d6eced"/>
                </a:gs>
              </a:gsLst>
              <a:lin ang="16200000"/>
            </a:gradFill>
            <a:ln w="9360">
              <a:solidFill>
                <a:srgbClr val="88aaa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Clerk_i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Nam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Rectangle 24"/>
            <p:cNvSpPr/>
            <p:nvPr/>
          </p:nvSpPr>
          <p:spPr>
            <a:xfrm>
              <a:off x="762120" y="2209680"/>
              <a:ext cx="1295280" cy="304920"/>
            </a:xfrm>
            <a:prstGeom prst="rect">
              <a:avLst/>
            </a:prstGeom>
            <a:gradFill rotWithShape="0">
              <a:gsLst>
                <a:gs pos="0">
                  <a:srgbClr val="c5e6e7"/>
                </a:gs>
                <a:gs pos="100000">
                  <a:srgbClr val="d6eced"/>
                </a:gs>
              </a:gsLst>
              <a:lin ang="16200000"/>
            </a:gradFill>
            <a:ln w="9360">
              <a:solidFill>
                <a:srgbClr val="88aaa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ler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Rectangle 25"/>
          <p:cNvSpPr/>
          <p:nvPr/>
        </p:nvSpPr>
        <p:spPr>
          <a:xfrm>
            <a:off x="2340000" y="4114800"/>
            <a:ext cx="1295280" cy="76212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_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o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26"/>
          <p:cNvSpPr/>
          <p:nvPr/>
        </p:nvSpPr>
        <p:spPr>
          <a:xfrm>
            <a:off x="4846680" y="5715000"/>
            <a:ext cx="1295280" cy="114300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-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-ciy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27"/>
          <p:cNvSpPr/>
          <p:nvPr/>
        </p:nvSpPr>
        <p:spPr>
          <a:xfrm>
            <a:off x="6591240" y="2438280"/>
            <a:ext cx="1295640" cy="120672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s_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ndic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28"/>
          <p:cNvSpPr/>
          <p:nvPr/>
        </p:nvSpPr>
        <p:spPr>
          <a:xfrm>
            <a:off x="762120" y="5396040"/>
            <a:ext cx="1295280" cy="95076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29"/>
          <p:cNvSpPr/>
          <p:nvPr/>
        </p:nvSpPr>
        <p:spPr>
          <a:xfrm>
            <a:off x="762120" y="5060880"/>
            <a:ext cx="1295280" cy="30492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ir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30"/>
          <p:cNvSpPr/>
          <p:nvPr/>
        </p:nvSpPr>
        <p:spPr>
          <a:xfrm>
            <a:off x="4610160" y="3716280"/>
            <a:ext cx="1762200" cy="45900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le Transa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31"/>
          <p:cNvSpPr/>
          <p:nvPr/>
        </p:nvSpPr>
        <p:spPr>
          <a:xfrm>
            <a:off x="4616280" y="4168800"/>
            <a:ext cx="1756080" cy="70020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23"/>
          <p:cNvSpPr/>
          <p:nvPr/>
        </p:nvSpPr>
        <p:spPr>
          <a:xfrm>
            <a:off x="9148680" y="2581200"/>
            <a:ext cx="1295640" cy="30492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 reque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27"/>
          <p:cNvSpPr/>
          <p:nvPr/>
        </p:nvSpPr>
        <p:spPr>
          <a:xfrm>
            <a:off x="9148680" y="2895480"/>
            <a:ext cx="1295640" cy="91440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_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ndic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23"/>
          <p:cNvSpPr/>
          <p:nvPr/>
        </p:nvSpPr>
        <p:spPr>
          <a:xfrm>
            <a:off x="6786720" y="4871880"/>
            <a:ext cx="880920" cy="34164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27"/>
          <p:cNvSpPr/>
          <p:nvPr/>
        </p:nvSpPr>
        <p:spPr>
          <a:xfrm>
            <a:off x="6786720" y="5186520"/>
            <a:ext cx="880920" cy="52848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_n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F1BB-ECEC-4C85-8366-D74E15C6CF76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2824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nceptual Model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3848040" y="2133720"/>
            <a:ext cx="1295640" cy="30456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19"/>
          <p:cNvSpPr/>
          <p:nvPr/>
        </p:nvSpPr>
        <p:spPr>
          <a:xfrm>
            <a:off x="3848040" y="2438280"/>
            <a:ext cx="1295640" cy="76212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s_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20"/>
          <p:cNvSpPr/>
          <p:nvPr/>
        </p:nvSpPr>
        <p:spPr>
          <a:xfrm>
            <a:off x="762120" y="2438280"/>
            <a:ext cx="1295280" cy="76212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rk_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21"/>
          <p:cNvSpPr/>
          <p:nvPr/>
        </p:nvSpPr>
        <p:spPr>
          <a:xfrm>
            <a:off x="2143080" y="3828960"/>
            <a:ext cx="1295280" cy="30492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22"/>
          <p:cNvSpPr/>
          <p:nvPr/>
        </p:nvSpPr>
        <p:spPr>
          <a:xfrm>
            <a:off x="6637320" y="5029200"/>
            <a:ext cx="1295280" cy="30492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lig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23"/>
          <p:cNvSpPr/>
          <p:nvPr/>
        </p:nvSpPr>
        <p:spPr>
          <a:xfrm>
            <a:off x="6591240" y="2133720"/>
            <a:ext cx="1295640" cy="30456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ck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24"/>
          <p:cNvSpPr/>
          <p:nvPr/>
        </p:nvSpPr>
        <p:spPr>
          <a:xfrm>
            <a:off x="762120" y="2209680"/>
            <a:ext cx="1295280" cy="30492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e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25"/>
          <p:cNvSpPr/>
          <p:nvPr/>
        </p:nvSpPr>
        <p:spPr>
          <a:xfrm>
            <a:off x="2143080" y="4133880"/>
            <a:ext cx="1295280" cy="76212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_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o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26"/>
          <p:cNvSpPr/>
          <p:nvPr/>
        </p:nvSpPr>
        <p:spPr>
          <a:xfrm>
            <a:off x="6637320" y="5337000"/>
            <a:ext cx="1295280" cy="114300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-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-ciy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27"/>
          <p:cNvSpPr/>
          <p:nvPr/>
        </p:nvSpPr>
        <p:spPr>
          <a:xfrm>
            <a:off x="6591240" y="2438280"/>
            <a:ext cx="1295640" cy="108288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s_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ndicap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28"/>
          <p:cNvSpPr/>
          <p:nvPr/>
        </p:nvSpPr>
        <p:spPr>
          <a:xfrm>
            <a:off x="762120" y="5396040"/>
            <a:ext cx="1295280" cy="95076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29"/>
          <p:cNvSpPr/>
          <p:nvPr/>
        </p:nvSpPr>
        <p:spPr>
          <a:xfrm>
            <a:off x="762120" y="5060880"/>
            <a:ext cx="1295280" cy="30492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ir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Connector 2"/>
          <p:cNvCxnSpPr>
            <a:endCxn id="202" idx="0"/>
          </p:cNvCxnSpPr>
          <p:nvPr/>
        </p:nvCxnSpPr>
        <p:spPr>
          <a:xfrm>
            <a:off x="5151240" y="3200040"/>
            <a:ext cx="340200" cy="516600"/>
          </a:xfrm>
          <a:prstGeom prst="straightConnector1">
            <a:avLst/>
          </a:prstGeom>
          <a:ln w="9360">
            <a:solidFill>
              <a:srgbClr val="d05f44"/>
            </a:solidFill>
            <a:miter/>
          </a:ln>
        </p:spPr>
      </p:cxnSp>
      <p:cxnSp>
        <p:nvCxnSpPr>
          <p:cNvPr id="203" name="Straight Connector 9"/>
          <p:cNvCxnSpPr>
            <a:stCxn id="198" idx="2"/>
            <a:endCxn id="202" idx="0"/>
          </p:cNvCxnSpPr>
          <p:nvPr/>
        </p:nvCxnSpPr>
        <p:spPr>
          <a:xfrm flipH="1">
            <a:off x="5490360" y="3521160"/>
            <a:ext cx="1748520" cy="195840"/>
          </a:xfrm>
          <a:prstGeom prst="straightConnector1">
            <a:avLst/>
          </a:prstGeom>
          <a:ln w="9360">
            <a:solidFill>
              <a:srgbClr val="d05f44"/>
            </a:solidFill>
            <a:miter/>
          </a:ln>
        </p:spPr>
      </p:cxnSp>
      <p:cxnSp>
        <p:nvCxnSpPr>
          <p:cNvPr id="204" name="Straight Connector 11"/>
          <p:cNvCxnSpPr>
            <a:stCxn id="197" idx="1"/>
            <a:endCxn id="199" idx="3"/>
          </p:cNvCxnSpPr>
          <p:nvPr/>
        </p:nvCxnSpPr>
        <p:spPr>
          <a:xfrm flipH="1" flipV="1">
            <a:off x="2057040" y="5871600"/>
            <a:ext cx="4580640" cy="37080"/>
          </a:xfrm>
          <a:prstGeom prst="straightConnector1">
            <a:avLst/>
          </a:prstGeom>
          <a:ln w="9360">
            <a:solidFill>
              <a:srgbClr val="d05f44"/>
            </a:solidFill>
            <a:miter/>
          </a:ln>
        </p:spPr>
      </p:cxnSp>
      <p:sp>
        <p:nvSpPr>
          <p:cNvPr id="205" name="Rectangle 30"/>
          <p:cNvSpPr/>
          <p:nvPr/>
        </p:nvSpPr>
        <p:spPr>
          <a:xfrm>
            <a:off x="5167440" y="3244680"/>
            <a:ext cx="64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32"/>
          <p:cNvSpPr/>
          <p:nvPr/>
        </p:nvSpPr>
        <p:spPr>
          <a:xfrm>
            <a:off x="5100480" y="2925720"/>
            <a:ext cx="40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33"/>
          <p:cNvSpPr/>
          <p:nvPr/>
        </p:nvSpPr>
        <p:spPr>
          <a:xfrm>
            <a:off x="6392880" y="3589200"/>
            <a:ext cx="704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longs t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34"/>
          <p:cNvSpPr/>
          <p:nvPr/>
        </p:nvSpPr>
        <p:spPr>
          <a:xfrm>
            <a:off x="5651640" y="3502080"/>
            <a:ext cx="40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35"/>
          <p:cNvSpPr/>
          <p:nvPr/>
        </p:nvSpPr>
        <p:spPr>
          <a:xfrm>
            <a:off x="6948360" y="3521160"/>
            <a:ext cx="40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0" name="Straight Connector 16"/>
          <p:cNvCxnSpPr>
            <a:stCxn id="211" idx="1"/>
            <a:endCxn id="196" idx="3"/>
          </p:cNvCxnSpPr>
          <p:nvPr/>
        </p:nvCxnSpPr>
        <p:spPr>
          <a:xfrm flipH="1">
            <a:off x="3437640" y="4498920"/>
            <a:ext cx="1172520" cy="16560"/>
          </a:xfrm>
          <a:prstGeom prst="straightConnector1">
            <a:avLst/>
          </a:prstGeom>
          <a:ln w="9360">
            <a:solidFill>
              <a:srgbClr val="d05f44"/>
            </a:solidFill>
            <a:miter/>
          </a:ln>
        </p:spPr>
      </p:cxnSp>
      <p:sp>
        <p:nvSpPr>
          <p:cNvPr id="212" name="Rectangle 37"/>
          <p:cNvSpPr/>
          <p:nvPr/>
        </p:nvSpPr>
        <p:spPr>
          <a:xfrm>
            <a:off x="4057560" y="5910120"/>
            <a:ext cx="87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38"/>
          <p:cNvSpPr/>
          <p:nvPr/>
        </p:nvSpPr>
        <p:spPr>
          <a:xfrm>
            <a:off x="6199200" y="5927760"/>
            <a:ext cx="40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39"/>
          <p:cNvSpPr/>
          <p:nvPr/>
        </p:nvSpPr>
        <p:spPr>
          <a:xfrm>
            <a:off x="2108160" y="5908680"/>
            <a:ext cx="40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40"/>
          <p:cNvSpPr/>
          <p:nvPr/>
        </p:nvSpPr>
        <p:spPr>
          <a:xfrm>
            <a:off x="3772080" y="4630680"/>
            <a:ext cx="64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id by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41"/>
          <p:cNvSpPr/>
          <p:nvPr/>
        </p:nvSpPr>
        <p:spPr>
          <a:xfrm>
            <a:off x="3443400" y="4290840"/>
            <a:ext cx="40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42"/>
          <p:cNvSpPr/>
          <p:nvPr/>
        </p:nvSpPr>
        <p:spPr>
          <a:xfrm>
            <a:off x="4314960" y="4282920"/>
            <a:ext cx="40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8" name="Straight Connector 44"/>
          <p:cNvCxnSpPr>
            <a:stCxn id="191" idx="3"/>
            <a:endCxn id="202" idx="1"/>
          </p:cNvCxnSpPr>
          <p:nvPr/>
        </p:nvCxnSpPr>
        <p:spPr>
          <a:xfrm>
            <a:off x="2057040" y="2819160"/>
            <a:ext cx="2553120" cy="1127880"/>
          </a:xfrm>
          <a:prstGeom prst="straightConnector1">
            <a:avLst/>
          </a:prstGeom>
          <a:ln w="9360">
            <a:solidFill>
              <a:srgbClr val="d05f44"/>
            </a:solidFill>
            <a:miter/>
          </a:ln>
        </p:spPr>
      </p:cxnSp>
      <p:sp>
        <p:nvSpPr>
          <p:cNvPr id="219" name="Rectangle 45"/>
          <p:cNvSpPr/>
          <p:nvPr/>
        </p:nvSpPr>
        <p:spPr>
          <a:xfrm>
            <a:off x="2738520" y="3127320"/>
            <a:ext cx="704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volved i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46"/>
          <p:cNvSpPr/>
          <p:nvPr/>
        </p:nvSpPr>
        <p:spPr>
          <a:xfrm>
            <a:off x="4287960" y="3681360"/>
            <a:ext cx="272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47"/>
          <p:cNvSpPr/>
          <p:nvPr/>
        </p:nvSpPr>
        <p:spPr>
          <a:xfrm>
            <a:off x="2109960" y="2576520"/>
            <a:ext cx="40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1"/>
          <p:cNvSpPr/>
          <p:nvPr/>
        </p:nvSpPr>
        <p:spPr>
          <a:xfrm>
            <a:off x="4610160" y="3716280"/>
            <a:ext cx="1762200" cy="45900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le Transa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52"/>
          <p:cNvSpPr/>
          <p:nvPr/>
        </p:nvSpPr>
        <p:spPr>
          <a:xfrm>
            <a:off x="4610160" y="4148280"/>
            <a:ext cx="1755720" cy="70164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s_comple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2" name="Straight Connector 54"/>
          <p:cNvCxnSpPr>
            <a:stCxn id="211" idx="2"/>
            <a:endCxn id="197" idx="1"/>
          </p:cNvCxnSpPr>
          <p:nvPr/>
        </p:nvCxnSpPr>
        <p:spPr>
          <a:xfrm>
            <a:off x="5487480" y="4849560"/>
            <a:ext cx="1150200" cy="1059480"/>
          </a:xfrm>
          <a:prstGeom prst="straightConnector1">
            <a:avLst/>
          </a:prstGeom>
          <a:ln w="9360">
            <a:solidFill>
              <a:srgbClr val="d05f44"/>
            </a:solidFill>
            <a:miter/>
          </a:ln>
        </p:spPr>
      </p:cxnSp>
      <p:sp>
        <p:nvSpPr>
          <p:cNvPr id="223" name="TextBox 59"/>
          <p:cNvSpPr/>
          <p:nvPr/>
        </p:nvSpPr>
        <p:spPr>
          <a:xfrm>
            <a:off x="6230880" y="5425920"/>
            <a:ext cx="40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60"/>
          <p:cNvSpPr/>
          <p:nvPr/>
        </p:nvSpPr>
        <p:spPr>
          <a:xfrm>
            <a:off x="5337000" y="4863960"/>
            <a:ext cx="22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61"/>
          <p:cNvSpPr/>
          <p:nvPr/>
        </p:nvSpPr>
        <p:spPr>
          <a:xfrm>
            <a:off x="5491080" y="5199120"/>
            <a:ext cx="92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ociates with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63"/>
          <p:cNvSpPr/>
          <p:nvPr/>
        </p:nvSpPr>
        <p:spPr>
          <a:xfrm>
            <a:off x="5245200" y="3521160"/>
            <a:ext cx="40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7" name="Straight Arrow Connector 68"/>
          <p:cNvCxnSpPr/>
          <p:nvPr/>
        </p:nvCxnSpPr>
        <p:spPr>
          <a:xfrm flipH="1">
            <a:off x="3935520" y="4846320"/>
            <a:ext cx="178200" cy="1080"/>
          </a:xfrm>
          <a:prstGeom prst="straightConnector1">
            <a:avLst/>
          </a:prstGeom>
          <a:ln w="9360">
            <a:solidFill>
              <a:srgbClr val="d05f44"/>
            </a:solidFill>
            <a:miter/>
            <a:tailEnd len="med" type="triangle" w="med"/>
          </a:ln>
        </p:spPr>
      </p:cxnSp>
      <p:sp>
        <p:nvSpPr>
          <p:cNvPr id="228" name="Rectangle 48"/>
          <p:cNvSpPr/>
          <p:nvPr/>
        </p:nvSpPr>
        <p:spPr>
          <a:xfrm>
            <a:off x="7954920" y="3895560"/>
            <a:ext cx="882720" cy="34164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27"/>
          <p:cNvSpPr/>
          <p:nvPr/>
        </p:nvSpPr>
        <p:spPr>
          <a:xfrm>
            <a:off x="7954920" y="4211640"/>
            <a:ext cx="882720" cy="52704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_nu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as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traight Connector 5"/>
          <p:cNvSpPr/>
          <p:nvPr/>
        </p:nvSpPr>
        <p:spPr>
          <a:xfrm flipV="1">
            <a:off x="7932600" y="4738680"/>
            <a:ext cx="463680" cy="1170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35"/>
          <p:cNvSpPr/>
          <p:nvPr/>
        </p:nvSpPr>
        <p:spPr>
          <a:xfrm>
            <a:off x="8396280" y="4788000"/>
            <a:ext cx="20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35"/>
          <p:cNvSpPr/>
          <p:nvPr/>
        </p:nvSpPr>
        <p:spPr>
          <a:xfrm>
            <a:off x="7961400" y="5891040"/>
            <a:ext cx="40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33"/>
          <p:cNvSpPr/>
          <p:nvPr/>
        </p:nvSpPr>
        <p:spPr>
          <a:xfrm>
            <a:off x="8247240" y="5164200"/>
            <a:ext cx="704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C52D-4D62-4ED1-8648-D38605E3D324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ntract CO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1"/>
          <p:cNvSpPr/>
          <p:nvPr/>
        </p:nvSpPr>
        <p:spPr>
          <a:xfrm>
            <a:off x="108000" y="1927080"/>
            <a:ext cx="8915400" cy="3385800"/>
          </a:xfrm>
          <a:prstGeom prst="rect">
            <a:avLst/>
          </a:prstGeom>
          <a:solidFill>
            <a:srgbClr val="8cadae"/>
          </a:solidFill>
          <a:ln w="25560">
            <a:solidFill>
              <a:srgbClr val="657e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ontract CO1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Submit Flight In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Operation: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bmitFlightInfo(Dep-city,Des-city,date)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ross Reference: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se Case: Purchase Ticket By check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recondition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erk, airlines, flights, seats  information registered in the syst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ost conditions: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E6BB-5E0D-4994-B64B-F225AD6FA4A1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ntract CO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1"/>
          <p:cNvSpPr/>
          <p:nvPr/>
        </p:nvSpPr>
        <p:spPr>
          <a:xfrm>
            <a:off x="108000" y="1766520"/>
            <a:ext cx="8915400" cy="4848840"/>
          </a:xfrm>
          <a:prstGeom prst="rect">
            <a:avLst/>
          </a:prstGeom>
          <a:solidFill>
            <a:srgbClr val="8cadae"/>
          </a:solidFill>
          <a:ln w="25560">
            <a:solidFill>
              <a:srgbClr val="657e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ontract CO2: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hoose F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Operation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ChooseFlight(Flight_Num)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ross Reference: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se Case: Purchase Ticket By check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recondition: 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erk, airlines, flights,seats  information registered in the syst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ost condition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ale transaction ST was created (instance cre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ustomer instance C was created (instance cre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 was associated with ST (association form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 attributes were initialized (attribute modific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 was associated with flight F, based on flight num (association form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 was associated with Clerk CK (association form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7B3A-0A16-4D08-A10C-11E109783866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ntract CO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1"/>
          <p:cNvSpPr/>
          <p:nvPr/>
        </p:nvSpPr>
        <p:spPr>
          <a:xfrm>
            <a:off x="193680" y="2097360"/>
            <a:ext cx="8915400" cy="3934440"/>
          </a:xfrm>
          <a:prstGeom prst="rect">
            <a:avLst/>
          </a:prstGeom>
          <a:solidFill>
            <a:srgbClr val="8cadae"/>
          </a:solidFill>
          <a:ln w="25560">
            <a:solidFill>
              <a:srgbClr val="657e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ontract CO3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nter Reservation In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Operation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EnterRsvInfo(Passnum, FC Flightclass,Flight numb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ross Reference: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se Case: Purchase Ticket By check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recondition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ale transaction (ST)is ru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ost condi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at S.status =false was updated for each S with Flightclass FC based on Flight num (attribute modific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A67A-00F9-42FE-A383-2BD0E109DC02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ntract CO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1"/>
          <p:cNvSpPr/>
          <p:nvPr/>
        </p:nvSpPr>
        <p:spPr>
          <a:xfrm>
            <a:off x="120600" y="2223720"/>
            <a:ext cx="8915400" cy="3934440"/>
          </a:xfrm>
          <a:prstGeom prst="rect">
            <a:avLst/>
          </a:prstGeom>
          <a:solidFill>
            <a:srgbClr val="8cadae"/>
          </a:solidFill>
          <a:ln w="25560">
            <a:solidFill>
              <a:srgbClr val="657e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ontract CO4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Enter Special Requ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Operation: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nterSpeciRequst(Reqinf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ross Reference: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se Case: Purchase Ticket By check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recondition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ale transaction (ST) is ru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ost condi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.handicap , ST.meal was updated according to the customer’s special requests(attribute modific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1B62-2905-4572-99D0-81809CE62803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ntract CO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1"/>
          <p:cNvSpPr/>
          <p:nvPr/>
        </p:nvSpPr>
        <p:spPr>
          <a:xfrm>
            <a:off x="108000" y="2121480"/>
            <a:ext cx="8915400" cy="4483080"/>
          </a:xfrm>
          <a:prstGeom prst="rect">
            <a:avLst/>
          </a:prstGeom>
          <a:solidFill>
            <a:srgbClr val="8cadae"/>
          </a:solidFill>
          <a:ln w="25560">
            <a:solidFill>
              <a:srgbClr val="657e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ontract CO5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Complete Reser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Operation: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mpleteResv(tru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ross Reference: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se Case: Purchase Ticket By check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recondition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ale transaction (ST) is running, all information recorded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ost condi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icket instance T(s) was created for each passenger in ST (instances cre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ach T was associated with ST (associations form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ach T attributes were initialized (attributes modific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.iscomplete was updated (attributes modific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80AE-718E-40B3-BEB6-423FB08B7CEC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ntract CO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1"/>
          <p:cNvSpPr/>
          <p:nvPr/>
        </p:nvSpPr>
        <p:spPr>
          <a:xfrm>
            <a:off x="108000" y="2315160"/>
            <a:ext cx="8915400" cy="3751560"/>
          </a:xfrm>
          <a:prstGeom prst="rect">
            <a:avLst/>
          </a:prstGeom>
          <a:solidFill>
            <a:srgbClr val="8cadae"/>
          </a:solidFill>
          <a:ln w="25560">
            <a:solidFill>
              <a:srgbClr val="657e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ontract CO6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Pay Tic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Operation: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id(amount ,customerID,check i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ross Reference: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se Case: Purchase Ticket By check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recondition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ost condi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heck instance CHK was created (instance cre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HK was associated with ST (associations form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HK.amount was initialized to amount (attributes modific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HK.id was initialized to checkid (attributes modific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ustomer id C.ID was updated (attributes modific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9A13-853B-449B-990D-A88CCF5BCC4D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Overview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295200">
              <a:lnSpc>
                <a:spcPct val="15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295200">
              <a:lnSpc>
                <a:spcPct val="15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295200">
              <a:lnSpc>
                <a:spcPct val="15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295200">
              <a:lnSpc>
                <a:spcPct val="15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295200"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230040" y="2027160"/>
            <a:ext cx="5759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rchase Ticket by Check” Use ca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quence Diagra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eptual Mod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a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40ED-303F-48D8-873D-0A6058A76B8C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urchase Ticket by Check Use c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108000" y="1991880"/>
            <a:ext cx="8915400" cy="4848840"/>
          </a:xfrm>
          <a:prstGeom prst="rect">
            <a:avLst/>
          </a:prstGeom>
          <a:solidFill>
            <a:srgbClr val="8cadae"/>
          </a:solidFill>
          <a:ln w="25560">
            <a:solidFill>
              <a:srgbClr val="657e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ctor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Customer (initiator), cle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urpose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Reserve seats on an airplane and capture their check payment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Overview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A customer arrives at the counter requesting to purchase tickets. The clerk finds a suitable flight and reserves seats on it for him\her. The customer pays for the tickets with check. When done, the customer leaves with purchased tick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ype: Primary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and Essent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FF47-3650-4717-B447-993BBA399C1E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 fontScale="58000"/>
          </a:bodyPr>
          <a:p>
            <a:pPr marL="198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8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panded Use Case Form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8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Use Case: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urchase Ticket by Check Use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87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Content Placeholder 9"/>
          <p:cNvSpPr/>
          <p:nvPr/>
        </p:nvSpPr>
        <p:spPr>
          <a:xfrm>
            <a:off x="380880" y="1905120"/>
            <a:ext cx="87631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15b5c"/>
                </a:solidFill>
                <a:latin typeface="Calibri"/>
              </a:rPr>
              <a:t>Typical course of act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384120" y="2176560"/>
            <a:ext cx="8454960" cy="46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B255-07C2-42F8-9B04-9313AADC850D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 fontScale="58000"/>
          </a:bodyPr>
          <a:p>
            <a:pPr marL="198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8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panded Use Case Form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8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Use Case: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urchase Ticket by Check Use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87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Content Placeholder 9"/>
          <p:cNvSpPr/>
          <p:nvPr/>
        </p:nvSpPr>
        <p:spPr>
          <a:xfrm>
            <a:off x="380880" y="1905120"/>
            <a:ext cx="87631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15b5c"/>
                </a:solidFill>
                <a:latin typeface="Calibri"/>
              </a:rPr>
              <a:t>Typical course of act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384120" y="2176560"/>
            <a:ext cx="8454960" cy="31874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6"/>
          <p:cNvSpPr/>
          <p:nvPr/>
        </p:nvSpPr>
        <p:spPr>
          <a:xfrm>
            <a:off x="469800" y="5373720"/>
            <a:ext cx="8280360" cy="1310760"/>
          </a:xfrm>
          <a:prstGeom prst="rect">
            <a:avLst/>
          </a:prstGeom>
          <a:noFill/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Alternatives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Line 3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if there are no available flights on the specified date, the system displays flights on the day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efore and the day afte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Line 7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if the customer asks for more tickets than seats available on the chosen flight; ask him\her to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hange either flight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number of ticket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FB5F-C275-4887-A1D3-703DEABCAB4B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2824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SD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Content Placeholder 9"/>
          <p:cNvSpPr/>
          <p:nvPr/>
        </p:nvSpPr>
        <p:spPr>
          <a:xfrm>
            <a:off x="179280" y="1905120"/>
            <a:ext cx="87631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rcRect l="0" t="0" r="0" b="4782"/>
          <a:stretch/>
        </p:blipFill>
        <p:spPr>
          <a:xfrm>
            <a:off x="6172200" y="2057400"/>
            <a:ext cx="1603440" cy="461160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8"/>
          <p:cNvGrpSpPr/>
          <p:nvPr/>
        </p:nvGrpSpPr>
        <p:grpSpPr>
          <a:xfrm>
            <a:off x="2095560" y="1932120"/>
            <a:ext cx="747720" cy="1064880"/>
            <a:chOff x="2095560" y="1932120"/>
            <a:chExt cx="747720" cy="1064880"/>
          </a:xfrm>
        </p:grpSpPr>
        <p:pic>
          <p:nvPicPr>
            <p:cNvPr id="120" name="Picture 2" descr=""/>
            <p:cNvPicPr/>
            <p:nvPr/>
          </p:nvPicPr>
          <p:blipFill>
            <a:blip r:embed="rId2"/>
            <a:srcRect l="26455" t="7625" r="21164" b="43771"/>
            <a:stretch/>
          </p:blipFill>
          <p:spPr>
            <a:xfrm>
              <a:off x="2095560" y="1932120"/>
              <a:ext cx="747720" cy="79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Box 10"/>
            <p:cNvSpPr/>
            <p:nvPr/>
          </p:nvSpPr>
          <p:spPr>
            <a:xfrm>
              <a:off x="2095560" y="2720520"/>
              <a:ext cx="74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clerk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2" name="Picture 2" descr=""/>
          <p:cNvPicPr/>
          <p:nvPr/>
        </p:nvPicPr>
        <p:blipFill>
          <a:blip r:embed="rId3"/>
          <a:srcRect l="0" t="16351" r="0" b="4789"/>
          <a:stretch/>
        </p:blipFill>
        <p:spPr>
          <a:xfrm>
            <a:off x="1601640" y="2924280"/>
            <a:ext cx="1602000" cy="3744720"/>
          </a:xfrm>
          <a:prstGeom prst="rect">
            <a:avLst/>
          </a:prstGeom>
          <a:ln w="0">
            <a:noFill/>
          </a:ln>
        </p:spPr>
      </p:pic>
      <p:cxnSp>
        <p:nvCxnSpPr>
          <p:cNvPr id="123" name="Straight Arrow Connector 13"/>
          <p:cNvCxnSpPr/>
          <p:nvPr/>
        </p:nvCxnSpPr>
        <p:spPr>
          <a:xfrm>
            <a:off x="2455560" y="3276360"/>
            <a:ext cx="45550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Rectangle 14"/>
          <p:cNvSpPr/>
          <p:nvPr/>
        </p:nvSpPr>
        <p:spPr>
          <a:xfrm>
            <a:off x="2777400" y="2878200"/>
            <a:ext cx="39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bmitFlightInfo(Dep-city,Des-city,dat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5" name="Straight Arrow Connector 16"/>
          <p:cNvCxnSpPr/>
          <p:nvPr/>
        </p:nvCxnSpPr>
        <p:spPr>
          <a:xfrm>
            <a:off x="2361960" y="4114440"/>
            <a:ext cx="46310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6" name="Rectangle 15"/>
          <p:cNvSpPr/>
          <p:nvPr/>
        </p:nvSpPr>
        <p:spPr>
          <a:xfrm>
            <a:off x="2562120" y="329400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vailable Flight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3378600" y="3745080"/>
            <a:ext cx="25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ooseFlight(Flight_Nu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19"/>
          <p:cNvCxnSpPr/>
          <p:nvPr/>
        </p:nvCxnSpPr>
        <p:spPr>
          <a:xfrm flipH="1">
            <a:off x="2361600" y="3668400"/>
            <a:ext cx="4555080" cy="1080"/>
          </a:xfrm>
          <a:prstGeom prst="straightConnector1">
            <a:avLst/>
          </a:prstGeom>
          <a:ln w="25560">
            <a:solidFill>
              <a:srgbClr val="000000"/>
            </a:solidFill>
            <a:prstDash val="sysDot"/>
            <a:miter/>
            <a:tailEnd len="med" type="arrow" w="med"/>
          </a:ln>
        </p:spPr>
      </p:cxnSp>
      <p:sp>
        <p:nvSpPr>
          <p:cNvPr id="129" name="Rectangle 22"/>
          <p:cNvSpPr/>
          <p:nvPr/>
        </p:nvSpPr>
        <p:spPr>
          <a:xfrm>
            <a:off x="4029120" y="417816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light Inf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0" name="Straight Arrow Connector 23"/>
          <p:cNvCxnSpPr/>
          <p:nvPr/>
        </p:nvCxnSpPr>
        <p:spPr>
          <a:xfrm flipH="1">
            <a:off x="2399760" y="4547880"/>
            <a:ext cx="4555080" cy="1080"/>
          </a:xfrm>
          <a:prstGeom prst="straightConnector1">
            <a:avLst/>
          </a:prstGeom>
          <a:ln w="25560">
            <a:solidFill>
              <a:srgbClr val="000000"/>
            </a:solidFill>
            <a:prstDash val="sysDot"/>
            <a:miter/>
            <a:tailEnd len="med" type="arrow" w="med"/>
          </a:ln>
        </p:spPr>
      </p:cxnSp>
      <p:cxnSp>
        <p:nvCxnSpPr>
          <p:cNvPr id="131" name="Straight Arrow Connector 24"/>
          <p:cNvCxnSpPr/>
          <p:nvPr/>
        </p:nvCxnSpPr>
        <p:spPr>
          <a:xfrm>
            <a:off x="2514240" y="5013000"/>
            <a:ext cx="44600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2" name="Rectangle 25"/>
          <p:cNvSpPr/>
          <p:nvPr/>
        </p:nvSpPr>
        <p:spPr>
          <a:xfrm>
            <a:off x="2952720" y="4643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RsvInfo(Passnum,Flightclas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28"/>
          <p:cNvSpPr/>
          <p:nvPr/>
        </p:nvSpPr>
        <p:spPr>
          <a:xfrm>
            <a:off x="3427560" y="546264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SpeciRequst(Reqinf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Straight Arrow Connector 30"/>
          <p:cNvCxnSpPr/>
          <p:nvPr/>
        </p:nvCxnSpPr>
        <p:spPr>
          <a:xfrm>
            <a:off x="2438280" y="5824080"/>
            <a:ext cx="4555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5" name="Straight Arrow Connector 31"/>
          <p:cNvCxnSpPr/>
          <p:nvPr/>
        </p:nvCxnSpPr>
        <p:spPr>
          <a:xfrm flipH="1">
            <a:off x="2417400" y="5427360"/>
            <a:ext cx="4556880" cy="1080"/>
          </a:xfrm>
          <a:prstGeom prst="straightConnector1">
            <a:avLst/>
          </a:prstGeom>
          <a:ln w="25560">
            <a:solidFill>
              <a:srgbClr val="000000"/>
            </a:solidFill>
            <a:prstDash val="sysDot"/>
            <a:miter/>
            <a:tailEnd len="med" type="arrow" w="med"/>
          </a:ln>
        </p:spPr>
      </p:cxnSp>
      <p:sp>
        <p:nvSpPr>
          <p:cNvPr id="136" name="Rectangle 34"/>
          <p:cNvSpPr/>
          <p:nvPr/>
        </p:nvSpPr>
        <p:spPr>
          <a:xfrm>
            <a:off x="3132000" y="507528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" name="Straight Arrow Connector 36"/>
          <p:cNvCxnSpPr/>
          <p:nvPr/>
        </p:nvCxnSpPr>
        <p:spPr>
          <a:xfrm flipH="1">
            <a:off x="2401200" y="6312960"/>
            <a:ext cx="4601160" cy="1080"/>
          </a:xfrm>
          <a:prstGeom prst="straightConnector1">
            <a:avLst/>
          </a:prstGeom>
          <a:ln w="25560">
            <a:solidFill>
              <a:srgbClr val="000000"/>
            </a:solidFill>
            <a:prstDash val="sysDot"/>
            <a:miter/>
            <a:tailEnd len="med" type="arrow" w="med"/>
          </a:ln>
        </p:spPr>
      </p:cxnSp>
      <p:sp>
        <p:nvSpPr>
          <p:cNvPr id="138" name="Rectangle 20"/>
          <p:cNvSpPr/>
          <p:nvPr/>
        </p:nvSpPr>
        <p:spPr>
          <a:xfrm>
            <a:off x="3807000" y="597384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irline notifi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CB04-9570-44DC-940C-A20C80BE2E28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2824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SD (cont.)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Content Placeholder 9"/>
          <p:cNvSpPr/>
          <p:nvPr/>
        </p:nvSpPr>
        <p:spPr>
          <a:xfrm>
            <a:off x="154080" y="1893960"/>
            <a:ext cx="87627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Content Placeholder 9"/>
          <p:cNvSpPr/>
          <p:nvPr/>
        </p:nvSpPr>
        <p:spPr>
          <a:xfrm>
            <a:off x="179280" y="1905120"/>
            <a:ext cx="87631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rcRect l="0" t="0" r="0" b="4782"/>
          <a:stretch/>
        </p:blipFill>
        <p:spPr>
          <a:xfrm>
            <a:off x="6156360" y="2133720"/>
            <a:ext cx="1601640" cy="4267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2"/>
          <a:srcRect l="0" t="16351" r="0" b="4789"/>
          <a:stretch/>
        </p:blipFill>
        <p:spPr>
          <a:xfrm>
            <a:off x="1601640" y="2924280"/>
            <a:ext cx="1602000" cy="3535200"/>
          </a:xfrm>
          <a:prstGeom prst="rect">
            <a:avLst/>
          </a:prstGeom>
          <a:ln w="0">
            <a:noFill/>
          </a:ln>
        </p:spPr>
      </p:pic>
      <p:cxnSp>
        <p:nvCxnSpPr>
          <p:cNvPr id="145" name="Straight Arrow Connector 13"/>
          <p:cNvCxnSpPr/>
          <p:nvPr/>
        </p:nvCxnSpPr>
        <p:spPr>
          <a:xfrm>
            <a:off x="2401920" y="4250880"/>
            <a:ext cx="45568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" name="Straight Arrow Connector 19"/>
          <p:cNvCxnSpPr/>
          <p:nvPr/>
        </p:nvCxnSpPr>
        <p:spPr>
          <a:xfrm flipH="1">
            <a:off x="2385360" y="3573000"/>
            <a:ext cx="4555080" cy="1080"/>
          </a:xfrm>
          <a:prstGeom prst="straightConnector1">
            <a:avLst/>
          </a:prstGeom>
          <a:ln w="25560">
            <a:solidFill>
              <a:srgbClr val="000000"/>
            </a:solidFill>
            <a:prstDash val="sysDot"/>
            <a:miter/>
            <a:tailEnd len="med" type="arrow" w="med"/>
          </a:ln>
        </p:spPr>
      </p:cxnSp>
      <p:grpSp>
        <p:nvGrpSpPr>
          <p:cNvPr id="147" name="Group 23"/>
          <p:cNvGrpSpPr/>
          <p:nvPr/>
        </p:nvGrpSpPr>
        <p:grpSpPr>
          <a:xfrm>
            <a:off x="1806480" y="2013120"/>
            <a:ext cx="1170000" cy="1055160"/>
            <a:chOff x="1806480" y="2013120"/>
            <a:chExt cx="1170000" cy="1055160"/>
          </a:xfrm>
        </p:grpSpPr>
        <p:pic>
          <p:nvPicPr>
            <p:cNvPr id="148" name="Picture 2" descr=""/>
            <p:cNvPicPr/>
            <p:nvPr/>
          </p:nvPicPr>
          <p:blipFill>
            <a:blip r:embed="rId3"/>
            <a:srcRect l="21693" t="9097" r="26505" b="44935"/>
            <a:stretch/>
          </p:blipFill>
          <p:spPr>
            <a:xfrm>
              <a:off x="1977120" y="2013120"/>
              <a:ext cx="740520" cy="7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Box 25"/>
            <p:cNvSpPr/>
            <p:nvPr/>
          </p:nvSpPr>
          <p:spPr>
            <a:xfrm>
              <a:off x="1806480" y="2791800"/>
              <a:ext cx="117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clerk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TextBox 28"/>
          <p:cNvSpPr/>
          <p:nvPr/>
        </p:nvSpPr>
        <p:spPr>
          <a:xfrm>
            <a:off x="3835440" y="3146400"/>
            <a:ext cx="14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amou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32"/>
          <p:cNvSpPr/>
          <p:nvPr/>
        </p:nvSpPr>
        <p:spPr>
          <a:xfrm>
            <a:off x="3503520" y="379080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id(amount ,customerI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2" name="Straight Arrow Connector 18"/>
          <p:cNvCxnSpPr/>
          <p:nvPr/>
        </p:nvCxnSpPr>
        <p:spPr>
          <a:xfrm>
            <a:off x="2411280" y="2985840"/>
            <a:ext cx="4547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3" name="Rectangle 20"/>
          <p:cNvSpPr/>
          <p:nvPr/>
        </p:nvSpPr>
        <p:spPr>
          <a:xfrm>
            <a:off x="3514680" y="2600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leteResv(tru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A772-A87C-4F53-9B29-DE9287A56CC8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2824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nceptual Model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Content Placeholder 9"/>
          <p:cNvSpPr/>
          <p:nvPr/>
        </p:nvSpPr>
        <p:spPr>
          <a:xfrm>
            <a:off x="-612720" y="-458640"/>
            <a:ext cx="87631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"/>
          <p:cNvSpPr/>
          <p:nvPr/>
        </p:nvSpPr>
        <p:spPr>
          <a:xfrm>
            <a:off x="141120" y="2276640"/>
            <a:ext cx="5294520" cy="36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5b5c"/>
                </a:solidFill>
                <a:latin typeface="Calibri"/>
              </a:rPr>
              <a:t>Candidate concep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ick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ler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p_c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s_c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a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ligh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light inf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um of passeng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sseng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light cla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ale transac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112680" y="1751040"/>
            <a:ext cx="82756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5b5c"/>
                </a:solidFill>
                <a:latin typeface="Calibri"/>
              </a:rPr>
              <a:t>What are the objects (concepts) the real things in my domain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"/>
          <p:cNvSpPr/>
          <p:nvPr/>
        </p:nvSpPr>
        <p:spPr>
          <a:xfrm>
            <a:off x="4249800" y="2708280"/>
            <a:ext cx="4498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pecial Request: handicap access, me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irlin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hec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ravel agen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ustomer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ADE0-8F32-4B29-9DA5-6D596C8BF4DA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2824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nceptual Model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Content Placeholder 9"/>
          <p:cNvSpPr/>
          <p:nvPr/>
        </p:nvSpPr>
        <p:spPr>
          <a:xfrm>
            <a:off x="-612720" y="-458640"/>
            <a:ext cx="87631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TextBox 1" descr=""/>
          <p:cNvPicPr/>
          <p:nvPr/>
        </p:nvPicPr>
        <p:blipFill>
          <a:blip r:embed="rId1"/>
          <a:stretch/>
        </p:blipFill>
        <p:spPr>
          <a:xfrm>
            <a:off x="49320" y="2225520"/>
            <a:ext cx="5960880" cy="375444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10"/>
          <p:cNvSpPr/>
          <p:nvPr/>
        </p:nvSpPr>
        <p:spPr>
          <a:xfrm>
            <a:off x="112680" y="1751040"/>
            <a:ext cx="82756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5b5c"/>
                </a:solidFill>
                <a:latin typeface="Calibri"/>
              </a:rPr>
              <a:t>What are the objects (concepts) the real things in my domain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TextBox 1" descr=""/>
          <p:cNvPicPr/>
          <p:nvPr/>
        </p:nvPicPr>
        <p:blipFill>
          <a:blip r:embed="rId2"/>
          <a:stretch/>
        </p:blipFill>
        <p:spPr>
          <a:xfrm>
            <a:off x="4230720" y="2687760"/>
            <a:ext cx="4559400" cy="2109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11:32:56Z</dcterms:created>
  <dc:creator>pc</dc:creator>
  <dc:description/>
  <dc:language>en-US</dc:language>
  <cp:lastModifiedBy>pc</cp:lastModifiedBy>
  <cp:lastPrinted>2010-10-26T13:20:34Z</cp:lastPrinted>
  <dcterms:modified xsi:type="dcterms:W3CDTF">2010-12-11T21:39:27Z</dcterms:modified>
  <cp:revision>41</cp:revision>
  <dc:subject/>
  <dc:title>PowerPoint Presentation</dc:title>
</cp:coreProperties>
</file>