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x-none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4FB4F2-3F1A-435B-BB5E-0E682366B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51CFEC3-783A-4674-A060-9805D0BF2D29}" type="slidenum">
              <a:rPr b="0" lang="x-non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6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C06B24A-59E4-4D2C-88FD-0392C52D1534}" type="slidenum">
              <a:rPr b="0" lang="x-non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AA6-F962-4EF2-8FBE-C1A8C0F4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F38-D999-4390-B977-3ED1353C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B87-F7AF-4FD2-93AA-8738E639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1C6-4EF8-4776-AFD8-6D1354A2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E95D-3CEC-46DF-8543-CC83CCAB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A7C0-1407-465A-84EF-CBB99FD2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A73F-20D6-492C-B0CB-049C91E8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5547-2557-48D6-9FE9-B024881D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333A-AE17-4683-BA9C-DAD5879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94BD-D7CD-4004-9173-58EBED56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1277-D0FF-4ABC-A18F-7C3FD225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DDB-9308-49C4-AFEA-FCFDBC49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3434-829B-4D3D-80E4-4A75C92E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D542-512B-448E-A569-E015664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BF0C-B365-4554-9009-8654EB3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0279-A5E4-40C7-8B86-2A74D715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A794-E196-4D7A-8F55-EF0D6762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770F-715E-4B7B-BC5E-C71A7500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DCE3-3F14-4CE5-A317-B4B83D6D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090F-54D7-4B6C-8E95-D36449FE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EA1E-6F36-44AB-9898-78862A1B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E05B-4A83-4463-A626-4B2943F9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ED1-44F0-4D01-B923-D2F9B438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F711-57E6-4A02-8D26-8DC2B2A8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6C30-6CD9-4B74-857E-24EEA6F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827A-0F81-48A6-A2C9-C48A3FC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3925-5FA5-411C-8891-61DB40D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4F4C-52D7-4326-ACC6-D11B4D8D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1908-BFFB-436F-90AC-7C34136A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EF69A-692B-4C03-B3AF-1A3CAE93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8FD0-C7B2-46EE-94AB-21C2AB18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100F-720B-4DC1-91D4-EA56422A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2532-C0C8-43DA-99D0-8F38691B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A39-E344-4B60-9089-C41EA374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EC00-689A-499D-BAE4-3256FC5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28EB-C19E-4570-B477-A73E1FAB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CBA6-3AAC-4C6B-8E9A-094AF6FC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D8396-40A9-48B2-9B88-BEA12505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BC77-28E7-4FE0-8147-3FA0261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3AC5-1AE3-4F23-AF3D-81ACCE4F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698BA-8B74-4332-8589-FBD09849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EEAC-B76D-4E79-A946-5687C039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17DB9-BCB4-4D92-9FA0-0E5076E6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FC3-FF4F-4487-8A49-0FBBA9F4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079-C88A-4273-A93D-224D326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A66-CBBB-44AA-9D98-1326F53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2C4-B4B0-4CE6-A8FF-6439C826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98A-2DCB-49DC-AF31-D0F7BE34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x-non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7DEF72B5-F0EA-412B-8FE2-1803F8FA8DC1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x-none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4A05C7DC-0D5F-4E12-A696-047D6F922C80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84CEDC5A-358A-4538-9C6D-7B767FD85E94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x-none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1EE12E3F-E784-4104-8E2A-C35067DDEC71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x-none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x-none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Introduction To System Analysis and Design</a:t>
            </a:r>
            <a:endParaRPr b="0" lang="x-non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37744471-7240-42AA-83E5-A48ACF4EDC49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640" y="365760"/>
            <a:ext cx="778104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Two Approaches to System Development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1920" y="1244520"/>
            <a:ext cx="8020080" cy="36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hlink"/>
                </a:solidFill>
                <a:latin typeface="Arial"/>
              </a:rPr>
              <a:t>Traditional (Structured) approach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structured system development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analysis and design technique (SADT)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information engineering (IE)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hlink"/>
                </a:solidFill>
                <a:latin typeface="Arial"/>
              </a:rPr>
              <a:t>Object-oriented approach</a:t>
            </a: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OOA, OOD, and OOP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s information system as collection of interacting objects that work together to accomplish task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55A9ADF0-41AD-4971-AD2D-50EFC0E65C28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-Oriented Approach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100520"/>
            <a:ext cx="8280720" cy="36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different approach to information systems</a:t>
            </a: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information system as collection of interacting objects that work together to accomplish tasks</a:t>
            </a: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things in computer system that can respond to message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, no processes, programs, data entities, or files are defined – just object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</a:pP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languages: Java, C++, C# .NET, VB .NET</a:t>
            </a:r>
            <a:endParaRPr b="1" lang="x-non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9D94A198-65EF-41C0-BB3F-0002D9709A89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5080" y="18864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-oriented Analysis and design (OOAD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640" y="1340640"/>
            <a:ext cx="8640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AD essential for creating well-designed, &amp; maintainable software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oftware Analysis and Design is preceded by the analysis of requirement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models the “real-world” requirements, independent of the implementation environment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pplies object-oriented concepts to develop and communicate the architecture and details of how to meet requirement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8E8424CF-7BD2-4B71-8D5F-DF9213F367EC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2800" spc="-1" strike="noStrike" cap="all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nified Modeling Language (UML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788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 (Unified Modeling Languag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raphical language that is suit-able to express software or system requirements, architecture, and design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 used for both database and software modeling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 modeling also supports multiple views of the same system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02C97308-70B3-46B2-AB26-A52DE2849AAC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ML diagram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640" y="764640"/>
            <a:ext cx="896400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categorized as the fallowing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al diagra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the building blocks of your system—features that don’t change with time. </a:t>
            </a:r>
            <a:endParaRPr b="1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lnSpc>
                <a:spcPct val="100000"/>
              </a:lnSpc>
              <a:spcBef>
                <a:spcPts val="371"/>
              </a:spcBef>
              <a:buClr>
                <a:srgbClr val="bdbebf"/>
              </a:buClr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Class diagram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avioral diagrams: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ow your system responds to requests or otherwise evolves over time.</a:t>
            </a:r>
            <a:endParaRPr b="1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lnSpc>
                <a:spcPct val="100000"/>
              </a:lnSpc>
              <a:spcBef>
                <a:spcPts val="371"/>
              </a:spcBef>
              <a:buClr>
                <a:srgbClr val="bdbebf"/>
              </a:buClr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Use case diagram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 diagra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type of behavioral diagram. </a:t>
            </a:r>
            <a:endParaRPr b="1" lang="x-none" sz="18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pict the exchange of messages within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group of cooperating objects).</a:t>
            </a:r>
            <a:endParaRPr b="1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lnSpc>
                <a:spcPct val="100000"/>
              </a:lnSpc>
              <a:spcBef>
                <a:spcPts val="371"/>
              </a:spcBef>
              <a:buClr>
                <a:srgbClr val="bdbebf"/>
              </a:buClr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Sequence diagram &amp; Collabo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E3BB1561-A7E3-4B95-B45F-77B224A154C5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3640" y="-183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ML Diagram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640" y="10526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way of categorizing UML diagram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45720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Franklin Gothic Book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 diagram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430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e static features of the system. (no change)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45720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Franklin Gothic Book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diagram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430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how your system evolves over time.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45720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Franklin Gothic Book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diagra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430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e details of behaviors and algorithms. 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BD5355F2-BAFF-400C-8280-85EA571F0868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64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-oriented analysis (OOA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8530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ing to figure out what the users and customers of a software effort want the System to do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s a “real-world” model from requirements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nterviews, domain knowledge, real-world experience collected in use cases and other simple notation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OA models address three aspects of the system (its objects)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structure and relationship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ing of interactions and event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s and computations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6D319DE3-6AAE-4B21-BED9-942795091246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 cap="all">
                <a:solidFill>
                  <a:srgbClr val="000000"/>
                </a:solidFill>
                <a:latin typeface="Arial"/>
              </a:rPr>
              <a:t>Object Oriented Design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2391942B-AF81-47BB-8448-899264AD43CB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467640" y="980640"/>
            <a:ext cx="84247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a conceptual solution that fulfils the requirements specified in the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define softw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how th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ulfill th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n the Library Information System, a Book object may have a title attribute and a display()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s are implemented in a programming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08a1d9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xample, we will have a Book class in 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Object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908640"/>
            <a:ext cx="8280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 OO approach, a system consist of a collection of interacting object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bject is a computational entity which Provide services with which other entities may interact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the services consumer sends a message (requesting the service) to the provides object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esses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5" marL="10972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6" marL="135324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formation that the object holds , called (attributes)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5" marL="10972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lvl="6" marL="135324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peration it can perform , called (method)</a:t>
            </a:r>
            <a:endParaRPr b="0" lang="x-none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6B704E50-D54E-4FED-9E1C-9697D7FBEB53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Message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1100520"/>
            <a:ext cx="828072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 is achieved by one object sending a message to another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has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der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ceiver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contents :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ference to an operation of the receiver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additional information (parameters)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ssages return information to the sender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C9260A40-7A91-4ED0-8879-FE73EA6E5A06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An Information System?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7640" y="1361160"/>
            <a:ext cx="7704360" cy="37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formation system is a collection of interrelated components that </a:t>
            </a: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coll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store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rovide as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information needed to complete a business task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CD721AED-94BE-4DE5-A698-3725A2AF8E97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7" dur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y Objects? 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100520"/>
            <a:ext cx="813672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apsulation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to organize data &amp; behavior into meaningful associations.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-based Invocation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to make code adaptable and reusable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Hiding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to manage complexity, since programmer can control the data that objects are allowed to do manipulate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A3EDC403-CF1E-4C13-A106-59F557F9BFC0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asse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lass Describes a set of equivalent objects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operates like a data type of objects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every object in a system belongs to a class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a useful way of representing and implementing the shared state and behavior of the objects that it describes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73931CC9-9C08-4D59-8189-C821D6695262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y Class 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 of reuse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same operation may behave differently on different classes. 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FBCE52F9-DF1F-4E3E-B06E-70E1EF1D9329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Inheritance Example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x-non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FBB8EC9A-A33A-45C4-A990-E7C7D44CCAE0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456840" y="1052640"/>
            <a:ext cx="821916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s of Information Systems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registration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 order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 banking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6F48D184-3FA5-4893-BEEA-31F83DF261CB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20" dur="1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26" dur="1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32" dur="1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What Is System Analysis About?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ing the goals and strategies of the busines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the information requirements that support those goals and strategie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about programming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A739C851-A544-4CC7-AF88-20A64A3817CB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39" dur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44" dur="1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49" dur="1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System Analysis vs. System Design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Analysis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on of the problem and requirement rather than solution.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Design: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ceptual solution that fulfills the requirements, rather than implementation.</a:t>
            </a:r>
            <a:endParaRPr b="0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CD52173F-FCAD-4091-B6D5-B739A44345DE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62" dur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66" dur="1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72" dur="1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76" dur="1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cdd7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System Analyst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siness professional who uses analysis and design techniques to solve business problems using information technology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A2E0346B-D38A-4F78-A1D0-24AF0AC5729D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The Role of a System Analyst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, analyze, design, develop, install, evaluate, and maintain a company’s information systems. 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knowledge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blem solver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translate business requirements into IT projects.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A27E8F09-7A93-47A6-88A6-80D4E5F52CB3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D1262FDE-6964-43B7-8EC8-0AF645F08137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08160" y="115920"/>
            <a:ext cx="793548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Traditional System Development Life Cycle (SDLC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0" y="1667520"/>
            <a:ext cx="9180000" cy="341712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Traditional System Development life Cycle (SDLC)</a:t>
            </a:r>
            <a:endParaRPr b="0" lang="x-non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640" y="1721520"/>
            <a:ext cx="8748000" cy="38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Project planning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initiate, ensure feasibility, plan schedule, obtain approval for project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Analysis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nderstand business needs and processing requirements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Design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efine solution system based on requirements and analysis decisions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Implementation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struct, test, train users, and install new system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Support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keep system running and improve it</a:t>
            </a:r>
            <a:endParaRPr b="1" lang="x-non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 rtl="1">
              <a:lnSpc>
                <a:spcPct val="100000"/>
              </a:lnSpc>
            </a:pPr>
            <a:fld id="{A14EA84A-C395-4760-88F0-7226BE6AA895}" type="slidenum">
              <a:rPr b="0" lang="x-none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1649</TotalTime>
  <Application>LibreOffice/7.4.7.2$Linux_X86_64 LibreOffice_project/40$Build-2</Application>
  <AppVersion>15.0000</AppVersion>
  <Words>1027</Words>
  <Paragraphs>1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7:42:57Z</dcterms:created>
  <dc:creator>Nasser</dc:creator>
  <dc:description/>
  <dc:language>en-US</dc:language>
  <cp:lastModifiedBy>Aseel</cp:lastModifiedBy>
  <dcterms:modified xsi:type="dcterms:W3CDTF">2014-02-03T07:59:15Z</dcterms:modified>
  <cp:revision>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