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FD9533-4AD3-4CED-B3E1-7D8C074FE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6AA61F8-5A12-4019-8623-C0646CA2D7CD}" type="slidenum">
              <a:rPr b="0" lang="x-non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6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A453B5F-DD8C-4B4B-97FD-BDF55FD32AE2}" type="slidenum">
              <a:rPr b="0" lang="x-non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344-BB8B-4907-8EC0-C28CB3C8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797-B473-4A8C-AFC0-8B9D2C5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A8F-F707-4126-BC03-D0F45E52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FCD-6563-4F79-9FED-454D457A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6008-EE3F-4873-900A-D061B639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FAB4-3086-4B31-8402-ADE0844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9E8A-AB0C-460E-9E21-6B09D0D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C7D9-57E3-450E-9E04-F3770705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770F-7840-48C9-953D-E84AE42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7F2-275A-47DC-A11D-6367CA9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758-7F78-484E-9115-37EF174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61B-2DDC-4B12-AE5B-244EE3FB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0D1-21A9-4FC7-A2DC-7DEA0CA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84B9-C401-44E3-93BB-D11255B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7324-1544-4256-B9D0-53E1ACA1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29B-FD8D-4A1C-B956-84EDE756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A58-E42F-48ED-B9F7-17778E49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7999-5AD1-4EC6-B207-0E287D57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194F-21BE-4A73-B27E-2D3BE58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F797-383F-48BA-A091-E35472D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D886-972D-4B32-819B-0442620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4920-F238-4737-8391-B0A7B3EA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C8F-CDA3-498F-A015-2B5DBAD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B24A-BB58-4697-AD97-7BBE857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8C19-4251-41DA-8F78-EF9A8E9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B8FC-64FC-49AC-9C07-BC80C9C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9671-9A95-44F5-9399-7D52DC4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5D92-3C06-413C-875C-415543F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3224-378D-49C0-B306-27B45909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8256-83BC-4E78-97C0-96E7FFDB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7CA4-0AAC-44D4-AA9C-F6E2E41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4B99-6DAE-4F9F-B9C8-D6DFDCDA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8A5B-D26D-4A5B-B9AD-2E0EB6C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444-A9FE-459F-B4F8-022744D6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FCED-0E5A-4486-863E-02D9FF2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7631-7C3D-4BEE-8290-3D64CA87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A59E-DD2B-4C42-9C1A-AA23D1DD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7CB1-4181-4EEA-833E-BB8D71F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E76D-45D0-46A9-8B85-32E032F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04EE-C047-4CB8-B1D1-A513CD5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185E-0E62-44BB-93EF-AEF8E537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6B13-797B-4D37-8FE9-25B77B96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BA785-D88E-4DD0-889F-E6F38DF8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C8A-B272-4434-9275-6BFEF45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EF2-4A02-44BA-8CC2-969BBC8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A72-36AD-4302-8E73-8F9BC7A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0F3-F9BB-46E0-B7D8-531D543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A1D-5792-4263-8D5E-0877E71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79C48F7D-9101-474F-BD8C-20389E0B08B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DD4C8E93-5888-4524-9172-2960A161AF25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97993D48-8EAD-4AE6-8054-2DBBDE8D601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2F11A939-E9DC-4A82-AE13-50060584D181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troduction To System Analysis and Design</a:t>
            </a:r>
            <a:endParaRPr b="0" lang="x-non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DF3D0A70-5B1D-48D5-B138-2D17F8AE2FC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640" y="365760"/>
            <a:ext cx="77810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wo Approaches to System Developmen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1920" y="1244520"/>
            <a:ext cx="8020080" cy="36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hlink"/>
                </a:solidFill>
                <a:latin typeface="Arial"/>
              </a:rPr>
              <a:t>Traditional (Structured) approach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structured system development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analysis and design technique (SADT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information engineering (IE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hlink"/>
                </a:solidFill>
                <a:latin typeface="Arial"/>
              </a:rPr>
              <a:t>Object-oriented approach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OOA, OOD, and OOP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F5382430-EE74-45B2-81A7-3E761EA114EA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pproach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280720" cy="36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different approach to information systems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hings in computer system that can respond to message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no processes, programs, data entities, or files are defined – just object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languages: Java, C++, C# .NET, VB .NET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7BC31674-F837-4492-8670-90C8FFAA7D12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18864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nalysis and design (OOAD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640" y="1340640"/>
            <a:ext cx="8640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AD essential for creating well-designed, &amp; maintainable software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ftware Analysis and Design is preceded by the analysis of requiremen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models the “real-world” requirements, independent of the implementation environment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pplies object-oriented concepts to develop and communicate the architecture and details of how to meet requiremen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43F7B3BF-C975-475F-A2E7-A7EADC70E1D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8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78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 (Unified Modeling Languag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raphical language that is suit-able to express software or system requirements, architecture, and design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used for both database and software modeling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modeling also supports multiple views of the same system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55256B1D-83A8-4596-A7FB-1B7DD06A0675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ML diagra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640" y="764640"/>
            <a:ext cx="89640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categorized as the fallowing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al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he building blocks of your system—features that don’t change with time. 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Class diagram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vioral diagrams: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w your system responds to requests or otherwise evolves over time.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Use case diagram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type of behavioral diagram. 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pict the exchange of messages with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group of cooperating objects).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quence diagram &amp; Collabo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3D67F2EC-8587-49A5-B0B9-8F924B3C8ACA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3640" y="-183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ML Diagra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640" y="1052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way of categorizing UML diagram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diagram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static features of the system. (no change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diagram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how your system evolves over time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details of behaviors and algorithms. 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7E22B6ED-0F32-4B58-B2F8-4DC839C28128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64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53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ing to figure out what the users and customers of a software effort want the System to do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a “real-world” model from requirement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nterviews, domain knowledge, real-world experience collected in use cases and other simple notation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A models address three aspects of the system (its objects)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tructure and relationship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ing of interactions and event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s and computation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2CBB7656-8498-42B6-91FD-8248830B1760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bject Oriented Design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97044474-97F0-485C-976C-4DBDD52CF698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67640" y="980640"/>
            <a:ext cx="8424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a conceptual solution that fulfils the requirements specified in the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fine softw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how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ulfill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n the Library Information System, a Book object may have a title attribute and a display()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s are implemented in a programming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xample, we will have a Book class in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908640"/>
            <a:ext cx="8280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OO approach, a system consist of a collection of interacting objec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is a computational entity which Provide services with which other entities may intera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the services consumer sends a message (requesting the service) to the provides obje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esses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10972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formation that the object holds , called (attributes)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5" marL="10972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peration it can perform , called (method)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41D2146A-992A-4064-B5C3-9C294D5CA193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essage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28072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is achieved by one object sending a message to another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ha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d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eiv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contents :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to an operation of the receiv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additional information (parameters)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ssages return information to the send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210EB10-D1E5-41FC-AE2E-A48A5F17CBC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n Information System?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7640" y="1361160"/>
            <a:ext cx="770436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formation system is a collection of interrelated components that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col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store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rovide as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information needed to complete a business task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ED30A153-48CC-4E1A-990E-0E9ADE083891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7" dur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y Objects? 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13672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psulation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organize data &amp; behavior into meaningful associations.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-based Invocation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make code adaptable and reusabl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Hiding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manage complexity, since programmer can control the data that objects are allowed to do manipulat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8085385-34DF-4DC9-97B9-B796DB96FD64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lass Describes a set of equivalent object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operates like a data type of objects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every object in a system belongs to a class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 useful way of representing and implementing the shared state and behavior of the objects that it describe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E7404084-7850-4C64-9577-CFAF96DAA67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y Class 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reus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same operation may behave differently on different classes.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2E0D239C-F931-4C51-B45F-15B858776494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heritance Examp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D90DFA3-6BD8-4E06-AAB8-19AE844D9A88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56840" y="1052640"/>
            <a:ext cx="821916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s of Information Syste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registration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order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banking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54F5A98C-E577-4756-99A5-EC033B14A99C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0" dur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6" dur="1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32" dur="1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System Analysis About?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goals and strategies of the busines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the information requirements that support those goals and strategie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bout programming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5A660C38-4984-461D-8501-4C984F189FE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39" dur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4" dur="1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9" dur="1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System Analysis vs. System Design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Analysis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on of the problem and requirement rather than solution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Design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ceptual solution that fulfills the requirements, rather than implementation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3B4CB26E-3D50-4DA4-B03C-CC233CB33242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2" dur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6" dur="1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2" dur="1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6" dur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System Analys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siness professional who uses analysis and design techniques to solve business problems using information technology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2535DB5F-5ACA-4C92-B7C4-7A928743F255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he Role of a System Analys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, analyze, design, develop, install, evaluate, and maintain a company’s information systems.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knowledge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blem solver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ranslate business requirements into IT projec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1CA5ABDB-963A-46BD-A55E-7EC4944F714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B385EC1D-A997-4292-8AB9-F389B2896F70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08160" y="115920"/>
            <a:ext cx="793548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raditional System Development Life Cycle (SDLC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667520"/>
            <a:ext cx="9180000" cy="341712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raditional System Development life Cycle (SDLC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640" y="1721520"/>
            <a:ext cx="8748000" cy="38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Project planning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itiate, ensure feasibility, plan schedule, obtain approval for proje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Analysis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nderstand business needs and processing requirement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Design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fine solution system based on requirements and analysis decision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struct, test, train users, and install new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Support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keep system running and improve i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D09EA0DE-EB28-4A9C-B5E2-68C85ECB93DC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649</TotalTime>
  <Application>LibreOffice/7.4.7.2$Linux_X86_64 LibreOffice_project/40$Build-2</Application>
  <AppVersion>15.0000</AppVersion>
  <Words>1027</Words>
  <Paragraphs>1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42:57Z</dcterms:created>
  <dc:creator>Nasser</dc:creator>
  <dc:description/>
  <dc:language>en-US</dc:language>
  <cp:lastModifiedBy>Aseel</cp:lastModifiedBy>
  <dcterms:modified xsi:type="dcterms:W3CDTF">2014-02-03T07:59:15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