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47F-D5C5-4EA2-915C-A732EFA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006-78FE-42D7-AE9B-E00401F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445-F230-4CA2-A3B3-D3307307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67E-EB9F-44E4-A8E2-683A0854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C7A6-3308-4E89-B4CB-A4F03CDB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8BEC-567C-4CD5-9C03-4193135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E607-5C47-4C5D-B574-AFFD49C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3D4-93DF-4712-8B3A-17499DC8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AE7-D079-4B92-8967-CF91ED5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5412-1BD3-4F15-BB81-D9A88021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BCC8-0E05-4E1E-850A-B17CE4F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AC8-CF59-4DCA-BB40-6A18DED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104-E37B-4748-81DF-D27D771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EE7-BAD5-4738-B124-AA68B4C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AAE-38AC-44C1-9901-1CDA91C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7AC-2F65-4378-ADF2-3A8D4C4E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EB3-DA86-4CFD-86C2-41397CA7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57BF-076C-470F-AB30-8E945B3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BE1A-55CA-46C1-9F7E-98E712E8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4853-7E83-447A-A588-928A00D8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2A89-8469-401A-86D4-32E2D24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CE7E-9FEA-41BE-B708-25153D8F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084-2F07-4B55-B73B-AC6115D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1FF6-0884-4272-81E6-32F880EE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2509-1648-4AE5-B99B-BCEAF96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6537-3221-4CDA-B0EA-0E7FB1B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EDD7-5736-40E6-A854-423AF92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2466-B0D6-4759-BE3B-732D814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3091-A014-4FD5-9AE4-C5AFF274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DAD5-F6E3-4A8A-A966-A9730F42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F1D8-16BF-4EAB-BE36-975B6C73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405A-ADA2-43ED-8D17-6D277ED5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3C09-2358-4BCA-9862-0A5D0574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9FA-25F5-435E-8714-93078A7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9291-35F0-4BC6-84F2-03D6A0DB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B5C9-4705-4BFE-838A-10C8374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1736-A1DC-4160-8B24-6BD75C1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B455-BCA4-4D29-B02B-202F190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6189-CCA4-4605-867A-03DA7EF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B876-C3BA-476B-B192-593506B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9273-0B95-4BAF-8E06-AFD38B6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F373-ED9C-41CD-B767-6CD68528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CD30-2177-4492-BD28-196FBBD5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7D82-C30E-4EC9-8E6F-E37F279E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EA0-6E19-4484-8B40-CFC949D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A38CB-21AE-49FF-9EF2-C3B6CE4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EFEA-B5F0-4503-8F6E-B8CB19BF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FD4A-A1AD-4461-8B7C-B2A73B3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F7F7-4DD8-4745-B942-6FD253B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0F10-42EB-462B-991F-A1B486E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B63C-0341-42BA-A2DB-9319012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3AFA-E057-4270-9313-31AB5375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8E44F-D82C-41EC-A65D-41D8DC1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E783-2C4A-4F05-80C2-9B2A3AD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0B6E-CE3E-4376-A2B5-D82339C4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B3C-E1C0-457D-997F-4CCB918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8490-A317-40F2-8B8B-BA09E4EA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0F9-126E-433B-8038-8E4105E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162-5863-4BFD-8B76-429BCE4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DEC-ADB5-4167-B67A-B7A2CA8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755786-D835-4B1D-A4A7-B99B726D530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4920F1-D807-411E-845B-C434CF4140C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398" strike="noStrike" cap="all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B109BE-C947-4CDF-883E-1DBB6C5377A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83A97A-2CC1-4483-AD42-19DB8341E505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8C41E8-0B3B-4150-B3C2-2F98E5EA2472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bject 7"/>
          <p:cNvSpPr/>
          <p:nvPr/>
        </p:nvSpPr>
        <p:spPr>
          <a:xfrm>
            <a:off x="2590200" y="2613240"/>
            <a:ext cx="4048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24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T1404</a:t>
            </a:r>
            <a:r>
              <a:rPr b="0" lang="en-US" sz="6600" spc="-21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Lectu</a:t>
            </a:r>
            <a:r>
              <a:rPr b="0" lang="en-US" sz="6600" spc="-5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6"/>
          <p:cNvSpPr/>
          <p:nvPr/>
        </p:nvSpPr>
        <p:spPr>
          <a:xfrm>
            <a:off x="1523880" y="3996000"/>
            <a:ext cx="6171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1" lang="en-US" sz="3600" spc="-60" strike="noStrike" baseline="3000">
                <a:solidFill>
                  <a:srgbClr val="888888"/>
                </a:solidFill>
                <a:latin typeface="Arial"/>
              </a:rPr>
              <a:t>R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equi</a:t>
            </a:r>
            <a:r>
              <a:rPr b="1" lang="en-US" sz="3600" spc="-46" strike="noStrike" baseline="3000">
                <a:solidFill>
                  <a:srgbClr val="888888"/>
                </a:solidFill>
                <a:latin typeface="Arial"/>
              </a:rPr>
              <a:t>r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eme</a:t>
            </a:r>
            <a:r>
              <a:rPr b="1" lang="en-US" sz="3600" spc="-26" strike="noStrike" baseline="3000">
                <a:solidFill>
                  <a:srgbClr val="888888"/>
                </a:solidFill>
                <a:latin typeface="Arial"/>
              </a:rPr>
              <a:t>n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t Engineer</a:t>
            </a:r>
            <a:r>
              <a:rPr b="1" lang="en-US" sz="3600" spc="-9" strike="noStrike" baseline="3000">
                <a:solidFill>
                  <a:srgbClr val="888888"/>
                </a:solidFill>
                <a:latin typeface="Arial"/>
              </a:rPr>
              <a:t>i</a:t>
            </a:r>
            <a:r>
              <a:rPr b="1" lang="en-US" sz="3600" spc="-1" strike="noStrike" baseline="3000">
                <a:solidFill>
                  <a:srgbClr val="888888"/>
                </a:solidFill>
                <a:latin typeface="Arial"/>
              </a:rPr>
              <a:t>ng and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359"/>
              </a:lnSpc>
              <a:spcBef>
                <a:spcPts val="167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5"/>
          <p:cNvSpPr/>
          <p:nvPr/>
        </p:nvSpPr>
        <p:spPr>
          <a:xfrm>
            <a:off x="4701600" y="3996000"/>
            <a:ext cx="204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bject 3"/>
          <p:cNvSpPr/>
          <p:nvPr/>
        </p:nvSpPr>
        <p:spPr>
          <a:xfrm>
            <a:off x="8436240" y="6461280"/>
            <a:ext cx="18828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52" strike="noStrike">
                <a:solidFill>
                  <a:srgbClr val="88888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2"/>
          <p:cNvSpPr/>
          <p:nvPr/>
        </p:nvSpPr>
        <p:spPr>
          <a:xfrm>
            <a:off x="380880" y="914400"/>
            <a:ext cx="7848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160">
              <a:lnSpc>
                <a:spcPct val="101000"/>
              </a:lnSpc>
              <a:spcBef>
                <a:spcPts val="30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15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</a:t>
            </a:r>
            <a:r>
              <a:rPr b="0" lang="en-US" sz="2800" spc="-4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28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</a:t>
            </a:r>
            <a:r>
              <a:rPr b="0" lang="en-US" sz="2800" spc="-9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8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</a:t>
            </a:r>
            <a:r>
              <a:rPr b="0" lang="en-US" sz="28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4200" spc="-35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1000">
                <a:solidFill>
                  <a:srgbClr val="000000"/>
                </a:solidFill>
                <a:latin typeface="Calibri"/>
              </a:rPr>
              <a:t>echni</a:t>
            </a:r>
            <a:r>
              <a:rPr b="0" lang="en-US" sz="4200" spc="-9" strike="noStrike" baseline="1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4200" spc="-1" strike="noStrike" baseline="1000">
                <a:solidFill>
                  <a:srgbClr val="000000"/>
                </a:solidFill>
                <a:latin typeface="Calibri"/>
              </a:rPr>
              <a:t>ue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35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2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4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2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4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ai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en-US" sz="2400" spc="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o</a:t>
            </a:r>
            <a:r>
              <a:rPr b="0" lang="en-US" sz="2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86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27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us </a:t>
            </a:r>
            <a:r>
              <a:rPr b="0" lang="en-US" sz="2400" spc="-4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en-US" sz="24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9360">
              <a:lnSpc>
                <a:spcPct val="101000"/>
              </a:lnSpc>
              <a:spcBef>
                <a:spcPts val="53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25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457200" y="152280"/>
            <a:ext cx="830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to requirements cap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bject 18"/>
          <p:cNvSpPr/>
          <p:nvPr/>
        </p:nvSpPr>
        <p:spPr>
          <a:xfrm>
            <a:off x="380880" y="228600"/>
            <a:ext cx="7924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US" sz="3200" spc="-60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ches </a:t>
            </a:r>
            <a:r>
              <a:rPr b="0" lang="en-US" sz="32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u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17"/>
          <p:cNvSpPr/>
          <p:nvPr/>
        </p:nvSpPr>
        <p:spPr>
          <a:xfrm>
            <a:off x="6770160" y="623520"/>
            <a:ext cx="168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bject 16"/>
          <p:cNvSpPr/>
          <p:nvPr/>
        </p:nvSpPr>
        <p:spPr>
          <a:xfrm>
            <a:off x="536040" y="1684800"/>
            <a:ext cx="228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15"/>
          <p:cNvSpPr/>
          <p:nvPr/>
        </p:nvSpPr>
        <p:spPr>
          <a:xfrm>
            <a:off x="879120" y="1709280"/>
            <a:ext cx="2930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3600" spc="-52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ul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14"/>
          <p:cNvSpPr/>
          <p:nvPr/>
        </p:nvSpPr>
        <p:spPr>
          <a:xfrm>
            <a:off x="993600" y="2272680"/>
            <a:ext cx="25524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•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6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61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61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13"/>
          <p:cNvSpPr/>
          <p:nvPr/>
        </p:nvSpPr>
        <p:spPr>
          <a:xfrm>
            <a:off x="1279800" y="2272680"/>
            <a:ext cx="38660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42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4200" spc="-4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35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ic</a:t>
            </a:r>
            <a:r>
              <a:rPr b="0" lang="en-US" sz="42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docume</a:t>
            </a: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65"/>
              </a:spcBef>
            </a:pP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</a:t>
            </a:r>
            <a:r>
              <a:rPr b="0" lang="en-US" sz="28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p</a:t>
            </a:r>
            <a:r>
              <a:rPr b="0" lang="en-US" sz="28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12"/>
          <p:cNvSpPr/>
          <p:nvPr/>
        </p:nvSpPr>
        <p:spPr>
          <a:xfrm>
            <a:off x="1279800" y="3296880"/>
            <a:ext cx="2034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4200" spc="-26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s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ha</a:t>
            </a: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11"/>
          <p:cNvSpPr/>
          <p:nvPr/>
        </p:nvSpPr>
        <p:spPr>
          <a:xfrm>
            <a:off x="3318480" y="3296880"/>
            <a:ext cx="16131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26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na</a:t>
            </a:r>
            <a:r>
              <a:rPr b="0" lang="en-US" sz="4200" spc="-21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10"/>
          <p:cNvSpPr/>
          <p:nvPr/>
        </p:nvSpPr>
        <p:spPr>
          <a:xfrm>
            <a:off x="1279800" y="3809160"/>
            <a:ext cx="7099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200" spc="-46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9"/>
          <p:cNvSpPr/>
          <p:nvPr/>
        </p:nvSpPr>
        <p:spPr>
          <a:xfrm>
            <a:off x="1991880" y="3809160"/>
            <a:ext cx="3808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8"/>
          <p:cNvSpPr/>
          <p:nvPr/>
        </p:nvSpPr>
        <p:spPr>
          <a:xfrm>
            <a:off x="2374560" y="3809160"/>
            <a:ext cx="7210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mi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7"/>
          <p:cNvSpPr/>
          <p:nvPr/>
        </p:nvSpPr>
        <p:spPr>
          <a:xfrm>
            <a:off x="3100320" y="3809160"/>
            <a:ext cx="21528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/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6"/>
          <p:cNvSpPr/>
          <p:nvPr/>
        </p:nvSpPr>
        <p:spPr>
          <a:xfrm>
            <a:off x="3319560" y="3809160"/>
            <a:ext cx="7495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om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5"/>
          <p:cNvSpPr/>
          <p:nvPr/>
        </p:nvSpPr>
        <p:spPr>
          <a:xfrm>
            <a:off x="4071240" y="3809160"/>
            <a:ext cx="202320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qu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4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4200" spc="-29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bject 19"/>
          <p:cNvSpPr/>
          <p:nvPr/>
        </p:nvSpPr>
        <p:spPr>
          <a:xfrm>
            <a:off x="383400" y="1608480"/>
            <a:ext cx="228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18"/>
          <p:cNvSpPr/>
          <p:nvPr/>
        </p:nvSpPr>
        <p:spPr>
          <a:xfrm>
            <a:off x="726480" y="1632960"/>
            <a:ext cx="3123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Modern</a:t>
            </a:r>
            <a:r>
              <a:rPr b="1" lang="en-US" sz="4800" spc="-9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app</a:t>
            </a:r>
            <a:r>
              <a:rPr b="1" lang="en-US" sz="4800" spc="-41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oa</a:t>
            </a:r>
            <a:r>
              <a:rPr b="1" lang="en-US" sz="4800" spc="1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800" spc="-1" strike="noStrike" baseline="3000">
                <a:solidFill>
                  <a:srgbClr val="000000"/>
                </a:solidFill>
                <a:latin typeface="Calibri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17"/>
          <p:cNvSpPr/>
          <p:nvPr/>
        </p:nvSpPr>
        <p:spPr>
          <a:xfrm>
            <a:off x="840960" y="2174760"/>
            <a:ext cx="276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9"/>
              </a:lnSpc>
              <a:spcBef>
                <a:spcPts val="147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16"/>
          <p:cNvSpPr/>
          <p:nvPr/>
        </p:nvSpPr>
        <p:spPr>
          <a:xfrm>
            <a:off x="1127520" y="2196360"/>
            <a:ext cx="26208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951"/>
              </a:lnSpc>
              <a:spcBef>
                <a:spcPts val="147"/>
              </a:spcBef>
            </a:pP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4200" spc="-9" strike="noStrike" baseline="2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el</a:t>
            </a:r>
            <a:r>
              <a:rPr b="0" lang="en-US" sz="4200" spc="1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4200" spc="-15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ng</a:t>
            </a:r>
            <a:r>
              <a:rPr b="0" lang="en-US" sz="4200" spc="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200" spc="-1" strike="noStrike" baseline="2000">
                <a:solidFill>
                  <a:srgbClr val="000000"/>
                </a:solidFill>
                <a:latin typeface="Calibri"/>
              </a:rPr>
              <a:t>UM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15"/>
          <p:cNvSpPr/>
          <p:nvPr/>
        </p:nvSpPr>
        <p:spPr>
          <a:xfrm>
            <a:off x="1298160" y="2668680"/>
            <a:ext cx="1774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54"/>
              </a:lnSpc>
              <a:spcBef>
                <a:spcPts val="128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14"/>
          <p:cNvSpPr/>
          <p:nvPr/>
        </p:nvSpPr>
        <p:spPr>
          <a:xfrm>
            <a:off x="1526760" y="2687040"/>
            <a:ext cx="2396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46"/>
              </a:lnSpc>
              <a:spcBef>
                <a:spcPts val="128"/>
              </a:spcBef>
            </a:pP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600" spc="-4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3600" spc="-15" strike="noStrike" baseline="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ases a</a:t>
            </a:r>
            <a:r>
              <a:rPr b="0" lang="en-US" sz="360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-9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1200">
              <a:lnSpc>
                <a:spcPct val="101000"/>
              </a:lnSpc>
              <a:spcBef>
                <a:spcPts val="312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12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000" spc="-4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Diag</a:t>
            </a:r>
            <a:r>
              <a:rPr b="0" lang="en-US" sz="20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3922200" y="2687040"/>
            <a:ext cx="44413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46"/>
              </a:lnSpc>
              <a:spcBef>
                <a:spcPts val="128"/>
              </a:spcBef>
            </a:pPr>
            <a:r>
              <a:rPr b="0" lang="en-US" sz="3600" spc="-26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21" strike="noStrike" baseline="3000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9" strike="noStrike" baseline="3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tu</a:t>
            </a:r>
            <a:r>
              <a:rPr b="0" lang="en-US" sz="36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7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600" spc="-4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nct</a:t>
            </a:r>
            <a:r>
              <a:rPr b="1" lang="en-US" sz="3600" spc="-4" strike="noStrike" baseline="3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 baseline="3000">
                <a:solidFill>
                  <a:srgbClr val="000000"/>
                </a:solidFill>
                <a:latin typeface="Calibri"/>
              </a:rPr>
              <a:t>onal</a:t>
            </a:r>
            <a:r>
              <a:rPr b="1" lang="en-US" sz="3600" spc="12" strike="noStrike" baseline="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60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1" strike="noStrike" baseline="3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600" spc="-21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6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12"/>
          <p:cNvSpPr/>
          <p:nvPr/>
        </p:nvSpPr>
        <p:spPr>
          <a:xfrm>
            <a:off x="1755360" y="3454560"/>
            <a:ext cx="3195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265"/>
              </a:lnSpc>
              <a:spcBef>
                <a:spcPts val="113"/>
              </a:spcBef>
            </a:pPr>
            <a:r>
              <a:rPr b="0" lang="en-US" sz="3000" spc="-1" strike="noStrike" baseline="2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000" spc="128" strike="noStrike" baseline="2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t of</a:t>
            </a:r>
            <a:r>
              <a:rPr b="0" lang="en-US" sz="3000" spc="-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e desc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5" strike="noStrike" baseline="2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3000" spc="-4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2000">
                <a:solidFill>
                  <a:srgbClr val="000000"/>
                </a:solidFill>
                <a:latin typeface="Calibri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18"/>
          <p:cNvSpPr/>
          <p:nvPr/>
        </p:nvSpPr>
        <p:spPr>
          <a:xfrm>
            <a:off x="304920" y="533520"/>
            <a:ext cx="7924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en-US" sz="3200" spc="-60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ches </a:t>
            </a:r>
            <a:r>
              <a:rPr b="0" lang="en-US" sz="32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3200" spc="-35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u</a:t>
            </a:r>
            <a:r>
              <a:rPr b="0" lang="en-US" sz="3200" spc="-55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4175"/>
              </a:lnSpc>
              <a:spcBef>
                <a:spcPts val="207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398" strike="noStrike" cap="all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312588E-8F6D-427C-B3B6-CFB6975E37BC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 Use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456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-case captures some user visible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be a large or smal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se-case achieves a discrete goal for the 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n ele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46B9C844-ABB4-4010-B5A3-1901B6D0C88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r Goals versus Use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68644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following when formatting a docu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a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 style from one document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consistent formatting of two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are user inte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s the user does to the system to achieve th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st is a user go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he user wants to ach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045B2788-217D-4C0B-AC73-D5265F209958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Goals and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53416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lace for both goals and inter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at the system shall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the use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how the user will achieve the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s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start with the user goals and then refine the user goals into several (many) user inter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CA0A8DA-2AC4-4D61-BE8B-D16FABE6F55E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-Case Diagrams (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04800" y="1066680"/>
            <a:ext cx="7612200" cy="3790800"/>
            <a:chOff x="604800" y="1066680"/>
            <a:chExt cx="7612200" cy="3790800"/>
          </a:xfrm>
        </p:grpSpPr>
        <p:sp>
          <p:nvSpPr>
            <p:cNvPr id="293" name="Freeform 4"/>
            <p:cNvSpPr/>
            <p:nvPr/>
          </p:nvSpPr>
          <p:spPr>
            <a:xfrm>
              <a:off x="7731000" y="2658960"/>
              <a:ext cx="212400" cy="26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4" h="168">
                  <a:moveTo>
                    <a:pt x="0" y="84"/>
                  </a:moveTo>
                  <a:lnTo>
                    <a:pt x="2" y="62"/>
                  </a:lnTo>
                  <a:lnTo>
                    <a:pt x="8" y="42"/>
                  </a:lnTo>
                  <a:lnTo>
                    <a:pt x="20" y="26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67" y="0"/>
                  </a:lnTo>
                  <a:lnTo>
                    <a:pt x="84" y="4"/>
                  </a:lnTo>
                  <a:lnTo>
                    <a:pt x="100" y="12"/>
                  </a:lnTo>
                  <a:lnTo>
                    <a:pt x="114" y="26"/>
                  </a:lnTo>
                  <a:lnTo>
                    <a:pt x="126" y="42"/>
                  </a:lnTo>
                  <a:lnTo>
                    <a:pt x="132" y="62"/>
                  </a:lnTo>
                  <a:lnTo>
                    <a:pt x="134" y="84"/>
                  </a:lnTo>
                  <a:lnTo>
                    <a:pt x="132" y="106"/>
                  </a:lnTo>
                  <a:lnTo>
                    <a:pt x="126" y="126"/>
                  </a:lnTo>
                  <a:lnTo>
                    <a:pt x="114" y="145"/>
                  </a:lnTo>
                  <a:lnTo>
                    <a:pt x="100" y="158"/>
                  </a:lnTo>
                  <a:lnTo>
                    <a:pt x="84" y="167"/>
                  </a:lnTo>
                  <a:lnTo>
                    <a:pt x="67" y="168"/>
                  </a:lnTo>
                  <a:lnTo>
                    <a:pt x="50" y="167"/>
                  </a:lnTo>
                  <a:lnTo>
                    <a:pt x="33" y="158"/>
                  </a:lnTo>
                  <a:lnTo>
                    <a:pt x="20" y="145"/>
                  </a:lnTo>
                  <a:lnTo>
                    <a:pt x="8" y="126"/>
                  </a:lnTo>
                  <a:lnTo>
                    <a:pt x="2" y="10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550280" y="2925720"/>
              <a:ext cx="574200" cy="93312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62" h="588">
                  <a:moveTo>
                    <a:pt x="0" y="84"/>
                  </a:moveTo>
                  <a:lnTo>
                    <a:pt x="362" y="84"/>
                  </a:lnTo>
                  <a:moveTo>
                    <a:pt x="181" y="369"/>
                  </a:moveTo>
                  <a:lnTo>
                    <a:pt x="315" y="588"/>
                  </a:lnTo>
                  <a:moveTo>
                    <a:pt x="181" y="0"/>
                  </a:moveTo>
                  <a:lnTo>
                    <a:pt x="181" y="369"/>
                  </a:lnTo>
                  <a:lnTo>
                    <a:pt x="47" y="588"/>
                  </a:lnTo>
                </a:path>
              </a:pathLst>
            </a:custGeom>
            <a:noFill/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7444800" y="3908520"/>
              <a:ext cx="772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1744560" y="2658960"/>
              <a:ext cx="212400" cy="266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4" h="168">
                  <a:moveTo>
                    <a:pt x="0" y="84"/>
                  </a:moveTo>
                  <a:lnTo>
                    <a:pt x="1" y="62"/>
                  </a:lnTo>
                  <a:lnTo>
                    <a:pt x="8" y="42"/>
                  </a:lnTo>
                  <a:lnTo>
                    <a:pt x="20" y="26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67" y="0"/>
                  </a:lnTo>
                  <a:lnTo>
                    <a:pt x="83" y="4"/>
                  </a:lnTo>
                  <a:lnTo>
                    <a:pt x="100" y="12"/>
                  </a:lnTo>
                  <a:lnTo>
                    <a:pt x="114" y="26"/>
                  </a:lnTo>
                  <a:lnTo>
                    <a:pt x="125" y="42"/>
                  </a:lnTo>
                  <a:lnTo>
                    <a:pt x="132" y="62"/>
                  </a:lnTo>
                  <a:lnTo>
                    <a:pt x="134" y="84"/>
                  </a:lnTo>
                  <a:lnTo>
                    <a:pt x="132" y="106"/>
                  </a:lnTo>
                  <a:lnTo>
                    <a:pt x="125" y="126"/>
                  </a:lnTo>
                  <a:lnTo>
                    <a:pt x="114" y="145"/>
                  </a:lnTo>
                  <a:lnTo>
                    <a:pt x="100" y="158"/>
                  </a:lnTo>
                  <a:lnTo>
                    <a:pt x="83" y="167"/>
                  </a:lnTo>
                  <a:lnTo>
                    <a:pt x="67" y="168"/>
                  </a:lnTo>
                  <a:lnTo>
                    <a:pt x="50" y="167"/>
                  </a:lnTo>
                  <a:lnTo>
                    <a:pt x="33" y="158"/>
                  </a:lnTo>
                  <a:lnTo>
                    <a:pt x="20" y="145"/>
                  </a:lnTo>
                  <a:lnTo>
                    <a:pt x="8" y="126"/>
                  </a:lnTo>
                  <a:lnTo>
                    <a:pt x="1" y="106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1563840" y="2925720"/>
              <a:ext cx="574200" cy="93312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62" h="588">
                  <a:moveTo>
                    <a:pt x="0" y="84"/>
                  </a:moveTo>
                  <a:lnTo>
                    <a:pt x="362" y="84"/>
                  </a:lnTo>
                  <a:moveTo>
                    <a:pt x="181" y="369"/>
                  </a:moveTo>
                  <a:lnTo>
                    <a:pt x="315" y="588"/>
                  </a:lnTo>
                  <a:moveTo>
                    <a:pt x="181" y="0"/>
                  </a:moveTo>
                  <a:lnTo>
                    <a:pt x="181" y="369"/>
                  </a:lnTo>
                  <a:lnTo>
                    <a:pt x="47" y="588"/>
                  </a:lnTo>
                </a:path>
              </a:pathLst>
            </a:custGeom>
            <a:noFill/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1538280" y="3908520"/>
              <a:ext cx="613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827520" y="2060640"/>
              <a:ext cx="1794960" cy="597960"/>
            </a:xfrm>
            <a:custGeom>
              <a:avLst/>
              <a:gdLst>
                <a:gd name="textAreaLeft" fmla="*/ 0 w 1794960"/>
                <a:gd name="textAreaRight" fmla="*/ 1795320 w 179496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131" h="377">
                  <a:moveTo>
                    <a:pt x="0" y="189"/>
                  </a:moveTo>
                  <a:lnTo>
                    <a:pt x="2" y="169"/>
                  </a:lnTo>
                  <a:lnTo>
                    <a:pt x="12" y="149"/>
                  </a:lnTo>
                  <a:lnTo>
                    <a:pt x="29" y="129"/>
                  </a:lnTo>
                  <a:lnTo>
                    <a:pt x="52" y="111"/>
                  </a:lnTo>
                  <a:lnTo>
                    <a:pt x="81" y="92"/>
                  </a:lnTo>
                  <a:lnTo>
                    <a:pt x="114" y="75"/>
                  </a:lnTo>
                  <a:lnTo>
                    <a:pt x="154" y="58"/>
                  </a:lnTo>
                  <a:lnTo>
                    <a:pt x="200" y="45"/>
                  </a:lnTo>
                  <a:lnTo>
                    <a:pt x="248" y="33"/>
                  </a:lnTo>
                  <a:lnTo>
                    <a:pt x="300" y="22"/>
                  </a:lnTo>
                  <a:lnTo>
                    <a:pt x="355" y="13"/>
                  </a:lnTo>
                  <a:lnTo>
                    <a:pt x="414" y="6"/>
                  </a:lnTo>
                  <a:lnTo>
                    <a:pt x="473" y="3"/>
                  </a:lnTo>
                  <a:lnTo>
                    <a:pt x="535" y="0"/>
                  </a:lnTo>
                  <a:lnTo>
                    <a:pt x="595" y="0"/>
                  </a:lnTo>
                  <a:lnTo>
                    <a:pt x="657" y="3"/>
                  </a:lnTo>
                  <a:lnTo>
                    <a:pt x="716" y="6"/>
                  </a:lnTo>
                  <a:lnTo>
                    <a:pt x="774" y="13"/>
                  </a:lnTo>
                  <a:lnTo>
                    <a:pt x="830" y="22"/>
                  </a:lnTo>
                  <a:lnTo>
                    <a:pt x="882" y="33"/>
                  </a:lnTo>
                  <a:lnTo>
                    <a:pt x="930" y="45"/>
                  </a:lnTo>
                  <a:lnTo>
                    <a:pt x="976" y="58"/>
                  </a:lnTo>
                  <a:lnTo>
                    <a:pt x="1016" y="75"/>
                  </a:lnTo>
                  <a:lnTo>
                    <a:pt x="1049" y="92"/>
                  </a:lnTo>
                  <a:lnTo>
                    <a:pt x="1078" y="111"/>
                  </a:lnTo>
                  <a:lnTo>
                    <a:pt x="1101" y="129"/>
                  </a:lnTo>
                  <a:lnTo>
                    <a:pt x="1118" y="149"/>
                  </a:lnTo>
                  <a:lnTo>
                    <a:pt x="1128" y="169"/>
                  </a:lnTo>
                  <a:lnTo>
                    <a:pt x="1131" y="189"/>
                  </a:lnTo>
                  <a:lnTo>
                    <a:pt x="1128" y="210"/>
                  </a:lnTo>
                  <a:lnTo>
                    <a:pt x="1118" y="230"/>
                  </a:lnTo>
                  <a:lnTo>
                    <a:pt x="1101" y="250"/>
                  </a:lnTo>
                  <a:lnTo>
                    <a:pt x="1078" y="268"/>
                  </a:lnTo>
                  <a:lnTo>
                    <a:pt x="1049" y="287"/>
                  </a:lnTo>
                  <a:lnTo>
                    <a:pt x="1016" y="304"/>
                  </a:lnTo>
                  <a:lnTo>
                    <a:pt x="976" y="319"/>
                  </a:lnTo>
                  <a:lnTo>
                    <a:pt x="930" y="334"/>
                  </a:lnTo>
                  <a:lnTo>
                    <a:pt x="882" y="345"/>
                  </a:lnTo>
                  <a:lnTo>
                    <a:pt x="830" y="356"/>
                  </a:lnTo>
                  <a:lnTo>
                    <a:pt x="774" y="364"/>
                  </a:lnTo>
                  <a:lnTo>
                    <a:pt x="716" y="371"/>
                  </a:lnTo>
                  <a:lnTo>
                    <a:pt x="657" y="376"/>
                  </a:lnTo>
                  <a:lnTo>
                    <a:pt x="595" y="377"/>
                  </a:lnTo>
                  <a:lnTo>
                    <a:pt x="535" y="377"/>
                  </a:lnTo>
                  <a:lnTo>
                    <a:pt x="473" y="376"/>
                  </a:lnTo>
                  <a:lnTo>
                    <a:pt x="414" y="371"/>
                  </a:lnTo>
                  <a:lnTo>
                    <a:pt x="355" y="364"/>
                  </a:lnTo>
                  <a:lnTo>
                    <a:pt x="300" y="356"/>
                  </a:lnTo>
                  <a:lnTo>
                    <a:pt x="248" y="345"/>
                  </a:lnTo>
                  <a:lnTo>
                    <a:pt x="200" y="334"/>
                  </a:lnTo>
                  <a:lnTo>
                    <a:pt x="154" y="319"/>
                  </a:lnTo>
                  <a:lnTo>
                    <a:pt x="114" y="304"/>
                  </a:lnTo>
                  <a:lnTo>
                    <a:pt x="81" y="287"/>
                  </a:lnTo>
                  <a:lnTo>
                    <a:pt x="52" y="268"/>
                  </a:lnTo>
                  <a:lnTo>
                    <a:pt x="29" y="250"/>
                  </a:lnTo>
                  <a:lnTo>
                    <a:pt x="12" y="230"/>
                  </a:lnTo>
                  <a:lnTo>
                    <a:pt x="2" y="21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4469400" y="2254320"/>
              <a:ext cx="705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3809880" y="2960640"/>
              <a:ext cx="1794960" cy="599760"/>
            </a:xfrm>
            <a:custGeom>
              <a:avLst/>
              <a:gdLst>
                <a:gd name="textAreaLeft" fmla="*/ 0 w 1794960"/>
                <a:gd name="textAreaRight" fmla="*/ 1795320 w 17949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131" h="378">
                  <a:moveTo>
                    <a:pt x="0" y="188"/>
                  </a:moveTo>
                  <a:lnTo>
                    <a:pt x="2" y="168"/>
                  </a:lnTo>
                  <a:lnTo>
                    <a:pt x="12" y="148"/>
                  </a:lnTo>
                  <a:lnTo>
                    <a:pt x="29" y="128"/>
                  </a:lnTo>
                  <a:lnTo>
                    <a:pt x="52" y="109"/>
                  </a:lnTo>
                  <a:lnTo>
                    <a:pt x="81" y="91"/>
                  </a:lnTo>
                  <a:lnTo>
                    <a:pt x="114" y="74"/>
                  </a:lnTo>
                  <a:lnTo>
                    <a:pt x="154" y="59"/>
                  </a:lnTo>
                  <a:lnTo>
                    <a:pt x="200" y="45"/>
                  </a:lnTo>
                  <a:lnTo>
                    <a:pt x="248" y="32"/>
                  </a:lnTo>
                  <a:lnTo>
                    <a:pt x="300" y="22"/>
                  </a:lnTo>
                  <a:lnTo>
                    <a:pt x="355" y="13"/>
                  </a:lnTo>
                  <a:lnTo>
                    <a:pt x="414" y="7"/>
                  </a:lnTo>
                  <a:lnTo>
                    <a:pt x="473" y="2"/>
                  </a:lnTo>
                  <a:lnTo>
                    <a:pt x="535" y="0"/>
                  </a:lnTo>
                  <a:lnTo>
                    <a:pt x="595" y="0"/>
                  </a:lnTo>
                  <a:lnTo>
                    <a:pt x="657" y="2"/>
                  </a:lnTo>
                  <a:lnTo>
                    <a:pt x="716" y="7"/>
                  </a:lnTo>
                  <a:lnTo>
                    <a:pt x="774" y="13"/>
                  </a:lnTo>
                  <a:lnTo>
                    <a:pt x="830" y="22"/>
                  </a:lnTo>
                  <a:lnTo>
                    <a:pt x="882" y="32"/>
                  </a:lnTo>
                  <a:lnTo>
                    <a:pt x="930" y="45"/>
                  </a:lnTo>
                  <a:lnTo>
                    <a:pt x="976" y="59"/>
                  </a:lnTo>
                  <a:lnTo>
                    <a:pt x="1016" y="74"/>
                  </a:lnTo>
                  <a:lnTo>
                    <a:pt x="1049" y="91"/>
                  </a:lnTo>
                  <a:lnTo>
                    <a:pt x="1078" y="109"/>
                  </a:lnTo>
                  <a:lnTo>
                    <a:pt x="1101" y="128"/>
                  </a:lnTo>
                  <a:lnTo>
                    <a:pt x="1118" y="148"/>
                  </a:lnTo>
                  <a:lnTo>
                    <a:pt x="1128" y="168"/>
                  </a:lnTo>
                  <a:lnTo>
                    <a:pt x="1131" y="188"/>
                  </a:lnTo>
                  <a:lnTo>
                    <a:pt x="1128" y="208"/>
                  </a:lnTo>
                  <a:lnTo>
                    <a:pt x="1118" y="230"/>
                  </a:lnTo>
                  <a:lnTo>
                    <a:pt x="1101" y="248"/>
                  </a:lnTo>
                  <a:lnTo>
                    <a:pt x="1078" y="269"/>
                  </a:lnTo>
                  <a:lnTo>
                    <a:pt x="1049" y="285"/>
                  </a:lnTo>
                  <a:lnTo>
                    <a:pt x="1016" y="302"/>
                  </a:lnTo>
                  <a:lnTo>
                    <a:pt x="976" y="319"/>
                  </a:lnTo>
                  <a:lnTo>
                    <a:pt x="930" y="332"/>
                  </a:lnTo>
                  <a:lnTo>
                    <a:pt x="882" y="344"/>
                  </a:lnTo>
                  <a:lnTo>
                    <a:pt x="830" y="356"/>
                  </a:lnTo>
                  <a:lnTo>
                    <a:pt x="774" y="364"/>
                  </a:lnTo>
                  <a:lnTo>
                    <a:pt x="716" y="371"/>
                  </a:lnTo>
                  <a:lnTo>
                    <a:pt x="657" y="374"/>
                  </a:lnTo>
                  <a:lnTo>
                    <a:pt x="595" y="378"/>
                  </a:lnTo>
                  <a:lnTo>
                    <a:pt x="535" y="378"/>
                  </a:lnTo>
                  <a:lnTo>
                    <a:pt x="473" y="374"/>
                  </a:lnTo>
                  <a:lnTo>
                    <a:pt x="414" y="371"/>
                  </a:lnTo>
                  <a:lnTo>
                    <a:pt x="355" y="364"/>
                  </a:lnTo>
                  <a:lnTo>
                    <a:pt x="300" y="356"/>
                  </a:lnTo>
                  <a:lnTo>
                    <a:pt x="248" y="344"/>
                  </a:lnTo>
                  <a:lnTo>
                    <a:pt x="200" y="332"/>
                  </a:lnTo>
                  <a:lnTo>
                    <a:pt x="154" y="319"/>
                  </a:lnTo>
                  <a:lnTo>
                    <a:pt x="114" y="302"/>
                  </a:lnTo>
                  <a:lnTo>
                    <a:pt x="81" y="285"/>
                  </a:lnTo>
                  <a:lnTo>
                    <a:pt x="52" y="269"/>
                  </a:lnTo>
                  <a:lnTo>
                    <a:pt x="29" y="248"/>
                  </a:lnTo>
                  <a:lnTo>
                    <a:pt x="12" y="230"/>
                  </a:lnTo>
                  <a:lnTo>
                    <a:pt x="2" y="20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576320" y="3152880"/>
              <a:ext cx="496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460680" y="3816360"/>
              <a:ext cx="2526840" cy="840960"/>
            </a:xfrm>
            <a:custGeom>
              <a:avLst/>
              <a:gdLst>
                <a:gd name="textAreaLeft" fmla="*/ 0 w 2526840"/>
                <a:gd name="textAreaRight" fmla="*/ 2527200 w 252684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592" h="530">
                  <a:moveTo>
                    <a:pt x="0" y="265"/>
                  </a:moveTo>
                  <a:lnTo>
                    <a:pt x="3" y="241"/>
                  </a:lnTo>
                  <a:lnTo>
                    <a:pt x="13" y="218"/>
                  </a:lnTo>
                  <a:lnTo>
                    <a:pt x="28" y="194"/>
                  </a:lnTo>
                  <a:lnTo>
                    <a:pt x="52" y="171"/>
                  </a:lnTo>
                  <a:lnTo>
                    <a:pt x="79" y="149"/>
                  </a:lnTo>
                  <a:lnTo>
                    <a:pt x="112" y="129"/>
                  </a:lnTo>
                  <a:lnTo>
                    <a:pt x="152" y="109"/>
                  </a:lnTo>
                  <a:lnTo>
                    <a:pt x="196" y="90"/>
                  </a:lnTo>
                  <a:lnTo>
                    <a:pt x="246" y="74"/>
                  </a:lnTo>
                  <a:lnTo>
                    <a:pt x="300" y="57"/>
                  </a:lnTo>
                  <a:lnTo>
                    <a:pt x="357" y="43"/>
                  </a:lnTo>
                  <a:lnTo>
                    <a:pt x="419" y="32"/>
                  </a:lnTo>
                  <a:lnTo>
                    <a:pt x="482" y="22"/>
                  </a:lnTo>
                  <a:lnTo>
                    <a:pt x="550" y="13"/>
                  </a:lnTo>
                  <a:lnTo>
                    <a:pt x="618" y="6"/>
                  </a:lnTo>
                  <a:lnTo>
                    <a:pt x="689" y="1"/>
                  </a:lnTo>
                  <a:lnTo>
                    <a:pt x="761" y="0"/>
                  </a:lnTo>
                  <a:lnTo>
                    <a:pt x="831" y="0"/>
                  </a:lnTo>
                  <a:lnTo>
                    <a:pt x="903" y="1"/>
                  </a:lnTo>
                  <a:lnTo>
                    <a:pt x="974" y="6"/>
                  </a:lnTo>
                  <a:lnTo>
                    <a:pt x="1042" y="13"/>
                  </a:lnTo>
                  <a:lnTo>
                    <a:pt x="1109" y="22"/>
                  </a:lnTo>
                  <a:lnTo>
                    <a:pt x="1173" y="32"/>
                  </a:lnTo>
                  <a:lnTo>
                    <a:pt x="1235" y="43"/>
                  </a:lnTo>
                  <a:lnTo>
                    <a:pt x="1292" y="57"/>
                  </a:lnTo>
                  <a:lnTo>
                    <a:pt x="1346" y="74"/>
                  </a:lnTo>
                  <a:lnTo>
                    <a:pt x="1396" y="90"/>
                  </a:lnTo>
                  <a:lnTo>
                    <a:pt x="1440" y="109"/>
                  </a:lnTo>
                  <a:lnTo>
                    <a:pt x="1480" y="129"/>
                  </a:lnTo>
                  <a:lnTo>
                    <a:pt x="1513" y="149"/>
                  </a:lnTo>
                  <a:lnTo>
                    <a:pt x="1540" y="171"/>
                  </a:lnTo>
                  <a:lnTo>
                    <a:pt x="1564" y="194"/>
                  </a:lnTo>
                  <a:lnTo>
                    <a:pt x="1579" y="218"/>
                  </a:lnTo>
                  <a:lnTo>
                    <a:pt x="1589" y="241"/>
                  </a:lnTo>
                  <a:lnTo>
                    <a:pt x="1592" y="265"/>
                  </a:lnTo>
                  <a:lnTo>
                    <a:pt x="1589" y="288"/>
                  </a:lnTo>
                  <a:lnTo>
                    <a:pt x="1579" y="312"/>
                  </a:lnTo>
                  <a:lnTo>
                    <a:pt x="1564" y="335"/>
                  </a:lnTo>
                  <a:lnTo>
                    <a:pt x="1540" y="359"/>
                  </a:lnTo>
                  <a:lnTo>
                    <a:pt x="1513" y="381"/>
                  </a:lnTo>
                  <a:lnTo>
                    <a:pt x="1480" y="401"/>
                  </a:lnTo>
                  <a:lnTo>
                    <a:pt x="1440" y="421"/>
                  </a:lnTo>
                  <a:lnTo>
                    <a:pt x="1396" y="439"/>
                  </a:lnTo>
                  <a:lnTo>
                    <a:pt x="1346" y="456"/>
                  </a:lnTo>
                  <a:lnTo>
                    <a:pt x="1292" y="473"/>
                  </a:lnTo>
                  <a:lnTo>
                    <a:pt x="1235" y="486"/>
                  </a:lnTo>
                  <a:lnTo>
                    <a:pt x="1173" y="498"/>
                  </a:lnTo>
                  <a:lnTo>
                    <a:pt x="1109" y="510"/>
                  </a:lnTo>
                  <a:lnTo>
                    <a:pt x="1042" y="518"/>
                  </a:lnTo>
                  <a:lnTo>
                    <a:pt x="974" y="523"/>
                  </a:lnTo>
                  <a:lnTo>
                    <a:pt x="903" y="528"/>
                  </a:lnTo>
                  <a:lnTo>
                    <a:pt x="831" y="530"/>
                  </a:lnTo>
                  <a:lnTo>
                    <a:pt x="761" y="530"/>
                  </a:lnTo>
                  <a:lnTo>
                    <a:pt x="689" y="528"/>
                  </a:lnTo>
                  <a:lnTo>
                    <a:pt x="618" y="523"/>
                  </a:lnTo>
                  <a:lnTo>
                    <a:pt x="550" y="518"/>
                  </a:lnTo>
                  <a:lnTo>
                    <a:pt x="482" y="510"/>
                  </a:lnTo>
                  <a:lnTo>
                    <a:pt x="419" y="498"/>
                  </a:lnTo>
                  <a:lnTo>
                    <a:pt x="357" y="486"/>
                  </a:lnTo>
                  <a:lnTo>
                    <a:pt x="300" y="473"/>
                  </a:lnTo>
                  <a:lnTo>
                    <a:pt x="246" y="456"/>
                  </a:lnTo>
                  <a:lnTo>
                    <a:pt x="196" y="439"/>
                  </a:lnTo>
                  <a:lnTo>
                    <a:pt x="152" y="421"/>
                  </a:lnTo>
                  <a:lnTo>
                    <a:pt x="112" y="401"/>
                  </a:lnTo>
                  <a:lnTo>
                    <a:pt x="79" y="381"/>
                  </a:lnTo>
                  <a:lnTo>
                    <a:pt x="52" y="359"/>
                  </a:lnTo>
                  <a:lnTo>
                    <a:pt x="28" y="335"/>
                  </a:lnTo>
                  <a:lnTo>
                    <a:pt x="13" y="312"/>
                  </a:lnTo>
                  <a:lnTo>
                    <a:pt x="3" y="288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ff"/>
            </a:solidFill>
            <a:ln w="4763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3783240" y="4151160"/>
              <a:ext cx="2025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und a Purchased I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2170080" y="2360520"/>
              <a:ext cx="1657080" cy="898200"/>
            </a:xfrm>
            <a:custGeom>
              <a:avLst/>
              <a:gdLst>
                <a:gd name="textAreaLeft" fmla="*/ 0 w 1657080"/>
                <a:gd name="textAreaRight" fmla="*/ 1657440 w 16570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044" h="566">
                  <a:moveTo>
                    <a:pt x="1044" y="566"/>
                  </a:moveTo>
                  <a:lnTo>
                    <a:pt x="0" y="566"/>
                  </a:lnTo>
                  <a:lnTo>
                    <a:pt x="1044" y="0"/>
                  </a:lnTo>
                </a:path>
              </a:pathLst>
            </a:cu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 flipH="1" flipV="1">
              <a:off x="2170080" y="3259080"/>
              <a:ext cx="1290600" cy="977760"/>
            </a:xfrm>
            <a:prstGeom prst="line">
              <a:avLst/>
            </a:prstGeom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5622840" y="2360520"/>
              <a:ext cx="1895040" cy="18759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1194" h="1182">
                  <a:moveTo>
                    <a:pt x="0" y="0"/>
                  </a:moveTo>
                  <a:lnTo>
                    <a:pt x="1194" y="566"/>
                  </a:lnTo>
                  <a:lnTo>
                    <a:pt x="230" y="1182"/>
                  </a:lnTo>
                </a:path>
              </a:pathLst>
            </a:custGeom>
            <a:noFill/>
            <a:ln w="158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3327480" y="1660680"/>
              <a:ext cx="2993760" cy="3196800"/>
            </a:xfrm>
            <a:prstGeom prst="rect">
              <a:avLst/>
            </a:prstGeom>
            <a:noFill/>
            <a:ln w="4763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4579920" y="1428840"/>
              <a:ext cx="484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5322960" y="1066680"/>
              <a:ext cx="1696680" cy="993240"/>
            </a:xfrm>
            <a:custGeom>
              <a:avLst/>
              <a:gdLst>
                <a:gd name="textAreaLeft" fmla="*/ 0 w 1696680"/>
                <a:gd name="textAreaRight" fmla="*/ 1697040 w 1696680"/>
                <a:gd name="textAreaTop" fmla="*/ 0 h 993240"/>
                <a:gd name="textAreaBottom" fmla="*/ 993600 h 993240"/>
              </a:gdLst>
              <a:ahLst/>
              <a:rect l="textAreaLeft" t="textAreaTop" r="textAreaRight" b="textAreaBottom"/>
              <a:pathLst>
                <a:path w="1069" h="626">
                  <a:moveTo>
                    <a:pt x="0" y="626"/>
                  </a:moveTo>
                  <a:lnTo>
                    <a:pt x="1069" y="122"/>
                  </a:lnTo>
                  <a:moveTo>
                    <a:pt x="1069" y="246"/>
                  </a:moveTo>
                  <a:lnTo>
                    <a:pt x="1069" y="0"/>
                  </a:lnTo>
                </a:path>
              </a:pathLst>
            </a:custGeom>
            <a:noFill/>
            <a:ln w="381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7107120" y="1154160"/>
              <a:ext cx="783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130480" y="1465200"/>
              <a:ext cx="1196640" cy="595080"/>
            </a:xfrm>
            <a:custGeom>
              <a:avLst/>
              <a:gdLst>
                <a:gd name="textAreaLeft" fmla="*/ 0 w 1196640"/>
                <a:gd name="textAreaRight" fmla="*/ 1197000 w 119664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754" h="375">
                  <a:moveTo>
                    <a:pt x="754" y="375"/>
                  </a:moveTo>
                  <a:lnTo>
                    <a:pt x="0" y="123"/>
                  </a:lnTo>
                  <a:moveTo>
                    <a:pt x="0" y="247"/>
                  </a:moveTo>
                  <a:lnTo>
                    <a:pt x="0" y="0"/>
                  </a:lnTo>
                </a:path>
              </a:pathLst>
            </a:custGeom>
            <a:noFill/>
            <a:ln w="381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>
              <a:off x="604800" y="1589040"/>
              <a:ext cx="1409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 Bou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6"/>
          <p:cNvSpPr/>
          <p:nvPr/>
        </p:nvSpPr>
        <p:spPr>
          <a:xfrm>
            <a:off x="249840" y="914400"/>
            <a:ext cx="330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: Point of Sal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object 11"/>
          <p:cNvSpPr/>
          <p:nvPr/>
        </p:nvSpPr>
        <p:spPr>
          <a:xfrm>
            <a:off x="914400" y="1143000"/>
            <a:ext cx="7391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Bef>
                <a:spcPts val="3002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5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4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29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1" lang="en-US" sz="2800" spc="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4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60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29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es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ak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blem</a:t>
            </a:r>
            <a:r>
              <a:rPr b="0" lang="en-US" sz="2800" spc="-24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o it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7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10"/>
          <p:cNvSpPr/>
          <p:nvPr/>
        </p:nvSpPr>
        <p:spPr>
          <a:xfrm>
            <a:off x="5097240" y="601560"/>
            <a:ext cx="237456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endParaRPr b="0" lang="en-US" sz="2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8"/>
          <p:cNvSpPr/>
          <p:nvPr/>
        </p:nvSpPr>
        <p:spPr>
          <a:xfrm>
            <a:off x="5083920" y="2145960"/>
            <a:ext cx="2394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755"/>
              </a:lnSpc>
              <a:spcBef>
                <a:spcPts val="136"/>
              </a:spcBef>
            </a:pPr>
            <a:endParaRPr b="0" lang="en-US" sz="2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6"/>
          <p:cNvSpPr/>
          <p:nvPr/>
        </p:nvSpPr>
        <p:spPr>
          <a:xfrm>
            <a:off x="838080" y="2209680"/>
            <a:ext cx="77720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69800" indent="-343080" algn="just">
              <a:lnSpc>
                <a:spcPts val="3172"/>
              </a:lnSpc>
              <a:spcBef>
                <a:spcPts val="14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o ju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nough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a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4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on’t  h</a:t>
            </a:r>
            <a:r>
              <a:rPr b="0" lang="en-US" sz="2800" spc="-52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7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i</a:t>
            </a:r>
            <a:r>
              <a:rPr b="0" lang="en-US" sz="2800" spc="83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60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 ha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 back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nd add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3172"/>
              </a:lnSpc>
              <a:spcBef>
                <a:spcPts val="14"/>
              </a:spcBef>
              <a:tabLst>
                <a:tab algn="l" pos="406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1000"/>
              </a:lnSpc>
              <a:spcBef>
                <a:spcPts val="11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</a:tabLst>
            </a:pPr>
            <a:r>
              <a:rPr b="0" lang="en-US" sz="2800" spc="-5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21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9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d pl</a:t>
            </a:r>
            <a:r>
              <a:rPr b="1" lang="en-US" sz="2800" spc="-35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: Using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es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deri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unctional 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algn="just">
              <a:lnSpc>
                <a:spcPts val="3172"/>
              </a:lnSpc>
              <a:tabLst>
                <a:tab algn="l" pos="406440"/>
              </a:tabLst>
            </a:pPr>
            <a:r>
              <a:rPr b="0" lang="en-US" sz="2800" spc="-4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ids 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ing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 functional 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qu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me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3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is n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 di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ctly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ied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a</a:t>
            </a:r>
            <a:r>
              <a:rPr b="0" lang="en-US" sz="2800" spc="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9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sk needed</a:t>
            </a:r>
            <a:r>
              <a:rPr b="0" lang="en-US" sz="2800" spc="-46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2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ac</a:t>
            </a:r>
            <a:r>
              <a:rPr b="0" lang="en-US" sz="2800" spc="-26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9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lish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algn="just">
              <a:lnSpc>
                <a:spcPts val="3172"/>
              </a:lnSpc>
              <a:tabLst>
                <a:tab algn="l" pos="40644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800" spc="-4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5" strike="noStrike" baseline="30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685800" y="304920"/>
            <a:ext cx="678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7A365587-E441-4619-B77F-AAC74D1E8A63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en to use Use-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6348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hort, always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 is the toughest part of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-Cases is a powerful tool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your users are (including interacting syste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unctions the system shall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hese functions work at a hig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nd adequate time on requirements and in the elaboration ph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bject 14"/>
          <p:cNvSpPr/>
          <p:nvPr/>
        </p:nvSpPr>
        <p:spPr>
          <a:xfrm>
            <a:off x="879120" y="601560"/>
            <a:ext cx="59551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47600">
              <a:lnSpc>
                <a:spcPts val="4584"/>
              </a:lnSpc>
              <a:spcBef>
                <a:spcPts val="230"/>
              </a:spcBef>
            </a:pPr>
            <a:r>
              <a:rPr b="0" lang="en-US" sz="6600" spc="-389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od</a:t>
            </a:r>
            <a:r>
              <a:rPr b="0" lang="en-US" sz="6600" spc="-80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y's Lectu</a:t>
            </a:r>
            <a:r>
              <a:rPr b="0" lang="en-US" sz="6600" spc="-6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3362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of 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 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703"/>
              </a:spcBef>
            </a:pPr>
            <a:r>
              <a:rPr b="0" lang="en-US" sz="3200" spc="-290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hni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es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</a:t>
            </a:r>
            <a:r>
              <a:rPr b="0" lang="en-US" sz="3200" spc="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906"/>
              </a:lnSpc>
              <a:spcBef>
                <a:spcPts val="70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</a:t>
            </a:r>
            <a:r>
              <a:rPr b="0" lang="en-US" sz="3200" spc="-69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u</a:t>
            </a:r>
            <a:r>
              <a:rPr b="0" lang="en-US" sz="3200" spc="-15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32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e d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70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46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55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</a:t>
            </a:r>
            <a:r>
              <a:rPr b="0" lang="en-US" sz="3200" spc="-66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docu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200" spc="-2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4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9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3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13"/>
          <p:cNvSpPr/>
          <p:nvPr/>
        </p:nvSpPr>
        <p:spPr>
          <a:xfrm>
            <a:off x="536040" y="1684800"/>
            <a:ext cx="228600" cy="21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76"/>
              </a:lnSpc>
              <a:spcBef>
                <a:spcPts val="16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763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927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95000"/>
              </a:lnSpc>
              <a:spcBef>
                <a:spcPts val="93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12"/>
          <p:cNvSpPr/>
          <p:nvPr/>
        </p:nvSpPr>
        <p:spPr>
          <a:xfrm>
            <a:off x="6840000" y="3465360"/>
            <a:ext cx="1231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65"/>
              </a:lnSpc>
              <a:spcBef>
                <a:spcPts val="167"/>
              </a:spcBef>
            </a:pPr>
            <a:r>
              <a:rPr b="0" lang="en-US" sz="4800" spc="-60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800" spc="-26" strike="noStrike" baseline="3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4800" spc="-41" strike="noStrike" baseline="3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11"/>
          <p:cNvSpPr/>
          <p:nvPr/>
        </p:nvSpPr>
        <p:spPr>
          <a:xfrm>
            <a:off x="879120" y="3953160"/>
            <a:ext cx="231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3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qui</a:t>
            </a:r>
            <a:r>
              <a:rPr b="0" lang="en-US" sz="4800" spc="-4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me</a:t>
            </a:r>
            <a:r>
              <a:rPr b="0" lang="en-US" sz="4800" spc="-26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10"/>
          <p:cNvSpPr/>
          <p:nvPr/>
        </p:nvSpPr>
        <p:spPr>
          <a:xfrm>
            <a:off x="3202200" y="3953160"/>
            <a:ext cx="39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9"/>
          <p:cNvSpPr/>
          <p:nvPr/>
        </p:nvSpPr>
        <p:spPr>
          <a:xfrm>
            <a:off x="3600000" y="3953160"/>
            <a:ext cx="638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8"/>
          <p:cNvSpPr/>
          <p:nvPr/>
        </p:nvSpPr>
        <p:spPr>
          <a:xfrm>
            <a:off x="4244760" y="3953160"/>
            <a:ext cx="88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69" strike="noStrike" baseline="3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7"/>
          <p:cNvSpPr/>
          <p:nvPr/>
        </p:nvSpPr>
        <p:spPr>
          <a:xfrm>
            <a:off x="5133600" y="3953160"/>
            <a:ext cx="424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6"/>
          <p:cNvSpPr/>
          <p:nvPr/>
        </p:nvSpPr>
        <p:spPr>
          <a:xfrm>
            <a:off x="5565600" y="3953160"/>
            <a:ext cx="70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4800" spc="-9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5"/>
          <p:cNvSpPr/>
          <p:nvPr/>
        </p:nvSpPr>
        <p:spPr>
          <a:xfrm>
            <a:off x="6277320" y="3953160"/>
            <a:ext cx="101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359"/>
              </a:lnSpc>
              <a:spcBef>
                <a:spcPts val="167"/>
              </a:spcBef>
            </a:pPr>
            <a:r>
              <a:rPr b="0" lang="en-US" sz="4800" spc="-1" strike="noStrike" baseline="3000">
                <a:solidFill>
                  <a:srgbClr val="000000"/>
                </a:solidFill>
                <a:latin typeface="Calibri"/>
              </a:rPr>
              <a:t>C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bject 18"/>
          <p:cNvSpPr/>
          <p:nvPr/>
        </p:nvSpPr>
        <p:spPr>
          <a:xfrm>
            <a:off x="380880" y="1593720"/>
            <a:ext cx="4190760" cy="25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17"/>
          <p:cNvSpPr/>
          <p:nvPr/>
        </p:nvSpPr>
        <p:spPr>
          <a:xfrm>
            <a:off x="2611440" y="425160"/>
            <a:ext cx="8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16"/>
          <p:cNvSpPr/>
          <p:nvPr/>
        </p:nvSpPr>
        <p:spPr>
          <a:xfrm>
            <a:off x="3503520" y="425160"/>
            <a:ext cx="1066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C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15"/>
          <p:cNvSpPr/>
          <p:nvPr/>
        </p:nvSpPr>
        <p:spPr>
          <a:xfrm>
            <a:off x="4583520" y="425160"/>
            <a:ext cx="202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Di</a:t>
            </a:r>
            <a:r>
              <a:rPr b="0" lang="en-US" sz="6000" spc="7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6000" spc="-75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14"/>
          <p:cNvSpPr/>
          <p:nvPr/>
        </p:nvSpPr>
        <p:spPr>
          <a:xfrm>
            <a:off x="4727880" y="2070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bject 13"/>
          <p:cNvSpPr/>
          <p:nvPr/>
        </p:nvSpPr>
        <p:spPr>
          <a:xfrm>
            <a:off x="4956480" y="2087280"/>
            <a:ext cx="210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hier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es</a:t>
            </a:r>
            <a:r>
              <a:rPr b="0" lang="en-US" sz="3300" spc="-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45"/>
              </a:lnSpc>
              <a:spcBef>
                <a:spcPts val="14"/>
              </a:spcBef>
            </a:pP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o s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300" spc="-35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300" spc="-24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12"/>
          <p:cNvSpPr/>
          <p:nvPr/>
        </p:nvSpPr>
        <p:spPr>
          <a:xfrm>
            <a:off x="7059960" y="2087280"/>
            <a:ext cx="5238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11"/>
          <p:cNvSpPr/>
          <p:nvPr/>
        </p:nvSpPr>
        <p:spPr>
          <a:xfrm>
            <a:off x="7580880" y="208728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ject 10"/>
          <p:cNvSpPr/>
          <p:nvPr/>
        </p:nvSpPr>
        <p:spPr>
          <a:xfrm>
            <a:off x="4727880" y="32108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9"/>
          <p:cNvSpPr/>
          <p:nvPr/>
        </p:nvSpPr>
        <p:spPr>
          <a:xfrm>
            <a:off x="4956480" y="3227400"/>
            <a:ext cx="16624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hier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8"/>
          <p:cNvSpPr/>
          <p:nvPr/>
        </p:nvSpPr>
        <p:spPr>
          <a:xfrm>
            <a:off x="6616800" y="3227400"/>
            <a:ext cx="4456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7"/>
          <p:cNvSpPr/>
          <p:nvPr/>
        </p:nvSpPr>
        <p:spPr>
          <a:xfrm>
            <a:off x="7059960" y="3227400"/>
            <a:ext cx="5238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bject 6"/>
          <p:cNvSpPr/>
          <p:nvPr/>
        </p:nvSpPr>
        <p:spPr>
          <a:xfrm>
            <a:off x="7580880" y="322740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bject 5"/>
          <p:cNvSpPr/>
          <p:nvPr/>
        </p:nvSpPr>
        <p:spPr>
          <a:xfrm>
            <a:off x="4956480" y="3562920"/>
            <a:ext cx="3038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4"/>
          <p:cNvSpPr/>
          <p:nvPr/>
        </p:nvSpPr>
        <p:spPr>
          <a:xfrm>
            <a:off x="5257800" y="3562920"/>
            <a:ext cx="5914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3"/>
          <p:cNvSpPr/>
          <p:nvPr/>
        </p:nvSpPr>
        <p:spPr>
          <a:xfrm>
            <a:off x="5846760" y="3562920"/>
            <a:ext cx="761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bject 14"/>
          <p:cNvSpPr/>
          <p:nvPr/>
        </p:nvSpPr>
        <p:spPr>
          <a:xfrm>
            <a:off x="457200" y="1508040"/>
            <a:ext cx="4038120" cy="367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13"/>
          <p:cNvSpPr/>
          <p:nvPr/>
        </p:nvSpPr>
        <p:spPr>
          <a:xfrm>
            <a:off x="2768400" y="425160"/>
            <a:ext cx="157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46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29" strike="noStrike" baseline="3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6000" spc="-52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000" spc="-41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12"/>
          <p:cNvSpPr/>
          <p:nvPr/>
        </p:nvSpPr>
        <p:spPr>
          <a:xfrm>
            <a:off x="4353840" y="425160"/>
            <a:ext cx="2099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Bou</a:t>
            </a:r>
            <a:r>
              <a:rPr b="0" lang="en-US" sz="6000" spc="1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6000" spc="26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11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bject 10"/>
          <p:cNvSpPr/>
          <p:nvPr/>
        </p:nvSpPr>
        <p:spPr>
          <a:xfrm>
            <a:off x="4956480" y="1684800"/>
            <a:ext cx="35085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ar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sep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46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72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300" spc="-35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ts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nme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9"/>
          <p:cNvSpPr/>
          <p:nvPr/>
        </p:nvSpPr>
        <p:spPr>
          <a:xfrm>
            <a:off x="4727880" y="2808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8"/>
          <p:cNvSpPr/>
          <p:nvPr/>
        </p:nvSpPr>
        <p:spPr>
          <a:xfrm>
            <a:off x="4956480" y="2825280"/>
            <a:ext cx="21254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uts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7"/>
          <p:cNvSpPr/>
          <p:nvPr/>
        </p:nvSpPr>
        <p:spPr>
          <a:xfrm>
            <a:off x="4727880" y="361332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6"/>
          <p:cNvSpPr/>
          <p:nvPr/>
        </p:nvSpPr>
        <p:spPr>
          <a:xfrm>
            <a:off x="4956480" y="3629880"/>
            <a:ext cx="33480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3300" spc="-3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300" spc="-24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bounda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300" spc="-100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5"/>
          <p:cNvSpPr/>
          <p:nvPr/>
        </p:nvSpPr>
        <p:spPr>
          <a:xfrm>
            <a:off x="4956480" y="3965400"/>
            <a:ext cx="13266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hown,</a:t>
            </a:r>
            <a:r>
              <a:rPr b="0" lang="en-US" sz="33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4"/>
          <p:cNvSpPr/>
          <p:nvPr/>
        </p:nvSpPr>
        <p:spPr>
          <a:xfrm>
            <a:off x="6280560" y="3965400"/>
            <a:ext cx="853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ject 3"/>
          <p:cNvSpPr/>
          <p:nvPr/>
        </p:nvSpPr>
        <p:spPr>
          <a:xfrm>
            <a:off x="7134120" y="3965400"/>
            <a:ext cx="13104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um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bject 16"/>
          <p:cNvSpPr/>
          <p:nvPr/>
        </p:nvSpPr>
        <p:spPr>
          <a:xfrm>
            <a:off x="1728720" y="1523880"/>
            <a:ext cx="1495080" cy="200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10"/>
          <p:cNvSpPr/>
          <p:nvPr/>
        </p:nvSpPr>
        <p:spPr>
          <a:xfrm>
            <a:off x="2383200" y="4320000"/>
            <a:ext cx="134280" cy="144360"/>
          </a:xfrm>
          <a:custGeom>
            <a:avLst/>
            <a:gdLst>
              <a:gd name="textAreaLeft" fmla="*/ 0 w 134280"/>
              <a:gd name="textAreaRight" fmla="*/ 134640 w 1342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4746" h="144779">
                <a:moveTo>
                  <a:pt x="0" y="72390"/>
                </a:moveTo>
                <a:lnTo>
                  <a:pt x="1445" y="57413"/>
                </a:lnTo>
                <a:lnTo>
                  <a:pt x="5583" y="43503"/>
                </a:lnTo>
                <a:lnTo>
                  <a:pt x="12120" y="30976"/>
                </a:lnTo>
                <a:lnTo>
                  <a:pt x="20761" y="20145"/>
                </a:lnTo>
                <a:lnTo>
                  <a:pt x="31210" y="11325"/>
                </a:lnTo>
                <a:lnTo>
                  <a:pt x="43172" y="4829"/>
                </a:lnTo>
                <a:lnTo>
                  <a:pt x="56354" y="973"/>
                </a:lnTo>
                <a:lnTo>
                  <a:pt x="67437" y="0"/>
                </a:lnTo>
                <a:lnTo>
                  <a:pt x="81378" y="1551"/>
                </a:lnTo>
                <a:lnTo>
                  <a:pt x="94323" y="5994"/>
                </a:lnTo>
                <a:lnTo>
                  <a:pt x="105978" y="13015"/>
                </a:lnTo>
                <a:lnTo>
                  <a:pt x="116052" y="22298"/>
                </a:lnTo>
                <a:lnTo>
                  <a:pt x="124251" y="33528"/>
                </a:lnTo>
                <a:lnTo>
                  <a:pt x="130283" y="46390"/>
                </a:lnTo>
                <a:lnTo>
                  <a:pt x="133855" y="60568"/>
                </a:lnTo>
                <a:lnTo>
                  <a:pt x="134746" y="72390"/>
                </a:lnTo>
                <a:lnTo>
                  <a:pt x="133305" y="87379"/>
                </a:lnTo>
                <a:lnTo>
                  <a:pt x="129174" y="101299"/>
                </a:lnTo>
                <a:lnTo>
                  <a:pt x="122648" y="113834"/>
                </a:lnTo>
                <a:lnTo>
                  <a:pt x="114018" y="124669"/>
                </a:lnTo>
                <a:lnTo>
                  <a:pt x="103577" y="133488"/>
                </a:lnTo>
                <a:lnTo>
                  <a:pt x="91617" y="139977"/>
                </a:lnTo>
                <a:lnTo>
                  <a:pt x="78432" y="143821"/>
                </a:lnTo>
                <a:lnTo>
                  <a:pt x="67437" y="144780"/>
                </a:lnTo>
                <a:lnTo>
                  <a:pt x="53501" y="143231"/>
                </a:lnTo>
                <a:lnTo>
                  <a:pt x="40551" y="138795"/>
                </a:lnTo>
                <a:lnTo>
                  <a:pt x="28881" y="131785"/>
                </a:lnTo>
                <a:lnTo>
                  <a:pt x="18787" y="122517"/>
                </a:lnTo>
                <a:lnTo>
                  <a:pt x="10564" y="111304"/>
                </a:lnTo>
                <a:lnTo>
                  <a:pt x="4506" y="98461"/>
                </a:lnTo>
                <a:lnTo>
                  <a:pt x="908" y="84301"/>
                </a:lnTo>
                <a:lnTo>
                  <a:pt x="0" y="72390"/>
                </a:lnTo>
                <a:close/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11"/>
          <p:cNvSpPr/>
          <p:nvPr/>
        </p:nvSpPr>
        <p:spPr>
          <a:xfrm>
            <a:off x="2444760" y="4458600"/>
            <a:ext cx="360" cy="125640"/>
          </a:xfrm>
          <a:custGeom>
            <a:avLst/>
            <a:gdLst>
              <a:gd name="textAreaLeft" fmla="*/ 0 w 360"/>
              <a:gd name="textAreaRight" fmla="*/ 720 w 3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888" h="125857">
                <a:moveTo>
                  <a:pt x="0" y="0"/>
                </a:moveTo>
                <a:lnTo>
                  <a:pt x="888" y="125856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12"/>
          <p:cNvSpPr/>
          <p:nvPr/>
        </p:nvSpPr>
        <p:spPr>
          <a:xfrm>
            <a:off x="2339280" y="4492080"/>
            <a:ext cx="209520" cy="720"/>
          </a:xfrm>
          <a:custGeom>
            <a:avLst/>
            <a:gdLst>
              <a:gd name="textAreaLeft" fmla="*/ 0 w 209520"/>
              <a:gd name="textAreaRight" fmla="*/ 209880 w 209520"/>
              <a:gd name="textAreaTop" fmla="*/ 0 h 720"/>
              <a:gd name="textAreaBottom" fmla="*/ 1080 h 720"/>
            </a:gdLst>
            <a:ahLst/>
            <a:rect l="textAreaLeft" t="textAreaTop" r="textAreaRight" b="textAreaBottom"/>
            <a:pathLst>
              <a:path w="210057" h="1015">
                <a:moveTo>
                  <a:pt x="0" y="0"/>
                </a:moveTo>
                <a:lnTo>
                  <a:pt x="210057" y="1015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13"/>
          <p:cNvSpPr/>
          <p:nvPr/>
        </p:nvSpPr>
        <p:spPr>
          <a:xfrm>
            <a:off x="2302920" y="4584600"/>
            <a:ext cx="281880" cy="150480"/>
          </a:xfrm>
          <a:custGeom>
            <a:avLst/>
            <a:gdLst>
              <a:gd name="textAreaLeft" fmla="*/ 0 w 281880"/>
              <a:gd name="textAreaRight" fmla="*/ 282240 w 28188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82320" h="150875">
                <a:moveTo>
                  <a:pt x="0" y="150875"/>
                </a:moveTo>
                <a:lnTo>
                  <a:pt x="141224" y="0"/>
                </a:lnTo>
                <a:lnTo>
                  <a:pt x="282320" y="150875"/>
                </a:lnTo>
              </a:path>
            </a:pathLst>
          </a:custGeom>
          <a:noFill/>
          <a:ln w="1778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14"/>
          <p:cNvSpPr/>
          <p:nvPr/>
        </p:nvSpPr>
        <p:spPr>
          <a:xfrm>
            <a:off x="1860480" y="4096800"/>
            <a:ext cx="1265400" cy="120744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07440"/>
              <a:gd name="textAreaBottom" fmla="*/ 1207800 h 1207440"/>
            </a:gdLst>
            <a:ahLst/>
            <a:rect l="textAreaLeft" t="textAreaTop" r="textAreaRight" b="textAreaBottom"/>
            <a:pathLst>
              <a:path w="1265936" h="1207770">
                <a:moveTo>
                  <a:pt x="0" y="0"/>
                </a:moveTo>
                <a:lnTo>
                  <a:pt x="1265936" y="1207769"/>
                </a:lnTo>
              </a:path>
            </a:pathLst>
          </a:custGeom>
          <a:noFill/>
          <a:ln w="2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15"/>
          <p:cNvSpPr/>
          <p:nvPr/>
        </p:nvSpPr>
        <p:spPr>
          <a:xfrm>
            <a:off x="1720080" y="3945960"/>
            <a:ext cx="1359360" cy="1509480"/>
          </a:xfrm>
          <a:custGeom>
            <a:avLst/>
            <a:gdLst>
              <a:gd name="textAreaLeft" fmla="*/ 0 w 1359360"/>
              <a:gd name="textAreaRight" fmla="*/ 1359720 w 1359360"/>
              <a:gd name="textAreaTop" fmla="*/ 0 h 1509480"/>
              <a:gd name="textAreaBottom" fmla="*/ 1509840 h 1509480"/>
            </a:gdLst>
            <a:ahLst/>
            <a:rect l="textAreaLeft" t="textAreaTop" r="textAreaRight" b="textAreaBottom"/>
            <a:pathLst>
              <a:path w="1359662" h="1509776">
                <a:moveTo>
                  <a:pt x="0" y="1509776"/>
                </a:moveTo>
                <a:lnTo>
                  <a:pt x="1359662" y="0"/>
                </a:lnTo>
              </a:path>
            </a:pathLst>
          </a:custGeom>
          <a:noFill/>
          <a:ln w="25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9"/>
          <p:cNvSpPr/>
          <p:nvPr/>
        </p:nvSpPr>
        <p:spPr>
          <a:xfrm>
            <a:off x="3999600" y="425160"/>
            <a:ext cx="122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6000" spc="-26" strike="noStrike" baseline="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8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7"/>
          <p:cNvSpPr/>
          <p:nvPr/>
        </p:nvSpPr>
        <p:spPr>
          <a:xfrm>
            <a:off x="4956480" y="1684800"/>
            <a:ext cx="36590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eone</a:t>
            </a:r>
            <a:r>
              <a:rPr b="0" lang="en-US" sz="3300" spc="-55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ing</a:t>
            </a:r>
            <a:r>
              <a:rPr b="0" lang="en-US" sz="3300" spc="-8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uts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2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26" strike="noStrike" baseline="1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46" strike="noStrike" baseline="1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cts</a:t>
            </a:r>
            <a:r>
              <a:rPr b="0" lang="en-US" sz="3300" spc="-66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with</a:t>
            </a:r>
            <a:r>
              <a:rPr b="0" lang="en-US" sz="3300" spc="-41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6"/>
          <p:cNvSpPr/>
          <p:nvPr/>
        </p:nvSpPr>
        <p:spPr>
          <a:xfrm>
            <a:off x="4727880" y="280836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ject 5"/>
          <p:cNvSpPr/>
          <p:nvPr/>
        </p:nvSpPr>
        <p:spPr>
          <a:xfrm>
            <a:off x="4956480" y="2825280"/>
            <a:ext cx="2797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p</a:t>
            </a:r>
            <a:r>
              <a:rPr b="0" lang="en-US" sz="3300" spc="-26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s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7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300" spc="-35" strike="noStrike" baseline="2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les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individua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ject 4"/>
          <p:cNvSpPr/>
          <p:nvPr/>
        </p:nvSpPr>
        <p:spPr>
          <a:xfrm>
            <a:off x="7751520" y="2825280"/>
            <a:ext cx="4536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no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3"/>
          <p:cNvSpPr/>
          <p:nvPr/>
        </p:nvSpPr>
        <p:spPr>
          <a:xfrm>
            <a:off x="2223360" y="4836960"/>
            <a:ext cx="8499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554"/>
              </a:lnSpc>
              <a:spcBef>
                <a:spcPts val="128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040" cy="108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3040"/>
            <a:ext cx="83055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or represents a set of roles that users of use case play when interacting with these use c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can be human or automated syst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are entities which require help from the system to perform their task or are needed to execute the system’s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are not part of the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7238880" y="4191120"/>
            <a:ext cx="914040" cy="1384920"/>
            <a:chOff x="7238880" y="4191120"/>
            <a:chExt cx="914040" cy="1384920"/>
          </a:xfrm>
        </p:grpSpPr>
        <p:sp>
          <p:nvSpPr>
            <p:cNvPr id="371" name="Oval 4"/>
            <p:cNvSpPr/>
            <p:nvPr/>
          </p:nvSpPr>
          <p:spPr>
            <a:xfrm>
              <a:off x="7467480" y="4191120"/>
              <a:ext cx="304560" cy="3045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7619760" y="449568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7619760" y="4647960"/>
              <a:ext cx="30492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8"/>
            <p:cNvSpPr/>
            <p:nvPr/>
          </p:nvSpPr>
          <p:spPr>
            <a:xfrm flipH="1">
              <a:off x="7391160" y="4647960"/>
              <a:ext cx="228600" cy="15264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9"/>
            <p:cNvSpPr/>
            <p:nvPr/>
          </p:nvSpPr>
          <p:spPr>
            <a:xfrm>
              <a:off x="7619760" y="5029200"/>
              <a:ext cx="15264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 flipH="1">
              <a:off x="7467480" y="5029200"/>
              <a:ext cx="152280" cy="1522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2"/>
            <p:cNvSpPr/>
            <p:nvPr/>
          </p:nvSpPr>
          <p:spPr>
            <a:xfrm>
              <a:off x="7238880" y="5181480"/>
              <a:ext cx="914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 Cases and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9398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erspective of a given actor, a use case does something that is of value to the actor, such as calculate a result or change the state of an o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ors define the environments in which the system l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bject 15"/>
          <p:cNvSpPr/>
          <p:nvPr/>
        </p:nvSpPr>
        <p:spPr>
          <a:xfrm>
            <a:off x="533520" y="1517760"/>
            <a:ext cx="3885840" cy="1682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14"/>
          <p:cNvSpPr/>
          <p:nvPr/>
        </p:nvSpPr>
        <p:spPr>
          <a:xfrm>
            <a:off x="3630960" y="425160"/>
            <a:ext cx="87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13"/>
          <p:cNvSpPr/>
          <p:nvPr/>
        </p:nvSpPr>
        <p:spPr>
          <a:xfrm>
            <a:off x="4523040" y="425160"/>
            <a:ext cx="1066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6000" spc="-1" strike="noStrike" baseline="3000">
                <a:solidFill>
                  <a:srgbClr val="000000"/>
                </a:solidFill>
                <a:latin typeface="Calibri"/>
              </a:rPr>
              <a:t>C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12"/>
          <p:cNvSpPr/>
          <p:nvPr/>
        </p:nvSpPr>
        <p:spPr>
          <a:xfrm>
            <a:off x="4727880" y="166824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11"/>
          <p:cNvSpPr/>
          <p:nvPr/>
        </p:nvSpPr>
        <p:spPr>
          <a:xfrm>
            <a:off x="4956480" y="1684800"/>
            <a:ext cx="3542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7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7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300" spc="-4" strike="noStrike" baseline="2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3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s</a:t>
            </a:r>
            <a:r>
              <a:rPr b="0" lang="en-US" sz="3300" spc="-66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300" spc="-1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5" strike="noStrike" baseline="2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300" spc="-38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39"/>
              </a:lnSpc>
              <a:spcBef>
                <a:spcPts val="14"/>
              </a:spcBef>
            </a:pP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lue</a:t>
            </a:r>
            <a:r>
              <a:rPr b="0" lang="en-US" sz="3300" spc="-49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o an</a:t>
            </a:r>
            <a:r>
              <a:rPr b="0" lang="en-US" sz="3300" spc="-24" strike="noStrike" baseline="1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3300" spc="-29" strike="noStrike" baseline="1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1" strike="noStrike" baseline="1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1000">
                <a:solidFill>
                  <a:srgbClr val="000000"/>
                </a:solidFill>
                <a:latin typeface="Calibri"/>
              </a:rPr>
              <a:t>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351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es</a:t>
            </a:r>
            <a:r>
              <a:rPr b="0" lang="en-US" sz="22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</a:t>
            </a:r>
            <a:r>
              <a:rPr b="0" lang="en-US" sz="2200" spc="-9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mu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218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</a:t>
            </a:r>
            <a:r>
              <a:rPr b="0" lang="en-US" sz="2200" spc="-8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5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2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684"/>
              </a:lnSpc>
              <a:spcBef>
                <a:spcPts val="218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2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46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421"/>
              </a:lnSpc>
              <a:spcBef>
                <a:spcPts val="337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does</a:t>
            </a:r>
            <a:r>
              <a:rPr b="0" lang="en-US" sz="3300" spc="-32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363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29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ts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</a:t>
            </a:r>
            <a:r>
              <a:rPr b="0" lang="en-US" sz="2200" spc="-4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22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26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b</a:t>
            </a:r>
            <a:r>
              <a:rPr b="0" lang="en-US" sz="2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2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200" spc="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10"/>
          <p:cNvSpPr/>
          <p:nvPr/>
        </p:nvSpPr>
        <p:spPr>
          <a:xfrm>
            <a:off x="4727880" y="2405880"/>
            <a:ext cx="194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9"/>
          <p:cNvSpPr/>
          <p:nvPr/>
        </p:nvSpPr>
        <p:spPr>
          <a:xfrm>
            <a:off x="4727880" y="314388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8"/>
          <p:cNvSpPr/>
          <p:nvPr/>
        </p:nvSpPr>
        <p:spPr>
          <a:xfrm>
            <a:off x="4727880" y="3881520"/>
            <a:ext cx="1947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4"/>
              </a:lnSpc>
              <a:spcBef>
                <a:spcPts val="116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</a:rPr>
              <a:t>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7"/>
          <p:cNvSpPr/>
          <p:nvPr/>
        </p:nvSpPr>
        <p:spPr>
          <a:xfrm>
            <a:off x="4956480" y="4233600"/>
            <a:ext cx="44568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6"/>
          <p:cNvSpPr/>
          <p:nvPr/>
        </p:nvSpPr>
        <p:spPr>
          <a:xfrm>
            <a:off x="5399640" y="4233600"/>
            <a:ext cx="956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poi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49" strike="noStrike" baseline="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5"/>
          <p:cNvSpPr/>
          <p:nvPr/>
        </p:nvSpPr>
        <p:spPr>
          <a:xfrm>
            <a:off x="6353280" y="4233600"/>
            <a:ext cx="5940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3300" spc="-9" strike="noStrike" baseline="2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4"/>
          <p:cNvSpPr/>
          <p:nvPr/>
        </p:nvSpPr>
        <p:spPr>
          <a:xfrm>
            <a:off x="6944040" y="4233600"/>
            <a:ext cx="29952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1" strike="noStrike" baseline="2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3"/>
          <p:cNvSpPr/>
          <p:nvPr/>
        </p:nvSpPr>
        <p:spPr>
          <a:xfrm>
            <a:off x="7240680" y="4233600"/>
            <a:ext cx="12956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341"/>
              </a:lnSpc>
              <a:spcBef>
                <a:spcPts val="116"/>
              </a:spcBef>
            </a:pP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3300" spc="-21" strike="noStrike" baseline="2000">
                <a:solidFill>
                  <a:srgbClr val="000000"/>
                </a:solidFill>
                <a:latin typeface="Calibri"/>
              </a:rPr>
              <a:t>ys</a:t>
            </a:r>
            <a:r>
              <a:rPr b="0" lang="en-US" sz="3300" spc="-29" strike="noStrike" baseline="2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300" spc="-1" strike="noStrike" baseline="2000">
                <a:solidFill>
                  <a:srgbClr val="000000"/>
                </a:solidFill>
                <a:latin typeface="Calibri"/>
              </a:rPr>
              <a:t>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object 10"/>
          <p:cNvSpPr/>
          <p:nvPr/>
        </p:nvSpPr>
        <p:spPr>
          <a:xfrm>
            <a:off x="1835640" y="1066680"/>
            <a:ext cx="5501160" cy="1400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ject 9"/>
          <p:cNvSpPr/>
          <p:nvPr/>
        </p:nvSpPr>
        <p:spPr>
          <a:xfrm>
            <a:off x="304920" y="304920"/>
            <a:ext cx="3573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75"/>
              </a:lnSpc>
              <a:spcBef>
                <a:spcPts val="207"/>
              </a:spcBef>
            </a:pP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7" strike="noStrike" baseline="3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mmuni</a:t>
            </a:r>
            <a:r>
              <a:rPr b="0" lang="en-US" sz="5400" spc="-29" strike="noStrike" baseline="3000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5400" spc="1" strike="noStrike" baseline="3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 baseline="3000">
                <a:solidFill>
                  <a:srgbClr val="00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7"/>
          <p:cNvSpPr/>
          <p:nvPr/>
        </p:nvSpPr>
        <p:spPr>
          <a:xfrm>
            <a:off x="228600" y="2666880"/>
            <a:ext cx="7998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84280" indent="-571680">
              <a:lnSpc>
                <a:spcPts val="2645"/>
              </a:lnSpc>
              <a:spcBef>
                <a:spcPts val="133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3750" spc="7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3750" spc="-29" strike="noStrike" baseline="3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el</a:t>
            </a:r>
            <a:r>
              <a:rPr b="0" lang="en-US" sz="3750" spc="-15" strike="noStrike" baseline="3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3750" spc="1" strike="noStrike" baseline="3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750" spc="-1" strike="noStrike" baseline="3000">
                <a:solidFill>
                  <a:srgbClr val="000000"/>
                </a:solidFill>
                <a:latin typeface="Calibri"/>
              </a:rPr>
              <a:t>ns</a:t>
            </a:r>
            <a:endParaRPr b="0" lang="en-US" sz="375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ts val="2701"/>
              </a:lnSpc>
              <a:spcBef>
                <a:spcPts val="468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es</a:t>
            </a:r>
            <a:r>
              <a:rPr b="0" lang="en-US" sz="25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5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500" spc="-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se</a:t>
            </a:r>
            <a:r>
              <a:rPr b="0" lang="en-US" sz="2500" spc="-4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mmari</a:t>
            </a:r>
            <a:r>
              <a:rPr b="0" lang="en-US" sz="2500" spc="-55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interactions g</a:t>
            </a:r>
            <a:r>
              <a:rPr b="0" lang="en-US" sz="2500" spc="-4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hi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1000"/>
              </a:lnSpc>
              <a:spcBef>
                <a:spcPts val="244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5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es</a:t>
            </a:r>
            <a:r>
              <a:rPr b="0" lang="en-US" sz="250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9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60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</a:t>
            </a:r>
            <a:r>
              <a:rPr b="0" lang="en-US" sz="2500" spc="-26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9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55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2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i</a:t>
            </a:r>
            <a:r>
              <a:rPr b="0" lang="en-US" sz="2500" spc="7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9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2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 achieve the goal but the details of interaction are not show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ject 5"/>
          <p:cNvSpPr/>
          <p:nvPr/>
        </p:nvSpPr>
        <p:spPr>
          <a:xfrm>
            <a:off x="536040" y="5040000"/>
            <a:ext cx="2178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2650"/>
              </a:lnSpc>
              <a:spcBef>
                <a:spcPts val="133"/>
              </a:spcBef>
            </a:pPr>
            <a:endParaRPr b="0" lang="en-US" sz="2500" spc="-1" strike="noStrike">
              <a:solidFill>
                <a:srgbClr val="000000"/>
              </a:solidFill>
              <a:latin typeface="Wingdings"/>
            </a:endParaRPr>
          </a:p>
        </p:txBody>
      </p:sp>
      <p:sp>
        <p:nvSpPr>
          <p:cNvPr id="398" name="object 2"/>
          <p:cNvSpPr/>
          <p:nvPr/>
        </p:nvSpPr>
        <p:spPr>
          <a:xfrm>
            <a:off x="1799640" y="666612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Relationships between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93980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eneralization - use cases that are specialized versions of other use c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- use cases that are included as parts of other use cases. Enable to factor common behavi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tend - use cases that extend the behavior of other core use cases. Enable to factor 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1.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use case inherits the behavior and meaning of the parent use c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may add to or override the behavior of its par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6"/>
          <p:cNvGrpSpPr/>
          <p:nvPr/>
        </p:nvGrpSpPr>
        <p:grpSpPr>
          <a:xfrm>
            <a:off x="7315200" y="2514600"/>
            <a:ext cx="914040" cy="2133360"/>
            <a:chOff x="7315200" y="2514600"/>
            <a:chExt cx="914040" cy="2133360"/>
          </a:xfrm>
        </p:grpSpPr>
        <p:grpSp>
          <p:nvGrpSpPr>
            <p:cNvPr id="404" name="Group 4"/>
            <p:cNvGrpSpPr/>
            <p:nvPr/>
          </p:nvGrpSpPr>
          <p:grpSpPr>
            <a:xfrm>
              <a:off x="7315200" y="2514600"/>
              <a:ext cx="914040" cy="685440"/>
              <a:chOff x="7315200" y="2514600"/>
              <a:chExt cx="914040" cy="685440"/>
            </a:xfrm>
          </p:grpSpPr>
          <p:sp>
            <p:nvSpPr>
              <p:cNvPr id="405" name="Oval 5"/>
              <p:cNvSpPr/>
              <p:nvPr/>
            </p:nvSpPr>
            <p:spPr>
              <a:xfrm>
                <a:off x="7315200" y="251460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6"/>
              <p:cNvSpPr/>
              <p:nvPr/>
            </p:nvSpPr>
            <p:spPr>
              <a:xfrm>
                <a:off x="7391520" y="266688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7"/>
            <p:cNvGrpSpPr/>
            <p:nvPr/>
          </p:nvGrpSpPr>
          <p:grpSpPr>
            <a:xfrm>
              <a:off x="7315200" y="3962520"/>
              <a:ext cx="914040" cy="685440"/>
              <a:chOff x="7315200" y="3962520"/>
              <a:chExt cx="914040" cy="685440"/>
            </a:xfrm>
          </p:grpSpPr>
          <p:sp>
            <p:nvSpPr>
              <p:cNvPr id="408" name="Oval 8"/>
              <p:cNvSpPr/>
              <p:nvPr/>
            </p:nvSpPr>
            <p:spPr>
              <a:xfrm>
                <a:off x="7315200" y="396252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9"/>
              <p:cNvSpPr/>
              <p:nvPr/>
            </p:nvSpPr>
            <p:spPr>
              <a:xfrm>
                <a:off x="7391520" y="411480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i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12"/>
            <p:cNvSpPr/>
            <p:nvPr/>
          </p:nvSpPr>
          <p:spPr>
            <a:xfrm>
              <a:off x="7772400" y="350496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5"/>
            <p:cNvSpPr/>
            <p:nvPr/>
          </p:nvSpPr>
          <p:spPr>
            <a:xfrm>
              <a:off x="7543800" y="3200400"/>
              <a:ext cx="45684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D9A65D6D-F099-447E-9946-D1154B75B696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2362320" y="1828800"/>
            <a:ext cx="4190400" cy="2899800"/>
            <a:chOff x="2362320" y="1828800"/>
            <a:chExt cx="4190400" cy="2899800"/>
          </a:xfrm>
        </p:grpSpPr>
        <p:grpSp>
          <p:nvGrpSpPr>
            <p:cNvPr id="414" name="Group 3"/>
            <p:cNvGrpSpPr/>
            <p:nvPr/>
          </p:nvGrpSpPr>
          <p:grpSpPr>
            <a:xfrm>
              <a:off x="3733920" y="1828800"/>
              <a:ext cx="1523520" cy="685440"/>
              <a:chOff x="3733920" y="1828800"/>
              <a:chExt cx="1523520" cy="685440"/>
            </a:xfrm>
          </p:grpSpPr>
          <p:sp>
            <p:nvSpPr>
              <p:cNvPr id="415" name="Oval 4"/>
              <p:cNvSpPr/>
              <p:nvPr/>
            </p:nvSpPr>
            <p:spPr>
              <a:xfrm>
                <a:off x="3733920" y="1828800"/>
                <a:ext cx="15235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5"/>
              <p:cNvSpPr/>
              <p:nvPr/>
            </p:nvSpPr>
            <p:spPr>
              <a:xfrm>
                <a:off x="3860640" y="1981080"/>
                <a:ext cx="13968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istr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Oval 7"/>
            <p:cNvSpPr/>
            <p:nvPr/>
          </p:nvSpPr>
          <p:spPr>
            <a:xfrm>
              <a:off x="4952880" y="3809880"/>
              <a:ext cx="1599840" cy="9172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8"/>
            <p:cNvSpPr/>
            <p:nvPr/>
          </p:nvSpPr>
          <p:spPr>
            <a:xfrm>
              <a:off x="5010120" y="3886200"/>
              <a:ext cx="1466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>
              <a:off x="4343400" y="2514600"/>
              <a:ext cx="304560" cy="304560"/>
            </a:xfrm>
            <a:prstGeom prst="triangle">
              <a:avLst>
                <a:gd name="adj" fmla="val 5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>
              <a:off x="3352680" y="33526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362320" y="3809880"/>
              <a:ext cx="1828440" cy="91872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2438280" y="3886200"/>
              <a:ext cx="16761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-gradu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5715000" y="3352680"/>
              <a:ext cx="360" cy="457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5"/>
            <p:cNvSpPr/>
            <p:nvPr/>
          </p:nvSpPr>
          <p:spPr>
            <a:xfrm>
              <a:off x="3352680" y="3352680"/>
              <a:ext cx="2362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6"/>
            <p:cNvSpPr/>
            <p:nvPr/>
          </p:nvSpPr>
          <p:spPr>
            <a:xfrm>
              <a:off x="4495680" y="2819160"/>
              <a:ext cx="360" cy="5335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ore about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 ניתוח מערכות מידע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bject 5"/>
          <p:cNvSpPr/>
          <p:nvPr/>
        </p:nvSpPr>
        <p:spPr>
          <a:xfrm>
            <a:off x="755640" y="602280"/>
            <a:ext cx="7704360" cy="577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253065CE-DA5E-44C1-B68A-283529487C0D}" type="slidenum">
              <a:rPr b="0" lang="en-US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2. Includes and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9680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a piece of behavior that is similar across many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this out as a separate use-case and let the other 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include”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user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ity check on sensor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for proper 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443664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-case is similar to another one but does a little bi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he normal behavior in one use-case and the exceptional behavior somewher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the norm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figure out what can go wrong in each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the exceptional cases in separate use-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it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sier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05-Use-C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clude and Ext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1905120" y="3809880"/>
            <a:ext cx="4187520" cy="685440"/>
            <a:chOff x="1905120" y="3809880"/>
            <a:chExt cx="4187520" cy="685440"/>
          </a:xfrm>
        </p:grpSpPr>
        <p:grpSp>
          <p:nvGrpSpPr>
            <p:cNvPr id="433" name="Group 4"/>
            <p:cNvGrpSpPr/>
            <p:nvPr/>
          </p:nvGrpSpPr>
          <p:grpSpPr>
            <a:xfrm>
              <a:off x="1905120" y="3809880"/>
              <a:ext cx="914040" cy="685440"/>
              <a:chOff x="1905120" y="3809880"/>
              <a:chExt cx="914040" cy="685440"/>
            </a:xfrm>
          </p:grpSpPr>
          <p:sp>
            <p:nvSpPr>
              <p:cNvPr id="434" name="Oval 5"/>
              <p:cNvSpPr/>
              <p:nvPr/>
            </p:nvSpPr>
            <p:spPr>
              <a:xfrm>
                <a:off x="1905120" y="38098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"/>
              <p:cNvSpPr/>
              <p:nvPr/>
            </p:nvSpPr>
            <p:spPr>
              <a:xfrm>
                <a:off x="1981080" y="396252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7"/>
            <p:cNvGrpSpPr/>
            <p:nvPr/>
          </p:nvGrpSpPr>
          <p:grpSpPr>
            <a:xfrm>
              <a:off x="4795920" y="3809880"/>
              <a:ext cx="1296720" cy="685440"/>
              <a:chOff x="4795920" y="3809880"/>
              <a:chExt cx="1296720" cy="685440"/>
            </a:xfrm>
          </p:grpSpPr>
          <p:sp>
            <p:nvSpPr>
              <p:cNvPr id="437" name="Oval 8"/>
              <p:cNvSpPr/>
              <p:nvPr/>
            </p:nvSpPr>
            <p:spPr>
              <a:xfrm>
                <a:off x="4795920" y="3809880"/>
                <a:ext cx="129420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9"/>
              <p:cNvSpPr/>
              <p:nvPr/>
            </p:nvSpPr>
            <p:spPr>
              <a:xfrm>
                <a:off x="4906080" y="3962520"/>
                <a:ext cx="11865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12"/>
            <p:cNvSpPr/>
            <p:nvPr/>
          </p:nvSpPr>
          <p:spPr>
            <a:xfrm>
              <a:off x="2819160" y="4190760"/>
              <a:ext cx="198144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3"/>
            <p:cNvSpPr/>
            <p:nvPr/>
          </p:nvSpPr>
          <p:spPr>
            <a:xfrm>
              <a:off x="3103560" y="388620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2"/>
          <p:cNvGrpSpPr/>
          <p:nvPr/>
        </p:nvGrpSpPr>
        <p:grpSpPr>
          <a:xfrm>
            <a:off x="1981080" y="1752480"/>
            <a:ext cx="4190760" cy="685440"/>
            <a:chOff x="1981080" y="1752480"/>
            <a:chExt cx="4190760" cy="685440"/>
          </a:xfrm>
        </p:grpSpPr>
        <p:grpSp>
          <p:nvGrpSpPr>
            <p:cNvPr id="442" name="Group 4"/>
            <p:cNvGrpSpPr/>
            <p:nvPr/>
          </p:nvGrpSpPr>
          <p:grpSpPr>
            <a:xfrm>
              <a:off x="1981080" y="1752480"/>
              <a:ext cx="914040" cy="685440"/>
              <a:chOff x="1981080" y="1752480"/>
              <a:chExt cx="914040" cy="685440"/>
            </a:xfrm>
          </p:grpSpPr>
          <p:sp>
            <p:nvSpPr>
              <p:cNvPr id="443" name="Oval 5"/>
              <p:cNvSpPr/>
              <p:nvPr/>
            </p:nvSpPr>
            <p:spPr>
              <a:xfrm>
                <a:off x="1981080" y="1752480"/>
                <a:ext cx="91404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"/>
              <p:cNvSpPr/>
              <p:nvPr/>
            </p:nvSpPr>
            <p:spPr>
              <a:xfrm>
                <a:off x="2057400" y="1905120"/>
                <a:ext cx="837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7"/>
            <p:cNvGrpSpPr/>
            <p:nvPr/>
          </p:nvGrpSpPr>
          <p:grpSpPr>
            <a:xfrm>
              <a:off x="4876920" y="1752480"/>
              <a:ext cx="1294920" cy="685440"/>
              <a:chOff x="4876920" y="1752480"/>
              <a:chExt cx="1294920" cy="685440"/>
            </a:xfrm>
          </p:grpSpPr>
          <p:sp>
            <p:nvSpPr>
              <p:cNvPr id="446" name="Oval 8"/>
              <p:cNvSpPr/>
              <p:nvPr/>
            </p:nvSpPr>
            <p:spPr>
              <a:xfrm>
                <a:off x="4876920" y="1752480"/>
                <a:ext cx="1294920" cy="685440"/>
              </a:xfrm>
              <a:prstGeom prst="ellipse">
                <a:avLst/>
              </a:pr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9"/>
              <p:cNvSpPr/>
              <p:nvPr/>
            </p:nvSpPr>
            <p:spPr>
              <a:xfrm>
                <a:off x="4984920" y="1905120"/>
                <a:ext cx="11869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tend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Line 10"/>
            <p:cNvSpPr/>
            <p:nvPr/>
          </p:nvSpPr>
          <p:spPr>
            <a:xfrm>
              <a:off x="2895480" y="2133360"/>
              <a:ext cx="1981080" cy="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3179880" y="1828800"/>
              <a:ext cx="1310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extend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7"/>
          <p:cNvGrpSpPr/>
          <p:nvPr/>
        </p:nvGrpSpPr>
        <p:grpSpPr>
          <a:xfrm>
            <a:off x="1447920" y="1676520"/>
            <a:ext cx="5790960" cy="2742840"/>
            <a:chOff x="1447920" y="1676520"/>
            <a:chExt cx="5790960" cy="2742840"/>
          </a:xfrm>
        </p:grpSpPr>
        <p:sp>
          <p:nvSpPr>
            <p:cNvPr id="452" name="Oval 5"/>
            <p:cNvSpPr/>
            <p:nvPr/>
          </p:nvSpPr>
          <p:spPr>
            <a:xfrm>
              <a:off x="1541160" y="1676520"/>
              <a:ext cx="1494000" cy="93924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1634760" y="1676520"/>
              <a:ext cx="1369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8"/>
            <p:cNvSpPr/>
            <p:nvPr/>
          </p:nvSpPr>
          <p:spPr>
            <a:xfrm>
              <a:off x="1447920" y="3347280"/>
              <a:ext cx="1774440" cy="107208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9"/>
            <p:cNvSpPr/>
            <p:nvPr/>
          </p:nvSpPr>
          <p:spPr>
            <a:xfrm>
              <a:off x="1447920" y="3408120"/>
              <a:ext cx="1626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"/>
            <p:cNvSpPr/>
            <p:nvPr/>
          </p:nvSpPr>
          <p:spPr>
            <a:xfrm>
              <a:off x="5464440" y="2302920"/>
              <a:ext cx="1774440" cy="1172160"/>
            </a:xfrm>
            <a:prstGeom prst="ellipse">
              <a:avLst/>
            </a:prstGeom>
            <a:noFill/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2"/>
            <p:cNvSpPr/>
            <p:nvPr/>
          </p:nvSpPr>
          <p:spPr>
            <a:xfrm>
              <a:off x="5464440" y="2468160"/>
              <a:ext cx="1626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erif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uden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3035520" y="2302560"/>
              <a:ext cx="2428560" cy="52236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 flipV="1">
              <a:off x="3222360" y="3242520"/>
              <a:ext cx="2428560" cy="522000"/>
            </a:xfrm>
            <a:prstGeom prst="line">
              <a:avLst/>
            </a:prstGeom>
            <a:ln w="9525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5"/>
            <p:cNvSpPr/>
            <p:nvPr/>
          </p:nvSpPr>
          <p:spPr>
            <a:xfrm>
              <a:off x="3511800" y="211356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3698640" y="3503880"/>
              <a:ext cx="137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lt;&lt;include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Content Placeholder 3" descr="Screen shot 2014-02-09 at 9.35.20 PM.png"/>
          <p:cNvPicPr/>
          <p:nvPr/>
        </p:nvPicPr>
        <p:blipFill>
          <a:blip r:embed="rId1"/>
          <a:srcRect l="4119" t="0" r="410" b="-16282"/>
          <a:stretch/>
        </p:blipFill>
        <p:spPr>
          <a:xfrm>
            <a:off x="822960" y="1100520"/>
            <a:ext cx="752076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bject 6"/>
          <p:cNvSpPr/>
          <p:nvPr/>
        </p:nvSpPr>
        <p:spPr>
          <a:xfrm>
            <a:off x="1011600" y="1896840"/>
            <a:ext cx="7120440" cy="39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ject 5"/>
          <p:cNvSpPr/>
          <p:nvPr/>
        </p:nvSpPr>
        <p:spPr>
          <a:xfrm>
            <a:off x="3175200" y="601560"/>
            <a:ext cx="287784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&lt;&lt;include&gt;&g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bject 19"/>
          <p:cNvSpPr/>
          <p:nvPr/>
        </p:nvSpPr>
        <p:spPr>
          <a:xfrm>
            <a:off x="3254760" y="220824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3" y="316541"/>
                </a:lnTo>
                <a:lnTo>
                  <a:pt x="46523" y="258405"/>
                </a:lnTo>
                <a:lnTo>
                  <a:pt x="101861" y="204195"/>
                </a:lnTo>
                <a:lnTo>
                  <a:pt x="136728" y="178805"/>
                </a:lnTo>
                <a:lnTo>
                  <a:pt x="176080" y="154689"/>
                </a:lnTo>
                <a:lnTo>
                  <a:pt x="219684" y="131942"/>
                </a:lnTo>
                <a:lnTo>
                  <a:pt x="267303" y="110664"/>
                </a:lnTo>
                <a:lnTo>
                  <a:pt x="318703" y="90951"/>
                </a:lnTo>
                <a:lnTo>
                  <a:pt x="373651" y="72900"/>
                </a:lnTo>
                <a:lnTo>
                  <a:pt x="431910" y="56608"/>
                </a:lnTo>
                <a:lnTo>
                  <a:pt x="493247" y="42173"/>
                </a:lnTo>
                <a:lnTo>
                  <a:pt x="557426" y="29692"/>
                </a:lnTo>
                <a:lnTo>
                  <a:pt x="624214" y="19262"/>
                </a:lnTo>
                <a:lnTo>
                  <a:pt x="693374" y="10980"/>
                </a:lnTo>
                <a:lnTo>
                  <a:pt x="764673" y="4945"/>
                </a:lnTo>
                <a:lnTo>
                  <a:pt x="837876" y="1252"/>
                </a:lnTo>
                <a:lnTo>
                  <a:pt x="912749" y="0"/>
                </a:lnTo>
                <a:lnTo>
                  <a:pt x="987622" y="1252"/>
                </a:lnTo>
                <a:lnTo>
                  <a:pt x="1060827" y="4945"/>
                </a:lnTo>
                <a:lnTo>
                  <a:pt x="1132130" y="10980"/>
                </a:lnTo>
                <a:lnTo>
                  <a:pt x="1201297" y="19262"/>
                </a:lnTo>
                <a:lnTo>
                  <a:pt x="1268091" y="29692"/>
                </a:lnTo>
                <a:lnTo>
                  <a:pt x="1332278" y="42173"/>
                </a:lnTo>
                <a:lnTo>
                  <a:pt x="1393623" y="56608"/>
                </a:lnTo>
                <a:lnTo>
                  <a:pt x="1451891" y="72900"/>
                </a:lnTo>
                <a:lnTo>
                  <a:pt x="1506848" y="90951"/>
                </a:lnTo>
                <a:lnTo>
                  <a:pt x="1558258" y="110664"/>
                </a:lnTo>
                <a:lnTo>
                  <a:pt x="1605886" y="131942"/>
                </a:lnTo>
                <a:lnTo>
                  <a:pt x="1649499" y="154689"/>
                </a:lnTo>
                <a:lnTo>
                  <a:pt x="1688860" y="178805"/>
                </a:lnTo>
                <a:lnTo>
                  <a:pt x="1723735" y="204195"/>
                </a:lnTo>
                <a:lnTo>
                  <a:pt x="1753889" y="230760"/>
                </a:lnTo>
                <a:lnTo>
                  <a:pt x="1799095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28"/>
                </a:lnTo>
                <a:lnTo>
                  <a:pt x="1799095" y="468660"/>
                </a:lnTo>
                <a:lnTo>
                  <a:pt x="1753889" y="524942"/>
                </a:lnTo>
                <a:lnTo>
                  <a:pt x="1723735" y="551510"/>
                </a:lnTo>
                <a:lnTo>
                  <a:pt x="1688860" y="576900"/>
                </a:lnTo>
                <a:lnTo>
                  <a:pt x="1649499" y="601015"/>
                </a:lnTo>
                <a:lnTo>
                  <a:pt x="1605886" y="623758"/>
                </a:lnTo>
                <a:lnTo>
                  <a:pt x="1558258" y="645033"/>
                </a:lnTo>
                <a:lnTo>
                  <a:pt x="1506848" y="664741"/>
                </a:lnTo>
                <a:lnTo>
                  <a:pt x="1451891" y="682786"/>
                </a:lnTo>
                <a:lnTo>
                  <a:pt x="1393623" y="699072"/>
                </a:lnTo>
                <a:lnTo>
                  <a:pt x="1332278" y="713500"/>
                </a:lnTo>
                <a:lnTo>
                  <a:pt x="1268091" y="725975"/>
                </a:lnTo>
                <a:lnTo>
                  <a:pt x="1201297" y="736399"/>
                </a:lnTo>
                <a:lnTo>
                  <a:pt x="1132130" y="744676"/>
                </a:lnTo>
                <a:lnTo>
                  <a:pt x="1060827" y="750708"/>
                </a:lnTo>
                <a:lnTo>
                  <a:pt x="987622" y="754398"/>
                </a:lnTo>
                <a:lnTo>
                  <a:pt x="912749" y="755650"/>
                </a:lnTo>
                <a:lnTo>
                  <a:pt x="837876" y="754398"/>
                </a:lnTo>
                <a:lnTo>
                  <a:pt x="764673" y="750708"/>
                </a:lnTo>
                <a:lnTo>
                  <a:pt x="693374" y="744676"/>
                </a:lnTo>
                <a:lnTo>
                  <a:pt x="624214" y="736399"/>
                </a:lnTo>
                <a:lnTo>
                  <a:pt x="557426" y="725975"/>
                </a:lnTo>
                <a:lnTo>
                  <a:pt x="493247" y="713500"/>
                </a:lnTo>
                <a:lnTo>
                  <a:pt x="431910" y="699072"/>
                </a:lnTo>
                <a:lnTo>
                  <a:pt x="373651" y="682786"/>
                </a:lnTo>
                <a:lnTo>
                  <a:pt x="318703" y="664741"/>
                </a:lnTo>
                <a:lnTo>
                  <a:pt x="267303" y="645033"/>
                </a:lnTo>
                <a:lnTo>
                  <a:pt x="219684" y="623758"/>
                </a:lnTo>
                <a:lnTo>
                  <a:pt x="176080" y="601015"/>
                </a:lnTo>
                <a:lnTo>
                  <a:pt x="136728" y="576900"/>
                </a:lnTo>
                <a:lnTo>
                  <a:pt x="101861" y="551510"/>
                </a:lnTo>
                <a:lnTo>
                  <a:pt x="71715" y="524942"/>
                </a:lnTo>
                <a:lnTo>
                  <a:pt x="26521" y="468660"/>
                </a:lnTo>
                <a:lnTo>
                  <a:pt x="3025" y="408828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20"/>
          <p:cNvSpPr/>
          <p:nvPr/>
        </p:nvSpPr>
        <p:spPr>
          <a:xfrm>
            <a:off x="6685200" y="220968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21"/>
          <p:cNvSpPr/>
          <p:nvPr/>
        </p:nvSpPr>
        <p:spPr>
          <a:xfrm>
            <a:off x="5078880" y="2530080"/>
            <a:ext cx="1611000" cy="117720"/>
          </a:xfrm>
          <a:custGeom>
            <a:avLst/>
            <a:gdLst>
              <a:gd name="textAreaLeft" fmla="*/ 0 w 1611000"/>
              <a:gd name="textAreaRight" fmla="*/ 1611360 w 16110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611249" h="117982">
                <a:moveTo>
                  <a:pt x="1509649" y="46227"/>
                </a:moveTo>
                <a:lnTo>
                  <a:pt x="1509649" y="71627"/>
                </a:lnTo>
                <a:lnTo>
                  <a:pt x="1611249" y="71627"/>
                </a:lnTo>
                <a:lnTo>
                  <a:pt x="1611249" y="46227"/>
                </a:lnTo>
                <a:lnTo>
                  <a:pt x="1509649" y="46227"/>
                </a:lnTo>
                <a:close/>
              </a:path>
              <a:path w="1611249" h="117982">
                <a:moveTo>
                  <a:pt x="1331849" y="46227"/>
                </a:moveTo>
                <a:lnTo>
                  <a:pt x="1331849" y="71627"/>
                </a:lnTo>
                <a:lnTo>
                  <a:pt x="1433449" y="71627"/>
                </a:lnTo>
                <a:lnTo>
                  <a:pt x="1433449" y="46227"/>
                </a:lnTo>
                <a:lnTo>
                  <a:pt x="1331849" y="46227"/>
                </a:lnTo>
                <a:close/>
              </a:path>
              <a:path w="1611249" h="117982">
                <a:moveTo>
                  <a:pt x="1154176" y="46227"/>
                </a:moveTo>
                <a:lnTo>
                  <a:pt x="1154176" y="71627"/>
                </a:lnTo>
                <a:lnTo>
                  <a:pt x="1255649" y="71627"/>
                </a:lnTo>
                <a:lnTo>
                  <a:pt x="1255649" y="46227"/>
                </a:lnTo>
                <a:lnTo>
                  <a:pt x="1154176" y="46227"/>
                </a:lnTo>
                <a:close/>
              </a:path>
              <a:path w="1611249" h="117982">
                <a:moveTo>
                  <a:pt x="976249" y="46227"/>
                </a:moveTo>
                <a:lnTo>
                  <a:pt x="976249" y="71627"/>
                </a:lnTo>
                <a:lnTo>
                  <a:pt x="1077976" y="71627"/>
                </a:lnTo>
                <a:lnTo>
                  <a:pt x="1077976" y="46227"/>
                </a:lnTo>
                <a:lnTo>
                  <a:pt x="976249" y="46227"/>
                </a:lnTo>
                <a:close/>
              </a:path>
              <a:path w="1611249" h="117982">
                <a:moveTo>
                  <a:pt x="798449" y="46227"/>
                </a:moveTo>
                <a:lnTo>
                  <a:pt x="798449" y="71627"/>
                </a:lnTo>
                <a:lnTo>
                  <a:pt x="900049" y="71627"/>
                </a:lnTo>
                <a:lnTo>
                  <a:pt x="900049" y="46227"/>
                </a:lnTo>
                <a:lnTo>
                  <a:pt x="798449" y="46227"/>
                </a:lnTo>
                <a:close/>
              </a:path>
              <a:path w="1611249" h="117982">
                <a:moveTo>
                  <a:pt x="722249" y="46227"/>
                </a:moveTo>
                <a:lnTo>
                  <a:pt x="620649" y="46227"/>
                </a:lnTo>
                <a:lnTo>
                  <a:pt x="620776" y="71627"/>
                </a:lnTo>
                <a:lnTo>
                  <a:pt x="722249" y="71627"/>
                </a:lnTo>
                <a:lnTo>
                  <a:pt x="722249" y="46227"/>
                </a:lnTo>
                <a:close/>
              </a:path>
              <a:path w="1611249" h="117982">
                <a:moveTo>
                  <a:pt x="442849" y="46227"/>
                </a:moveTo>
                <a:lnTo>
                  <a:pt x="442849" y="71627"/>
                </a:lnTo>
                <a:lnTo>
                  <a:pt x="544576" y="71627"/>
                </a:lnTo>
                <a:lnTo>
                  <a:pt x="544449" y="46227"/>
                </a:lnTo>
                <a:lnTo>
                  <a:pt x="442849" y="46227"/>
                </a:lnTo>
                <a:close/>
              </a:path>
              <a:path w="1611249" h="117982">
                <a:moveTo>
                  <a:pt x="265049" y="46227"/>
                </a:moveTo>
                <a:lnTo>
                  <a:pt x="265049" y="71627"/>
                </a:lnTo>
                <a:lnTo>
                  <a:pt x="366649" y="71627"/>
                </a:lnTo>
                <a:lnTo>
                  <a:pt x="366649" y="46227"/>
                </a:lnTo>
                <a:lnTo>
                  <a:pt x="265049" y="46227"/>
                </a:lnTo>
                <a:close/>
              </a:path>
              <a:path w="1611249" h="117982">
                <a:moveTo>
                  <a:pt x="94996" y="114426"/>
                </a:moveTo>
                <a:lnTo>
                  <a:pt x="100964" y="117982"/>
                </a:lnTo>
                <a:lnTo>
                  <a:pt x="108838" y="115950"/>
                </a:lnTo>
                <a:lnTo>
                  <a:pt x="112267" y="109854"/>
                </a:lnTo>
                <a:lnTo>
                  <a:pt x="115824" y="103758"/>
                </a:lnTo>
                <a:lnTo>
                  <a:pt x="113791" y="96012"/>
                </a:lnTo>
                <a:lnTo>
                  <a:pt x="107696" y="92455"/>
                </a:lnTo>
                <a:lnTo>
                  <a:pt x="50328" y="58991"/>
                </a:lnTo>
                <a:lnTo>
                  <a:pt x="31496" y="69976"/>
                </a:lnTo>
                <a:lnTo>
                  <a:pt x="94996" y="114426"/>
                </a:lnTo>
                <a:close/>
              </a:path>
              <a:path w="1611249" h="117982">
                <a:moveTo>
                  <a:pt x="0" y="59054"/>
                </a:moveTo>
                <a:lnTo>
                  <a:pt x="31496" y="48005"/>
                </a:lnTo>
                <a:lnTo>
                  <a:pt x="94996" y="3555"/>
                </a:lnTo>
                <a:lnTo>
                  <a:pt x="0" y="59054"/>
                </a:lnTo>
                <a:close/>
              </a:path>
              <a:path w="1611249" h="117982">
                <a:moveTo>
                  <a:pt x="87249" y="46227"/>
                </a:moveTo>
                <a:lnTo>
                  <a:pt x="87249" y="71627"/>
                </a:lnTo>
                <a:lnTo>
                  <a:pt x="188849" y="71627"/>
                </a:lnTo>
                <a:lnTo>
                  <a:pt x="188849" y="46227"/>
                </a:lnTo>
                <a:lnTo>
                  <a:pt x="87249" y="46227"/>
                </a:lnTo>
                <a:close/>
              </a:path>
              <a:path w="1611249" h="117982">
                <a:moveTo>
                  <a:pt x="108838" y="2031"/>
                </a:moveTo>
                <a:lnTo>
                  <a:pt x="100964" y="0"/>
                </a:lnTo>
                <a:lnTo>
                  <a:pt x="94996" y="3555"/>
                </a:lnTo>
                <a:lnTo>
                  <a:pt x="31496" y="48005"/>
                </a:lnTo>
                <a:lnTo>
                  <a:pt x="0" y="59054"/>
                </a:lnTo>
                <a:lnTo>
                  <a:pt x="94996" y="114426"/>
                </a:lnTo>
                <a:lnTo>
                  <a:pt x="31496" y="69976"/>
                </a:lnTo>
                <a:lnTo>
                  <a:pt x="50328" y="58991"/>
                </a:lnTo>
                <a:lnTo>
                  <a:pt x="107696" y="25526"/>
                </a:lnTo>
                <a:lnTo>
                  <a:pt x="113791" y="21970"/>
                </a:lnTo>
                <a:lnTo>
                  <a:pt x="115824" y="14224"/>
                </a:lnTo>
                <a:lnTo>
                  <a:pt x="112267" y="8127"/>
                </a:lnTo>
                <a:lnTo>
                  <a:pt x="108838" y="20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bject 22"/>
          <p:cNvSpPr/>
          <p:nvPr/>
        </p:nvSpPr>
        <p:spPr>
          <a:xfrm>
            <a:off x="658836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bject 23"/>
          <p:cNvSpPr/>
          <p:nvPr/>
        </p:nvSpPr>
        <p:spPr>
          <a:xfrm>
            <a:off x="641052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ject 24"/>
          <p:cNvSpPr/>
          <p:nvPr/>
        </p:nvSpPr>
        <p:spPr>
          <a:xfrm>
            <a:off x="623304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473" h="0">
                <a:moveTo>
                  <a:pt x="0" y="0"/>
                </a:moveTo>
                <a:lnTo>
                  <a:pt x="101473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25"/>
          <p:cNvSpPr/>
          <p:nvPr/>
        </p:nvSpPr>
        <p:spPr>
          <a:xfrm>
            <a:off x="6054840" y="2589120"/>
            <a:ext cx="101520" cy="360"/>
          </a:xfrm>
          <a:custGeom>
            <a:avLst/>
            <a:gdLst>
              <a:gd name="textAreaLeft" fmla="*/ 0 w 101520"/>
              <a:gd name="textAreaRight" fmla="*/ 101880 w 101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726" h="0">
                <a:moveTo>
                  <a:pt x="0" y="0"/>
                </a:moveTo>
                <a:lnTo>
                  <a:pt x="101726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26"/>
          <p:cNvSpPr/>
          <p:nvPr/>
        </p:nvSpPr>
        <p:spPr>
          <a:xfrm>
            <a:off x="587736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27"/>
          <p:cNvSpPr/>
          <p:nvPr/>
        </p:nvSpPr>
        <p:spPr>
          <a:xfrm>
            <a:off x="534384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28"/>
          <p:cNvSpPr/>
          <p:nvPr/>
        </p:nvSpPr>
        <p:spPr>
          <a:xfrm>
            <a:off x="5166000" y="2589120"/>
            <a:ext cx="101160" cy="360"/>
          </a:xfrm>
          <a:custGeom>
            <a:avLst/>
            <a:gdLst>
              <a:gd name="textAreaLeft" fmla="*/ 0 w 101160"/>
              <a:gd name="textAreaRight" fmla="*/ 101520 w 1011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1600" h="0">
                <a:moveTo>
                  <a:pt x="0" y="0"/>
                </a:moveTo>
                <a:lnTo>
                  <a:pt x="101600" y="0"/>
                </a:lnTo>
              </a:path>
            </a:pathLst>
          </a:custGeom>
          <a:noFill/>
          <a:ln w="2667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29"/>
          <p:cNvSpPr/>
          <p:nvPr/>
        </p:nvSpPr>
        <p:spPr>
          <a:xfrm>
            <a:off x="3272040" y="433224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586">
                <a:moveTo>
                  <a:pt x="0" y="377825"/>
                </a:moveTo>
                <a:lnTo>
                  <a:pt x="11947" y="316510"/>
                </a:lnTo>
                <a:lnTo>
                  <a:pt x="46536" y="258356"/>
                </a:lnTo>
                <a:lnTo>
                  <a:pt x="101889" y="204139"/>
                </a:lnTo>
                <a:lnTo>
                  <a:pt x="136764" y="178749"/>
                </a:lnTo>
                <a:lnTo>
                  <a:pt x="176125" y="154634"/>
                </a:lnTo>
                <a:lnTo>
                  <a:pt x="219738" y="131891"/>
                </a:lnTo>
                <a:lnTo>
                  <a:pt x="267366" y="110617"/>
                </a:lnTo>
                <a:lnTo>
                  <a:pt x="318776" y="90908"/>
                </a:lnTo>
                <a:lnTo>
                  <a:pt x="373733" y="72863"/>
                </a:lnTo>
                <a:lnTo>
                  <a:pt x="432001" y="56577"/>
                </a:lnTo>
                <a:lnTo>
                  <a:pt x="493346" y="42149"/>
                </a:lnTo>
                <a:lnTo>
                  <a:pt x="557533" y="29674"/>
                </a:lnTo>
                <a:lnTo>
                  <a:pt x="624327" y="19250"/>
                </a:lnTo>
                <a:lnTo>
                  <a:pt x="693494" y="10973"/>
                </a:lnTo>
                <a:lnTo>
                  <a:pt x="764797" y="4941"/>
                </a:lnTo>
                <a:lnTo>
                  <a:pt x="838002" y="1251"/>
                </a:lnTo>
                <a:lnTo>
                  <a:pt x="912876" y="0"/>
                </a:lnTo>
                <a:lnTo>
                  <a:pt x="987730" y="1251"/>
                </a:lnTo>
                <a:lnTo>
                  <a:pt x="1060920" y="4941"/>
                </a:lnTo>
                <a:lnTo>
                  <a:pt x="1132208" y="10973"/>
                </a:lnTo>
                <a:lnTo>
                  <a:pt x="1201362" y="19250"/>
                </a:lnTo>
                <a:lnTo>
                  <a:pt x="1268144" y="29674"/>
                </a:lnTo>
                <a:lnTo>
                  <a:pt x="1332321" y="42149"/>
                </a:lnTo>
                <a:lnTo>
                  <a:pt x="1393657" y="56577"/>
                </a:lnTo>
                <a:lnTo>
                  <a:pt x="1451918" y="72863"/>
                </a:lnTo>
                <a:lnTo>
                  <a:pt x="1506869" y="90908"/>
                </a:lnTo>
                <a:lnTo>
                  <a:pt x="1558274" y="110617"/>
                </a:lnTo>
                <a:lnTo>
                  <a:pt x="1605898" y="131891"/>
                </a:lnTo>
                <a:lnTo>
                  <a:pt x="1649507" y="154634"/>
                </a:lnTo>
                <a:lnTo>
                  <a:pt x="1688866" y="178749"/>
                </a:lnTo>
                <a:lnTo>
                  <a:pt x="1723739" y="204139"/>
                </a:lnTo>
                <a:lnTo>
                  <a:pt x="1753891" y="230707"/>
                </a:lnTo>
                <a:lnTo>
                  <a:pt x="1799096" y="286989"/>
                </a:lnTo>
                <a:lnTo>
                  <a:pt x="1822599" y="346821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4"/>
                </a:lnTo>
                <a:lnTo>
                  <a:pt x="1753891" y="524879"/>
                </a:lnTo>
                <a:lnTo>
                  <a:pt x="1723739" y="551440"/>
                </a:lnTo>
                <a:lnTo>
                  <a:pt x="1688866" y="576826"/>
                </a:lnTo>
                <a:lnTo>
                  <a:pt x="1649507" y="600938"/>
                </a:lnTo>
                <a:lnTo>
                  <a:pt x="1605898" y="623680"/>
                </a:lnTo>
                <a:lnTo>
                  <a:pt x="1558274" y="644953"/>
                </a:lnTo>
                <a:lnTo>
                  <a:pt x="1506869" y="664662"/>
                </a:lnTo>
                <a:lnTo>
                  <a:pt x="1451918" y="682708"/>
                </a:lnTo>
                <a:lnTo>
                  <a:pt x="1393657" y="698996"/>
                </a:lnTo>
                <a:lnTo>
                  <a:pt x="1332321" y="713426"/>
                </a:lnTo>
                <a:lnTo>
                  <a:pt x="1268144" y="725904"/>
                </a:lnTo>
                <a:lnTo>
                  <a:pt x="1201362" y="736330"/>
                </a:lnTo>
                <a:lnTo>
                  <a:pt x="1132208" y="744609"/>
                </a:lnTo>
                <a:lnTo>
                  <a:pt x="1060920" y="750643"/>
                </a:lnTo>
                <a:lnTo>
                  <a:pt x="987730" y="754334"/>
                </a:lnTo>
                <a:lnTo>
                  <a:pt x="912876" y="755586"/>
                </a:lnTo>
                <a:lnTo>
                  <a:pt x="838002" y="754334"/>
                </a:lnTo>
                <a:lnTo>
                  <a:pt x="764797" y="750643"/>
                </a:lnTo>
                <a:lnTo>
                  <a:pt x="693494" y="744609"/>
                </a:lnTo>
                <a:lnTo>
                  <a:pt x="624327" y="736330"/>
                </a:lnTo>
                <a:lnTo>
                  <a:pt x="557533" y="725904"/>
                </a:lnTo>
                <a:lnTo>
                  <a:pt x="493346" y="713426"/>
                </a:lnTo>
                <a:lnTo>
                  <a:pt x="432001" y="698996"/>
                </a:lnTo>
                <a:lnTo>
                  <a:pt x="373733" y="682708"/>
                </a:lnTo>
                <a:lnTo>
                  <a:pt x="318776" y="664662"/>
                </a:lnTo>
                <a:lnTo>
                  <a:pt x="267366" y="644953"/>
                </a:lnTo>
                <a:lnTo>
                  <a:pt x="219738" y="623680"/>
                </a:lnTo>
                <a:lnTo>
                  <a:pt x="176125" y="600938"/>
                </a:lnTo>
                <a:lnTo>
                  <a:pt x="136764" y="576826"/>
                </a:lnTo>
                <a:lnTo>
                  <a:pt x="101889" y="551440"/>
                </a:lnTo>
                <a:lnTo>
                  <a:pt x="71735" y="524879"/>
                </a:lnTo>
                <a:lnTo>
                  <a:pt x="26529" y="468614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30"/>
          <p:cNvSpPr/>
          <p:nvPr/>
        </p:nvSpPr>
        <p:spPr>
          <a:xfrm>
            <a:off x="4164480" y="2976840"/>
            <a:ext cx="204480" cy="1364760"/>
          </a:xfrm>
          <a:custGeom>
            <a:avLst/>
            <a:gdLst>
              <a:gd name="textAreaLeft" fmla="*/ 0 w 204480"/>
              <a:gd name="textAreaRight" fmla="*/ 204840 w 204480"/>
              <a:gd name="textAreaTop" fmla="*/ 0 h 1364760"/>
              <a:gd name="textAreaBottom" fmla="*/ 1365120 h 1364760"/>
            </a:gdLst>
            <a:ahLst/>
            <a:rect l="textAreaLeft" t="textAreaTop" r="textAreaRight" b="textAreaBottom"/>
            <a:pathLst>
              <a:path w="204977" h="1365123">
                <a:moveTo>
                  <a:pt x="81407" y="530479"/>
                </a:moveTo>
                <a:lnTo>
                  <a:pt x="56134" y="533146"/>
                </a:lnTo>
                <a:lnTo>
                  <a:pt x="66801" y="634238"/>
                </a:lnTo>
                <a:lnTo>
                  <a:pt x="92075" y="631571"/>
                </a:lnTo>
                <a:lnTo>
                  <a:pt x="81407" y="530479"/>
                </a:lnTo>
                <a:close/>
              </a:path>
              <a:path w="204977" h="1365123">
                <a:moveTo>
                  <a:pt x="100075" y="707263"/>
                </a:moveTo>
                <a:lnTo>
                  <a:pt x="74802" y="709930"/>
                </a:lnTo>
                <a:lnTo>
                  <a:pt x="85598" y="811022"/>
                </a:lnTo>
                <a:lnTo>
                  <a:pt x="110871" y="808355"/>
                </a:lnTo>
                <a:lnTo>
                  <a:pt x="100075" y="707263"/>
                </a:lnTo>
                <a:close/>
              </a:path>
              <a:path w="204977" h="1365123">
                <a:moveTo>
                  <a:pt x="118872" y="884047"/>
                </a:moveTo>
                <a:lnTo>
                  <a:pt x="93599" y="886841"/>
                </a:lnTo>
                <a:lnTo>
                  <a:pt x="104267" y="987806"/>
                </a:lnTo>
                <a:lnTo>
                  <a:pt x="129539" y="985139"/>
                </a:lnTo>
                <a:lnTo>
                  <a:pt x="118872" y="884047"/>
                </a:lnTo>
                <a:close/>
              </a:path>
              <a:path w="204977" h="1365123">
                <a:moveTo>
                  <a:pt x="137540" y="1060958"/>
                </a:moveTo>
                <a:lnTo>
                  <a:pt x="112268" y="1063625"/>
                </a:lnTo>
                <a:lnTo>
                  <a:pt x="123062" y="1164590"/>
                </a:lnTo>
                <a:lnTo>
                  <a:pt x="148336" y="1161923"/>
                </a:lnTo>
                <a:lnTo>
                  <a:pt x="137540" y="1060958"/>
                </a:lnTo>
                <a:close/>
              </a:path>
              <a:path w="204977" h="1365123">
                <a:moveTo>
                  <a:pt x="156337" y="1237742"/>
                </a:moveTo>
                <a:lnTo>
                  <a:pt x="131063" y="1240409"/>
                </a:lnTo>
                <a:lnTo>
                  <a:pt x="136798" y="1294682"/>
                </a:lnTo>
                <a:lnTo>
                  <a:pt x="151709" y="1314962"/>
                </a:lnTo>
                <a:lnTo>
                  <a:pt x="162062" y="1291930"/>
                </a:lnTo>
                <a:lnTo>
                  <a:pt x="156337" y="1237742"/>
                </a:lnTo>
                <a:close/>
              </a:path>
              <a:path w="204977" h="1365123">
                <a:moveTo>
                  <a:pt x="202184" y="1264793"/>
                </a:moveTo>
                <a:lnTo>
                  <a:pt x="167005" y="1338707"/>
                </a:lnTo>
                <a:lnTo>
                  <a:pt x="164592" y="1332484"/>
                </a:lnTo>
                <a:lnTo>
                  <a:pt x="142748" y="1334897"/>
                </a:lnTo>
                <a:lnTo>
                  <a:pt x="141732" y="1341374"/>
                </a:lnTo>
                <a:lnTo>
                  <a:pt x="94614" y="1258697"/>
                </a:lnTo>
                <a:lnTo>
                  <a:pt x="89026" y="1262888"/>
                </a:lnTo>
                <a:lnTo>
                  <a:pt x="87757" y="1270889"/>
                </a:lnTo>
                <a:lnTo>
                  <a:pt x="91948" y="1276477"/>
                </a:lnTo>
                <a:lnTo>
                  <a:pt x="157099" y="1365123"/>
                </a:lnTo>
                <a:lnTo>
                  <a:pt x="202184" y="1264793"/>
                </a:lnTo>
                <a:close/>
              </a:path>
              <a:path w="204977" h="1365123">
                <a:moveTo>
                  <a:pt x="25146" y="0"/>
                </a:moveTo>
                <a:lnTo>
                  <a:pt x="0" y="2794"/>
                </a:lnTo>
                <a:lnTo>
                  <a:pt x="10668" y="103759"/>
                </a:lnTo>
                <a:lnTo>
                  <a:pt x="35940" y="101092"/>
                </a:lnTo>
                <a:lnTo>
                  <a:pt x="25146" y="0"/>
                </a:lnTo>
                <a:close/>
              </a:path>
              <a:path w="204977" h="1365123">
                <a:moveTo>
                  <a:pt x="189357" y="1245108"/>
                </a:moveTo>
                <a:lnTo>
                  <a:pt x="181863" y="1248029"/>
                </a:lnTo>
                <a:lnTo>
                  <a:pt x="178943" y="1254379"/>
                </a:lnTo>
                <a:lnTo>
                  <a:pt x="162062" y="1291930"/>
                </a:lnTo>
                <a:lnTo>
                  <a:pt x="151709" y="1314962"/>
                </a:lnTo>
                <a:lnTo>
                  <a:pt x="136798" y="1294682"/>
                </a:lnTo>
                <a:lnTo>
                  <a:pt x="112395" y="1261491"/>
                </a:lnTo>
                <a:lnTo>
                  <a:pt x="108203" y="1255776"/>
                </a:lnTo>
                <a:lnTo>
                  <a:pt x="100330" y="1254633"/>
                </a:lnTo>
                <a:lnTo>
                  <a:pt x="94614" y="1258697"/>
                </a:lnTo>
                <a:lnTo>
                  <a:pt x="141732" y="1341374"/>
                </a:lnTo>
                <a:lnTo>
                  <a:pt x="142748" y="1334897"/>
                </a:lnTo>
                <a:lnTo>
                  <a:pt x="164592" y="1332484"/>
                </a:lnTo>
                <a:lnTo>
                  <a:pt x="167005" y="1338707"/>
                </a:lnTo>
                <a:lnTo>
                  <a:pt x="202184" y="1264793"/>
                </a:lnTo>
                <a:lnTo>
                  <a:pt x="204977" y="1258443"/>
                </a:lnTo>
                <a:lnTo>
                  <a:pt x="202184" y="1250950"/>
                </a:lnTo>
                <a:lnTo>
                  <a:pt x="195707" y="1248029"/>
                </a:lnTo>
                <a:lnTo>
                  <a:pt x="189357" y="1245108"/>
                </a:lnTo>
                <a:close/>
              </a:path>
              <a:path w="204977" h="1365123">
                <a:moveTo>
                  <a:pt x="43942" y="176911"/>
                </a:moveTo>
                <a:lnTo>
                  <a:pt x="18669" y="179578"/>
                </a:lnTo>
                <a:lnTo>
                  <a:pt x="29337" y="280543"/>
                </a:lnTo>
                <a:lnTo>
                  <a:pt x="54610" y="277876"/>
                </a:lnTo>
                <a:lnTo>
                  <a:pt x="43942" y="176911"/>
                </a:lnTo>
                <a:close/>
              </a:path>
              <a:path w="204977" h="1365123">
                <a:moveTo>
                  <a:pt x="62611" y="353695"/>
                </a:moveTo>
                <a:lnTo>
                  <a:pt x="37464" y="356362"/>
                </a:lnTo>
                <a:lnTo>
                  <a:pt x="48133" y="457327"/>
                </a:lnTo>
                <a:lnTo>
                  <a:pt x="73406" y="454660"/>
                </a:lnTo>
                <a:lnTo>
                  <a:pt x="62611" y="3536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31"/>
          <p:cNvSpPr/>
          <p:nvPr/>
        </p:nvSpPr>
        <p:spPr>
          <a:xfrm>
            <a:off x="6761520" y="434340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32"/>
          <p:cNvSpPr/>
          <p:nvPr/>
        </p:nvSpPr>
        <p:spPr>
          <a:xfrm>
            <a:off x="4856400" y="2814840"/>
            <a:ext cx="2665080" cy="1527840"/>
          </a:xfrm>
          <a:custGeom>
            <a:avLst/>
            <a:gdLst>
              <a:gd name="textAreaLeft" fmla="*/ 0 w 2665080"/>
              <a:gd name="textAreaRight" fmla="*/ 2665440 w 2665080"/>
              <a:gd name="textAreaTop" fmla="*/ 0 h 1527840"/>
              <a:gd name="textAreaBottom" fmla="*/ 1528200 h 1527840"/>
            </a:gdLst>
            <a:ahLst/>
            <a:rect l="textAreaLeft" t="textAreaTop" r="textAreaRight" b="textAreaBottom"/>
            <a:pathLst>
              <a:path w="2665476" h="1528318">
                <a:moveTo>
                  <a:pt x="321563" y="176149"/>
                </a:moveTo>
                <a:lnTo>
                  <a:pt x="308990" y="198247"/>
                </a:lnTo>
                <a:lnTo>
                  <a:pt x="397255" y="248538"/>
                </a:lnTo>
                <a:lnTo>
                  <a:pt x="409828" y="226441"/>
                </a:lnTo>
                <a:lnTo>
                  <a:pt x="321563" y="176149"/>
                </a:lnTo>
                <a:close/>
              </a:path>
              <a:path w="2665476" h="1528318">
                <a:moveTo>
                  <a:pt x="475996" y="264160"/>
                </a:moveTo>
                <a:lnTo>
                  <a:pt x="463423" y="286257"/>
                </a:lnTo>
                <a:lnTo>
                  <a:pt x="551688" y="336550"/>
                </a:lnTo>
                <a:lnTo>
                  <a:pt x="564261" y="314579"/>
                </a:lnTo>
                <a:lnTo>
                  <a:pt x="475996" y="264160"/>
                </a:lnTo>
                <a:close/>
              </a:path>
              <a:path w="2665476" h="1528318">
                <a:moveTo>
                  <a:pt x="630427" y="352298"/>
                </a:moveTo>
                <a:lnTo>
                  <a:pt x="617854" y="374396"/>
                </a:lnTo>
                <a:lnTo>
                  <a:pt x="706120" y="424688"/>
                </a:lnTo>
                <a:lnTo>
                  <a:pt x="718692" y="402590"/>
                </a:lnTo>
                <a:lnTo>
                  <a:pt x="630427" y="352298"/>
                </a:lnTo>
                <a:close/>
              </a:path>
              <a:path w="2665476" h="1528318">
                <a:moveTo>
                  <a:pt x="784987" y="440309"/>
                </a:moveTo>
                <a:lnTo>
                  <a:pt x="772413" y="462406"/>
                </a:lnTo>
                <a:lnTo>
                  <a:pt x="860551" y="512699"/>
                </a:lnTo>
                <a:lnTo>
                  <a:pt x="873251" y="490600"/>
                </a:lnTo>
                <a:lnTo>
                  <a:pt x="784987" y="440309"/>
                </a:lnTo>
                <a:close/>
              </a:path>
              <a:path w="2665476" h="1528318">
                <a:moveTo>
                  <a:pt x="939419" y="528447"/>
                </a:moveTo>
                <a:lnTo>
                  <a:pt x="926846" y="550418"/>
                </a:lnTo>
                <a:lnTo>
                  <a:pt x="1015111" y="600837"/>
                </a:lnTo>
                <a:lnTo>
                  <a:pt x="1027684" y="578738"/>
                </a:lnTo>
                <a:lnTo>
                  <a:pt x="939419" y="528447"/>
                </a:lnTo>
                <a:close/>
              </a:path>
              <a:path w="2665476" h="1528318">
                <a:moveTo>
                  <a:pt x="1093851" y="616457"/>
                </a:moveTo>
                <a:lnTo>
                  <a:pt x="1081277" y="638556"/>
                </a:lnTo>
                <a:lnTo>
                  <a:pt x="1169542" y="688848"/>
                </a:lnTo>
                <a:lnTo>
                  <a:pt x="1182115" y="666750"/>
                </a:lnTo>
                <a:lnTo>
                  <a:pt x="1093851" y="616457"/>
                </a:lnTo>
                <a:close/>
              </a:path>
              <a:path w="2665476" h="1528318">
                <a:moveTo>
                  <a:pt x="1248283" y="704469"/>
                </a:moveTo>
                <a:lnTo>
                  <a:pt x="1235710" y="726567"/>
                </a:lnTo>
                <a:lnTo>
                  <a:pt x="1323975" y="776859"/>
                </a:lnTo>
                <a:lnTo>
                  <a:pt x="1336548" y="754888"/>
                </a:lnTo>
                <a:lnTo>
                  <a:pt x="1248283" y="704469"/>
                </a:lnTo>
                <a:close/>
              </a:path>
              <a:path w="2665476" h="1528318">
                <a:moveTo>
                  <a:pt x="1402714" y="792607"/>
                </a:moveTo>
                <a:lnTo>
                  <a:pt x="1390141" y="814705"/>
                </a:lnTo>
                <a:lnTo>
                  <a:pt x="1478407" y="864997"/>
                </a:lnTo>
                <a:lnTo>
                  <a:pt x="1490979" y="842899"/>
                </a:lnTo>
                <a:lnTo>
                  <a:pt x="1402714" y="792607"/>
                </a:lnTo>
                <a:close/>
              </a:path>
              <a:path w="2665476" h="1528318">
                <a:moveTo>
                  <a:pt x="1557274" y="880618"/>
                </a:moveTo>
                <a:lnTo>
                  <a:pt x="1544701" y="902716"/>
                </a:lnTo>
                <a:lnTo>
                  <a:pt x="1632965" y="953007"/>
                </a:lnTo>
                <a:lnTo>
                  <a:pt x="1645539" y="931037"/>
                </a:lnTo>
                <a:lnTo>
                  <a:pt x="1557274" y="880618"/>
                </a:lnTo>
                <a:close/>
              </a:path>
              <a:path w="2665476" h="1528318">
                <a:moveTo>
                  <a:pt x="1711705" y="968756"/>
                </a:moveTo>
                <a:lnTo>
                  <a:pt x="1699133" y="990726"/>
                </a:lnTo>
                <a:lnTo>
                  <a:pt x="1787398" y="1041146"/>
                </a:lnTo>
                <a:lnTo>
                  <a:pt x="1799971" y="1019048"/>
                </a:lnTo>
                <a:lnTo>
                  <a:pt x="1711705" y="968756"/>
                </a:lnTo>
                <a:close/>
              </a:path>
              <a:path w="2665476" h="1528318">
                <a:moveTo>
                  <a:pt x="1866138" y="1056767"/>
                </a:moveTo>
                <a:lnTo>
                  <a:pt x="1853565" y="1078865"/>
                </a:lnTo>
                <a:lnTo>
                  <a:pt x="1941829" y="1129157"/>
                </a:lnTo>
                <a:lnTo>
                  <a:pt x="1954402" y="1107059"/>
                </a:lnTo>
                <a:lnTo>
                  <a:pt x="1866138" y="1056767"/>
                </a:lnTo>
                <a:close/>
              </a:path>
              <a:path w="2665476" h="1528318">
                <a:moveTo>
                  <a:pt x="2020570" y="1144905"/>
                </a:moveTo>
                <a:lnTo>
                  <a:pt x="2007997" y="1166876"/>
                </a:lnTo>
                <a:lnTo>
                  <a:pt x="2096261" y="1217295"/>
                </a:lnTo>
                <a:lnTo>
                  <a:pt x="2108834" y="1195197"/>
                </a:lnTo>
                <a:lnTo>
                  <a:pt x="2020570" y="1144905"/>
                </a:lnTo>
                <a:close/>
              </a:path>
              <a:path w="2665476" h="1528318">
                <a:moveTo>
                  <a:pt x="2175002" y="1232916"/>
                </a:moveTo>
                <a:lnTo>
                  <a:pt x="2162429" y="1255014"/>
                </a:lnTo>
                <a:lnTo>
                  <a:pt x="2250694" y="1305306"/>
                </a:lnTo>
                <a:lnTo>
                  <a:pt x="2263267" y="1283208"/>
                </a:lnTo>
                <a:lnTo>
                  <a:pt x="2175002" y="1232916"/>
                </a:lnTo>
                <a:close/>
              </a:path>
              <a:path w="2665476" h="1528318">
                <a:moveTo>
                  <a:pt x="2329560" y="1320927"/>
                </a:moveTo>
                <a:lnTo>
                  <a:pt x="2316988" y="1343025"/>
                </a:lnTo>
                <a:lnTo>
                  <a:pt x="2405253" y="1393317"/>
                </a:lnTo>
                <a:lnTo>
                  <a:pt x="2417826" y="1371346"/>
                </a:lnTo>
                <a:lnTo>
                  <a:pt x="2329560" y="1320927"/>
                </a:lnTo>
                <a:close/>
              </a:path>
              <a:path w="2665476" h="1528318">
                <a:moveTo>
                  <a:pt x="2483993" y="1409065"/>
                </a:moveTo>
                <a:lnTo>
                  <a:pt x="2471420" y="1431163"/>
                </a:lnTo>
                <a:lnTo>
                  <a:pt x="2559684" y="1481455"/>
                </a:lnTo>
                <a:lnTo>
                  <a:pt x="2572257" y="1459357"/>
                </a:lnTo>
                <a:lnTo>
                  <a:pt x="2483993" y="1409065"/>
                </a:lnTo>
                <a:close/>
              </a:path>
              <a:path w="2665476" h="1528318">
                <a:moveTo>
                  <a:pt x="2665476" y="1527175"/>
                </a:moveTo>
                <a:lnTo>
                  <a:pt x="2610357" y="1431925"/>
                </a:lnTo>
                <a:lnTo>
                  <a:pt x="2638425" y="1497076"/>
                </a:lnTo>
                <a:lnTo>
                  <a:pt x="2635634" y="1501980"/>
                </a:lnTo>
                <a:lnTo>
                  <a:pt x="2628644" y="1514265"/>
                </a:lnTo>
                <a:lnTo>
                  <a:pt x="2621624" y="1502121"/>
                </a:lnTo>
                <a:lnTo>
                  <a:pt x="2555240" y="1502791"/>
                </a:lnTo>
                <a:lnTo>
                  <a:pt x="2548254" y="1502918"/>
                </a:lnTo>
                <a:lnTo>
                  <a:pt x="2542540" y="1508633"/>
                </a:lnTo>
                <a:lnTo>
                  <a:pt x="2542667" y="1522730"/>
                </a:lnTo>
                <a:lnTo>
                  <a:pt x="2548508" y="1528318"/>
                </a:lnTo>
                <a:lnTo>
                  <a:pt x="2555494" y="1528191"/>
                </a:lnTo>
                <a:lnTo>
                  <a:pt x="2625852" y="1519174"/>
                </a:lnTo>
                <a:lnTo>
                  <a:pt x="2632582" y="1521079"/>
                </a:lnTo>
                <a:lnTo>
                  <a:pt x="2643378" y="1501902"/>
                </a:lnTo>
                <a:lnTo>
                  <a:pt x="2649854" y="1503680"/>
                </a:lnTo>
                <a:lnTo>
                  <a:pt x="2665476" y="1527175"/>
                </a:lnTo>
                <a:close/>
              </a:path>
              <a:path w="2665476" h="1528318">
                <a:moveTo>
                  <a:pt x="2621624" y="1502121"/>
                </a:moveTo>
                <a:lnTo>
                  <a:pt x="2628644" y="1514265"/>
                </a:lnTo>
                <a:lnTo>
                  <a:pt x="2635634" y="1501980"/>
                </a:lnTo>
                <a:lnTo>
                  <a:pt x="2638425" y="1497076"/>
                </a:lnTo>
                <a:lnTo>
                  <a:pt x="2610357" y="1431925"/>
                </a:lnTo>
                <a:lnTo>
                  <a:pt x="2606929" y="1425829"/>
                </a:lnTo>
                <a:lnTo>
                  <a:pt x="2599054" y="1423797"/>
                </a:lnTo>
                <a:lnTo>
                  <a:pt x="2593085" y="1427353"/>
                </a:lnTo>
                <a:lnTo>
                  <a:pt x="2586990" y="1430782"/>
                </a:lnTo>
                <a:lnTo>
                  <a:pt x="2584830" y="1438529"/>
                </a:lnTo>
                <a:lnTo>
                  <a:pt x="2588386" y="1444625"/>
                </a:lnTo>
                <a:lnTo>
                  <a:pt x="2621624" y="1502121"/>
                </a:lnTo>
                <a:close/>
              </a:path>
              <a:path w="2665476" h="1528318">
                <a:moveTo>
                  <a:pt x="2637281" y="1525651"/>
                </a:moveTo>
                <a:lnTo>
                  <a:pt x="2665476" y="1527175"/>
                </a:lnTo>
                <a:lnTo>
                  <a:pt x="2649854" y="1503680"/>
                </a:lnTo>
                <a:lnTo>
                  <a:pt x="2643378" y="1501902"/>
                </a:lnTo>
                <a:lnTo>
                  <a:pt x="2632582" y="1521079"/>
                </a:lnTo>
                <a:lnTo>
                  <a:pt x="2625852" y="1519174"/>
                </a:lnTo>
                <a:lnTo>
                  <a:pt x="2555494" y="1528191"/>
                </a:lnTo>
                <a:lnTo>
                  <a:pt x="2665476" y="1527175"/>
                </a:lnTo>
                <a:lnTo>
                  <a:pt x="2637281" y="1525651"/>
                </a:lnTo>
                <a:close/>
              </a:path>
              <a:path w="2665476" h="1528318">
                <a:moveTo>
                  <a:pt x="12700" y="0"/>
                </a:moveTo>
                <a:lnTo>
                  <a:pt x="0" y="22098"/>
                </a:lnTo>
                <a:lnTo>
                  <a:pt x="88264" y="72389"/>
                </a:lnTo>
                <a:lnTo>
                  <a:pt x="100837" y="50291"/>
                </a:lnTo>
                <a:lnTo>
                  <a:pt x="12700" y="0"/>
                </a:lnTo>
                <a:close/>
              </a:path>
              <a:path w="2665476" h="1528318">
                <a:moveTo>
                  <a:pt x="167132" y="88137"/>
                </a:moveTo>
                <a:lnTo>
                  <a:pt x="154559" y="110109"/>
                </a:lnTo>
                <a:lnTo>
                  <a:pt x="242824" y="160527"/>
                </a:lnTo>
                <a:lnTo>
                  <a:pt x="255397" y="138429"/>
                </a:lnTo>
                <a:lnTo>
                  <a:pt x="167132" y="88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33"/>
          <p:cNvSpPr/>
          <p:nvPr/>
        </p:nvSpPr>
        <p:spPr>
          <a:xfrm>
            <a:off x="589320" y="2209680"/>
            <a:ext cx="1825200" cy="7552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755280"/>
              <a:gd name="textAreaBottom" fmla="*/ 755640 h 755280"/>
            </a:gdLst>
            <a:ahLst/>
            <a:rect l="textAreaLeft" t="textAreaTop" r="textAreaRight" b="textAreaBottom"/>
            <a:pathLst>
              <a:path w="1825625" h="755650">
                <a:moveTo>
                  <a:pt x="0" y="377825"/>
                </a:moveTo>
                <a:lnTo>
                  <a:pt x="11947" y="316541"/>
                </a:lnTo>
                <a:lnTo>
                  <a:pt x="46536" y="258405"/>
                </a:lnTo>
                <a:lnTo>
                  <a:pt x="101889" y="204195"/>
                </a:lnTo>
                <a:lnTo>
                  <a:pt x="136764" y="178805"/>
                </a:lnTo>
                <a:lnTo>
                  <a:pt x="176125" y="154689"/>
                </a:lnTo>
                <a:lnTo>
                  <a:pt x="219738" y="131942"/>
                </a:lnTo>
                <a:lnTo>
                  <a:pt x="267366" y="110664"/>
                </a:lnTo>
                <a:lnTo>
                  <a:pt x="318776" y="90951"/>
                </a:lnTo>
                <a:lnTo>
                  <a:pt x="373733" y="72900"/>
                </a:lnTo>
                <a:lnTo>
                  <a:pt x="432001" y="56608"/>
                </a:lnTo>
                <a:lnTo>
                  <a:pt x="493346" y="42173"/>
                </a:lnTo>
                <a:lnTo>
                  <a:pt x="557533" y="29692"/>
                </a:lnTo>
                <a:lnTo>
                  <a:pt x="624327" y="19262"/>
                </a:lnTo>
                <a:lnTo>
                  <a:pt x="693494" y="10980"/>
                </a:lnTo>
                <a:lnTo>
                  <a:pt x="764797" y="4945"/>
                </a:lnTo>
                <a:lnTo>
                  <a:pt x="838002" y="1252"/>
                </a:lnTo>
                <a:lnTo>
                  <a:pt x="912876" y="0"/>
                </a:lnTo>
                <a:lnTo>
                  <a:pt x="987730" y="1252"/>
                </a:lnTo>
                <a:lnTo>
                  <a:pt x="1060920" y="4945"/>
                </a:lnTo>
                <a:lnTo>
                  <a:pt x="1132208" y="10980"/>
                </a:lnTo>
                <a:lnTo>
                  <a:pt x="1201362" y="19262"/>
                </a:lnTo>
                <a:lnTo>
                  <a:pt x="1268144" y="29692"/>
                </a:lnTo>
                <a:lnTo>
                  <a:pt x="1332321" y="42173"/>
                </a:lnTo>
                <a:lnTo>
                  <a:pt x="1393657" y="56608"/>
                </a:lnTo>
                <a:lnTo>
                  <a:pt x="1451918" y="72900"/>
                </a:lnTo>
                <a:lnTo>
                  <a:pt x="1506869" y="90951"/>
                </a:lnTo>
                <a:lnTo>
                  <a:pt x="1558274" y="110664"/>
                </a:lnTo>
                <a:lnTo>
                  <a:pt x="1605898" y="131942"/>
                </a:lnTo>
                <a:lnTo>
                  <a:pt x="1649507" y="154689"/>
                </a:lnTo>
                <a:lnTo>
                  <a:pt x="1688866" y="178805"/>
                </a:lnTo>
                <a:lnTo>
                  <a:pt x="1723739" y="204195"/>
                </a:lnTo>
                <a:lnTo>
                  <a:pt x="1753891" y="230760"/>
                </a:lnTo>
                <a:lnTo>
                  <a:pt x="1799096" y="287031"/>
                </a:lnTo>
                <a:lnTo>
                  <a:pt x="1822599" y="346838"/>
                </a:lnTo>
                <a:lnTo>
                  <a:pt x="1825625" y="377825"/>
                </a:lnTo>
                <a:lnTo>
                  <a:pt x="1822599" y="408811"/>
                </a:lnTo>
                <a:lnTo>
                  <a:pt x="1799096" y="468618"/>
                </a:lnTo>
                <a:lnTo>
                  <a:pt x="1753891" y="524889"/>
                </a:lnTo>
                <a:lnTo>
                  <a:pt x="1723739" y="551454"/>
                </a:lnTo>
                <a:lnTo>
                  <a:pt x="1688866" y="576844"/>
                </a:lnTo>
                <a:lnTo>
                  <a:pt x="1649507" y="600960"/>
                </a:lnTo>
                <a:lnTo>
                  <a:pt x="1605898" y="623707"/>
                </a:lnTo>
                <a:lnTo>
                  <a:pt x="1558274" y="644985"/>
                </a:lnTo>
                <a:lnTo>
                  <a:pt x="1506869" y="664698"/>
                </a:lnTo>
                <a:lnTo>
                  <a:pt x="1451918" y="682749"/>
                </a:lnTo>
                <a:lnTo>
                  <a:pt x="1393657" y="699041"/>
                </a:lnTo>
                <a:lnTo>
                  <a:pt x="1332321" y="713476"/>
                </a:lnTo>
                <a:lnTo>
                  <a:pt x="1268144" y="725957"/>
                </a:lnTo>
                <a:lnTo>
                  <a:pt x="1201362" y="736387"/>
                </a:lnTo>
                <a:lnTo>
                  <a:pt x="1132208" y="744669"/>
                </a:lnTo>
                <a:lnTo>
                  <a:pt x="1060920" y="750704"/>
                </a:lnTo>
                <a:lnTo>
                  <a:pt x="987730" y="754397"/>
                </a:lnTo>
                <a:lnTo>
                  <a:pt x="912876" y="755650"/>
                </a:lnTo>
                <a:lnTo>
                  <a:pt x="838002" y="754397"/>
                </a:lnTo>
                <a:lnTo>
                  <a:pt x="764797" y="750704"/>
                </a:lnTo>
                <a:lnTo>
                  <a:pt x="693494" y="744669"/>
                </a:lnTo>
                <a:lnTo>
                  <a:pt x="624327" y="736387"/>
                </a:lnTo>
                <a:lnTo>
                  <a:pt x="557533" y="725957"/>
                </a:lnTo>
                <a:lnTo>
                  <a:pt x="493346" y="713476"/>
                </a:lnTo>
                <a:lnTo>
                  <a:pt x="432001" y="699041"/>
                </a:lnTo>
                <a:lnTo>
                  <a:pt x="373733" y="682749"/>
                </a:lnTo>
                <a:lnTo>
                  <a:pt x="318776" y="664698"/>
                </a:lnTo>
                <a:lnTo>
                  <a:pt x="267366" y="644985"/>
                </a:lnTo>
                <a:lnTo>
                  <a:pt x="219738" y="623707"/>
                </a:lnTo>
                <a:lnTo>
                  <a:pt x="176125" y="600960"/>
                </a:lnTo>
                <a:lnTo>
                  <a:pt x="136764" y="576844"/>
                </a:lnTo>
                <a:lnTo>
                  <a:pt x="101889" y="551454"/>
                </a:lnTo>
                <a:lnTo>
                  <a:pt x="71735" y="524889"/>
                </a:lnTo>
                <a:lnTo>
                  <a:pt x="26529" y="468618"/>
                </a:lnTo>
                <a:lnTo>
                  <a:pt x="3025" y="408811"/>
                </a:lnTo>
                <a:lnTo>
                  <a:pt x="0" y="377825"/>
                </a:lnTo>
                <a:close/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34"/>
          <p:cNvSpPr/>
          <p:nvPr/>
        </p:nvSpPr>
        <p:spPr>
          <a:xfrm>
            <a:off x="1646280" y="2960640"/>
            <a:ext cx="1830240" cy="152712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1830577" h="1527428">
                <a:moveTo>
                  <a:pt x="289433" y="227456"/>
                </a:moveTo>
                <a:lnTo>
                  <a:pt x="273177" y="247014"/>
                </a:lnTo>
                <a:lnTo>
                  <a:pt x="351282" y="312038"/>
                </a:lnTo>
                <a:lnTo>
                  <a:pt x="367538" y="292480"/>
                </a:lnTo>
                <a:lnTo>
                  <a:pt x="289433" y="227456"/>
                </a:lnTo>
                <a:close/>
              </a:path>
              <a:path w="1830577" h="1527428">
                <a:moveTo>
                  <a:pt x="426084" y="341248"/>
                </a:moveTo>
                <a:lnTo>
                  <a:pt x="409828" y="360806"/>
                </a:lnTo>
                <a:lnTo>
                  <a:pt x="487934" y="425830"/>
                </a:lnTo>
                <a:lnTo>
                  <a:pt x="504190" y="406272"/>
                </a:lnTo>
                <a:lnTo>
                  <a:pt x="426084" y="341248"/>
                </a:lnTo>
                <a:close/>
              </a:path>
              <a:path w="1830577" h="1527428">
                <a:moveTo>
                  <a:pt x="562737" y="455040"/>
                </a:moveTo>
                <a:lnTo>
                  <a:pt x="546481" y="474598"/>
                </a:lnTo>
                <a:lnTo>
                  <a:pt x="624585" y="539622"/>
                </a:lnTo>
                <a:lnTo>
                  <a:pt x="640841" y="520064"/>
                </a:lnTo>
                <a:lnTo>
                  <a:pt x="562737" y="455040"/>
                </a:lnTo>
                <a:close/>
              </a:path>
              <a:path w="1830577" h="1527428">
                <a:moveTo>
                  <a:pt x="699389" y="568832"/>
                </a:moveTo>
                <a:lnTo>
                  <a:pt x="683133" y="588390"/>
                </a:lnTo>
                <a:lnTo>
                  <a:pt x="761110" y="653414"/>
                </a:lnTo>
                <a:lnTo>
                  <a:pt x="777366" y="633857"/>
                </a:lnTo>
                <a:lnTo>
                  <a:pt x="699389" y="568832"/>
                </a:lnTo>
                <a:close/>
              </a:path>
              <a:path w="1830577" h="1527428">
                <a:moveTo>
                  <a:pt x="835914" y="682625"/>
                </a:moveTo>
                <a:lnTo>
                  <a:pt x="819658" y="702182"/>
                </a:lnTo>
                <a:lnTo>
                  <a:pt x="897763" y="767207"/>
                </a:lnTo>
                <a:lnTo>
                  <a:pt x="914019" y="747648"/>
                </a:lnTo>
                <a:lnTo>
                  <a:pt x="835914" y="682625"/>
                </a:lnTo>
                <a:close/>
              </a:path>
              <a:path w="1830577" h="1527428">
                <a:moveTo>
                  <a:pt x="972566" y="796416"/>
                </a:moveTo>
                <a:lnTo>
                  <a:pt x="956310" y="815975"/>
                </a:lnTo>
                <a:lnTo>
                  <a:pt x="1034415" y="880871"/>
                </a:lnTo>
                <a:lnTo>
                  <a:pt x="1050671" y="861440"/>
                </a:lnTo>
                <a:lnTo>
                  <a:pt x="972566" y="796416"/>
                </a:lnTo>
                <a:close/>
              </a:path>
              <a:path w="1830577" h="1527428">
                <a:moveTo>
                  <a:pt x="1109218" y="910208"/>
                </a:moveTo>
                <a:lnTo>
                  <a:pt x="1092962" y="929639"/>
                </a:lnTo>
                <a:lnTo>
                  <a:pt x="1171067" y="994663"/>
                </a:lnTo>
                <a:lnTo>
                  <a:pt x="1187323" y="975232"/>
                </a:lnTo>
                <a:lnTo>
                  <a:pt x="1109218" y="910208"/>
                </a:lnTo>
                <a:close/>
              </a:path>
              <a:path w="1830577" h="1527428">
                <a:moveTo>
                  <a:pt x="1245870" y="1024001"/>
                </a:moveTo>
                <a:lnTo>
                  <a:pt x="1229614" y="1043432"/>
                </a:lnTo>
                <a:lnTo>
                  <a:pt x="1307719" y="1108455"/>
                </a:lnTo>
                <a:lnTo>
                  <a:pt x="1323975" y="1089025"/>
                </a:lnTo>
                <a:lnTo>
                  <a:pt x="1245870" y="1024001"/>
                </a:lnTo>
                <a:close/>
              </a:path>
              <a:path w="1830577" h="1527428">
                <a:moveTo>
                  <a:pt x="1382522" y="1137792"/>
                </a:moveTo>
                <a:lnTo>
                  <a:pt x="1366266" y="1157223"/>
                </a:lnTo>
                <a:lnTo>
                  <a:pt x="1444244" y="1222247"/>
                </a:lnTo>
                <a:lnTo>
                  <a:pt x="1460500" y="1202689"/>
                </a:lnTo>
                <a:lnTo>
                  <a:pt x="1382522" y="1137792"/>
                </a:lnTo>
                <a:close/>
              </a:path>
              <a:path w="1830577" h="1527428">
                <a:moveTo>
                  <a:pt x="1519047" y="1251458"/>
                </a:moveTo>
                <a:lnTo>
                  <a:pt x="1502791" y="1271015"/>
                </a:lnTo>
                <a:lnTo>
                  <a:pt x="1580896" y="1336039"/>
                </a:lnTo>
                <a:lnTo>
                  <a:pt x="1597152" y="1316482"/>
                </a:lnTo>
                <a:lnTo>
                  <a:pt x="1519047" y="1251458"/>
                </a:lnTo>
                <a:close/>
              </a:path>
              <a:path w="1830577" h="1527428">
                <a:moveTo>
                  <a:pt x="1780558" y="1493229"/>
                </a:moveTo>
                <a:lnTo>
                  <a:pt x="1726311" y="1484121"/>
                </a:lnTo>
                <a:lnTo>
                  <a:pt x="1803018" y="1521078"/>
                </a:lnTo>
                <a:lnTo>
                  <a:pt x="1799209" y="1515617"/>
                </a:lnTo>
                <a:lnTo>
                  <a:pt x="1813305" y="1498727"/>
                </a:lnTo>
                <a:lnTo>
                  <a:pt x="1819275" y="1501520"/>
                </a:lnTo>
                <a:lnTo>
                  <a:pt x="1830577" y="1527428"/>
                </a:lnTo>
                <a:lnTo>
                  <a:pt x="1792986" y="1424051"/>
                </a:lnTo>
                <a:lnTo>
                  <a:pt x="1792351" y="1479041"/>
                </a:lnTo>
                <a:lnTo>
                  <a:pt x="1791766" y="1495110"/>
                </a:lnTo>
                <a:lnTo>
                  <a:pt x="1780558" y="1493229"/>
                </a:lnTo>
                <a:lnTo>
                  <a:pt x="1776094" y="1498600"/>
                </a:lnTo>
                <a:lnTo>
                  <a:pt x="1780558" y="1493229"/>
                </a:lnTo>
                <a:close/>
              </a:path>
              <a:path w="1830577" h="1527428">
                <a:moveTo>
                  <a:pt x="1711706" y="1494535"/>
                </a:moveTo>
                <a:lnTo>
                  <a:pt x="1710563" y="1501520"/>
                </a:lnTo>
                <a:lnTo>
                  <a:pt x="1715135" y="1507997"/>
                </a:lnTo>
                <a:lnTo>
                  <a:pt x="1722120" y="1509140"/>
                </a:lnTo>
                <a:lnTo>
                  <a:pt x="1830577" y="1527428"/>
                </a:lnTo>
                <a:lnTo>
                  <a:pt x="1819275" y="1501520"/>
                </a:lnTo>
                <a:lnTo>
                  <a:pt x="1813305" y="1498727"/>
                </a:lnTo>
                <a:lnTo>
                  <a:pt x="1799209" y="1515617"/>
                </a:lnTo>
                <a:lnTo>
                  <a:pt x="1803018" y="1521078"/>
                </a:lnTo>
                <a:lnTo>
                  <a:pt x="1726311" y="1484121"/>
                </a:lnTo>
                <a:lnTo>
                  <a:pt x="1719326" y="1482978"/>
                </a:lnTo>
                <a:lnTo>
                  <a:pt x="1712849" y="1487677"/>
                </a:lnTo>
                <a:lnTo>
                  <a:pt x="1711706" y="1494535"/>
                </a:lnTo>
                <a:close/>
              </a:path>
              <a:path w="1830577" h="1527428">
                <a:moveTo>
                  <a:pt x="1655699" y="1365250"/>
                </a:moveTo>
                <a:lnTo>
                  <a:pt x="1639443" y="1384808"/>
                </a:lnTo>
                <a:lnTo>
                  <a:pt x="1717548" y="1449832"/>
                </a:lnTo>
                <a:lnTo>
                  <a:pt x="1733803" y="1430273"/>
                </a:lnTo>
                <a:lnTo>
                  <a:pt x="1655699" y="1365250"/>
                </a:lnTo>
                <a:close/>
              </a:path>
              <a:path w="1830577" h="1527428">
                <a:moveTo>
                  <a:pt x="1769110" y="1432686"/>
                </a:moveTo>
                <a:lnTo>
                  <a:pt x="1787884" y="1484415"/>
                </a:lnTo>
                <a:lnTo>
                  <a:pt x="1780558" y="1493229"/>
                </a:lnTo>
                <a:lnTo>
                  <a:pt x="1791766" y="1495110"/>
                </a:lnTo>
                <a:lnTo>
                  <a:pt x="1792351" y="1479041"/>
                </a:lnTo>
                <a:lnTo>
                  <a:pt x="1792986" y="1424051"/>
                </a:lnTo>
                <a:lnTo>
                  <a:pt x="1790573" y="1417446"/>
                </a:lnTo>
                <a:lnTo>
                  <a:pt x="1783334" y="1414017"/>
                </a:lnTo>
                <a:lnTo>
                  <a:pt x="1776729" y="1416430"/>
                </a:lnTo>
                <a:lnTo>
                  <a:pt x="1770126" y="1418844"/>
                </a:lnTo>
                <a:lnTo>
                  <a:pt x="1766697" y="1426083"/>
                </a:lnTo>
                <a:lnTo>
                  <a:pt x="1769110" y="1432686"/>
                </a:lnTo>
                <a:close/>
              </a:path>
              <a:path w="1830577" h="1527428">
                <a:moveTo>
                  <a:pt x="16129" y="0"/>
                </a:moveTo>
                <a:lnTo>
                  <a:pt x="0" y="19430"/>
                </a:lnTo>
                <a:lnTo>
                  <a:pt x="77978" y="84454"/>
                </a:lnTo>
                <a:lnTo>
                  <a:pt x="94234" y="65023"/>
                </a:lnTo>
                <a:lnTo>
                  <a:pt x="16129" y="0"/>
                </a:lnTo>
                <a:close/>
              </a:path>
              <a:path w="1830577" h="1527428">
                <a:moveTo>
                  <a:pt x="152781" y="113791"/>
                </a:moveTo>
                <a:lnTo>
                  <a:pt x="136525" y="133222"/>
                </a:lnTo>
                <a:lnTo>
                  <a:pt x="214629" y="198246"/>
                </a:lnTo>
                <a:lnTo>
                  <a:pt x="230885" y="178688"/>
                </a:lnTo>
                <a:lnTo>
                  <a:pt x="152781" y="1137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35"/>
          <p:cNvSpPr/>
          <p:nvPr/>
        </p:nvSpPr>
        <p:spPr>
          <a:xfrm>
            <a:off x="7560000" y="1903320"/>
            <a:ext cx="75960" cy="298080"/>
          </a:xfrm>
          <a:custGeom>
            <a:avLst/>
            <a:gdLst>
              <a:gd name="textAreaLeft" fmla="*/ 0 w 75960"/>
              <a:gd name="textAreaRight" fmla="*/ 76320 w 75960"/>
              <a:gd name="textAreaTop" fmla="*/ 0 h 298080"/>
              <a:gd name="textAreaBottom" fmla="*/ 298440 h 298080"/>
            </a:gdLst>
            <a:ahLst/>
            <a:rect l="textAreaLeft" t="textAreaTop" r="textAreaRight" b="textAreaBottom"/>
            <a:pathLst>
              <a:path w="76200" h="298450">
                <a:moveTo>
                  <a:pt x="25400" y="222249"/>
                </a:moveTo>
                <a:lnTo>
                  <a:pt x="0" y="222250"/>
                </a:lnTo>
                <a:lnTo>
                  <a:pt x="38100" y="298450"/>
                </a:lnTo>
                <a:lnTo>
                  <a:pt x="76200" y="222250"/>
                </a:lnTo>
                <a:lnTo>
                  <a:pt x="50799" y="222250"/>
                </a:lnTo>
                <a:lnTo>
                  <a:pt x="50800" y="234950"/>
                </a:lnTo>
                <a:lnTo>
                  <a:pt x="25400" y="234950"/>
                </a:lnTo>
                <a:lnTo>
                  <a:pt x="25400" y="222249"/>
                </a:lnTo>
                <a:close/>
              </a:path>
              <a:path w="76200" h="298450">
                <a:moveTo>
                  <a:pt x="25400" y="234950"/>
                </a:moveTo>
                <a:lnTo>
                  <a:pt x="50800" y="234950"/>
                </a:lnTo>
                <a:lnTo>
                  <a:pt x="50800" y="0"/>
                </a:lnTo>
                <a:lnTo>
                  <a:pt x="25400" y="0"/>
                </a:lnTo>
                <a:lnTo>
                  <a:pt x="25400" y="2349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36"/>
          <p:cNvSpPr/>
          <p:nvPr/>
        </p:nvSpPr>
        <p:spPr>
          <a:xfrm>
            <a:off x="3254760" y="2513160"/>
            <a:ext cx="1828440" cy="36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800" h="0">
                <a:moveTo>
                  <a:pt x="0" y="0"/>
                </a:moveTo>
                <a:lnTo>
                  <a:pt x="182880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8"/>
          <p:cNvSpPr/>
          <p:nvPr/>
        </p:nvSpPr>
        <p:spPr>
          <a:xfrm>
            <a:off x="3633120" y="5175360"/>
            <a:ext cx="224280" cy="322560"/>
          </a:xfrm>
          <a:custGeom>
            <a:avLst/>
            <a:gdLst>
              <a:gd name="textAreaLeft" fmla="*/ 0 w 224280"/>
              <a:gd name="textAreaRight" fmla="*/ 224640 w 22428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224789" h="323037">
                <a:moveTo>
                  <a:pt x="0" y="308787"/>
                </a:moveTo>
                <a:lnTo>
                  <a:pt x="21081" y="323037"/>
                </a:lnTo>
                <a:lnTo>
                  <a:pt x="192620" y="70215"/>
                </a:lnTo>
                <a:lnTo>
                  <a:pt x="199770" y="59677"/>
                </a:lnTo>
                <a:lnTo>
                  <a:pt x="213613" y="84442"/>
                </a:lnTo>
                <a:lnTo>
                  <a:pt x="224789" y="0"/>
                </a:lnTo>
                <a:lnTo>
                  <a:pt x="178688" y="45415"/>
                </a:lnTo>
                <a:lnTo>
                  <a:pt x="171550" y="55937"/>
                </a:lnTo>
                <a:lnTo>
                  <a:pt x="0" y="308787"/>
                </a:lnTo>
                <a:close/>
              </a:path>
              <a:path w="224789" h="323037">
                <a:moveTo>
                  <a:pt x="178688" y="45415"/>
                </a:moveTo>
                <a:lnTo>
                  <a:pt x="224789" y="0"/>
                </a:lnTo>
                <a:lnTo>
                  <a:pt x="150494" y="41668"/>
                </a:lnTo>
                <a:lnTo>
                  <a:pt x="171550" y="55937"/>
                </a:lnTo>
                <a:lnTo>
                  <a:pt x="178688" y="45415"/>
                </a:lnTo>
                <a:close/>
              </a:path>
              <a:path w="224789" h="323037">
                <a:moveTo>
                  <a:pt x="213613" y="84442"/>
                </a:moveTo>
                <a:lnTo>
                  <a:pt x="199770" y="59677"/>
                </a:lnTo>
                <a:lnTo>
                  <a:pt x="192620" y="70215"/>
                </a:lnTo>
                <a:lnTo>
                  <a:pt x="213613" y="844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7"/>
          <p:cNvSpPr/>
          <p:nvPr/>
        </p:nvSpPr>
        <p:spPr>
          <a:xfrm>
            <a:off x="380880" y="405720"/>
            <a:ext cx="4794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584"/>
              </a:lnSpc>
              <a:spcBef>
                <a:spcPts val="230"/>
              </a:spcBef>
            </a:pP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6600" spc="-86" strike="noStrike" baseline="3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ample of Use Ca</a:t>
            </a:r>
            <a:r>
              <a:rPr b="0" lang="en-US" sz="6600" spc="1" strike="noStrike" baseline="3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6"/>
          <p:cNvSpPr/>
          <p:nvPr/>
        </p:nvSpPr>
        <p:spPr>
          <a:xfrm>
            <a:off x="5181480" y="457200"/>
            <a:ext cx="190728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584"/>
              </a:lnSpc>
              <a:spcBef>
                <a:spcPts val="230"/>
              </a:spcBef>
            </a:pPr>
            <a:r>
              <a:rPr b="0" lang="en-US" sz="6600" spc="-250" strike="noStrike" baseline="3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aria</a:t>
            </a:r>
            <a:r>
              <a:rPr b="0" lang="en-US" sz="6600" spc="-35" strike="noStrike" baseline="3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6600" spc="-1" strike="noStrike" baseline="3000">
                <a:solidFill>
                  <a:srgbClr val="000000"/>
                </a:solidFill>
                <a:latin typeface="Calibri"/>
              </a:rPr>
              <a:t>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5"/>
          <p:cNvSpPr/>
          <p:nvPr/>
        </p:nvSpPr>
        <p:spPr>
          <a:xfrm>
            <a:off x="5392440" y="2202840"/>
            <a:ext cx="1225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14"/>
          <p:cNvSpPr/>
          <p:nvPr/>
        </p:nvSpPr>
        <p:spPr>
          <a:xfrm>
            <a:off x="3638160" y="2277720"/>
            <a:ext cx="1182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13"/>
          <p:cNvSpPr/>
          <p:nvPr/>
        </p:nvSpPr>
        <p:spPr>
          <a:xfrm>
            <a:off x="817920" y="2506320"/>
            <a:ext cx="1410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12"/>
          <p:cNvSpPr/>
          <p:nvPr/>
        </p:nvSpPr>
        <p:spPr>
          <a:xfrm>
            <a:off x="6824880" y="2519280"/>
            <a:ext cx="1710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11"/>
          <p:cNvSpPr/>
          <p:nvPr/>
        </p:nvSpPr>
        <p:spPr>
          <a:xfrm>
            <a:off x="3638880" y="2571840"/>
            <a:ext cx="1019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7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nsion </a:t>
            </a:r>
            <a:r>
              <a:rPr b="0" lang="en-US" sz="1200" spc="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10"/>
          <p:cNvSpPr/>
          <p:nvPr/>
        </p:nvSpPr>
        <p:spPr>
          <a:xfrm>
            <a:off x="3638880" y="2754720"/>
            <a:ext cx="106452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4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9"/>
          <p:cNvSpPr/>
          <p:nvPr/>
        </p:nvSpPr>
        <p:spPr>
          <a:xfrm>
            <a:off x="6154560" y="334656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8"/>
          <p:cNvSpPr/>
          <p:nvPr/>
        </p:nvSpPr>
        <p:spPr>
          <a:xfrm>
            <a:off x="2419920" y="342252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7"/>
          <p:cNvSpPr/>
          <p:nvPr/>
        </p:nvSpPr>
        <p:spPr>
          <a:xfrm>
            <a:off x="4325400" y="3498840"/>
            <a:ext cx="129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6"/>
          <p:cNvSpPr/>
          <p:nvPr/>
        </p:nvSpPr>
        <p:spPr>
          <a:xfrm>
            <a:off x="3400200" y="4413240"/>
            <a:ext cx="15296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4600" algn="ctr">
              <a:lnSpc>
                <a:spcPts val="1939"/>
              </a:lnSpc>
              <a:spcBef>
                <a:spcPts val="96"/>
              </a:spcBef>
            </a:pP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Sup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9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mer</a:t>
            </a:r>
            <a:r>
              <a:rPr b="1" lang="en-US" sz="18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5"/>
          <p:cNvSpPr/>
          <p:nvPr/>
        </p:nvSpPr>
        <p:spPr>
          <a:xfrm>
            <a:off x="6840360" y="4642200"/>
            <a:ext cx="17305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e</a:t>
            </a:r>
            <a:r>
              <a:rPr b="1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1" lang="en-US" sz="180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4"/>
          <p:cNvSpPr/>
          <p:nvPr/>
        </p:nvSpPr>
        <p:spPr>
          <a:xfrm>
            <a:off x="2723400" y="5478840"/>
            <a:ext cx="291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939"/>
              </a:lnSpc>
              <a:spcBef>
                <a:spcPts val="9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2"/>
          <p:cNvSpPr/>
          <p:nvPr/>
        </p:nvSpPr>
        <p:spPr>
          <a:xfrm>
            <a:off x="8562240" y="585180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"/>
          <p:cNvSpPr/>
          <p:nvPr/>
        </p:nvSpPr>
        <p:spPr>
          <a:xfrm>
            <a:off x="6837840" y="1143000"/>
            <a:ext cx="182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l fun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a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bject 5"/>
          <p:cNvSpPr/>
          <p:nvPr/>
        </p:nvSpPr>
        <p:spPr>
          <a:xfrm>
            <a:off x="533520" y="457200"/>
            <a:ext cx="8076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764"/>
              </a:lnSpc>
              <a:spcBef>
                <a:spcPts val="187"/>
              </a:spcBef>
            </a:pPr>
            <a:r>
              <a:rPr b="0" lang="en-US" sz="4800" spc="-26" strike="noStrike" baseline="3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ONCEPT</a:t>
            </a:r>
            <a:r>
              <a:rPr b="0" lang="en-US" sz="4800" spc="-21" strike="noStrike" baseline="3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4800" spc="-75" strike="noStrike" baseline="3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46" strike="noStrike" baseline="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35" strike="noStrike" baseline="3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TEM</a:t>
            </a:r>
            <a:r>
              <a:rPr b="0" lang="en-US" sz="4800" spc="-9" strike="noStrike" baseline="3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800" spc="-66" strike="noStrike" baseline="3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">
                <a:solidFill>
                  <a:srgbClr val="000000"/>
                </a:solidFill>
                <a:latin typeface="Arial"/>
              </a:rPr>
              <a:t>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2"/>
          <p:cNvSpPr/>
          <p:nvPr/>
        </p:nvSpPr>
        <p:spPr>
          <a:xfrm>
            <a:off x="8506440" y="6461280"/>
            <a:ext cx="1242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Screen shot 2014-01-27 at 1.19.01 PM.png"/>
          <p:cNvPicPr/>
          <p:nvPr/>
        </p:nvPicPr>
        <p:blipFill>
          <a:blip r:embed="rId1"/>
          <a:stretch/>
        </p:blipFill>
        <p:spPr>
          <a:xfrm>
            <a:off x="2819520" y="2302560"/>
            <a:ext cx="3093840" cy="45550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960" y="1066680"/>
            <a:ext cx="752076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requirements will specify a behavior or fun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icial definition of ‘a functional requirement’ is that it essentially specifies something the system should 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100520"/>
            <a:ext cx="773388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f the more typical functional requirements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corrections, adjustments and cancel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Non-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for a non-functional requirement is that it essentially specif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should behave and that it is a constraint upon the systems behavi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uld also think of non-functional requirements as quality attributes for of a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put, the difference is 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func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scri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works, whi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c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ments descri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ystem should 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Screen shot 2014-01-27 at 1.25.04 PM.png"/>
          <p:cNvPicPr/>
          <p:nvPr/>
        </p:nvPicPr>
        <p:blipFill>
          <a:blip r:embed="rId1"/>
          <a:stretch/>
        </p:blipFill>
        <p:spPr>
          <a:xfrm>
            <a:off x="3807000" y="1143000"/>
            <a:ext cx="5031720" cy="3885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Non functional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100520"/>
            <a:ext cx="8038800" cy="392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typical non-functional requirem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– for example Respons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bject 19"/>
          <p:cNvSpPr/>
          <p:nvPr/>
        </p:nvSpPr>
        <p:spPr>
          <a:xfrm>
            <a:off x="-1828800" y="228600"/>
            <a:ext cx="76957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79440" algn="ctr">
              <a:lnSpc>
                <a:spcPts val="4584"/>
              </a:lnSpc>
              <a:spcBef>
                <a:spcPts val="230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4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34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en-US" sz="4400" spc="7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de</a:t>
            </a:r>
            <a:r>
              <a:rPr b="0" lang="en-US" sz="4400" spc="-66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2"/>
          <p:cNvSpPr/>
          <p:nvPr/>
        </p:nvSpPr>
        <p:spPr>
          <a:xfrm>
            <a:off x="8430120" y="6461280"/>
            <a:ext cx="2001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1324"/>
              </a:lnSpc>
              <a:spcBef>
                <a:spcPts val="65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609480" y="685800"/>
            <a:ext cx="7543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or organizations that are affected by the proposed system or have a potential influence on the requirement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09480" y="2133720"/>
            <a:ext cx="80769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involved in context of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ant to involve key stakeholders in requirements captur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98</TotalTime>
  <Application>LibreOffice/7.4.7.2$Linux_X86_64 LibreOffice_project/40$Build-2</Application>
  <AppVersion>15.0000</AppVersion>
  <Words>1285</Words>
  <Paragraphs>3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el</cp:lastModifiedBy>
  <dcterms:modified xsi:type="dcterms:W3CDTF">2014-02-09T18:48:3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5</vt:r8>
  </property>
</Properties>
</file>