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023F-6361-4ED4-82B0-63A6FEA5E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35A0-F114-4FE6-AC05-1768ABB59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68ED-034E-436C-B5CA-E867005A7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DDA6-D8B3-4A99-AAF0-3D9571894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F54FE-837E-4919-8033-B37635481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1D6A8-B60B-4EC8-B529-0A1B36029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43B05-B723-4307-999B-89ED89D3C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CA1B5-5F39-42F7-BF93-F24B18E54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3167E-02F7-46C8-845E-DD1C5029A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5BBD3-C704-4AFA-A5F8-768549E21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A2AB2-F55E-4E4F-AF04-2078D5C5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56C2-A6A3-41F3-A011-EBADE5C23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F0977-4432-44FA-9008-44513038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00240-1CDD-4780-B37E-879BFB76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F6E9E-7CE8-4BF0-B248-57D1B6969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6B29F-0BA9-4EE8-8454-9E27F2DD5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349A0-0C57-43DD-909B-49E40C919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CFC5A-DDF4-4CD0-AEE5-7E9AFCD1D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5302F-35CF-43AD-8ACC-A004ED872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F45E0-EA3B-485C-AF1D-5A206F8E4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ED655-05C9-48C1-B71D-6EED73061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8F298-910E-4251-9F27-5342C617A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361A-CAE5-4D06-B471-66ABD53BA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D8F65-7606-4ECD-AF48-DA28B9BB1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2B17E-776D-4953-BB42-70503A34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54B29-91A3-44D3-B825-7648399F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101D5-A2EE-4FA8-8728-C07110624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10D7F-F0A8-4B2F-BCDC-3CDF05E64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84120-AC8F-4330-BC84-4A0EC2B5A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9270C-A52E-4E16-8C94-0B15BF88E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A618B-624B-43F5-AD98-D2B38885F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1D344-040B-4B9C-AD14-8FBA2B257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42F70-0297-419F-A90D-8C414E11C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3339-0D4D-4339-8986-B438B2D9C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383AF-B78B-415F-83E3-B8F1F41C0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24016-730A-4066-A647-2261E883D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2E5D1-377E-448D-973E-81718D0CB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21AEE-0454-4831-9501-57354210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410F6-8B29-411E-9B0A-E5BE1F40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71009-C47D-479E-A78A-5529350C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5D5EE-8696-478F-A7D6-1FC1B724F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DF5AF-5531-49C3-B32B-258878A77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3625E-0928-4288-B3FD-60E53A4DC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C2A26-49FD-4FF0-865D-096ED3B2E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AA16-7AA5-4BED-B83A-357A0719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801FA-1D6F-4748-8D70-B58931915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47338-DF97-4E16-969B-6F64A7065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FE79A-F6C8-40ED-8813-800D81CD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62CF2-720C-4D65-A595-518A6C5D5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7DE07-D365-4537-BB52-AD9A7D6B9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6E54C-703B-44AD-81FC-91AB0797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F9789-7BB2-4287-8562-8AA2B845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171EC-449A-4327-8690-73A9D248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42557-6F52-4F11-AB1B-4E6CB45A9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4A297-EC55-41B0-B0C3-B93B7C3C7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9A5E-A2DD-4C83-8927-F7E62C48A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0F50C-D7ED-435C-8640-7611F7B4E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6502-28CF-413A-8E65-497C615C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835E-1F8E-4B73-A257-227C04F7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E77A-6364-4070-8154-BA96F861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D47160A-9107-4708-B935-331DC805CDB9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6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310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8596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3D50029-4C98-4659-B8CE-60384C9BB634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 hidden="1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87" name="Freeform 7" hidden="1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88" name="Freeform 7"/>
          <p:cNvSpPr/>
          <p:nvPr/>
        </p:nvSpPr>
        <p:spPr>
          <a:xfrm>
            <a:off x="-2520" y="-1080"/>
            <a:ext cx="9146160" cy="685872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6858720"/>
              <a:gd name="textAreaBottom" fmla="*/ 6859080 h 6858720"/>
            </a:gdLst>
            <a:ahLst/>
            <a:rect l="textAreaLeft" t="textAreaTop" r="textAreaRight" b="textAreaBottom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89" name="Right Triangle 6"/>
          <p:cNvSpPr/>
          <p:nvPr/>
        </p:nvSpPr>
        <p:spPr>
          <a:xfrm>
            <a:off x="0" y="2647800"/>
            <a:ext cx="3571560" cy="4209840"/>
          </a:xfrm>
          <a:prstGeom prst="rtTriangle">
            <a:avLst/>
          </a:pr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 rot="19140000">
            <a:off x="819000" y="1726920"/>
            <a:ext cx="5650560" cy="12070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200" spc="-1" strike="noStrike" cap="all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 rot="19140000">
            <a:off x="1215720" y="2468160"/>
            <a:ext cx="6510240" cy="3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400" spc="398" strike="noStrike" cap="all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B4101F7-BC78-4200-97C6-72610855BB5D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reeform 6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32" name="Freeform 7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ftr" idx="11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sldNum" idx="12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FA12A7D-EF9C-49E1-844D-FCE27FFBAD6B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reeform 6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75" name="Freeform 7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822960" y="1097280"/>
            <a:ext cx="3200040" cy="37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310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596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700160" y="1097280"/>
            <a:ext cx="3200040" cy="37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310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596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CDE43D1-18F3-4F87-AC27-9FA45CCA2804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object 7"/>
          <p:cNvSpPr/>
          <p:nvPr/>
        </p:nvSpPr>
        <p:spPr>
          <a:xfrm>
            <a:off x="2590200" y="2613240"/>
            <a:ext cx="4048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4584"/>
              </a:lnSpc>
              <a:spcBef>
                <a:spcPts val="230"/>
              </a:spcBef>
            </a:pPr>
            <a:r>
              <a:rPr b="0" lang="en-US" sz="6600" spc="24" strike="noStrike" baseline="3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6600" spc="-1" strike="noStrike" baseline="3000">
                <a:solidFill>
                  <a:srgbClr val="000000"/>
                </a:solidFill>
                <a:latin typeface="Calibri"/>
              </a:rPr>
              <a:t>T1404</a:t>
            </a:r>
            <a:r>
              <a:rPr b="0" lang="en-US" sz="6600" spc="-21" strike="noStrike" baseline="3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6600" spc="-1" strike="noStrike" baseline="3000">
                <a:solidFill>
                  <a:srgbClr val="000000"/>
                </a:solidFill>
                <a:latin typeface="Calibri"/>
              </a:rPr>
              <a:t>Lectu</a:t>
            </a:r>
            <a:r>
              <a:rPr b="0" lang="en-US" sz="6600" spc="-55" strike="noStrike" baseline="3000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6600" spc="-1" strike="noStrike" baseline="3000">
                <a:solidFill>
                  <a:srgbClr val="000000"/>
                </a:solidFill>
                <a:latin typeface="Calibri"/>
              </a:rPr>
              <a:t>e 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bject 6"/>
          <p:cNvSpPr/>
          <p:nvPr/>
        </p:nvSpPr>
        <p:spPr>
          <a:xfrm>
            <a:off x="1523880" y="3996000"/>
            <a:ext cx="61718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3359"/>
              </a:lnSpc>
              <a:spcBef>
                <a:spcPts val="167"/>
              </a:spcBef>
            </a:pPr>
            <a:r>
              <a:rPr b="1" lang="en-US" sz="3600" spc="-60" strike="noStrike" baseline="3000">
                <a:solidFill>
                  <a:srgbClr val="888888"/>
                </a:solidFill>
                <a:latin typeface="Arial"/>
              </a:rPr>
              <a:t>R</a:t>
            </a:r>
            <a:r>
              <a:rPr b="1" lang="en-US" sz="3600" spc="-1" strike="noStrike" baseline="3000">
                <a:solidFill>
                  <a:srgbClr val="888888"/>
                </a:solidFill>
                <a:latin typeface="Arial"/>
              </a:rPr>
              <a:t>equi</a:t>
            </a:r>
            <a:r>
              <a:rPr b="1" lang="en-US" sz="3600" spc="-46" strike="noStrike" baseline="3000">
                <a:solidFill>
                  <a:srgbClr val="888888"/>
                </a:solidFill>
                <a:latin typeface="Arial"/>
              </a:rPr>
              <a:t>r</a:t>
            </a:r>
            <a:r>
              <a:rPr b="1" lang="en-US" sz="3600" spc="-1" strike="noStrike" baseline="3000">
                <a:solidFill>
                  <a:srgbClr val="888888"/>
                </a:solidFill>
                <a:latin typeface="Arial"/>
              </a:rPr>
              <a:t>eme</a:t>
            </a:r>
            <a:r>
              <a:rPr b="1" lang="en-US" sz="3600" spc="-26" strike="noStrike" baseline="3000">
                <a:solidFill>
                  <a:srgbClr val="888888"/>
                </a:solidFill>
                <a:latin typeface="Arial"/>
              </a:rPr>
              <a:t>n</a:t>
            </a:r>
            <a:r>
              <a:rPr b="1" lang="en-US" sz="3600" spc="-1" strike="noStrike" baseline="3000">
                <a:solidFill>
                  <a:srgbClr val="888888"/>
                </a:solidFill>
                <a:latin typeface="Arial"/>
              </a:rPr>
              <a:t>t Engineer</a:t>
            </a:r>
            <a:r>
              <a:rPr b="1" lang="en-US" sz="3600" spc="-9" strike="noStrike" baseline="3000">
                <a:solidFill>
                  <a:srgbClr val="888888"/>
                </a:solidFill>
                <a:latin typeface="Arial"/>
              </a:rPr>
              <a:t>i</a:t>
            </a:r>
            <a:r>
              <a:rPr b="1" lang="en-US" sz="3600" spc="-1" strike="noStrike" baseline="3000">
                <a:solidFill>
                  <a:srgbClr val="888888"/>
                </a:solidFill>
                <a:latin typeface="Arial"/>
              </a:rPr>
              <a:t>ng and Use C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ts val="3359"/>
              </a:lnSpc>
              <a:spcBef>
                <a:spcPts val="167"/>
              </a:spcBef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bject 5"/>
          <p:cNvSpPr/>
          <p:nvPr/>
        </p:nvSpPr>
        <p:spPr>
          <a:xfrm>
            <a:off x="4701600" y="3996000"/>
            <a:ext cx="20415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3359"/>
              </a:lnSpc>
              <a:spcBef>
                <a:spcPts val="167"/>
              </a:spcBef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object 2"/>
          <p:cNvSpPr/>
          <p:nvPr/>
        </p:nvSpPr>
        <p:spPr>
          <a:xfrm>
            <a:off x="8506440" y="6461280"/>
            <a:ext cx="124200" cy="1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1324"/>
              </a:lnSpc>
              <a:spcBef>
                <a:spcPts val="65"/>
              </a:spcBef>
            </a:pPr>
            <a:r>
              <a:rPr b="0" lang="en-US" sz="1200" spc="-1" strike="noStrike">
                <a:solidFill>
                  <a:srgbClr val="888888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object 3"/>
          <p:cNvSpPr/>
          <p:nvPr/>
        </p:nvSpPr>
        <p:spPr>
          <a:xfrm>
            <a:off x="8436240" y="6461280"/>
            <a:ext cx="188280" cy="1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1324"/>
              </a:lnSpc>
              <a:spcBef>
                <a:spcPts val="65"/>
              </a:spcBef>
            </a:pPr>
            <a:r>
              <a:rPr b="0" lang="en-US" sz="1200" spc="-52" strike="noStrike">
                <a:solidFill>
                  <a:srgbClr val="888888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bject 2"/>
          <p:cNvSpPr/>
          <p:nvPr/>
        </p:nvSpPr>
        <p:spPr>
          <a:xfrm>
            <a:off x="380880" y="914400"/>
            <a:ext cx="7848360" cy="45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92160">
              <a:lnSpc>
                <a:spcPct val="101000"/>
              </a:lnSpc>
              <a:spcBef>
                <a:spcPts val="30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157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4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qu</a:t>
            </a:r>
            <a:r>
              <a:rPr b="0" lang="en-US" sz="2800" spc="-4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35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me</a:t>
            </a:r>
            <a:r>
              <a:rPr b="0" lang="en-US" sz="2800" spc="-26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s</a:t>
            </a:r>
            <a:r>
              <a:rPr b="0" lang="en-US" sz="2800" spc="-9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</a:t>
            </a:r>
            <a:r>
              <a:rPr b="0" lang="en-US" sz="2800" spc="-2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u</a:t>
            </a:r>
            <a:r>
              <a:rPr b="0" lang="en-US" sz="2800" spc="-35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en-US" sz="4200" spc="-35" strike="noStrike" baseline="1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4200" spc="-1" strike="noStrike" baseline="1000">
                <a:solidFill>
                  <a:srgbClr val="000000"/>
                </a:solidFill>
                <a:latin typeface="Calibri"/>
              </a:rPr>
              <a:t>echni</a:t>
            </a:r>
            <a:r>
              <a:rPr b="0" lang="en-US" sz="4200" spc="-9" strike="noStrike" baseline="1000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4200" spc="-1" strike="noStrike" baseline="1000">
                <a:solidFill>
                  <a:srgbClr val="000000"/>
                </a:solidFill>
                <a:latin typeface="Calibri"/>
              </a:rPr>
              <a:t>ues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549360">
              <a:lnSpc>
                <a:spcPct val="101000"/>
              </a:lnSpc>
              <a:spcBef>
                <a:spcPts val="357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253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400" spc="-2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</a:t>
            </a:r>
            <a:r>
              <a:rPr b="0" lang="en-US" sz="2400" spc="26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400" spc="-4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400" spc="-2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9360">
              <a:lnSpc>
                <a:spcPct val="101000"/>
              </a:lnSpc>
              <a:spcBef>
                <a:spcPts val="527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253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29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400" spc="-26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400" spc="26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</a:t>
            </a:r>
            <a:r>
              <a:rPr b="0" lang="en-US" sz="2400" spc="-9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9360">
              <a:lnSpc>
                <a:spcPct val="101000"/>
              </a:lnSpc>
              <a:spcBef>
                <a:spcPts val="527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253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e</a:t>
            </a:r>
            <a:r>
              <a:rPr b="0" lang="en-US" sz="2400" spc="-2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i</a:t>
            </a:r>
            <a:r>
              <a:rPr b="0" lang="en-US" sz="2400" spc="-4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nai</a:t>
            </a:r>
            <a:r>
              <a:rPr b="0" lang="en-US" sz="2400" spc="-35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9360">
              <a:lnSpc>
                <a:spcPct val="101000"/>
              </a:lnSpc>
              <a:spcBef>
                <a:spcPts val="527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253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400" spc="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</a:t>
            </a:r>
            <a:r>
              <a:rPr b="0" lang="en-US" sz="2400" spc="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io</a:t>
            </a:r>
            <a:r>
              <a:rPr b="0" lang="en-US" sz="24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86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</a:t>
            </a:r>
            <a:r>
              <a:rPr b="0" lang="en-US" sz="2400" spc="-4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35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g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9360">
              <a:lnSpc>
                <a:spcPct val="101000"/>
              </a:lnSpc>
              <a:spcBef>
                <a:spcPts val="527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253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35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cus </a:t>
            </a:r>
            <a:r>
              <a:rPr b="0" lang="en-US" sz="2400" spc="-4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US" sz="2400" spc="-35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</a:t>
            </a:r>
            <a:r>
              <a:rPr b="0" lang="en-US" sz="2400" spc="-2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9360">
              <a:lnSpc>
                <a:spcPct val="101000"/>
              </a:lnSpc>
              <a:spcBef>
                <a:spcPts val="53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253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400" spc="-4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400" spc="-29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3"/>
          <p:cNvSpPr/>
          <p:nvPr/>
        </p:nvSpPr>
        <p:spPr>
          <a:xfrm>
            <a:off x="457200" y="152280"/>
            <a:ext cx="83055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es to requirements capt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object 18"/>
          <p:cNvSpPr/>
          <p:nvPr/>
        </p:nvSpPr>
        <p:spPr>
          <a:xfrm>
            <a:off x="380880" y="228600"/>
            <a:ext cx="7924320" cy="6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4175"/>
              </a:lnSpc>
              <a:spcBef>
                <a:spcPts val="207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</a:t>
            </a:r>
            <a:r>
              <a:rPr b="0" lang="en-US" sz="3200" spc="-60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aches </a:t>
            </a:r>
            <a:r>
              <a:rPr b="0" lang="en-US" sz="3200" spc="-4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3200" spc="-66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</a:t>
            </a:r>
            <a:r>
              <a:rPr b="0" lang="en-US" sz="3200" spc="-55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e</a:t>
            </a:r>
            <a:r>
              <a:rPr b="0" lang="en-US" sz="3200" spc="-35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 </a:t>
            </a:r>
            <a:r>
              <a:rPr b="0" lang="en-US" sz="3200" spc="-35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tu</a:t>
            </a:r>
            <a:r>
              <a:rPr b="0" lang="en-US" sz="3200" spc="-55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ts val="4175"/>
              </a:lnSpc>
              <a:spcBef>
                <a:spcPts val="207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bject 17"/>
          <p:cNvSpPr/>
          <p:nvPr/>
        </p:nvSpPr>
        <p:spPr>
          <a:xfrm>
            <a:off x="6770160" y="623520"/>
            <a:ext cx="1681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4175"/>
              </a:lnSpc>
              <a:spcBef>
                <a:spcPts val="207"/>
              </a:spcBef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object 16"/>
          <p:cNvSpPr/>
          <p:nvPr/>
        </p:nvSpPr>
        <p:spPr>
          <a:xfrm>
            <a:off x="536040" y="1684800"/>
            <a:ext cx="228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3376"/>
              </a:lnSpc>
              <a:spcBef>
                <a:spcPts val="167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bject 15"/>
          <p:cNvSpPr/>
          <p:nvPr/>
        </p:nvSpPr>
        <p:spPr>
          <a:xfrm>
            <a:off x="879120" y="1709280"/>
            <a:ext cx="29304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3359"/>
              </a:lnSpc>
              <a:spcBef>
                <a:spcPts val="167"/>
              </a:spcBef>
            </a:pPr>
            <a:r>
              <a:rPr b="0" lang="en-US" sz="3600" spc="-52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ul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bject 14"/>
          <p:cNvSpPr/>
          <p:nvPr/>
        </p:nvSpPr>
        <p:spPr>
          <a:xfrm>
            <a:off x="993600" y="2272680"/>
            <a:ext cx="255240" cy="19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951"/>
              </a:lnSpc>
              <a:spcBef>
                <a:spcPts val="147"/>
              </a:spcBef>
            </a:pPr>
            <a:r>
              <a:rPr b="0" lang="en-US" sz="4200" spc="-1" strike="noStrike" baseline="2000">
                <a:solidFill>
                  <a:srgbClr val="000000"/>
                </a:solidFill>
                <a:latin typeface="Calibri"/>
              </a:rPr>
              <a:t>•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1000"/>
              </a:lnSpc>
              <a:spcBef>
                <a:spcPts val="465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1000"/>
              </a:lnSpc>
              <a:spcBef>
                <a:spcPts val="615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1000"/>
              </a:lnSpc>
              <a:spcBef>
                <a:spcPts val="615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bject 13"/>
          <p:cNvSpPr/>
          <p:nvPr/>
        </p:nvSpPr>
        <p:spPr>
          <a:xfrm>
            <a:off x="1279800" y="2272680"/>
            <a:ext cx="386604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951"/>
              </a:lnSpc>
              <a:spcBef>
                <a:spcPts val="147"/>
              </a:spcBef>
            </a:pPr>
            <a:r>
              <a:rPr b="0" lang="en-US" sz="4200" spc="-1" strike="noStrike" baseline="2000">
                <a:solidFill>
                  <a:srgbClr val="000000"/>
                </a:solidFill>
                <a:latin typeface="Calibri"/>
              </a:rPr>
              <a:t>La</a:t>
            </a:r>
            <a:r>
              <a:rPr b="0" lang="en-US" sz="4200" spc="-35" strike="noStrike" baseline="2000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4200" spc="-21" strike="noStrike" baseline="2000">
                <a:solidFill>
                  <a:srgbClr val="000000"/>
                </a:solidFill>
                <a:latin typeface="Calibri"/>
              </a:rPr>
              <a:t>g</a:t>
            </a:r>
            <a:r>
              <a:rPr b="0" lang="en-US" sz="4200" spc="-1" strike="noStrike" baseline="2000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4200" spc="-49" strike="noStrike" baseline="2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200" spc="-15" strike="noStrike" baseline="2000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4200" spc="-1" strike="noStrike" baseline="2000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4200" spc="-46" strike="noStrike" baseline="2000">
                <a:solidFill>
                  <a:srgbClr val="000000"/>
                </a:solidFill>
                <a:latin typeface="Calibri"/>
              </a:rPr>
              <a:t>g</a:t>
            </a:r>
            <a:r>
              <a:rPr b="0" lang="en-US" sz="4200" spc="-1" strike="noStrike" baseline="2000">
                <a:solidFill>
                  <a:srgbClr val="000000"/>
                </a:solidFill>
                <a:latin typeface="Calibri"/>
              </a:rPr>
              <a:t>al</a:t>
            </a:r>
            <a:r>
              <a:rPr b="0" lang="en-US" sz="4200" spc="-4" strike="noStrike" baseline="2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4200" spc="-35" strike="noStrike" baseline="2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4200" spc="-1" strike="noStrike" baseline="2000">
                <a:solidFill>
                  <a:srgbClr val="000000"/>
                </a:solidFill>
                <a:latin typeface="Calibri"/>
              </a:rPr>
              <a:t>tic</a:t>
            </a:r>
            <a:r>
              <a:rPr b="0" lang="en-US" sz="4200" spc="-66" strike="noStrike" baseline="2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200" spc="-1" strike="noStrike" baseline="2000">
                <a:solidFill>
                  <a:srgbClr val="000000"/>
                </a:solidFill>
                <a:latin typeface="Calibri"/>
              </a:rPr>
              <a:t>docume</a:t>
            </a:r>
            <a:r>
              <a:rPr b="0" lang="en-US" sz="4200" spc="-29" strike="noStrike" baseline="2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4200" spc="-1" strike="noStrike" baseline="2000">
                <a:solidFill>
                  <a:srgbClr val="000000"/>
                </a:solidFill>
                <a:latin typeface="Calibri"/>
              </a:rPr>
              <a:t>t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1000"/>
              </a:lnSpc>
              <a:spcBef>
                <a:spcPts val="465"/>
              </a:spcBef>
            </a:pPr>
            <a:r>
              <a:rPr b="0" lang="en-US" sz="2800" spc="-46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46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en-US" sz="2800" spc="-5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29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s</a:t>
            </a:r>
            <a:r>
              <a:rPr b="0" lang="en-US" sz="2800" spc="-9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29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26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rp</a:t>
            </a:r>
            <a:r>
              <a:rPr b="0" lang="en-US" sz="2800" spc="-46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800" spc="-9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bject 12"/>
          <p:cNvSpPr/>
          <p:nvPr/>
        </p:nvSpPr>
        <p:spPr>
          <a:xfrm>
            <a:off x="1279800" y="3296880"/>
            <a:ext cx="203436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951"/>
              </a:lnSpc>
              <a:spcBef>
                <a:spcPts val="147"/>
              </a:spcBef>
            </a:pPr>
            <a:r>
              <a:rPr b="0" lang="en-US" sz="4200" spc="-1" strike="noStrike" baseline="2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4200" spc="-9" strike="noStrike" baseline="2000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4200" spc="-1" strike="noStrike" baseline="2000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4200" spc="-26" strike="noStrike" baseline="2000">
                <a:solidFill>
                  <a:srgbClr val="000000"/>
                </a:solidFill>
                <a:latin typeface="Calibri"/>
              </a:rPr>
              <a:t>g</a:t>
            </a:r>
            <a:r>
              <a:rPr b="0" lang="en-US" sz="4200" spc="-1" strike="noStrike" baseline="2000">
                <a:solidFill>
                  <a:srgbClr val="000000"/>
                </a:solidFill>
                <a:latin typeface="Calibri"/>
              </a:rPr>
              <a:t>es</a:t>
            </a:r>
            <a:r>
              <a:rPr b="0" lang="en-US" sz="4200" spc="-21" strike="noStrike" baseline="2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200" spc="-1" strike="noStrike" baseline="2000">
                <a:solidFill>
                  <a:srgbClr val="000000"/>
                </a:solidFill>
                <a:latin typeface="Calibri"/>
              </a:rPr>
              <a:t>ha</a:t>
            </a:r>
            <a:r>
              <a:rPr b="0" lang="en-US" sz="4200" spc="-41" strike="noStrike" baseline="2000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4200" spc="-1" strike="noStrike" baseline="2000">
                <a:solidFill>
                  <a:srgbClr val="000000"/>
                </a:solidFill>
                <a:latin typeface="Calibri"/>
              </a:rPr>
              <a:t>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bject 11"/>
          <p:cNvSpPr/>
          <p:nvPr/>
        </p:nvSpPr>
        <p:spPr>
          <a:xfrm>
            <a:off x="3318480" y="3296880"/>
            <a:ext cx="161316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951"/>
              </a:lnSpc>
              <a:spcBef>
                <a:spcPts val="147"/>
              </a:spcBef>
            </a:pPr>
            <a:r>
              <a:rPr b="0" lang="en-US" sz="4200" spc="-26" strike="noStrike" baseline="2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4200" spc="-1" strike="noStrike" baseline="2000">
                <a:solidFill>
                  <a:srgbClr val="000000"/>
                </a:solidFill>
                <a:latin typeface="Calibri"/>
              </a:rPr>
              <a:t>o </a:t>
            </a:r>
            <a:r>
              <a:rPr b="0" lang="en-US" sz="4200" spc="-9" strike="noStrike" baseline="2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4200" spc="-1" strike="noStrike" baseline="2000">
                <a:solidFill>
                  <a:srgbClr val="000000"/>
                </a:solidFill>
                <a:latin typeface="Calibri"/>
              </a:rPr>
              <a:t>ana</a:t>
            </a:r>
            <a:r>
              <a:rPr b="0" lang="en-US" sz="4200" spc="-21" strike="noStrike" baseline="2000">
                <a:solidFill>
                  <a:srgbClr val="000000"/>
                </a:solidFill>
                <a:latin typeface="Calibri"/>
              </a:rPr>
              <a:t>g</a:t>
            </a:r>
            <a:r>
              <a:rPr b="0" lang="en-US" sz="4200" spc="-1" strike="noStrike" baseline="2000">
                <a:solidFill>
                  <a:srgbClr val="000000"/>
                </a:solidFill>
                <a:latin typeface="Calibri"/>
              </a:rPr>
              <a:t>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bject 10"/>
          <p:cNvSpPr/>
          <p:nvPr/>
        </p:nvSpPr>
        <p:spPr>
          <a:xfrm>
            <a:off x="1279800" y="3809160"/>
            <a:ext cx="709920" cy="3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951"/>
              </a:lnSpc>
              <a:spcBef>
                <a:spcPts val="147"/>
              </a:spcBef>
            </a:pPr>
            <a:r>
              <a:rPr b="0" lang="en-US" sz="4200" spc="-46" strike="noStrike" baseline="2000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4200" spc="-1" strike="noStrike" baseline="2000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200" spc="-46" strike="noStrike" baseline="2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4200" spc="-1" strike="noStrike" baseline="2000">
                <a:solidFill>
                  <a:srgbClr val="000000"/>
                </a:solidFill>
                <a:latin typeface="Calibri"/>
              </a:rPr>
              <a:t>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bject 9"/>
          <p:cNvSpPr/>
          <p:nvPr/>
        </p:nvSpPr>
        <p:spPr>
          <a:xfrm>
            <a:off x="1991880" y="3809160"/>
            <a:ext cx="380880" cy="3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951"/>
              </a:lnSpc>
              <a:spcBef>
                <a:spcPts val="147"/>
              </a:spcBef>
            </a:pPr>
            <a:r>
              <a:rPr b="0" lang="en-US" sz="4200" spc="-29" strike="noStrike" baseline="2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4200" spc="-1" strike="noStrike" baseline="2000">
                <a:solidFill>
                  <a:srgbClr val="000000"/>
                </a:solidFill>
                <a:latin typeface="Calibri"/>
              </a:rPr>
              <a:t>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bject 8"/>
          <p:cNvSpPr/>
          <p:nvPr/>
        </p:nvSpPr>
        <p:spPr>
          <a:xfrm>
            <a:off x="2374560" y="3809160"/>
            <a:ext cx="721080" cy="3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951"/>
              </a:lnSpc>
              <a:spcBef>
                <a:spcPts val="147"/>
              </a:spcBef>
            </a:pPr>
            <a:r>
              <a:rPr b="0" lang="en-US" sz="4200" spc="-1" strike="noStrike" baseline="2000">
                <a:solidFill>
                  <a:srgbClr val="000000"/>
                </a:solidFill>
                <a:latin typeface="Calibri"/>
              </a:rPr>
              <a:t>mis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bject 7"/>
          <p:cNvSpPr/>
          <p:nvPr/>
        </p:nvSpPr>
        <p:spPr>
          <a:xfrm>
            <a:off x="3100320" y="3809160"/>
            <a:ext cx="215280" cy="3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951"/>
              </a:lnSpc>
              <a:spcBef>
                <a:spcPts val="147"/>
              </a:spcBef>
            </a:pPr>
            <a:r>
              <a:rPr b="0" lang="en-US" sz="4200" spc="-1" strike="noStrike" baseline="2000">
                <a:solidFill>
                  <a:srgbClr val="000000"/>
                </a:solidFill>
                <a:latin typeface="Calibri"/>
              </a:rPr>
              <a:t>/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bject 6"/>
          <p:cNvSpPr/>
          <p:nvPr/>
        </p:nvSpPr>
        <p:spPr>
          <a:xfrm>
            <a:off x="3319560" y="3809160"/>
            <a:ext cx="749520" cy="3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951"/>
              </a:lnSpc>
              <a:spcBef>
                <a:spcPts val="147"/>
              </a:spcBef>
            </a:pPr>
            <a:r>
              <a:rPr b="0" lang="en-US" sz="4200" spc="-1" strike="noStrike" baseline="2000">
                <a:solidFill>
                  <a:srgbClr val="000000"/>
                </a:solidFill>
                <a:latin typeface="Calibri"/>
              </a:rPr>
              <a:t>omi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bject 5"/>
          <p:cNvSpPr/>
          <p:nvPr/>
        </p:nvSpPr>
        <p:spPr>
          <a:xfrm>
            <a:off x="4071240" y="3809160"/>
            <a:ext cx="2023200" cy="3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951"/>
              </a:lnSpc>
              <a:spcBef>
                <a:spcPts val="147"/>
              </a:spcBef>
            </a:pPr>
            <a:r>
              <a:rPr b="0" lang="en-US" sz="4200" spc="-41" strike="noStrike" baseline="2000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4200" spc="-1" strike="noStrike" baseline="2000">
                <a:solidFill>
                  <a:srgbClr val="000000"/>
                </a:solidFill>
                <a:latin typeface="Calibri"/>
              </a:rPr>
              <a:t>equ</a:t>
            </a:r>
            <a:r>
              <a:rPr b="0" lang="en-US" sz="4200" spc="-15" strike="noStrike" baseline="2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4200" spc="-41" strike="noStrike" baseline="2000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4200" spc="-1" strike="noStrike" baseline="2000">
                <a:solidFill>
                  <a:srgbClr val="000000"/>
                </a:solidFill>
                <a:latin typeface="Calibri"/>
              </a:rPr>
              <a:t>eme</a:t>
            </a:r>
            <a:r>
              <a:rPr b="0" lang="en-US" sz="4200" spc="-29" strike="noStrike" baseline="2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4200" spc="-1" strike="noStrike" baseline="2000">
                <a:solidFill>
                  <a:srgbClr val="000000"/>
                </a:solidFill>
                <a:latin typeface="Calibri"/>
              </a:rPr>
              <a:t>t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bject 2"/>
          <p:cNvSpPr/>
          <p:nvPr/>
        </p:nvSpPr>
        <p:spPr>
          <a:xfrm>
            <a:off x="8430120" y="6461280"/>
            <a:ext cx="200160" cy="1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1324"/>
              </a:lnSpc>
              <a:spcBef>
                <a:spcPts val="65"/>
              </a:spcBef>
            </a:pPr>
            <a:r>
              <a:rPr b="0" lang="en-US" sz="1200" spc="-1" strike="noStrike">
                <a:solidFill>
                  <a:srgbClr val="888888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object 19"/>
          <p:cNvSpPr/>
          <p:nvPr/>
        </p:nvSpPr>
        <p:spPr>
          <a:xfrm>
            <a:off x="383400" y="1608480"/>
            <a:ext cx="228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3376"/>
              </a:lnSpc>
              <a:spcBef>
                <a:spcPts val="167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bject 18"/>
          <p:cNvSpPr/>
          <p:nvPr/>
        </p:nvSpPr>
        <p:spPr>
          <a:xfrm>
            <a:off x="726480" y="1632960"/>
            <a:ext cx="3123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3359"/>
              </a:lnSpc>
              <a:spcBef>
                <a:spcPts val="167"/>
              </a:spcBef>
            </a:pPr>
            <a:r>
              <a:rPr b="1" lang="en-US" sz="4800" spc="-1" strike="noStrike" baseline="3000">
                <a:solidFill>
                  <a:srgbClr val="000000"/>
                </a:solidFill>
                <a:latin typeface="Calibri"/>
              </a:rPr>
              <a:t>Modern</a:t>
            </a:r>
            <a:r>
              <a:rPr b="1" lang="en-US" sz="4800" spc="-9" strike="noStrike" baseline="3000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800" spc="-1" strike="noStrike" baseline="3000">
                <a:solidFill>
                  <a:srgbClr val="000000"/>
                </a:solidFill>
                <a:latin typeface="Calibri"/>
              </a:rPr>
              <a:t>app</a:t>
            </a:r>
            <a:r>
              <a:rPr b="1" lang="en-US" sz="4800" spc="-41" strike="noStrike" baseline="3000">
                <a:solidFill>
                  <a:srgbClr val="000000"/>
                </a:solidFill>
                <a:latin typeface="Calibri"/>
              </a:rPr>
              <a:t>r</a:t>
            </a:r>
            <a:r>
              <a:rPr b="1" lang="en-US" sz="4800" spc="-1" strike="noStrike" baseline="3000">
                <a:solidFill>
                  <a:srgbClr val="000000"/>
                </a:solidFill>
                <a:latin typeface="Calibri"/>
              </a:rPr>
              <a:t>oa</a:t>
            </a:r>
            <a:r>
              <a:rPr b="1" lang="en-US" sz="4800" spc="1" strike="noStrike" baseline="3000">
                <a:solidFill>
                  <a:srgbClr val="000000"/>
                </a:solidFill>
                <a:latin typeface="Calibri"/>
              </a:rPr>
              <a:t>c</a:t>
            </a:r>
            <a:r>
              <a:rPr b="1" lang="en-US" sz="4800" spc="-1" strike="noStrike" baseline="3000">
                <a:solidFill>
                  <a:srgbClr val="000000"/>
                </a:solidFill>
                <a:latin typeface="Calibri"/>
              </a:rPr>
              <a:t>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bject 17"/>
          <p:cNvSpPr/>
          <p:nvPr/>
        </p:nvSpPr>
        <p:spPr>
          <a:xfrm>
            <a:off x="840960" y="2174760"/>
            <a:ext cx="27612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959"/>
              </a:lnSpc>
              <a:spcBef>
                <a:spcPts val="147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bject 16"/>
          <p:cNvSpPr/>
          <p:nvPr/>
        </p:nvSpPr>
        <p:spPr>
          <a:xfrm>
            <a:off x="1127520" y="2196360"/>
            <a:ext cx="262080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951"/>
              </a:lnSpc>
              <a:spcBef>
                <a:spcPts val="147"/>
              </a:spcBef>
            </a:pPr>
            <a:r>
              <a:rPr b="0" lang="en-US" sz="4200" spc="-1" strike="noStrike" baseline="2000">
                <a:solidFill>
                  <a:srgbClr val="000000"/>
                </a:solidFill>
                <a:latin typeface="Calibri"/>
              </a:rPr>
              <a:t>Mo</a:t>
            </a:r>
            <a:r>
              <a:rPr b="0" lang="en-US" sz="4200" spc="-9" strike="noStrike" baseline="2000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4200" spc="-1" strike="noStrike" baseline="2000">
                <a:solidFill>
                  <a:srgbClr val="000000"/>
                </a:solidFill>
                <a:latin typeface="Calibri"/>
              </a:rPr>
              <a:t>el</a:t>
            </a:r>
            <a:r>
              <a:rPr b="0" lang="en-US" sz="4200" spc="18" strike="noStrike" baseline="2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200" spc="-1" strike="noStrike" baseline="2000">
                <a:solidFill>
                  <a:srgbClr val="000000"/>
                </a:solidFill>
                <a:latin typeface="Calibri"/>
              </a:rPr>
              <a:t>us</a:t>
            </a:r>
            <a:r>
              <a:rPr b="0" lang="en-US" sz="4200" spc="-15" strike="noStrike" baseline="2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4200" spc="-1" strike="noStrike" baseline="2000">
                <a:solidFill>
                  <a:srgbClr val="000000"/>
                </a:solidFill>
                <a:latin typeface="Calibri"/>
              </a:rPr>
              <a:t>ng</a:t>
            </a:r>
            <a:r>
              <a:rPr b="0" lang="en-US" sz="4200" spc="24" strike="noStrike" baseline="2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200" spc="-1" strike="noStrike" baseline="2000">
                <a:solidFill>
                  <a:srgbClr val="000000"/>
                </a:solidFill>
                <a:latin typeface="Calibri"/>
              </a:rPr>
              <a:t>UM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bject 15"/>
          <p:cNvSpPr/>
          <p:nvPr/>
        </p:nvSpPr>
        <p:spPr>
          <a:xfrm>
            <a:off x="1298160" y="2668680"/>
            <a:ext cx="177480" cy="3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554"/>
              </a:lnSpc>
              <a:spcBef>
                <a:spcPts val="128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bject 14"/>
          <p:cNvSpPr/>
          <p:nvPr/>
        </p:nvSpPr>
        <p:spPr>
          <a:xfrm>
            <a:off x="1526760" y="2687040"/>
            <a:ext cx="239616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546"/>
              </a:lnSpc>
              <a:spcBef>
                <a:spcPts val="128"/>
              </a:spcBef>
            </a:pPr>
            <a:r>
              <a:rPr b="0" lang="en-US" sz="3600" spc="-1" strike="noStrike" baseline="3000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3600" spc="-4" strike="noStrike" baseline="3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3600" spc="-1" strike="noStrike" baseline="3000">
                <a:solidFill>
                  <a:srgbClr val="000000"/>
                </a:solidFill>
                <a:latin typeface="Calibri"/>
              </a:rPr>
              <a:t>e </a:t>
            </a:r>
            <a:r>
              <a:rPr b="0" lang="en-US" sz="3600" spc="-15" strike="noStrike" baseline="3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600" spc="-1" strike="noStrike" baseline="3000">
                <a:solidFill>
                  <a:srgbClr val="000000"/>
                </a:solidFill>
                <a:latin typeface="Calibri"/>
              </a:rPr>
              <a:t>ases a</a:t>
            </a:r>
            <a:r>
              <a:rPr b="0" lang="en-US" sz="3600" spc="-29" strike="noStrike" baseline="3000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3600" spc="-1" strike="noStrike" baseline="3000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3600" spc="-9" strike="noStrike" baseline="3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 baseline="3000">
                <a:solidFill>
                  <a:srgbClr val="000000"/>
                </a:solidFill>
                <a:latin typeface="Calibri"/>
              </a:rPr>
              <a:t>u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1200">
              <a:lnSpc>
                <a:spcPct val="101000"/>
              </a:lnSpc>
              <a:spcBef>
                <a:spcPts val="312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000" spc="128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2000" spc="-4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000" spc="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e Diag</a:t>
            </a:r>
            <a:r>
              <a:rPr b="0" lang="en-US" sz="2000" spc="-4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bject 13"/>
          <p:cNvSpPr/>
          <p:nvPr/>
        </p:nvSpPr>
        <p:spPr>
          <a:xfrm>
            <a:off x="3922200" y="2687040"/>
            <a:ext cx="4441320" cy="3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546"/>
              </a:lnSpc>
              <a:spcBef>
                <a:spcPts val="128"/>
              </a:spcBef>
            </a:pPr>
            <a:r>
              <a:rPr b="0" lang="en-US" sz="3600" spc="-26" strike="noStrike" baseline="3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600" spc="-1" strike="noStrike" baseline="3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600" spc="-21" strike="noStrike" baseline="3000">
                <a:solidFill>
                  <a:srgbClr val="000000"/>
                </a:solidFill>
                <a:latin typeface="Calibri"/>
              </a:rPr>
              <a:t> c</a:t>
            </a:r>
            <a:r>
              <a:rPr b="0" lang="en-US" sz="3600" spc="-1" strike="noStrike" baseline="3000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600" spc="-9" strike="noStrike" baseline="3000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3600" spc="-1" strike="noStrike" baseline="3000">
                <a:solidFill>
                  <a:srgbClr val="000000"/>
                </a:solidFill>
                <a:latin typeface="Calibri"/>
              </a:rPr>
              <a:t>tu</a:t>
            </a:r>
            <a:r>
              <a:rPr b="0" lang="en-US" sz="3600" spc="-35" strike="noStrike" baseline="3000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3600" spc="-1" strike="noStrike" baseline="3000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3600" spc="7" strike="noStrike" baseline="3000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 baseline="3000">
                <a:solidFill>
                  <a:srgbClr val="000000"/>
                </a:solidFill>
                <a:latin typeface="Calibri"/>
              </a:rPr>
              <a:t>f</a:t>
            </a:r>
            <a:r>
              <a:rPr b="1" lang="en-US" sz="3600" spc="-4" strike="noStrike" baseline="3000">
                <a:solidFill>
                  <a:srgbClr val="000000"/>
                </a:solidFill>
                <a:latin typeface="Calibri"/>
              </a:rPr>
              <a:t>u</a:t>
            </a:r>
            <a:r>
              <a:rPr b="1" lang="en-US" sz="3600" spc="-1" strike="noStrike" baseline="3000">
                <a:solidFill>
                  <a:srgbClr val="000000"/>
                </a:solidFill>
                <a:latin typeface="Calibri"/>
              </a:rPr>
              <a:t>nct</a:t>
            </a:r>
            <a:r>
              <a:rPr b="1" lang="en-US" sz="3600" spc="-4" strike="noStrike" baseline="3000">
                <a:solidFill>
                  <a:srgbClr val="000000"/>
                </a:solidFill>
                <a:latin typeface="Calibri"/>
              </a:rPr>
              <a:t>i</a:t>
            </a:r>
            <a:r>
              <a:rPr b="1" lang="en-US" sz="3600" spc="-1" strike="noStrike" baseline="3000">
                <a:solidFill>
                  <a:srgbClr val="000000"/>
                </a:solidFill>
                <a:latin typeface="Calibri"/>
              </a:rPr>
              <a:t>onal</a:t>
            </a:r>
            <a:r>
              <a:rPr b="1" lang="en-US" sz="3600" spc="12" strike="noStrike" baseline="3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35" strike="noStrike" baseline="3000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3600" spc="-1" strike="noStrike" baseline="3000">
                <a:solidFill>
                  <a:srgbClr val="000000"/>
                </a:solidFill>
                <a:latin typeface="Calibri"/>
              </a:rPr>
              <a:t>equi</a:t>
            </a:r>
            <a:r>
              <a:rPr b="0" lang="en-US" sz="3600" spc="-29" strike="noStrike" baseline="3000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3600" spc="-1" strike="noStrike" baseline="3000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3600" spc="1" strike="noStrike" baseline="3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3600" spc="-1" strike="noStrike" baseline="3000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3600" spc="-21" strike="noStrike" baseline="3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600" spc="-1" strike="noStrike" baseline="3000">
                <a:solidFill>
                  <a:srgbClr val="000000"/>
                </a:solidFill>
                <a:latin typeface="Calibri"/>
              </a:rPr>
              <a:t>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bject 12"/>
          <p:cNvSpPr/>
          <p:nvPr/>
        </p:nvSpPr>
        <p:spPr>
          <a:xfrm>
            <a:off x="1755360" y="3454560"/>
            <a:ext cx="31950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265"/>
              </a:lnSpc>
              <a:spcBef>
                <a:spcPts val="113"/>
              </a:spcBef>
            </a:pPr>
            <a:r>
              <a:rPr b="0" lang="en-US" sz="3000" spc="-1" strike="noStrike" baseline="2000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3000" spc="128" strike="noStrike" baseline="2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 baseline="2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3000" spc="-9" strike="noStrike" baseline="2000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3000" spc="-1" strike="noStrike" baseline="2000">
                <a:solidFill>
                  <a:srgbClr val="000000"/>
                </a:solidFill>
                <a:latin typeface="Calibri"/>
              </a:rPr>
              <a:t>t of</a:t>
            </a:r>
            <a:r>
              <a:rPr b="0" lang="en-US" sz="3000" spc="-9" strike="noStrike" baseline="2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 baseline="2000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3000" spc="-4" strike="noStrike" baseline="2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3000" spc="-1" strike="noStrike" baseline="2000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3000" spc="7" strike="noStrike" baseline="2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 baseline="2000">
                <a:solidFill>
                  <a:srgbClr val="000000"/>
                </a:solidFill>
                <a:latin typeface="Calibri"/>
              </a:rPr>
              <a:t>Ca</a:t>
            </a:r>
            <a:r>
              <a:rPr b="0" lang="en-US" sz="3000" spc="-4" strike="noStrike" baseline="2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3000" spc="-1" strike="noStrike" baseline="2000">
                <a:solidFill>
                  <a:srgbClr val="000000"/>
                </a:solidFill>
                <a:latin typeface="Calibri"/>
              </a:rPr>
              <a:t>e desc</a:t>
            </a:r>
            <a:r>
              <a:rPr b="0" lang="en-US" sz="3000" spc="-4" strike="noStrike" baseline="2000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3000" spc="-1" strike="noStrike" baseline="2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000" spc="-15" strike="noStrike" baseline="2000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3000" spc="-1" strike="noStrike" baseline="2000">
                <a:solidFill>
                  <a:srgbClr val="000000"/>
                </a:solidFill>
                <a:latin typeface="Calibri"/>
              </a:rPr>
              <a:t>ti</a:t>
            </a:r>
            <a:r>
              <a:rPr b="0" lang="en-US" sz="3000" spc="-4" strike="noStrike" baseline="2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000" spc="-1" strike="noStrike" baseline="2000">
                <a:solidFill>
                  <a:srgbClr val="000000"/>
                </a:solidFill>
                <a:latin typeface="Calibri"/>
              </a:rPr>
              <a:t>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bject 2"/>
          <p:cNvSpPr/>
          <p:nvPr/>
        </p:nvSpPr>
        <p:spPr>
          <a:xfrm>
            <a:off x="8430120" y="6461280"/>
            <a:ext cx="200160" cy="1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1324"/>
              </a:lnSpc>
              <a:spcBef>
                <a:spcPts val="65"/>
              </a:spcBef>
            </a:pPr>
            <a:r>
              <a:rPr b="0" lang="en-US" sz="1200" spc="-1" strike="noStrike">
                <a:solidFill>
                  <a:srgbClr val="888888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bject 18"/>
          <p:cNvSpPr/>
          <p:nvPr/>
        </p:nvSpPr>
        <p:spPr>
          <a:xfrm>
            <a:off x="304920" y="533520"/>
            <a:ext cx="7924320" cy="6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4175"/>
              </a:lnSpc>
              <a:spcBef>
                <a:spcPts val="207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</a:t>
            </a:r>
            <a:r>
              <a:rPr b="0" lang="en-US" sz="3200" spc="-60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aches </a:t>
            </a:r>
            <a:r>
              <a:rPr b="0" lang="en-US" sz="3200" spc="-4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3200" spc="-66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</a:t>
            </a:r>
            <a:r>
              <a:rPr b="0" lang="en-US" sz="3200" spc="-55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e</a:t>
            </a:r>
            <a:r>
              <a:rPr b="0" lang="en-US" sz="3200" spc="-35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 </a:t>
            </a:r>
            <a:r>
              <a:rPr b="0" lang="en-US" sz="3200" spc="-35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tu</a:t>
            </a:r>
            <a:r>
              <a:rPr b="0" lang="en-US" sz="3200" spc="-55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ts val="4175"/>
              </a:lnSpc>
              <a:spcBef>
                <a:spcPts val="207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 rot="19140000">
            <a:off x="819000" y="1726920"/>
            <a:ext cx="5650560" cy="12070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 cap="all">
                <a:solidFill>
                  <a:srgbClr val="000000"/>
                </a:solidFill>
                <a:latin typeface="Arial"/>
              </a:rPr>
              <a:t>Use ca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 rot="19140000">
            <a:off x="1215720" y="2468160"/>
            <a:ext cx="6510240" cy="3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1400" spc="398" strike="noStrike" cap="all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lide Number Placeholder 3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EFE4BE84-7315-4180-872F-F67A49E845A5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What is a Use-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224560" cy="45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use-case captures some user visible fun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ay be a large or small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use-case achieves a discrete goal for the us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at a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est an elev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05-Use-Cas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lide Number Placeholder 3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62867FED-E707-4E9E-8B2A-F25AFBD129A9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38152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User Goals versus User Inte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686440" cy="45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ider the following when formatting a docu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6310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a sty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310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a sty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310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a style from one document to the 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su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6310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at a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310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sure consistent formatting of two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first are user intera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ngs the user does to the system to achieve the g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last is a user goa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hing the user wants to achie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05-Use-Cas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Slide Number Placeholder 3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8D8B024D-3657-4B5C-B8EA-418EC3258D9E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320" y="22860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Goals and Inte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6320" y="1066680"/>
            <a:ext cx="8534160" cy="45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 place for both goals and intera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what the system shall d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310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ture the user go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how the user will achieve the goa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310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ture user inter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310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ces of user inter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, start with the user goals and then refine the user goals into several (many) user intera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05-Use-Cas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lide Number Placeholder 2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D4A02F7F-0B0D-4763-846A-23F6F56626A7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Use-Case Diagrams (PO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3"/>
          <p:cNvGrpSpPr/>
          <p:nvPr/>
        </p:nvGrpSpPr>
        <p:grpSpPr>
          <a:xfrm>
            <a:off x="604800" y="1066680"/>
            <a:ext cx="7612200" cy="3790800"/>
            <a:chOff x="604800" y="1066680"/>
            <a:chExt cx="7612200" cy="3790800"/>
          </a:xfrm>
        </p:grpSpPr>
        <p:sp>
          <p:nvSpPr>
            <p:cNvPr id="293" name="Freeform 4"/>
            <p:cNvSpPr/>
            <p:nvPr/>
          </p:nvSpPr>
          <p:spPr>
            <a:xfrm>
              <a:off x="7731000" y="2658960"/>
              <a:ext cx="212400" cy="26640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w="134" h="168">
                  <a:moveTo>
                    <a:pt x="0" y="84"/>
                  </a:moveTo>
                  <a:lnTo>
                    <a:pt x="2" y="62"/>
                  </a:lnTo>
                  <a:lnTo>
                    <a:pt x="8" y="42"/>
                  </a:lnTo>
                  <a:lnTo>
                    <a:pt x="20" y="26"/>
                  </a:lnTo>
                  <a:lnTo>
                    <a:pt x="33" y="12"/>
                  </a:lnTo>
                  <a:lnTo>
                    <a:pt x="50" y="4"/>
                  </a:lnTo>
                  <a:lnTo>
                    <a:pt x="67" y="0"/>
                  </a:lnTo>
                  <a:lnTo>
                    <a:pt x="84" y="4"/>
                  </a:lnTo>
                  <a:lnTo>
                    <a:pt x="100" y="12"/>
                  </a:lnTo>
                  <a:lnTo>
                    <a:pt x="114" y="26"/>
                  </a:lnTo>
                  <a:lnTo>
                    <a:pt x="126" y="42"/>
                  </a:lnTo>
                  <a:lnTo>
                    <a:pt x="132" y="62"/>
                  </a:lnTo>
                  <a:lnTo>
                    <a:pt x="134" y="84"/>
                  </a:lnTo>
                  <a:lnTo>
                    <a:pt x="132" y="106"/>
                  </a:lnTo>
                  <a:lnTo>
                    <a:pt x="126" y="126"/>
                  </a:lnTo>
                  <a:lnTo>
                    <a:pt x="114" y="145"/>
                  </a:lnTo>
                  <a:lnTo>
                    <a:pt x="100" y="158"/>
                  </a:lnTo>
                  <a:lnTo>
                    <a:pt x="84" y="167"/>
                  </a:lnTo>
                  <a:lnTo>
                    <a:pt x="67" y="168"/>
                  </a:lnTo>
                  <a:lnTo>
                    <a:pt x="50" y="167"/>
                  </a:lnTo>
                  <a:lnTo>
                    <a:pt x="33" y="158"/>
                  </a:lnTo>
                  <a:lnTo>
                    <a:pt x="20" y="145"/>
                  </a:lnTo>
                  <a:lnTo>
                    <a:pt x="8" y="126"/>
                  </a:lnTo>
                  <a:lnTo>
                    <a:pt x="2" y="106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ffffff"/>
            </a:solidFill>
            <a:ln w="4763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5"/>
            <p:cNvSpPr/>
            <p:nvPr/>
          </p:nvSpPr>
          <p:spPr>
            <a:xfrm>
              <a:off x="7550280" y="2925720"/>
              <a:ext cx="574200" cy="933120"/>
            </a:xfrm>
            <a:custGeom>
              <a:avLst/>
              <a:gdLst>
                <a:gd name="textAreaLeft" fmla="*/ 0 w 574200"/>
                <a:gd name="textAreaRight" fmla="*/ 574560 w 574200"/>
                <a:gd name="textAreaTop" fmla="*/ 0 h 933120"/>
                <a:gd name="textAreaBottom" fmla="*/ 933480 h 933120"/>
              </a:gdLst>
              <a:ahLst/>
              <a:rect l="textAreaLeft" t="textAreaTop" r="textAreaRight" b="textAreaBottom"/>
              <a:pathLst>
                <a:path w="362" h="588">
                  <a:moveTo>
                    <a:pt x="0" y="84"/>
                  </a:moveTo>
                  <a:lnTo>
                    <a:pt x="362" y="84"/>
                  </a:lnTo>
                  <a:moveTo>
                    <a:pt x="181" y="369"/>
                  </a:moveTo>
                  <a:lnTo>
                    <a:pt x="315" y="588"/>
                  </a:lnTo>
                  <a:moveTo>
                    <a:pt x="181" y="0"/>
                  </a:moveTo>
                  <a:lnTo>
                    <a:pt x="181" y="369"/>
                  </a:lnTo>
                  <a:lnTo>
                    <a:pt x="47" y="588"/>
                  </a:lnTo>
                </a:path>
              </a:pathLst>
            </a:custGeom>
            <a:noFill/>
            <a:ln w="4763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6"/>
            <p:cNvSpPr/>
            <p:nvPr/>
          </p:nvSpPr>
          <p:spPr>
            <a:xfrm>
              <a:off x="7444800" y="3908520"/>
              <a:ext cx="7722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7"/>
            <p:cNvSpPr/>
            <p:nvPr/>
          </p:nvSpPr>
          <p:spPr>
            <a:xfrm>
              <a:off x="1744560" y="2658960"/>
              <a:ext cx="212400" cy="26640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w="134" h="168">
                  <a:moveTo>
                    <a:pt x="0" y="84"/>
                  </a:moveTo>
                  <a:lnTo>
                    <a:pt x="1" y="62"/>
                  </a:lnTo>
                  <a:lnTo>
                    <a:pt x="8" y="42"/>
                  </a:lnTo>
                  <a:lnTo>
                    <a:pt x="20" y="26"/>
                  </a:lnTo>
                  <a:lnTo>
                    <a:pt x="33" y="12"/>
                  </a:lnTo>
                  <a:lnTo>
                    <a:pt x="50" y="4"/>
                  </a:lnTo>
                  <a:lnTo>
                    <a:pt x="67" y="0"/>
                  </a:lnTo>
                  <a:lnTo>
                    <a:pt x="83" y="4"/>
                  </a:lnTo>
                  <a:lnTo>
                    <a:pt x="100" y="12"/>
                  </a:lnTo>
                  <a:lnTo>
                    <a:pt x="114" y="26"/>
                  </a:lnTo>
                  <a:lnTo>
                    <a:pt x="125" y="42"/>
                  </a:lnTo>
                  <a:lnTo>
                    <a:pt x="132" y="62"/>
                  </a:lnTo>
                  <a:lnTo>
                    <a:pt x="134" y="84"/>
                  </a:lnTo>
                  <a:lnTo>
                    <a:pt x="132" y="106"/>
                  </a:lnTo>
                  <a:lnTo>
                    <a:pt x="125" y="126"/>
                  </a:lnTo>
                  <a:lnTo>
                    <a:pt x="114" y="145"/>
                  </a:lnTo>
                  <a:lnTo>
                    <a:pt x="100" y="158"/>
                  </a:lnTo>
                  <a:lnTo>
                    <a:pt x="83" y="167"/>
                  </a:lnTo>
                  <a:lnTo>
                    <a:pt x="67" y="168"/>
                  </a:lnTo>
                  <a:lnTo>
                    <a:pt x="50" y="167"/>
                  </a:lnTo>
                  <a:lnTo>
                    <a:pt x="33" y="158"/>
                  </a:lnTo>
                  <a:lnTo>
                    <a:pt x="20" y="145"/>
                  </a:lnTo>
                  <a:lnTo>
                    <a:pt x="8" y="126"/>
                  </a:lnTo>
                  <a:lnTo>
                    <a:pt x="1" y="106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ffffff"/>
            </a:solidFill>
            <a:ln w="4763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8"/>
            <p:cNvSpPr/>
            <p:nvPr/>
          </p:nvSpPr>
          <p:spPr>
            <a:xfrm>
              <a:off x="1563840" y="2925720"/>
              <a:ext cx="574200" cy="933120"/>
            </a:xfrm>
            <a:custGeom>
              <a:avLst/>
              <a:gdLst>
                <a:gd name="textAreaLeft" fmla="*/ 0 w 574200"/>
                <a:gd name="textAreaRight" fmla="*/ 574560 w 574200"/>
                <a:gd name="textAreaTop" fmla="*/ 0 h 933120"/>
                <a:gd name="textAreaBottom" fmla="*/ 933480 h 933120"/>
              </a:gdLst>
              <a:ahLst/>
              <a:rect l="textAreaLeft" t="textAreaTop" r="textAreaRight" b="textAreaBottom"/>
              <a:pathLst>
                <a:path w="362" h="588">
                  <a:moveTo>
                    <a:pt x="0" y="84"/>
                  </a:moveTo>
                  <a:lnTo>
                    <a:pt x="362" y="84"/>
                  </a:lnTo>
                  <a:moveTo>
                    <a:pt x="181" y="369"/>
                  </a:moveTo>
                  <a:lnTo>
                    <a:pt x="315" y="588"/>
                  </a:lnTo>
                  <a:moveTo>
                    <a:pt x="181" y="0"/>
                  </a:moveTo>
                  <a:lnTo>
                    <a:pt x="181" y="369"/>
                  </a:lnTo>
                  <a:lnTo>
                    <a:pt x="47" y="588"/>
                  </a:lnTo>
                </a:path>
              </a:pathLst>
            </a:custGeom>
            <a:noFill/>
            <a:ln w="4763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9"/>
            <p:cNvSpPr/>
            <p:nvPr/>
          </p:nvSpPr>
          <p:spPr>
            <a:xfrm>
              <a:off x="1538280" y="3908520"/>
              <a:ext cx="6138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shi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0"/>
            <p:cNvSpPr/>
            <p:nvPr/>
          </p:nvSpPr>
          <p:spPr>
            <a:xfrm>
              <a:off x="3827520" y="2060640"/>
              <a:ext cx="1794960" cy="597960"/>
            </a:xfrm>
            <a:custGeom>
              <a:avLst/>
              <a:gdLst>
                <a:gd name="textAreaLeft" fmla="*/ 0 w 1794960"/>
                <a:gd name="textAreaRight" fmla="*/ 1795320 w 1794960"/>
                <a:gd name="textAreaTop" fmla="*/ 0 h 597960"/>
                <a:gd name="textAreaBottom" fmla="*/ 598320 h 597960"/>
              </a:gdLst>
              <a:ahLst/>
              <a:rect l="textAreaLeft" t="textAreaTop" r="textAreaRight" b="textAreaBottom"/>
              <a:pathLst>
                <a:path w="1131" h="377">
                  <a:moveTo>
                    <a:pt x="0" y="189"/>
                  </a:moveTo>
                  <a:lnTo>
                    <a:pt x="2" y="169"/>
                  </a:lnTo>
                  <a:lnTo>
                    <a:pt x="12" y="149"/>
                  </a:lnTo>
                  <a:lnTo>
                    <a:pt x="29" y="129"/>
                  </a:lnTo>
                  <a:lnTo>
                    <a:pt x="52" y="111"/>
                  </a:lnTo>
                  <a:lnTo>
                    <a:pt x="81" y="92"/>
                  </a:lnTo>
                  <a:lnTo>
                    <a:pt x="114" y="75"/>
                  </a:lnTo>
                  <a:lnTo>
                    <a:pt x="154" y="58"/>
                  </a:lnTo>
                  <a:lnTo>
                    <a:pt x="200" y="45"/>
                  </a:lnTo>
                  <a:lnTo>
                    <a:pt x="248" y="33"/>
                  </a:lnTo>
                  <a:lnTo>
                    <a:pt x="300" y="22"/>
                  </a:lnTo>
                  <a:lnTo>
                    <a:pt x="355" y="13"/>
                  </a:lnTo>
                  <a:lnTo>
                    <a:pt x="414" y="6"/>
                  </a:lnTo>
                  <a:lnTo>
                    <a:pt x="473" y="3"/>
                  </a:lnTo>
                  <a:lnTo>
                    <a:pt x="535" y="0"/>
                  </a:lnTo>
                  <a:lnTo>
                    <a:pt x="595" y="0"/>
                  </a:lnTo>
                  <a:lnTo>
                    <a:pt x="657" y="3"/>
                  </a:lnTo>
                  <a:lnTo>
                    <a:pt x="716" y="6"/>
                  </a:lnTo>
                  <a:lnTo>
                    <a:pt x="774" y="13"/>
                  </a:lnTo>
                  <a:lnTo>
                    <a:pt x="830" y="22"/>
                  </a:lnTo>
                  <a:lnTo>
                    <a:pt x="882" y="33"/>
                  </a:lnTo>
                  <a:lnTo>
                    <a:pt x="930" y="45"/>
                  </a:lnTo>
                  <a:lnTo>
                    <a:pt x="976" y="58"/>
                  </a:lnTo>
                  <a:lnTo>
                    <a:pt x="1016" y="75"/>
                  </a:lnTo>
                  <a:lnTo>
                    <a:pt x="1049" y="92"/>
                  </a:lnTo>
                  <a:lnTo>
                    <a:pt x="1078" y="111"/>
                  </a:lnTo>
                  <a:lnTo>
                    <a:pt x="1101" y="129"/>
                  </a:lnTo>
                  <a:lnTo>
                    <a:pt x="1118" y="149"/>
                  </a:lnTo>
                  <a:lnTo>
                    <a:pt x="1128" y="169"/>
                  </a:lnTo>
                  <a:lnTo>
                    <a:pt x="1131" y="189"/>
                  </a:lnTo>
                  <a:lnTo>
                    <a:pt x="1128" y="210"/>
                  </a:lnTo>
                  <a:lnTo>
                    <a:pt x="1118" y="230"/>
                  </a:lnTo>
                  <a:lnTo>
                    <a:pt x="1101" y="250"/>
                  </a:lnTo>
                  <a:lnTo>
                    <a:pt x="1078" y="268"/>
                  </a:lnTo>
                  <a:lnTo>
                    <a:pt x="1049" y="287"/>
                  </a:lnTo>
                  <a:lnTo>
                    <a:pt x="1016" y="304"/>
                  </a:lnTo>
                  <a:lnTo>
                    <a:pt x="976" y="319"/>
                  </a:lnTo>
                  <a:lnTo>
                    <a:pt x="930" y="334"/>
                  </a:lnTo>
                  <a:lnTo>
                    <a:pt x="882" y="345"/>
                  </a:lnTo>
                  <a:lnTo>
                    <a:pt x="830" y="356"/>
                  </a:lnTo>
                  <a:lnTo>
                    <a:pt x="774" y="364"/>
                  </a:lnTo>
                  <a:lnTo>
                    <a:pt x="716" y="371"/>
                  </a:lnTo>
                  <a:lnTo>
                    <a:pt x="657" y="376"/>
                  </a:lnTo>
                  <a:lnTo>
                    <a:pt x="595" y="377"/>
                  </a:lnTo>
                  <a:lnTo>
                    <a:pt x="535" y="377"/>
                  </a:lnTo>
                  <a:lnTo>
                    <a:pt x="473" y="376"/>
                  </a:lnTo>
                  <a:lnTo>
                    <a:pt x="414" y="371"/>
                  </a:lnTo>
                  <a:lnTo>
                    <a:pt x="355" y="364"/>
                  </a:lnTo>
                  <a:lnTo>
                    <a:pt x="300" y="356"/>
                  </a:lnTo>
                  <a:lnTo>
                    <a:pt x="248" y="345"/>
                  </a:lnTo>
                  <a:lnTo>
                    <a:pt x="200" y="334"/>
                  </a:lnTo>
                  <a:lnTo>
                    <a:pt x="154" y="319"/>
                  </a:lnTo>
                  <a:lnTo>
                    <a:pt x="114" y="304"/>
                  </a:lnTo>
                  <a:lnTo>
                    <a:pt x="81" y="287"/>
                  </a:lnTo>
                  <a:lnTo>
                    <a:pt x="52" y="268"/>
                  </a:lnTo>
                  <a:lnTo>
                    <a:pt x="29" y="250"/>
                  </a:lnTo>
                  <a:lnTo>
                    <a:pt x="12" y="230"/>
                  </a:lnTo>
                  <a:lnTo>
                    <a:pt x="2" y="210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rgbClr val="ffffff"/>
            </a:solidFill>
            <a:ln w="4763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1"/>
            <p:cNvSpPr/>
            <p:nvPr/>
          </p:nvSpPr>
          <p:spPr>
            <a:xfrm>
              <a:off x="4469400" y="2254320"/>
              <a:ext cx="70524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uy Ite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2"/>
            <p:cNvSpPr/>
            <p:nvPr/>
          </p:nvSpPr>
          <p:spPr>
            <a:xfrm>
              <a:off x="3809880" y="2960640"/>
              <a:ext cx="1794960" cy="599760"/>
            </a:xfrm>
            <a:custGeom>
              <a:avLst/>
              <a:gdLst>
                <a:gd name="textAreaLeft" fmla="*/ 0 w 1794960"/>
                <a:gd name="textAreaRight" fmla="*/ 1795320 w 179496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1131" h="378">
                  <a:moveTo>
                    <a:pt x="0" y="188"/>
                  </a:moveTo>
                  <a:lnTo>
                    <a:pt x="2" y="168"/>
                  </a:lnTo>
                  <a:lnTo>
                    <a:pt x="12" y="148"/>
                  </a:lnTo>
                  <a:lnTo>
                    <a:pt x="29" y="128"/>
                  </a:lnTo>
                  <a:lnTo>
                    <a:pt x="52" y="109"/>
                  </a:lnTo>
                  <a:lnTo>
                    <a:pt x="81" y="91"/>
                  </a:lnTo>
                  <a:lnTo>
                    <a:pt x="114" y="74"/>
                  </a:lnTo>
                  <a:lnTo>
                    <a:pt x="154" y="59"/>
                  </a:lnTo>
                  <a:lnTo>
                    <a:pt x="200" y="45"/>
                  </a:lnTo>
                  <a:lnTo>
                    <a:pt x="248" y="32"/>
                  </a:lnTo>
                  <a:lnTo>
                    <a:pt x="300" y="22"/>
                  </a:lnTo>
                  <a:lnTo>
                    <a:pt x="355" y="13"/>
                  </a:lnTo>
                  <a:lnTo>
                    <a:pt x="414" y="7"/>
                  </a:lnTo>
                  <a:lnTo>
                    <a:pt x="473" y="2"/>
                  </a:lnTo>
                  <a:lnTo>
                    <a:pt x="535" y="0"/>
                  </a:lnTo>
                  <a:lnTo>
                    <a:pt x="595" y="0"/>
                  </a:lnTo>
                  <a:lnTo>
                    <a:pt x="657" y="2"/>
                  </a:lnTo>
                  <a:lnTo>
                    <a:pt x="716" y="7"/>
                  </a:lnTo>
                  <a:lnTo>
                    <a:pt x="774" y="13"/>
                  </a:lnTo>
                  <a:lnTo>
                    <a:pt x="830" y="22"/>
                  </a:lnTo>
                  <a:lnTo>
                    <a:pt x="882" y="32"/>
                  </a:lnTo>
                  <a:lnTo>
                    <a:pt x="930" y="45"/>
                  </a:lnTo>
                  <a:lnTo>
                    <a:pt x="976" y="59"/>
                  </a:lnTo>
                  <a:lnTo>
                    <a:pt x="1016" y="74"/>
                  </a:lnTo>
                  <a:lnTo>
                    <a:pt x="1049" y="91"/>
                  </a:lnTo>
                  <a:lnTo>
                    <a:pt x="1078" y="109"/>
                  </a:lnTo>
                  <a:lnTo>
                    <a:pt x="1101" y="128"/>
                  </a:lnTo>
                  <a:lnTo>
                    <a:pt x="1118" y="148"/>
                  </a:lnTo>
                  <a:lnTo>
                    <a:pt x="1128" y="168"/>
                  </a:lnTo>
                  <a:lnTo>
                    <a:pt x="1131" y="188"/>
                  </a:lnTo>
                  <a:lnTo>
                    <a:pt x="1128" y="208"/>
                  </a:lnTo>
                  <a:lnTo>
                    <a:pt x="1118" y="230"/>
                  </a:lnTo>
                  <a:lnTo>
                    <a:pt x="1101" y="248"/>
                  </a:lnTo>
                  <a:lnTo>
                    <a:pt x="1078" y="269"/>
                  </a:lnTo>
                  <a:lnTo>
                    <a:pt x="1049" y="285"/>
                  </a:lnTo>
                  <a:lnTo>
                    <a:pt x="1016" y="302"/>
                  </a:lnTo>
                  <a:lnTo>
                    <a:pt x="976" y="319"/>
                  </a:lnTo>
                  <a:lnTo>
                    <a:pt x="930" y="332"/>
                  </a:lnTo>
                  <a:lnTo>
                    <a:pt x="882" y="344"/>
                  </a:lnTo>
                  <a:lnTo>
                    <a:pt x="830" y="356"/>
                  </a:lnTo>
                  <a:lnTo>
                    <a:pt x="774" y="364"/>
                  </a:lnTo>
                  <a:lnTo>
                    <a:pt x="716" y="371"/>
                  </a:lnTo>
                  <a:lnTo>
                    <a:pt x="657" y="374"/>
                  </a:lnTo>
                  <a:lnTo>
                    <a:pt x="595" y="378"/>
                  </a:lnTo>
                  <a:lnTo>
                    <a:pt x="535" y="378"/>
                  </a:lnTo>
                  <a:lnTo>
                    <a:pt x="473" y="374"/>
                  </a:lnTo>
                  <a:lnTo>
                    <a:pt x="414" y="371"/>
                  </a:lnTo>
                  <a:lnTo>
                    <a:pt x="355" y="364"/>
                  </a:lnTo>
                  <a:lnTo>
                    <a:pt x="300" y="356"/>
                  </a:lnTo>
                  <a:lnTo>
                    <a:pt x="248" y="344"/>
                  </a:lnTo>
                  <a:lnTo>
                    <a:pt x="200" y="332"/>
                  </a:lnTo>
                  <a:lnTo>
                    <a:pt x="154" y="319"/>
                  </a:lnTo>
                  <a:lnTo>
                    <a:pt x="114" y="302"/>
                  </a:lnTo>
                  <a:lnTo>
                    <a:pt x="81" y="285"/>
                  </a:lnTo>
                  <a:lnTo>
                    <a:pt x="52" y="269"/>
                  </a:lnTo>
                  <a:lnTo>
                    <a:pt x="29" y="248"/>
                  </a:lnTo>
                  <a:lnTo>
                    <a:pt x="12" y="230"/>
                  </a:lnTo>
                  <a:lnTo>
                    <a:pt x="2" y="208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rgbClr val="ffffff"/>
            </a:solidFill>
            <a:ln w="4763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3"/>
            <p:cNvSpPr/>
            <p:nvPr/>
          </p:nvSpPr>
          <p:spPr>
            <a:xfrm>
              <a:off x="4576320" y="3152880"/>
              <a:ext cx="49644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og 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4"/>
            <p:cNvSpPr/>
            <p:nvPr/>
          </p:nvSpPr>
          <p:spPr>
            <a:xfrm>
              <a:off x="3460680" y="3816360"/>
              <a:ext cx="2526840" cy="840960"/>
            </a:xfrm>
            <a:custGeom>
              <a:avLst/>
              <a:gdLst>
                <a:gd name="textAreaLeft" fmla="*/ 0 w 2526840"/>
                <a:gd name="textAreaRight" fmla="*/ 2527200 w 2526840"/>
                <a:gd name="textAreaTop" fmla="*/ 0 h 840960"/>
                <a:gd name="textAreaBottom" fmla="*/ 841320 h 840960"/>
              </a:gdLst>
              <a:ahLst/>
              <a:rect l="textAreaLeft" t="textAreaTop" r="textAreaRight" b="textAreaBottom"/>
              <a:pathLst>
                <a:path w="1592" h="530">
                  <a:moveTo>
                    <a:pt x="0" y="265"/>
                  </a:moveTo>
                  <a:lnTo>
                    <a:pt x="3" y="241"/>
                  </a:lnTo>
                  <a:lnTo>
                    <a:pt x="13" y="218"/>
                  </a:lnTo>
                  <a:lnTo>
                    <a:pt x="28" y="194"/>
                  </a:lnTo>
                  <a:lnTo>
                    <a:pt x="52" y="171"/>
                  </a:lnTo>
                  <a:lnTo>
                    <a:pt x="79" y="149"/>
                  </a:lnTo>
                  <a:lnTo>
                    <a:pt x="112" y="129"/>
                  </a:lnTo>
                  <a:lnTo>
                    <a:pt x="152" y="109"/>
                  </a:lnTo>
                  <a:lnTo>
                    <a:pt x="196" y="90"/>
                  </a:lnTo>
                  <a:lnTo>
                    <a:pt x="246" y="74"/>
                  </a:lnTo>
                  <a:lnTo>
                    <a:pt x="300" y="57"/>
                  </a:lnTo>
                  <a:lnTo>
                    <a:pt x="357" y="43"/>
                  </a:lnTo>
                  <a:lnTo>
                    <a:pt x="419" y="32"/>
                  </a:lnTo>
                  <a:lnTo>
                    <a:pt x="482" y="22"/>
                  </a:lnTo>
                  <a:lnTo>
                    <a:pt x="550" y="13"/>
                  </a:lnTo>
                  <a:lnTo>
                    <a:pt x="618" y="6"/>
                  </a:lnTo>
                  <a:lnTo>
                    <a:pt x="689" y="1"/>
                  </a:lnTo>
                  <a:lnTo>
                    <a:pt x="761" y="0"/>
                  </a:lnTo>
                  <a:lnTo>
                    <a:pt x="831" y="0"/>
                  </a:lnTo>
                  <a:lnTo>
                    <a:pt x="903" y="1"/>
                  </a:lnTo>
                  <a:lnTo>
                    <a:pt x="974" y="6"/>
                  </a:lnTo>
                  <a:lnTo>
                    <a:pt x="1042" y="13"/>
                  </a:lnTo>
                  <a:lnTo>
                    <a:pt x="1109" y="22"/>
                  </a:lnTo>
                  <a:lnTo>
                    <a:pt x="1173" y="32"/>
                  </a:lnTo>
                  <a:lnTo>
                    <a:pt x="1235" y="43"/>
                  </a:lnTo>
                  <a:lnTo>
                    <a:pt x="1292" y="57"/>
                  </a:lnTo>
                  <a:lnTo>
                    <a:pt x="1346" y="74"/>
                  </a:lnTo>
                  <a:lnTo>
                    <a:pt x="1396" y="90"/>
                  </a:lnTo>
                  <a:lnTo>
                    <a:pt x="1440" y="109"/>
                  </a:lnTo>
                  <a:lnTo>
                    <a:pt x="1480" y="129"/>
                  </a:lnTo>
                  <a:lnTo>
                    <a:pt x="1513" y="149"/>
                  </a:lnTo>
                  <a:lnTo>
                    <a:pt x="1540" y="171"/>
                  </a:lnTo>
                  <a:lnTo>
                    <a:pt x="1564" y="194"/>
                  </a:lnTo>
                  <a:lnTo>
                    <a:pt x="1579" y="218"/>
                  </a:lnTo>
                  <a:lnTo>
                    <a:pt x="1589" y="241"/>
                  </a:lnTo>
                  <a:lnTo>
                    <a:pt x="1592" y="265"/>
                  </a:lnTo>
                  <a:lnTo>
                    <a:pt x="1589" y="288"/>
                  </a:lnTo>
                  <a:lnTo>
                    <a:pt x="1579" y="312"/>
                  </a:lnTo>
                  <a:lnTo>
                    <a:pt x="1564" y="335"/>
                  </a:lnTo>
                  <a:lnTo>
                    <a:pt x="1540" y="359"/>
                  </a:lnTo>
                  <a:lnTo>
                    <a:pt x="1513" y="381"/>
                  </a:lnTo>
                  <a:lnTo>
                    <a:pt x="1480" y="401"/>
                  </a:lnTo>
                  <a:lnTo>
                    <a:pt x="1440" y="421"/>
                  </a:lnTo>
                  <a:lnTo>
                    <a:pt x="1396" y="439"/>
                  </a:lnTo>
                  <a:lnTo>
                    <a:pt x="1346" y="456"/>
                  </a:lnTo>
                  <a:lnTo>
                    <a:pt x="1292" y="473"/>
                  </a:lnTo>
                  <a:lnTo>
                    <a:pt x="1235" y="486"/>
                  </a:lnTo>
                  <a:lnTo>
                    <a:pt x="1173" y="498"/>
                  </a:lnTo>
                  <a:lnTo>
                    <a:pt x="1109" y="510"/>
                  </a:lnTo>
                  <a:lnTo>
                    <a:pt x="1042" y="518"/>
                  </a:lnTo>
                  <a:lnTo>
                    <a:pt x="974" y="523"/>
                  </a:lnTo>
                  <a:lnTo>
                    <a:pt x="903" y="528"/>
                  </a:lnTo>
                  <a:lnTo>
                    <a:pt x="831" y="530"/>
                  </a:lnTo>
                  <a:lnTo>
                    <a:pt x="761" y="530"/>
                  </a:lnTo>
                  <a:lnTo>
                    <a:pt x="689" y="528"/>
                  </a:lnTo>
                  <a:lnTo>
                    <a:pt x="618" y="523"/>
                  </a:lnTo>
                  <a:lnTo>
                    <a:pt x="550" y="518"/>
                  </a:lnTo>
                  <a:lnTo>
                    <a:pt x="482" y="510"/>
                  </a:lnTo>
                  <a:lnTo>
                    <a:pt x="419" y="498"/>
                  </a:lnTo>
                  <a:lnTo>
                    <a:pt x="357" y="486"/>
                  </a:lnTo>
                  <a:lnTo>
                    <a:pt x="300" y="473"/>
                  </a:lnTo>
                  <a:lnTo>
                    <a:pt x="246" y="456"/>
                  </a:lnTo>
                  <a:lnTo>
                    <a:pt x="196" y="439"/>
                  </a:lnTo>
                  <a:lnTo>
                    <a:pt x="152" y="421"/>
                  </a:lnTo>
                  <a:lnTo>
                    <a:pt x="112" y="401"/>
                  </a:lnTo>
                  <a:lnTo>
                    <a:pt x="79" y="381"/>
                  </a:lnTo>
                  <a:lnTo>
                    <a:pt x="52" y="359"/>
                  </a:lnTo>
                  <a:lnTo>
                    <a:pt x="28" y="335"/>
                  </a:lnTo>
                  <a:lnTo>
                    <a:pt x="13" y="312"/>
                  </a:lnTo>
                  <a:lnTo>
                    <a:pt x="3" y="288"/>
                  </a:lnTo>
                  <a:lnTo>
                    <a:pt x="0" y="265"/>
                  </a:lnTo>
                  <a:close/>
                </a:path>
              </a:pathLst>
            </a:custGeom>
            <a:solidFill>
              <a:srgbClr val="ffffff"/>
            </a:solidFill>
            <a:ln w="4763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5"/>
            <p:cNvSpPr/>
            <p:nvPr/>
          </p:nvSpPr>
          <p:spPr>
            <a:xfrm>
              <a:off x="3783240" y="4151160"/>
              <a:ext cx="20250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fund a Purchased Ite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6"/>
            <p:cNvSpPr/>
            <p:nvPr/>
          </p:nvSpPr>
          <p:spPr>
            <a:xfrm>
              <a:off x="2170080" y="2360520"/>
              <a:ext cx="1657080" cy="898200"/>
            </a:xfrm>
            <a:custGeom>
              <a:avLst/>
              <a:gdLst>
                <a:gd name="textAreaLeft" fmla="*/ 0 w 1657080"/>
                <a:gd name="textAreaRight" fmla="*/ 1657440 w 165708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1044" h="566">
                  <a:moveTo>
                    <a:pt x="1044" y="566"/>
                  </a:moveTo>
                  <a:lnTo>
                    <a:pt x="0" y="566"/>
                  </a:lnTo>
                  <a:lnTo>
                    <a:pt x="1044" y="0"/>
                  </a:lnTo>
                </a:path>
              </a:pathLst>
            </a:custGeom>
            <a:noFill/>
            <a:ln w="158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17"/>
            <p:cNvSpPr/>
            <p:nvPr/>
          </p:nvSpPr>
          <p:spPr>
            <a:xfrm flipH="1" flipV="1">
              <a:off x="2170080" y="3259080"/>
              <a:ext cx="1290600" cy="977760"/>
            </a:xfrm>
            <a:prstGeom prst="line">
              <a:avLst/>
            </a:prstGeom>
            <a:ln w="158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8"/>
            <p:cNvSpPr/>
            <p:nvPr/>
          </p:nvSpPr>
          <p:spPr>
            <a:xfrm>
              <a:off x="5622840" y="2360520"/>
              <a:ext cx="1895040" cy="1875960"/>
            </a:xfrm>
            <a:custGeom>
              <a:avLst/>
              <a:gdLst>
                <a:gd name="textAreaLeft" fmla="*/ 0 w 1895040"/>
                <a:gd name="textAreaRight" fmla="*/ 1895400 w 1895040"/>
                <a:gd name="textAreaTop" fmla="*/ 0 h 1875960"/>
                <a:gd name="textAreaBottom" fmla="*/ 1876320 h 1875960"/>
              </a:gdLst>
              <a:ahLst/>
              <a:rect l="textAreaLeft" t="textAreaTop" r="textAreaRight" b="textAreaBottom"/>
              <a:pathLst>
                <a:path w="1194" h="1182">
                  <a:moveTo>
                    <a:pt x="0" y="0"/>
                  </a:moveTo>
                  <a:lnTo>
                    <a:pt x="1194" y="566"/>
                  </a:lnTo>
                  <a:lnTo>
                    <a:pt x="230" y="1182"/>
                  </a:lnTo>
                </a:path>
              </a:pathLst>
            </a:custGeom>
            <a:noFill/>
            <a:ln w="158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9"/>
            <p:cNvSpPr/>
            <p:nvPr/>
          </p:nvSpPr>
          <p:spPr>
            <a:xfrm>
              <a:off x="3327480" y="1660680"/>
              <a:ext cx="2993760" cy="3196800"/>
            </a:xfrm>
            <a:prstGeom prst="rect">
              <a:avLst/>
            </a:prstGeom>
            <a:noFill/>
            <a:ln w="4763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20"/>
            <p:cNvSpPr/>
            <p:nvPr/>
          </p:nvSpPr>
          <p:spPr>
            <a:xfrm>
              <a:off x="4579920" y="1428840"/>
              <a:ext cx="4842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1"/>
            <p:cNvSpPr/>
            <p:nvPr/>
          </p:nvSpPr>
          <p:spPr>
            <a:xfrm>
              <a:off x="5322960" y="1066680"/>
              <a:ext cx="1696680" cy="993240"/>
            </a:xfrm>
            <a:custGeom>
              <a:avLst/>
              <a:gdLst>
                <a:gd name="textAreaLeft" fmla="*/ 0 w 1696680"/>
                <a:gd name="textAreaRight" fmla="*/ 1697040 w 1696680"/>
                <a:gd name="textAreaTop" fmla="*/ 0 h 993240"/>
                <a:gd name="textAreaBottom" fmla="*/ 993600 h 993240"/>
              </a:gdLst>
              <a:ahLst/>
              <a:rect l="textAreaLeft" t="textAreaTop" r="textAreaRight" b="textAreaBottom"/>
              <a:pathLst>
                <a:path w="1069" h="626">
                  <a:moveTo>
                    <a:pt x="0" y="626"/>
                  </a:moveTo>
                  <a:lnTo>
                    <a:pt x="1069" y="122"/>
                  </a:lnTo>
                  <a:moveTo>
                    <a:pt x="1069" y="246"/>
                  </a:moveTo>
                  <a:lnTo>
                    <a:pt x="1069" y="0"/>
                  </a:lnTo>
                </a:path>
              </a:pathLst>
            </a:custGeom>
            <a:noFill/>
            <a:ln w="381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22"/>
            <p:cNvSpPr/>
            <p:nvPr/>
          </p:nvSpPr>
          <p:spPr>
            <a:xfrm>
              <a:off x="7107120" y="1154160"/>
              <a:ext cx="7830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se C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3"/>
            <p:cNvSpPr/>
            <p:nvPr/>
          </p:nvSpPr>
          <p:spPr>
            <a:xfrm>
              <a:off x="2130480" y="1465200"/>
              <a:ext cx="1196640" cy="595080"/>
            </a:xfrm>
            <a:custGeom>
              <a:avLst/>
              <a:gdLst>
                <a:gd name="textAreaLeft" fmla="*/ 0 w 1196640"/>
                <a:gd name="textAreaRight" fmla="*/ 1197000 w 1196640"/>
                <a:gd name="textAreaTop" fmla="*/ 0 h 595080"/>
                <a:gd name="textAreaBottom" fmla="*/ 595440 h 595080"/>
              </a:gdLst>
              <a:ahLst/>
              <a:rect l="textAreaLeft" t="textAreaTop" r="textAreaRight" b="textAreaBottom"/>
              <a:pathLst>
                <a:path w="754" h="375">
                  <a:moveTo>
                    <a:pt x="754" y="375"/>
                  </a:moveTo>
                  <a:lnTo>
                    <a:pt x="0" y="123"/>
                  </a:lnTo>
                  <a:moveTo>
                    <a:pt x="0" y="247"/>
                  </a:moveTo>
                  <a:lnTo>
                    <a:pt x="0" y="0"/>
                  </a:lnTo>
                </a:path>
              </a:pathLst>
            </a:custGeom>
            <a:noFill/>
            <a:ln w="381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24"/>
            <p:cNvSpPr/>
            <p:nvPr/>
          </p:nvSpPr>
          <p:spPr>
            <a:xfrm>
              <a:off x="604800" y="1589040"/>
              <a:ext cx="14094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ystem Bounda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26"/>
          <p:cNvSpPr/>
          <p:nvPr/>
        </p:nvSpPr>
        <p:spPr>
          <a:xfrm>
            <a:off x="249840" y="914400"/>
            <a:ext cx="3303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T: Point of Sale Ter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object 11"/>
          <p:cNvSpPr/>
          <p:nvPr/>
        </p:nvSpPr>
        <p:spPr>
          <a:xfrm>
            <a:off x="914400" y="1143000"/>
            <a:ext cx="739116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Bef>
                <a:spcPts val="3002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55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26" strike="noStrike" baseline="30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id</a:t>
            </a:r>
            <a:r>
              <a:rPr b="0" lang="en-US" sz="2800" spc="-15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4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9" strike="noStrike" baseline="30000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2800" spc="-29" strike="noStrike" baseline="30000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is</a:t>
            </a:r>
            <a:r>
              <a:rPr b="1" lang="en-US" sz="2800" spc="26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4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60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9" strike="noStrike" baseline="30000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2800" spc="-29" strike="noStrike" baseline="30000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i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Use</a:t>
            </a:r>
            <a:r>
              <a:rPr b="0" lang="en-US" sz="2800" spc="-29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26" strike="noStrike" baseline="30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ases</a:t>
            </a:r>
            <a:r>
              <a:rPr b="0" lang="en-US" sz="2800" spc="-26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help</a:t>
            </a:r>
            <a:r>
              <a:rPr b="0" lang="en-US" sz="2800" spc="-15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35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eak</a:t>
            </a:r>
            <a:r>
              <a:rPr b="0" lang="en-US" sz="2800" spc="-9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up</a:t>
            </a:r>
            <a:r>
              <a:rPr b="0" lang="en-US" sz="2800" spc="-15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e p</a:t>
            </a:r>
            <a:r>
              <a:rPr b="0" lang="en-US" sz="2800" spc="-35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blem</a:t>
            </a:r>
            <a:r>
              <a:rPr b="0" lang="en-US" sz="2800" spc="-24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o it </a:t>
            </a:r>
            <a:r>
              <a:rPr b="0" lang="en-US" sz="2800" spc="-26" strike="noStrike" baseline="30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an b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ol</a:t>
            </a:r>
            <a:r>
              <a:rPr b="0" lang="en-US" sz="2800" spc="-26" strike="noStrike" baseline="30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ed</a:t>
            </a:r>
            <a:r>
              <a:rPr b="0" lang="en-US" sz="2800" spc="-9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inc</a:t>
            </a:r>
            <a:r>
              <a:rPr b="0" lang="en-US" sz="2800" spc="-26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eme</a:t>
            </a:r>
            <a:r>
              <a:rPr b="0" lang="en-US" sz="2800" spc="-26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29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800" spc="-171" strike="noStrike" baseline="30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bject 10"/>
          <p:cNvSpPr/>
          <p:nvPr/>
        </p:nvSpPr>
        <p:spPr>
          <a:xfrm>
            <a:off x="5097240" y="601560"/>
            <a:ext cx="2374560" cy="5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4584"/>
              </a:lnSpc>
              <a:spcBef>
                <a:spcPts val="230"/>
              </a:spcBef>
            </a:pPr>
            <a:endParaRPr b="0" lang="en-US" sz="2400" spc="-1" strike="noStrike" baseline="30000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bject 8"/>
          <p:cNvSpPr/>
          <p:nvPr/>
        </p:nvSpPr>
        <p:spPr>
          <a:xfrm>
            <a:off x="5083920" y="2145960"/>
            <a:ext cx="239472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755"/>
              </a:lnSpc>
              <a:spcBef>
                <a:spcPts val="136"/>
              </a:spcBef>
            </a:pPr>
            <a:endParaRPr b="0" lang="en-US" sz="2400" spc="-1" strike="noStrike" baseline="30000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bject 6"/>
          <p:cNvSpPr/>
          <p:nvPr/>
        </p:nvSpPr>
        <p:spPr>
          <a:xfrm>
            <a:off x="838080" y="2209680"/>
            <a:ext cx="7772040" cy="30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69800" indent="-343080" algn="just">
              <a:lnSpc>
                <a:spcPts val="3172"/>
              </a:lnSpc>
              <a:spcBef>
                <a:spcPts val="14"/>
              </a:spcBef>
              <a:buClr>
                <a:srgbClr val="000000"/>
              </a:buClr>
              <a:buFont typeface="Arial"/>
              <a:buChar char="•"/>
              <a:tabLst>
                <a:tab algn="l" pos="40644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Do ju</a:t>
            </a:r>
            <a:r>
              <a:rPr b="0" lang="en-US" sz="2800" spc="-2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2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enough</a:t>
            </a:r>
            <a:r>
              <a:rPr b="0" lang="en-US" sz="2800" spc="-15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anal</a:t>
            </a:r>
            <a:r>
              <a:rPr b="0" lang="en-US" sz="2800" spc="-26" strike="noStrike" baseline="30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is</a:t>
            </a:r>
            <a:r>
              <a:rPr b="0" lang="en-US" sz="2800" spc="-21" strike="noStrike" baseline="30000">
                <a:solidFill>
                  <a:srgbClr val="000000"/>
                </a:solidFill>
                <a:latin typeface="Arial"/>
              </a:rPr>
              <a:t> 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800" spc="-21" strike="noStrike" baseline="30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5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4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26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29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ar</a:t>
            </a:r>
            <a:r>
              <a:rPr b="0" lang="en-US" sz="2800" spc="-15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ed</a:t>
            </a:r>
            <a:r>
              <a:rPr b="0" lang="en-US" sz="2800" spc="-26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but </a:t>
            </a:r>
            <a:r>
              <a:rPr b="0" lang="en-US" sz="2800" spc="-35" strike="noStrike" baseline="30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9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don’t  h</a:t>
            </a:r>
            <a:r>
              <a:rPr b="0" lang="en-US" sz="2800" spc="-52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26" strike="noStrike" baseline="30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5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2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800" spc="-35" strike="noStrike" baseline="30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800" spc="7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800" spc="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26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 i</a:t>
            </a:r>
            <a:r>
              <a:rPr b="0" lang="en-US" sz="2800" spc="83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60" strike="noStrike" baseline="30000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 ha</a:t>
            </a:r>
            <a:r>
              <a:rPr b="0" lang="en-US" sz="2800" spc="-35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9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2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800" spc="-29" strike="noStrike" baseline="30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5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e back</a:t>
            </a:r>
            <a:r>
              <a:rPr b="0" lang="en-US" sz="2800" spc="-9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800" spc="-26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2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er</a:t>
            </a:r>
            <a:r>
              <a:rPr b="0" lang="en-US" sz="2800" spc="-9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and add</a:t>
            </a:r>
            <a:r>
              <a:rPr b="0" lang="en-US" sz="2800" spc="-9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9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35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3172"/>
              </a:lnSpc>
              <a:spcBef>
                <a:spcPts val="14"/>
              </a:spcBef>
              <a:tabLst>
                <a:tab algn="l" pos="406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>
              <a:lnSpc>
                <a:spcPct val="101000"/>
              </a:lnSpc>
              <a:spcBef>
                <a:spcPts val="11"/>
              </a:spcBef>
              <a:buClr>
                <a:srgbClr val="000000"/>
              </a:buClr>
              <a:buFont typeface="Arial"/>
              <a:buChar char="•"/>
              <a:tabLst>
                <a:tab algn="l" pos="406440"/>
              </a:tabLst>
            </a:pPr>
            <a:r>
              <a:rPr b="0" lang="en-US" sz="2800" spc="-55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26" strike="noStrike" baseline="30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id</a:t>
            </a:r>
            <a:r>
              <a:rPr b="0" lang="en-US" sz="2800" spc="-15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21" strike="noStrike" baseline="30000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800" spc="-9" strike="noStrike" baseline="30000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d pl</a:t>
            </a:r>
            <a:r>
              <a:rPr b="1" lang="en-US" sz="2800" spc="-35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tin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: Using</a:t>
            </a:r>
            <a:r>
              <a:rPr b="0" lang="en-US" sz="2800" spc="-26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use</a:t>
            </a:r>
            <a:r>
              <a:rPr b="0" lang="en-US" sz="2800" spc="-9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21" strike="noStrike" baseline="30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ases</a:t>
            </a:r>
            <a:r>
              <a:rPr b="0" lang="en-US" sz="2800" spc="-21" strike="noStrike" baseline="30000">
                <a:solidFill>
                  <a:srgbClr val="000000"/>
                </a:solidFill>
                <a:latin typeface="Arial"/>
              </a:rPr>
              <a:t> 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 deri</a:t>
            </a:r>
            <a:r>
              <a:rPr b="0" lang="en-US" sz="2800" spc="-26" strike="noStrike" baseline="30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26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functional </a:t>
            </a:r>
            <a:r>
              <a:rPr b="0" lang="en-US" sz="2800" spc="-4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equi</a:t>
            </a:r>
            <a:r>
              <a:rPr b="0" lang="en-US" sz="2800" spc="-29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eme</a:t>
            </a:r>
            <a:r>
              <a:rPr b="0" lang="en-US" sz="2800" spc="-4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3640" algn="just">
              <a:lnSpc>
                <a:spcPts val="3172"/>
              </a:lnSpc>
              <a:tabLst>
                <a:tab algn="l" pos="406440"/>
              </a:tabLst>
            </a:pPr>
            <a:r>
              <a:rPr b="0" lang="en-US" sz="2800" spc="-46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26" strike="noStrike" baseline="30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ids </a:t>
            </a:r>
            <a:r>
              <a:rPr b="0" lang="en-US" sz="2800" spc="-26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29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26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ing</a:t>
            </a:r>
            <a:r>
              <a:rPr b="0" lang="en-US" sz="2800" spc="-9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a functional </a:t>
            </a:r>
            <a:r>
              <a:rPr b="0" lang="en-US" sz="2800" spc="-4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equi</a:t>
            </a:r>
            <a:r>
              <a:rPr b="0" lang="en-US" sz="2800" spc="-29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eme</a:t>
            </a:r>
            <a:r>
              <a:rPr b="0" lang="en-US" sz="2800" spc="-4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35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2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 is n</a:t>
            </a:r>
            <a:r>
              <a:rPr b="0" lang="en-US" sz="2800" spc="-9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 di</a:t>
            </a:r>
            <a:r>
              <a:rPr b="0" lang="en-US" sz="2800" spc="-29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ectly</a:t>
            </a:r>
            <a:r>
              <a:rPr b="0" lang="en-US" sz="2800" spc="-15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ied </a:t>
            </a:r>
            <a:r>
              <a:rPr b="0" lang="en-US" sz="2800" spc="-29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 a</a:t>
            </a:r>
            <a:r>
              <a:rPr b="0" lang="en-US" sz="2800" spc="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user</a:t>
            </a:r>
            <a:r>
              <a:rPr b="0" lang="en-US" sz="2800" spc="-2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29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ask needed</a:t>
            </a:r>
            <a:r>
              <a:rPr b="0" lang="en-US" sz="2800" spc="-46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2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 ac</a:t>
            </a:r>
            <a:r>
              <a:rPr b="0" lang="en-US" sz="2800" spc="-26" strike="noStrike" baseline="30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9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plish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3640" algn="just">
              <a:lnSpc>
                <a:spcPts val="3172"/>
              </a:lnSpc>
              <a:tabLst>
                <a:tab algn="l" pos="40644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business</a:t>
            </a:r>
            <a:r>
              <a:rPr b="0" lang="en-US" sz="2800" spc="-4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5" strike="noStrike" baseline="30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2"/>
          <p:cNvSpPr/>
          <p:nvPr/>
        </p:nvSpPr>
        <p:spPr>
          <a:xfrm>
            <a:off x="685800" y="304920"/>
            <a:ext cx="67813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s of Use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Slide Number Placeholder 3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A1799491-3E62-43CB-969B-FD76493DAEC1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492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When to use Use-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86348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short, always!!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quirements is the toughest part of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-Cases is a powerful tool to underst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o your users are (including interacting syste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functions the system shall prov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these functions work at a hig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nd adequate time on requirements and in the elaboration pha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05-Use-Cas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object 14"/>
          <p:cNvSpPr/>
          <p:nvPr/>
        </p:nvSpPr>
        <p:spPr>
          <a:xfrm>
            <a:off x="879120" y="601560"/>
            <a:ext cx="5955120" cy="32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947600">
              <a:lnSpc>
                <a:spcPts val="4584"/>
              </a:lnSpc>
              <a:spcBef>
                <a:spcPts val="230"/>
              </a:spcBef>
            </a:pPr>
            <a:r>
              <a:rPr b="0" lang="en-US" sz="6600" spc="-389" strike="noStrike" baseline="3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6600" spc="-1" strike="noStrike" baseline="3000">
                <a:solidFill>
                  <a:srgbClr val="000000"/>
                </a:solidFill>
                <a:latin typeface="Calibri"/>
              </a:rPr>
              <a:t>od</a:t>
            </a:r>
            <a:r>
              <a:rPr b="0" lang="en-US" sz="6600" spc="-80" strike="noStrike" baseline="3000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6600" spc="-1" strike="noStrike" baseline="3000">
                <a:solidFill>
                  <a:srgbClr val="000000"/>
                </a:solidFill>
                <a:latin typeface="Calibri"/>
              </a:rPr>
              <a:t>y's Lectu</a:t>
            </a:r>
            <a:r>
              <a:rPr b="0" lang="en-US" sz="6600" spc="-66" strike="noStrike" baseline="3000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6600" spc="-1" strike="noStrike" baseline="3000">
                <a:solidFill>
                  <a:srgbClr val="000000"/>
                </a:solidFill>
                <a:latin typeface="Calibri"/>
              </a:rPr>
              <a:t>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ts val="3906"/>
              </a:lnSpc>
              <a:spcBef>
                <a:spcPts val="3362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</a:t>
            </a:r>
            <a:r>
              <a:rPr b="0" lang="en-US" sz="3200" spc="-2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 of </a:t>
            </a:r>
            <a:r>
              <a:rPr b="0" lang="en-US" sz="3200" spc="-55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3200" spc="-2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en-US" sz="3200" spc="-41" strike="noStrike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 </a:t>
            </a:r>
            <a:r>
              <a:rPr b="0" lang="en-US" sz="3200" spc="-46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qui</a:t>
            </a:r>
            <a:r>
              <a:rPr b="0" lang="en-US" sz="3200" spc="-46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e</a:t>
            </a:r>
            <a:r>
              <a:rPr b="0" lang="en-US" sz="3200" spc="-26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ts val="3906"/>
              </a:lnSpc>
              <a:spcBef>
                <a:spcPts val="703"/>
              </a:spcBef>
            </a:pPr>
            <a:r>
              <a:rPr b="0" lang="en-US" sz="3200" spc="-290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hni</a:t>
            </a:r>
            <a:r>
              <a:rPr b="0" lang="en-US" sz="3200" spc="-9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es</a:t>
            </a:r>
            <a:r>
              <a:rPr b="0" lang="en-US" sz="3200" spc="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4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</a:t>
            </a:r>
            <a:r>
              <a:rPr b="0" lang="en-US" sz="3200" spc="-9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it</a:t>
            </a:r>
            <a:r>
              <a:rPr b="0" lang="en-US" sz="3200" spc="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35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qui</a:t>
            </a:r>
            <a:r>
              <a:rPr b="0" lang="en-US" sz="3200" spc="-46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e</a:t>
            </a:r>
            <a:r>
              <a:rPr b="0" lang="en-US" sz="3200" spc="-26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ts val="3906"/>
              </a:lnSpc>
              <a:spcBef>
                <a:spcPts val="703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abo</a:t>
            </a:r>
            <a:r>
              <a:rPr b="0" lang="en-US" sz="3200" spc="-69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3200" spc="-2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200" spc="-9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</a:t>
            </a:r>
            <a:r>
              <a:rPr b="0" lang="en-US" sz="3200" spc="18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u</a:t>
            </a:r>
            <a:r>
              <a:rPr b="0" lang="en-US" sz="3200" spc="-15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en-US" sz="3200" spc="-26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e d</a:t>
            </a:r>
            <a:r>
              <a:rPr b="0" lang="en-US" sz="3200" spc="-9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g</a:t>
            </a:r>
            <a:r>
              <a:rPr b="0" lang="en-US" sz="3200" spc="-55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1000"/>
              </a:lnSpc>
              <a:spcBef>
                <a:spcPts val="703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46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3200" spc="-55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i</a:t>
            </a:r>
            <a:r>
              <a:rPr b="0" lang="en-US" sz="3200" spc="-66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3200" spc="-2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200" spc="-9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</a:t>
            </a:r>
            <a:r>
              <a:rPr b="0" lang="en-US" sz="3200" spc="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docu</a:t>
            </a:r>
            <a:r>
              <a:rPr b="0" lang="en-US" sz="3200" spc="-9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3200" spc="-29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200" spc="-4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200" spc="-2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200" spc="-9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</a:t>
            </a:r>
            <a:r>
              <a:rPr b="0" lang="en-US" sz="3200" spc="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bject 13"/>
          <p:cNvSpPr/>
          <p:nvPr/>
        </p:nvSpPr>
        <p:spPr>
          <a:xfrm>
            <a:off x="536040" y="1684800"/>
            <a:ext cx="228600" cy="21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3376"/>
              </a:lnSpc>
              <a:spcBef>
                <a:spcPts val="167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95000"/>
              </a:lnSpc>
              <a:spcBef>
                <a:spcPts val="763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95000"/>
              </a:lnSpc>
              <a:spcBef>
                <a:spcPts val="927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95000"/>
              </a:lnSpc>
              <a:spcBef>
                <a:spcPts val="930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bject 12"/>
          <p:cNvSpPr/>
          <p:nvPr/>
        </p:nvSpPr>
        <p:spPr>
          <a:xfrm>
            <a:off x="6840000" y="3465360"/>
            <a:ext cx="1231920" cy="4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3365"/>
              </a:lnSpc>
              <a:spcBef>
                <a:spcPts val="167"/>
              </a:spcBef>
            </a:pPr>
            <a:r>
              <a:rPr b="0" lang="en-US" sz="4800" spc="-60" strike="noStrike" baseline="3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4800" spc="-26" strike="noStrike" baseline="3000">
                <a:solidFill>
                  <a:srgbClr val="000000"/>
                </a:solidFill>
                <a:latin typeface="Calibri"/>
              </a:rPr>
              <a:t>y</a:t>
            </a:r>
            <a:r>
              <a:rPr b="0" lang="en-US" sz="4800" spc="-41" strike="noStrike" baseline="3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4800" spc="-1" strike="noStrike" baseline="3000">
                <a:solidFill>
                  <a:srgbClr val="000000"/>
                </a:solidFill>
                <a:latin typeface="Calibri"/>
              </a:rPr>
              <a:t>e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bject 11"/>
          <p:cNvSpPr/>
          <p:nvPr/>
        </p:nvSpPr>
        <p:spPr>
          <a:xfrm>
            <a:off x="879120" y="3953160"/>
            <a:ext cx="23184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3359"/>
              </a:lnSpc>
              <a:spcBef>
                <a:spcPts val="167"/>
              </a:spcBef>
            </a:pPr>
            <a:r>
              <a:rPr b="0" lang="en-US" sz="4800" spc="-35" strike="noStrike" baseline="3000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4800" spc="-1" strike="noStrike" baseline="3000">
                <a:solidFill>
                  <a:srgbClr val="000000"/>
                </a:solidFill>
                <a:latin typeface="Calibri"/>
              </a:rPr>
              <a:t>equi</a:t>
            </a:r>
            <a:r>
              <a:rPr b="0" lang="en-US" sz="4800" spc="-46" strike="noStrike" baseline="3000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4800" spc="-1" strike="noStrike" baseline="3000">
                <a:solidFill>
                  <a:srgbClr val="000000"/>
                </a:solidFill>
                <a:latin typeface="Calibri"/>
              </a:rPr>
              <a:t>eme</a:t>
            </a:r>
            <a:r>
              <a:rPr b="0" lang="en-US" sz="4800" spc="-26" strike="noStrike" baseline="3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4800" spc="-1" strike="noStrike" baseline="3000">
                <a:solidFill>
                  <a:srgbClr val="000000"/>
                </a:solidFill>
                <a:latin typeface="Calibri"/>
              </a:rPr>
              <a:t>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bject 10"/>
          <p:cNvSpPr/>
          <p:nvPr/>
        </p:nvSpPr>
        <p:spPr>
          <a:xfrm>
            <a:off x="3202200" y="3953160"/>
            <a:ext cx="393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3359"/>
              </a:lnSpc>
              <a:spcBef>
                <a:spcPts val="167"/>
              </a:spcBef>
            </a:pPr>
            <a:r>
              <a:rPr b="0" lang="en-US" sz="4800" spc="-1" strike="noStrike" baseline="3000">
                <a:solidFill>
                  <a:srgbClr val="000000"/>
                </a:solidFill>
                <a:latin typeface="Calibri"/>
              </a:rPr>
              <a:t>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bject 9"/>
          <p:cNvSpPr/>
          <p:nvPr/>
        </p:nvSpPr>
        <p:spPr>
          <a:xfrm>
            <a:off x="3600000" y="3953160"/>
            <a:ext cx="638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3359"/>
              </a:lnSpc>
              <a:spcBef>
                <a:spcPts val="167"/>
              </a:spcBef>
            </a:pPr>
            <a:r>
              <a:rPr b="0" lang="en-US" sz="4800" spc="-1" strike="noStrike" baseline="3000">
                <a:solidFill>
                  <a:srgbClr val="000000"/>
                </a:solidFill>
                <a:latin typeface="Calibri"/>
              </a:rPr>
              <a:t>th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bject 8"/>
          <p:cNvSpPr/>
          <p:nvPr/>
        </p:nvSpPr>
        <p:spPr>
          <a:xfrm>
            <a:off x="4244760" y="3953160"/>
            <a:ext cx="883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3359"/>
              </a:lnSpc>
              <a:spcBef>
                <a:spcPts val="167"/>
              </a:spcBef>
            </a:pPr>
            <a:r>
              <a:rPr b="0" lang="en-US" sz="4800" spc="-69" strike="noStrike" baseline="3000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4800" spc="-1" strike="noStrike" baseline="3000">
                <a:solidFill>
                  <a:srgbClr val="000000"/>
                </a:solidFill>
                <a:latin typeface="Calibri"/>
              </a:rPr>
              <a:t>or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bject 7"/>
          <p:cNvSpPr/>
          <p:nvPr/>
        </p:nvSpPr>
        <p:spPr>
          <a:xfrm>
            <a:off x="5133600" y="3953160"/>
            <a:ext cx="4248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3359"/>
              </a:lnSpc>
              <a:spcBef>
                <a:spcPts val="167"/>
              </a:spcBef>
            </a:pPr>
            <a:r>
              <a:rPr b="0" lang="en-US" sz="4800" spc="-1" strike="noStrike" baseline="3000">
                <a:solidFill>
                  <a:srgbClr val="000000"/>
                </a:solidFill>
                <a:latin typeface="Calibri"/>
              </a:rPr>
              <a:t>o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bject 6"/>
          <p:cNvSpPr/>
          <p:nvPr/>
        </p:nvSpPr>
        <p:spPr>
          <a:xfrm>
            <a:off x="5565600" y="3953160"/>
            <a:ext cx="707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3359"/>
              </a:lnSpc>
              <a:spcBef>
                <a:spcPts val="167"/>
              </a:spcBef>
            </a:pPr>
            <a:r>
              <a:rPr b="0" lang="en-US" sz="4800" spc="-1" strike="noStrike" baseline="3000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4800" spc="-9" strike="noStrike" baseline="3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4800" spc="-1" strike="noStrike" baseline="3000">
                <a:solidFill>
                  <a:srgbClr val="000000"/>
                </a:solidFill>
                <a:latin typeface="Calibri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bject 5"/>
          <p:cNvSpPr/>
          <p:nvPr/>
        </p:nvSpPr>
        <p:spPr>
          <a:xfrm>
            <a:off x="6277320" y="3953160"/>
            <a:ext cx="10188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3359"/>
              </a:lnSpc>
              <a:spcBef>
                <a:spcPts val="167"/>
              </a:spcBef>
            </a:pPr>
            <a:r>
              <a:rPr b="0" lang="en-US" sz="4800" spc="-1" strike="noStrike" baseline="3000">
                <a:solidFill>
                  <a:srgbClr val="000000"/>
                </a:solidFill>
                <a:latin typeface="Calibri"/>
              </a:rPr>
              <a:t>Cas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bject 2"/>
          <p:cNvSpPr/>
          <p:nvPr/>
        </p:nvSpPr>
        <p:spPr>
          <a:xfrm>
            <a:off x="8506440" y="6461280"/>
            <a:ext cx="124200" cy="1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1324"/>
              </a:lnSpc>
              <a:spcBef>
                <a:spcPts val="65"/>
              </a:spcBef>
            </a:pPr>
            <a:r>
              <a:rPr b="0" lang="en-US" sz="1200" spc="-1" strike="noStrike">
                <a:solidFill>
                  <a:srgbClr val="888888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object 18"/>
          <p:cNvSpPr/>
          <p:nvPr/>
        </p:nvSpPr>
        <p:spPr>
          <a:xfrm>
            <a:off x="380880" y="1593720"/>
            <a:ext cx="4190760" cy="25207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bject 17"/>
          <p:cNvSpPr/>
          <p:nvPr/>
        </p:nvSpPr>
        <p:spPr>
          <a:xfrm>
            <a:off x="2611440" y="425160"/>
            <a:ext cx="8784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4175"/>
              </a:lnSpc>
              <a:spcBef>
                <a:spcPts val="207"/>
              </a:spcBef>
            </a:pPr>
            <a:r>
              <a:rPr b="0" lang="en-US" sz="6000" spc="-1" strike="noStrike" baseline="3000">
                <a:solidFill>
                  <a:srgbClr val="000000"/>
                </a:solidFill>
                <a:latin typeface="Calibri"/>
              </a:rPr>
              <a:t>U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bject 16"/>
          <p:cNvSpPr/>
          <p:nvPr/>
        </p:nvSpPr>
        <p:spPr>
          <a:xfrm>
            <a:off x="3503520" y="425160"/>
            <a:ext cx="10663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4175"/>
              </a:lnSpc>
              <a:spcBef>
                <a:spcPts val="207"/>
              </a:spcBef>
            </a:pPr>
            <a:r>
              <a:rPr b="0" lang="en-US" sz="6000" spc="-1" strike="noStrike" baseline="3000">
                <a:solidFill>
                  <a:srgbClr val="000000"/>
                </a:solidFill>
                <a:latin typeface="Calibri"/>
              </a:rPr>
              <a:t>Ca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bject 15"/>
          <p:cNvSpPr/>
          <p:nvPr/>
        </p:nvSpPr>
        <p:spPr>
          <a:xfrm>
            <a:off x="4583520" y="425160"/>
            <a:ext cx="20282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4175"/>
              </a:lnSpc>
              <a:spcBef>
                <a:spcPts val="207"/>
              </a:spcBef>
            </a:pPr>
            <a:r>
              <a:rPr b="0" lang="en-US" sz="6000" spc="-1" strike="noStrike" baseline="3000">
                <a:solidFill>
                  <a:srgbClr val="000000"/>
                </a:solidFill>
                <a:latin typeface="Calibri"/>
              </a:rPr>
              <a:t>Di</a:t>
            </a:r>
            <a:r>
              <a:rPr b="0" lang="en-US" sz="6000" spc="7" strike="noStrike" baseline="3000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6000" spc="-1" strike="noStrike" baseline="3000">
                <a:solidFill>
                  <a:srgbClr val="000000"/>
                </a:solidFill>
                <a:latin typeface="Calibri"/>
              </a:rPr>
              <a:t>g</a:t>
            </a:r>
            <a:r>
              <a:rPr b="0" lang="en-US" sz="6000" spc="-75" strike="noStrike" baseline="3000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6000" spc="-1" strike="noStrike" baseline="3000">
                <a:solidFill>
                  <a:srgbClr val="000000"/>
                </a:solidFill>
                <a:latin typeface="Calibri"/>
              </a:rPr>
              <a:t>am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bject 14"/>
          <p:cNvSpPr/>
          <p:nvPr/>
        </p:nvSpPr>
        <p:spPr>
          <a:xfrm>
            <a:off x="4727880" y="2070360"/>
            <a:ext cx="194760" cy="3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344"/>
              </a:lnSpc>
              <a:spcBef>
                <a:spcPts val="116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</a:rPr>
              <a:t>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bject 13"/>
          <p:cNvSpPr/>
          <p:nvPr/>
        </p:nvSpPr>
        <p:spPr>
          <a:xfrm>
            <a:off x="4956480" y="2087280"/>
            <a:ext cx="2106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341"/>
              </a:lnSpc>
              <a:spcBef>
                <a:spcPts val="116"/>
              </a:spcBef>
            </a:pP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300" spc="-4" strike="noStrike" baseline="2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300" spc="-29" strike="noStrike" baseline="2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300" spc="1" strike="noStrike" baseline="2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hier</a:t>
            </a:r>
            <a:r>
              <a:rPr b="0" lang="en-US" sz="3300" spc="-55" strike="noStrike" baseline="2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300" spc="-4" strike="noStrike" baseline="2000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ses</a:t>
            </a:r>
            <a:r>
              <a:rPr b="0" lang="en-US" sz="3300" spc="-24" strike="noStrike" baseline="2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th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ts val="2645"/>
              </a:lnSpc>
              <a:spcBef>
                <a:spcPts val="14"/>
              </a:spcBef>
            </a:pPr>
            <a:r>
              <a:rPr b="0" lang="en-US" sz="3300" spc="-29" strike="noStrike" baseline="1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300" spc="-1" strike="noStrike" baseline="1000">
                <a:solidFill>
                  <a:srgbClr val="000000"/>
                </a:solidFill>
                <a:latin typeface="Calibri"/>
              </a:rPr>
              <a:t>o s</a:t>
            </a:r>
            <a:r>
              <a:rPr b="0" lang="en-US" sz="3300" spc="-26" strike="noStrike" baseline="1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300" spc="-1" strike="noStrike" baseline="1000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300" spc="-35" strike="noStrike" baseline="1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300" spc="-1" strike="noStrike" baseline="1000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300" spc="-24" strike="noStrike" baseline="1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300" spc="-1" strike="noStrike" baseline="1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300" spc="-29" strike="noStrike" baseline="1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300" spc="-1" strike="noStrike" baseline="1000">
                <a:solidFill>
                  <a:srgbClr val="000000"/>
                </a:solidFill>
                <a:latin typeface="Calibri"/>
              </a:rPr>
              <a:t>em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bject 12"/>
          <p:cNvSpPr/>
          <p:nvPr/>
        </p:nvSpPr>
        <p:spPr>
          <a:xfrm>
            <a:off x="7059960" y="2087280"/>
            <a:ext cx="523800" cy="3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341"/>
              </a:lnSpc>
              <a:spcBef>
                <a:spcPts val="116"/>
              </a:spcBef>
            </a:pP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PO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bject 11"/>
          <p:cNvSpPr/>
          <p:nvPr/>
        </p:nvSpPr>
        <p:spPr>
          <a:xfrm>
            <a:off x="7580880" y="2087280"/>
            <a:ext cx="853560" cy="3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341"/>
              </a:lnSpc>
              <a:spcBef>
                <a:spcPts val="116"/>
              </a:spcBef>
            </a:pPr>
            <a:r>
              <a:rPr b="0" lang="en-US" sz="3300" spc="-29" strike="noStrike" baseline="2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3300" spc="-21" strike="noStrike" baseline="2000">
                <a:solidFill>
                  <a:srgbClr val="000000"/>
                </a:solidFill>
                <a:latin typeface="Calibri"/>
              </a:rPr>
              <a:t>ys</a:t>
            </a:r>
            <a:r>
              <a:rPr b="0" lang="en-US" sz="3300" spc="-29" strike="noStrike" baseline="2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em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bject 10"/>
          <p:cNvSpPr/>
          <p:nvPr/>
        </p:nvSpPr>
        <p:spPr>
          <a:xfrm>
            <a:off x="4727880" y="3210840"/>
            <a:ext cx="194760" cy="3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344"/>
              </a:lnSpc>
              <a:spcBef>
                <a:spcPts val="116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</a:rPr>
              <a:t>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bject 9"/>
          <p:cNvSpPr/>
          <p:nvPr/>
        </p:nvSpPr>
        <p:spPr>
          <a:xfrm>
            <a:off x="4956480" y="3227400"/>
            <a:ext cx="1662480" cy="3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341"/>
              </a:lnSpc>
              <a:spcBef>
                <a:spcPts val="116"/>
              </a:spcBef>
            </a:pP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300" spc="-7" strike="noStrike" baseline="2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300" spc="-29" strike="noStrike" baseline="2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300" spc="1" strike="noStrike" baseline="2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hier</a:t>
            </a:r>
            <a:r>
              <a:rPr b="0" lang="en-US" sz="3300" spc="-55" strike="noStrike" baseline="2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300" spc="-4" strike="noStrike" baseline="2000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s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bject 8"/>
          <p:cNvSpPr/>
          <p:nvPr/>
        </p:nvSpPr>
        <p:spPr>
          <a:xfrm>
            <a:off x="6616800" y="3227400"/>
            <a:ext cx="445680" cy="3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341"/>
              </a:lnSpc>
              <a:spcBef>
                <a:spcPts val="116"/>
              </a:spcBef>
            </a:pP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th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bject 7"/>
          <p:cNvSpPr/>
          <p:nvPr/>
        </p:nvSpPr>
        <p:spPr>
          <a:xfrm>
            <a:off x="7059960" y="3227400"/>
            <a:ext cx="523800" cy="3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341"/>
              </a:lnSpc>
              <a:spcBef>
                <a:spcPts val="116"/>
              </a:spcBef>
            </a:pP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PO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bject 6"/>
          <p:cNvSpPr/>
          <p:nvPr/>
        </p:nvSpPr>
        <p:spPr>
          <a:xfrm>
            <a:off x="7580880" y="3227400"/>
            <a:ext cx="853560" cy="3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341"/>
              </a:lnSpc>
              <a:spcBef>
                <a:spcPts val="116"/>
              </a:spcBef>
            </a:pPr>
            <a:r>
              <a:rPr b="0" lang="en-US" sz="3300" spc="-29" strike="noStrike" baseline="2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3300" spc="-21" strike="noStrike" baseline="2000">
                <a:solidFill>
                  <a:srgbClr val="000000"/>
                </a:solidFill>
                <a:latin typeface="Calibri"/>
              </a:rPr>
              <a:t>ys</a:t>
            </a:r>
            <a:r>
              <a:rPr b="0" lang="en-US" sz="3300" spc="-29" strike="noStrike" baseline="2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em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bject 5"/>
          <p:cNvSpPr/>
          <p:nvPr/>
        </p:nvSpPr>
        <p:spPr>
          <a:xfrm>
            <a:off x="4956480" y="3562920"/>
            <a:ext cx="303840" cy="3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341"/>
              </a:lnSpc>
              <a:spcBef>
                <a:spcPts val="116"/>
              </a:spcBef>
            </a:pPr>
            <a:r>
              <a:rPr b="0" lang="en-US" sz="3300" spc="-29" strike="noStrike" baseline="2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o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bject 4"/>
          <p:cNvSpPr/>
          <p:nvPr/>
        </p:nvSpPr>
        <p:spPr>
          <a:xfrm>
            <a:off x="5257800" y="3562920"/>
            <a:ext cx="591480" cy="3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341"/>
              </a:lnSpc>
              <a:spcBef>
                <a:spcPts val="116"/>
              </a:spcBef>
            </a:pPr>
            <a:r>
              <a:rPr b="0" lang="en-US" sz="3300" spc="-29" strike="noStrike" baseline="2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300" spc="1" strike="noStrike" baseline="2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300" spc="-29" strike="noStrike" baseline="2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a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bject 3"/>
          <p:cNvSpPr/>
          <p:nvPr/>
        </p:nvSpPr>
        <p:spPr>
          <a:xfrm>
            <a:off x="5846760" y="3562920"/>
            <a:ext cx="761760" cy="3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341"/>
              </a:lnSpc>
              <a:spcBef>
                <a:spcPts val="116"/>
              </a:spcBef>
            </a:pP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300" spc="-26" strike="noStrike" baseline="2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ems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bject 2"/>
          <p:cNvSpPr/>
          <p:nvPr/>
        </p:nvSpPr>
        <p:spPr>
          <a:xfrm>
            <a:off x="1799640" y="6666120"/>
            <a:ext cx="200160" cy="1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1324"/>
              </a:lnSpc>
              <a:spcBef>
                <a:spcPts val="65"/>
              </a:spcBef>
            </a:pPr>
            <a:r>
              <a:rPr b="0" lang="en-US" sz="1200" spc="-1" strike="noStrike">
                <a:solidFill>
                  <a:srgbClr val="888888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object 14"/>
          <p:cNvSpPr/>
          <p:nvPr/>
        </p:nvSpPr>
        <p:spPr>
          <a:xfrm>
            <a:off x="457200" y="1508040"/>
            <a:ext cx="4038120" cy="36730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bject 13"/>
          <p:cNvSpPr/>
          <p:nvPr/>
        </p:nvSpPr>
        <p:spPr>
          <a:xfrm>
            <a:off x="2768400" y="425160"/>
            <a:ext cx="15703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4175"/>
              </a:lnSpc>
              <a:spcBef>
                <a:spcPts val="207"/>
              </a:spcBef>
            </a:pPr>
            <a:r>
              <a:rPr b="0" lang="en-US" sz="6000" spc="-46" strike="noStrike" baseline="3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6000" spc="-29" strike="noStrike" baseline="3000">
                <a:solidFill>
                  <a:srgbClr val="000000"/>
                </a:solidFill>
                <a:latin typeface="Calibri"/>
              </a:rPr>
              <a:t>y</a:t>
            </a:r>
            <a:r>
              <a:rPr b="0" lang="en-US" sz="6000" spc="-52" strike="noStrike" baseline="3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6000" spc="-41" strike="noStrike" baseline="3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6000" spc="-1" strike="noStrike" baseline="3000">
                <a:solidFill>
                  <a:srgbClr val="000000"/>
                </a:solidFill>
                <a:latin typeface="Calibri"/>
              </a:rPr>
              <a:t>e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bject 12"/>
          <p:cNvSpPr/>
          <p:nvPr/>
        </p:nvSpPr>
        <p:spPr>
          <a:xfrm>
            <a:off x="4353840" y="425160"/>
            <a:ext cx="20998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4175"/>
              </a:lnSpc>
              <a:spcBef>
                <a:spcPts val="207"/>
              </a:spcBef>
            </a:pPr>
            <a:r>
              <a:rPr b="0" lang="en-US" sz="6000" spc="-1" strike="noStrike" baseline="3000">
                <a:solidFill>
                  <a:srgbClr val="000000"/>
                </a:solidFill>
                <a:latin typeface="Calibri"/>
              </a:rPr>
              <a:t>Bou</a:t>
            </a:r>
            <a:r>
              <a:rPr b="0" lang="en-US" sz="6000" spc="1" strike="noStrike" baseline="3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6000" spc="-1" strike="noStrike" baseline="3000">
                <a:solidFill>
                  <a:srgbClr val="000000"/>
                </a:solidFill>
                <a:latin typeface="Calibri"/>
              </a:rPr>
              <a:t>da</a:t>
            </a:r>
            <a:r>
              <a:rPr b="0" lang="en-US" sz="6000" spc="26" strike="noStrike" baseline="3000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6000" spc="-1" strike="noStrike" baseline="3000">
                <a:solidFill>
                  <a:srgbClr val="000000"/>
                </a:solidFill>
                <a:latin typeface="Calibri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bject 11"/>
          <p:cNvSpPr/>
          <p:nvPr/>
        </p:nvSpPr>
        <p:spPr>
          <a:xfrm>
            <a:off x="4727880" y="1668240"/>
            <a:ext cx="194760" cy="3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344"/>
              </a:lnSpc>
              <a:spcBef>
                <a:spcPts val="116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</a:rPr>
              <a:t>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bject 10"/>
          <p:cNvSpPr/>
          <p:nvPr/>
        </p:nvSpPr>
        <p:spPr>
          <a:xfrm>
            <a:off x="4956480" y="1684800"/>
            <a:ext cx="350856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341"/>
              </a:lnSpc>
              <a:spcBef>
                <a:spcPts val="116"/>
              </a:spcBef>
            </a:pP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Mar</a:t>
            </a:r>
            <a:r>
              <a:rPr b="0" lang="en-US" sz="3300" spc="-26" strike="noStrike" baseline="2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3300" spc="-55" strike="noStrike" baseline="2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300" spc="1" strike="noStrike" baseline="2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300" spc="-21" strike="noStrike" baseline="2000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3300" spc="-7" strike="noStrike" baseline="2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the</a:t>
            </a:r>
            <a:r>
              <a:rPr b="0" lang="en-US" sz="3300" spc="-29" strike="noStrike" baseline="2000">
                <a:solidFill>
                  <a:srgbClr val="000000"/>
                </a:solidFill>
                <a:latin typeface="Calibri"/>
              </a:rPr>
              <a:t> s</a:t>
            </a:r>
            <a:r>
              <a:rPr b="0" lang="en-US" sz="3300" spc="-21" strike="noStrike" baseline="2000">
                <a:solidFill>
                  <a:srgbClr val="000000"/>
                </a:solidFill>
                <a:latin typeface="Calibri"/>
              </a:rPr>
              <a:t>ys</a:t>
            </a:r>
            <a:r>
              <a:rPr b="0" lang="en-US" sz="3300" spc="-29" strike="noStrike" baseline="2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em</a:t>
            </a:r>
            <a:r>
              <a:rPr b="0" lang="en-US" sz="3300" spc="-32" strike="noStrike" baseline="2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a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ts val="2639"/>
              </a:lnSpc>
              <a:spcBef>
                <a:spcPts val="14"/>
              </a:spcBef>
            </a:pPr>
            <a:r>
              <a:rPr b="0" lang="en-US" sz="3300" spc="-1" strike="noStrike" baseline="1000">
                <a:solidFill>
                  <a:srgbClr val="000000"/>
                </a:solidFill>
                <a:latin typeface="Calibri"/>
              </a:rPr>
              <a:t>sep</a:t>
            </a:r>
            <a:r>
              <a:rPr b="0" lang="en-US" sz="3300" spc="1" strike="noStrike" baseline="1000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300" spc="-46" strike="noStrike" baseline="1000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3300" spc="-21" strike="noStrike" baseline="1000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300" spc="-29" strike="noStrike" baseline="1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300" spc="-1" strike="noStrike" baseline="1000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3300" spc="-72" strike="noStrike" baseline="1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300" spc="1" strike="noStrike" baseline="1000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3300" spc="-35" strike="noStrike" baseline="1000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3300" spc="1" strike="noStrike" baseline="1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300" spc="-1" strike="noStrike" baseline="1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3300" spc="-29" strike="noStrike" baseline="1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300" spc="-1" strike="noStrike" baseline="1000">
                <a:solidFill>
                  <a:srgbClr val="000000"/>
                </a:solidFill>
                <a:latin typeface="Calibri"/>
              </a:rPr>
              <a:t>its</a:t>
            </a:r>
            <a:r>
              <a:rPr b="0" lang="en-US" sz="3300" spc="-21" strike="noStrike" baseline="1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300" spc="-1" strike="noStrike" baseline="1000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3300" spc="-41" strike="noStrike" baseline="1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300" spc="-1" strike="noStrike" baseline="1000">
                <a:solidFill>
                  <a:srgbClr val="000000"/>
                </a:solidFill>
                <a:latin typeface="Calibri"/>
              </a:rPr>
              <a:t>vi</a:t>
            </a:r>
            <a:r>
              <a:rPr b="0" lang="en-US" sz="3300" spc="-29" strike="noStrike" baseline="1000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3300" spc="1" strike="noStrike" baseline="1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300" spc="-1" strike="noStrike" baseline="1000">
                <a:solidFill>
                  <a:srgbClr val="000000"/>
                </a:solidFill>
                <a:latin typeface="Calibri"/>
              </a:rPr>
              <a:t>nme</a:t>
            </a:r>
            <a:r>
              <a:rPr b="0" lang="en-US" sz="3300" spc="-29" strike="noStrike" baseline="1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300" spc="-1" strike="noStrike" baseline="1000">
                <a:solidFill>
                  <a:srgbClr val="000000"/>
                </a:solidFill>
                <a:latin typeface="Calibri"/>
              </a:rPr>
              <a:t>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bject 9"/>
          <p:cNvSpPr/>
          <p:nvPr/>
        </p:nvSpPr>
        <p:spPr>
          <a:xfrm>
            <a:off x="4727880" y="2808360"/>
            <a:ext cx="194760" cy="3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344"/>
              </a:lnSpc>
              <a:spcBef>
                <a:spcPts val="116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</a:rPr>
              <a:t>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bject 8"/>
          <p:cNvSpPr/>
          <p:nvPr/>
        </p:nvSpPr>
        <p:spPr>
          <a:xfrm>
            <a:off x="4956480" y="2825280"/>
            <a:ext cx="2125440" cy="3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341"/>
              </a:lnSpc>
              <a:spcBef>
                <a:spcPts val="116"/>
              </a:spcBef>
            </a:pP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Ac</a:t>
            </a:r>
            <a:r>
              <a:rPr b="0" lang="en-US" sz="3300" spc="-29" strike="noStrike" baseline="2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300" spc="1" strike="noStrike" baseline="2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300" spc="-35" strike="noStrike" baseline="2000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3300" spc="-49" strike="noStrike" baseline="2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300" spc="-15" strike="noStrike" baseline="2000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3300" spc="-29" strike="noStrike" baseline="2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outsid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bject 7"/>
          <p:cNvSpPr/>
          <p:nvPr/>
        </p:nvSpPr>
        <p:spPr>
          <a:xfrm>
            <a:off x="4727880" y="3613320"/>
            <a:ext cx="194760" cy="3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344"/>
              </a:lnSpc>
              <a:spcBef>
                <a:spcPts val="116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</a:rPr>
              <a:t>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bject 6"/>
          <p:cNvSpPr/>
          <p:nvPr/>
        </p:nvSpPr>
        <p:spPr>
          <a:xfrm>
            <a:off x="4956480" y="3629880"/>
            <a:ext cx="3348000" cy="3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341"/>
              </a:lnSpc>
              <a:spcBef>
                <a:spcPts val="116"/>
              </a:spcBef>
            </a:pP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When</a:t>
            </a:r>
            <a:r>
              <a:rPr b="0" lang="en-US" sz="3300" spc="-38" strike="noStrike" baseline="2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no</a:t>
            </a:r>
            <a:r>
              <a:rPr b="0" lang="en-US" sz="3300" spc="-24" strike="noStrike" baseline="2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300" spc="-29" strike="noStrike" baseline="2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3300" spc="-21" strike="noStrike" baseline="2000">
                <a:solidFill>
                  <a:srgbClr val="000000"/>
                </a:solidFill>
                <a:latin typeface="Calibri"/>
              </a:rPr>
              <a:t>ys</a:t>
            </a:r>
            <a:r>
              <a:rPr b="0" lang="en-US" sz="3300" spc="-29" strike="noStrike" baseline="2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em</a:t>
            </a:r>
            <a:r>
              <a:rPr b="0" lang="en-US" sz="3300" spc="-32" strike="noStrike" baseline="2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bounda</a:t>
            </a:r>
            <a:r>
              <a:rPr b="0" lang="en-US" sz="3300" spc="7" strike="noStrike" baseline="2000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y</a:t>
            </a:r>
            <a:r>
              <a:rPr b="0" lang="en-US" sz="3300" spc="-100" strike="noStrike" baseline="2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i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bject 5"/>
          <p:cNvSpPr/>
          <p:nvPr/>
        </p:nvSpPr>
        <p:spPr>
          <a:xfrm>
            <a:off x="4956480" y="3965400"/>
            <a:ext cx="1326600" cy="3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341"/>
              </a:lnSpc>
              <a:spcBef>
                <a:spcPts val="116"/>
              </a:spcBef>
            </a:pP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shown,</a:t>
            </a:r>
            <a:r>
              <a:rPr b="0" lang="en-US" sz="3300" spc="-66" strike="noStrike" baseline="2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th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bject 4"/>
          <p:cNvSpPr/>
          <p:nvPr/>
        </p:nvSpPr>
        <p:spPr>
          <a:xfrm>
            <a:off x="6280560" y="3965400"/>
            <a:ext cx="853560" cy="3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341"/>
              </a:lnSpc>
              <a:spcBef>
                <a:spcPts val="116"/>
              </a:spcBef>
            </a:pPr>
            <a:r>
              <a:rPr b="0" lang="en-US" sz="3300" spc="-29" strike="noStrike" baseline="2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3300" spc="-21" strike="noStrike" baseline="2000">
                <a:solidFill>
                  <a:srgbClr val="000000"/>
                </a:solidFill>
                <a:latin typeface="Calibri"/>
              </a:rPr>
              <a:t>ys</a:t>
            </a:r>
            <a:r>
              <a:rPr b="0" lang="en-US" sz="3300" spc="-29" strike="noStrike" baseline="2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em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bject 3"/>
          <p:cNvSpPr/>
          <p:nvPr/>
        </p:nvSpPr>
        <p:spPr>
          <a:xfrm>
            <a:off x="7134120" y="3965400"/>
            <a:ext cx="1310400" cy="3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341"/>
              </a:lnSpc>
              <a:spcBef>
                <a:spcPts val="116"/>
              </a:spcBef>
            </a:pP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is</a:t>
            </a:r>
            <a:r>
              <a:rPr b="0" lang="en-US" sz="3300" spc="-15" strike="noStrike" baseline="2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300" spc="1" strike="noStrike" baseline="2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sumed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bject 2"/>
          <p:cNvSpPr/>
          <p:nvPr/>
        </p:nvSpPr>
        <p:spPr>
          <a:xfrm>
            <a:off x="1799640" y="6666120"/>
            <a:ext cx="200160" cy="1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1324"/>
              </a:lnSpc>
              <a:spcBef>
                <a:spcPts val="65"/>
              </a:spcBef>
            </a:pPr>
            <a:r>
              <a:rPr b="0" lang="en-US" sz="1200" spc="-1" strike="noStrike">
                <a:solidFill>
                  <a:srgbClr val="888888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object 16"/>
          <p:cNvSpPr/>
          <p:nvPr/>
        </p:nvSpPr>
        <p:spPr>
          <a:xfrm>
            <a:off x="1728720" y="1523880"/>
            <a:ext cx="1495080" cy="20062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bject 10"/>
          <p:cNvSpPr/>
          <p:nvPr/>
        </p:nvSpPr>
        <p:spPr>
          <a:xfrm>
            <a:off x="2383200" y="4320000"/>
            <a:ext cx="134280" cy="144360"/>
          </a:xfrm>
          <a:custGeom>
            <a:avLst/>
            <a:gdLst>
              <a:gd name="textAreaLeft" fmla="*/ 0 w 134280"/>
              <a:gd name="textAreaRight" fmla="*/ 134640 w 13428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134746" h="144779">
                <a:moveTo>
                  <a:pt x="0" y="72390"/>
                </a:moveTo>
                <a:lnTo>
                  <a:pt x="1445" y="57413"/>
                </a:lnTo>
                <a:lnTo>
                  <a:pt x="5583" y="43503"/>
                </a:lnTo>
                <a:lnTo>
                  <a:pt x="12120" y="30976"/>
                </a:lnTo>
                <a:lnTo>
                  <a:pt x="20761" y="20145"/>
                </a:lnTo>
                <a:lnTo>
                  <a:pt x="31210" y="11325"/>
                </a:lnTo>
                <a:lnTo>
                  <a:pt x="43172" y="4829"/>
                </a:lnTo>
                <a:lnTo>
                  <a:pt x="56354" y="973"/>
                </a:lnTo>
                <a:lnTo>
                  <a:pt x="67437" y="0"/>
                </a:lnTo>
                <a:lnTo>
                  <a:pt x="81378" y="1551"/>
                </a:lnTo>
                <a:lnTo>
                  <a:pt x="94323" y="5994"/>
                </a:lnTo>
                <a:lnTo>
                  <a:pt x="105978" y="13015"/>
                </a:lnTo>
                <a:lnTo>
                  <a:pt x="116052" y="22298"/>
                </a:lnTo>
                <a:lnTo>
                  <a:pt x="124251" y="33528"/>
                </a:lnTo>
                <a:lnTo>
                  <a:pt x="130283" y="46390"/>
                </a:lnTo>
                <a:lnTo>
                  <a:pt x="133855" y="60568"/>
                </a:lnTo>
                <a:lnTo>
                  <a:pt x="134746" y="72390"/>
                </a:lnTo>
                <a:lnTo>
                  <a:pt x="133305" y="87379"/>
                </a:lnTo>
                <a:lnTo>
                  <a:pt x="129174" y="101299"/>
                </a:lnTo>
                <a:lnTo>
                  <a:pt x="122648" y="113834"/>
                </a:lnTo>
                <a:lnTo>
                  <a:pt x="114018" y="124669"/>
                </a:lnTo>
                <a:lnTo>
                  <a:pt x="103577" y="133488"/>
                </a:lnTo>
                <a:lnTo>
                  <a:pt x="91617" y="139977"/>
                </a:lnTo>
                <a:lnTo>
                  <a:pt x="78432" y="143821"/>
                </a:lnTo>
                <a:lnTo>
                  <a:pt x="67437" y="144780"/>
                </a:lnTo>
                <a:lnTo>
                  <a:pt x="53501" y="143231"/>
                </a:lnTo>
                <a:lnTo>
                  <a:pt x="40551" y="138795"/>
                </a:lnTo>
                <a:lnTo>
                  <a:pt x="28881" y="131785"/>
                </a:lnTo>
                <a:lnTo>
                  <a:pt x="18787" y="122517"/>
                </a:lnTo>
                <a:lnTo>
                  <a:pt x="10564" y="111304"/>
                </a:lnTo>
                <a:lnTo>
                  <a:pt x="4506" y="98461"/>
                </a:lnTo>
                <a:lnTo>
                  <a:pt x="908" y="84301"/>
                </a:lnTo>
                <a:lnTo>
                  <a:pt x="0" y="72390"/>
                </a:lnTo>
                <a:close/>
              </a:path>
            </a:pathLst>
          </a:custGeom>
          <a:noFill/>
          <a:ln w="1778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bject 11"/>
          <p:cNvSpPr/>
          <p:nvPr/>
        </p:nvSpPr>
        <p:spPr>
          <a:xfrm>
            <a:off x="2444760" y="4458600"/>
            <a:ext cx="360" cy="125640"/>
          </a:xfrm>
          <a:custGeom>
            <a:avLst/>
            <a:gdLst>
              <a:gd name="textAreaLeft" fmla="*/ 0 w 360"/>
              <a:gd name="textAreaRight" fmla="*/ 720 w 360"/>
              <a:gd name="textAreaTop" fmla="*/ 0 h 125640"/>
              <a:gd name="textAreaBottom" fmla="*/ 126000 h 125640"/>
            </a:gdLst>
            <a:ahLst/>
            <a:rect l="textAreaLeft" t="textAreaTop" r="textAreaRight" b="textAreaBottom"/>
            <a:pathLst>
              <a:path w="888" h="125857">
                <a:moveTo>
                  <a:pt x="0" y="0"/>
                </a:moveTo>
                <a:lnTo>
                  <a:pt x="888" y="125856"/>
                </a:lnTo>
              </a:path>
            </a:pathLst>
          </a:custGeom>
          <a:noFill/>
          <a:ln w="1778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bject 12"/>
          <p:cNvSpPr/>
          <p:nvPr/>
        </p:nvSpPr>
        <p:spPr>
          <a:xfrm>
            <a:off x="2339280" y="4492080"/>
            <a:ext cx="209520" cy="720"/>
          </a:xfrm>
          <a:custGeom>
            <a:avLst/>
            <a:gdLst>
              <a:gd name="textAreaLeft" fmla="*/ 0 w 209520"/>
              <a:gd name="textAreaRight" fmla="*/ 209880 w 209520"/>
              <a:gd name="textAreaTop" fmla="*/ 0 h 720"/>
              <a:gd name="textAreaBottom" fmla="*/ 1080 h 720"/>
            </a:gdLst>
            <a:ahLst/>
            <a:rect l="textAreaLeft" t="textAreaTop" r="textAreaRight" b="textAreaBottom"/>
            <a:pathLst>
              <a:path w="210057" h="1015">
                <a:moveTo>
                  <a:pt x="0" y="0"/>
                </a:moveTo>
                <a:lnTo>
                  <a:pt x="210057" y="1015"/>
                </a:lnTo>
              </a:path>
            </a:pathLst>
          </a:custGeom>
          <a:noFill/>
          <a:ln w="1778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bject 13"/>
          <p:cNvSpPr/>
          <p:nvPr/>
        </p:nvSpPr>
        <p:spPr>
          <a:xfrm>
            <a:off x="2302920" y="4584600"/>
            <a:ext cx="281880" cy="150480"/>
          </a:xfrm>
          <a:custGeom>
            <a:avLst/>
            <a:gdLst>
              <a:gd name="textAreaLeft" fmla="*/ 0 w 281880"/>
              <a:gd name="textAreaRight" fmla="*/ 282240 w 281880"/>
              <a:gd name="textAreaTop" fmla="*/ 0 h 150480"/>
              <a:gd name="textAreaBottom" fmla="*/ 150840 h 150480"/>
            </a:gdLst>
            <a:ahLst/>
            <a:rect l="textAreaLeft" t="textAreaTop" r="textAreaRight" b="textAreaBottom"/>
            <a:pathLst>
              <a:path w="282320" h="150875">
                <a:moveTo>
                  <a:pt x="0" y="150875"/>
                </a:moveTo>
                <a:lnTo>
                  <a:pt x="141224" y="0"/>
                </a:lnTo>
                <a:lnTo>
                  <a:pt x="282320" y="150875"/>
                </a:lnTo>
              </a:path>
            </a:pathLst>
          </a:custGeom>
          <a:noFill/>
          <a:ln w="1778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bject 14"/>
          <p:cNvSpPr/>
          <p:nvPr/>
        </p:nvSpPr>
        <p:spPr>
          <a:xfrm>
            <a:off x="1860480" y="4096800"/>
            <a:ext cx="1265400" cy="1207440"/>
          </a:xfrm>
          <a:custGeom>
            <a:avLst/>
            <a:gdLst>
              <a:gd name="textAreaLeft" fmla="*/ 0 w 1265400"/>
              <a:gd name="textAreaRight" fmla="*/ 1265760 w 1265400"/>
              <a:gd name="textAreaTop" fmla="*/ 0 h 1207440"/>
              <a:gd name="textAreaBottom" fmla="*/ 1207800 h 1207440"/>
            </a:gdLst>
            <a:ahLst/>
            <a:rect l="textAreaLeft" t="textAreaTop" r="textAreaRight" b="textAreaBottom"/>
            <a:pathLst>
              <a:path w="1265936" h="1207770">
                <a:moveTo>
                  <a:pt x="0" y="0"/>
                </a:moveTo>
                <a:lnTo>
                  <a:pt x="1265936" y="1207769"/>
                </a:lnTo>
              </a:path>
            </a:pathLst>
          </a:custGeom>
          <a:noFill/>
          <a:ln w="254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bject 15"/>
          <p:cNvSpPr/>
          <p:nvPr/>
        </p:nvSpPr>
        <p:spPr>
          <a:xfrm>
            <a:off x="1720080" y="3945960"/>
            <a:ext cx="1359360" cy="1509480"/>
          </a:xfrm>
          <a:custGeom>
            <a:avLst/>
            <a:gdLst>
              <a:gd name="textAreaLeft" fmla="*/ 0 w 1359360"/>
              <a:gd name="textAreaRight" fmla="*/ 1359720 w 1359360"/>
              <a:gd name="textAreaTop" fmla="*/ 0 h 1509480"/>
              <a:gd name="textAreaBottom" fmla="*/ 1509840 h 1509480"/>
            </a:gdLst>
            <a:ahLst/>
            <a:rect l="textAreaLeft" t="textAreaTop" r="textAreaRight" b="textAreaBottom"/>
            <a:pathLst>
              <a:path w="1359662" h="1509776">
                <a:moveTo>
                  <a:pt x="0" y="1509776"/>
                </a:moveTo>
                <a:lnTo>
                  <a:pt x="1359662" y="0"/>
                </a:lnTo>
              </a:path>
            </a:pathLst>
          </a:custGeom>
          <a:noFill/>
          <a:ln w="254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bject 9"/>
          <p:cNvSpPr/>
          <p:nvPr/>
        </p:nvSpPr>
        <p:spPr>
          <a:xfrm>
            <a:off x="3999600" y="425160"/>
            <a:ext cx="1221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4175"/>
              </a:lnSpc>
              <a:spcBef>
                <a:spcPts val="207"/>
              </a:spcBef>
            </a:pPr>
            <a:r>
              <a:rPr b="0" lang="en-US" sz="6000" spc="-1" strike="noStrike" baseline="3000">
                <a:solidFill>
                  <a:srgbClr val="000000"/>
                </a:solidFill>
                <a:latin typeface="Calibri"/>
              </a:rPr>
              <a:t>Ac</a:t>
            </a:r>
            <a:r>
              <a:rPr b="0" lang="en-US" sz="6000" spc="-26" strike="noStrike" baseline="3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6000" spc="-1" strike="noStrike" baseline="3000">
                <a:solidFill>
                  <a:srgbClr val="000000"/>
                </a:solidFill>
                <a:latin typeface="Calibri"/>
              </a:rPr>
              <a:t>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bject 8"/>
          <p:cNvSpPr/>
          <p:nvPr/>
        </p:nvSpPr>
        <p:spPr>
          <a:xfrm>
            <a:off x="4727880" y="1668240"/>
            <a:ext cx="194760" cy="3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344"/>
              </a:lnSpc>
              <a:spcBef>
                <a:spcPts val="116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</a:rPr>
              <a:t>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bject 7"/>
          <p:cNvSpPr/>
          <p:nvPr/>
        </p:nvSpPr>
        <p:spPr>
          <a:xfrm>
            <a:off x="4956480" y="1684800"/>
            <a:ext cx="365904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341"/>
              </a:lnSpc>
              <a:spcBef>
                <a:spcPts val="116"/>
              </a:spcBef>
            </a:pP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3300" spc="1" strike="noStrike" baseline="2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meone</a:t>
            </a:r>
            <a:r>
              <a:rPr b="0" lang="en-US" sz="3300" spc="-55" strike="noStrike" baseline="2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300" spc="1" strike="noStrike" baseline="2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3300" spc="-21" strike="noStrike" baseline="2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3300" spc="1" strike="noStrike" baseline="2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3300" spc="-15" strike="noStrike" baseline="2000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thing</a:t>
            </a:r>
            <a:r>
              <a:rPr b="0" lang="en-US" sz="3300" spc="-86" strike="noStrike" baseline="2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300" spc="1" strike="noStrike" baseline="2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utsid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ts val="2639"/>
              </a:lnSpc>
              <a:spcBef>
                <a:spcPts val="14"/>
              </a:spcBef>
            </a:pPr>
            <a:r>
              <a:rPr b="0" lang="en-US" sz="3300" spc="-1" strike="noStrike" baseline="1000">
                <a:solidFill>
                  <a:srgbClr val="000000"/>
                </a:solidFill>
                <a:latin typeface="Calibri"/>
              </a:rPr>
              <a:t>the</a:t>
            </a:r>
            <a:r>
              <a:rPr b="0" lang="en-US" sz="3300" spc="-21" strike="noStrike" baseline="1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300" spc="-29" strike="noStrike" baseline="1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3300" spc="-21" strike="noStrike" baseline="1000">
                <a:solidFill>
                  <a:srgbClr val="000000"/>
                </a:solidFill>
                <a:latin typeface="Calibri"/>
              </a:rPr>
              <a:t>ys</a:t>
            </a:r>
            <a:r>
              <a:rPr b="0" lang="en-US" sz="3300" spc="-29" strike="noStrike" baseline="1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300" spc="-1" strike="noStrike" baseline="1000">
                <a:solidFill>
                  <a:srgbClr val="000000"/>
                </a:solidFill>
                <a:latin typeface="Calibri"/>
              </a:rPr>
              <a:t>em</a:t>
            </a:r>
            <a:r>
              <a:rPr b="0" lang="en-US" sz="3300" spc="-41" strike="noStrike" baseline="1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300" spc="-1" strike="noStrike" baseline="1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300" spc="-26" strike="noStrike" baseline="1000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300" spc="-1" strike="noStrike" baseline="1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300" spc="-21" strike="noStrike" baseline="1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300" spc="-1" strike="noStrike" baseline="1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300" spc="-26" strike="noStrike" baseline="1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300" spc="-29" strike="noStrike" baseline="1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300" spc="-1" strike="noStrike" baseline="1000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3300" spc="-46" strike="noStrike" baseline="1000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3300" spc="-1" strike="noStrike" baseline="1000">
                <a:solidFill>
                  <a:srgbClr val="000000"/>
                </a:solidFill>
                <a:latin typeface="Calibri"/>
              </a:rPr>
              <a:t>acts</a:t>
            </a:r>
            <a:r>
              <a:rPr b="0" lang="en-US" sz="3300" spc="-66" strike="noStrike" baseline="1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300" spc="-1" strike="noStrike" baseline="1000">
                <a:solidFill>
                  <a:srgbClr val="000000"/>
                </a:solidFill>
                <a:latin typeface="Calibri"/>
              </a:rPr>
              <a:t>with</a:t>
            </a:r>
            <a:r>
              <a:rPr b="0" lang="en-US" sz="3300" spc="-41" strike="noStrike" baseline="1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300" spc="-1" strike="noStrike" baseline="1000">
                <a:solidFill>
                  <a:srgbClr val="000000"/>
                </a:solidFill>
                <a:latin typeface="Calibri"/>
              </a:rPr>
              <a:t>i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bject 6"/>
          <p:cNvSpPr/>
          <p:nvPr/>
        </p:nvSpPr>
        <p:spPr>
          <a:xfrm>
            <a:off x="4727880" y="2808360"/>
            <a:ext cx="194760" cy="3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344"/>
              </a:lnSpc>
              <a:spcBef>
                <a:spcPts val="116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</a:rPr>
              <a:t>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bject 5"/>
          <p:cNvSpPr/>
          <p:nvPr/>
        </p:nvSpPr>
        <p:spPr>
          <a:xfrm>
            <a:off x="4956480" y="2825280"/>
            <a:ext cx="279720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341"/>
              </a:lnSpc>
              <a:spcBef>
                <a:spcPts val="116"/>
              </a:spcBef>
            </a:pP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Ac</a:t>
            </a:r>
            <a:r>
              <a:rPr b="0" lang="en-US" sz="3300" spc="-35" strike="noStrike" baseline="2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300" spc="1" strike="noStrike" baseline="2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300" spc="-35" strike="noStrike" baseline="2000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3300" spc="-12" strike="noStrike" baseline="2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300" spc="-21" strike="noStrike" baseline="2000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ep</a:t>
            </a:r>
            <a:r>
              <a:rPr b="0" lang="en-US" sz="3300" spc="-26" strike="noStrike" baseline="2000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ese</a:t>
            </a:r>
            <a:r>
              <a:rPr b="0" lang="en-US" sz="3300" spc="-21" strike="noStrike" baseline="2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300" spc="-72" strike="noStrike" baseline="2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300" spc="7" strike="noStrike" baseline="2000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300" spc="-35" strike="noStrike" baseline="2000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3300" spc="1" strike="noStrike" baseline="2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les”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ts val="2639"/>
              </a:lnSpc>
              <a:spcBef>
                <a:spcPts val="14"/>
              </a:spcBef>
            </a:pPr>
            <a:r>
              <a:rPr b="0" lang="en-US" sz="3300" spc="-1" strike="noStrike" baseline="1000">
                <a:solidFill>
                  <a:srgbClr val="000000"/>
                </a:solidFill>
                <a:latin typeface="Calibri"/>
              </a:rPr>
              <a:t>individual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bject 4"/>
          <p:cNvSpPr/>
          <p:nvPr/>
        </p:nvSpPr>
        <p:spPr>
          <a:xfrm>
            <a:off x="7751520" y="2825280"/>
            <a:ext cx="453600" cy="3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341"/>
              </a:lnSpc>
              <a:spcBef>
                <a:spcPts val="116"/>
              </a:spcBef>
            </a:pP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no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bject 3"/>
          <p:cNvSpPr/>
          <p:nvPr/>
        </p:nvSpPr>
        <p:spPr>
          <a:xfrm>
            <a:off x="2223360" y="4836960"/>
            <a:ext cx="849960" cy="3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554"/>
              </a:lnSpc>
              <a:spcBef>
                <a:spcPts val="128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bject 2"/>
          <p:cNvSpPr/>
          <p:nvPr/>
        </p:nvSpPr>
        <p:spPr>
          <a:xfrm>
            <a:off x="1799640" y="6666120"/>
            <a:ext cx="200160" cy="1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1324"/>
              </a:lnSpc>
              <a:spcBef>
                <a:spcPts val="65"/>
              </a:spcBef>
            </a:pPr>
            <a:r>
              <a:rPr b="0" lang="en-US" sz="1200" spc="-1" strike="noStrike">
                <a:solidFill>
                  <a:srgbClr val="888888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7772040" cy="108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373040"/>
            <a:ext cx="83055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9760" indent="-3297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ctor represents a set of roles that users of use case play when interacting with these use cas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760" indent="-3297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ors can be human or automated system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760" indent="-3297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ors are entities which require help from the system to perform their task or are needed to execute the system’s func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760" indent="-3297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ors are not part of the syste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13"/>
          <p:cNvGrpSpPr/>
          <p:nvPr/>
        </p:nvGrpSpPr>
        <p:grpSpPr>
          <a:xfrm>
            <a:off x="7238880" y="4191120"/>
            <a:ext cx="914040" cy="1384920"/>
            <a:chOff x="7238880" y="4191120"/>
            <a:chExt cx="914040" cy="1384920"/>
          </a:xfrm>
        </p:grpSpPr>
        <p:sp>
          <p:nvSpPr>
            <p:cNvPr id="371" name="Oval 4"/>
            <p:cNvSpPr/>
            <p:nvPr/>
          </p:nvSpPr>
          <p:spPr>
            <a:xfrm>
              <a:off x="7467480" y="4191120"/>
              <a:ext cx="304560" cy="304560"/>
            </a:xfrm>
            <a:prstGeom prst="ellipse">
              <a:avLst/>
            </a:prstGeom>
            <a:noFill/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5"/>
            <p:cNvSpPr/>
            <p:nvPr/>
          </p:nvSpPr>
          <p:spPr>
            <a:xfrm>
              <a:off x="7619760" y="4495680"/>
              <a:ext cx="360" cy="53352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6"/>
            <p:cNvSpPr/>
            <p:nvPr/>
          </p:nvSpPr>
          <p:spPr>
            <a:xfrm>
              <a:off x="7619760" y="4647960"/>
              <a:ext cx="304920" cy="15264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8"/>
            <p:cNvSpPr/>
            <p:nvPr/>
          </p:nvSpPr>
          <p:spPr>
            <a:xfrm flipH="1">
              <a:off x="7391160" y="4647960"/>
              <a:ext cx="228600" cy="15264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9"/>
            <p:cNvSpPr/>
            <p:nvPr/>
          </p:nvSpPr>
          <p:spPr>
            <a:xfrm>
              <a:off x="7619760" y="5029200"/>
              <a:ext cx="152640" cy="15228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10"/>
            <p:cNvSpPr/>
            <p:nvPr/>
          </p:nvSpPr>
          <p:spPr>
            <a:xfrm flipH="1">
              <a:off x="7467480" y="5029200"/>
              <a:ext cx="152280" cy="15228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Text Box 12"/>
            <p:cNvSpPr/>
            <p:nvPr/>
          </p:nvSpPr>
          <p:spPr>
            <a:xfrm>
              <a:off x="7238880" y="5181480"/>
              <a:ext cx="91404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Use Cases and 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93980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perspective of a given actor, a use case does something that is of value to the actor, such as calculate a result or change the state of an objec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tors define the environments in which the system liv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object 15"/>
          <p:cNvSpPr/>
          <p:nvPr/>
        </p:nvSpPr>
        <p:spPr>
          <a:xfrm>
            <a:off x="533520" y="1517760"/>
            <a:ext cx="3885840" cy="16822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bject 14"/>
          <p:cNvSpPr/>
          <p:nvPr/>
        </p:nvSpPr>
        <p:spPr>
          <a:xfrm>
            <a:off x="3630960" y="425160"/>
            <a:ext cx="8784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4175"/>
              </a:lnSpc>
              <a:spcBef>
                <a:spcPts val="207"/>
              </a:spcBef>
            </a:pPr>
            <a:r>
              <a:rPr b="0" lang="en-US" sz="6000" spc="-1" strike="noStrike" baseline="3000">
                <a:solidFill>
                  <a:srgbClr val="000000"/>
                </a:solidFill>
                <a:latin typeface="Calibri"/>
              </a:rPr>
              <a:t>U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bject 13"/>
          <p:cNvSpPr/>
          <p:nvPr/>
        </p:nvSpPr>
        <p:spPr>
          <a:xfrm>
            <a:off x="4523040" y="425160"/>
            <a:ext cx="10663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4175"/>
              </a:lnSpc>
              <a:spcBef>
                <a:spcPts val="207"/>
              </a:spcBef>
            </a:pPr>
            <a:r>
              <a:rPr b="0" lang="en-US" sz="6000" spc="-1" strike="noStrike" baseline="3000">
                <a:solidFill>
                  <a:srgbClr val="000000"/>
                </a:solidFill>
                <a:latin typeface="Calibri"/>
              </a:rPr>
              <a:t>Ca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bject 12"/>
          <p:cNvSpPr/>
          <p:nvPr/>
        </p:nvSpPr>
        <p:spPr>
          <a:xfrm>
            <a:off x="4727880" y="1668240"/>
            <a:ext cx="194760" cy="3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344"/>
              </a:lnSpc>
              <a:spcBef>
                <a:spcPts val="116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</a:rPr>
              <a:t>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bject 11"/>
          <p:cNvSpPr/>
          <p:nvPr/>
        </p:nvSpPr>
        <p:spPr>
          <a:xfrm>
            <a:off x="4956480" y="1684800"/>
            <a:ext cx="354204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341"/>
              </a:lnSpc>
              <a:spcBef>
                <a:spcPts val="116"/>
              </a:spcBef>
            </a:pP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300" spc="-7" strike="noStrike" baseline="2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use</a:t>
            </a:r>
            <a:r>
              <a:rPr b="0" lang="en-US" sz="3300" spc="-21" strike="noStrike" baseline="2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300" spc="-29" strike="noStrike" baseline="2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300" spc="1" strike="noStrike" baseline="2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3300" spc="-29" strike="noStrike" baseline="2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300" spc="7" strike="noStrike" baseline="2000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ch</a:t>
            </a:r>
            <a:r>
              <a:rPr b="0" lang="en-US" sz="3300" spc="-4" strike="noStrike" baseline="2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300" spc="-9" strike="noStrike" baseline="2000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3300" spc="-21" strike="noStrike" baseline="2000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es</a:t>
            </a:r>
            <a:r>
              <a:rPr b="0" lang="en-US" sz="3300" spc="-66" strike="noStrike" baseline="2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300" spc="-12" strike="noStrike" baseline="2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300" spc="-15" strike="noStrike" baseline="2000">
                <a:solidFill>
                  <a:srgbClr val="000000"/>
                </a:solidFill>
                <a:latin typeface="Calibri"/>
              </a:rPr>
              <a:t>g</a:t>
            </a:r>
            <a:r>
              <a:rPr b="0" lang="en-US" sz="3300" spc="1" strike="noStrike" baseline="2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al</a:t>
            </a:r>
            <a:r>
              <a:rPr b="0" lang="en-US" sz="3300" spc="-38" strike="noStrike" baseline="2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of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ts val="2639"/>
              </a:lnSpc>
              <a:spcBef>
                <a:spcPts val="14"/>
              </a:spcBef>
            </a:pPr>
            <a:r>
              <a:rPr b="0" lang="en-US" sz="3300" spc="-29" strike="noStrike" baseline="1000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3300" spc="-1" strike="noStrike" baseline="1000">
                <a:solidFill>
                  <a:srgbClr val="000000"/>
                </a:solidFill>
                <a:latin typeface="Calibri"/>
              </a:rPr>
              <a:t>alue</a:t>
            </a:r>
            <a:r>
              <a:rPr b="0" lang="en-US" sz="3300" spc="-49" strike="noStrike" baseline="1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300" spc="-29" strike="noStrike" baseline="1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300" spc="-1" strike="noStrike" baseline="1000">
                <a:solidFill>
                  <a:srgbClr val="000000"/>
                </a:solidFill>
                <a:latin typeface="Calibri"/>
              </a:rPr>
              <a:t>o an</a:t>
            </a:r>
            <a:r>
              <a:rPr b="0" lang="en-US" sz="3300" spc="-24" strike="noStrike" baseline="1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300" spc="-1" strike="noStrike" baseline="1000">
                <a:solidFill>
                  <a:srgbClr val="000000"/>
                </a:solidFill>
                <a:latin typeface="Calibri"/>
              </a:rPr>
              <a:t>ac</a:t>
            </a:r>
            <a:r>
              <a:rPr b="0" lang="en-US" sz="3300" spc="-29" strike="noStrike" baseline="1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300" spc="1" strike="noStrike" baseline="1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300" spc="-1" strike="noStrike" baseline="1000">
                <a:solidFill>
                  <a:srgbClr val="000000"/>
                </a:solidFill>
                <a:latin typeface="Calibri"/>
              </a:rPr>
              <a:t>r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ts val="2684"/>
              </a:lnSpc>
              <a:spcBef>
                <a:spcPts val="351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200" spc="-2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nes</a:t>
            </a:r>
            <a:r>
              <a:rPr b="0" lang="en-US" sz="2200" spc="-2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2200" spc="-29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200" spc="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200" spc="-29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i</a:t>
            </a:r>
            <a:r>
              <a:rPr b="0" lang="en-US" sz="2200" spc="-9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 mu</a:t>
            </a:r>
            <a:r>
              <a:rPr b="0" lang="en-US" sz="2200" spc="-26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 b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ts val="2684"/>
              </a:lnSpc>
              <a:spcBef>
                <a:spcPts val="218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pp</a:t>
            </a:r>
            <a:r>
              <a:rPr b="0" lang="en-US" sz="2200" spc="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200" spc="-26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d</a:t>
            </a:r>
            <a:r>
              <a:rPr b="0" lang="en-US" sz="2200" spc="-83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5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en-US" sz="2200" spc="-18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</a:t>
            </a:r>
            <a:r>
              <a:rPr b="0" lang="en-US" sz="22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29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200" spc="-21" strike="noStrike">
                <a:solidFill>
                  <a:srgbClr val="000000"/>
                </a:solidFill>
                <a:latin typeface="Calibri"/>
              </a:rPr>
              <a:t>ys</a:t>
            </a:r>
            <a:r>
              <a:rPr b="0" lang="en-US" sz="2200" spc="-29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ts val="2684"/>
              </a:lnSpc>
              <a:spcBef>
                <a:spcPts val="218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</a:t>
            </a:r>
            <a:r>
              <a:rPr b="0" lang="en-US" sz="2200" spc="-2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2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29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200" spc="-21" strike="noStrike">
                <a:solidFill>
                  <a:srgbClr val="000000"/>
                </a:solidFill>
                <a:latin typeface="Calibri"/>
              </a:rPr>
              <a:t>ys</a:t>
            </a:r>
            <a:r>
              <a:rPr b="0" lang="en-US" sz="2200" spc="-29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m</a:t>
            </a:r>
            <a:r>
              <a:rPr b="0" lang="en-US" sz="22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s</a:t>
            </a:r>
            <a:r>
              <a:rPr b="0" lang="en-US" sz="22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46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200" spc="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2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t</a:t>
            </a:r>
            <a:r>
              <a:rPr b="0" lang="en-US" sz="22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ow</a:t>
            </a:r>
            <a:r>
              <a:rPr b="0" lang="en-US" sz="2200" spc="-38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ts val="2421"/>
              </a:lnSpc>
              <a:spcBef>
                <a:spcPts val="337"/>
              </a:spcBef>
            </a:pP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does</a:t>
            </a:r>
            <a:r>
              <a:rPr b="0" lang="en-US" sz="3300" spc="-32" strike="noStrike" baseline="2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i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1000"/>
              </a:lnSpc>
              <a:spcBef>
                <a:spcPts val="363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200" spc="-29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rts</a:t>
            </a:r>
            <a:r>
              <a:rPr b="0" lang="en-US" sz="22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th</a:t>
            </a:r>
            <a:r>
              <a:rPr b="0" lang="en-US" sz="2200" spc="-49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2200" spc="-18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cti</a:t>
            </a:r>
            <a:r>
              <a:rPr b="0" lang="en-US" sz="2200" spc="-26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200" spc="-5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26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rb</a:t>
            </a:r>
            <a:r>
              <a:rPr b="0" lang="en-US" sz="22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200" spc="-35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200" spc="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bject 10"/>
          <p:cNvSpPr/>
          <p:nvPr/>
        </p:nvSpPr>
        <p:spPr>
          <a:xfrm>
            <a:off x="4727880" y="2405880"/>
            <a:ext cx="19476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344"/>
              </a:lnSpc>
              <a:spcBef>
                <a:spcPts val="116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</a:rPr>
              <a:t>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bject 9"/>
          <p:cNvSpPr/>
          <p:nvPr/>
        </p:nvSpPr>
        <p:spPr>
          <a:xfrm>
            <a:off x="4727880" y="3143880"/>
            <a:ext cx="194760" cy="3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344"/>
              </a:lnSpc>
              <a:spcBef>
                <a:spcPts val="116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</a:rPr>
              <a:t>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bject 8"/>
          <p:cNvSpPr/>
          <p:nvPr/>
        </p:nvSpPr>
        <p:spPr>
          <a:xfrm>
            <a:off x="4727880" y="3881520"/>
            <a:ext cx="194760" cy="3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344"/>
              </a:lnSpc>
              <a:spcBef>
                <a:spcPts val="116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</a:rPr>
              <a:t>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bject 7"/>
          <p:cNvSpPr/>
          <p:nvPr/>
        </p:nvSpPr>
        <p:spPr>
          <a:xfrm>
            <a:off x="4956480" y="4233600"/>
            <a:ext cx="445680" cy="3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341"/>
              </a:lnSpc>
              <a:spcBef>
                <a:spcPts val="116"/>
              </a:spcBef>
            </a:pP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th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bject 6"/>
          <p:cNvSpPr/>
          <p:nvPr/>
        </p:nvSpPr>
        <p:spPr>
          <a:xfrm>
            <a:off x="5399640" y="4233600"/>
            <a:ext cx="956160" cy="3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341"/>
              </a:lnSpc>
              <a:spcBef>
                <a:spcPts val="116"/>
              </a:spcBef>
            </a:pP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poi</a:t>
            </a:r>
            <a:r>
              <a:rPr b="0" lang="en-US" sz="3300" spc="-21" strike="noStrike" baseline="2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300" spc="-49" strike="noStrike" baseline="2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300" spc="1" strike="noStrike" baseline="2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f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bject 5"/>
          <p:cNvSpPr/>
          <p:nvPr/>
        </p:nvSpPr>
        <p:spPr>
          <a:xfrm>
            <a:off x="6353280" y="4233600"/>
            <a:ext cx="594000" cy="3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341"/>
              </a:lnSpc>
              <a:spcBef>
                <a:spcPts val="116"/>
              </a:spcBef>
            </a:pP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vi</a:t>
            </a:r>
            <a:r>
              <a:rPr b="0" lang="en-US" sz="3300" spc="-9" strike="noStrike" baseline="2000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w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bject 4"/>
          <p:cNvSpPr/>
          <p:nvPr/>
        </p:nvSpPr>
        <p:spPr>
          <a:xfrm>
            <a:off x="6944040" y="4233600"/>
            <a:ext cx="299520" cy="3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341"/>
              </a:lnSpc>
              <a:spcBef>
                <a:spcPts val="116"/>
              </a:spcBef>
            </a:pPr>
            <a:r>
              <a:rPr b="0" lang="en-US" sz="3300" spc="1" strike="noStrike" baseline="2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f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object 3"/>
          <p:cNvSpPr/>
          <p:nvPr/>
        </p:nvSpPr>
        <p:spPr>
          <a:xfrm>
            <a:off x="7240680" y="4233600"/>
            <a:ext cx="1295640" cy="3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341"/>
              </a:lnSpc>
              <a:spcBef>
                <a:spcPts val="116"/>
              </a:spcBef>
            </a:pP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the</a:t>
            </a:r>
            <a:r>
              <a:rPr b="0" lang="en-US" sz="3300" spc="-29" strike="noStrike" baseline="2000">
                <a:solidFill>
                  <a:srgbClr val="000000"/>
                </a:solidFill>
                <a:latin typeface="Calibri"/>
              </a:rPr>
              <a:t> s</a:t>
            </a:r>
            <a:r>
              <a:rPr b="0" lang="en-US" sz="3300" spc="-21" strike="noStrike" baseline="2000">
                <a:solidFill>
                  <a:srgbClr val="000000"/>
                </a:solidFill>
                <a:latin typeface="Calibri"/>
              </a:rPr>
              <a:t>ys</a:t>
            </a:r>
            <a:r>
              <a:rPr b="0" lang="en-US" sz="3300" spc="-29" strike="noStrike" baseline="2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em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bject 2"/>
          <p:cNvSpPr/>
          <p:nvPr/>
        </p:nvSpPr>
        <p:spPr>
          <a:xfrm>
            <a:off x="1799640" y="6666120"/>
            <a:ext cx="200160" cy="1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1324"/>
              </a:lnSpc>
              <a:spcBef>
                <a:spcPts val="65"/>
              </a:spcBef>
            </a:pPr>
            <a:r>
              <a:rPr b="0" lang="en-US" sz="1200" spc="-1" strike="noStrike">
                <a:solidFill>
                  <a:srgbClr val="888888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object 10"/>
          <p:cNvSpPr/>
          <p:nvPr/>
        </p:nvSpPr>
        <p:spPr>
          <a:xfrm>
            <a:off x="1835640" y="1066680"/>
            <a:ext cx="5501160" cy="14000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bject 9"/>
          <p:cNvSpPr/>
          <p:nvPr/>
        </p:nvSpPr>
        <p:spPr>
          <a:xfrm>
            <a:off x="304920" y="304920"/>
            <a:ext cx="3573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4175"/>
              </a:lnSpc>
              <a:spcBef>
                <a:spcPts val="207"/>
              </a:spcBef>
            </a:pPr>
            <a:r>
              <a:rPr b="0" lang="en-US" sz="5400" spc="-1" strike="noStrike" baseline="3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5400" spc="7" strike="noStrike" baseline="3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5400" spc="-1" strike="noStrike" baseline="3000">
                <a:solidFill>
                  <a:srgbClr val="000000"/>
                </a:solidFill>
                <a:latin typeface="Arial"/>
              </a:rPr>
              <a:t>mmuni</a:t>
            </a:r>
            <a:r>
              <a:rPr b="0" lang="en-US" sz="5400" spc="-29" strike="noStrike" baseline="3000">
                <a:solidFill>
                  <a:srgbClr val="000000"/>
                </a:solidFill>
                <a:latin typeface="Arial"/>
              </a:rPr>
              <a:t>ca</a:t>
            </a:r>
            <a:r>
              <a:rPr b="0" lang="en-US" sz="5400" spc="-1" strike="noStrike" baseline="3000">
                <a:solidFill>
                  <a:srgbClr val="000000"/>
                </a:solidFill>
                <a:latin typeface="Arial"/>
              </a:rPr>
              <a:t>tio</a:t>
            </a:r>
            <a:r>
              <a:rPr b="0" lang="en-US" sz="5400" spc="1" strike="noStrike" baseline="3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5400" spc="-1" strike="noStrike" baseline="3000">
                <a:solidFill>
                  <a:srgbClr val="000000"/>
                </a:solidFill>
                <a:latin typeface="Arial"/>
              </a:rPr>
              <a:t>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bject 7"/>
          <p:cNvSpPr/>
          <p:nvPr/>
        </p:nvSpPr>
        <p:spPr>
          <a:xfrm>
            <a:off x="228600" y="2666880"/>
            <a:ext cx="799812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84280" indent="-571680">
              <a:lnSpc>
                <a:spcPts val="2645"/>
              </a:lnSpc>
              <a:spcBef>
                <a:spcPts val="133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750" spc="-1" strike="noStrike" baseline="3000">
                <a:solidFill>
                  <a:srgbClr val="000000"/>
                </a:solidFill>
                <a:latin typeface="Calibri"/>
              </a:rPr>
              <a:t>Call</a:t>
            </a:r>
            <a:r>
              <a:rPr b="0" lang="en-US" sz="3750" spc="7" strike="noStrike" baseline="3000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3750" spc="-1" strike="noStrike" baseline="3000">
                <a:solidFill>
                  <a:srgbClr val="000000"/>
                </a:solidFill>
                <a:latin typeface="Calibri"/>
              </a:rPr>
              <a:t>d </a:t>
            </a:r>
            <a:r>
              <a:rPr b="0" lang="en-US" sz="3750" spc="-29" strike="noStrike" baseline="3000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3750" spc="-1" strike="noStrike" baseline="3000">
                <a:solidFill>
                  <a:srgbClr val="000000"/>
                </a:solidFill>
                <a:latin typeface="Calibri"/>
              </a:rPr>
              <a:t>el</a:t>
            </a:r>
            <a:r>
              <a:rPr b="0" lang="en-US" sz="3750" spc="-15" strike="noStrike" baseline="3000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750" spc="-1" strike="noStrike" baseline="3000">
                <a:solidFill>
                  <a:srgbClr val="000000"/>
                </a:solidFill>
                <a:latin typeface="Calibri"/>
              </a:rPr>
              <a:t>ti</a:t>
            </a:r>
            <a:r>
              <a:rPr b="0" lang="en-US" sz="3750" spc="1" strike="noStrike" baseline="3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750" spc="-1" strike="noStrike" baseline="3000">
                <a:solidFill>
                  <a:srgbClr val="000000"/>
                </a:solidFill>
                <a:latin typeface="Calibri"/>
              </a:rPr>
              <a:t>ns</a:t>
            </a:r>
            <a:endParaRPr b="0" lang="en-US" sz="375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>
              <a:lnSpc>
                <a:spcPts val="2701"/>
              </a:lnSpc>
              <a:spcBef>
                <a:spcPts val="468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ines</a:t>
            </a:r>
            <a:r>
              <a:rPr b="0" lang="en-US" sz="25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2500" spc="-9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500" spc="-15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500" spc="7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500" spc="-63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c</a:t>
            </a:r>
            <a:r>
              <a:rPr b="0" lang="en-US" sz="2500" spc="-26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r</a:t>
            </a:r>
            <a:r>
              <a:rPr b="0" lang="en-US" sz="2500" spc="-18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0" lang="en-US" sz="25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2500" spc="-9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500" spc="-2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ase</a:t>
            </a:r>
            <a:r>
              <a:rPr b="0" lang="en-US" sz="2500" spc="-49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ummari</a:t>
            </a:r>
            <a:r>
              <a:rPr b="0" lang="en-US" sz="2500" spc="-55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 interactions g</a:t>
            </a:r>
            <a:r>
              <a:rPr b="0" lang="en-US" sz="2500" spc="-4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phi</a:t>
            </a:r>
            <a:r>
              <a:rPr b="0" lang="en-US" sz="2500" spc="-26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l</a:t>
            </a:r>
            <a:r>
              <a:rPr b="0" lang="en-US" sz="2500" spc="7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>
              <a:lnSpc>
                <a:spcPct val="101000"/>
              </a:lnSpc>
              <a:spcBef>
                <a:spcPts val="244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c</a:t>
            </a:r>
            <a:r>
              <a:rPr b="0" lang="en-US" sz="2500" spc="-26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500" spc="-35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5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0" lang="en-US" sz="25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use</a:t>
            </a:r>
            <a:r>
              <a:rPr b="0" lang="en-US" sz="25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26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ses</a:t>
            </a:r>
            <a:r>
              <a:rPr b="0" lang="en-US" sz="2500" spc="-2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29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500" spc="-60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han</a:t>
            </a:r>
            <a:r>
              <a:rPr b="0" lang="en-US" sz="2500" spc="-26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500" spc="-6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500" spc="-9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500" spc="-55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500" spc="7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500" spc="-2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i</a:t>
            </a:r>
            <a:r>
              <a:rPr b="0" lang="en-US" sz="2500" spc="7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500" spc="-9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2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 achieve the goal but the details of interaction are not show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bject 5"/>
          <p:cNvSpPr/>
          <p:nvPr/>
        </p:nvSpPr>
        <p:spPr>
          <a:xfrm>
            <a:off x="536040" y="5040000"/>
            <a:ext cx="217800" cy="3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650"/>
              </a:lnSpc>
              <a:spcBef>
                <a:spcPts val="133"/>
              </a:spcBef>
            </a:pPr>
            <a:endParaRPr b="0" lang="en-US" sz="2500" spc="-1" strike="noStrike">
              <a:solidFill>
                <a:srgbClr val="000000"/>
              </a:solidFill>
              <a:latin typeface="Wingdings"/>
            </a:endParaRPr>
          </a:p>
        </p:txBody>
      </p:sp>
      <p:sp>
        <p:nvSpPr>
          <p:cNvPr id="398" name="object 2"/>
          <p:cNvSpPr/>
          <p:nvPr/>
        </p:nvSpPr>
        <p:spPr>
          <a:xfrm>
            <a:off x="1799640" y="6666120"/>
            <a:ext cx="200160" cy="1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1324"/>
              </a:lnSpc>
              <a:spcBef>
                <a:spcPts val="65"/>
              </a:spcBef>
            </a:pPr>
            <a:r>
              <a:rPr b="0" lang="en-US" sz="1200" spc="-1" strike="noStrike">
                <a:solidFill>
                  <a:srgbClr val="888888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Relationships between Use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93980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Generalization - use cases that are specialized versions of other use cas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Include - use cases that are included as parts of other use cases. Enable to factor common behavio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Extend - use cases that extend the behavior of other core use cases. Enable to factor varia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1. Gener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ild use case inherits the behavior and meaning of the parent use cas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ild may add to or override the behavior of its paren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Group 16"/>
          <p:cNvGrpSpPr/>
          <p:nvPr/>
        </p:nvGrpSpPr>
        <p:grpSpPr>
          <a:xfrm>
            <a:off x="7315200" y="2514600"/>
            <a:ext cx="914040" cy="2133360"/>
            <a:chOff x="7315200" y="2514600"/>
            <a:chExt cx="914040" cy="2133360"/>
          </a:xfrm>
        </p:grpSpPr>
        <p:grpSp>
          <p:nvGrpSpPr>
            <p:cNvPr id="404" name="Group 4"/>
            <p:cNvGrpSpPr/>
            <p:nvPr/>
          </p:nvGrpSpPr>
          <p:grpSpPr>
            <a:xfrm>
              <a:off x="7315200" y="2514600"/>
              <a:ext cx="914040" cy="685440"/>
              <a:chOff x="7315200" y="2514600"/>
              <a:chExt cx="914040" cy="685440"/>
            </a:xfrm>
          </p:grpSpPr>
          <p:sp>
            <p:nvSpPr>
              <p:cNvPr id="405" name="Oval 5"/>
              <p:cNvSpPr/>
              <p:nvPr/>
            </p:nvSpPr>
            <p:spPr>
              <a:xfrm>
                <a:off x="7315200" y="2514600"/>
                <a:ext cx="914040" cy="685440"/>
              </a:xfrm>
              <a:prstGeom prst="ellipse">
                <a:avLst/>
              </a:prstGeom>
              <a:noFill/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Text Box 6"/>
              <p:cNvSpPr/>
              <p:nvPr/>
            </p:nvSpPr>
            <p:spPr>
              <a:xfrm>
                <a:off x="7391520" y="2666880"/>
                <a:ext cx="83772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paren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7" name="Group 7"/>
            <p:cNvGrpSpPr/>
            <p:nvPr/>
          </p:nvGrpSpPr>
          <p:grpSpPr>
            <a:xfrm>
              <a:off x="7315200" y="3962520"/>
              <a:ext cx="914040" cy="685440"/>
              <a:chOff x="7315200" y="3962520"/>
              <a:chExt cx="914040" cy="685440"/>
            </a:xfrm>
          </p:grpSpPr>
          <p:sp>
            <p:nvSpPr>
              <p:cNvPr id="408" name="Oval 8"/>
              <p:cNvSpPr/>
              <p:nvPr/>
            </p:nvSpPr>
            <p:spPr>
              <a:xfrm>
                <a:off x="7315200" y="3962520"/>
                <a:ext cx="914040" cy="685440"/>
              </a:xfrm>
              <a:prstGeom prst="ellipse">
                <a:avLst/>
              </a:prstGeom>
              <a:noFill/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Text Box 9"/>
              <p:cNvSpPr/>
              <p:nvPr/>
            </p:nvSpPr>
            <p:spPr>
              <a:xfrm>
                <a:off x="7391520" y="4114800"/>
                <a:ext cx="83772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hil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0" name="Line 12"/>
            <p:cNvSpPr/>
            <p:nvPr/>
          </p:nvSpPr>
          <p:spPr>
            <a:xfrm>
              <a:off x="7772400" y="3504960"/>
              <a:ext cx="360" cy="45720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AutoShape 15"/>
            <p:cNvSpPr/>
            <p:nvPr/>
          </p:nvSpPr>
          <p:spPr>
            <a:xfrm>
              <a:off x="7543800" y="3200400"/>
              <a:ext cx="456840" cy="304560"/>
            </a:xfrm>
            <a:prstGeom prst="triangle">
              <a:avLst>
                <a:gd name="adj" fmla="val 50000"/>
              </a:avLst>
            </a:prstGeom>
            <a:noFill/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Slide Number Placeholder 4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A7D131C7-6646-4E1B-947A-C335EE3D470E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Group 18"/>
          <p:cNvGrpSpPr/>
          <p:nvPr/>
        </p:nvGrpSpPr>
        <p:grpSpPr>
          <a:xfrm>
            <a:off x="2362320" y="1828800"/>
            <a:ext cx="4190400" cy="2899800"/>
            <a:chOff x="2362320" y="1828800"/>
            <a:chExt cx="4190400" cy="2899800"/>
          </a:xfrm>
        </p:grpSpPr>
        <p:grpSp>
          <p:nvGrpSpPr>
            <p:cNvPr id="414" name="Group 3"/>
            <p:cNvGrpSpPr/>
            <p:nvPr/>
          </p:nvGrpSpPr>
          <p:grpSpPr>
            <a:xfrm>
              <a:off x="3733920" y="1828800"/>
              <a:ext cx="1523520" cy="685440"/>
              <a:chOff x="3733920" y="1828800"/>
              <a:chExt cx="1523520" cy="685440"/>
            </a:xfrm>
          </p:grpSpPr>
          <p:sp>
            <p:nvSpPr>
              <p:cNvPr id="415" name="Oval 4"/>
              <p:cNvSpPr/>
              <p:nvPr/>
            </p:nvSpPr>
            <p:spPr>
              <a:xfrm>
                <a:off x="3733920" y="1828800"/>
                <a:ext cx="1523520" cy="685440"/>
              </a:xfrm>
              <a:prstGeom prst="ellipse">
                <a:avLst/>
              </a:prstGeom>
              <a:noFill/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5"/>
              <p:cNvSpPr/>
              <p:nvPr/>
            </p:nvSpPr>
            <p:spPr>
              <a:xfrm>
                <a:off x="3860640" y="1981080"/>
                <a:ext cx="139680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egistratio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7" name="Oval 7"/>
            <p:cNvSpPr/>
            <p:nvPr/>
          </p:nvSpPr>
          <p:spPr>
            <a:xfrm>
              <a:off x="4952880" y="3809880"/>
              <a:ext cx="1599840" cy="917280"/>
            </a:xfrm>
            <a:prstGeom prst="ellipse">
              <a:avLst/>
            </a:prstGeom>
            <a:noFill/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8"/>
            <p:cNvSpPr/>
            <p:nvPr/>
          </p:nvSpPr>
          <p:spPr>
            <a:xfrm>
              <a:off x="5010120" y="3886200"/>
              <a:ext cx="146664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radu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gis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AutoShape 9"/>
            <p:cNvSpPr/>
            <p:nvPr/>
          </p:nvSpPr>
          <p:spPr>
            <a:xfrm>
              <a:off x="4343400" y="2514600"/>
              <a:ext cx="304560" cy="304560"/>
            </a:xfrm>
            <a:prstGeom prst="triangle">
              <a:avLst>
                <a:gd name="adj" fmla="val 50000"/>
              </a:avLst>
            </a:prstGeom>
            <a:noFill/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10"/>
            <p:cNvSpPr/>
            <p:nvPr/>
          </p:nvSpPr>
          <p:spPr>
            <a:xfrm>
              <a:off x="3352680" y="3352680"/>
              <a:ext cx="360" cy="45720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2"/>
            <p:cNvSpPr/>
            <p:nvPr/>
          </p:nvSpPr>
          <p:spPr>
            <a:xfrm>
              <a:off x="2362320" y="3809880"/>
              <a:ext cx="1828440" cy="918720"/>
            </a:xfrm>
            <a:prstGeom prst="ellipse">
              <a:avLst/>
            </a:prstGeom>
            <a:noFill/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13"/>
            <p:cNvSpPr/>
            <p:nvPr/>
          </p:nvSpPr>
          <p:spPr>
            <a:xfrm>
              <a:off x="2438280" y="3886200"/>
              <a:ext cx="167616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on-gradu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gis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14"/>
            <p:cNvSpPr/>
            <p:nvPr/>
          </p:nvSpPr>
          <p:spPr>
            <a:xfrm>
              <a:off x="5715000" y="3352680"/>
              <a:ext cx="360" cy="45720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15"/>
            <p:cNvSpPr/>
            <p:nvPr/>
          </p:nvSpPr>
          <p:spPr>
            <a:xfrm>
              <a:off x="3352680" y="3352680"/>
              <a:ext cx="2362320" cy="36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Line 16"/>
            <p:cNvSpPr/>
            <p:nvPr/>
          </p:nvSpPr>
          <p:spPr>
            <a:xfrm>
              <a:off x="4495680" y="2819160"/>
              <a:ext cx="360" cy="53352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More about Gener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 ניתוח מערכות מידע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object 5"/>
          <p:cNvSpPr/>
          <p:nvPr/>
        </p:nvSpPr>
        <p:spPr>
          <a:xfrm>
            <a:off x="755640" y="602280"/>
            <a:ext cx="7704360" cy="57783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bject 2"/>
          <p:cNvSpPr/>
          <p:nvPr/>
        </p:nvSpPr>
        <p:spPr>
          <a:xfrm>
            <a:off x="8506440" y="6461280"/>
            <a:ext cx="124200" cy="1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1324"/>
              </a:lnSpc>
              <a:spcBef>
                <a:spcPts val="65"/>
              </a:spcBef>
            </a:pPr>
            <a:r>
              <a:rPr b="0" lang="en-US" sz="1200" spc="-1" strike="noStrike">
                <a:solidFill>
                  <a:srgbClr val="888888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Slide Number Placeholder 4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1B0D8EF6-6D56-4A92-ABC1-7D57BE4A5CCE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2. Includes and Ext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4096800" cy="45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lud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have a piece of behavior that is similar across many use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ak this out as a separate use-case and let the other on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include”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 incl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ate user inter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nity check on sensor inpu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eck for proper author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495680" y="1447920"/>
            <a:ext cx="4436640" cy="45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n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use-case is similar to another one but does a little bit 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 the normal behavior in one use-case and the exceptional behavior somewhere 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ture the normal behavi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y to figure out what can go wrong in each st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ture the exceptional cases in separate use-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s it a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l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asier to underst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05-Use-Cas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Include and Exte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Group 14"/>
          <p:cNvGrpSpPr/>
          <p:nvPr/>
        </p:nvGrpSpPr>
        <p:grpSpPr>
          <a:xfrm>
            <a:off x="1905120" y="3809880"/>
            <a:ext cx="4187520" cy="685440"/>
            <a:chOff x="1905120" y="3809880"/>
            <a:chExt cx="4187520" cy="685440"/>
          </a:xfrm>
        </p:grpSpPr>
        <p:grpSp>
          <p:nvGrpSpPr>
            <p:cNvPr id="433" name="Group 4"/>
            <p:cNvGrpSpPr/>
            <p:nvPr/>
          </p:nvGrpSpPr>
          <p:grpSpPr>
            <a:xfrm>
              <a:off x="1905120" y="3809880"/>
              <a:ext cx="914040" cy="685440"/>
              <a:chOff x="1905120" y="3809880"/>
              <a:chExt cx="914040" cy="685440"/>
            </a:xfrm>
          </p:grpSpPr>
          <p:sp>
            <p:nvSpPr>
              <p:cNvPr id="434" name="Oval 5"/>
              <p:cNvSpPr/>
              <p:nvPr/>
            </p:nvSpPr>
            <p:spPr>
              <a:xfrm>
                <a:off x="1905120" y="3809880"/>
                <a:ext cx="914040" cy="685440"/>
              </a:xfrm>
              <a:prstGeom prst="ellipse">
                <a:avLst/>
              </a:prstGeom>
              <a:noFill/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"/>
              <p:cNvSpPr/>
              <p:nvPr/>
            </p:nvSpPr>
            <p:spPr>
              <a:xfrm>
                <a:off x="1981080" y="3962520"/>
                <a:ext cx="83772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as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Group 7"/>
            <p:cNvGrpSpPr/>
            <p:nvPr/>
          </p:nvGrpSpPr>
          <p:grpSpPr>
            <a:xfrm>
              <a:off x="4795920" y="3809880"/>
              <a:ext cx="1296720" cy="685440"/>
              <a:chOff x="4795920" y="3809880"/>
              <a:chExt cx="1296720" cy="685440"/>
            </a:xfrm>
          </p:grpSpPr>
          <p:sp>
            <p:nvSpPr>
              <p:cNvPr id="437" name="Oval 8"/>
              <p:cNvSpPr/>
              <p:nvPr/>
            </p:nvSpPr>
            <p:spPr>
              <a:xfrm>
                <a:off x="4795920" y="3809880"/>
                <a:ext cx="1294200" cy="685440"/>
              </a:xfrm>
              <a:prstGeom prst="ellipse">
                <a:avLst/>
              </a:prstGeom>
              <a:noFill/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9"/>
              <p:cNvSpPr/>
              <p:nvPr/>
            </p:nvSpPr>
            <p:spPr>
              <a:xfrm>
                <a:off x="4906080" y="3962520"/>
                <a:ext cx="118656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include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12"/>
            <p:cNvSpPr/>
            <p:nvPr/>
          </p:nvSpPr>
          <p:spPr>
            <a:xfrm>
              <a:off x="2819160" y="4190760"/>
              <a:ext cx="1981440" cy="360"/>
            </a:xfrm>
            <a:prstGeom prst="line">
              <a:avLst/>
            </a:prstGeom>
            <a:ln w="9525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Text Box 13"/>
            <p:cNvSpPr/>
            <p:nvPr/>
          </p:nvSpPr>
          <p:spPr>
            <a:xfrm>
              <a:off x="3103560" y="3886200"/>
              <a:ext cx="13744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lt;&lt;include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Group 12"/>
          <p:cNvGrpSpPr/>
          <p:nvPr/>
        </p:nvGrpSpPr>
        <p:grpSpPr>
          <a:xfrm>
            <a:off x="1981080" y="1752480"/>
            <a:ext cx="4190760" cy="685440"/>
            <a:chOff x="1981080" y="1752480"/>
            <a:chExt cx="4190760" cy="685440"/>
          </a:xfrm>
        </p:grpSpPr>
        <p:grpSp>
          <p:nvGrpSpPr>
            <p:cNvPr id="442" name="Group 4"/>
            <p:cNvGrpSpPr/>
            <p:nvPr/>
          </p:nvGrpSpPr>
          <p:grpSpPr>
            <a:xfrm>
              <a:off x="1981080" y="1752480"/>
              <a:ext cx="914040" cy="685440"/>
              <a:chOff x="1981080" y="1752480"/>
              <a:chExt cx="914040" cy="685440"/>
            </a:xfrm>
          </p:grpSpPr>
          <p:sp>
            <p:nvSpPr>
              <p:cNvPr id="443" name="Oval 5"/>
              <p:cNvSpPr/>
              <p:nvPr/>
            </p:nvSpPr>
            <p:spPr>
              <a:xfrm>
                <a:off x="1981080" y="1752480"/>
                <a:ext cx="914040" cy="685440"/>
              </a:xfrm>
              <a:prstGeom prst="ellipse">
                <a:avLst/>
              </a:prstGeom>
              <a:noFill/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6"/>
              <p:cNvSpPr/>
              <p:nvPr/>
            </p:nvSpPr>
            <p:spPr>
              <a:xfrm>
                <a:off x="2057400" y="1905120"/>
                <a:ext cx="83772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as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7"/>
            <p:cNvGrpSpPr/>
            <p:nvPr/>
          </p:nvGrpSpPr>
          <p:grpSpPr>
            <a:xfrm>
              <a:off x="4876920" y="1752480"/>
              <a:ext cx="1294920" cy="685440"/>
              <a:chOff x="4876920" y="1752480"/>
              <a:chExt cx="1294920" cy="685440"/>
            </a:xfrm>
          </p:grpSpPr>
          <p:sp>
            <p:nvSpPr>
              <p:cNvPr id="446" name="Oval 8"/>
              <p:cNvSpPr/>
              <p:nvPr/>
            </p:nvSpPr>
            <p:spPr>
              <a:xfrm>
                <a:off x="4876920" y="1752480"/>
                <a:ext cx="1294920" cy="685440"/>
              </a:xfrm>
              <a:prstGeom prst="ellipse">
                <a:avLst/>
              </a:prstGeom>
              <a:noFill/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Text Box 9"/>
              <p:cNvSpPr/>
              <p:nvPr/>
            </p:nvSpPr>
            <p:spPr>
              <a:xfrm>
                <a:off x="4984920" y="1905120"/>
                <a:ext cx="118692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extending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" name="Line 10"/>
            <p:cNvSpPr/>
            <p:nvPr/>
          </p:nvSpPr>
          <p:spPr>
            <a:xfrm>
              <a:off x="2895480" y="2133360"/>
              <a:ext cx="1981080" cy="360"/>
            </a:xfrm>
            <a:prstGeom prst="line">
              <a:avLst/>
            </a:prstGeom>
            <a:ln w="9525">
              <a:solidFill>
                <a:srgbClr val="000000"/>
              </a:solidFill>
              <a:prstDash val="dash"/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11"/>
            <p:cNvSpPr/>
            <p:nvPr/>
          </p:nvSpPr>
          <p:spPr>
            <a:xfrm>
              <a:off x="3179880" y="1828800"/>
              <a:ext cx="13104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lt;&lt;extend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incl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Group 17"/>
          <p:cNvGrpSpPr/>
          <p:nvPr/>
        </p:nvGrpSpPr>
        <p:grpSpPr>
          <a:xfrm>
            <a:off x="1447920" y="1676520"/>
            <a:ext cx="5790960" cy="2742840"/>
            <a:chOff x="1447920" y="1676520"/>
            <a:chExt cx="5790960" cy="2742840"/>
          </a:xfrm>
        </p:grpSpPr>
        <p:sp>
          <p:nvSpPr>
            <p:cNvPr id="452" name="Oval 5"/>
            <p:cNvSpPr/>
            <p:nvPr/>
          </p:nvSpPr>
          <p:spPr>
            <a:xfrm>
              <a:off x="1541160" y="1676520"/>
              <a:ext cx="1494000" cy="939240"/>
            </a:xfrm>
            <a:prstGeom prst="ellipse">
              <a:avLst/>
            </a:prstGeom>
            <a:noFill/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 Box 6"/>
            <p:cNvSpPr/>
            <p:nvPr/>
          </p:nvSpPr>
          <p:spPr>
            <a:xfrm>
              <a:off x="1634760" y="1676520"/>
              <a:ext cx="136944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pda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rad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8"/>
            <p:cNvSpPr/>
            <p:nvPr/>
          </p:nvSpPr>
          <p:spPr>
            <a:xfrm>
              <a:off x="1447920" y="3347280"/>
              <a:ext cx="1774440" cy="1072080"/>
            </a:xfrm>
            <a:prstGeom prst="ellipse">
              <a:avLst/>
            </a:prstGeom>
            <a:noFill/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Text Box 9"/>
            <p:cNvSpPr/>
            <p:nvPr/>
          </p:nvSpPr>
          <p:spPr>
            <a:xfrm>
              <a:off x="1447920" y="3408120"/>
              <a:ext cx="162648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enera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11"/>
            <p:cNvSpPr/>
            <p:nvPr/>
          </p:nvSpPr>
          <p:spPr>
            <a:xfrm>
              <a:off x="5464440" y="2302920"/>
              <a:ext cx="1774440" cy="1172160"/>
            </a:xfrm>
            <a:prstGeom prst="ellipse">
              <a:avLst/>
            </a:prstGeom>
            <a:noFill/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12"/>
            <p:cNvSpPr/>
            <p:nvPr/>
          </p:nvSpPr>
          <p:spPr>
            <a:xfrm>
              <a:off x="5464440" y="2468160"/>
              <a:ext cx="162648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erify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tudent 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Line 13"/>
            <p:cNvSpPr/>
            <p:nvPr/>
          </p:nvSpPr>
          <p:spPr>
            <a:xfrm>
              <a:off x="3035520" y="2302560"/>
              <a:ext cx="2428560" cy="522360"/>
            </a:xfrm>
            <a:prstGeom prst="line">
              <a:avLst/>
            </a:prstGeom>
            <a:ln w="9525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4"/>
            <p:cNvSpPr/>
            <p:nvPr/>
          </p:nvSpPr>
          <p:spPr>
            <a:xfrm flipV="1">
              <a:off x="3222360" y="3242520"/>
              <a:ext cx="2428560" cy="522000"/>
            </a:xfrm>
            <a:prstGeom prst="line">
              <a:avLst/>
            </a:prstGeom>
            <a:ln w="9525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15"/>
            <p:cNvSpPr/>
            <p:nvPr/>
          </p:nvSpPr>
          <p:spPr>
            <a:xfrm>
              <a:off x="3511800" y="2113560"/>
              <a:ext cx="13744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lt;&lt;include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Text Box 16"/>
            <p:cNvSpPr/>
            <p:nvPr/>
          </p:nvSpPr>
          <p:spPr>
            <a:xfrm>
              <a:off x="3698640" y="3503880"/>
              <a:ext cx="13744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lt;&lt;include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Ext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Content Placeholder 3" descr="Screen shot 2014-02-09 at 9.35.20 PM.png"/>
          <p:cNvPicPr/>
          <p:nvPr/>
        </p:nvPicPr>
        <p:blipFill>
          <a:blip r:embed="rId1"/>
          <a:srcRect l="4119" t="0" r="410" b="-16282"/>
          <a:stretch/>
        </p:blipFill>
        <p:spPr>
          <a:xfrm>
            <a:off x="822960" y="1100520"/>
            <a:ext cx="7520760" cy="35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object 6"/>
          <p:cNvSpPr/>
          <p:nvPr/>
        </p:nvSpPr>
        <p:spPr>
          <a:xfrm>
            <a:off x="1011600" y="1896840"/>
            <a:ext cx="7120440" cy="39319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bject 5"/>
          <p:cNvSpPr/>
          <p:nvPr/>
        </p:nvSpPr>
        <p:spPr>
          <a:xfrm>
            <a:off x="3175200" y="601560"/>
            <a:ext cx="2877840" cy="5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4584"/>
              </a:lnSpc>
              <a:spcBef>
                <a:spcPts val="230"/>
              </a:spcBef>
            </a:pPr>
            <a:r>
              <a:rPr b="0" lang="en-US" sz="6600" spc="-1" strike="noStrike" baseline="3000">
                <a:solidFill>
                  <a:srgbClr val="000000"/>
                </a:solidFill>
                <a:latin typeface="Calibri"/>
              </a:rPr>
              <a:t>&lt;&lt;include&gt;&gt;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object 2"/>
          <p:cNvSpPr/>
          <p:nvPr/>
        </p:nvSpPr>
        <p:spPr>
          <a:xfrm>
            <a:off x="8430120" y="6461280"/>
            <a:ext cx="200160" cy="1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1324"/>
              </a:lnSpc>
              <a:spcBef>
                <a:spcPts val="65"/>
              </a:spcBef>
            </a:pPr>
            <a:r>
              <a:rPr b="0" lang="en-US" sz="1200" spc="-1" strike="noStrike">
                <a:solidFill>
                  <a:srgbClr val="888888"/>
                </a:solidFill>
                <a:latin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object 19"/>
          <p:cNvSpPr/>
          <p:nvPr/>
        </p:nvSpPr>
        <p:spPr>
          <a:xfrm>
            <a:off x="3254760" y="2208240"/>
            <a:ext cx="1825200" cy="755280"/>
          </a:xfrm>
          <a:custGeom>
            <a:avLst/>
            <a:gdLst>
              <a:gd name="textAreaLeft" fmla="*/ 0 w 1825200"/>
              <a:gd name="textAreaRight" fmla="*/ 1825560 w 1825200"/>
              <a:gd name="textAreaTop" fmla="*/ 0 h 755280"/>
              <a:gd name="textAreaBottom" fmla="*/ 755640 h 755280"/>
            </a:gdLst>
            <a:ahLst/>
            <a:rect l="textAreaLeft" t="textAreaTop" r="textAreaRight" b="textAreaBottom"/>
            <a:pathLst>
              <a:path w="1825625" h="755650">
                <a:moveTo>
                  <a:pt x="0" y="377825"/>
                </a:moveTo>
                <a:lnTo>
                  <a:pt x="11943" y="316541"/>
                </a:lnTo>
                <a:lnTo>
                  <a:pt x="46523" y="258405"/>
                </a:lnTo>
                <a:lnTo>
                  <a:pt x="101861" y="204195"/>
                </a:lnTo>
                <a:lnTo>
                  <a:pt x="136728" y="178805"/>
                </a:lnTo>
                <a:lnTo>
                  <a:pt x="176080" y="154689"/>
                </a:lnTo>
                <a:lnTo>
                  <a:pt x="219684" y="131942"/>
                </a:lnTo>
                <a:lnTo>
                  <a:pt x="267303" y="110664"/>
                </a:lnTo>
                <a:lnTo>
                  <a:pt x="318703" y="90951"/>
                </a:lnTo>
                <a:lnTo>
                  <a:pt x="373651" y="72900"/>
                </a:lnTo>
                <a:lnTo>
                  <a:pt x="431910" y="56608"/>
                </a:lnTo>
                <a:lnTo>
                  <a:pt x="493247" y="42173"/>
                </a:lnTo>
                <a:lnTo>
                  <a:pt x="557426" y="29692"/>
                </a:lnTo>
                <a:lnTo>
                  <a:pt x="624214" y="19262"/>
                </a:lnTo>
                <a:lnTo>
                  <a:pt x="693374" y="10980"/>
                </a:lnTo>
                <a:lnTo>
                  <a:pt x="764673" y="4945"/>
                </a:lnTo>
                <a:lnTo>
                  <a:pt x="837876" y="1252"/>
                </a:lnTo>
                <a:lnTo>
                  <a:pt x="912749" y="0"/>
                </a:lnTo>
                <a:lnTo>
                  <a:pt x="987622" y="1252"/>
                </a:lnTo>
                <a:lnTo>
                  <a:pt x="1060827" y="4945"/>
                </a:lnTo>
                <a:lnTo>
                  <a:pt x="1132130" y="10980"/>
                </a:lnTo>
                <a:lnTo>
                  <a:pt x="1201297" y="19262"/>
                </a:lnTo>
                <a:lnTo>
                  <a:pt x="1268091" y="29692"/>
                </a:lnTo>
                <a:lnTo>
                  <a:pt x="1332278" y="42173"/>
                </a:lnTo>
                <a:lnTo>
                  <a:pt x="1393623" y="56608"/>
                </a:lnTo>
                <a:lnTo>
                  <a:pt x="1451891" y="72900"/>
                </a:lnTo>
                <a:lnTo>
                  <a:pt x="1506848" y="90951"/>
                </a:lnTo>
                <a:lnTo>
                  <a:pt x="1558258" y="110664"/>
                </a:lnTo>
                <a:lnTo>
                  <a:pt x="1605886" y="131942"/>
                </a:lnTo>
                <a:lnTo>
                  <a:pt x="1649499" y="154689"/>
                </a:lnTo>
                <a:lnTo>
                  <a:pt x="1688860" y="178805"/>
                </a:lnTo>
                <a:lnTo>
                  <a:pt x="1723735" y="204195"/>
                </a:lnTo>
                <a:lnTo>
                  <a:pt x="1753889" y="230760"/>
                </a:lnTo>
                <a:lnTo>
                  <a:pt x="1799095" y="287031"/>
                </a:lnTo>
                <a:lnTo>
                  <a:pt x="1822599" y="346838"/>
                </a:lnTo>
                <a:lnTo>
                  <a:pt x="1825625" y="377825"/>
                </a:lnTo>
                <a:lnTo>
                  <a:pt x="1822599" y="408828"/>
                </a:lnTo>
                <a:lnTo>
                  <a:pt x="1799095" y="468660"/>
                </a:lnTo>
                <a:lnTo>
                  <a:pt x="1753889" y="524942"/>
                </a:lnTo>
                <a:lnTo>
                  <a:pt x="1723735" y="551510"/>
                </a:lnTo>
                <a:lnTo>
                  <a:pt x="1688860" y="576900"/>
                </a:lnTo>
                <a:lnTo>
                  <a:pt x="1649499" y="601015"/>
                </a:lnTo>
                <a:lnTo>
                  <a:pt x="1605886" y="623758"/>
                </a:lnTo>
                <a:lnTo>
                  <a:pt x="1558258" y="645033"/>
                </a:lnTo>
                <a:lnTo>
                  <a:pt x="1506848" y="664741"/>
                </a:lnTo>
                <a:lnTo>
                  <a:pt x="1451891" y="682786"/>
                </a:lnTo>
                <a:lnTo>
                  <a:pt x="1393623" y="699072"/>
                </a:lnTo>
                <a:lnTo>
                  <a:pt x="1332278" y="713500"/>
                </a:lnTo>
                <a:lnTo>
                  <a:pt x="1268091" y="725975"/>
                </a:lnTo>
                <a:lnTo>
                  <a:pt x="1201297" y="736399"/>
                </a:lnTo>
                <a:lnTo>
                  <a:pt x="1132130" y="744676"/>
                </a:lnTo>
                <a:lnTo>
                  <a:pt x="1060827" y="750708"/>
                </a:lnTo>
                <a:lnTo>
                  <a:pt x="987622" y="754398"/>
                </a:lnTo>
                <a:lnTo>
                  <a:pt x="912749" y="755650"/>
                </a:lnTo>
                <a:lnTo>
                  <a:pt x="837876" y="754398"/>
                </a:lnTo>
                <a:lnTo>
                  <a:pt x="764673" y="750708"/>
                </a:lnTo>
                <a:lnTo>
                  <a:pt x="693374" y="744676"/>
                </a:lnTo>
                <a:lnTo>
                  <a:pt x="624214" y="736399"/>
                </a:lnTo>
                <a:lnTo>
                  <a:pt x="557426" y="725975"/>
                </a:lnTo>
                <a:lnTo>
                  <a:pt x="493247" y="713500"/>
                </a:lnTo>
                <a:lnTo>
                  <a:pt x="431910" y="699072"/>
                </a:lnTo>
                <a:lnTo>
                  <a:pt x="373651" y="682786"/>
                </a:lnTo>
                <a:lnTo>
                  <a:pt x="318703" y="664741"/>
                </a:lnTo>
                <a:lnTo>
                  <a:pt x="267303" y="645033"/>
                </a:lnTo>
                <a:lnTo>
                  <a:pt x="219684" y="623758"/>
                </a:lnTo>
                <a:lnTo>
                  <a:pt x="176080" y="601015"/>
                </a:lnTo>
                <a:lnTo>
                  <a:pt x="136728" y="576900"/>
                </a:lnTo>
                <a:lnTo>
                  <a:pt x="101861" y="551510"/>
                </a:lnTo>
                <a:lnTo>
                  <a:pt x="71715" y="524942"/>
                </a:lnTo>
                <a:lnTo>
                  <a:pt x="26521" y="468660"/>
                </a:lnTo>
                <a:lnTo>
                  <a:pt x="3025" y="408828"/>
                </a:lnTo>
                <a:lnTo>
                  <a:pt x="0" y="377825"/>
                </a:lnTo>
                <a:close/>
              </a:path>
            </a:pathLst>
          </a:custGeom>
          <a:noFill/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object 20"/>
          <p:cNvSpPr/>
          <p:nvPr/>
        </p:nvSpPr>
        <p:spPr>
          <a:xfrm>
            <a:off x="6685200" y="2209680"/>
            <a:ext cx="1825200" cy="755280"/>
          </a:xfrm>
          <a:custGeom>
            <a:avLst/>
            <a:gdLst>
              <a:gd name="textAreaLeft" fmla="*/ 0 w 1825200"/>
              <a:gd name="textAreaRight" fmla="*/ 1825560 w 1825200"/>
              <a:gd name="textAreaTop" fmla="*/ 0 h 755280"/>
              <a:gd name="textAreaBottom" fmla="*/ 755640 h 755280"/>
            </a:gdLst>
            <a:ahLst/>
            <a:rect l="textAreaLeft" t="textAreaTop" r="textAreaRight" b="textAreaBottom"/>
            <a:pathLst>
              <a:path w="1825625" h="755650">
                <a:moveTo>
                  <a:pt x="0" y="377825"/>
                </a:moveTo>
                <a:lnTo>
                  <a:pt x="11947" y="316541"/>
                </a:lnTo>
                <a:lnTo>
                  <a:pt x="46536" y="258405"/>
                </a:lnTo>
                <a:lnTo>
                  <a:pt x="101889" y="204195"/>
                </a:lnTo>
                <a:lnTo>
                  <a:pt x="136764" y="178805"/>
                </a:lnTo>
                <a:lnTo>
                  <a:pt x="176125" y="154689"/>
                </a:lnTo>
                <a:lnTo>
                  <a:pt x="219738" y="131942"/>
                </a:lnTo>
                <a:lnTo>
                  <a:pt x="267366" y="110664"/>
                </a:lnTo>
                <a:lnTo>
                  <a:pt x="318776" y="90951"/>
                </a:lnTo>
                <a:lnTo>
                  <a:pt x="373733" y="72900"/>
                </a:lnTo>
                <a:lnTo>
                  <a:pt x="432001" y="56608"/>
                </a:lnTo>
                <a:lnTo>
                  <a:pt x="493346" y="42173"/>
                </a:lnTo>
                <a:lnTo>
                  <a:pt x="557533" y="29692"/>
                </a:lnTo>
                <a:lnTo>
                  <a:pt x="624327" y="19262"/>
                </a:lnTo>
                <a:lnTo>
                  <a:pt x="693494" y="10980"/>
                </a:lnTo>
                <a:lnTo>
                  <a:pt x="764797" y="4945"/>
                </a:lnTo>
                <a:lnTo>
                  <a:pt x="838002" y="1252"/>
                </a:lnTo>
                <a:lnTo>
                  <a:pt x="912876" y="0"/>
                </a:lnTo>
                <a:lnTo>
                  <a:pt x="987730" y="1252"/>
                </a:lnTo>
                <a:lnTo>
                  <a:pt x="1060920" y="4945"/>
                </a:lnTo>
                <a:lnTo>
                  <a:pt x="1132208" y="10980"/>
                </a:lnTo>
                <a:lnTo>
                  <a:pt x="1201362" y="19262"/>
                </a:lnTo>
                <a:lnTo>
                  <a:pt x="1268144" y="29692"/>
                </a:lnTo>
                <a:lnTo>
                  <a:pt x="1332321" y="42173"/>
                </a:lnTo>
                <a:lnTo>
                  <a:pt x="1393657" y="56608"/>
                </a:lnTo>
                <a:lnTo>
                  <a:pt x="1451918" y="72900"/>
                </a:lnTo>
                <a:lnTo>
                  <a:pt x="1506869" y="90951"/>
                </a:lnTo>
                <a:lnTo>
                  <a:pt x="1558274" y="110664"/>
                </a:lnTo>
                <a:lnTo>
                  <a:pt x="1605898" y="131942"/>
                </a:lnTo>
                <a:lnTo>
                  <a:pt x="1649507" y="154689"/>
                </a:lnTo>
                <a:lnTo>
                  <a:pt x="1688866" y="178805"/>
                </a:lnTo>
                <a:lnTo>
                  <a:pt x="1723739" y="204195"/>
                </a:lnTo>
                <a:lnTo>
                  <a:pt x="1753891" y="230760"/>
                </a:lnTo>
                <a:lnTo>
                  <a:pt x="1799096" y="287031"/>
                </a:lnTo>
                <a:lnTo>
                  <a:pt x="1822599" y="346838"/>
                </a:lnTo>
                <a:lnTo>
                  <a:pt x="1825625" y="377825"/>
                </a:lnTo>
                <a:lnTo>
                  <a:pt x="1822599" y="408811"/>
                </a:lnTo>
                <a:lnTo>
                  <a:pt x="1799096" y="468618"/>
                </a:lnTo>
                <a:lnTo>
                  <a:pt x="1753891" y="524889"/>
                </a:lnTo>
                <a:lnTo>
                  <a:pt x="1723739" y="551454"/>
                </a:lnTo>
                <a:lnTo>
                  <a:pt x="1688866" y="576844"/>
                </a:lnTo>
                <a:lnTo>
                  <a:pt x="1649507" y="600960"/>
                </a:lnTo>
                <a:lnTo>
                  <a:pt x="1605898" y="623707"/>
                </a:lnTo>
                <a:lnTo>
                  <a:pt x="1558274" y="644985"/>
                </a:lnTo>
                <a:lnTo>
                  <a:pt x="1506869" y="664698"/>
                </a:lnTo>
                <a:lnTo>
                  <a:pt x="1451918" y="682749"/>
                </a:lnTo>
                <a:lnTo>
                  <a:pt x="1393657" y="699041"/>
                </a:lnTo>
                <a:lnTo>
                  <a:pt x="1332321" y="713476"/>
                </a:lnTo>
                <a:lnTo>
                  <a:pt x="1268144" y="725957"/>
                </a:lnTo>
                <a:lnTo>
                  <a:pt x="1201362" y="736387"/>
                </a:lnTo>
                <a:lnTo>
                  <a:pt x="1132208" y="744669"/>
                </a:lnTo>
                <a:lnTo>
                  <a:pt x="1060920" y="750704"/>
                </a:lnTo>
                <a:lnTo>
                  <a:pt x="987730" y="754397"/>
                </a:lnTo>
                <a:lnTo>
                  <a:pt x="912876" y="755650"/>
                </a:lnTo>
                <a:lnTo>
                  <a:pt x="838002" y="754397"/>
                </a:lnTo>
                <a:lnTo>
                  <a:pt x="764797" y="750704"/>
                </a:lnTo>
                <a:lnTo>
                  <a:pt x="693494" y="744669"/>
                </a:lnTo>
                <a:lnTo>
                  <a:pt x="624327" y="736387"/>
                </a:lnTo>
                <a:lnTo>
                  <a:pt x="557533" y="725957"/>
                </a:lnTo>
                <a:lnTo>
                  <a:pt x="493346" y="713476"/>
                </a:lnTo>
                <a:lnTo>
                  <a:pt x="432001" y="699041"/>
                </a:lnTo>
                <a:lnTo>
                  <a:pt x="373733" y="682749"/>
                </a:lnTo>
                <a:lnTo>
                  <a:pt x="318776" y="664698"/>
                </a:lnTo>
                <a:lnTo>
                  <a:pt x="267366" y="644985"/>
                </a:lnTo>
                <a:lnTo>
                  <a:pt x="219738" y="623707"/>
                </a:lnTo>
                <a:lnTo>
                  <a:pt x="176125" y="600960"/>
                </a:lnTo>
                <a:lnTo>
                  <a:pt x="136764" y="576844"/>
                </a:lnTo>
                <a:lnTo>
                  <a:pt x="101889" y="551454"/>
                </a:lnTo>
                <a:lnTo>
                  <a:pt x="71735" y="524889"/>
                </a:lnTo>
                <a:lnTo>
                  <a:pt x="26529" y="468618"/>
                </a:lnTo>
                <a:lnTo>
                  <a:pt x="3025" y="408811"/>
                </a:lnTo>
                <a:lnTo>
                  <a:pt x="0" y="377825"/>
                </a:lnTo>
                <a:close/>
              </a:path>
            </a:pathLst>
          </a:custGeom>
          <a:noFill/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object 21"/>
          <p:cNvSpPr/>
          <p:nvPr/>
        </p:nvSpPr>
        <p:spPr>
          <a:xfrm>
            <a:off x="5078880" y="2530080"/>
            <a:ext cx="1611000" cy="117720"/>
          </a:xfrm>
          <a:custGeom>
            <a:avLst/>
            <a:gdLst>
              <a:gd name="textAreaLeft" fmla="*/ 0 w 1611000"/>
              <a:gd name="textAreaRight" fmla="*/ 1611360 w 1611000"/>
              <a:gd name="textAreaTop" fmla="*/ 0 h 117720"/>
              <a:gd name="textAreaBottom" fmla="*/ 118080 h 117720"/>
            </a:gdLst>
            <a:ahLst/>
            <a:rect l="textAreaLeft" t="textAreaTop" r="textAreaRight" b="textAreaBottom"/>
            <a:pathLst>
              <a:path w="1611249" h="117982">
                <a:moveTo>
                  <a:pt x="1509649" y="46227"/>
                </a:moveTo>
                <a:lnTo>
                  <a:pt x="1509649" y="71627"/>
                </a:lnTo>
                <a:lnTo>
                  <a:pt x="1611249" y="71627"/>
                </a:lnTo>
                <a:lnTo>
                  <a:pt x="1611249" y="46227"/>
                </a:lnTo>
                <a:lnTo>
                  <a:pt x="1509649" y="46227"/>
                </a:lnTo>
                <a:close/>
              </a:path>
              <a:path w="1611249" h="117982">
                <a:moveTo>
                  <a:pt x="1331849" y="46227"/>
                </a:moveTo>
                <a:lnTo>
                  <a:pt x="1331849" y="71627"/>
                </a:lnTo>
                <a:lnTo>
                  <a:pt x="1433449" y="71627"/>
                </a:lnTo>
                <a:lnTo>
                  <a:pt x="1433449" y="46227"/>
                </a:lnTo>
                <a:lnTo>
                  <a:pt x="1331849" y="46227"/>
                </a:lnTo>
                <a:close/>
              </a:path>
              <a:path w="1611249" h="117982">
                <a:moveTo>
                  <a:pt x="1154176" y="46227"/>
                </a:moveTo>
                <a:lnTo>
                  <a:pt x="1154176" y="71627"/>
                </a:lnTo>
                <a:lnTo>
                  <a:pt x="1255649" y="71627"/>
                </a:lnTo>
                <a:lnTo>
                  <a:pt x="1255649" y="46227"/>
                </a:lnTo>
                <a:lnTo>
                  <a:pt x="1154176" y="46227"/>
                </a:lnTo>
                <a:close/>
              </a:path>
              <a:path w="1611249" h="117982">
                <a:moveTo>
                  <a:pt x="976249" y="46227"/>
                </a:moveTo>
                <a:lnTo>
                  <a:pt x="976249" y="71627"/>
                </a:lnTo>
                <a:lnTo>
                  <a:pt x="1077976" y="71627"/>
                </a:lnTo>
                <a:lnTo>
                  <a:pt x="1077976" y="46227"/>
                </a:lnTo>
                <a:lnTo>
                  <a:pt x="976249" y="46227"/>
                </a:lnTo>
                <a:close/>
              </a:path>
              <a:path w="1611249" h="117982">
                <a:moveTo>
                  <a:pt x="798449" y="46227"/>
                </a:moveTo>
                <a:lnTo>
                  <a:pt x="798449" y="71627"/>
                </a:lnTo>
                <a:lnTo>
                  <a:pt x="900049" y="71627"/>
                </a:lnTo>
                <a:lnTo>
                  <a:pt x="900049" y="46227"/>
                </a:lnTo>
                <a:lnTo>
                  <a:pt x="798449" y="46227"/>
                </a:lnTo>
                <a:close/>
              </a:path>
              <a:path w="1611249" h="117982">
                <a:moveTo>
                  <a:pt x="722249" y="46227"/>
                </a:moveTo>
                <a:lnTo>
                  <a:pt x="620649" y="46227"/>
                </a:lnTo>
                <a:lnTo>
                  <a:pt x="620776" y="71627"/>
                </a:lnTo>
                <a:lnTo>
                  <a:pt x="722249" y="71627"/>
                </a:lnTo>
                <a:lnTo>
                  <a:pt x="722249" y="46227"/>
                </a:lnTo>
                <a:close/>
              </a:path>
              <a:path w="1611249" h="117982">
                <a:moveTo>
                  <a:pt x="442849" y="46227"/>
                </a:moveTo>
                <a:lnTo>
                  <a:pt x="442849" y="71627"/>
                </a:lnTo>
                <a:lnTo>
                  <a:pt x="544576" y="71627"/>
                </a:lnTo>
                <a:lnTo>
                  <a:pt x="544449" y="46227"/>
                </a:lnTo>
                <a:lnTo>
                  <a:pt x="442849" y="46227"/>
                </a:lnTo>
                <a:close/>
              </a:path>
              <a:path w="1611249" h="117982">
                <a:moveTo>
                  <a:pt x="265049" y="46227"/>
                </a:moveTo>
                <a:lnTo>
                  <a:pt x="265049" y="71627"/>
                </a:lnTo>
                <a:lnTo>
                  <a:pt x="366649" y="71627"/>
                </a:lnTo>
                <a:lnTo>
                  <a:pt x="366649" y="46227"/>
                </a:lnTo>
                <a:lnTo>
                  <a:pt x="265049" y="46227"/>
                </a:lnTo>
                <a:close/>
              </a:path>
              <a:path w="1611249" h="117982">
                <a:moveTo>
                  <a:pt x="94996" y="114426"/>
                </a:moveTo>
                <a:lnTo>
                  <a:pt x="100964" y="117982"/>
                </a:lnTo>
                <a:lnTo>
                  <a:pt x="108838" y="115950"/>
                </a:lnTo>
                <a:lnTo>
                  <a:pt x="112267" y="109854"/>
                </a:lnTo>
                <a:lnTo>
                  <a:pt x="115824" y="103758"/>
                </a:lnTo>
                <a:lnTo>
                  <a:pt x="113791" y="96012"/>
                </a:lnTo>
                <a:lnTo>
                  <a:pt x="107696" y="92455"/>
                </a:lnTo>
                <a:lnTo>
                  <a:pt x="50328" y="58991"/>
                </a:lnTo>
                <a:lnTo>
                  <a:pt x="31496" y="69976"/>
                </a:lnTo>
                <a:lnTo>
                  <a:pt x="94996" y="114426"/>
                </a:lnTo>
                <a:close/>
              </a:path>
              <a:path w="1611249" h="117982">
                <a:moveTo>
                  <a:pt x="0" y="59054"/>
                </a:moveTo>
                <a:lnTo>
                  <a:pt x="31496" y="48005"/>
                </a:lnTo>
                <a:lnTo>
                  <a:pt x="94996" y="3555"/>
                </a:lnTo>
                <a:lnTo>
                  <a:pt x="0" y="59054"/>
                </a:lnTo>
                <a:close/>
              </a:path>
              <a:path w="1611249" h="117982">
                <a:moveTo>
                  <a:pt x="87249" y="46227"/>
                </a:moveTo>
                <a:lnTo>
                  <a:pt x="87249" y="71627"/>
                </a:lnTo>
                <a:lnTo>
                  <a:pt x="188849" y="71627"/>
                </a:lnTo>
                <a:lnTo>
                  <a:pt x="188849" y="46227"/>
                </a:lnTo>
                <a:lnTo>
                  <a:pt x="87249" y="46227"/>
                </a:lnTo>
                <a:close/>
              </a:path>
              <a:path w="1611249" h="117982">
                <a:moveTo>
                  <a:pt x="108838" y="2031"/>
                </a:moveTo>
                <a:lnTo>
                  <a:pt x="100964" y="0"/>
                </a:lnTo>
                <a:lnTo>
                  <a:pt x="94996" y="3555"/>
                </a:lnTo>
                <a:lnTo>
                  <a:pt x="31496" y="48005"/>
                </a:lnTo>
                <a:lnTo>
                  <a:pt x="0" y="59054"/>
                </a:lnTo>
                <a:lnTo>
                  <a:pt x="94996" y="114426"/>
                </a:lnTo>
                <a:lnTo>
                  <a:pt x="31496" y="69976"/>
                </a:lnTo>
                <a:lnTo>
                  <a:pt x="50328" y="58991"/>
                </a:lnTo>
                <a:lnTo>
                  <a:pt x="107696" y="25526"/>
                </a:lnTo>
                <a:lnTo>
                  <a:pt x="113791" y="21970"/>
                </a:lnTo>
                <a:lnTo>
                  <a:pt x="115824" y="14224"/>
                </a:lnTo>
                <a:lnTo>
                  <a:pt x="112267" y="8127"/>
                </a:lnTo>
                <a:lnTo>
                  <a:pt x="108838" y="20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bject 22"/>
          <p:cNvSpPr/>
          <p:nvPr/>
        </p:nvSpPr>
        <p:spPr>
          <a:xfrm>
            <a:off x="6588360" y="2589120"/>
            <a:ext cx="101160" cy="360"/>
          </a:xfrm>
          <a:custGeom>
            <a:avLst/>
            <a:gdLst>
              <a:gd name="textAreaLeft" fmla="*/ 0 w 101160"/>
              <a:gd name="textAreaRight" fmla="*/ 101520 w 1011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101600" h="0">
                <a:moveTo>
                  <a:pt x="0" y="0"/>
                </a:moveTo>
                <a:lnTo>
                  <a:pt x="101600" y="0"/>
                </a:lnTo>
              </a:path>
            </a:pathLst>
          </a:custGeom>
          <a:noFill/>
          <a:ln w="2667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bject 23"/>
          <p:cNvSpPr/>
          <p:nvPr/>
        </p:nvSpPr>
        <p:spPr>
          <a:xfrm>
            <a:off x="6410520" y="2589120"/>
            <a:ext cx="101160" cy="360"/>
          </a:xfrm>
          <a:custGeom>
            <a:avLst/>
            <a:gdLst>
              <a:gd name="textAreaLeft" fmla="*/ 0 w 101160"/>
              <a:gd name="textAreaRight" fmla="*/ 101520 w 1011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101600" h="0">
                <a:moveTo>
                  <a:pt x="0" y="0"/>
                </a:moveTo>
                <a:lnTo>
                  <a:pt x="101600" y="0"/>
                </a:lnTo>
              </a:path>
            </a:pathLst>
          </a:custGeom>
          <a:noFill/>
          <a:ln w="2667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bject 24"/>
          <p:cNvSpPr/>
          <p:nvPr/>
        </p:nvSpPr>
        <p:spPr>
          <a:xfrm>
            <a:off x="6233040" y="2589120"/>
            <a:ext cx="101160" cy="360"/>
          </a:xfrm>
          <a:custGeom>
            <a:avLst/>
            <a:gdLst>
              <a:gd name="textAreaLeft" fmla="*/ 0 w 101160"/>
              <a:gd name="textAreaRight" fmla="*/ 101520 w 1011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101473" h="0">
                <a:moveTo>
                  <a:pt x="0" y="0"/>
                </a:moveTo>
                <a:lnTo>
                  <a:pt x="101473" y="0"/>
                </a:lnTo>
              </a:path>
            </a:pathLst>
          </a:custGeom>
          <a:noFill/>
          <a:ln w="2667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bject 25"/>
          <p:cNvSpPr/>
          <p:nvPr/>
        </p:nvSpPr>
        <p:spPr>
          <a:xfrm>
            <a:off x="6054840" y="2589120"/>
            <a:ext cx="101520" cy="360"/>
          </a:xfrm>
          <a:custGeom>
            <a:avLst/>
            <a:gdLst>
              <a:gd name="textAreaLeft" fmla="*/ 0 w 101520"/>
              <a:gd name="textAreaRight" fmla="*/ 101880 w 10152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101726" h="0">
                <a:moveTo>
                  <a:pt x="0" y="0"/>
                </a:moveTo>
                <a:lnTo>
                  <a:pt x="101726" y="0"/>
                </a:lnTo>
              </a:path>
            </a:pathLst>
          </a:custGeom>
          <a:noFill/>
          <a:ln w="2667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bject 26"/>
          <p:cNvSpPr/>
          <p:nvPr/>
        </p:nvSpPr>
        <p:spPr>
          <a:xfrm>
            <a:off x="5877360" y="2589120"/>
            <a:ext cx="101160" cy="360"/>
          </a:xfrm>
          <a:custGeom>
            <a:avLst/>
            <a:gdLst>
              <a:gd name="textAreaLeft" fmla="*/ 0 w 101160"/>
              <a:gd name="textAreaRight" fmla="*/ 101520 w 1011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101600" h="0">
                <a:moveTo>
                  <a:pt x="0" y="0"/>
                </a:moveTo>
                <a:lnTo>
                  <a:pt x="101600" y="0"/>
                </a:lnTo>
              </a:path>
            </a:pathLst>
          </a:custGeom>
          <a:noFill/>
          <a:ln w="2667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object 27"/>
          <p:cNvSpPr/>
          <p:nvPr/>
        </p:nvSpPr>
        <p:spPr>
          <a:xfrm>
            <a:off x="5343840" y="2589120"/>
            <a:ext cx="101160" cy="360"/>
          </a:xfrm>
          <a:custGeom>
            <a:avLst/>
            <a:gdLst>
              <a:gd name="textAreaLeft" fmla="*/ 0 w 101160"/>
              <a:gd name="textAreaRight" fmla="*/ 101520 w 1011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101600" h="0">
                <a:moveTo>
                  <a:pt x="0" y="0"/>
                </a:moveTo>
                <a:lnTo>
                  <a:pt x="101600" y="0"/>
                </a:lnTo>
              </a:path>
            </a:pathLst>
          </a:custGeom>
          <a:noFill/>
          <a:ln w="2667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bject 28"/>
          <p:cNvSpPr/>
          <p:nvPr/>
        </p:nvSpPr>
        <p:spPr>
          <a:xfrm>
            <a:off x="5166000" y="2589120"/>
            <a:ext cx="101160" cy="360"/>
          </a:xfrm>
          <a:custGeom>
            <a:avLst/>
            <a:gdLst>
              <a:gd name="textAreaLeft" fmla="*/ 0 w 101160"/>
              <a:gd name="textAreaRight" fmla="*/ 101520 w 1011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101600" h="0">
                <a:moveTo>
                  <a:pt x="0" y="0"/>
                </a:moveTo>
                <a:lnTo>
                  <a:pt x="101600" y="0"/>
                </a:lnTo>
              </a:path>
            </a:pathLst>
          </a:custGeom>
          <a:noFill/>
          <a:ln w="2667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object 29"/>
          <p:cNvSpPr/>
          <p:nvPr/>
        </p:nvSpPr>
        <p:spPr>
          <a:xfrm>
            <a:off x="3272040" y="4332240"/>
            <a:ext cx="1825200" cy="755280"/>
          </a:xfrm>
          <a:custGeom>
            <a:avLst/>
            <a:gdLst>
              <a:gd name="textAreaLeft" fmla="*/ 0 w 1825200"/>
              <a:gd name="textAreaRight" fmla="*/ 1825560 w 1825200"/>
              <a:gd name="textAreaTop" fmla="*/ 0 h 755280"/>
              <a:gd name="textAreaBottom" fmla="*/ 755640 h 755280"/>
            </a:gdLst>
            <a:ahLst/>
            <a:rect l="textAreaLeft" t="textAreaTop" r="textAreaRight" b="textAreaBottom"/>
            <a:pathLst>
              <a:path w="1825625" h="755586">
                <a:moveTo>
                  <a:pt x="0" y="377825"/>
                </a:moveTo>
                <a:lnTo>
                  <a:pt x="11947" y="316510"/>
                </a:lnTo>
                <a:lnTo>
                  <a:pt x="46536" y="258356"/>
                </a:lnTo>
                <a:lnTo>
                  <a:pt x="101889" y="204139"/>
                </a:lnTo>
                <a:lnTo>
                  <a:pt x="136764" y="178749"/>
                </a:lnTo>
                <a:lnTo>
                  <a:pt x="176125" y="154634"/>
                </a:lnTo>
                <a:lnTo>
                  <a:pt x="219738" y="131891"/>
                </a:lnTo>
                <a:lnTo>
                  <a:pt x="267366" y="110617"/>
                </a:lnTo>
                <a:lnTo>
                  <a:pt x="318776" y="90908"/>
                </a:lnTo>
                <a:lnTo>
                  <a:pt x="373733" y="72863"/>
                </a:lnTo>
                <a:lnTo>
                  <a:pt x="432001" y="56577"/>
                </a:lnTo>
                <a:lnTo>
                  <a:pt x="493346" y="42149"/>
                </a:lnTo>
                <a:lnTo>
                  <a:pt x="557533" y="29674"/>
                </a:lnTo>
                <a:lnTo>
                  <a:pt x="624327" y="19250"/>
                </a:lnTo>
                <a:lnTo>
                  <a:pt x="693494" y="10973"/>
                </a:lnTo>
                <a:lnTo>
                  <a:pt x="764797" y="4941"/>
                </a:lnTo>
                <a:lnTo>
                  <a:pt x="838002" y="1251"/>
                </a:lnTo>
                <a:lnTo>
                  <a:pt x="912876" y="0"/>
                </a:lnTo>
                <a:lnTo>
                  <a:pt x="987730" y="1251"/>
                </a:lnTo>
                <a:lnTo>
                  <a:pt x="1060920" y="4941"/>
                </a:lnTo>
                <a:lnTo>
                  <a:pt x="1132208" y="10973"/>
                </a:lnTo>
                <a:lnTo>
                  <a:pt x="1201362" y="19250"/>
                </a:lnTo>
                <a:lnTo>
                  <a:pt x="1268144" y="29674"/>
                </a:lnTo>
                <a:lnTo>
                  <a:pt x="1332321" y="42149"/>
                </a:lnTo>
                <a:lnTo>
                  <a:pt x="1393657" y="56577"/>
                </a:lnTo>
                <a:lnTo>
                  <a:pt x="1451918" y="72863"/>
                </a:lnTo>
                <a:lnTo>
                  <a:pt x="1506869" y="90908"/>
                </a:lnTo>
                <a:lnTo>
                  <a:pt x="1558274" y="110617"/>
                </a:lnTo>
                <a:lnTo>
                  <a:pt x="1605898" y="131891"/>
                </a:lnTo>
                <a:lnTo>
                  <a:pt x="1649507" y="154634"/>
                </a:lnTo>
                <a:lnTo>
                  <a:pt x="1688866" y="178749"/>
                </a:lnTo>
                <a:lnTo>
                  <a:pt x="1723739" y="204139"/>
                </a:lnTo>
                <a:lnTo>
                  <a:pt x="1753891" y="230707"/>
                </a:lnTo>
                <a:lnTo>
                  <a:pt x="1799096" y="286989"/>
                </a:lnTo>
                <a:lnTo>
                  <a:pt x="1822599" y="346821"/>
                </a:lnTo>
                <a:lnTo>
                  <a:pt x="1825625" y="377825"/>
                </a:lnTo>
                <a:lnTo>
                  <a:pt x="1822599" y="408811"/>
                </a:lnTo>
                <a:lnTo>
                  <a:pt x="1799096" y="468614"/>
                </a:lnTo>
                <a:lnTo>
                  <a:pt x="1753891" y="524879"/>
                </a:lnTo>
                <a:lnTo>
                  <a:pt x="1723739" y="551440"/>
                </a:lnTo>
                <a:lnTo>
                  <a:pt x="1688866" y="576826"/>
                </a:lnTo>
                <a:lnTo>
                  <a:pt x="1649507" y="600938"/>
                </a:lnTo>
                <a:lnTo>
                  <a:pt x="1605898" y="623680"/>
                </a:lnTo>
                <a:lnTo>
                  <a:pt x="1558274" y="644953"/>
                </a:lnTo>
                <a:lnTo>
                  <a:pt x="1506869" y="664662"/>
                </a:lnTo>
                <a:lnTo>
                  <a:pt x="1451918" y="682708"/>
                </a:lnTo>
                <a:lnTo>
                  <a:pt x="1393657" y="698996"/>
                </a:lnTo>
                <a:lnTo>
                  <a:pt x="1332321" y="713426"/>
                </a:lnTo>
                <a:lnTo>
                  <a:pt x="1268144" y="725904"/>
                </a:lnTo>
                <a:lnTo>
                  <a:pt x="1201362" y="736330"/>
                </a:lnTo>
                <a:lnTo>
                  <a:pt x="1132208" y="744609"/>
                </a:lnTo>
                <a:lnTo>
                  <a:pt x="1060920" y="750643"/>
                </a:lnTo>
                <a:lnTo>
                  <a:pt x="987730" y="754334"/>
                </a:lnTo>
                <a:lnTo>
                  <a:pt x="912876" y="755586"/>
                </a:lnTo>
                <a:lnTo>
                  <a:pt x="838002" y="754334"/>
                </a:lnTo>
                <a:lnTo>
                  <a:pt x="764797" y="750643"/>
                </a:lnTo>
                <a:lnTo>
                  <a:pt x="693494" y="744609"/>
                </a:lnTo>
                <a:lnTo>
                  <a:pt x="624327" y="736330"/>
                </a:lnTo>
                <a:lnTo>
                  <a:pt x="557533" y="725904"/>
                </a:lnTo>
                <a:lnTo>
                  <a:pt x="493346" y="713426"/>
                </a:lnTo>
                <a:lnTo>
                  <a:pt x="432001" y="698996"/>
                </a:lnTo>
                <a:lnTo>
                  <a:pt x="373733" y="682708"/>
                </a:lnTo>
                <a:lnTo>
                  <a:pt x="318776" y="664662"/>
                </a:lnTo>
                <a:lnTo>
                  <a:pt x="267366" y="644953"/>
                </a:lnTo>
                <a:lnTo>
                  <a:pt x="219738" y="623680"/>
                </a:lnTo>
                <a:lnTo>
                  <a:pt x="176125" y="600938"/>
                </a:lnTo>
                <a:lnTo>
                  <a:pt x="136764" y="576826"/>
                </a:lnTo>
                <a:lnTo>
                  <a:pt x="101889" y="551440"/>
                </a:lnTo>
                <a:lnTo>
                  <a:pt x="71735" y="524879"/>
                </a:lnTo>
                <a:lnTo>
                  <a:pt x="26529" y="468614"/>
                </a:lnTo>
                <a:lnTo>
                  <a:pt x="3025" y="408811"/>
                </a:lnTo>
                <a:lnTo>
                  <a:pt x="0" y="377825"/>
                </a:lnTo>
                <a:close/>
              </a:path>
            </a:pathLst>
          </a:custGeom>
          <a:noFill/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bject 30"/>
          <p:cNvSpPr/>
          <p:nvPr/>
        </p:nvSpPr>
        <p:spPr>
          <a:xfrm>
            <a:off x="4164480" y="2976840"/>
            <a:ext cx="204480" cy="1364760"/>
          </a:xfrm>
          <a:custGeom>
            <a:avLst/>
            <a:gdLst>
              <a:gd name="textAreaLeft" fmla="*/ 0 w 204480"/>
              <a:gd name="textAreaRight" fmla="*/ 204840 w 204480"/>
              <a:gd name="textAreaTop" fmla="*/ 0 h 1364760"/>
              <a:gd name="textAreaBottom" fmla="*/ 1365120 h 1364760"/>
            </a:gdLst>
            <a:ahLst/>
            <a:rect l="textAreaLeft" t="textAreaTop" r="textAreaRight" b="textAreaBottom"/>
            <a:pathLst>
              <a:path w="204977" h="1365123">
                <a:moveTo>
                  <a:pt x="81407" y="530479"/>
                </a:moveTo>
                <a:lnTo>
                  <a:pt x="56134" y="533146"/>
                </a:lnTo>
                <a:lnTo>
                  <a:pt x="66801" y="634238"/>
                </a:lnTo>
                <a:lnTo>
                  <a:pt x="92075" y="631571"/>
                </a:lnTo>
                <a:lnTo>
                  <a:pt x="81407" y="530479"/>
                </a:lnTo>
                <a:close/>
              </a:path>
              <a:path w="204977" h="1365123">
                <a:moveTo>
                  <a:pt x="100075" y="707263"/>
                </a:moveTo>
                <a:lnTo>
                  <a:pt x="74802" y="709930"/>
                </a:lnTo>
                <a:lnTo>
                  <a:pt x="85598" y="811022"/>
                </a:lnTo>
                <a:lnTo>
                  <a:pt x="110871" y="808355"/>
                </a:lnTo>
                <a:lnTo>
                  <a:pt x="100075" y="707263"/>
                </a:lnTo>
                <a:close/>
              </a:path>
              <a:path w="204977" h="1365123">
                <a:moveTo>
                  <a:pt x="118872" y="884047"/>
                </a:moveTo>
                <a:lnTo>
                  <a:pt x="93599" y="886841"/>
                </a:lnTo>
                <a:lnTo>
                  <a:pt x="104267" y="987806"/>
                </a:lnTo>
                <a:lnTo>
                  <a:pt x="129539" y="985139"/>
                </a:lnTo>
                <a:lnTo>
                  <a:pt x="118872" y="884047"/>
                </a:lnTo>
                <a:close/>
              </a:path>
              <a:path w="204977" h="1365123">
                <a:moveTo>
                  <a:pt x="137540" y="1060958"/>
                </a:moveTo>
                <a:lnTo>
                  <a:pt x="112268" y="1063625"/>
                </a:lnTo>
                <a:lnTo>
                  <a:pt x="123062" y="1164590"/>
                </a:lnTo>
                <a:lnTo>
                  <a:pt x="148336" y="1161923"/>
                </a:lnTo>
                <a:lnTo>
                  <a:pt x="137540" y="1060958"/>
                </a:lnTo>
                <a:close/>
              </a:path>
              <a:path w="204977" h="1365123">
                <a:moveTo>
                  <a:pt x="156337" y="1237742"/>
                </a:moveTo>
                <a:lnTo>
                  <a:pt x="131063" y="1240409"/>
                </a:lnTo>
                <a:lnTo>
                  <a:pt x="136798" y="1294682"/>
                </a:lnTo>
                <a:lnTo>
                  <a:pt x="151709" y="1314962"/>
                </a:lnTo>
                <a:lnTo>
                  <a:pt x="162062" y="1291930"/>
                </a:lnTo>
                <a:lnTo>
                  <a:pt x="156337" y="1237742"/>
                </a:lnTo>
                <a:close/>
              </a:path>
              <a:path w="204977" h="1365123">
                <a:moveTo>
                  <a:pt x="202184" y="1264793"/>
                </a:moveTo>
                <a:lnTo>
                  <a:pt x="167005" y="1338707"/>
                </a:lnTo>
                <a:lnTo>
                  <a:pt x="164592" y="1332484"/>
                </a:lnTo>
                <a:lnTo>
                  <a:pt x="142748" y="1334897"/>
                </a:lnTo>
                <a:lnTo>
                  <a:pt x="141732" y="1341374"/>
                </a:lnTo>
                <a:lnTo>
                  <a:pt x="94614" y="1258697"/>
                </a:lnTo>
                <a:lnTo>
                  <a:pt x="89026" y="1262888"/>
                </a:lnTo>
                <a:lnTo>
                  <a:pt x="87757" y="1270889"/>
                </a:lnTo>
                <a:lnTo>
                  <a:pt x="91948" y="1276477"/>
                </a:lnTo>
                <a:lnTo>
                  <a:pt x="157099" y="1365123"/>
                </a:lnTo>
                <a:lnTo>
                  <a:pt x="202184" y="1264793"/>
                </a:lnTo>
                <a:close/>
              </a:path>
              <a:path w="204977" h="1365123">
                <a:moveTo>
                  <a:pt x="25146" y="0"/>
                </a:moveTo>
                <a:lnTo>
                  <a:pt x="0" y="2794"/>
                </a:lnTo>
                <a:lnTo>
                  <a:pt x="10668" y="103759"/>
                </a:lnTo>
                <a:lnTo>
                  <a:pt x="35940" y="101092"/>
                </a:lnTo>
                <a:lnTo>
                  <a:pt x="25146" y="0"/>
                </a:lnTo>
                <a:close/>
              </a:path>
              <a:path w="204977" h="1365123">
                <a:moveTo>
                  <a:pt x="189357" y="1245108"/>
                </a:moveTo>
                <a:lnTo>
                  <a:pt x="181863" y="1248029"/>
                </a:lnTo>
                <a:lnTo>
                  <a:pt x="178943" y="1254379"/>
                </a:lnTo>
                <a:lnTo>
                  <a:pt x="162062" y="1291930"/>
                </a:lnTo>
                <a:lnTo>
                  <a:pt x="151709" y="1314962"/>
                </a:lnTo>
                <a:lnTo>
                  <a:pt x="136798" y="1294682"/>
                </a:lnTo>
                <a:lnTo>
                  <a:pt x="112395" y="1261491"/>
                </a:lnTo>
                <a:lnTo>
                  <a:pt x="108203" y="1255776"/>
                </a:lnTo>
                <a:lnTo>
                  <a:pt x="100330" y="1254633"/>
                </a:lnTo>
                <a:lnTo>
                  <a:pt x="94614" y="1258697"/>
                </a:lnTo>
                <a:lnTo>
                  <a:pt x="141732" y="1341374"/>
                </a:lnTo>
                <a:lnTo>
                  <a:pt x="142748" y="1334897"/>
                </a:lnTo>
                <a:lnTo>
                  <a:pt x="164592" y="1332484"/>
                </a:lnTo>
                <a:lnTo>
                  <a:pt x="167005" y="1338707"/>
                </a:lnTo>
                <a:lnTo>
                  <a:pt x="202184" y="1264793"/>
                </a:lnTo>
                <a:lnTo>
                  <a:pt x="204977" y="1258443"/>
                </a:lnTo>
                <a:lnTo>
                  <a:pt x="202184" y="1250950"/>
                </a:lnTo>
                <a:lnTo>
                  <a:pt x="195707" y="1248029"/>
                </a:lnTo>
                <a:lnTo>
                  <a:pt x="189357" y="1245108"/>
                </a:lnTo>
                <a:close/>
              </a:path>
              <a:path w="204977" h="1365123">
                <a:moveTo>
                  <a:pt x="43942" y="176911"/>
                </a:moveTo>
                <a:lnTo>
                  <a:pt x="18669" y="179578"/>
                </a:lnTo>
                <a:lnTo>
                  <a:pt x="29337" y="280543"/>
                </a:lnTo>
                <a:lnTo>
                  <a:pt x="54610" y="277876"/>
                </a:lnTo>
                <a:lnTo>
                  <a:pt x="43942" y="176911"/>
                </a:lnTo>
                <a:close/>
              </a:path>
              <a:path w="204977" h="1365123">
                <a:moveTo>
                  <a:pt x="62611" y="353695"/>
                </a:moveTo>
                <a:lnTo>
                  <a:pt x="37464" y="356362"/>
                </a:lnTo>
                <a:lnTo>
                  <a:pt x="48133" y="457327"/>
                </a:lnTo>
                <a:lnTo>
                  <a:pt x="73406" y="454660"/>
                </a:lnTo>
                <a:lnTo>
                  <a:pt x="62611" y="35369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object 31"/>
          <p:cNvSpPr/>
          <p:nvPr/>
        </p:nvSpPr>
        <p:spPr>
          <a:xfrm>
            <a:off x="6761520" y="4343400"/>
            <a:ext cx="1825200" cy="755280"/>
          </a:xfrm>
          <a:custGeom>
            <a:avLst/>
            <a:gdLst>
              <a:gd name="textAreaLeft" fmla="*/ 0 w 1825200"/>
              <a:gd name="textAreaRight" fmla="*/ 1825560 w 1825200"/>
              <a:gd name="textAreaTop" fmla="*/ 0 h 755280"/>
              <a:gd name="textAreaBottom" fmla="*/ 755640 h 755280"/>
            </a:gdLst>
            <a:ahLst/>
            <a:rect l="textAreaLeft" t="textAreaTop" r="textAreaRight" b="textAreaBottom"/>
            <a:pathLst>
              <a:path w="1825625" h="755650">
                <a:moveTo>
                  <a:pt x="0" y="377825"/>
                </a:moveTo>
                <a:lnTo>
                  <a:pt x="11947" y="316541"/>
                </a:lnTo>
                <a:lnTo>
                  <a:pt x="46536" y="258405"/>
                </a:lnTo>
                <a:lnTo>
                  <a:pt x="101889" y="204195"/>
                </a:lnTo>
                <a:lnTo>
                  <a:pt x="136764" y="178805"/>
                </a:lnTo>
                <a:lnTo>
                  <a:pt x="176125" y="154689"/>
                </a:lnTo>
                <a:lnTo>
                  <a:pt x="219738" y="131942"/>
                </a:lnTo>
                <a:lnTo>
                  <a:pt x="267366" y="110664"/>
                </a:lnTo>
                <a:lnTo>
                  <a:pt x="318776" y="90951"/>
                </a:lnTo>
                <a:lnTo>
                  <a:pt x="373733" y="72900"/>
                </a:lnTo>
                <a:lnTo>
                  <a:pt x="432001" y="56608"/>
                </a:lnTo>
                <a:lnTo>
                  <a:pt x="493346" y="42173"/>
                </a:lnTo>
                <a:lnTo>
                  <a:pt x="557533" y="29692"/>
                </a:lnTo>
                <a:lnTo>
                  <a:pt x="624327" y="19262"/>
                </a:lnTo>
                <a:lnTo>
                  <a:pt x="693494" y="10980"/>
                </a:lnTo>
                <a:lnTo>
                  <a:pt x="764797" y="4945"/>
                </a:lnTo>
                <a:lnTo>
                  <a:pt x="838002" y="1252"/>
                </a:lnTo>
                <a:lnTo>
                  <a:pt x="912876" y="0"/>
                </a:lnTo>
                <a:lnTo>
                  <a:pt x="987730" y="1252"/>
                </a:lnTo>
                <a:lnTo>
                  <a:pt x="1060920" y="4945"/>
                </a:lnTo>
                <a:lnTo>
                  <a:pt x="1132208" y="10980"/>
                </a:lnTo>
                <a:lnTo>
                  <a:pt x="1201362" y="19262"/>
                </a:lnTo>
                <a:lnTo>
                  <a:pt x="1268144" y="29692"/>
                </a:lnTo>
                <a:lnTo>
                  <a:pt x="1332321" y="42173"/>
                </a:lnTo>
                <a:lnTo>
                  <a:pt x="1393657" y="56608"/>
                </a:lnTo>
                <a:lnTo>
                  <a:pt x="1451918" y="72900"/>
                </a:lnTo>
                <a:lnTo>
                  <a:pt x="1506869" y="90951"/>
                </a:lnTo>
                <a:lnTo>
                  <a:pt x="1558274" y="110664"/>
                </a:lnTo>
                <a:lnTo>
                  <a:pt x="1605898" y="131942"/>
                </a:lnTo>
                <a:lnTo>
                  <a:pt x="1649507" y="154689"/>
                </a:lnTo>
                <a:lnTo>
                  <a:pt x="1688866" y="178805"/>
                </a:lnTo>
                <a:lnTo>
                  <a:pt x="1723739" y="204195"/>
                </a:lnTo>
                <a:lnTo>
                  <a:pt x="1753891" y="230760"/>
                </a:lnTo>
                <a:lnTo>
                  <a:pt x="1799096" y="287031"/>
                </a:lnTo>
                <a:lnTo>
                  <a:pt x="1822599" y="346838"/>
                </a:lnTo>
                <a:lnTo>
                  <a:pt x="1825625" y="377825"/>
                </a:lnTo>
                <a:lnTo>
                  <a:pt x="1822599" y="408811"/>
                </a:lnTo>
                <a:lnTo>
                  <a:pt x="1799096" y="468618"/>
                </a:lnTo>
                <a:lnTo>
                  <a:pt x="1753891" y="524889"/>
                </a:lnTo>
                <a:lnTo>
                  <a:pt x="1723739" y="551454"/>
                </a:lnTo>
                <a:lnTo>
                  <a:pt x="1688866" y="576844"/>
                </a:lnTo>
                <a:lnTo>
                  <a:pt x="1649507" y="600960"/>
                </a:lnTo>
                <a:lnTo>
                  <a:pt x="1605898" y="623707"/>
                </a:lnTo>
                <a:lnTo>
                  <a:pt x="1558274" y="644985"/>
                </a:lnTo>
                <a:lnTo>
                  <a:pt x="1506869" y="664698"/>
                </a:lnTo>
                <a:lnTo>
                  <a:pt x="1451918" y="682749"/>
                </a:lnTo>
                <a:lnTo>
                  <a:pt x="1393657" y="699041"/>
                </a:lnTo>
                <a:lnTo>
                  <a:pt x="1332321" y="713476"/>
                </a:lnTo>
                <a:lnTo>
                  <a:pt x="1268144" y="725957"/>
                </a:lnTo>
                <a:lnTo>
                  <a:pt x="1201362" y="736387"/>
                </a:lnTo>
                <a:lnTo>
                  <a:pt x="1132208" y="744669"/>
                </a:lnTo>
                <a:lnTo>
                  <a:pt x="1060920" y="750704"/>
                </a:lnTo>
                <a:lnTo>
                  <a:pt x="987730" y="754397"/>
                </a:lnTo>
                <a:lnTo>
                  <a:pt x="912876" y="755650"/>
                </a:lnTo>
                <a:lnTo>
                  <a:pt x="838002" y="754397"/>
                </a:lnTo>
                <a:lnTo>
                  <a:pt x="764797" y="750704"/>
                </a:lnTo>
                <a:lnTo>
                  <a:pt x="693494" y="744669"/>
                </a:lnTo>
                <a:lnTo>
                  <a:pt x="624327" y="736387"/>
                </a:lnTo>
                <a:lnTo>
                  <a:pt x="557533" y="725957"/>
                </a:lnTo>
                <a:lnTo>
                  <a:pt x="493346" y="713476"/>
                </a:lnTo>
                <a:lnTo>
                  <a:pt x="432001" y="699041"/>
                </a:lnTo>
                <a:lnTo>
                  <a:pt x="373733" y="682749"/>
                </a:lnTo>
                <a:lnTo>
                  <a:pt x="318776" y="664698"/>
                </a:lnTo>
                <a:lnTo>
                  <a:pt x="267366" y="644985"/>
                </a:lnTo>
                <a:lnTo>
                  <a:pt x="219738" y="623707"/>
                </a:lnTo>
                <a:lnTo>
                  <a:pt x="176125" y="600960"/>
                </a:lnTo>
                <a:lnTo>
                  <a:pt x="136764" y="576844"/>
                </a:lnTo>
                <a:lnTo>
                  <a:pt x="101889" y="551454"/>
                </a:lnTo>
                <a:lnTo>
                  <a:pt x="71735" y="524889"/>
                </a:lnTo>
                <a:lnTo>
                  <a:pt x="26529" y="468618"/>
                </a:lnTo>
                <a:lnTo>
                  <a:pt x="3025" y="408811"/>
                </a:lnTo>
                <a:lnTo>
                  <a:pt x="0" y="377825"/>
                </a:lnTo>
                <a:close/>
              </a:path>
            </a:pathLst>
          </a:custGeom>
          <a:noFill/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bject 32"/>
          <p:cNvSpPr/>
          <p:nvPr/>
        </p:nvSpPr>
        <p:spPr>
          <a:xfrm>
            <a:off x="4856400" y="2814840"/>
            <a:ext cx="2665080" cy="1527840"/>
          </a:xfrm>
          <a:custGeom>
            <a:avLst/>
            <a:gdLst>
              <a:gd name="textAreaLeft" fmla="*/ 0 w 2665080"/>
              <a:gd name="textAreaRight" fmla="*/ 2665440 w 2665080"/>
              <a:gd name="textAreaTop" fmla="*/ 0 h 1527840"/>
              <a:gd name="textAreaBottom" fmla="*/ 1528200 h 1527840"/>
            </a:gdLst>
            <a:ahLst/>
            <a:rect l="textAreaLeft" t="textAreaTop" r="textAreaRight" b="textAreaBottom"/>
            <a:pathLst>
              <a:path w="2665476" h="1528318">
                <a:moveTo>
                  <a:pt x="321563" y="176149"/>
                </a:moveTo>
                <a:lnTo>
                  <a:pt x="308990" y="198247"/>
                </a:lnTo>
                <a:lnTo>
                  <a:pt x="397255" y="248538"/>
                </a:lnTo>
                <a:lnTo>
                  <a:pt x="409828" y="226441"/>
                </a:lnTo>
                <a:lnTo>
                  <a:pt x="321563" y="176149"/>
                </a:lnTo>
                <a:close/>
              </a:path>
              <a:path w="2665476" h="1528318">
                <a:moveTo>
                  <a:pt x="475996" y="264160"/>
                </a:moveTo>
                <a:lnTo>
                  <a:pt x="463423" y="286257"/>
                </a:lnTo>
                <a:lnTo>
                  <a:pt x="551688" y="336550"/>
                </a:lnTo>
                <a:lnTo>
                  <a:pt x="564261" y="314579"/>
                </a:lnTo>
                <a:lnTo>
                  <a:pt x="475996" y="264160"/>
                </a:lnTo>
                <a:close/>
              </a:path>
              <a:path w="2665476" h="1528318">
                <a:moveTo>
                  <a:pt x="630427" y="352298"/>
                </a:moveTo>
                <a:lnTo>
                  <a:pt x="617854" y="374396"/>
                </a:lnTo>
                <a:lnTo>
                  <a:pt x="706120" y="424688"/>
                </a:lnTo>
                <a:lnTo>
                  <a:pt x="718692" y="402590"/>
                </a:lnTo>
                <a:lnTo>
                  <a:pt x="630427" y="352298"/>
                </a:lnTo>
                <a:close/>
              </a:path>
              <a:path w="2665476" h="1528318">
                <a:moveTo>
                  <a:pt x="784987" y="440309"/>
                </a:moveTo>
                <a:lnTo>
                  <a:pt x="772413" y="462406"/>
                </a:lnTo>
                <a:lnTo>
                  <a:pt x="860551" y="512699"/>
                </a:lnTo>
                <a:lnTo>
                  <a:pt x="873251" y="490600"/>
                </a:lnTo>
                <a:lnTo>
                  <a:pt x="784987" y="440309"/>
                </a:lnTo>
                <a:close/>
              </a:path>
              <a:path w="2665476" h="1528318">
                <a:moveTo>
                  <a:pt x="939419" y="528447"/>
                </a:moveTo>
                <a:lnTo>
                  <a:pt x="926846" y="550418"/>
                </a:lnTo>
                <a:lnTo>
                  <a:pt x="1015111" y="600837"/>
                </a:lnTo>
                <a:lnTo>
                  <a:pt x="1027684" y="578738"/>
                </a:lnTo>
                <a:lnTo>
                  <a:pt x="939419" y="528447"/>
                </a:lnTo>
                <a:close/>
              </a:path>
              <a:path w="2665476" h="1528318">
                <a:moveTo>
                  <a:pt x="1093851" y="616457"/>
                </a:moveTo>
                <a:lnTo>
                  <a:pt x="1081277" y="638556"/>
                </a:lnTo>
                <a:lnTo>
                  <a:pt x="1169542" y="688848"/>
                </a:lnTo>
                <a:lnTo>
                  <a:pt x="1182115" y="666750"/>
                </a:lnTo>
                <a:lnTo>
                  <a:pt x="1093851" y="616457"/>
                </a:lnTo>
                <a:close/>
              </a:path>
              <a:path w="2665476" h="1528318">
                <a:moveTo>
                  <a:pt x="1248283" y="704469"/>
                </a:moveTo>
                <a:lnTo>
                  <a:pt x="1235710" y="726567"/>
                </a:lnTo>
                <a:lnTo>
                  <a:pt x="1323975" y="776859"/>
                </a:lnTo>
                <a:lnTo>
                  <a:pt x="1336548" y="754888"/>
                </a:lnTo>
                <a:lnTo>
                  <a:pt x="1248283" y="704469"/>
                </a:lnTo>
                <a:close/>
              </a:path>
              <a:path w="2665476" h="1528318">
                <a:moveTo>
                  <a:pt x="1402714" y="792607"/>
                </a:moveTo>
                <a:lnTo>
                  <a:pt x="1390141" y="814705"/>
                </a:lnTo>
                <a:lnTo>
                  <a:pt x="1478407" y="864997"/>
                </a:lnTo>
                <a:lnTo>
                  <a:pt x="1490979" y="842899"/>
                </a:lnTo>
                <a:lnTo>
                  <a:pt x="1402714" y="792607"/>
                </a:lnTo>
                <a:close/>
              </a:path>
              <a:path w="2665476" h="1528318">
                <a:moveTo>
                  <a:pt x="1557274" y="880618"/>
                </a:moveTo>
                <a:lnTo>
                  <a:pt x="1544701" y="902716"/>
                </a:lnTo>
                <a:lnTo>
                  <a:pt x="1632965" y="953007"/>
                </a:lnTo>
                <a:lnTo>
                  <a:pt x="1645539" y="931037"/>
                </a:lnTo>
                <a:lnTo>
                  <a:pt x="1557274" y="880618"/>
                </a:lnTo>
                <a:close/>
              </a:path>
              <a:path w="2665476" h="1528318">
                <a:moveTo>
                  <a:pt x="1711705" y="968756"/>
                </a:moveTo>
                <a:lnTo>
                  <a:pt x="1699133" y="990726"/>
                </a:lnTo>
                <a:lnTo>
                  <a:pt x="1787398" y="1041146"/>
                </a:lnTo>
                <a:lnTo>
                  <a:pt x="1799971" y="1019048"/>
                </a:lnTo>
                <a:lnTo>
                  <a:pt x="1711705" y="968756"/>
                </a:lnTo>
                <a:close/>
              </a:path>
              <a:path w="2665476" h="1528318">
                <a:moveTo>
                  <a:pt x="1866138" y="1056767"/>
                </a:moveTo>
                <a:lnTo>
                  <a:pt x="1853565" y="1078865"/>
                </a:lnTo>
                <a:lnTo>
                  <a:pt x="1941829" y="1129157"/>
                </a:lnTo>
                <a:lnTo>
                  <a:pt x="1954402" y="1107059"/>
                </a:lnTo>
                <a:lnTo>
                  <a:pt x="1866138" y="1056767"/>
                </a:lnTo>
                <a:close/>
              </a:path>
              <a:path w="2665476" h="1528318">
                <a:moveTo>
                  <a:pt x="2020570" y="1144905"/>
                </a:moveTo>
                <a:lnTo>
                  <a:pt x="2007997" y="1166876"/>
                </a:lnTo>
                <a:lnTo>
                  <a:pt x="2096261" y="1217295"/>
                </a:lnTo>
                <a:lnTo>
                  <a:pt x="2108834" y="1195197"/>
                </a:lnTo>
                <a:lnTo>
                  <a:pt x="2020570" y="1144905"/>
                </a:lnTo>
                <a:close/>
              </a:path>
              <a:path w="2665476" h="1528318">
                <a:moveTo>
                  <a:pt x="2175002" y="1232916"/>
                </a:moveTo>
                <a:lnTo>
                  <a:pt x="2162429" y="1255014"/>
                </a:lnTo>
                <a:lnTo>
                  <a:pt x="2250694" y="1305306"/>
                </a:lnTo>
                <a:lnTo>
                  <a:pt x="2263267" y="1283208"/>
                </a:lnTo>
                <a:lnTo>
                  <a:pt x="2175002" y="1232916"/>
                </a:lnTo>
                <a:close/>
              </a:path>
              <a:path w="2665476" h="1528318">
                <a:moveTo>
                  <a:pt x="2329560" y="1320927"/>
                </a:moveTo>
                <a:lnTo>
                  <a:pt x="2316988" y="1343025"/>
                </a:lnTo>
                <a:lnTo>
                  <a:pt x="2405253" y="1393317"/>
                </a:lnTo>
                <a:lnTo>
                  <a:pt x="2417826" y="1371346"/>
                </a:lnTo>
                <a:lnTo>
                  <a:pt x="2329560" y="1320927"/>
                </a:lnTo>
                <a:close/>
              </a:path>
              <a:path w="2665476" h="1528318">
                <a:moveTo>
                  <a:pt x="2483993" y="1409065"/>
                </a:moveTo>
                <a:lnTo>
                  <a:pt x="2471420" y="1431163"/>
                </a:lnTo>
                <a:lnTo>
                  <a:pt x="2559684" y="1481455"/>
                </a:lnTo>
                <a:lnTo>
                  <a:pt x="2572257" y="1459357"/>
                </a:lnTo>
                <a:lnTo>
                  <a:pt x="2483993" y="1409065"/>
                </a:lnTo>
                <a:close/>
              </a:path>
              <a:path w="2665476" h="1528318">
                <a:moveTo>
                  <a:pt x="2665476" y="1527175"/>
                </a:moveTo>
                <a:lnTo>
                  <a:pt x="2610357" y="1431925"/>
                </a:lnTo>
                <a:lnTo>
                  <a:pt x="2638425" y="1497076"/>
                </a:lnTo>
                <a:lnTo>
                  <a:pt x="2635634" y="1501980"/>
                </a:lnTo>
                <a:lnTo>
                  <a:pt x="2628644" y="1514265"/>
                </a:lnTo>
                <a:lnTo>
                  <a:pt x="2621624" y="1502121"/>
                </a:lnTo>
                <a:lnTo>
                  <a:pt x="2555240" y="1502791"/>
                </a:lnTo>
                <a:lnTo>
                  <a:pt x="2548254" y="1502918"/>
                </a:lnTo>
                <a:lnTo>
                  <a:pt x="2542540" y="1508633"/>
                </a:lnTo>
                <a:lnTo>
                  <a:pt x="2542667" y="1522730"/>
                </a:lnTo>
                <a:lnTo>
                  <a:pt x="2548508" y="1528318"/>
                </a:lnTo>
                <a:lnTo>
                  <a:pt x="2555494" y="1528191"/>
                </a:lnTo>
                <a:lnTo>
                  <a:pt x="2625852" y="1519174"/>
                </a:lnTo>
                <a:lnTo>
                  <a:pt x="2632582" y="1521079"/>
                </a:lnTo>
                <a:lnTo>
                  <a:pt x="2643378" y="1501902"/>
                </a:lnTo>
                <a:lnTo>
                  <a:pt x="2649854" y="1503680"/>
                </a:lnTo>
                <a:lnTo>
                  <a:pt x="2665476" y="1527175"/>
                </a:lnTo>
                <a:close/>
              </a:path>
              <a:path w="2665476" h="1528318">
                <a:moveTo>
                  <a:pt x="2621624" y="1502121"/>
                </a:moveTo>
                <a:lnTo>
                  <a:pt x="2628644" y="1514265"/>
                </a:lnTo>
                <a:lnTo>
                  <a:pt x="2635634" y="1501980"/>
                </a:lnTo>
                <a:lnTo>
                  <a:pt x="2638425" y="1497076"/>
                </a:lnTo>
                <a:lnTo>
                  <a:pt x="2610357" y="1431925"/>
                </a:lnTo>
                <a:lnTo>
                  <a:pt x="2606929" y="1425829"/>
                </a:lnTo>
                <a:lnTo>
                  <a:pt x="2599054" y="1423797"/>
                </a:lnTo>
                <a:lnTo>
                  <a:pt x="2593085" y="1427353"/>
                </a:lnTo>
                <a:lnTo>
                  <a:pt x="2586990" y="1430782"/>
                </a:lnTo>
                <a:lnTo>
                  <a:pt x="2584830" y="1438529"/>
                </a:lnTo>
                <a:lnTo>
                  <a:pt x="2588386" y="1444625"/>
                </a:lnTo>
                <a:lnTo>
                  <a:pt x="2621624" y="1502121"/>
                </a:lnTo>
                <a:close/>
              </a:path>
              <a:path w="2665476" h="1528318">
                <a:moveTo>
                  <a:pt x="2637281" y="1525651"/>
                </a:moveTo>
                <a:lnTo>
                  <a:pt x="2665476" y="1527175"/>
                </a:lnTo>
                <a:lnTo>
                  <a:pt x="2649854" y="1503680"/>
                </a:lnTo>
                <a:lnTo>
                  <a:pt x="2643378" y="1501902"/>
                </a:lnTo>
                <a:lnTo>
                  <a:pt x="2632582" y="1521079"/>
                </a:lnTo>
                <a:lnTo>
                  <a:pt x="2625852" y="1519174"/>
                </a:lnTo>
                <a:lnTo>
                  <a:pt x="2555494" y="1528191"/>
                </a:lnTo>
                <a:lnTo>
                  <a:pt x="2665476" y="1527175"/>
                </a:lnTo>
                <a:lnTo>
                  <a:pt x="2637281" y="1525651"/>
                </a:lnTo>
                <a:close/>
              </a:path>
              <a:path w="2665476" h="1528318">
                <a:moveTo>
                  <a:pt x="12700" y="0"/>
                </a:moveTo>
                <a:lnTo>
                  <a:pt x="0" y="22098"/>
                </a:lnTo>
                <a:lnTo>
                  <a:pt x="88264" y="72389"/>
                </a:lnTo>
                <a:lnTo>
                  <a:pt x="100837" y="50291"/>
                </a:lnTo>
                <a:lnTo>
                  <a:pt x="12700" y="0"/>
                </a:lnTo>
                <a:close/>
              </a:path>
              <a:path w="2665476" h="1528318">
                <a:moveTo>
                  <a:pt x="167132" y="88137"/>
                </a:moveTo>
                <a:lnTo>
                  <a:pt x="154559" y="110109"/>
                </a:lnTo>
                <a:lnTo>
                  <a:pt x="242824" y="160527"/>
                </a:lnTo>
                <a:lnTo>
                  <a:pt x="255397" y="138429"/>
                </a:lnTo>
                <a:lnTo>
                  <a:pt x="167132" y="881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object 33"/>
          <p:cNvSpPr/>
          <p:nvPr/>
        </p:nvSpPr>
        <p:spPr>
          <a:xfrm>
            <a:off x="589320" y="2209680"/>
            <a:ext cx="1825200" cy="755280"/>
          </a:xfrm>
          <a:custGeom>
            <a:avLst/>
            <a:gdLst>
              <a:gd name="textAreaLeft" fmla="*/ 0 w 1825200"/>
              <a:gd name="textAreaRight" fmla="*/ 1825560 w 1825200"/>
              <a:gd name="textAreaTop" fmla="*/ 0 h 755280"/>
              <a:gd name="textAreaBottom" fmla="*/ 755640 h 755280"/>
            </a:gdLst>
            <a:ahLst/>
            <a:rect l="textAreaLeft" t="textAreaTop" r="textAreaRight" b="textAreaBottom"/>
            <a:pathLst>
              <a:path w="1825625" h="755650">
                <a:moveTo>
                  <a:pt x="0" y="377825"/>
                </a:moveTo>
                <a:lnTo>
                  <a:pt x="11947" y="316541"/>
                </a:lnTo>
                <a:lnTo>
                  <a:pt x="46536" y="258405"/>
                </a:lnTo>
                <a:lnTo>
                  <a:pt x="101889" y="204195"/>
                </a:lnTo>
                <a:lnTo>
                  <a:pt x="136764" y="178805"/>
                </a:lnTo>
                <a:lnTo>
                  <a:pt x="176125" y="154689"/>
                </a:lnTo>
                <a:lnTo>
                  <a:pt x="219738" y="131942"/>
                </a:lnTo>
                <a:lnTo>
                  <a:pt x="267366" y="110664"/>
                </a:lnTo>
                <a:lnTo>
                  <a:pt x="318776" y="90951"/>
                </a:lnTo>
                <a:lnTo>
                  <a:pt x="373733" y="72900"/>
                </a:lnTo>
                <a:lnTo>
                  <a:pt x="432001" y="56608"/>
                </a:lnTo>
                <a:lnTo>
                  <a:pt x="493346" y="42173"/>
                </a:lnTo>
                <a:lnTo>
                  <a:pt x="557533" y="29692"/>
                </a:lnTo>
                <a:lnTo>
                  <a:pt x="624327" y="19262"/>
                </a:lnTo>
                <a:lnTo>
                  <a:pt x="693494" y="10980"/>
                </a:lnTo>
                <a:lnTo>
                  <a:pt x="764797" y="4945"/>
                </a:lnTo>
                <a:lnTo>
                  <a:pt x="838002" y="1252"/>
                </a:lnTo>
                <a:lnTo>
                  <a:pt x="912876" y="0"/>
                </a:lnTo>
                <a:lnTo>
                  <a:pt x="987730" y="1252"/>
                </a:lnTo>
                <a:lnTo>
                  <a:pt x="1060920" y="4945"/>
                </a:lnTo>
                <a:lnTo>
                  <a:pt x="1132208" y="10980"/>
                </a:lnTo>
                <a:lnTo>
                  <a:pt x="1201362" y="19262"/>
                </a:lnTo>
                <a:lnTo>
                  <a:pt x="1268144" y="29692"/>
                </a:lnTo>
                <a:lnTo>
                  <a:pt x="1332321" y="42173"/>
                </a:lnTo>
                <a:lnTo>
                  <a:pt x="1393657" y="56608"/>
                </a:lnTo>
                <a:lnTo>
                  <a:pt x="1451918" y="72900"/>
                </a:lnTo>
                <a:lnTo>
                  <a:pt x="1506869" y="90951"/>
                </a:lnTo>
                <a:lnTo>
                  <a:pt x="1558274" y="110664"/>
                </a:lnTo>
                <a:lnTo>
                  <a:pt x="1605898" y="131942"/>
                </a:lnTo>
                <a:lnTo>
                  <a:pt x="1649507" y="154689"/>
                </a:lnTo>
                <a:lnTo>
                  <a:pt x="1688866" y="178805"/>
                </a:lnTo>
                <a:lnTo>
                  <a:pt x="1723739" y="204195"/>
                </a:lnTo>
                <a:lnTo>
                  <a:pt x="1753891" y="230760"/>
                </a:lnTo>
                <a:lnTo>
                  <a:pt x="1799096" y="287031"/>
                </a:lnTo>
                <a:lnTo>
                  <a:pt x="1822599" y="346838"/>
                </a:lnTo>
                <a:lnTo>
                  <a:pt x="1825625" y="377825"/>
                </a:lnTo>
                <a:lnTo>
                  <a:pt x="1822599" y="408811"/>
                </a:lnTo>
                <a:lnTo>
                  <a:pt x="1799096" y="468618"/>
                </a:lnTo>
                <a:lnTo>
                  <a:pt x="1753891" y="524889"/>
                </a:lnTo>
                <a:lnTo>
                  <a:pt x="1723739" y="551454"/>
                </a:lnTo>
                <a:lnTo>
                  <a:pt x="1688866" y="576844"/>
                </a:lnTo>
                <a:lnTo>
                  <a:pt x="1649507" y="600960"/>
                </a:lnTo>
                <a:lnTo>
                  <a:pt x="1605898" y="623707"/>
                </a:lnTo>
                <a:lnTo>
                  <a:pt x="1558274" y="644985"/>
                </a:lnTo>
                <a:lnTo>
                  <a:pt x="1506869" y="664698"/>
                </a:lnTo>
                <a:lnTo>
                  <a:pt x="1451918" y="682749"/>
                </a:lnTo>
                <a:lnTo>
                  <a:pt x="1393657" y="699041"/>
                </a:lnTo>
                <a:lnTo>
                  <a:pt x="1332321" y="713476"/>
                </a:lnTo>
                <a:lnTo>
                  <a:pt x="1268144" y="725957"/>
                </a:lnTo>
                <a:lnTo>
                  <a:pt x="1201362" y="736387"/>
                </a:lnTo>
                <a:lnTo>
                  <a:pt x="1132208" y="744669"/>
                </a:lnTo>
                <a:lnTo>
                  <a:pt x="1060920" y="750704"/>
                </a:lnTo>
                <a:lnTo>
                  <a:pt x="987730" y="754397"/>
                </a:lnTo>
                <a:lnTo>
                  <a:pt x="912876" y="755650"/>
                </a:lnTo>
                <a:lnTo>
                  <a:pt x="838002" y="754397"/>
                </a:lnTo>
                <a:lnTo>
                  <a:pt x="764797" y="750704"/>
                </a:lnTo>
                <a:lnTo>
                  <a:pt x="693494" y="744669"/>
                </a:lnTo>
                <a:lnTo>
                  <a:pt x="624327" y="736387"/>
                </a:lnTo>
                <a:lnTo>
                  <a:pt x="557533" y="725957"/>
                </a:lnTo>
                <a:lnTo>
                  <a:pt x="493346" y="713476"/>
                </a:lnTo>
                <a:lnTo>
                  <a:pt x="432001" y="699041"/>
                </a:lnTo>
                <a:lnTo>
                  <a:pt x="373733" y="682749"/>
                </a:lnTo>
                <a:lnTo>
                  <a:pt x="318776" y="664698"/>
                </a:lnTo>
                <a:lnTo>
                  <a:pt x="267366" y="644985"/>
                </a:lnTo>
                <a:lnTo>
                  <a:pt x="219738" y="623707"/>
                </a:lnTo>
                <a:lnTo>
                  <a:pt x="176125" y="600960"/>
                </a:lnTo>
                <a:lnTo>
                  <a:pt x="136764" y="576844"/>
                </a:lnTo>
                <a:lnTo>
                  <a:pt x="101889" y="551454"/>
                </a:lnTo>
                <a:lnTo>
                  <a:pt x="71735" y="524889"/>
                </a:lnTo>
                <a:lnTo>
                  <a:pt x="26529" y="468618"/>
                </a:lnTo>
                <a:lnTo>
                  <a:pt x="3025" y="408811"/>
                </a:lnTo>
                <a:lnTo>
                  <a:pt x="0" y="377825"/>
                </a:lnTo>
                <a:close/>
              </a:path>
            </a:pathLst>
          </a:custGeom>
          <a:noFill/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bject 34"/>
          <p:cNvSpPr/>
          <p:nvPr/>
        </p:nvSpPr>
        <p:spPr>
          <a:xfrm>
            <a:off x="1646280" y="2960640"/>
            <a:ext cx="1830240" cy="1527120"/>
          </a:xfrm>
          <a:custGeom>
            <a:avLst/>
            <a:gdLst>
              <a:gd name="textAreaLeft" fmla="*/ 0 w 1830240"/>
              <a:gd name="textAreaRight" fmla="*/ 1830600 w 1830240"/>
              <a:gd name="textAreaTop" fmla="*/ 0 h 1527120"/>
              <a:gd name="textAreaBottom" fmla="*/ 1527480 h 1527120"/>
            </a:gdLst>
            <a:ahLst/>
            <a:rect l="textAreaLeft" t="textAreaTop" r="textAreaRight" b="textAreaBottom"/>
            <a:pathLst>
              <a:path w="1830577" h="1527428">
                <a:moveTo>
                  <a:pt x="289433" y="227456"/>
                </a:moveTo>
                <a:lnTo>
                  <a:pt x="273177" y="247014"/>
                </a:lnTo>
                <a:lnTo>
                  <a:pt x="351282" y="312038"/>
                </a:lnTo>
                <a:lnTo>
                  <a:pt x="367538" y="292480"/>
                </a:lnTo>
                <a:lnTo>
                  <a:pt x="289433" y="227456"/>
                </a:lnTo>
                <a:close/>
              </a:path>
              <a:path w="1830577" h="1527428">
                <a:moveTo>
                  <a:pt x="426084" y="341248"/>
                </a:moveTo>
                <a:lnTo>
                  <a:pt x="409828" y="360806"/>
                </a:lnTo>
                <a:lnTo>
                  <a:pt x="487934" y="425830"/>
                </a:lnTo>
                <a:lnTo>
                  <a:pt x="504190" y="406272"/>
                </a:lnTo>
                <a:lnTo>
                  <a:pt x="426084" y="341248"/>
                </a:lnTo>
                <a:close/>
              </a:path>
              <a:path w="1830577" h="1527428">
                <a:moveTo>
                  <a:pt x="562737" y="455040"/>
                </a:moveTo>
                <a:lnTo>
                  <a:pt x="546481" y="474598"/>
                </a:lnTo>
                <a:lnTo>
                  <a:pt x="624585" y="539622"/>
                </a:lnTo>
                <a:lnTo>
                  <a:pt x="640841" y="520064"/>
                </a:lnTo>
                <a:lnTo>
                  <a:pt x="562737" y="455040"/>
                </a:lnTo>
                <a:close/>
              </a:path>
              <a:path w="1830577" h="1527428">
                <a:moveTo>
                  <a:pt x="699389" y="568832"/>
                </a:moveTo>
                <a:lnTo>
                  <a:pt x="683133" y="588390"/>
                </a:lnTo>
                <a:lnTo>
                  <a:pt x="761110" y="653414"/>
                </a:lnTo>
                <a:lnTo>
                  <a:pt x="777366" y="633857"/>
                </a:lnTo>
                <a:lnTo>
                  <a:pt x="699389" y="568832"/>
                </a:lnTo>
                <a:close/>
              </a:path>
              <a:path w="1830577" h="1527428">
                <a:moveTo>
                  <a:pt x="835914" y="682625"/>
                </a:moveTo>
                <a:lnTo>
                  <a:pt x="819658" y="702182"/>
                </a:lnTo>
                <a:lnTo>
                  <a:pt x="897763" y="767207"/>
                </a:lnTo>
                <a:lnTo>
                  <a:pt x="914019" y="747648"/>
                </a:lnTo>
                <a:lnTo>
                  <a:pt x="835914" y="682625"/>
                </a:lnTo>
                <a:close/>
              </a:path>
              <a:path w="1830577" h="1527428">
                <a:moveTo>
                  <a:pt x="972566" y="796416"/>
                </a:moveTo>
                <a:lnTo>
                  <a:pt x="956310" y="815975"/>
                </a:lnTo>
                <a:lnTo>
                  <a:pt x="1034415" y="880871"/>
                </a:lnTo>
                <a:lnTo>
                  <a:pt x="1050671" y="861440"/>
                </a:lnTo>
                <a:lnTo>
                  <a:pt x="972566" y="796416"/>
                </a:lnTo>
                <a:close/>
              </a:path>
              <a:path w="1830577" h="1527428">
                <a:moveTo>
                  <a:pt x="1109218" y="910208"/>
                </a:moveTo>
                <a:lnTo>
                  <a:pt x="1092962" y="929639"/>
                </a:lnTo>
                <a:lnTo>
                  <a:pt x="1171067" y="994663"/>
                </a:lnTo>
                <a:lnTo>
                  <a:pt x="1187323" y="975232"/>
                </a:lnTo>
                <a:lnTo>
                  <a:pt x="1109218" y="910208"/>
                </a:lnTo>
                <a:close/>
              </a:path>
              <a:path w="1830577" h="1527428">
                <a:moveTo>
                  <a:pt x="1245870" y="1024001"/>
                </a:moveTo>
                <a:lnTo>
                  <a:pt x="1229614" y="1043432"/>
                </a:lnTo>
                <a:lnTo>
                  <a:pt x="1307719" y="1108455"/>
                </a:lnTo>
                <a:lnTo>
                  <a:pt x="1323975" y="1089025"/>
                </a:lnTo>
                <a:lnTo>
                  <a:pt x="1245870" y="1024001"/>
                </a:lnTo>
                <a:close/>
              </a:path>
              <a:path w="1830577" h="1527428">
                <a:moveTo>
                  <a:pt x="1382522" y="1137792"/>
                </a:moveTo>
                <a:lnTo>
                  <a:pt x="1366266" y="1157223"/>
                </a:lnTo>
                <a:lnTo>
                  <a:pt x="1444244" y="1222247"/>
                </a:lnTo>
                <a:lnTo>
                  <a:pt x="1460500" y="1202689"/>
                </a:lnTo>
                <a:lnTo>
                  <a:pt x="1382522" y="1137792"/>
                </a:lnTo>
                <a:close/>
              </a:path>
              <a:path w="1830577" h="1527428">
                <a:moveTo>
                  <a:pt x="1519047" y="1251458"/>
                </a:moveTo>
                <a:lnTo>
                  <a:pt x="1502791" y="1271015"/>
                </a:lnTo>
                <a:lnTo>
                  <a:pt x="1580896" y="1336039"/>
                </a:lnTo>
                <a:lnTo>
                  <a:pt x="1597152" y="1316482"/>
                </a:lnTo>
                <a:lnTo>
                  <a:pt x="1519047" y="1251458"/>
                </a:lnTo>
                <a:close/>
              </a:path>
              <a:path w="1830577" h="1527428">
                <a:moveTo>
                  <a:pt x="1780558" y="1493229"/>
                </a:moveTo>
                <a:lnTo>
                  <a:pt x="1726311" y="1484121"/>
                </a:lnTo>
                <a:lnTo>
                  <a:pt x="1803018" y="1521078"/>
                </a:lnTo>
                <a:lnTo>
                  <a:pt x="1799209" y="1515617"/>
                </a:lnTo>
                <a:lnTo>
                  <a:pt x="1813305" y="1498727"/>
                </a:lnTo>
                <a:lnTo>
                  <a:pt x="1819275" y="1501520"/>
                </a:lnTo>
                <a:lnTo>
                  <a:pt x="1830577" y="1527428"/>
                </a:lnTo>
                <a:lnTo>
                  <a:pt x="1792986" y="1424051"/>
                </a:lnTo>
                <a:lnTo>
                  <a:pt x="1792351" y="1479041"/>
                </a:lnTo>
                <a:lnTo>
                  <a:pt x="1791766" y="1495110"/>
                </a:lnTo>
                <a:lnTo>
                  <a:pt x="1780558" y="1493229"/>
                </a:lnTo>
                <a:lnTo>
                  <a:pt x="1776094" y="1498600"/>
                </a:lnTo>
                <a:lnTo>
                  <a:pt x="1780558" y="1493229"/>
                </a:lnTo>
                <a:close/>
              </a:path>
              <a:path w="1830577" h="1527428">
                <a:moveTo>
                  <a:pt x="1711706" y="1494535"/>
                </a:moveTo>
                <a:lnTo>
                  <a:pt x="1710563" y="1501520"/>
                </a:lnTo>
                <a:lnTo>
                  <a:pt x="1715135" y="1507997"/>
                </a:lnTo>
                <a:lnTo>
                  <a:pt x="1722120" y="1509140"/>
                </a:lnTo>
                <a:lnTo>
                  <a:pt x="1830577" y="1527428"/>
                </a:lnTo>
                <a:lnTo>
                  <a:pt x="1819275" y="1501520"/>
                </a:lnTo>
                <a:lnTo>
                  <a:pt x="1813305" y="1498727"/>
                </a:lnTo>
                <a:lnTo>
                  <a:pt x="1799209" y="1515617"/>
                </a:lnTo>
                <a:lnTo>
                  <a:pt x="1803018" y="1521078"/>
                </a:lnTo>
                <a:lnTo>
                  <a:pt x="1726311" y="1484121"/>
                </a:lnTo>
                <a:lnTo>
                  <a:pt x="1719326" y="1482978"/>
                </a:lnTo>
                <a:lnTo>
                  <a:pt x="1712849" y="1487677"/>
                </a:lnTo>
                <a:lnTo>
                  <a:pt x="1711706" y="1494535"/>
                </a:lnTo>
                <a:close/>
              </a:path>
              <a:path w="1830577" h="1527428">
                <a:moveTo>
                  <a:pt x="1655699" y="1365250"/>
                </a:moveTo>
                <a:lnTo>
                  <a:pt x="1639443" y="1384808"/>
                </a:lnTo>
                <a:lnTo>
                  <a:pt x="1717548" y="1449832"/>
                </a:lnTo>
                <a:lnTo>
                  <a:pt x="1733803" y="1430273"/>
                </a:lnTo>
                <a:lnTo>
                  <a:pt x="1655699" y="1365250"/>
                </a:lnTo>
                <a:close/>
              </a:path>
              <a:path w="1830577" h="1527428">
                <a:moveTo>
                  <a:pt x="1769110" y="1432686"/>
                </a:moveTo>
                <a:lnTo>
                  <a:pt x="1787884" y="1484415"/>
                </a:lnTo>
                <a:lnTo>
                  <a:pt x="1780558" y="1493229"/>
                </a:lnTo>
                <a:lnTo>
                  <a:pt x="1791766" y="1495110"/>
                </a:lnTo>
                <a:lnTo>
                  <a:pt x="1792351" y="1479041"/>
                </a:lnTo>
                <a:lnTo>
                  <a:pt x="1792986" y="1424051"/>
                </a:lnTo>
                <a:lnTo>
                  <a:pt x="1790573" y="1417446"/>
                </a:lnTo>
                <a:lnTo>
                  <a:pt x="1783334" y="1414017"/>
                </a:lnTo>
                <a:lnTo>
                  <a:pt x="1776729" y="1416430"/>
                </a:lnTo>
                <a:lnTo>
                  <a:pt x="1770126" y="1418844"/>
                </a:lnTo>
                <a:lnTo>
                  <a:pt x="1766697" y="1426083"/>
                </a:lnTo>
                <a:lnTo>
                  <a:pt x="1769110" y="1432686"/>
                </a:lnTo>
                <a:close/>
              </a:path>
              <a:path w="1830577" h="1527428">
                <a:moveTo>
                  <a:pt x="16129" y="0"/>
                </a:moveTo>
                <a:lnTo>
                  <a:pt x="0" y="19430"/>
                </a:lnTo>
                <a:lnTo>
                  <a:pt x="77978" y="84454"/>
                </a:lnTo>
                <a:lnTo>
                  <a:pt x="94234" y="65023"/>
                </a:lnTo>
                <a:lnTo>
                  <a:pt x="16129" y="0"/>
                </a:lnTo>
                <a:close/>
              </a:path>
              <a:path w="1830577" h="1527428">
                <a:moveTo>
                  <a:pt x="152781" y="113791"/>
                </a:moveTo>
                <a:lnTo>
                  <a:pt x="136525" y="133222"/>
                </a:lnTo>
                <a:lnTo>
                  <a:pt x="214629" y="198246"/>
                </a:lnTo>
                <a:lnTo>
                  <a:pt x="230885" y="178688"/>
                </a:lnTo>
                <a:lnTo>
                  <a:pt x="152781" y="11379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object 35"/>
          <p:cNvSpPr/>
          <p:nvPr/>
        </p:nvSpPr>
        <p:spPr>
          <a:xfrm>
            <a:off x="7560000" y="1903320"/>
            <a:ext cx="75960" cy="298080"/>
          </a:xfrm>
          <a:custGeom>
            <a:avLst/>
            <a:gdLst>
              <a:gd name="textAreaLeft" fmla="*/ 0 w 75960"/>
              <a:gd name="textAreaRight" fmla="*/ 76320 w 75960"/>
              <a:gd name="textAreaTop" fmla="*/ 0 h 298080"/>
              <a:gd name="textAreaBottom" fmla="*/ 298440 h 298080"/>
            </a:gdLst>
            <a:ahLst/>
            <a:rect l="textAreaLeft" t="textAreaTop" r="textAreaRight" b="textAreaBottom"/>
            <a:pathLst>
              <a:path w="76200" h="298450">
                <a:moveTo>
                  <a:pt x="25400" y="222249"/>
                </a:moveTo>
                <a:lnTo>
                  <a:pt x="0" y="222250"/>
                </a:lnTo>
                <a:lnTo>
                  <a:pt x="38100" y="298450"/>
                </a:lnTo>
                <a:lnTo>
                  <a:pt x="76200" y="222250"/>
                </a:lnTo>
                <a:lnTo>
                  <a:pt x="50799" y="222250"/>
                </a:lnTo>
                <a:lnTo>
                  <a:pt x="50800" y="234950"/>
                </a:lnTo>
                <a:lnTo>
                  <a:pt x="25400" y="234950"/>
                </a:lnTo>
                <a:lnTo>
                  <a:pt x="25400" y="222249"/>
                </a:lnTo>
                <a:close/>
              </a:path>
              <a:path w="76200" h="298450">
                <a:moveTo>
                  <a:pt x="25400" y="234950"/>
                </a:moveTo>
                <a:lnTo>
                  <a:pt x="50800" y="234950"/>
                </a:lnTo>
                <a:lnTo>
                  <a:pt x="50800" y="0"/>
                </a:lnTo>
                <a:lnTo>
                  <a:pt x="25400" y="0"/>
                </a:lnTo>
                <a:lnTo>
                  <a:pt x="25400" y="23495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bject 36"/>
          <p:cNvSpPr/>
          <p:nvPr/>
        </p:nvSpPr>
        <p:spPr>
          <a:xfrm>
            <a:off x="3254760" y="2513160"/>
            <a:ext cx="1828440" cy="360"/>
          </a:xfrm>
          <a:custGeom>
            <a:avLst/>
            <a:gdLst>
              <a:gd name="textAreaLeft" fmla="*/ 0 w 1828440"/>
              <a:gd name="textAreaRight" fmla="*/ 1828800 w 182844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1828800" h="0">
                <a:moveTo>
                  <a:pt x="0" y="0"/>
                </a:moveTo>
                <a:lnTo>
                  <a:pt x="1828800" y="0"/>
                </a:lnTo>
              </a:path>
            </a:pathLst>
          </a:custGeom>
          <a:noFill/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object 18"/>
          <p:cNvSpPr/>
          <p:nvPr/>
        </p:nvSpPr>
        <p:spPr>
          <a:xfrm>
            <a:off x="3633120" y="5175360"/>
            <a:ext cx="224280" cy="322560"/>
          </a:xfrm>
          <a:custGeom>
            <a:avLst/>
            <a:gdLst>
              <a:gd name="textAreaLeft" fmla="*/ 0 w 224280"/>
              <a:gd name="textAreaRight" fmla="*/ 224640 w 224280"/>
              <a:gd name="textAreaTop" fmla="*/ 0 h 322560"/>
              <a:gd name="textAreaBottom" fmla="*/ 322920 h 322560"/>
            </a:gdLst>
            <a:ahLst/>
            <a:rect l="textAreaLeft" t="textAreaTop" r="textAreaRight" b="textAreaBottom"/>
            <a:pathLst>
              <a:path w="224789" h="323037">
                <a:moveTo>
                  <a:pt x="0" y="308787"/>
                </a:moveTo>
                <a:lnTo>
                  <a:pt x="21081" y="323037"/>
                </a:lnTo>
                <a:lnTo>
                  <a:pt x="192620" y="70215"/>
                </a:lnTo>
                <a:lnTo>
                  <a:pt x="199770" y="59677"/>
                </a:lnTo>
                <a:lnTo>
                  <a:pt x="213613" y="84442"/>
                </a:lnTo>
                <a:lnTo>
                  <a:pt x="224789" y="0"/>
                </a:lnTo>
                <a:lnTo>
                  <a:pt x="178688" y="45415"/>
                </a:lnTo>
                <a:lnTo>
                  <a:pt x="171550" y="55937"/>
                </a:lnTo>
                <a:lnTo>
                  <a:pt x="0" y="308787"/>
                </a:lnTo>
                <a:close/>
              </a:path>
              <a:path w="224789" h="323037">
                <a:moveTo>
                  <a:pt x="178688" y="45415"/>
                </a:moveTo>
                <a:lnTo>
                  <a:pt x="224789" y="0"/>
                </a:lnTo>
                <a:lnTo>
                  <a:pt x="150494" y="41668"/>
                </a:lnTo>
                <a:lnTo>
                  <a:pt x="171550" y="55937"/>
                </a:lnTo>
                <a:lnTo>
                  <a:pt x="178688" y="45415"/>
                </a:lnTo>
                <a:close/>
              </a:path>
              <a:path w="224789" h="323037">
                <a:moveTo>
                  <a:pt x="213613" y="84442"/>
                </a:moveTo>
                <a:lnTo>
                  <a:pt x="199770" y="59677"/>
                </a:lnTo>
                <a:lnTo>
                  <a:pt x="192620" y="70215"/>
                </a:lnTo>
                <a:lnTo>
                  <a:pt x="213613" y="844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bject 17"/>
          <p:cNvSpPr/>
          <p:nvPr/>
        </p:nvSpPr>
        <p:spPr>
          <a:xfrm>
            <a:off x="380880" y="405720"/>
            <a:ext cx="47941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4584"/>
              </a:lnSpc>
              <a:spcBef>
                <a:spcPts val="230"/>
              </a:spcBef>
            </a:pPr>
            <a:r>
              <a:rPr b="0" lang="en-US" sz="6600" spc="-1" strike="noStrike" baseline="3000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6600" spc="-86" strike="noStrike" baseline="3000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6600" spc="-1" strike="noStrike" baseline="3000">
                <a:solidFill>
                  <a:srgbClr val="000000"/>
                </a:solidFill>
                <a:latin typeface="Calibri"/>
              </a:rPr>
              <a:t>ample of Use Ca</a:t>
            </a:r>
            <a:r>
              <a:rPr b="0" lang="en-US" sz="6600" spc="1" strike="noStrike" baseline="3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6600" spc="-1" strike="noStrike" baseline="3000">
                <a:solidFill>
                  <a:srgbClr val="000000"/>
                </a:solidFill>
                <a:latin typeface="Calibri"/>
              </a:rPr>
              <a:t>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object 16"/>
          <p:cNvSpPr/>
          <p:nvPr/>
        </p:nvSpPr>
        <p:spPr>
          <a:xfrm>
            <a:off x="5181480" y="457200"/>
            <a:ext cx="1907280" cy="8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ts val="4584"/>
              </a:lnSpc>
              <a:spcBef>
                <a:spcPts val="230"/>
              </a:spcBef>
            </a:pPr>
            <a:r>
              <a:rPr b="0" lang="en-US" sz="6600" spc="-250" strike="noStrike" baseline="3000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6600" spc="-1" strike="noStrike" baseline="3000">
                <a:solidFill>
                  <a:srgbClr val="000000"/>
                </a:solidFill>
                <a:latin typeface="Calibri"/>
              </a:rPr>
              <a:t>aria</a:t>
            </a:r>
            <a:r>
              <a:rPr b="0" lang="en-US" sz="6600" spc="-35" strike="noStrike" baseline="3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6600" spc="-1" strike="noStrike" baseline="3000">
                <a:solidFill>
                  <a:srgbClr val="000000"/>
                </a:solidFill>
                <a:latin typeface="Calibri"/>
              </a:rPr>
              <a:t>t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object 15"/>
          <p:cNvSpPr/>
          <p:nvPr/>
        </p:nvSpPr>
        <p:spPr>
          <a:xfrm>
            <a:off x="5392440" y="2202840"/>
            <a:ext cx="122580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1939"/>
              </a:lnSpc>
              <a:spcBef>
                <a:spcPts val="96"/>
              </a:spcBef>
            </a:pPr>
            <a:r>
              <a:rPr b="1" lang="en-US" sz="1800" spc="-4" strike="noStrike">
                <a:solidFill>
                  <a:srgbClr val="000000"/>
                </a:solidFill>
                <a:latin typeface="Times New Roman"/>
              </a:rPr>
              <a:t>&lt;&lt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</a:t>
            </a:r>
            <a:r>
              <a:rPr b="1" lang="en-US" sz="1800" spc="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d</a:t>
            </a:r>
            <a:r>
              <a:rPr b="1" lang="en-US" sz="1800" spc="-9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bject 14"/>
          <p:cNvSpPr/>
          <p:nvPr/>
        </p:nvSpPr>
        <p:spPr>
          <a:xfrm>
            <a:off x="3638160" y="2277720"/>
            <a:ext cx="11822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1939"/>
              </a:lnSpc>
              <a:spcBef>
                <a:spcPts val="96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1800" spc="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ce</a:t>
            </a:r>
            <a:r>
              <a:rPr b="1" lang="en-US" sz="1800" spc="-9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object 13"/>
          <p:cNvSpPr/>
          <p:nvPr/>
        </p:nvSpPr>
        <p:spPr>
          <a:xfrm>
            <a:off x="817920" y="2506320"/>
            <a:ext cx="14108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1939"/>
              </a:lnSpc>
              <a:spcBef>
                <a:spcPts val="96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en</a:t>
            </a:r>
            <a:r>
              <a:rPr b="1" lang="en-US" sz="1800" spc="-4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lang="en-US" sz="1800" spc="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u</a:t>
            </a:r>
            <a:r>
              <a:rPr b="1" lang="en-US" sz="1800" spc="-9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object 12"/>
          <p:cNvSpPr/>
          <p:nvPr/>
        </p:nvSpPr>
        <p:spPr>
          <a:xfrm>
            <a:off x="6824880" y="2519280"/>
            <a:ext cx="171000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1939"/>
              </a:lnSpc>
              <a:spcBef>
                <a:spcPts val="96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1800" spc="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ce</a:t>
            </a:r>
            <a:r>
              <a:rPr b="1" lang="en-US" sz="1800" spc="-9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ck o</a:t>
            </a:r>
            <a:r>
              <a:rPr b="1" lang="en-US" sz="1800" spc="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bject 11"/>
          <p:cNvSpPr/>
          <p:nvPr/>
        </p:nvSpPr>
        <p:spPr>
          <a:xfrm>
            <a:off x="3638880" y="2571840"/>
            <a:ext cx="1019160" cy="1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1324"/>
              </a:lnSpc>
              <a:spcBef>
                <a:spcPts val="65"/>
              </a:spcBef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0" lang="en-US" sz="1200" spc="7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tension </a:t>
            </a:r>
            <a:r>
              <a:rPr b="0" lang="en-US" sz="1200" spc="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object 10"/>
          <p:cNvSpPr/>
          <p:nvPr/>
        </p:nvSpPr>
        <p:spPr>
          <a:xfrm>
            <a:off x="3638880" y="2754720"/>
            <a:ext cx="1064520" cy="1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1324"/>
              </a:lnSpc>
              <a:spcBef>
                <a:spcPts val="65"/>
              </a:spcBef>
            </a:pPr>
            <a:r>
              <a:rPr b="0" lang="en-US" sz="1200" spc="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</a:t>
            </a:r>
            <a:r>
              <a:rPr b="0" lang="en-US" sz="1200" spc="-4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18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200" spc="-4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200" spc="7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200" spc="-4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200" spc="-4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object 9"/>
          <p:cNvSpPr/>
          <p:nvPr/>
        </p:nvSpPr>
        <p:spPr>
          <a:xfrm>
            <a:off x="6154560" y="3346560"/>
            <a:ext cx="12902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1939"/>
              </a:lnSpc>
              <a:spcBef>
                <a:spcPts val="96"/>
              </a:spcBef>
            </a:pPr>
            <a:r>
              <a:rPr b="1" lang="en-US" sz="1800" spc="-4" strike="noStrike">
                <a:solidFill>
                  <a:srgbClr val="000000"/>
                </a:solidFill>
                <a:latin typeface="Times New Roman"/>
              </a:rPr>
              <a:t>&lt;&lt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c</a:t>
            </a:r>
            <a:r>
              <a:rPr b="1" lang="en-US" sz="1800" spc="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1800" spc="-9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object 8"/>
          <p:cNvSpPr/>
          <p:nvPr/>
        </p:nvSpPr>
        <p:spPr>
          <a:xfrm>
            <a:off x="2419920" y="3422520"/>
            <a:ext cx="12902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1939"/>
              </a:lnSpc>
              <a:spcBef>
                <a:spcPts val="96"/>
              </a:spcBef>
            </a:pPr>
            <a:r>
              <a:rPr b="1" lang="en-US" sz="1800" spc="-4" strike="noStrike">
                <a:solidFill>
                  <a:srgbClr val="000000"/>
                </a:solidFill>
                <a:latin typeface="Times New Roman"/>
              </a:rPr>
              <a:t>&lt;&lt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c</a:t>
            </a:r>
            <a:r>
              <a:rPr b="1" lang="en-US" sz="1800" spc="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1800" spc="-9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object 7"/>
          <p:cNvSpPr/>
          <p:nvPr/>
        </p:nvSpPr>
        <p:spPr>
          <a:xfrm>
            <a:off x="4325400" y="3498840"/>
            <a:ext cx="12902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1939"/>
              </a:lnSpc>
              <a:spcBef>
                <a:spcPts val="96"/>
              </a:spcBef>
            </a:pPr>
            <a:r>
              <a:rPr b="1" lang="en-US" sz="1800" spc="-4" strike="noStrike">
                <a:solidFill>
                  <a:srgbClr val="000000"/>
                </a:solidFill>
                <a:latin typeface="Times New Roman"/>
              </a:rPr>
              <a:t>&lt;&lt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c</a:t>
            </a:r>
            <a:r>
              <a:rPr b="1" lang="en-US" sz="1800" spc="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1800" spc="-9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bject 6"/>
          <p:cNvSpPr/>
          <p:nvPr/>
        </p:nvSpPr>
        <p:spPr>
          <a:xfrm>
            <a:off x="3400200" y="4413240"/>
            <a:ext cx="152964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54600" algn="ctr">
              <a:lnSpc>
                <a:spcPts val="1939"/>
              </a:lnSpc>
              <a:spcBef>
                <a:spcPts val="96"/>
              </a:spcBef>
            </a:pPr>
            <a:r>
              <a:rPr b="1" lang="en-US" sz="1800" spc="-4" strike="noStrike">
                <a:solidFill>
                  <a:srgbClr val="000000"/>
                </a:solidFill>
                <a:latin typeface="Times New Roman"/>
              </a:rPr>
              <a:t>Supp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9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omer</a:t>
            </a:r>
            <a:r>
              <a:rPr b="1" lang="en-US" sz="1800" spc="-26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bject 5"/>
          <p:cNvSpPr/>
          <p:nvPr/>
        </p:nvSpPr>
        <p:spPr>
          <a:xfrm>
            <a:off x="6840360" y="4642200"/>
            <a:ext cx="17305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1939"/>
              </a:lnSpc>
              <a:spcBef>
                <a:spcPts val="96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r</a:t>
            </a:r>
            <a:r>
              <a:rPr b="1" lang="en-US" sz="1800" spc="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ge</a:t>
            </a:r>
            <a:r>
              <a:rPr b="1" lang="en-US" sz="1800" spc="-4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l</a:t>
            </a:r>
            <a:r>
              <a:rPr b="1" lang="en-US" sz="1800" spc="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e</a:t>
            </a:r>
            <a:r>
              <a:rPr b="1" lang="en-US" sz="1800" spc="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bject 4"/>
          <p:cNvSpPr/>
          <p:nvPr/>
        </p:nvSpPr>
        <p:spPr>
          <a:xfrm>
            <a:off x="2723400" y="5478840"/>
            <a:ext cx="29152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1939"/>
              </a:lnSpc>
              <a:spcBef>
                <a:spcPts val="96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ar</a:t>
            </a:r>
            <a:r>
              <a:rPr b="0" lang="en-US" sz="1800" spc="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4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</a:t>
            </a:r>
            <a:r>
              <a:rPr b="0" lang="en-US" sz="1800" spc="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a</a:t>
            </a:r>
            <a:r>
              <a:rPr b="0" lang="en-US" sz="1800" spc="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bject 2"/>
          <p:cNvSpPr/>
          <p:nvPr/>
        </p:nvSpPr>
        <p:spPr>
          <a:xfrm>
            <a:off x="8562240" y="5851800"/>
            <a:ext cx="200160" cy="1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1324"/>
              </a:lnSpc>
              <a:spcBef>
                <a:spcPts val="65"/>
              </a:spcBef>
            </a:pPr>
            <a:r>
              <a:rPr b="0" lang="en-US" sz="1200" spc="-1" strike="noStrike">
                <a:solidFill>
                  <a:srgbClr val="888888"/>
                </a:solidFill>
                <a:latin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Box 2"/>
          <p:cNvSpPr/>
          <p:nvPr/>
        </p:nvSpPr>
        <p:spPr>
          <a:xfrm>
            <a:off x="6837840" y="1143000"/>
            <a:ext cx="18284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0" lang="en-US" sz="1800" spc="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al fun</a:t>
            </a:r>
            <a:r>
              <a:rPr b="0" lang="en-US" sz="1800" spc="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a</a:t>
            </a:r>
            <a:r>
              <a:rPr b="0" lang="en-US" sz="1800" spc="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object 5"/>
          <p:cNvSpPr/>
          <p:nvPr/>
        </p:nvSpPr>
        <p:spPr>
          <a:xfrm>
            <a:off x="533520" y="457200"/>
            <a:ext cx="80769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3764"/>
              </a:lnSpc>
              <a:spcBef>
                <a:spcPts val="187"/>
              </a:spcBef>
            </a:pPr>
            <a:r>
              <a:rPr b="0" lang="en-US" sz="4800" spc="-26" strike="noStrike" baseline="3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 baseline="3000">
                <a:solidFill>
                  <a:srgbClr val="000000"/>
                </a:solidFill>
                <a:latin typeface="Arial"/>
              </a:rPr>
              <a:t>ONCEPT</a:t>
            </a:r>
            <a:r>
              <a:rPr b="0" lang="en-US" sz="4800" spc="-21" strike="noStrike" baseline="3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 baseline="3000">
                <a:solidFill>
                  <a:srgbClr val="000000"/>
                </a:solidFill>
                <a:latin typeface="Arial"/>
              </a:rPr>
              <a:t>OF </a:t>
            </a:r>
            <a:r>
              <a:rPr b="0" lang="en-US" sz="4800" spc="-75" strike="noStrike" baseline="3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800" spc="-46" strike="noStrike" baseline="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4800" spc="-35" strike="noStrike" baseline="3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800" spc="-1" strike="noStrike" baseline="3000">
                <a:solidFill>
                  <a:srgbClr val="000000"/>
                </a:solidFill>
                <a:latin typeface="Arial"/>
              </a:rPr>
              <a:t>TEM</a:t>
            </a:r>
            <a:r>
              <a:rPr b="0" lang="en-US" sz="4800" spc="-9" strike="noStrike" baseline="3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 baseline="3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4800" spc="-66" strike="noStrike" baseline="3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800" spc="-1" strike="noStrike" baseline="3000">
                <a:solidFill>
                  <a:srgbClr val="000000"/>
                </a:solidFill>
                <a:latin typeface="Arial"/>
              </a:rPr>
              <a:t>QUIREM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bject 2"/>
          <p:cNvSpPr/>
          <p:nvPr/>
        </p:nvSpPr>
        <p:spPr>
          <a:xfrm>
            <a:off x="8506440" y="6461280"/>
            <a:ext cx="124200" cy="1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1324"/>
              </a:lnSpc>
              <a:spcBef>
                <a:spcPts val="65"/>
              </a:spcBef>
            </a:pPr>
            <a:r>
              <a:rPr b="0" lang="en-US" sz="1200" spc="-1" strike="noStrike">
                <a:solidFill>
                  <a:srgbClr val="888888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5" descr="Screen shot 2014-01-27 at 1.19.01 PM.png"/>
          <p:cNvPicPr/>
          <p:nvPr/>
        </p:nvPicPr>
        <p:blipFill>
          <a:blip r:embed="rId1"/>
          <a:stretch/>
        </p:blipFill>
        <p:spPr>
          <a:xfrm>
            <a:off x="2819520" y="2302560"/>
            <a:ext cx="3093840" cy="455508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Functional Requir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2960" y="1066680"/>
            <a:ext cx="7520760" cy="129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al requirements will specify a behavior or func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fficial definition of ‘a functional requirement’ is that it essentially specifies something the system should d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88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Functional Requir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480" y="1100520"/>
            <a:ext cx="7733880" cy="392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of the more typical functional requirements includ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Ru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action corrections, adjustments and cancell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ministrative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ization lev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ion Require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rting Require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Non-functional requir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efinition for a non-functional requirement is that it essentially specifi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system should behave and that it is a constraint upon the systems behavior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could also think of non-functional requirements as quality attributes for of a syste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y put, the difference is that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on-function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ments describ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o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system works, whil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unctio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quirements describ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h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system should d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3" descr="Screen shot 2014-01-27 at 1.25.04 PM.png"/>
          <p:cNvPicPr/>
          <p:nvPr/>
        </p:nvPicPr>
        <p:blipFill>
          <a:blip r:embed="rId1"/>
          <a:stretch/>
        </p:blipFill>
        <p:spPr>
          <a:xfrm>
            <a:off x="3807000" y="1143000"/>
            <a:ext cx="5031720" cy="38858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Non functional requir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100520"/>
            <a:ext cx="8038800" cy="392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typical non-functional requirements are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– for example Response Tim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ailabil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iabil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overabil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tainabil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ulat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bil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operabil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object 19"/>
          <p:cNvSpPr/>
          <p:nvPr/>
        </p:nvSpPr>
        <p:spPr>
          <a:xfrm>
            <a:off x="-1828800" y="228600"/>
            <a:ext cx="7695720" cy="6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179440" algn="ctr">
              <a:lnSpc>
                <a:spcPts val="4584"/>
              </a:lnSpc>
              <a:spcBef>
                <a:spcPts val="230"/>
              </a:spcBef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400" spc="-4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400" spc="-134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h</a:t>
            </a:r>
            <a:r>
              <a:rPr b="0" lang="en-US" sz="4400" spc="7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de</a:t>
            </a:r>
            <a:r>
              <a:rPr b="0" lang="en-US" sz="4400" spc="-66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bject 2"/>
          <p:cNvSpPr/>
          <p:nvPr/>
        </p:nvSpPr>
        <p:spPr>
          <a:xfrm>
            <a:off x="8430120" y="6461280"/>
            <a:ext cx="200160" cy="1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1324"/>
              </a:lnSpc>
              <a:spcBef>
                <a:spcPts val="65"/>
              </a:spcBef>
            </a:pPr>
            <a:r>
              <a:rPr b="0" lang="en-US" sz="1200" spc="-1" strike="noStrike">
                <a:solidFill>
                  <a:srgbClr val="888888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2"/>
          <p:cNvSpPr/>
          <p:nvPr/>
        </p:nvSpPr>
        <p:spPr>
          <a:xfrm>
            <a:off x="609480" y="685800"/>
            <a:ext cx="754344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ople or organizations that are affected by the proposed system or have a potential influence on the requirements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609480" y="2133720"/>
            <a:ext cx="8076960" cy="22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 involved in context of u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ortant to involve key stakeholders in requirements capture proc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Angles">
  <a:themeElements>
    <a:clrScheme name="Angles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Angles">
  <a:themeElements>
    <a:clrScheme name="Angles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Angles">
  <a:themeElements>
    <a:clrScheme name="Angles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Angles">
  <a:themeElements>
    <a:clrScheme name="Angles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Angles">
  <a:themeElements>
    <a:clrScheme name="Angles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ngles.thmx</Template>
  <TotalTime>198</TotalTime>
  <Application>LibreOffice/7.4.7.2$Linux_X86_64 LibreOffice_project/40$Build-2</Application>
  <AppVersion>15.0000</AppVersion>
  <Words>1285</Words>
  <Paragraphs>31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seel</cp:lastModifiedBy>
  <dcterms:modified xsi:type="dcterms:W3CDTF">2014-02-09T18:48:32Z</dcterms:modified>
  <cp:revision>8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35</vt:r8>
  </property>
</Properties>
</file>