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590-EF8F-48FB-AA46-BF3B79F4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E1A-BE50-4603-822C-EE0D975A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4D2-B1AE-4126-A28F-1DEB32C5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4FA-31CA-4CFA-AD55-A489ACE2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0C37-A432-48E0-B8EC-59F2B86F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3DE4-6BBC-4716-8589-AF5CA723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A24A-3680-4B97-8F61-384D9E5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7787-1F1E-4298-BDB2-805372F2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B6BD-FBFB-4951-B526-21458F38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3023-16B8-452B-86DE-910D50D6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81CE-49A2-468F-80F0-1ECDAFB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7EF-B7D6-429B-AE3F-FD0788A0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1A6B-7584-47F8-A34F-4B9BCB26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A173-2728-4E50-8567-78EA0EE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9CEE-8463-4183-8B2F-C54E08F9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606A-A1AB-42E0-B623-7E45C463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7D91-C104-442B-97DE-E24EEDD9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E4D2-269B-4541-B88A-C221E575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61A30-8761-4792-8135-59B0B36B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69F7-B828-49C1-AFD0-0EFFE706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FA4A-6B0D-4334-96FF-D748EBD0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34C55-11B2-45B0-822A-313EF9C7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EB1-060A-453A-B33A-88E43B89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89D3-D9AB-4C7C-B474-47EDD6B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3E49-F8F2-460C-8043-044AF2D0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B5D4-4A0C-4E6C-8A95-CC1CDD76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DF7F-C677-4BD9-A15A-16F224CB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4A7F-300B-4CFA-93C1-61CA30D2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46F5-02CA-42E6-84F0-55A8EF30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37CF-9CAB-4D96-AE45-4FDD95F3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5CD9-9B3F-4E7F-90C9-705FE491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AB929-8F86-45F5-AD56-163922E5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43EE-09CD-48BA-A465-05F8D13A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403-1A4B-4D82-8759-3D04B9FC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1E99F-FEDB-4534-805C-F25FD2A4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174D4-E6B8-418C-866F-3FD64B4A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C6A3E-09C1-4882-8054-2D54DBD2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00C14-133C-49B0-A6A6-ACE5E12B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D970-2B93-48E6-8229-84D0116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29AC6-90DF-4E9A-825C-0E185033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EB316-0226-4D36-B718-4C9327B4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52104-2D15-4C1E-95AD-C0BE2461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9404-C815-47C9-AE2F-46729CF5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FFD8-96C9-460B-B1A7-08B841F2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9E0-1F9B-437D-8A54-AA60E26F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E4067-12FE-431A-AA4A-CCE0974F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11BB1-20D6-45F8-BE2F-1C58470A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86739-4183-4039-9B52-8C9812AB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182D6-53D0-46E2-B6C2-690154A3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28F17-1C82-46AA-B4A0-01D922FE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C9910-CDFE-4D26-916D-53999F28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97CB5-BAAB-4C22-A439-381C82A6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CBEA9-1CE6-4667-A906-6CD04CC1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77374-8672-4356-AA1B-30F2764B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841CF-E1A3-4BC1-9CAE-35F75788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377-E4D3-460B-9AC8-F7D25ACE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359A4-3383-4422-82CE-5193AF9E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C9CD6-289E-48E2-8E12-F302D716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5F3E4-B9F1-442C-8B7B-82B195D5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1A756-17F3-42F7-BA60-37662B59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6A307-3602-4256-97FF-2A6B65B5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DF103-14ED-4F32-B9F6-5206CD12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AA3AD-9B1E-487F-847C-F1CD54D7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4D960-3369-4736-AE56-C82F210B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8B7A7-7D51-4C4D-B9DF-5189D170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402C9-2F8F-4184-9803-51BD9700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F93-9191-4751-9A49-67C6CDB5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D5BAB-3481-45FA-81C7-52D4ABBF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3F05-3037-45B8-A540-FE19D07A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1BC7C-F796-452A-8642-62EF41FC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72C86-B91D-4607-ADF6-494F48BB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AAD62-8AC6-40D3-9FD7-8A08AC62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7EE79-635E-45EC-989B-FF566688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37AE0-9A01-4D35-8D50-E2996E26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95D62-6754-4543-A85C-D5D4C27B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1C80E-8E2B-469C-87F6-7047541D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F84CF-932C-4806-848B-8CC172CA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7EF-0D3F-4761-9987-71D57D21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9A83E-64BE-4B8F-9B0D-9D8F2458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68A34-1561-4636-94F6-1E54030E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D1133-A5BA-4870-A1D2-965E0EC4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7E0A2-E081-4427-AED6-ACA8637A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F748C-8521-41F9-A788-BED4BE7F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EDF-575D-4068-A16F-D1B329E5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A71BC42B-C2D0-49D8-920D-871FFABB6282}" type="slidenum"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x-none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13C0CED4-6FBC-4D80-AA53-BB2A7145801B}" type="slidenum"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x-none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x-none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B59A482-A015-4306-AB14-9617F435B163}" type="slidenum">
              <a:rPr b="0" lang="x-non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x-none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040" cy="10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x-none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x-none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5181480" y="198108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x-none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x-none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0"/>
          </p:nvPr>
        </p:nvSpPr>
        <p:spPr>
          <a:xfrm>
            <a:off x="121932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 rot="16200600">
            <a:off x="-723600" y="518184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70866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9A3FC23-184F-4668-B394-2452C3BEF8B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x-none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Click to edit Master text styles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CA59C650-DAB5-4DA8-A71E-CC6145B16291}" type="slidenum">
              <a:rPr b="0" lang="x-non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x-non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34AB5C0-B883-43CC-B1BC-4FC456E7E2C2}" type="slidenum">
              <a:rPr b="0" lang="x-non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dt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2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B8405C2A-3FAA-4C3D-BB01-7C99FC320FD9}" type="slidenum">
              <a:rPr b="0" lang="x-non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Case Diagrams-2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tend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ables to model optional behavior or branching under conditions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6" name="Group 13"/>
          <p:cNvGrpSpPr/>
          <p:nvPr/>
        </p:nvGrpSpPr>
        <p:grpSpPr>
          <a:xfrm>
            <a:off x="1752480" y="3962520"/>
            <a:ext cx="5257440" cy="1371240"/>
            <a:chOff x="1752480" y="3962520"/>
            <a:chExt cx="5257440" cy="1371240"/>
          </a:xfrm>
        </p:grpSpPr>
        <p:sp>
          <p:nvSpPr>
            <p:cNvPr id="377" name="Oval 5"/>
            <p:cNvSpPr/>
            <p:nvPr/>
          </p:nvSpPr>
          <p:spPr>
            <a:xfrm>
              <a:off x="1752480" y="3962520"/>
              <a:ext cx="1828440" cy="137124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1981080" y="4343400"/>
              <a:ext cx="132696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am copy requ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"/>
            <p:cNvSpPr/>
            <p:nvPr/>
          </p:nvSpPr>
          <p:spPr>
            <a:xfrm>
              <a:off x="5181480" y="3962520"/>
              <a:ext cx="1828440" cy="137124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0" name="Text Box 9"/>
            <p:cNvSpPr/>
            <p:nvPr/>
          </p:nvSpPr>
          <p:spPr>
            <a:xfrm>
              <a:off x="5334120" y="4267080"/>
              <a:ext cx="139680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am-grade appe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0"/>
            <p:cNvSpPr/>
            <p:nvPr/>
          </p:nvSpPr>
          <p:spPr>
            <a:xfrm>
              <a:off x="3581280" y="4647960"/>
              <a:ext cx="160020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3733560" y="4191120"/>
              <a:ext cx="13089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3932-9B66-4D0F-8E51-0AA546DA1C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buNone/>
            </a:pPr>
            <a:endParaRPr b="0" lang="x-none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4" name="Content Placeholder 3" descr="Screen shot 2013-09-23 at 9.00.38 PM.png"/>
          <p:cNvPicPr/>
          <p:nvPr/>
        </p:nvPicPr>
        <p:blipFill>
          <a:blip r:embed="rId1"/>
          <a:stretch/>
        </p:blipFill>
        <p:spPr>
          <a:xfrm>
            <a:off x="457200" y="2721240"/>
            <a:ext cx="8229240" cy="19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ffffff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chemeClr val="lt1"/>
                </a:solidFill>
                <a:latin typeface="Gill Sans MT"/>
              </a:rPr>
              <a:t>Relationships between Actors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eneralization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7" name="Group 33"/>
          <p:cNvGrpSpPr/>
          <p:nvPr/>
        </p:nvGrpSpPr>
        <p:grpSpPr>
          <a:xfrm>
            <a:off x="3581280" y="2224080"/>
            <a:ext cx="4876560" cy="3595680"/>
            <a:chOff x="3581280" y="2224080"/>
            <a:chExt cx="4876560" cy="3595680"/>
          </a:xfrm>
        </p:grpSpPr>
        <p:sp>
          <p:nvSpPr>
            <p:cNvPr id="388" name="Oval 5"/>
            <p:cNvSpPr/>
            <p:nvPr/>
          </p:nvSpPr>
          <p:spPr>
            <a:xfrm>
              <a:off x="5638680" y="2224080"/>
              <a:ext cx="304560" cy="3045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5790960" y="2528640"/>
              <a:ext cx="360" cy="5335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5790960" y="2681280"/>
              <a:ext cx="30492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 flipH="1">
              <a:off x="5562360" y="2681280"/>
              <a:ext cx="22860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>
              <a:off x="5790960" y="3062160"/>
              <a:ext cx="15264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3" name="Line 10"/>
            <p:cNvSpPr/>
            <p:nvPr/>
          </p:nvSpPr>
          <p:spPr>
            <a:xfrm flipH="1">
              <a:off x="5638680" y="3062160"/>
              <a:ext cx="15228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5334120" y="3138480"/>
              <a:ext cx="91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3"/>
            <p:cNvSpPr/>
            <p:nvPr/>
          </p:nvSpPr>
          <p:spPr>
            <a:xfrm>
              <a:off x="7543800" y="4267080"/>
              <a:ext cx="304560" cy="3045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>
              <a:off x="7696080" y="4572000"/>
              <a:ext cx="360" cy="5331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>
              <a:off x="7696080" y="4724280"/>
              <a:ext cx="30492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H="1">
              <a:off x="7467480" y="4724280"/>
              <a:ext cx="22860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7696080" y="5105160"/>
              <a:ext cx="15228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 flipH="1">
              <a:off x="7543800" y="5105160"/>
              <a:ext cx="15228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1" name="Text Box 19"/>
            <p:cNvSpPr/>
            <p:nvPr/>
          </p:nvSpPr>
          <p:spPr>
            <a:xfrm>
              <a:off x="6934320" y="5181480"/>
              <a:ext cx="15235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n-gradu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21"/>
            <p:cNvSpPr/>
            <p:nvPr/>
          </p:nvSpPr>
          <p:spPr>
            <a:xfrm>
              <a:off x="4038480" y="4267080"/>
              <a:ext cx="304560" cy="3045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3" name="Line 22"/>
            <p:cNvSpPr/>
            <p:nvPr/>
          </p:nvSpPr>
          <p:spPr>
            <a:xfrm>
              <a:off x="4190760" y="4572000"/>
              <a:ext cx="360" cy="5331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4" name="Line 23"/>
            <p:cNvSpPr/>
            <p:nvPr/>
          </p:nvSpPr>
          <p:spPr>
            <a:xfrm>
              <a:off x="4190760" y="4724280"/>
              <a:ext cx="30492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5" name="Line 24"/>
            <p:cNvSpPr/>
            <p:nvPr/>
          </p:nvSpPr>
          <p:spPr>
            <a:xfrm flipH="1">
              <a:off x="3962160" y="4724280"/>
              <a:ext cx="22860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6" name="Line 25"/>
            <p:cNvSpPr/>
            <p:nvPr/>
          </p:nvSpPr>
          <p:spPr>
            <a:xfrm>
              <a:off x="4190760" y="5105160"/>
              <a:ext cx="15264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7" name="Line 26"/>
            <p:cNvSpPr/>
            <p:nvPr/>
          </p:nvSpPr>
          <p:spPr>
            <a:xfrm flipH="1">
              <a:off x="4038480" y="5105160"/>
              <a:ext cx="15228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8" name="Text Box 27"/>
            <p:cNvSpPr/>
            <p:nvPr/>
          </p:nvSpPr>
          <p:spPr>
            <a:xfrm>
              <a:off x="3581280" y="5181480"/>
              <a:ext cx="121896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du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8"/>
            <p:cNvSpPr/>
            <p:nvPr/>
          </p:nvSpPr>
          <p:spPr>
            <a:xfrm flipV="1">
              <a:off x="4190760" y="3962160"/>
              <a:ext cx="360" cy="2286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0" name="Line 29"/>
            <p:cNvSpPr/>
            <p:nvPr/>
          </p:nvSpPr>
          <p:spPr>
            <a:xfrm flipV="1">
              <a:off x="7696080" y="3962160"/>
              <a:ext cx="360" cy="2286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1" name="Line 30"/>
            <p:cNvSpPr/>
            <p:nvPr/>
          </p:nvSpPr>
          <p:spPr>
            <a:xfrm>
              <a:off x="4190760" y="3962160"/>
              <a:ext cx="35053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2" name="AutoShape 31"/>
            <p:cNvSpPr/>
            <p:nvPr/>
          </p:nvSpPr>
          <p:spPr>
            <a:xfrm>
              <a:off x="5638680" y="3429000"/>
              <a:ext cx="304560" cy="228240"/>
            </a:xfrm>
            <a:prstGeom prst="triangle">
              <a:avLst>
                <a:gd name="adj" fmla="val 5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3" name="Line 32"/>
            <p:cNvSpPr/>
            <p:nvPr/>
          </p:nvSpPr>
          <p:spPr>
            <a:xfrm>
              <a:off x="5790960" y="3657600"/>
              <a:ext cx="360" cy="3045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3EF8-D86A-4039-BD68-6D5B48420E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gradFill rotWithShape="0">
            <a:gsLst>
              <a:gs pos="0">
                <a:srgbClr val="5d6585"/>
              </a:gs>
              <a:gs pos="50000">
                <a:srgbClr val="6a759d"/>
              </a:gs>
              <a:gs pos="100000">
                <a:srgbClr val="5d6585"/>
              </a:gs>
            </a:gsLst>
            <a:lin ang="948000"/>
          </a:gradFill>
          <a:ln w="0">
            <a:noFill/>
          </a:ln>
          <a:effectLst>
            <a:outerShdw dist="25560" dir="5400000" blurRad="50760" rotWithShape="0">
              <a:srgbClr val="000000">
                <a:alpha val="5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lt1"/>
                </a:solidFill>
                <a:latin typeface="Gill Sans MT"/>
              </a:rPr>
              <a:t>Examp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15" name="Group 58"/>
          <p:cNvGrpSpPr/>
          <p:nvPr/>
        </p:nvGrpSpPr>
        <p:grpSpPr>
          <a:xfrm>
            <a:off x="1219320" y="1981080"/>
            <a:ext cx="7543440" cy="3983760"/>
            <a:chOff x="1219320" y="1981080"/>
            <a:chExt cx="7543440" cy="3983760"/>
          </a:xfrm>
        </p:grpSpPr>
        <p:grpSp>
          <p:nvGrpSpPr>
            <p:cNvPr id="416" name="Group 34"/>
            <p:cNvGrpSpPr/>
            <p:nvPr/>
          </p:nvGrpSpPr>
          <p:grpSpPr>
            <a:xfrm>
              <a:off x="3581280" y="2209680"/>
              <a:ext cx="1599840" cy="869760"/>
              <a:chOff x="3581280" y="2209680"/>
              <a:chExt cx="1599840" cy="869760"/>
            </a:xfrm>
          </p:grpSpPr>
          <p:sp>
            <p:nvSpPr>
              <p:cNvPr id="417" name="Oval 10"/>
              <p:cNvSpPr/>
              <p:nvPr/>
            </p:nvSpPr>
            <p:spPr>
              <a:xfrm>
                <a:off x="3581280" y="2209680"/>
                <a:ext cx="1599840" cy="86976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18" name="Text Box 11"/>
              <p:cNvSpPr/>
              <p:nvPr/>
            </p:nvSpPr>
            <p:spPr>
              <a:xfrm>
                <a:off x="3638520" y="2286000"/>
                <a:ext cx="1466640" cy="6994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la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one cal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Oval 19"/>
            <p:cNvSpPr/>
            <p:nvPr/>
          </p:nvSpPr>
          <p:spPr>
            <a:xfrm>
              <a:off x="1600200" y="2362320"/>
              <a:ext cx="304560" cy="3045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0" name="Line 20"/>
            <p:cNvSpPr/>
            <p:nvPr/>
          </p:nvSpPr>
          <p:spPr>
            <a:xfrm>
              <a:off x="1752480" y="2666880"/>
              <a:ext cx="1440" cy="5335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1" name="Line 21"/>
            <p:cNvSpPr/>
            <p:nvPr/>
          </p:nvSpPr>
          <p:spPr>
            <a:xfrm>
              <a:off x="1752480" y="2819160"/>
              <a:ext cx="30492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2" name="Line 22"/>
            <p:cNvSpPr/>
            <p:nvPr/>
          </p:nvSpPr>
          <p:spPr>
            <a:xfrm flipH="1">
              <a:off x="1523880" y="2819160"/>
              <a:ext cx="22860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3" name="Line 23"/>
            <p:cNvSpPr/>
            <p:nvPr/>
          </p:nvSpPr>
          <p:spPr>
            <a:xfrm>
              <a:off x="1752480" y="3200400"/>
              <a:ext cx="15228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4" name="Line 24"/>
            <p:cNvSpPr/>
            <p:nvPr/>
          </p:nvSpPr>
          <p:spPr>
            <a:xfrm flipH="1">
              <a:off x="1600200" y="3200400"/>
              <a:ext cx="15228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5" name="Text Box 25"/>
            <p:cNvSpPr/>
            <p:nvPr/>
          </p:nvSpPr>
          <p:spPr>
            <a:xfrm>
              <a:off x="1219320" y="3200400"/>
              <a:ext cx="106632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llul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26"/>
            <p:cNvGrpSpPr/>
            <p:nvPr/>
          </p:nvGrpSpPr>
          <p:grpSpPr>
            <a:xfrm>
              <a:off x="1371600" y="4267080"/>
              <a:ext cx="777600" cy="1385280"/>
              <a:chOff x="1371600" y="4267080"/>
              <a:chExt cx="777600" cy="1385280"/>
            </a:xfrm>
          </p:grpSpPr>
          <p:sp>
            <p:nvSpPr>
              <p:cNvPr id="427" name="Oval 27"/>
              <p:cNvSpPr/>
              <p:nvPr/>
            </p:nvSpPr>
            <p:spPr>
              <a:xfrm>
                <a:off x="1600200" y="4267080"/>
                <a:ext cx="304560" cy="30456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28" name="Line 28"/>
              <p:cNvSpPr/>
              <p:nvPr/>
            </p:nvSpPr>
            <p:spPr>
              <a:xfrm>
                <a:off x="1752480" y="4572000"/>
                <a:ext cx="360" cy="5331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29" name="Line 29"/>
              <p:cNvSpPr/>
              <p:nvPr/>
            </p:nvSpPr>
            <p:spPr>
              <a:xfrm>
                <a:off x="1752480" y="4724280"/>
                <a:ext cx="304920" cy="15228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30" name="Line 30"/>
              <p:cNvSpPr/>
              <p:nvPr/>
            </p:nvSpPr>
            <p:spPr>
              <a:xfrm flipH="1">
                <a:off x="1523880" y="4724280"/>
                <a:ext cx="228600" cy="15228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31" name="Line 31"/>
              <p:cNvSpPr/>
              <p:nvPr/>
            </p:nvSpPr>
            <p:spPr>
              <a:xfrm>
                <a:off x="1752480" y="5105160"/>
                <a:ext cx="152280" cy="15264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32" name="Line 32"/>
              <p:cNvSpPr/>
              <p:nvPr/>
            </p:nvSpPr>
            <p:spPr>
              <a:xfrm flipH="1">
                <a:off x="1600200" y="5105160"/>
                <a:ext cx="152280" cy="15264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33" name="Text Box 33"/>
              <p:cNvSpPr/>
              <p:nvPr/>
            </p:nvSpPr>
            <p:spPr>
              <a:xfrm>
                <a:off x="1371600" y="5257800"/>
                <a:ext cx="77760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35"/>
            <p:cNvGrpSpPr/>
            <p:nvPr/>
          </p:nvGrpSpPr>
          <p:grpSpPr>
            <a:xfrm>
              <a:off x="3581280" y="3505320"/>
              <a:ext cx="1599840" cy="869760"/>
              <a:chOff x="3581280" y="3505320"/>
              <a:chExt cx="1599840" cy="869760"/>
            </a:xfrm>
          </p:grpSpPr>
          <p:sp>
            <p:nvSpPr>
              <p:cNvPr id="435" name="Oval 36"/>
              <p:cNvSpPr/>
              <p:nvPr/>
            </p:nvSpPr>
            <p:spPr>
              <a:xfrm>
                <a:off x="3581280" y="3505320"/>
                <a:ext cx="1599840" cy="86976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36" name="Text Box 37"/>
              <p:cNvSpPr/>
              <p:nvPr/>
            </p:nvSpPr>
            <p:spPr>
              <a:xfrm>
                <a:off x="3638520" y="3581280"/>
                <a:ext cx="1466640" cy="6994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ce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one cal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Oval 39"/>
            <p:cNvSpPr/>
            <p:nvPr/>
          </p:nvSpPr>
          <p:spPr>
            <a:xfrm>
              <a:off x="6781680" y="2209680"/>
              <a:ext cx="1599840" cy="8697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38" name="Text Box 40"/>
            <p:cNvSpPr/>
            <p:nvPr/>
          </p:nvSpPr>
          <p:spPr>
            <a:xfrm>
              <a:off x="6838920" y="2133720"/>
              <a:ext cx="1466640" cy="1004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ference c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42"/>
            <p:cNvSpPr/>
            <p:nvPr/>
          </p:nvSpPr>
          <p:spPr>
            <a:xfrm>
              <a:off x="6781680" y="3505320"/>
              <a:ext cx="1599840" cy="8697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0" name="Text Box 43"/>
            <p:cNvSpPr/>
            <p:nvPr/>
          </p:nvSpPr>
          <p:spPr>
            <a:xfrm>
              <a:off x="6838920" y="3429000"/>
              <a:ext cx="1466640" cy="1004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ditional c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44"/>
            <p:cNvGrpSpPr/>
            <p:nvPr/>
          </p:nvGrpSpPr>
          <p:grpSpPr>
            <a:xfrm>
              <a:off x="3581280" y="4800600"/>
              <a:ext cx="1599840" cy="869760"/>
              <a:chOff x="3581280" y="4800600"/>
              <a:chExt cx="1599840" cy="869760"/>
            </a:xfrm>
          </p:grpSpPr>
          <p:sp>
            <p:nvSpPr>
              <p:cNvPr id="442" name="Oval 45"/>
              <p:cNvSpPr/>
              <p:nvPr/>
            </p:nvSpPr>
            <p:spPr>
              <a:xfrm>
                <a:off x="3581280" y="4800600"/>
                <a:ext cx="1599840" cy="86976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443" name="Text Box 46"/>
              <p:cNvSpPr/>
              <p:nvPr/>
            </p:nvSpPr>
            <p:spPr>
              <a:xfrm>
                <a:off x="3638520" y="4876920"/>
                <a:ext cx="1466640" cy="6994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chedul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Line 47"/>
            <p:cNvSpPr/>
            <p:nvPr/>
          </p:nvSpPr>
          <p:spPr>
            <a:xfrm flipH="1">
              <a:off x="2057400" y="2666880"/>
              <a:ext cx="15238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5" name="Line 48"/>
            <p:cNvSpPr/>
            <p:nvPr/>
          </p:nvSpPr>
          <p:spPr>
            <a:xfrm flipH="1" flipV="1">
              <a:off x="2057400" y="2666880"/>
              <a:ext cx="1600200" cy="10666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6" name="Line 49"/>
            <p:cNvSpPr/>
            <p:nvPr/>
          </p:nvSpPr>
          <p:spPr>
            <a:xfrm flipV="1">
              <a:off x="2057400" y="2971800"/>
              <a:ext cx="1752480" cy="1600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7" name="Line 50"/>
            <p:cNvSpPr/>
            <p:nvPr/>
          </p:nvSpPr>
          <p:spPr>
            <a:xfrm flipV="1">
              <a:off x="2057400" y="4114800"/>
              <a:ext cx="152388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8" name="Line 51"/>
            <p:cNvSpPr/>
            <p:nvPr/>
          </p:nvSpPr>
          <p:spPr>
            <a:xfrm>
              <a:off x="2057400" y="4572000"/>
              <a:ext cx="1523880" cy="6858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49" name="Line 52"/>
            <p:cNvSpPr/>
            <p:nvPr/>
          </p:nvSpPr>
          <p:spPr>
            <a:xfrm flipH="1">
              <a:off x="5181480" y="2666880"/>
              <a:ext cx="160020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50" name="Text Box 53"/>
            <p:cNvSpPr/>
            <p:nvPr/>
          </p:nvSpPr>
          <p:spPr>
            <a:xfrm>
              <a:off x="5317920" y="2324160"/>
              <a:ext cx="13089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54"/>
            <p:cNvSpPr/>
            <p:nvPr/>
          </p:nvSpPr>
          <p:spPr>
            <a:xfrm flipH="1">
              <a:off x="5181480" y="3938400"/>
              <a:ext cx="160020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52" name="Text Box 55"/>
            <p:cNvSpPr/>
            <p:nvPr/>
          </p:nvSpPr>
          <p:spPr>
            <a:xfrm>
              <a:off x="5317920" y="3595680"/>
              <a:ext cx="13089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56"/>
            <p:cNvSpPr/>
            <p:nvPr/>
          </p:nvSpPr>
          <p:spPr>
            <a:xfrm>
              <a:off x="3200400" y="1981080"/>
              <a:ext cx="5562360" cy="39621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54" name="Text Box 57"/>
            <p:cNvSpPr/>
            <p:nvPr/>
          </p:nvSpPr>
          <p:spPr>
            <a:xfrm>
              <a:off x="6774840" y="5600880"/>
              <a:ext cx="19245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ellular Teleph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4857-B52C-4C54-B460-7622884697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lt1"/>
                </a:solidFill>
                <a:latin typeface="Calibri"/>
              </a:rPr>
              <a:t>example</a:t>
            </a:r>
            <a:endParaRPr b="0" lang="x-none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x-none" sz="20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</a:pPr>
            <a:endParaRPr b="0" lang="x-non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Receptionist schedules patient's appointments and admission to the hospital, collects information from patient upon patient's arrival and/or by phone. For the patient that will stay in the hospital ("inpatient") she or he should have a bed allotted in a ward. Receptionists might also receive patient's payments, record them in a database and provide receipts, file insurance claims and medical reports. </a:t>
            </a:r>
            <a:endParaRPr b="0" lang="x-none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Screen shot 2013-09-23 at 9.05.08 PM.png"/>
          <p:cNvPicPr/>
          <p:nvPr/>
        </p:nvPicPr>
        <p:blipFill>
          <a:blip r:embed="rId1"/>
          <a:stretch/>
        </p:blipFill>
        <p:spPr>
          <a:xfrm>
            <a:off x="-218880" y="221040"/>
            <a:ext cx="9972000" cy="66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solidFill>
            <a:schemeClr val="accent6"/>
          </a:solidFill>
          <a:ln w="25560">
            <a:solidFill>
              <a:srgbClr val="ffffff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lt1"/>
                </a:solidFill>
                <a:latin typeface="Gill Sans MT"/>
              </a:rPr>
              <a:t>Relationships between Use Cases</a:t>
            </a:r>
            <a:endParaRPr b="0" lang="x-none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. Generalization - use cases that are specialized versions of other use cases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Include - use cases that are included as parts of other use cases. Contain the functionality of another use case as part of their normal processing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Extend - use cases that extend the behavior of other core use cases. Enable to factor variants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C4EE-A696-47BC-9DFB-5B27B22A56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ffffff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lt1"/>
                </a:solidFill>
                <a:latin typeface="Gill Sans MT"/>
              </a:rPr>
              <a:t>1. Generalization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hild use case inherits the 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havior and meaning of the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rent use case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hild may add to or 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verride the behavior of its parent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1" name="Group 16"/>
          <p:cNvGrpSpPr/>
          <p:nvPr/>
        </p:nvGrpSpPr>
        <p:grpSpPr>
          <a:xfrm>
            <a:off x="7315200" y="2133720"/>
            <a:ext cx="914040" cy="2133000"/>
            <a:chOff x="7315200" y="2133720"/>
            <a:chExt cx="914040" cy="2133000"/>
          </a:xfrm>
        </p:grpSpPr>
        <p:grpSp>
          <p:nvGrpSpPr>
            <p:cNvPr id="312" name="Group 4"/>
            <p:cNvGrpSpPr/>
            <p:nvPr/>
          </p:nvGrpSpPr>
          <p:grpSpPr>
            <a:xfrm>
              <a:off x="7315200" y="2133720"/>
              <a:ext cx="914040" cy="685440"/>
              <a:chOff x="7315200" y="2133720"/>
              <a:chExt cx="914040" cy="685440"/>
            </a:xfrm>
          </p:grpSpPr>
          <p:sp>
            <p:nvSpPr>
              <p:cNvPr id="313" name="Oval 5"/>
              <p:cNvSpPr/>
              <p:nvPr/>
            </p:nvSpPr>
            <p:spPr>
              <a:xfrm>
                <a:off x="7315200" y="213372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14" name="Text Box 6"/>
              <p:cNvSpPr/>
              <p:nvPr/>
            </p:nvSpPr>
            <p:spPr>
              <a:xfrm>
                <a:off x="7391520" y="2286000"/>
                <a:ext cx="8377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r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7"/>
            <p:cNvGrpSpPr/>
            <p:nvPr/>
          </p:nvGrpSpPr>
          <p:grpSpPr>
            <a:xfrm>
              <a:off x="7315200" y="3581280"/>
              <a:ext cx="914040" cy="685440"/>
              <a:chOff x="7315200" y="3581280"/>
              <a:chExt cx="914040" cy="685440"/>
            </a:xfrm>
          </p:grpSpPr>
          <p:sp>
            <p:nvSpPr>
              <p:cNvPr id="316" name="Oval 8"/>
              <p:cNvSpPr/>
              <p:nvPr/>
            </p:nvSpPr>
            <p:spPr>
              <a:xfrm>
                <a:off x="7315200" y="358128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17" name="Text Box 9"/>
              <p:cNvSpPr/>
              <p:nvPr/>
            </p:nvSpPr>
            <p:spPr>
              <a:xfrm>
                <a:off x="7391520" y="3733920"/>
                <a:ext cx="8377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hil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12"/>
            <p:cNvSpPr/>
            <p:nvPr/>
          </p:nvSpPr>
          <p:spPr>
            <a:xfrm>
              <a:off x="7772400" y="312408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19" name="AutoShape 15"/>
            <p:cNvSpPr/>
            <p:nvPr/>
          </p:nvSpPr>
          <p:spPr>
            <a:xfrm>
              <a:off x="7543800" y="2819520"/>
              <a:ext cx="456840" cy="304560"/>
            </a:xfrm>
            <a:prstGeom prst="triangle">
              <a:avLst>
                <a:gd name="adj" fmla="val 5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0BF3-DC40-4AF9-8C90-7381A38680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buNone/>
            </a:pPr>
            <a:endParaRPr b="0" lang="x-none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2362320" y="2133720"/>
            <a:ext cx="4190400" cy="2899800"/>
            <a:chOff x="2362320" y="2133720"/>
            <a:chExt cx="4190400" cy="2899800"/>
          </a:xfrm>
        </p:grpSpPr>
        <p:grpSp>
          <p:nvGrpSpPr>
            <p:cNvPr id="322" name="Group 3"/>
            <p:cNvGrpSpPr/>
            <p:nvPr/>
          </p:nvGrpSpPr>
          <p:grpSpPr>
            <a:xfrm>
              <a:off x="3733920" y="2133720"/>
              <a:ext cx="1523520" cy="685440"/>
              <a:chOff x="3733920" y="2133720"/>
              <a:chExt cx="1523520" cy="685440"/>
            </a:xfrm>
          </p:grpSpPr>
          <p:sp>
            <p:nvSpPr>
              <p:cNvPr id="323" name="Oval 4"/>
              <p:cNvSpPr/>
              <p:nvPr/>
            </p:nvSpPr>
            <p:spPr>
              <a:xfrm>
                <a:off x="3733920" y="2133720"/>
                <a:ext cx="152352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24" name="Text Box 5"/>
              <p:cNvSpPr/>
              <p:nvPr/>
            </p:nvSpPr>
            <p:spPr>
              <a:xfrm>
                <a:off x="3860640" y="2286000"/>
                <a:ext cx="139680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gistr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7"/>
            <p:cNvSpPr/>
            <p:nvPr/>
          </p:nvSpPr>
          <p:spPr>
            <a:xfrm>
              <a:off x="4952880" y="4114800"/>
              <a:ext cx="1599840" cy="91728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6" name="Text Box 8"/>
            <p:cNvSpPr/>
            <p:nvPr/>
          </p:nvSpPr>
          <p:spPr>
            <a:xfrm>
              <a:off x="5010120" y="4191120"/>
              <a:ext cx="146664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du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9"/>
            <p:cNvSpPr/>
            <p:nvPr/>
          </p:nvSpPr>
          <p:spPr>
            <a:xfrm>
              <a:off x="4343400" y="2819520"/>
              <a:ext cx="304560" cy="304560"/>
            </a:xfrm>
            <a:prstGeom prst="triangle">
              <a:avLst>
                <a:gd name="adj" fmla="val 5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8" name="Line 10"/>
            <p:cNvSpPr/>
            <p:nvPr/>
          </p:nvSpPr>
          <p:spPr>
            <a:xfrm>
              <a:off x="3352680" y="365760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2362320" y="4114800"/>
              <a:ext cx="1828440" cy="9187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2438280" y="4191120"/>
              <a:ext cx="167616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n-gradu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>
              <a:off x="5715000" y="365760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2" name="Line 15"/>
            <p:cNvSpPr/>
            <p:nvPr/>
          </p:nvSpPr>
          <p:spPr>
            <a:xfrm>
              <a:off x="3352680" y="3657600"/>
              <a:ext cx="23623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>
              <a:off x="4495680" y="3124080"/>
              <a:ext cx="360" cy="5335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5A264-6BED-45AC-8472-16035C0FDC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040" cy="10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eneralization Exampl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343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actor Order Registry Clerk can instantiate the general use case Place Order. Place Order can also be specialized by the use cases Phone Order or Internet Order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2600"/>
            </a:b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Content Placeholder 5" descr="ucgen2.gif"/>
          <p:cNvPicPr/>
          <p:nvPr/>
        </p:nvPicPr>
        <p:blipFill>
          <a:blip r:embed="rId1"/>
          <a:stretch/>
        </p:blipFill>
        <p:spPr>
          <a:xfrm>
            <a:off x="5105520" y="1447920"/>
            <a:ext cx="3885840" cy="474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ffffff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lt1"/>
                </a:solidFill>
                <a:latin typeface="Gill Sans MT"/>
              </a:rPr>
              <a:t>2. Includ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15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ase use case explicitly incorporates the behavior of another use case at a location specified in the base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included use case never stands alone. It only occurs as a part of some larger base that includes it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286000" y="1828800"/>
            <a:ext cx="4190400" cy="685440"/>
            <a:chOff x="2286000" y="1828800"/>
            <a:chExt cx="4190400" cy="685440"/>
          </a:xfrm>
        </p:grpSpPr>
        <p:grpSp>
          <p:nvGrpSpPr>
            <p:cNvPr id="340" name="Group 4"/>
            <p:cNvGrpSpPr/>
            <p:nvPr/>
          </p:nvGrpSpPr>
          <p:grpSpPr>
            <a:xfrm>
              <a:off x="2286000" y="1828800"/>
              <a:ext cx="914040" cy="685440"/>
              <a:chOff x="2286000" y="1828800"/>
              <a:chExt cx="914040" cy="685440"/>
            </a:xfrm>
          </p:grpSpPr>
          <p:sp>
            <p:nvSpPr>
              <p:cNvPr id="341" name="Oval 5"/>
              <p:cNvSpPr/>
              <p:nvPr/>
            </p:nvSpPr>
            <p:spPr>
              <a:xfrm>
                <a:off x="2286000" y="182880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42" name="Text Box 6"/>
              <p:cNvSpPr/>
              <p:nvPr/>
            </p:nvSpPr>
            <p:spPr>
              <a:xfrm>
                <a:off x="2362320" y="1981080"/>
                <a:ext cx="8377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7"/>
            <p:cNvGrpSpPr/>
            <p:nvPr/>
          </p:nvGrpSpPr>
          <p:grpSpPr>
            <a:xfrm>
              <a:off x="5181480" y="1828800"/>
              <a:ext cx="1294920" cy="685440"/>
              <a:chOff x="5181480" y="1828800"/>
              <a:chExt cx="1294920" cy="685440"/>
            </a:xfrm>
          </p:grpSpPr>
          <p:sp>
            <p:nvSpPr>
              <p:cNvPr id="344" name="Oval 8"/>
              <p:cNvSpPr/>
              <p:nvPr/>
            </p:nvSpPr>
            <p:spPr>
              <a:xfrm>
                <a:off x="5181480" y="1828800"/>
                <a:ext cx="129492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45" name="Text Box 9"/>
              <p:cNvSpPr/>
              <p:nvPr/>
            </p:nvSpPr>
            <p:spPr>
              <a:xfrm>
                <a:off x="5289480" y="1981080"/>
                <a:ext cx="11869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clud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Line 12"/>
            <p:cNvSpPr/>
            <p:nvPr/>
          </p:nvSpPr>
          <p:spPr>
            <a:xfrm>
              <a:off x="3200400" y="2209680"/>
              <a:ext cx="198108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7" name="Text Box 13"/>
            <p:cNvSpPr/>
            <p:nvPr/>
          </p:nvSpPr>
          <p:spPr>
            <a:xfrm>
              <a:off x="3484440" y="1905120"/>
              <a:ext cx="13744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0B63-E6A0-41ED-9281-00311700B3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clude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ables to avoid describing the same flow of events several times by putting the common behavior in a use case of its own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0" name="Group 17"/>
          <p:cNvGrpSpPr/>
          <p:nvPr/>
        </p:nvGrpSpPr>
        <p:grpSpPr>
          <a:xfrm>
            <a:off x="2133720" y="3809880"/>
            <a:ext cx="4723920" cy="2001600"/>
            <a:chOff x="2133720" y="3809880"/>
            <a:chExt cx="4723920" cy="2001600"/>
          </a:xfrm>
        </p:grpSpPr>
        <p:sp>
          <p:nvSpPr>
            <p:cNvPr id="351" name="Oval 5"/>
            <p:cNvSpPr/>
            <p:nvPr/>
          </p:nvSpPr>
          <p:spPr>
            <a:xfrm>
              <a:off x="2209680" y="3809880"/>
              <a:ext cx="1218960" cy="68544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2" name="Text Box 6"/>
            <p:cNvSpPr/>
            <p:nvPr/>
          </p:nvSpPr>
          <p:spPr>
            <a:xfrm>
              <a:off x="2286000" y="3809880"/>
              <a:ext cx="111708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d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8"/>
            <p:cNvSpPr/>
            <p:nvPr/>
          </p:nvSpPr>
          <p:spPr>
            <a:xfrm>
              <a:off x="2133720" y="5029200"/>
              <a:ext cx="1447560" cy="78228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4" name="Text Box 9"/>
            <p:cNvSpPr/>
            <p:nvPr/>
          </p:nvSpPr>
          <p:spPr>
            <a:xfrm>
              <a:off x="2133720" y="5073480"/>
              <a:ext cx="132696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1"/>
            <p:cNvSpPr/>
            <p:nvPr/>
          </p:nvSpPr>
          <p:spPr>
            <a:xfrm>
              <a:off x="5410080" y="4267080"/>
              <a:ext cx="1447560" cy="8553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 rtl="1"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6" name="Text Box 12"/>
            <p:cNvSpPr/>
            <p:nvPr/>
          </p:nvSpPr>
          <p:spPr>
            <a:xfrm>
              <a:off x="5410080" y="4387680"/>
              <a:ext cx="132696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erif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udent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>
              <a:off x="3429000" y="4267080"/>
              <a:ext cx="1981080" cy="38088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8" name="Line 14"/>
            <p:cNvSpPr/>
            <p:nvPr/>
          </p:nvSpPr>
          <p:spPr>
            <a:xfrm flipV="1">
              <a:off x="3581280" y="4952880"/>
              <a:ext cx="1981080" cy="38088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9" name="Text Box 15"/>
            <p:cNvSpPr/>
            <p:nvPr/>
          </p:nvSpPr>
          <p:spPr>
            <a:xfrm>
              <a:off x="3690720" y="4129200"/>
              <a:ext cx="13744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6"/>
            <p:cNvSpPr/>
            <p:nvPr/>
          </p:nvSpPr>
          <p:spPr>
            <a:xfrm>
              <a:off x="3843000" y="5143680"/>
              <a:ext cx="13744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 ניתוח מערכות מידע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6AB2-5D82-4E50-8F7C-EBAE611506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buNone/>
            </a:pPr>
            <a:endParaRPr b="0" lang="x-none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Content Placeholder 3" descr="Screen shot 2013-09-23 at 9.00.56 PM.png"/>
          <p:cNvPicPr/>
          <p:nvPr/>
        </p:nvPicPr>
        <p:blipFill>
          <a:blip r:embed="rId1"/>
          <a:stretch/>
        </p:blipFill>
        <p:spPr>
          <a:xfrm>
            <a:off x="457200" y="2683080"/>
            <a:ext cx="8229240" cy="200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ffffff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lt1"/>
                </a:solidFill>
                <a:latin typeface="Gill Sans MT"/>
              </a:rPr>
              <a:t>3. Extend</a:t>
            </a:r>
            <a:endParaRPr b="0" lang="x-none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14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ase use case implicitly incorporates the behavior of another use case at certain points called extension points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ase use case may stand alone, but under certain conditions its behavior may be extended by the behavior of another use case.</a:t>
            </a:r>
            <a:endParaRPr b="0" lang="x-none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5" name="Group 12"/>
          <p:cNvGrpSpPr/>
          <p:nvPr/>
        </p:nvGrpSpPr>
        <p:grpSpPr>
          <a:xfrm>
            <a:off x="2286000" y="1828800"/>
            <a:ext cx="4190400" cy="685440"/>
            <a:chOff x="2286000" y="1828800"/>
            <a:chExt cx="4190400" cy="685440"/>
          </a:xfrm>
        </p:grpSpPr>
        <p:grpSp>
          <p:nvGrpSpPr>
            <p:cNvPr id="366" name="Group 4"/>
            <p:cNvGrpSpPr/>
            <p:nvPr/>
          </p:nvGrpSpPr>
          <p:grpSpPr>
            <a:xfrm>
              <a:off x="2286000" y="1828800"/>
              <a:ext cx="914040" cy="685440"/>
              <a:chOff x="2286000" y="1828800"/>
              <a:chExt cx="914040" cy="685440"/>
            </a:xfrm>
          </p:grpSpPr>
          <p:sp>
            <p:nvSpPr>
              <p:cNvPr id="367" name="Oval 5"/>
              <p:cNvSpPr/>
              <p:nvPr/>
            </p:nvSpPr>
            <p:spPr>
              <a:xfrm>
                <a:off x="2286000" y="182880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2362320" y="1981080"/>
                <a:ext cx="8377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7"/>
            <p:cNvGrpSpPr/>
            <p:nvPr/>
          </p:nvGrpSpPr>
          <p:grpSpPr>
            <a:xfrm>
              <a:off x="5181480" y="1828800"/>
              <a:ext cx="1294920" cy="685440"/>
              <a:chOff x="5181480" y="1828800"/>
              <a:chExt cx="1294920" cy="685440"/>
            </a:xfrm>
          </p:grpSpPr>
          <p:sp>
            <p:nvSpPr>
              <p:cNvPr id="370" name="Oval 8"/>
              <p:cNvSpPr/>
              <p:nvPr/>
            </p:nvSpPr>
            <p:spPr>
              <a:xfrm>
                <a:off x="5181480" y="1828800"/>
                <a:ext cx="129492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 rtl="1">
                  <a:lnSpc>
                    <a:spcPct val="100000"/>
                  </a:lnSpc>
                </a:pPr>
                <a:endParaRPr b="0" lang="x-none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371" name="Text Box 9"/>
              <p:cNvSpPr/>
              <p:nvPr/>
            </p:nvSpPr>
            <p:spPr>
              <a:xfrm>
                <a:off x="5289480" y="1981080"/>
                <a:ext cx="1186920" cy="3945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xtend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Line 10"/>
            <p:cNvSpPr/>
            <p:nvPr/>
          </p:nvSpPr>
          <p:spPr>
            <a:xfrm>
              <a:off x="3200400" y="2209680"/>
              <a:ext cx="198108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3484800" y="1905120"/>
              <a:ext cx="13104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2527-8457-47FD-97BC-F3C3B452E6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>
  <documentManagement/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56023CB4777904783D8611FD83E40F4" ma:contentTypeVersion="0" ma:contentTypeDescription="Create a new document." ma:contentTypeScope="" ma:versionID="b0fafb6b6fba0e789133bb764372c705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6F611647-155A-49D4-8CF2-A22DAB163684}">
  <ds:schemaRefs>
    <ds:schemaRef ds:uri="http://schemas.microsoft.com/office/2006/metadata/properties"/>
  </ds:schemaRefs>
</ds:datastoreItem>
</file>

<file path=customXml/itemProps2.xml><?xml version="1.0" encoding="utf-8"?>
<ds:datastoreItem xmlns:ds="http://schemas.openxmlformats.org/officeDocument/2006/customXml" ds:itemID="{855CAAC1-A0D6-4666-87EB-5250D5251C83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3.xml><?xml version="1.0" encoding="utf-8"?>
<ds:datastoreItem xmlns:ds="http://schemas.openxmlformats.org/officeDocument/2006/customXml" ds:itemID="{E1BCD8B5-6095-4E5D-9024-484901B2EFD2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  <Words>450</Words>
  <Paragraphs>86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8:05:42Z</dcterms:created>
  <dc:creator>Winds</dc:creator>
  <dc:description/>
  <dc:language>en-US</dc:language>
  <cp:lastModifiedBy>Mac</cp:lastModifiedBy>
  <dcterms:modified xsi:type="dcterms:W3CDTF">2013-09-23T18:51:37Z</dcterms:modified>
  <cp:revision>31</cp:revision>
  <dc:subject/>
  <dc:title>Use Case Diagram in Detai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6023CB4777904783D8611FD83E40F4</vt:lpwstr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