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FCD-7C56-41BB-8EC1-3ABC035C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86C-A33B-43F3-B325-B98E7A5D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0CD-0FE3-481C-B14D-A5B0EA77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926-C8C3-4571-A6E1-560267FC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9C3-ABE6-4692-AB02-E3B70DC8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A5A7-4A69-429C-AF08-291BD6E4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9635-C94A-4840-B8BB-33DD7FC5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2501-46FB-432C-BAEF-3DA7CED1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EF3C-47C2-4493-A982-14EFE84E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0E48-395F-446B-9A93-B048BB39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DD16-8C5C-4D21-AEE9-7403508A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0F4-9A74-49A3-8446-FE19F230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8938-D2F4-4DB5-972A-5E2DCEEC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3858-7033-4577-9097-2D102712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143D-CDA7-4B76-A435-06E09AD1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3B19-BCCA-4C88-8AE3-60EDC47C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1E62-A84C-4D53-995B-F3A5BF1E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D60F-A70E-47E4-969C-636D24E6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3E6D-F09F-4637-8B0A-AB373158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F70E-9A67-4BF4-AD79-AA9676D7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F7ED-C4FE-4446-B0DF-70CF18F6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C4C8-39AD-4BC2-AB43-9626EE8A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B86-023A-49DE-9E9F-3C67AAF6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4E17-C108-4C98-8AE8-A23C83C1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2199-D3FB-4491-9B94-5FC33AFF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D92F4-7FB7-4DA6-94F5-2E2608DF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F67E0-1767-4CA6-B8FE-6306DA9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14AE-D75A-489D-9B04-B87A4EB2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E506-5410-45E5-8B8E-3CC80E56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F162-8BA7-4A00-BBEC-8607381E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582E8-2010-467E-809F-34248B7D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C0A1-112F-4DA3-A29E-7A9C0BC8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39F7-725F-4760-ADBE-78A08603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903-A975-4564-88CC-77BDF94F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4B8DE-ACB5-4F5A-9B1A-0A91D983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1D56-6724-4D9F-822F-1931943D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E4A5F-DE69-4E47-A664-4A626A8C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15826-2F49-442F-AAB2-FC79C455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AC2F1-5668-4285-9943-E04BE680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F2A71-ECAE-4D02-8730-FCD35B07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1BC1-478F-4240-BBE3-CBF8D491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BAC2-779D-4A49-8640-230293C1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B0E27-851A-4C8C-94D2-84994C80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3B3F-E522-4F4B-8183-61C82AF9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59B-D0F8-4544-84C1-BF22C987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AEDB6-933E-4255-958D-39FF88A5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811AF-48A7-4B89-8BA2-A8218BAE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7F0D4-700C-40A0-9C31-ECCC03DB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A99A5-336D-4A65-B887-206CF70F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5CBA7-13BE-4521-BC01-324503D4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A1859-9187-4ADB-B0CA-0EA91F7B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A125-DFE6-4A6B-81CD-D5FBD246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69BE-B894-4AB0-8CD2-7B1698A4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808C-94DA-44C4-91D0-0B5B28EB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B495E-5C16-4F28-A91F-0F0F7BCD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901-4E4B-4EF1-80BB-4D2947D3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DC40A-4D48-47DB-A986-F17BE8C1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0434E-121E-4D41-819E-9A95406E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F5BD4-E74E-4FB1-95C1-8FD7A869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99D61-92AC-4B35-B858-018ED001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65F57-070F-4C70-B480-F4BFC0EE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2FCB7-17E5-43F5-A24B-F71B43C5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9D424-5909-49F5-8352-6E0B53D9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0DBDF-7E47-4E86-8794-49C13DC8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9AF45-F35A-405C-9B2E-EF2BF4D9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28403-C050-4AAF-9C3A-6444842A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B62-2E03-48FE-B5FC-EBE22788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6E327-CE3E-4F46-98D5-0ADC78E3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93768-EBC4-4F5F-9F3D-BE643BA2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EA645-7606-4136-907A-1ED2B66D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F5DA6-A367-4720-A6AE-885B6ACD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FCA44-79E7-4BC1-A341-303551EA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6CADB-02CB-485D-B6FE-0F0BF849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AFFD8-B1D7-45D5-915A-D70F72AA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FCD45-7AF5-4BA1-8657-B0F9CAD4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6D5CE-3BCD-436F-933B-8FC51E52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5AC0C-6290-46B8-828C-003F86AA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A03-9DAB-4406-B2F9-ABFFFB9C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4F1EB-37B6-431E-A46D-6D403C1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7CA17-52AB-4116-8E3B-93CF185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0F687-DFEA-4A46-91FA-04C39C4C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CEA9A-D401-457B-A4E3-FFCED512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962FE-1A7A-4608-8240-6246D594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72A-45BD-4FCA-B27A-6F920CC1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A94D9AB8-5E51-4008-9550-12EB925F994E}" type="slidenum"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x-none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BA0A9CEA-79EC-4643-A3E8-1E0FA2A91488}" type="slidenum"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x-none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x-none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C482000-E667-4B33-8C57-841C64D6D07E}" type="slidenum"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x-none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040" cy="10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x-none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x-none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5181480" y="198108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x-none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x-none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0"/>
          </p:nvPr>
        </p:nvSpPr>
        <p:spPr>
          <a:xfrm>
            <a:off x="121932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 rot="16200600">
            <a:off x="-723600" y="518184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70866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1719CB7-B9A0-4630-8CAB-7FE613F50B2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x-none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Click to edit Master text styles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0F3891D-8081-4109-B43E-D06F2FDE4841}" type="slidenum">
              <a:rPr b="0" lang="x-non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x-non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2732522-D16A-4C7F-AC5C-E7FCDEF8D81F}" type="slidenum">
              <a:rPr b="0" lang="x-non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dt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2CFF666F-7C78-4978-96DC-C4BAC6A7D8C7}" type="slidenum">
              <a:rPr b="0" lang="x-non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Case Diagrams-2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tend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ables to model optional behavior or branching under conditions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6" name="Group 13"/>
          <p:cNvGrpSpPr/>
          <p:nvPr/>
        </p:nvGrpSpPr>
        <p:grpSpPr>
          <a:xfrm>
            <a:off x="1752480" y="3962520"/>
            <a:ext cx="5257440" cy="1371240"/>
            <a:chOff x="1752480" y="3962520"/>
            <a:chExt cx="5257440" cy="1371240"/>
          </a:xfrm>
        </p:grpSpPr>
        <p:sp>
          <p:nvSpPr>
            <p:cNvPr id="377" name="Oval 5"/>
            <p:cNvSpPr/>
            <p:nvPr/>
          </p:nvSpPr>
          <p:spPr>
            <a:xfrm>
              <a:off x="1752480" y="3962520"/>
              <a:ext cx="1828440" cy="137124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1981080" y="4343400"/>
              <a:ext cx="132696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am copy requ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"/>
            <p:cNvSpPr/>
            <p:nvPr/>
          </p:nvSpPr>
          <p:spPr>
            <a:xfrm>
              <a:off x="5181480" y="3962520"/>
              <a:ext cx="1828440" cy="137124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0" name="Text Box 9"/>
            <p:cNvSpPr/>
            <p:nvPr/>
          </p:nvSpPr>
          <p:spPr>
            <a:xfrm>
              <a:off x="5334120" y="4267080"/>
              <a:ext cx="139680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am-grade appe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0"/>
            <p:cNvSpPr/>
            <p:nvPr/>
          </p:nvSpPr>
          <p:spPr>
            <a:xfrm>
              <a:off x="3581280" y="4647960"/>
              <a:ext cx="160020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3733560" y="4191120"/>
              <a:ext cx="13089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EA64-58F0-4020-8970-B127B3B21D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buNone/>
            </a:pPr>
            <a:endParaRPr b="0" lang="x-none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4" name="Content Placeholder 3" descr="Screen shot 2013-09-23 at 9.00.38 PM.png"/>
          <p:cNvPicPr/>
          <p:nvPr/>
        </p:nvPicPr>
        <p:blipFill>
          <a:blip r:embed="rId1"/>
          <a:stretch/>
        </p:blipFill>
        <p:spPr>
          <a:xfrm>
            <a:off x="457200" y="2721240"/>
            <a:ext cx="8229240" cy="19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ffffff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chemeClr val="lt1"/>
                </a:solidFill>
                <a:latin typeface="Gill Sans MT"/>
              </a:rPr>
              <a:t>Relationships between Actors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eneralization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7" name="Group 33"/>
          <p:cNvGrpSpPr/>
          <p:nvPr/>
        </p:nvGrpSpPr>
        <p:grpSpPr>
          <a:xfrm>
            <a:off x="3581280" y="2224080"/>
            <a:ext cx="4876560" cy="3595680"/>
            <a:chOff x="3581280" y="2224080"/>
            <a:chExt cx="4876560" cy="3595680"/>
          </a:xfrm>
        </p:grpSpPr>
        <p:sp>
          <p:nvSpPr>
            <p:cNvPr id="388" name="Oval 5"/>
            <p:cNvSpPr/>
            <p:nvPr/>
          </p:nvSpPr>
          <p:spPr>
            <a:xfrm>
              <a:off x="5638680" y="2224080"/>
              <a:ext cx="304560" cy="3045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5790960" y="2528640"/>
              <a:ext cx="360" cy="5335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5790960" y="2681280"/>
              <a:ext cx="30492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 flipH="1">
              <a:off x="5562360" y="2681280"/>
              <a:ext cx="22860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>
              <a:off x="5790960" y="3062160"/>
              <a:ext cx="15264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3" name="Line 10"/>
            <p:cNvSpPr/>
            <p:nvPr/>
          </p:nvSpPr>
          <p:spPr>
            <a:xfrm flipH="1">
              <a:off x="5638680" y="3062160"/>
              <a:ext cx="15228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5334120" y="3138480"/>
              <a:ext cx="91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3"/>
            <p:cNvSpPr/>
            <p:nvPr/>
          </p:nvSpPr>
          <p:spPr>
            <a:xfrm>
              <a:off x="7543800" y="4267080"/>
              <a:ext cx="304560" cy="3045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>
              <a:off x="7696080" y="4572000"/>
              <a:ext cx="360" cy="5331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>
              <a:off x="7696080" y="4724280"/>
              <a:ext cx="30492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H="1">
              <a:off x="7467480" y="4724280"/>
              <a:ext cx="22860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7696080" y="5105160"/>
              <a:ext cx="15228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 flipH="1">
              <a:off x="7543800" y="5105160"/>
              <a:ext cx="15228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1" name="Text Box 19"/>
            <p:cNvSpPr/>
            <p:nvPr/>
          </p:nvSpPr>
          <p:spPr>
            <a:xfrm>
              <a:off x="6934320" y="5181480"/>
              <a:ext cx="15235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n-gradu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21"/>
            <p:cNvSpPr/>
            <p:nvPr/>
          </p:nvSpPr>
          <p:spPr>
            <a:xfrm>
              <a:off x="4038480" y="4267080"/>
              <a:ext cx="304560" cy="3045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3" name="Line 22"/>
            <p:cNvSpPr/>
            <p:nvPr/>
          </p:nvSpPr>
          <p:spPr>
            <a:xfrm>
              <a:off x="4190760" y="4572000"/>
              <a:ext cx="360" cy="5331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4" name="Line 23"/>
            <p:cNvSpPr/>
            <p:nvPr/>
          </p:nvSpPr>
          <p:spPr>
            <a:xfrm>
              <a:off x="4190760" y="4724280"/>
              <a:ext cx="30492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5" name="Line 24"/>
            <p:cNvSpPr/>
            <p:nvPr/>
          </p:nvSpPr>
          <p:spPr>
            <a:xfrm flipH="1">
              <a:off x="3962160" y="4724280"/>
              <a:ext cx="22860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6" name="Line 25"/>
            <p:cNvSpPr/>
            <p:nvPr/>
          </p:nvSpPr>
          <p:spPr>
            <a:xfrm>
              <a:off x="4190760" y="5105160"/>
              <a:ext cx="15264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7" name="Line 26"/>
            <p:cNvSpPr/>
            <p:nvPr/>
          </p:nvSpPr>
          <p:spPr>
            <a:xfrm flipH="1">
              <a:off x="4038480" y="5105160"/>
              <a:ext cx="15228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8" name="Text Box 27"/>
            <p:cNvSpPr/>
            <p:nvPr/>
          </p:nvSpPr>
          <p:spPr>
            <a:xfrm>
              <a:off x="3581280" y="5181480"/>
              <a:ext cx="121896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du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8"/>
            <p:cNvSpPr/>
            <p:nvPr/>
          </p:nvSpPr>
          <p:spPr>
            <a:xfrm flipV="1">
              <a:off x="4190760" y="3962160"/>
              <a:ext cx="360" cy="2286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0" name="Line 29"/>
            <p:cNvSpPr/>
            <p:nvPr/>
          </p:nvSpPr>
          <p:spPr>
            <a:xfrm flipV="1">
              <a:off x="7696080" y="3962160"/>
              <a:ext cx="360" cy="2286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1" name="Line 30"/>
            <p:cNvSpPr/>
            <p:nvPr/>
          </p:nvSpPr>
          <p:spPr>
            <a:xfrm>
              <a:off x="4190760" y="3962160"/>
              <a:ext cx="35053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2" name="AutoShape 31"/>
            <p:cNvSpPr/>
            <p:nvPr/>
          </p:nvSpPr>
          <p:spPr>
            <a:xfrm>
              <a:off x="5638680" y="3429000"/>
              <a:ext cx="304560" cy="228240"/>
            </a:xfrm>
            <a:prstGeom prst="triangle">
              <a:avLst>
                <a:gd name="adj" fmla="val 5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3" name="Line 32"/>
            <p:cNvSpPr/>
            <p:nvPr/>
          </p:nvSpPr>
          <p:spPr>
            <a:xfrm>
              <a:off x="5790960" y="3657600"/>
              <a:ext cx="360" cy="3045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1941-DA8C-4EC0-98BE-F669C494C8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gradFill rotWithShape="0">
            <a:gsLst>
              <a:gs pos="0">
                <a:srgbClr val="5d6585"/>
              </a:gs>
              <a:gs pos="50000">
                <a:srgbClr val="6a759d"/>
              </a:gs>
              <a:gs pos="100000">
                <a:srgbClr val="5d6585"/>
              </a:gs>
            </a:gsLst>
            <a:lin ang="948000"/>
          </a:gradFill>
          <a:ln w="0">
            <a:noFill/>
          </a:ln>
          <a:effectLst>
            <a:outerShdw dist="25560" dir="5400000" blurRad="50760" rotWithShape="0">
              <a:srgbClr val="000000">
                <a:alpha val="5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lt1"/>
                </a:solidFill>
                <a:latin typeface="Gill Sans MT"/>
              </a:rPr>
              <a:t>Examp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15" name="Group 58"/>
          <p:cNvGrpSpPr/>
          <p:nvPr/>
        </p:nvGrpSpPr>
        <p:grpSpPr>
          <a:xfrm>
            <a:off x="1219320" y="1981080"/>
            <a:ext cx="7543440" cy="3983760"/>
            <a:chOff x="1219320" y="1981080"/>
            <a:chExt cx="7543440" cy="3983760"/>
          </a:xfrm>
        </p:grpSpPr>
        <p:grpSp>
          <p:nvGrpSpPr>
            <p:cNvPr id="416" name="Group 34"/>
            <p:cNvGrpSpPr/>
            <p:nvPr/>
          </p:nvGrpSpPr>
          <p:grpSpPr>
            <a:xfrm>
              <a:off x="3581280" y="2209680"/>
              <a:ext cx="1599840" cy="869760"/>
              <a:chOff x="3581280" y="2209680"/>
              <a:chExt cx="1599840" cy="869760"/>
            </a:xfrm>
          </p:grpSpPr>
          <p:sp>
            <p:nvSpPr>
              <p:cNvPr id="417" name="Oval 10"/>
              <p:cNvSpPr/>
              <p:nvPr/>
            </p:nvSpPr>
            <p:spPr>
              <a:xfrm>
                <a:off x="3581280" y="2209680"/>
                <a:ext cx="1599840" cy="86976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18" name="Text Box 11"/>
              <p:cNvSpPr/>
              <p:nvPr/>
            </p:nvSpPr>
            <p:spPr>
              <a:xfrm>
                <a:off x="3638520" y="2286000"/>
                <a:ext cx="1466640" cy="6994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la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one cal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Oval 19"/>
            <p:cNvSpPr/>
            <p:nvPr/>
          </p:nvSpPr>
          <p:spPr>
            <a:xfrm>
              <a:off x="1600200" y="2362320"/>
              <a:ext cx="304560" cy="3045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0" name="Line 20"/>
            <p:cNvSpPr/>
            <p:nvPr/>
          </p:nvSpPr>
          <p:spPr>
            <a:xfrm>
              <a:off x="1752480" y="2666880"/>
              <a:ext cx="1440" cy="5335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1" name="Line 21"/>
            <p:cNvSpPr/>
            <p:nvPr/>
          </p:nvSpPr>
          <p:spPr>
            <a:xfrm>
              <a:off x="1752480" y="2819160"/>
              <a:ext cx="30492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2" name="Line 22"/>
            <p:cNvSpPr/>
            <p:nvPr/>
          </p:nvSpPr>
          <p:spPr>
            <a:xfrm flipH="1">
              <a:off x="1523880" y="2819160"/>
              <a:ext cx="22860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3" name="Line 23"/>
            <p:cNvSpPr/>
            <p:nvPr/>
          </p:nvSpPr>
          <p:spPr>
            <a:xfrm>
              <a:off x="1752480" y="3200400"/>
              <a:ext cx="15228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4" name="Line 24"/>
            <p:cNvSpPr/>
            <p:nvPr/>
          </p:nvSpPr>
          <p:spPr>
            <a:xfrm flipH="1">
              <a:off x="1600200" y="3200400"/>
              <a:ext cx="15228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5" name="Text Box 25"/>
            <p:cNvSpPr/>
            <p:nvPr/>
          </p:nvSpPr>
          <p:spPr>
            <a:xfrm>
              <a:off x="1219320" y="3200400"/>
              <a:ext cx="106632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llul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26"/>
            <p:cNvGrpSpPr/>
            <p:nvPr/>
          </p:nvGrpSpPr>
          <p:grpSpPr>
            <a:xfrm>
              <a:off x="1371600" y="4267080"/>
              <a:ext cx="777600" cy="1385280"/>
              <a:chOff x="1371600" y="4267080"/>
              <a:chExt cx="777600" cy="1385280"/>
            </a:xfrm>
          </p:grpSpPr>
          <p:sp>
            <p:nvSpPr>
              <p:cNvPr id="427" name="Oval 27"/>
              <p:cNvSpPr/>
              <p:nvPr/>
            </p:nvSpPr>
            <p:spPr>
              <a:xfrm>
                <a:off x="1600200" y="4267080"/>
                <a:ext cx="304560" cy="30456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28" name="Line 28"/>
              <p:cNvSpPr/>
              <p:nvPr/>
            </p:nvSpPr>
            <p:spPr>
              <a:xfrm>
                <a:off x="1752480" y="4572000"/>
                <a:ext cx="360" cy="5331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29" name="Line 29"/>
              <p:cNvSpPr/>
              <p:nvPr/>
            </p:nvSpPr>
            <p:spPr>
              <a:xfrm>
                <a:off x="1752480" y="4724280"/>
                <a:ext cx="304920" cy="15228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30" name="Line 30"/>
              <p:cNvSpPr/>
              <p:nvPr/>
            </p:nvSpPr>
            <p:spPr>
              <a:xfrm flipH="1">
                <a:off x="1523880" y="4724280"/>
                <a:ext cx="228600" cy="15228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31" name="Line 31"/>
              <p:cNvSpPr/>
              <p:nvPr/>
            </p:nvSpPr>
            <p:spPr>
              <a:xfrm>
                <a:off x="1752480" y="5105160"/>
                <a:ext cx="152280" cy="15264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32" name="Line 32"/>
              <p:cNvSpPr/>
              <p:nvPr/>
            </p:nvSpPr>
            <p:spPr>
              <a:xfrm flipH="1">
                <a:off x="1600200" y="5105160"/>
                <a:ext cx="152280" cy="15264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33" name="Text Box 33"/>
              <p:cNvSpPr/>
              <p:nvPr/>
            </p:nvSpPr>
            <p:spPr>
              <a:xfrm>
                <a:off x="1371600" y="5257800"/>
                <a:ext cx="77760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35"/>
            <p:cNvGrpSpPr/>
            <p:nvPr/>
          </p:nvGrpSpPr>
          <p:grpSpPr>
            <a:xfrm>
              <a:off x="3581280" y="3505320"/>
              <a:ext cx="1599840" cy="869760"/>
              <a:chOff x="3581280" y="3505320"/>
              <a:chExt cx="1599840" cy="869760"/>
            </a:xfrm>
          </p:grpSpPr>
          <p:sp>
            <p:nvSpPr>
              <p:cNvPr id="435" name="Oval 36"/>
              <p:cNvSpPr/>
              <p:nvPr/>
            </p:nvSpPr>
            <p:spPr>
              <a:xfrm>
                <a:off x="3581280" y="3505320"/>
                <a:ext cx="1599840" cy="86976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36" name="Text Box 37"/>
              <p:cNvSpPr/>
              <p:nvPr/>
            </p:nvSpPr>
            <p:spPr>
              <a:xfrm>
                <a:off x="3638520" y="3581280"/>
                <a:ext cx="1466640" cy="6994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ce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one cal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Oval 39"/>
            <p:cNvSpPr/>
            <p:nvPr/>
          </p:nvSpPr>
          <p:spPr>
            <a:xfrm>
              <a:off x="6781680" y="2209680"/>
              <a:ext cx="1599840" cy="8697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38" name="Text Box 40"/>
            <p:cNvSpPr/>
            <p:nvPr/>
          </p:nvSpPr>
          <p:spPr>
            <a:xfrm>
              <a:off x="6838920" y="2133720"/>
              <a:ext cx="1466640" cy="1004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ference c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42"/>
            <p:cNvSpPr/>
            <p:nvPr/>
          </p:nvSpPr>
          <p:spPr>
            <a:xfrm>
              <a:off x="6781680" y="3505320"/>
              <a:ext cx="1599840" cy="8697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0" name="Text Box 43"/>
            <p:cNvSpPr/>
            <p:nvPr/>
          </p:nvSpPr>
          <p:spPr>
            <a:xfrm>
              <a:off x="6838920" y="3429000"/>
              <a:ext cx="1466640" cy="1004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ditional c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44"/>
            <p:cNvGrpSpPr/>
            <p:nvPr/>
          </p:nvGrpSpPr>
          <p:grpSpPr>
            <a:xfrm>
              <a:off x="3581280" y="4800600"/>
              <a:ext cx="1599840" cy="869760"/>
              <a:chOff x="3581280" y="4800600"/>
              <a:chExt cx="1599840" cy="869760"/>
            </a:xfrm>
          </p:grpSpPr>
          <p:sp>
            <p:nvSpPr>
              <p:cNvPr id="442" name="Oval 45"/>
              <p:cNvSpPr/>
              <p:nvPr/>
            </p:nvSpPr>
            <p:spPr>
              <a:xfrm>
                <a:off x="3581280" y="4800600"/>
                <a:ext cx="1599840" cy="86976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43" name="Text Box 46"/>
              <p:cNvSpPr/>
              <p:nvPr/>
            </p:nvSpPr>
            <p:spPr>
              <a:xfrm>
                <a:off x="3638520" y="4876920"/>
                <a:ext cx="1466640" cy="6994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chedul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Line 47"/>
            <p:cNvSpPr/>
            <p:nvPr/>
          </p:nvSpPr>
          <p:spPr>
            <a:xfrm flipH="1">
              <a:off x="2057400" y="2666880"/>
              <a:ext cx="15238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5" name="Line 48"/>
            <p:cNvSpPr/>
            <p:nvPr/>
          </p:nvSpPr>
          <p:spPr>
            <a:xfrm flipH="1" flipV="1">
              <a:off x="2057400" y="2666880"/>
              <a:ext cx="1600200" cy="10666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6" name="Line 49"/>
            <p:cNvSpPr/>
            <p:nvPr/>
          </p:nvSpPr>
          <p:spPr>
            <a:xfrm flipV="1">
              <a:off x="2057400" y="2971800"/>
              <a:ext cx="1752480" cy="1600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7" name="Line 50"/>
            <p:cNvSpPr/>
            <p:nvPr/>
          </p:nvSpPr>
          <p:spPr>
            <a:xfrm flipV="1">
              <a:off x="2057400" y="4114800"/>
              <a:ext cx="152388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8" name="Line 51"/>
            <p:cNvSpPr/>
            <p:nvPr/>
          </p:nvSpPr>
          <p:spPr>
            <a:xfrm>
              <a:off x="2057400" y="4572000"/>
              <a:ext cx="1523880" cy="6858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9" name="Line 52"/>
            <p:cNvSpPr/>
            <p:nvPr/>
          </p:nvSpPr>
          <p:spPr>
            <a:xfrm flipH="1">
              <a:off x="5181480" y="2666880"/>
              <a:ext cx="160020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50" name="Text Box 53"/>
            <p:cNvSpPr/>
            <p:nvPr/>
          </p:nvSpPr>
          <p:spPr>
            <a:xfrm>
              <a:off x="5317920" y="2324160"/>
              <a:ext cx="13089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54"/>
            <p:cNvSpPr/>
            <p:nvPr/>
          </p:nvSpPr>
          <p:spPr>
            <a:xfrm flipH="1">
              <a:off x="5181480" y="3938400"/>
              <a:ext cx="160020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52" name="Text Box 55"/>
            <p:cNvSpPr/>
            <p:nvPr/>
          </p:nvSpPr>
          <p:spPr>
            <a:xfrm>
              <a:off x="5317920" y="3595680"/>
              <a:ext cx="13089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56"/>
            <p:cNvSpPr/>
            <p:nvPr/>
          </p:nvSpPr>
          <p:spPr>
            <a:xfrm>
              <a:off x="3200400" y="1981080"/>
              <a:ext cx="5562360" cy="39621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54" name="Text Box 57"/>
            <p:cNvSpPr/>
            <p:nvPr/>
          </p:nvSpPr>
          <p:spPr>
            <a:xfrm>
              <a:off x="6774840" y="5600880"/>
              <a:ext cx="19245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ellular Teleph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0B23-416A-4710-9D19-08E3B65484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lt1"/>
                </a:solidFill>
                <a:latin typeface="Calibri"/>
              </a:rPr>
              <a:t>example</a:t>
            </a:r>
            <a:endParaRPr b="0" lang="x-none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x-none" sz="20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</a:pPr>
            <a:endParaRPr b="0" lang="x-non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Receptionist schedules patient's appointments and admission to the hospital, collects information from patient upon patient's arrival and/or by phone. For the patient that will stay in the hospital ("inpatient") she or he should have a bed allotted in a ward. Receptionists might also receive patient's payments, record them in a database and provide receipts, file insurance claims and medical reports. </a:t>
            </a: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Screen shot 2013-09-23 at 9.05.08 PM.png"/>
          <p:cNvPicPr/>
          <p:nvPr/>
        </p:nvPicPr>
        <p:blipFill>
          <a:blip r:embed="rId1"/>
          <a:stretch/>
        </p:blipFill>
        <p:spPr>
          <a:xfrm>
            <a:off x="-218880" y="221040"/>
            <a:ext cx="9972000" cy="66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ffffff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lt1"/>
                </a:solidFill>
                <a:latin typeface="Gill Sans MT"/>
              </a:rPr>
              <a:t>Relationships between Use Cases</a:t>
            </a:r>
            <a:endParaRPr b="0" lang="x-none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. Generalization - use cases that are specialized versions of other use cases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Include - use cases that are included as parts of other use cases. Contain the functionality of another use case as part of their normal processing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Extend - use cases that extend the behavior of other core use cases. Enable to factor variants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BF0D-C6CE-42EA-B889-49B6FA761F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ffffff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lt1"/>
                </a:solidFill>
                <a:latin typeface="Gill Sans MT"/>
              </a:rPr>
              <a:t>1. Generalization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hild use case inherits the 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havior and meaning of the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rent use case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hild may add to or 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verride the behavior of its parent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1" name="Group 16"/>
          <p:cNvGrpSpPr/>
          <p:nvPr/>
        </p:nvGrpSpPr>
        <p:grpSpPr>
          <a:xfrm>
            <a:off x="7315200" y="2133720"/>
            <a:ext cx="914040" cy="2133000"/>
            <a:chOff x="7315200" y="2133720"/>
            <a:chExt cx="914040" cy="2133000"/>
          </a:xfrm>
        </p:grpSpPr>
        <p:grpSp>
          <p:nvGrpSpPr>
            <p:cNvPr id="312" name="Group 4"/>
            <p:cNvGrpSpPr/>
            <p:nvPr/>
          </p:nvGrpSpPr>
          <p:grpSpPr>
            <a:xfrm>
              <a:off x="7315200" y="2133720"/>
              <a:ext cx="914040" cy="685440"/>
              <a:chOff x="7315200" y="2133720"/>
              <a:chExt cx="914040" cy="685440"/>
            </a:xfrm>
          </p:grpSpPr>
          <p:sp>
            <p:nvSpPr>
              <p:cNvPr id="313" name="Oval 5"/>
              <p:cNvSpPr/>
              <p:nvPr/>
            </p:nvSpPr>
            <p:spPr>
              <a:xfrm>
                <a:off x="7315200" y="213372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14" name="Text Box 6"/>
              <p:cNvSpPr/>
              <p:nvPr/>
            </p:nvSpPr>
            <p:spPr>
              <a:xfrm>
                <a:off x="7391520" y="2286000"/>
                <a:ext cx="8377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r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7"/>
            <p:cNvGrpSpPr/>
            <p:nvPr/>
          </p:nvGrpSpPr>
          <p:grpSpPr>
            <a:xfrm>
              <a:off x="7315200" y="3581280"/>
              <a:ext cx="914040" cy="685440"/>
              <a:chOff x="7315200" y="3581280"/>
              <a:chExt cx="914040" cy="685440"/>
            </a:xfrm>
          </p:grpSpPr>
          <p:sp>
            <p:nvSpPr>
              <p:cNvPr id="316" name="Oval 8"/>
              <p:cNvSpPr/>
              <p:nvPr/>
            </p:nvSpPr>
            <p:spPr>
              <a:xfrm>
                <a:off x="7315200" y="358128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17" name="Text Box 9"/>
              <p:cNvSpPr/>
              <p:nvPr/>
            </p:nvSpPr>
            <p:spPr>
              <a:xfrm>
                <a:off x="7391520" y="3733920"/>
                <a:ext cx="8377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hil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12"/>
            <p:cNvSpPr/>
            <p:nvPr/>
          </p:nvSpPr>
          <p:spPr>
            <a:xfrm>
              <a:off x="7772400" y="312408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19" name="AutoShape 15"/>
            <p:cNvSpPr/>
            <p:nvPr/>
          </p:nvSpPr>
          <p:spPr>
            <a:xfrm>
              <a:off x="7543800" y="2819520"/>
              <a:ext cx="456840" cy="304560"/>
            </a:xfrm>
            <a:prstGeom prst="triangle">
              <a:avLst>
                <a:gd name="adj" fmla="val 5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F7A8-7EF7-4306-9E0D-BF1ED7DCC9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buNone/>
            </a:pPr>
            <a:endParaRPr b="0" lang="x-none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2362320" y="2133720"/>
            <a:ext cx="4190400" cy="2899800"/>
            <a:chOff x="2362320" y="2133720"/>
            <a:chExt cx="4190400" cy="2899800"/>
          </a:xfrm>
        </p:grpSpPr>
        <p:grpSp>
          <p:nvGrpSpPr>
            <p:cNvPr id="322" name="Group 3"/>
            <p:cNvGrpSpPr/>
            <p:nvPr/>
          </p:nvGrpSpPr>
          <p:grpSpPr>
            <a:xfrm>
              <a:off x="3733920" y="2133720"/>
              <a:ext cx="1523520" cy="685440"/>
              <a:chOff x="3733920" y="2133720"/>
              <a:chExt cx="1523520" cy="685440"/>
            </a:xfrm>
          </p:grpSpPr>
          <p:sp>
            <p:nvSpPr>
              <p:cNvPr id="323" name="Oval 4"/>
              <p:cNvSpPr/>
              <p:nvPr/>
            </p:nvSpPr>
            <p:spPr>
              <a:xfrm>
                <a:off x="3733920" y="2133720"/>
                <a:ext cx="152352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24" name="Text Box 5"/>
              <p:cNvSpPr/>
              <p:nvPr/>
            </p:nvSpPr>
            <p:spPr>
              <a:xfrm>
                <a:off x="3860640" y="2286000"/>
                <a:ext cx="139680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gistr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7"/>
            <p:cNvSpPr/>
            <p:nvPr/>
          </p:nvSpPr>
          <p:spPr>
            <a:xfrm>
              <a:off x="4952880" y="4114800"/>
              <a:ext cx="1599840" cy="91728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6" name="Text Box 8"/>
            <p:cNvSpPr/>
            <p:nvPr/>
          </p:nvSpPr>
          <p:spPr>
            <a:xfrm>
              <a:off x="5010120" y="4191120"/>
              <a:ext cx="146664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du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9"/>
            <p:cNvSpPr/>
            <p:nvPr/>
          </p:nvSpPr>
          <p:spPr>
            <a:xfrm>
              <a:off x="4343400" y="2819520"/>
              <a:ext cx="304560" cy="304560"/>
            </a:xfrm>
            <a:prstGeom prst="triangle">
              <a:avLst>
                <a:gd name="adj" fmla="val 5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8" name="Line 10"/>
            <p:cNvSpPr/>
            <p:nvPr/>
          </p:nvSpPr>
          <p:spPr>
            <a:xfrm>
              <a:off x="3352680" y="365760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2362320" y="4114800"/>
              <a:ext cx="1828440" cy="9187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2438280" y="4191120"/>
              <a:ext cx="167616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n-gradu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>
              <a:off x="5715000" y="365760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2" name="Line 15"/>
            <p:cNvSpPr/>
            <p:nvPr/>
          </p:nvSpPr>
          <p:spPr>
            <a:xfrm>
              <a:off x="3352680" y="3657600"/>
              <a:ext cx="23623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>
              <a:off x="4495680" y="3124080"/>
              <a:ext cx="360" cy="5335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1132-6305-450D-B5C8-32C3C900BC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040" cy="10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eneralization Examp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343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actor Order Registry Clerk can instantiate the general use case Place Order. Place Order can also be specialized by the use cases Phone Order or Internet Order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2600"/>
            </a:b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Content Placeholder 5" descr="ucgen2.gif"/>
          <p:cNvPicPr/>
          <p:nvPr/>
        </p:nvPicPr>
        <p:blipFill>
          <a:blip r:embed="rId1"/>
          <a:stretch/>
        </p:blipFill>
        <p:spPr>
          <a:xfrm>
            <a:off x="5105520" y="1447920"/>
            <a:ext cx="3885840" cy="474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ffffff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lt1"/>
                </a:solidFill>
                <a:latin typeface="Gill Sans MT"/>
              </a:rPr>
              <a:t>2. Includ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15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ase use case explicitly incorporates the behavior of another use case at a location specified in the base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included use case never stands alone. It only occurs as a part of some larger base that includes it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286000" y="1828800"/>
            <a:ext cx="4190400" cy="685440"/>
            <a:chOff x="2286000" y="1828800"/>
            <a:chExt cx="4190400" cy="685440"/>
          </a:xfrm>
        </p:grpSpPr>
        <p:grpSp>
          <p:nvGrpSpPr>
            <p:cNvPr id="340" name="Group 4"/>
            <p:cNvGrpSpPr/>
            <p:nvPr/>
          </p:nvGrpSpPr>
          <p:grpSpPr>
            <a:xfrm>
              <a:off x="2286000" y="1828800"/>
              <a:ext cx="914040" cy="685440"/>
              <a:chOff x="2286000" y="1828800"/>
              <a:chExt cx="914040" cy="685440"/>
            </a:xfrm>
          </p:grpSpPr>
          <p:sp>
            <p:nvSpPr>
              <p:cNvPr id="341" name="Oval 5"/>
              <p:cNvSpPr/>
              <p:nvPr/>
            </p:nvSpPr>
            <p:spPr>
              <a:xfrm>
                <a:off x="2286000" y="182880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42" name="Text Box 6"/>
              <p:cNvSpPr/>
              <p:nvPr/>
            </p:nvSpPr>
            <p:spPr>
              <a:xfrm>
                <a:off x="2362320" y="1981080"/>
                <a:ext cx="8377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7"/>
            <p:cNvGrpSpPr/>
            <p:nvPr/>
          </p:nvGrpSpPr>
          <p:grpSpPr>
            <a:xfrm>
              <a:off x="5181480" y="1828800"/>
              <a:ext cx="1294920" cy="685440"/>
              <a:chOff x="5181480" y="1828800"/>
              <a:chExt cx="1294920" cy="685440"/>
            </a:xfrm>
          </p:grpSpPr>
          <p:sp>
            <p:nvSpPr>
              <p:cNvPr id="344" name="Oval 8"/>
              <p:cNvSpPr/>
              <p:nvPr/>
            </p:nvSpPr>
            <p:spPr>
              <a:xfrm>
                <a:off x="5181480" y="1828800"/>
                <a:ext cx="129492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45" name="Text Box 9"/>
              <p:cNvSpPr/>
              <p:nvPr/>
            </p:nvSpPr>
            <p:spPr>
              <a:xfrm>
                <a:off x="5289480" y="1981080"/>
                <a:ext cx="11869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clud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Line 12"/>
            <p:cNvSpPr/>
            <p:nvPr/>
          </p:nvSpPr>
          <p:spPr>
            <a:xfrm>
              <a:off x="3200400" y="2209680"/>
              <a:ext cx="198108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7" name="Text Box 13"/>
            <p:cNvSpPr/>
            <p:nvPr/>
          </p:nvSpPr>
          <p:spPr>
            <a:xfrm>
              <a:off x="3484440" y="1905120"/>
              <a:ext cx="13744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A3CF-F1EE-4EFF-802C-76B24CCCB0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clud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ables to avoid describing the same flow of events several times by putting the common behavior in a use case of its own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0" name="Group 17"/>
          <p:cNvGrpSpPr/>
          <p:nvPr/>
        </p:nvGrpSpPr>
        <p:grpSpPr>
          <a:xfrm>
            <a:off x="2133720" y="3809880"/>
            <a:ext cx="4723920" cy="2001600"/>
            <a:chOff x="2133720" y="3809880"/>
            <a:chExt cx="4723920" cy="2001600"/>
          </a:xfrm>
        </p:grpSpPr>
        <p:sp>
          <p:nvSpPr>
            <p:cNvPr id="351" name="Oval 5"/>
            <p:cNvSpPr/>
            <p:nvPr/>
          </p:nvSpPr>
          <p:spPr>
            <a:xfrm>
              <a:off x="2209680" y="3809880"/>
              <a:ext cx="1218960" cy="68544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2" name="Text Box 6"/>
            <p:cNvSpPr/>
            <p:nvPr/>
          </p:nvSpPr>
          <p:spPr>
            <a:xfrm>
              <a:off x="2286000" y="3809880"/>
              <a:ext cx="111708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d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8"/>
            <p:cNvSpPr/>
            <p:nvPr/>
          </p:nvSpPr>
          <p:spPr>
            <a:xfrm>
              <a:off x="2133720" y="5029200"/>
              <a:ext cx="1447560" cy="78228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4" name="Text Box 9"/>
            <p:cNvSpPr/>
            <p:nvPr/>
          </p:nvSpPr>
          <p:spPr>
            <a:xfrm>
              <a:off x="2133720" y="5073480"/>
              <a:ext cx="132696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1"/>
            <p:cNvSpPr/>
            <p:nvPr/>
          </p:nvSpPr>
          <p:spPr>
            <a:xfrm>
              <a:off x="5410080" y="4267080"/>
              <a:ext cx="1447560" cy="8553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6" name="Text Box 12"/>
            <p:cNvSpPr/>
            <p:nvPr/>
          </p:nvSpPr>
          <p:spPr>
            <a:xfrm>
              <a:off x="5410080" y="4387680"/>
              <a:ext cx="132696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erif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udent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>
              <a:off x="3429000" y="4267080"/>
              <a:ext cx="1981080" cy="38088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8" name="Line 14"/>
            <p:cNvSpPr/>
            <p:nvPr/>
          </p:nvSpPr>
          <p:spPr>
            <a:xfrm flipV="1">
              <a:off x="3581280" y="4952880"/>
              <a:ext cx="1981080" cy="38088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9" name="Text Box 15"/>
            <p:cNvSpPr/>
            <p:nvPr/>
          </p:nvSpPr>
          <p:spPr>
            <a:xfrm>
              <a:off x="3690720" y="4129200"/>
              <a:ext cx="13744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6"/>
            <p:cNvSpPr/>
            <p:nvPr/>
          </p:nvSpPr>
          <p:spPr>
            <a:xfrm>
              <a:off x="3843000" y="5143680"/>
              <a:ext cx="13744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 ניתוח מערכות מידע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EA67-1654-4101-8455-CAECFBF363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buNone/>
            </a:pPr>
            <a:endParaRPr b="0" lang="x-none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Content Placeholder 3" descr="Screen shot 2013-09-23 at 9.00.56 PM.png"/>
          <p:cNvPicPr/>
          <p:nvPr/>
        </p:nvPicPr>
        <p:blipFill>
          <a:blip r:embed="rId1"/>
          <a:stretch/>
        </p:blipFill>
        <p:spPr>
          <a:xfrm>
            <a:off x="457200" y="2683080"/>
            <a:ext cx="8229240" cy="200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ffffff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lt1"/>
                </a:solidFill>
                <a:latin typeface="Gill Sans MT"/>
              </a:rPr>
              <a:t>3. Extend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14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ase use case implicitly incorporates the behavior of another use case at certain points called extension points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ase use case may stand alone, but under certain conditions its behavior may be extended by the behavior of another use case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5" name="Group 12"/>
          <p:cNvGrpSpPr/>
          <p:nvPr/>
        </p:nvGrpSpPr>
        <p:grpSpPr>
          <a:xfrm>
            <a:off x="2286000" y="1828800"/>
            <a:ext cx="4190400" cy="685440"/>
            <a:chOff x="2286000" y="1828800"/>
            <a:chExt cx="4190400" cy="685440"/>
          </a:xfrm>
        </p:grpSpPr>
        <p:grpSp>
          <p:nvGrpSpPr>
            <p:cNvPr id="366" name="Group 4"/>
            <p:cNvGrpSpPr/>
            <p:nvPr/>
          </p:nvGrpSpPr>
          <p:grpSpPr>
            <a:xfrm>
              <a:off x="2286000" y="1828800"/>
              <a:ext cx="914040" cy="685440"/>
              <a:chOff x="2286000" y="1828800"/>
              <a:chExt cx="914040" cy="685440"/>
            </a:xfrm>
          </p:grpSpPr>
          <p:sp>
            <p:nvSpPr>
              <p:cNvPr id="367" name="Oval 5"/>
              <p:cNvSpPr/>
              <p:nvPr/>
            </p:nvSpPr>
            <p:spPr>
              <a:xfrm>
                <a:off x="2286000" y="182880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2362320" y="1981080"/>
                <a:ext cx="8377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7"/>
            <p:cNvGrpSpPr/>
            <p:nvPr/>
          </p:nvGrpSpPr>
          <p:grpSpPr>
            <a:xfrm>
              <a:off x="5181480" y="1828800"/>
              <a:ext cx="1294920" cy="685440"/>
              <a:chOff x="5181480" y="1828800"/>
              <a:chExt cx="1294920" cy="685440"/>
            </a:xfrm>
          </p:grpSpPr>
          <p:sp>
            <p:nvSpPr>
              <p:cNvPr id="370" name="Oval 8"/>
              <p:cNvSpPr/>
              <p:nvPr/>
            </p:nvSpPr>
            <p:spPr>
              <a:xfrm>
                <a:off x="5181480" y="1828800"/>
                <a:ext cx="129492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71" name="Text Box 9"/>
              <p:cNvSpPr/>
              <p:nvPr/>
            </p:nvSpPr>
            <p:spPr>
              <a:xfrm>
                <a:off x="5289480" y="1981080"/>
                <a:ext cx="11869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xtend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Line 10"/>
            <p:cNvSpPr/>
            <p:nvPr/>
          </p:nvSpPr>
          <p:spPr>
            <a:xfrm>
              <a:off x="3200400" y="2209680"/>
              <a:ext cx="198108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3484800" y="1905120"/>
              <a:ext cx="13104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D169-CB6E-407C-B5E5-935A65B767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>
  <documentManagement/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56023CB4777904783D8611FD83E40F4" ma:contentTypeVersion="0" ma:contentTypeDescription="Create a new document." ma:contentTypeScope="" ma:versionID="b0fafb6b6fba0e789133bb764372c705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6F611647-155A-49D4-8CF2-A22DAB163684}">
  <ds:schemaRefs>
    <ds:schemaRef ds:uri="http://schemas.microsoft.com/office/2006/metadata/properties"/>
  </ds:schemaRefs>
</ds:datastoreItem>
</file>

<file path=customXml/itemProps2.xml><?xml version="1.0" encoding="utf-8"?>
<ds:datastoreItem xmlns:ds="http://schemas.openxmlformats.org/officeDocument/2006/customXml" ds:itemID="{855CAAC1-A0D6-4666-87EB-5250D5251C83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3.xml><?xml version="1.0" encoding="utf-8"?>
<ds:datastoreItem xmlns:ds="http://schemas.openxmlformats.org/officeDocument/2006/customXml" ds:itemID="{E1BCD8B5-6095-4E5D-9024-484901B2EFD2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  <Words>450</Words>
  <Paragraphs>86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8:05:42Z</dcterms:created>
  <dc:creator>Winds</dc:creator>
  <dc:description/>
  <dc:language>en-US</dc:language>
  <cp:lastModifiedBy>Mac</cp:lastModifiedBy>
  <dcterms:modified xsi:type="dcterms:W3CDTF">2013-09-23T18:51:37Z</dcterms:modified>
  <cp:revision>31</cp:revision>
  <dc:subject/>
  <dc:title>Use Case Diagram in Detai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6023CB4777904783D8611FD83E40F4</vt:lpwstr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