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DB732E-A25E-4844-8E4C-8D92648DC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8055CB-452E-489A-84A8-E7689DD61068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A8ADB0-AE90-48EC-83BC-9A91A0D4A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BCFEBB-EAA2-49B3-945C-B8FD8C912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7B247C-BF00-495B-828B-E4BF10026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9FC99C-D8C8-49ED-AC1C-C9ECD4257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9E6792-AEE7-4FCD-AA47-05B87234FA5A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FB4360-3283-4F1D-898C-B0AACBAB56EA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B77F37-B171-4423-98FA-15C1A838E803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151-2B96-40FE-8F66-4D170BFC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BC4-FFD1-4B15-92E9-D4039142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9CE-BD2D-4B96-B8BC-FC189844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F13-EE9F-49DD-ADBD-1A71CE22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24E2-AC8F-4254-87DE-0BF9DA84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24FC-BC86-4869-9DDD-5F2A9D2E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B30A-F6D9-4BD5-95F7-7CED5BD4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26F8-D94E-4219-97BE-581B3FEB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EBFB-8609-4F0B-9B58-EE24195C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F53B-9A87-47AA-B7CC-17195896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51A5-9927-4C51-8887-A69B69F6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22E-51EC-4CFA-BC56-F89C058E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79DC-F5D7-49AF-87D2-000FD2F9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7680-3A79-49A5-8E67-124F0F90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ADD9-F74B-4395-B7A8-5A795B5A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0637-137A-4DC4-A2BB-38BFFE7B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37F2-FD9E-4384-8A5C-3C015B49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554E-D5C5-4DAE-84B2-515B842F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2B49-EA6C-47BF-8DA6-22D4E7AE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01F6-E154-4D3D-B8DC-93A07797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DACC-D03F-4F17-A174-F82A8C79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22BE-8801-451A-9BE0-737B38D0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492-D751-4C49-B727-EEEDFD25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B595-E974-4EC2-AEA9-3D7A72AC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C1AF7-E1A2-4EA9-A6DC-6A781017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16A3A-9FF9-4728-B3C6-37DECE34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7ADC-F1C4-4469-BA0A-8C6ABCB4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99F7-4822-41DA-9112-C1C48121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4E71-C49D-4633-8C3B-B6FC99E0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8091-31AE-4068-BA2B-3815B602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D619A-FC8B-4C2E-A9D9-4350E3C0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8634-D916-45BF-BE25-D0E1520B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8A777-79E2-444B-B8F8-5310DE01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CD2-DEC7-415F-86E0-E641C231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84884-3687-43B3-B718-E4CBDAB9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56ED-1C40-47E4-AF3A-D7F20D35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0B54-D2A4-44B1-B871-41A3860B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E3C6B-A85E-42E5-91CA-AAFC635A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8976-FC71-4FD1-8E96-8665BC95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58789-5D7A-42D6-B4E2-7BBCA7CF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D45DB-6F7B-425F-A778-69C95BCA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3CA03-95E6-4828-86D2-1D3BB087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D95AD-AFB5-4B0B-B988-15900BE9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8E6-152B-45B4-A03C-A44D83FE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BA2-5A31-4675-BCF6-4045F52E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A69-61F8-4567-BF2F-7D022EC5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2CD-DBCB-4431-8440-7E4F91DC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431-47AF-40FC-8A3E-1AB08C7B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5B9B82B-C087-4B5A-ADF3-6C138719EF6D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64CC5D8-6466-4E9D-9E2A-A3927D300FBE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FE98B94-7E7A-4622-93B7-0764AF8E5AE0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dt" idx="10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ftr" idx="11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2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6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CB5D31-EF23-4FE0-9115-75D8A60A3D62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Lecture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 rot="19140000">
            <a:off x="134208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1600" spc="398" strike="noStrike" cap="all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6F16A9B7-105B-4F37-9406-474446B6047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lephone Order  Scenario  for  Create New Order  Use C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533520" y="365040"/>
            <a:ext cx="75211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ll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84400" y="1447920"/>
            <a:ext cx="18432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Fig"/>
          <p:cNvPicPr/>
          <p:nvPr/>
        </p:nvPicPr>
        <p:blipFill>
          <a:blip r:embed="rId1"/>
          <a:srcRect l="630" t="40440" r="4840" b="-342"/>
          <a:stretch/>
        </p:blipFill>
        <p:spPr>
          <a:xfrm>
            <a:off x="380880" y="1523880"/>
            <a:ext cx="7215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-Cases – Common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 dia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 many user interface detai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User types ID and password, clicks OK or hits Ent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y low goal detai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User provides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User provide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User provides telephon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1FEA16C3-EFFF-4997-BEF9-90DA27EFE9AD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Writing Use Cas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2960" y="144936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44520" indent="-34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use ca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 startAt="2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bbreviat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ll descrip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 case name, Scenario (if any), Business Event, Actors, Flow of steps, Exception condi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 startAt="3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iguring Flow of step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Keep in mind general system model: Input-Processing-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teps should be at nearly the same level of abstraction (each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akes nearly same progress toward use case comple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AutoNum type="arabicPeriod" startAt="4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iguring exception conditions, focus on if-then logi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960D861D-136F-45FE-BF13-ADBAAE5A2E4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Combin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Limi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iagram should have between 3 to 1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e-case. No more than 15 use cases (base + included + extend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io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use-cases should be in similar abstraction lev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should be described in half a page or mo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action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-cases which are carried out as part of the same inter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1FC2866-2DF1-4FAD-8BB0-093940E40980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Divid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use-cases takes more than a page, consider include/ext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k dependenc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ependency between two parts of a use-case is weak, they should be divi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3828FC1F-B560-4D77-90D5-7A4CF6459E67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Mo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tor out common usages that are required by multiple use ca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usage is required use &lt;&lt;include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base use case is complete and the usage may be optional, consider use &lt;&lt;extend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use case diagram should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in only use cases at the same level of abs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only actors who are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EB08DEF2-87DC-40D7-99BA-07A8CFF6C37C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1 Buy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Content Placeholder 4" descr="Screen shot 2014-02-15 at 6.35.42 PM.png"/>
          <p:cNvPicPr/>
          <p:nvPr/>
        </p:nvPicPr>
        <p:blipFill>
          <a:blip r:embed="rId1"/>
          <a:srcRect l="1625" t="-17634" r="-810" b="2119"/>
          <a:stretch/>
        </p:blipFill>
        <p:spPr>
          <a:xfrm>
            <a:off x="838080" y="228600"/>
            <a:ext cx="7459200" cy="550980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58126238-D266-4EE6-AD0D-CA0D7AD4A4F9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Nam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a Vehicle (to a Custom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stomer arrives to acquire the vehicle and depart for desired destination. The vehicle reservation contract is signed and the vehicle is released to the custom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o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Desk Clerk, Custom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63322B66-6CE8-4B02-BD62-94DF2EAEF413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Content Placeholder 4" descr="Screen shot 2014-02-15 at 6.53.50 PM.png"/>
          <p:cNvPicPr/>
          <p:nvPr/>
        </p:nvPicPr>
        <p:blipFill>
          <a:blip r:embed="rId1"/>
          <a:srcRect l="0" t="1148" r="0" b="637"/>
          <a:stretch/>
        </p:blipFill>
        <p:spPr>
          <a:xfrm>
            <a:off x="822960" y="921600"/>
            <a:ext cx="7520760" cy="4259520"/>
          </a:xfrm>
          <a:prstGeom prst="rect">
            <a:avLst/>
          </a:prstGeom>
          <a:ln w="0">
            <a:noFill/>
          </a:ln>
        </p:spPr>
      </p:pic>
      <p:sp>
        <p:nvSpPr>
          <p:cNvPr id="245" name="Slide Number Placeholder 3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1FC09C9D-D42A-4CD7-A9A4-C2461073B6F9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Fig"/>
          <p:cNvPicPr/>
          <p:nvPr/>
        </p:nvPicPr>
        <p:blipFill>
          <a:blip r:embed="rId1"/>
          <a:srcRect l="0" t="14797" r="0" b="14797"/>
          <a:stretch/>
        </p:blipFill>
        <p:spPr>
          <a:xfrm>
            <a:off x="822960" y="1097280"/>
            <a:ext cx="3200040" cy="37119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1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ses  grouped into system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 Same actor interacts with different modu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5341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 cap="all">
                <a:solidFill>
                  <a:srgbClr val="000000"/>
                </a:solidFill>
                <a:latin typeface="Arial"/>
              </a:rPr>
              <a:t>Use Case Diagram of the Customer Suppo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84AA3285-9200-4F9E-9203-862EFCE6EABD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90000"/>
              </a:lnSpc>
              <a:spcBef>
                <a:spcPts val="121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ments Use Case Dia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10"/>
              </a:spcBef>
              <a:buNone/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0000"/>
              </a:lnSpc>
              <a:spcBef>
                <a:spcPts val="121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breakdown of a single use case (e.g., sequence of steps included in the function “Look up item availability”); process logic includ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10"/>
              </a:spcBef>
              <a:buNone/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0000"/>
              </a:lnSpc>
              <a:spcBef>
                <a:spcPts val="121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ontrast to Use Case Diagram, Use Case Description captures variations of a Use Case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163440">
              <a:lnSpc>
                <a:spcPct val="90000"/>
              </a:lnSpc>
              <a:spcBef>
                <a:spcPts val="1210"/>
              </a:spcBef>
              <a:buClr>
                <a:srgbClr val="f96a1b"/>
              </a:buClr>
              <a:buFont typeface="Wingdings" charset="2"/>
              <a:buChar char="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“Create new order” can be done via phone+clerk and via Internet ordering – 2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9FD75739-17D1-423A-93CA-24E22B1B1642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Level of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levels of detail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* Brief descri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what system does in response to actor’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 Intermediat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steps in use case, if-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-17388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 Full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2480" indent="-164520">
              <a:lnSpc>
                <a:spcPct val="100000"/>
              </a:lnSpc>
              <a:spcBef>
                <a:spcPts val="1001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Brief description, expands intermediate description, show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1752480" y="6172200"/>
            <a:ext cx="2286000" cy="409320"/>
            <a:chOff x="1752480" y="6172200"/>
            <a:chExt cx="2286000" cy="409320"/>
          </a:xfrm>
        </p:grpSpPr>
        <p:sp>
          <p:nvSpPr>
            <p:cNvPr id="193" name="Text Box 4"/>
            <p:cNvSpPr/>
            <p:nvPr/>
          </p:nvSpPr>
          <p:spPr>
            <a:xfrm>
              <a:off x="2122560" y="6248520"/>
              <a:ext cx="16030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* UC=Use C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>
              <a:off x="1752480" y="6172200"/>
              <a:ext cx="2286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Slide Number Placeholder 2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AE62CE1E-837D-4406-B473-D092B33314DC}" type="slidenum">
              <a:rPr b="0" lang="en-GB" sz="16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65760"/>
            <a:ext cx="845784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Brief Description of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Fig"/>
          <p:cNvPicPr/>
          <p:nvPr/>
        </p:nvPicPr>
        <p:blipFill>
          <a:blip r:embed="rId1"/>
          <a:stretch/>
        </p:blipFill>
        <p:spPr>
          <a:xfrm>
            <a:off x="457200" y="1295280"/>
            <a:ext cx="8229240" cy="196920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1120" y="3809880"/>
            <a:ext cx="7113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description that is usually captured in ini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5244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Intermediate Use Case Descri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Fig"/>
          <p:cNvPicPr/>
          <p:nvPr/>
        </p:nvPicPr>
        <p:blipFill>
          <a:blip r:embed="rId1"/>
          <a:stretch/>
        </p:blipFill>
        <p:spPr>
          <a:xfrm>
            <a:off x="120960" y="1600200"/>
            <a:ext cx="8870400" cy="42166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57200" y="990720"/>
            <a:ext cx="7391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e Order Scenario for  Create New Order Use Ca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ll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ws steps (“Flow of Events”) broken down to the actor and the system side – useful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3E8F7541-7EAA-4BBB-BED1-70A7E26EC98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68576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lephone Order  Scenario  for  Create New Order  Use C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365040"/>
            <a:ext cx="75211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ll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Fig"/>
          <p:cNvPicPr/>
          <p:nvPr/>
        </p:nvPicPr>
        <p:blipFill>
          <a:blip r:embed="rId1"/>
          <a:srcRect l="-215" t="-146" r="8090" b="33387"/>
          <a:stretch/>
        </p:blipFill>
        <p:spPr>
          <a:xfrm>
            <a:off x="578880" y="1447920"/>
            <a:ext cx="6928920" cy="5717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284400" y="1447920"/>
            <a:ext cx="18432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8400960" y="6170760"/>
            <a:ext cx="502560" cy="502560"/>
          </a:xfrm>
          <a:prstGeom prst="ellipse">
            <a:avLst/>
          </a:prstGeom>
          <a:noFill/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</a:pPr>
            <a:fld id="{9F107355-F3D1-42CF-92EC-5B27F7A65A4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lephone Order  Scenario  for  Create New Order  Use C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33520" y="365040"/>
            <a:ext cx="75211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Arial"/>
              </a:rPr>
              <a:t>Full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Fig"/>
          <p:cNvPicPr/>
          <p:nvPr/>
        </p:nvPicPr>
        <p:blipFill>
          <a:blip r:embed="rId1"/>
          <a:srcRect l="4086" t="2111" r="5984" b="81971"/>
          <a:stretch/>
        </p:blipFill>
        <p:spPr>
          <a:xfrm>
            <a:off x="787680" y="1880640"/>
            <a:ext cx="7057440" cy="15429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84400" y="1447920"/>
            <a:ext cx="18432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ngles">
  <a:themeElements>
    <a:clrScheme name="Angle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.thmx</Template>
  <TotalTime>405</TotalTime>
  <Application>LibreOffice/7.4.7.2$Linux_X86_64 LibreOffice_project/40$Build-2</Application>
  <AppVersion>15.0000</AppVersion>
  <Words>604</Words>
  <Paragraphs>1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8:03:59Z</dcterms:created>
  <dc:creator>ALjaffan</dc:creator>
  <dc:description/>
  <dc:language>en-US</dc:language>
  <cp:lastModifiedBy>Aseel</cp:lastModifiedBy>
  <dcterms:modified xsi:type="dcterms:W3CDTF">2014-02-15T15:54:35Z</dcterms:modified>
  <cp:revision>34</cp:revision>
  <dc:subject/>
  <dc:title>Lecture 3 :Use cases II (UC description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18</vt:r8>
  </property>
</Properties>
</file>