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3178EC-91B6-4A34-9637-2278B59A8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75515B-826C-4A50-8D40-1CA22756DEE7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DB232A-338E-4D25-89E1-5ECA7216C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86FF4B-3632-4C04-8B89-1415F30A2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A16D8A-B7AF-4A8C-B0BF-40C0CF177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5A15A8-2F61-42C4-B112-23FBC111B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50BBB5-B4FC-4EC9-9CB3-70B4B87ACFF4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BDC800-C97F-4472-9C70-4D33CEC4A94A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D394A3-FD7F-4A8B-B9EE-556CAB4CA0B1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C26-AB0E-4E89-B1EE-364C6571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ED5-483A-4465-962E-84AC836E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ABD-1595-47A3-8957-347AC09E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9E4-7CDA-4AB3-8A66-B2FD04DA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44CC-FE87-4E5C-AF0D-3E83F6F5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74FC-9CEE-435B-A818-576C69A7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91FF-1CAB-4782-8543-878196F3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B524-E1D0-4A53-9630-956E4AE4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8AFF-AFE9-4D56-9503-070967F9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7ECD-FC34-45D8-811F-AD4F0C16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BDEB-0D58-49C4-B679-F60F43FF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C69-A0A7-42F8-A72B-8BEBC406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AE89-D2B0-4F8C-8A24-B4A150FC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8AF1-C04C-411B-AC3A-F84B72D0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FED4-87D1-436B-9DF9-4EA3FED0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0EB3-85EB-477E-8A20-EFA66E1A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35E4-9F0C-4B2A-AF35-534F55DF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DE15-93B5-4A5B-BC62-D85E29AD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012E-85C8-48F3-B203-F9ADBBE2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B724-6BF5-4179-B1BD-A30FDA84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7FCC7-AF66-45E0-93D4-0ADA0CF2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F2F9-E622-4D98-82DE-3B0A3335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28B-C9A1-4A87-B8AC-1E7DE35B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05B65-B0DA-46F5-B5BC-423498BA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F8E0-A5A5-4104-8796-A283867D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0F2F-447C-4FBF-B439-FE5F7049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DFC6-B03E-4E42-BE32-9F04CC36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456E9-DB0F-417A-85B8-51211A1C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C62BF-D889-4067-BD1B-E4DAAA21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5D5B-5480-414C-B167-0DDE421C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2DA5E-E373-4988-AED9-50CD73F4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906BA-3436-4941-A4D3-ADAD4E0E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FEB5B-EABB-4E02-970A-1C783085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7EF-5DE3-4AFA-A2AE-447DD8A9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4D763-6788-4C36-B93D-17CA1C8D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908FB-FF79-4848-A408-A8DF6087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0F038-6049-4F9E-AEF1-6049689A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EC773-0A12-45A6-93FD-3F7BCF78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62D2-7A64-4053-A72A-C36CE0B8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0FA06-F05F-4AA4-991F-43202B39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EA2BC-ADBE-4CBD-8B08-55443F41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B807A-34A3-4AA7-B3B2-EFFAF46A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86712-ECA4-41A7-8E40-982D78C7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E1D-A5C5-490F-AC5A-1ED7EA45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875-0996-43C2-BC5C-FB5D92BE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9CF-72B3-42BC-8BC5-BC1B9F79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2F8-CC40-43E3-88B2-55D36BCD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89A-83AF-4FAC-98E4-F26291B3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46F94A8-6C71-4C64-9780-89652AC1A8B7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54FC170-2BE1-434F-8D22-FC3D543AAB6F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4E254BD-E357-47BC-984D-44B852F19986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dt" idx="10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ftr" idx="11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12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B2FBA40-7B4C-4D25-8757-2D629CB83561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Lecture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 rot="19140000">
            <a:off x="134208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398" strike="noStrike" cap="all">
                <a:solidFill>
                  <a:srgbClr val="000000"/>
                </a:solidFill>
                <a:latin typeface="Arial"/>
              </a:rPr>
              <a:t>Use case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C158F037-3F81-49E8-9FC7-5A228062983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lephone Order  Scenario  for  Create New Order  Use C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533520" y="365040"/>
            <a:ext cx="752112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ull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84400" y="1447920"/>
            <a:ext cx="184320" cy="369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Fig"/>
          <p:cNvPicPr/>
          <p:nvPr/>
        </p:nvPicPr>
        <p:blipFill>
          <a:blip r:embed="rId1"/>
          <a:srcRect l="630" t="40440" r="4840" b="-342"/>
          <a:stretch/>
        </p:blipFill>
        <p:spPr>
          <a:xfrm>
            <a:off x="380880" y="1523880"/>
            <a:ext cx="7215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se-Cases – Common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x dia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a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 many user interface detai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User types ID and password, clicks OK or hits Ent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y low goal detai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User provides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User provides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User provides telephon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685D73BF-E052-4DC7-BEA0-CFDCE14B81D1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Writing Use Case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2960" y="144936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44520" indent="-344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use ca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 startAt="2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bbreviat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ll descrip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 case name, Scenario (if any), Business Event, Actors, Flow of steps, Exception condi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 startAt="3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iguring Flow of step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6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Keep in mind general system model: Input-Processing-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6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teps should be at nearly the same level of abstraction (each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akes nearly same progress toward use case comple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 startAt="4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iguring exception conditions, focus on if-then logi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CF2DE00B-324F-4148-A2AE-7CEFE8CFB99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ombin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Limi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iagram should have between 3 to 1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se-case. No more than 15 use cases (base + included + extend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tractio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use-cases should be in similar abstraction lev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should be described in half a page or mo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action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-cases which are carried out as part of the same inter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AB8E6269-9571-4C3A-A88F-76A54FC59CB7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Divid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use-cases takes more than a page, consider include/ext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 dependenc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ependency between two parts of a use-case is weak, they should be divi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FF9D2345-8FB6-4E14-B0C3-B79EC2C597B4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Mo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tor out common usages that are required by multiple use ca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usage is required use &lt;&lt;include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base use case is complete and the usage may be optional, consider use &lt;&lt;extend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use case diagram should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in only use cases at the same level of abs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only actors who are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0811B1B6-0186-4F3D-A95D-FBDA7C2F4CBE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1 Buy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Content Placeholder 4" descr="Screen shot 2014-02-15 at 6.35.42 PM.png"/>
          <p:cNvPicPr/>
          <p:nvPr/>
        </p:nvPicPr>
        <p:blipFill>
          <a:blip r:embed="rId1"/>
          <a:srcRect l="1625" t="-17634" r="-810" b="2119"/>
          <a:stretch/>
        </p:blipFill>
        <p:spPr>
          <a:xfrm>
            <a:off x="838080" y="228600"/>
            <a:ext cx="7459200" cy="5509800"/>
          </a:xfrm>
          <a:prstGeom prst="rect">
            <a:avLst/>
          </a:prstGeom>
          <a:ln w="0">
            <a:noFill/>
          </a:ln>
        </p:spPr>
      </p:pic>
      <p:sp>
        <p:nvSpPr>
          <p:cNvPr id="239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D804896B-39C2-4382-9D68-6CDFA32C35E9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Nam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a Vehicle (to a Custom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ustomer arrives to acquire the vehicle and depart for desired destination. The vehicle reservation contract is signed and the vehicle is released to the custom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o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Desk Clerk, Custom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EC8BD8B1-37A2-41A2-9BDB-22854287349E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Content Placeholder 4" descr="Screen shot 2014-02-15 at 6.53.50 PM.png"/>
          <p:cNvPicPr/>
          <p:nvPr/>
        </p:nvPicPr>
        <p:blipFill>
          <a:blip r:embed="rId1"/>
          <a:srcRect l="0" t="1148" r="0" b="637"/>
          <a:stretch/>
        </p:blipFill>
        <p:spPr>
          <a:xfrm>
            <a:off x="822960" y="921600"/>
            <a:ext cx="7520760" cy="4259520"/>
          </a:xfrm>
          <a:prstGeom prst="rect">
            <a:avLst/>
          </a:prstGeom>
          <a:ln w="0">
            <a:noFill/>
          </a:ln>
        </p:spPr>
      </p:pic>
      <p:sp>
        <p:nvSpPr>
          <p:cNvPr id="245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528E6B61-F486-42A5-A7DC-B0BBDFED71A9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Fig"/>
          <p:cNvPicPr/>
          <p:nvPr/>
        </p:nvPicPr>
        <p:blipFill>
          <a:blip r:embed="rId1"/>
          <a:srcRect l="0" t="14797" r="0" b="14797"/>
          <a:stretch/>
        </p:blipFill>
        <p:spPr>
          <a:xfrm>
            <a:off x="822960" y="1097280"/>
            <a:ext cx="3200040" cy="37119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1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ases  grouped into system 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 Same actor interacts with different modul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5341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" strike="noStrike" cap="all">
                <a:solidFill>
                  <a:srgbClr val="000000"/>
                </a:solidFill>
                <a:latin typeface="Arial"/>
              </a:rPr>
              <a:t>Use Case Diagram of the Customer Suppo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D0569745-61C5-44B7-A6EE-0D6C2DD99C53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se Cas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90000"/>
              </a:lnSpc>
              <a:spcBef>
                <a:spcPts val="121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ments Use Case Dia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10"/>
              </a:spcBef>
              <a:buNone/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90000"/>
              </a:lnSpc>
              <a:spcBef>
                <a:spcPts val="121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breakdown of a single use case (e.g., sequence of steps included in the function “Look up item availability”); process logic includ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10"/>
              </a:spcBef>
              <a:buNone/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90000"/>
              </a:lnSpc>
              <a:spcBef>
                <a:spcPts val="121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contrast to Use Case Diagram, Use Case Description captures variations of a Use Case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63440">
              <a:lnSpc>
                <a:spcPct val="90000"/>
              </a:lnSpc>
              <a:spcBef>
                <a:spcPts val="121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“Create new order” can be done via phone+clerk and via Internet ordering – 2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A01B16C7-1447-4829-AEF2-DE31573F745C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Level of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levels of detail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00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* Brief descri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100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f what system does in response to actor’s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00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 Intermediat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100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steps in use case, if-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00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 Full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100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Brief description, expands intermediate description, show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1752480" y="6172200"/>
            <a:ext cx="2286000" cy="409320"/>
            <a:chOff x="1752480" y="6172200"/>
            <a:chExt cx="2286000" cy="409320"/>
          </a:xfrm>
        </p:grpSpPr>
        <p:sp>
          <p:nvSpPr>
            <p:cNvPr id="193" name="Text Box 4"/>
            <p:cNvSpPr/>
            <p:nvPr/>
          </p:nvSpPr>
          <p:spPr>
            <a:xfrm>
              <a:off x="2122560" y="6248520"/>
              <a:ext cx="16030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* UC=Use C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5"/>
            <p:cNvSpPr/>
            <p:nvPr/>
          </p:nvSpPr>
          <p:spPr>
            <a:xfrm>
              <a:off x="1752480" y="6172200"/>
              <a:ext cx="228600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2C3B2B3B-D76B-4991-81A5-0A2D61BF3802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65760"/>
            <a:ext cx="845784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Brief Description of Us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Fig"/>
          <p:cNvPicPr/>
          <p:nvPr/>
        </p:nvPicPr>
        <p:blipFill>
          <a:blip r:embed="rId1"/>
          <a:stretch/>
        </p:blipFill>
        <p:spPr>
          <a:xfrm>
            <a:off x="457200" y="1295280"/>
            <a:ext cx="8229240" cy="196920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81120" y="3809880"/>
            <a:ext cx="7113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description that is usually captured in ini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524440" cy="106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Intermediate Use Case Descri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Fig"/>
          <p:cNvPicPr/>
          <p:nvPr/>
        </p:nvPicPr>
        <p:blipFill>
          <a:blip r:embed="rId1"/>
          <a:stretch/>
        </p:blipFill>
        <p:spPr>
          <a:xfrm>
            <a:off x="120960" y="1600200"/>
            <a:ext cx="8870400" cy="421668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57200" y="990720"/>
            <a:ext cx="7391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ne Order Scenario for  Create New Order Use Ca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ull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ws steps (“Flow of Events”) broken down to the actor and the system side – useful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9B90F880-86FB-4BEB-9DF5-E49E4E61313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685764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lephone Order  Scenario  for  Create New Order  Use C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365040"/>
            <a:ext cx="752112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ull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Fig"/>
          <p:cNvPicPr/>
          <p:nvPr/>
        </p:nvPicPr>
        <p:blipFill>
          <a:blip r:embed="rId1"/>
          <a:srcRect l="-215" t="-146" r="8090" b="33387"/>
          <a:stretch/>
        </p:blipFill>
        <p:spPr>
          <a:xfrm>
            <a:off x="578880" y="1447920"/>
            <a:ext cx="6928920" cy="57178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284400" y="1447920"/>
            <a:ext cx="184320" cy="369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F1325E1F-A29E-416D-BEC6-4F62CB29585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lephone Order  Scenario  for  Create New Order  Use C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533520" y="365040"/>
            <a:ext cx="752112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ull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Fig"/>
          <p:cNvPicPr/>
          <p:nvPr/>
        </p:nvPicPr>
        <p:blipFill>
          <a:blip r:embed="rId1"/>
          <a:srcRect l="4086" t="2111" r="5984" b="81971"/>
          <a:stretch/>
        </p:blipFill>
        <p:spPr>
          <a:xfrm>
            <a:off x="787680" y="1880640"/>
            <a:ext cx="7057440" cy="15429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84400" y="1447920"/>
            <a:ext cx="184320" cy="369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405</TotalTime>
  <Application>LibreOffice/7.4.7.2$Linux_X86_64 LibreOffice_project/40$Build-2</Application>
  <AppVersion>15.0000</AppVersion>
  <Words>604</Words>
  <Paragraphs>11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8:03:59Z</dcterms:created>
  <dc:creator>ALjaffan</dc:creator>
  <dc:description/>
  <dc:language>en-US</dc:language>
  <cp:lastModifiedBy>Aseel</cp:lastModifiedBy>
  <dcterms:modified xsi:type="dcterms:W3CDTF">2014-02-15T15:54:35Z</dcterms:modified>
  <cp:revision>34</cp:revision>
  <dc:subject/>
  <dc:title>Lecture 3 :Use cases II (UC description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On-screen Show (4:3)</vt:lpwstr>
  </property>
  <property fmtid="{D5CDD505-2E9C-101B-9397-08002B2CF9AE}" pid="4" name="Slides">
    <vt:r8>18</vt:r8>
  </property>
</Properties>
</file>