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CB7-5B66-4BB1-8AFE-3C64CE881C1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95DF-3E42-4193-BA8E-3C36B87A8E0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0115-C465-44D7-8901-EAC84B1D49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CBA-CBA6-48A4-9239-82491F61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2F9-881B-4906-8033-0DD470D0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25E-B9CA-4265-A7D7-70405F37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937-EDF7-4A97-9714-076B9022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F127-A552-47E7-9279-4BC923A5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476F-088B-4676-9151-17990A42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4248-75D2-4E2A-A53F-A79804E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8531-32AD-40D5-88BB-D3E87AC1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C1B1-D865-400C-BD0C-D3BC27F1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72FD-EED0-4686-BE75-7AA327A1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54E0-1045-4BD2-A9B6-D3AE7C8C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364-4F4B-46E1-AD95-EF27FF3C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92BF-8327-4E49-945E-93215F7F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25E3-9F6D-4770-8EF3-322A20F6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63C9-4F17-498A-8E4B-A322EC0D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D171-F8D8-4F97-A4D0-EECD5FFC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2CA1-CCB8-4546-9597-1A1834B7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F2F5-DD6D-4DFB-8E7A-5773592F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DCB2-E6AD-445E-A25C-CCB6DE89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0BAE8-6DF9-43D6-B9EE-64B5FF06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A2A2-647D-41B4-B017-DAC22F77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6D01-FE9B-4EB4-B1AA-A78CAD47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CB5-DE06-4890-9591-458F3945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D262-09AB-432D-A512-B1C5DA0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10E2-2F95-42D1-B993-EEC67CB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E6FD-0C09-42B4-B4F3-57CD8EA0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BB8C-2E19-40F4-9223-11D8DD1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0E8D4-8B1E-439F-AD40-E766D571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0F6D-D9F8-40D5-B150-D8FDD47A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1EB5-C6CF-4CE4-B46C-E84FEB5D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1FFA-AD8C-4F26-958B-C30ADAD0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F5B0-B64A-4EBA-9F2F-18E54995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A422-3436-4DA6-B7C4-94F15AC9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8D3-9A76-489F-ADEB-5C40F996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55C9F-3BBB-4FAA-9167-B66EBD64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FAB6-29B7-4753-BD12-6F8C1CC6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F91F-221E-4E6B-AFEC-7F23166D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0FBD-E94D-4847-B76D-6A6B2F6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2421-A75F-4B5F-9830-37EBEC38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5832C-B4C0-4086-8AA3-2E5DE7C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5785-F000-44F2-9293-34745B3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48993-4D01-475B-8E25-050D4C4E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9BF3B-36EB-4898-A2E8-72FE0595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CD75-9F07-4955-A4CB-532C987D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DEC-019D-4431-8AB4-CA1F3F33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78969-A161-4BE7-83DB-89C14404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731C8-E5E1-48E0-BE5A-C358A64F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4BF94-F95B-4EC5-9DD8-FFEFE843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9A4DF-7A8A-4254-9BDD-44E5BE33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83524-153B-4B11-991A-96830CF9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A663C-803D-454A-9B5D-A85DCA0E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1F819-E758-497E-A9FA-CC8D3FF3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7CA3-0D04-4FB0-806B-88D3B43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368B2-F0F0-415F-B984-0CE66FF8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C8A1-14D5-4441-AC49-3339C63D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414-AC24-40B5-B2C9-5D169A5F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15B02-F427-4710-BCCA-8168D4BD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733-E102-45BE-A291-1E0B37E6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35C-97EF-43A1-B0C6-2335083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E0A-CF6D-4F6D-B323-8235930A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ACE4-FD07-4106-A2B7-17BD2BE02E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3C79-D4F4-4770-AA61-79606F1F0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99bdd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88B3-73D7-483C-99FB-C05B10BCB228}" type="slidenum">
              <a:rPr b="0" lang="en-US" sz="1200" spc="-1" strike="noStrike">
                <a:solidFill>
                  <a:srgbClr val="099bdd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B139-7649-4145-A8FA-6217C5B90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AA55-216B-48BD-8619-72DE191CE9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4680" y="2166480"/>
            <a:ext cx="860256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9bdd"/>
                </a:solidFill>
                <a:latin typeface="Corbel"/>
              </a:rPr>
              <a:t>SOFTWARE TESTING</a:t>
            </a:r>
            <a:endParaRPr b="0" lang="en-US" sz="6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VALIDATION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4444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Determine if the software meets all of the requirements defined in the S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Having written requirements is essentia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Regression testing involves selectively repeating existing validation tests, not developing new tes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ACCEPTANCE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440" y="11426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Similar to validation testing except that customers are present or directly involv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Usually the tests are developed by the custom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TEST TECHNIQUE</a:t>
            </a: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White box or glass box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Black box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9bdd"/>
                </a:solidFill>
                <a:latin typeface="Times New Roman"/>
              </a:rPr>
              <a:t>TWO UNIT TESTING TECHNIQU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0440" y="20793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Black-box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Knowing the specified function that a product has been designed to perform, test to see if that function is fully operational and error fre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Not concerned with internal logical structure of the softwar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White-box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Knowing the internal workings of a product, test that all internal operations are performed according to specifications and all internal components have been exercis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Logical paths through the software are test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Test cases exercise specific sets of conditions and loop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3E77-2EEF-46B4-BC53-B960C6CD9B1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4680" y="2166480"/>
            <a:ext cx="860256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9bdd"/>
                </a:solidFill>
                <a:latin typeface="Times New Roman"/>
              </a:rPr>
              <a:t>WHITE-BOX TESTING</a:t>
            </a:r>
            <a:endParaRPr b="0" lang="en-US" sz="6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ITE 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2286000"/>
            <a:ext cx="86868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Test cases are derived from the internal design specification or actual code for the program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Advantag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13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  <a:ea typeface="Tahoma"/>
              </a:rPr>
              <a:t>Tests the internal details of the code;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13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  <a:ea typeface="Tahoma"/>
              </a:rPr>
              <a:t>Checks all paths that a program can execute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Limitation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13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  <a:ea typeface="Tahoma"/>
              </a:rPr>
              <a:t>Wait until after designing and coding the program under test in order to select test cases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ITE 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48" name="Content Placeholder 3" descr="Screen shot 2013-11-24 at 8.02.23 PM.png"/>
          <p:cNvPicPr/>
          <p:nvPr/>
        </p:nvPicPr>
        <p:blipFill>
          <a:blip r:embed="rId1"/>
          <a:stretch/>
        </p:blipFill>
        <p:spPr>
          <a:xfrm>
            <a:off x="1351080" y="2011320"/>
            <a:ext cx="64418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ITE 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ite-box test design techniques include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trol flow 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ata flow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ranch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ath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WHITE-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2417760"/>
            <a:ext cx="853416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These test ca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Guarantee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ll independent path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within a module have been exercised at least on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xercise all logical decisions on their true and false sid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xecute all loops at their boundaries and within their operational boun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xercise internal data structures to ensure their valid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309A-F345-4E33-BEE2-D01ED95D07E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BASIS PATH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39200" y="2308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White-box testing technique proposed by Tom McCabe enables the test case designer to derive a logical complexity measure of a procedural desig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Uses this measure as a guide for defining a basis set of execution path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Test cases derived to exercise the basis set are guaranteed to execut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every statem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in the program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t least one ti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during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7024-71C2-4E68-97A2-C01B278DC8E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TRODUCTION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oftware Testing is the process of executing a program or system with the intent of finding error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t involves any activity aimed at evaluating an attribute or capability of a program or system and determining that it meets its required resul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FLOW GRAPH NOTATION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120" y="21603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A circle in a graph represent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nod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, which stands for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sequen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of one or more procedural statemen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A node containing a simple conditional expression is referred to a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predicate no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Each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compound condi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in a conditional expression containing one or more Boolean operators (e.g., and, or) is represented by a separate predicate no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A predicate node ha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tw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edges leading out from it (True and False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ed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, or a link, is a an arrow representing flow of control in a specific direc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An edge must start and terminate at a no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An edge does not intersect or cross over another ed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AD30-50D0-4E30-B14F-8452A40B867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FLOW GRAPH EXAMPL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EE56-577C-4A7E-9BAA-34862CC4E08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1905120" y="1905120"/>
            <a:ext cx="838080" cy="36504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905120" y="2666880"/>
            <a:ext cx="8380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2133720" y="1219320"/>
            <a:ext cx="457200" cy="365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1905120" y="3216240"/>
            <a:ext cx="838080" cy="36504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048120" y="4038480"/>
            <a:ext cx="8380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3048120" y="4800600"/>
            <a:ext cx="8380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1066680" y="4038480"/>
            <a:ext cx="838440" cy="36540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533520" y="4800600"/>
            <a:ext cx="8380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1752480" y="4800600"/>
            <a:ext cx="8384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1066680" y="5486400"/>
            <a:ext cx="8384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2362320" y="6248520"/>
            <a:ext cx="83808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76320" y="6095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2362320" y="1600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236232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 flipH="1">
            <a:off x="1447920" y="3505320"/>
            <a:ext cx="7617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>
            <a:off x="2514600" y="35053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3429000" y="4343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1"/>
          <p:cNvSpPr/>
          <p:nvPr/>
        </p:nvSpPr>
        <p:spPr>
          <a:xfrm flipH="1">
            <a:off x="914400" y="4343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22"/>
          <p:cNvSpPr/>
          <p:nvPr/>
        </p:nvSpPr>
        <p:spPr>
          <a:xfrm>
            <a:off x="1676520" y="43434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914400" y="5105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 flipH="1">
            <a:off x="1676520" y="5105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1676520" y="579132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 flipH="1">
            <a:off x="2971800" y="5105520"/>
            <a:ext cx="4572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7"/>
          <p:cNvSpPr/>
          <p:nvPr/>
        </p:nvSpPr>
        <p:spPr>
          <a:xfrm flipH="1">
            <a:off x="304560" y="2057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8"/>
          <p:cNvSpPr/>
          <p:nvPr/>
        </p:nvSpPr>
        <p:spPr>
          <a:xfrm>
            <a:off x="30492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9"/>
          <p:cNvSpPr/>
          <p:nvPr/>
        </p:nvSpPr>
        <p:spPr>
          <a:xfrm>
            <a:off x="3200400" y="64008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0"/>
          <p:cNvSpPr/>
          <p:nvPr/>
        </p:nvSpPr>
        <p:spPr>
          <a:xfrm flipV="1">
            <a:off x="4267080" y="175248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1"/>
          <p:cNvSpPr/>
          <p:nvPr/>
        </p:nvSpPr>
        <p:spPr>
          <a:xfrm flipH="1">
            <a:off x="236196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32"/>
          <p:cNvSpPr/>
          <p:nvPr/>
        </p:nvSpPr>
        <p:spPr>
          <a:xfrm>
            <a:off x="6858000" y="1905120"/>
            <a:ext cx="457200" cy="365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33"/>
          <p:cNvSpPr/>
          <p:nvPr/>
        </p:nvSpPr>
        <p:spPr>
          <a:xfrm>
            <a:off x="6858000" y="2666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6858000" y="3429000"/>
            <a:ext cx="457200" cy="365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8153280" y="4114800"/>
            <a:ext cx="457200" cy="365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5791320" y="4038480"/>
            <a:ext cx="457200" cy="365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5181480" y="4952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6477120" y="4952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39"/>
          <p:cNvSpPr/>
          <p:nvPr/>
        </p:nvSpPr>
        <p:spPr>
          <a:xfrm>
            <a:off x="8153280" y="4952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>
            <a:off x="5943600" y="5715000"/>
            <a:ext cx="457200" cy="365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41"/>
          <p:cNvSpPr/>
          <p:nvPr/>
        </p:nvSpPr>
        <p:spPr>
          <a:xfrm>
            <a:off x="6934320" y="63244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42"/>
          <p:cNvSpPr/>
          <p:nvPr/>
        </p:nvSpPr>
        <p:spPr>
          <a:xfrm>
            <a:off x="4876920" y="63244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43"/>
          <p:cNvSpPr/>
          <p:nvPr/>
        </p:nvSpPr>
        <p:spPr>
          <a:xfrm>
            <a:off x="708660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44"/>
          <p:cNvSpPr/>
          <p:nvPr/>
        </p:nvSpPr>
        <p:spPr>
          <a:xfrm>
            <a:off x="708660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45"/>
          <p:cNvSpPr/>
          <p:nvPr/>
        </p:nvSpPr>
        <p:spPr>
          <a:xfrm flipH="1">
            <a:off x="6248160" y="37339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46"/>
          <p:cNvSpPr/>
          <p:nvPr/>
        </p:nvSpPr>
        <p:spPr>
          <a:xfrm>
            <a:off x="7315200" y="373392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47"/>
          <p:cNvSpPr/>
          <p:nvPr/>
        </p:nvSpPr>
        <p:spPr>
          <a:xfrm flipH="1">
            <a:off x="5486400" y="434340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48"/>
          <p:cNvSpPr/>
          <p:nvPr/>
        </p:nvSpPr>
        <p:spPr>
          <a:xfrm>
            <a:off x="6172200" y="43434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5486400" y="533412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50"/>
          <p:cNvSpPr/>
          <p:nvPr/>
        </p:nvSpPr>
        <p:spPr>
          <a:xfrm flipH="1">
            <a:off x="6324120" y="53341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51"/>
          <p:cNvSpPr/>
          <p:nvPr/>
        </p:nvSpPr>
        <p:spPr>
          <a:xfrm>
            <a:off x="6400800" y="601992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 flipH="1">
            <a:off x="7315200" y="5334120"/>
            <a:ext cx="9907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3"/>
          <p:cNvSpPr/>
          <p:nvPr/>
        </p:nvSpPr>
        <p:spPr>
          <a:xfrm>
            <a:off x="838188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54"/>
          <p:cNvSpPr/>
          <p:nvPr/>
        </p:nvSpPr>
        <p:spPr>
          <a:xfrm flipH="1">
            <a:off x="5029200" y="2057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55"/>
          <p:cNvSpPr/>
          <p:nvPr/>
        </p:nvSpPr>
        <p:spPr>
          <a:xfrm>
            <a:off x="5029200" y="2057400"/>
            <a:ext cx="0" cy="419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6"/>
          <p:cNvSpPr/>
          <p:nvPr/>
        </p:nvSpPr>
        <p:spPr>
          <a:xfrm flipV="1">
            <a:off x="7391520" y="5638320"/>
            <a:ext cx="1523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57"/>
          <p:cNvSpPr/>
          <p:nvPr/>
        </p:nvSpPr>
        <p:spPr>
          <a:xfrm flipV="1">
            <a:off x="8915400" y="29718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58"/>
          <p:cNvSpPr/>
          <p:nvPr/>
        </p:nvSpPr>
        <p:spPr>
          <a:xfrm flipH="1" flipV="1">
            <a:off x="7314840" y="213372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63"/>
          <p:cNvSpPr/>
          <p:nvPr/>
        </p:nvSpPr>
        <p:spPr>
          <a:xfrm>
            <a:off x="1097280" y="7113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FLOW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4"/>
          <p:cNvSpPr/>
          <p:nvPr/>
        </p:nvSpPr>
        <p:spPr>
          <a:xfrm>
            <a:off x="5632920" y="7113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FLOW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65"/>
          <p:cNvSpPr/>
          <p:nvPr/>
        </p:nvSpPr>
        <p:spPr>
          <a:xfrm>
            <a:off x="6858000" y="1219320"/>
            <a:ext cx="457200" cy="365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66"/>
          <p:cNvSpPr/>
          <p:nvPr/>
        </p:nvSpPr>
        <p:spPr>
          <a:xfrm>
            <a:off x="7086600" y="1600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INDEPENDENT PROGRAM PATH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39200" y="194796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Defined as a path through the program from the start node until the end node that introduces at least one new set of processing statements or a new condition (i.e., new node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Must move along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t least o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edge that has not been traversed before by a previous pat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Basis set for flow graph on previous sli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Path 1: 0-1-1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Path 2: 0-1-2-3-4-5-10-1-1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Path 3: 0-1-2-3-6-8-9-10-1-1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Path 4: 0-1-2-3-6-7-9-10-1-1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number of path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in the basis set is determined by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cyclomatic complex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17D2-126C-4FFB-8225-3A0EF89330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CYCLOMATIC COMPLEXIT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560" y="2003040"/>
            <a:ext cx="8762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Provides a quantitative measure of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logical complex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of a progra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Define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number of independent path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in the basis s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Provides 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upper bou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for the number of tests that must be conducted to ensu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ll stat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have been execute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t least on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Can be compute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tw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way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V(G) = E – N + 2, where E is the number of edges and N is the number of nodes in graph 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V(G) = P + 1, where P is the number of predicate nodes in the flow graph 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Results in the following equations for the example flow grap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V(G) = 14 edges – 12 nodes + 2 = 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V(G) = 3 predicate nodes + 1 = 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1CD4-D152-48D8-B46F-B218BFE5B77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DERIVING THE BASIS SET AND TEST CAS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90400" y="2144520"/>
            <a:ext cx="788688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Using the design or code as a foundation, draw a corresponding flow grap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Determine the cyclomatic complexity of the resultant flow grap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Determine a basis set of linearly independent path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Prepare test cases that will force execution of each path in the basis s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9D00-B601-4D06-B8F2-086C9F03E1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YCLOMATIC COMPLEXIT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vented by Thomas McCabe (1974) to measure the complexity of a program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MS Gothic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MS Gothic"/>
              </a:rPr>
              <a:t>s conditional logic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800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Cyclomatic complexity of graph G equals #edges - #nodes + 2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V(G) = e – n + 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800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Also corresponds to the number of linearly independent paths in a progra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B831-DF6F-42A4-BD8A-B9AB08E1FC1B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ONVERTING CODE TO GRAPH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B7D6-3E70-4B04-ACDE-29A80D41993A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314440" y="2494080"/>
            <a:ext cx="1466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expression1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314440" y="3736800"/>
            <a:ext cx="13903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switch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expr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1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2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m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3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m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end swit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m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676520" y="2828880"/>
            <a:ext cx="24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675800" y="4300560"/>
            <a:ext cx="25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314440" y="5605560"/>
            <a:ext cx="1085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expr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end 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1676520" y="5864400"/>
            <a:ext cx="24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9"/>
          <p:cNvSpPr/>
          <p:nvPr/>
        </p:nvSpPr>
        <p:spPr>
          <a:xfrm>
            <a:off x="1674720" y="5210280"/>
            <a:ext cx="55119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0"/>
          <p:cNvSpPr/>
          <p:nvPr/>
        </p:nvSpPr>
        <p:spPr>
          <a:xfrm>
            <a:off x="1674720" y="3657600"/>
            <a:ext cx="55119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1"/>
          <p:cNvSpPr/>
          <p:nvPr/>
        </p:nvSpPr>
        <p:spPr>
          <a:xfrm>
            <a:off x="1674720" y="2260440"/>
            <a:ext cx="55119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1674720" y="6781680"/>
            <a:ext cx="55119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2553120" y="2030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196160" y="2030400"/>
            <a:ext cx="114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WCHA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6375960" y="2030400"/>
            <a:ext cx="6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56080" y="285264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7"/>
          <p:cNvSpPr/>
          <p:nvPr/>
        </p:nvSpPr>
        <p:spPr>
          <a:xfrm>
            <a:off x="3556080" y="432432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8"/>
          <p:cNvSpPr/>
          <p:nvPr/>
        </p:nvSpPr>
        <p:spPr>
          <a:xfrm>
            <a:off x="5788080" y="432432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9"/>
          <p:cNvSpPr/>
          <p:nvPr/>
        </p:nvSpPr>
        <p:spPr>
          <a:xfrm>
            <a:off x="5786280" y="2851200"/>
            <a:ext cx="19224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0"/>
          <p:cNvSpPr/>
          <p:nvPr/>
        </p:nvSpPr>
        <p:spPr>
          <a:xfrm>
            <a:off x="3557520" y="5886360"/>
            <a:ext cx="19224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21"/>
          <p:cNvSpPr/>
          <p:nvPr/>
        </p:nvSpPr>
        <p:spPr>
          <a:xfrm>
            <a:off x="5788080" y="588816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5" name="AutoShape 22"/>
          <p:cNvCxnSpPr>
            <a:endCxn id="356" idx="0"/>
          </p:cNvCxnSpPr>
          <p:nvPr/>
        </p:nvCxnSpPr>
        <p:spPr>
          <a:xfrm>
            <a:off x="4768560" y="2314080"/>
            <a:ext cx="1080" cy="12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7" name="AutoShape 23"/>
          <p:cNvCxnSpPr>
            <a:stCxn id="356" idx="3"/>
            <a:endCxn id="358" idx="0"/>
          </p:cNvCxnSpPr>
          <p:nvPr/>
        </p:nvCxnSpPr>
        <p:spPr>
          <a:xfrm>
            <a:off x="5070240" y="2639880"/>
            <a:ext cx="130680" cy="191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9" name="AutoShape 24"/>
          <p:cNvCxnSpPr>
            <a:stCxn id="356" idx="1"/>
            <a:endCxn id="360" idx="0"/>
          </p:cNvCxnSpPr>
          <p:nvPr/>
        </p:nvCxnSpPr>
        <p:spPr>
          <a:xfrm flipV="1" rot="10800000">
            <a:off x="4336200" y="2639520"/>
            <a:ext cx="131040" cy="191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1" name="AutoShape 25"/>
          <p:cNvCxnSpPr>
            <a:stCxn id="358" idx="2"/>
            <a:endCxn id="362" idx="0"/>
          </p:cNvCxnSpPr>
          <p:nvPr/>
        </p:nvCxnSpPr>
        <p:spPr>
          <a:xfrm rot="5400000">
            <a:off x="4857840" y="2993040"/>
            <a:ext cx="253080" cy="432360"/>
          </a:xfrm>
          <a:prstGeom prst="bentConnector3">
            <a:avLst>
              <a:gd name="adj1" fmla="val 495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3" name="AutoShape 26"/>
          <p:cNvCxnSpPr>
            <a:stCxn id="360" idx="2"/>
            <a:endCxn id="362" idx="0"/>
          </p:cNvCxnSpPr>
          <p:nvPr/>
        </p:nvCxnSpPr>
        <p:spPr>
          <a:xfrm flipH="1" rot="16200000">
            <a:off x="4426560" y="2992680"/>
            <a:ext cx="253080" cy="432720"/>
          </a:xfrm>
          <a:prstGeom prst="bentConnector3">
            <a:avLst>
              <a:gd name="adj1" fmla="val 495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4" name="Text Box 27"/>
          <p:cNvSpPr/>
          <p:nvPr/>
        </p:nvSpPr>
        <p:spPr>
          <a:xfrm>
            <a:off x="4356000" y="244152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5076720" y="244152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9"/>
          <p:cNvSpPr/>
          <p:nvPr/>
        </p:nvSpPr>
        <p:spPr>
          <a:xfrm>
            <a:off x="4467240" y="2440080"/>
            <a:ext cx="603360" cy="399960"/>
          </a:xfrm>
          <a:prstGeom prst="flowChartDecision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pr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30"/>
          <p:cNvSpPr/>
          <p:nvPr/>
        </p:nvSpPr>
        <p:spPr>
          <a:xfrm>
            <a:off x="4535640" y="333540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31"/>
          <p:cNvSpPr/>
          <p:nvPr/>
        </p:nvSpPr>
        <p:spPr>
          <a:xfrm>
            <a:off x="4103640" y="2830680"/>
            <a:ext cx="46692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32"/>
          <p:cNvSpPr/>
          <p:nvPr/>
        </p:nvSpPr>
        <p:spPr>
          <a:xfrm>
            <a:off x="4967280" y="283068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6" name="AutoShape 33"/>
          <p:cNvCxnSpPr>
            <a:endCxn id="367" idx="0"/>
          </p:cNvCxnSpPr>
          <p:nvPr/>
        </p:nvCxnSpPr>
        <p:spPr>
          <a:xfrm>
            <a:off x="4768560" y="3695760"/>
            <a:ext cx="1080" cy="12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8" name="AutoShape 34"/>
          <p:cNvCxnSpPr>
            <a:stCxn id="367" idx="3"/>
            <a:endCxn id="369" idx="0"/>
          </p:cNvCxnSpPr>
          <p:nvPr/>
        </p:nvCxnSpPr>
        <p:spPr>
          <a:xfrm>
            <a:off x="5070600" y="4020840"/>
            <a:ext cx="303840" cy="3452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0" name="AutoShape 35"/>
          <p:cNvCxnSpPr>
            <a:stCxn id="367" idx="1"/>
            <a:endCxn id="371" idx="0"/>
          </p:cNvCxnSpPr>
          <p:nvPr/>
        </p:nvCxnSpPr>
        <p:spPr>
          <a:xfrm flipV="1" rot="10800000">
            <a:off x="4163400" y="4020120"/>
            <a:ext cx="303840" cy="3452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2" name="AutoShape 36"/>
          <p:cNvCxnSpPr>
            <a:stCxn id="369" idx="2"/>
            <a:endCxn id="373" idx="0"/>
          </p:cNvCxnSpPr>
          <p:nvPr/>
        </p:nvCxnSpPr>
        <p:spPr>
          <a:xfrm rot="5400000">
            <a:off x="4930920" y="4455360"/>
            <a:ext cx="280080" cy="605520"/>
          </a:xfrm>
          <a:prstGeom prst="bentConnector3">
            <a:avLst>
              <a:gd name="adj1" fmla="val 494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4" name="AutoShape 37"/>
          <p:cNvCxnSpPr>
            <a:stCxn id="371" idx="2"/>
            <a:endCxn id="373" idx="0"/>
          </p:cNvCxnSpPr>
          <p:nvPr/>
        </p:nvCxnSpPr>
        <p:spPr>
          <a:xfrm flipH="1" rot="16200000">
            <a:off x="4326840" y="4455000"/>
            <a:ext cx="280080" cy="605520"/>
          </a:xfrm>
          <a:prstGeom prst="bentConnector3">
            <a:avLst>
              <a:gd name="adj1" fmla="val 494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5" name="AutoShape 38"/>
          <p:cNvCxnSpPr>
            <a:stCxn id="367" idx="2"/>
            <a:endCxn id="376" idx="0"/>
          </p:cNvCxnSpPr>
          <p:nvPr/>
        </p:nvCxnSpPr>
        <p:spPr>
          <a:xfrm>
            <a:off x="4768560" y="4220640"/>
            <a:ext cx="1080" cy="14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7" name="AutoShape 39"/>
          <p:cNvCxnSpPr>
            <a:stCxn id="376" idx="2"/>
            <a:endCxn id="373" idx="0"/>
          </p:cNvCxnSpPr>
          <p:nvPr/>
        </p:nvCxnSpPr>
        <p:spPr>
          <a:xfrm>
            <a:off x="4768560" y="4615920"/>
            <a:ext cx="1080" cy="281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78" name="Text Box 40"/>
          <p:cNvSpPr/>
          <p:nvPr/>
        </p:nvSpPr>
        <p:spPr>
          <a:xfrm>
            <a:off x="4570560" y="415116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41"/>
          <p:cNvSpPr/>
          <p:nvPr/>
        </p:nvSpPr>
        <p:spPr>
          <a:xfrm>
            <a:off x="4343400" y="382104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42"/>
          <p:cNvSpPr/>
          <p:nvPr/>
        </p:nvSpPr>
        <p:spPr>
          <a:xfrm>
            <a:off x="5102280" y="382104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43"/>
          <p:cNvSpPr/>
          <p:nvPr/>
        </p:nvSpPr>
        <p:spPr>
          <a:xfrm>
            <a:off x="4467240" y="3821040"/>
            <a:ext cx="603360" cy="399960"/>
          </a:xfrm>
          <a:prstGeom prst="flowChartDecision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pr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44"/>
          <p:cNvSpPr/>
          <p:nvPr/>
        </p:nvSpPr>
        <p:spPr>
          <a:xfrm>
            <a:off x="4535640" y="489744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45"/>
          <p:cNvSpPr/>
          <p:nvPr/>
        </p:nvSpPr>
        <p:spPr>
          <a:xfrm>
            <a:off x="4535640" y="436392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46"/>
          <p:cNvSpPr/>
          <p:nvPr/>
        </p:nvSpPr>
        <p:spPr>
          <a:xfrm>
            <a:off x="3930480" y="4365720"/>
            <a:ext cx="46692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47"/>
          <p:cNvSpPr/>
          <p:nvPr/>
        </p:nvSpPr>
        <p:spPr>
          <a:xfrm>
            <a:off x="5140440" y="436572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1" name="AutoShape 49"/>
          <p:cNvCxnSpPr>
            <a:stCxn id="382" idx="2"/>
            <a:endCxn id="383" idx="0"/>
          </p:cNvCxnSpPr>
          <p:nvPr/>
        </p:nvCxnSpPr>
        <p:spPr>
          <a:xfrm flipV="1" rot="10800000">
            <a:off x="6352560" y="2591280"/>
            <a:ext cx="232560" cy="253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4" name="AutoShape 51"/>
          <p:cNvCxnSpPr>
            <a:stCxn id="382" idx="6"/>
            <a:endCxn id="385" idx="0"/>
          </p:cNvCxnSpPr>
          <p:nvPr/>
        </p:nvCxnSpPr>
        <p:spPr>
          <a:xfrm>
            <a:off x="6813720" y="2592000"/>
            <a:ext cx="234000" cy="253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AutoShape 52"/>
          <p:cNvCxnSpPr>
            <a:stCxn id="383" idx="4"/>
            <a:endCxn id="387" idx="1"/>
          </p:cNvCxnSpPr>
          <p:nvPr/>
        </p:nvCxnSpPr>
        <p:spPr>
          <a:xfrm flipH="1" rot="16200000">
            <a:off x="6329160" y="3096720"/>
            <a:ext cx="313560" cy="265680"/>
          </a:xfrm>
          <a:prstGeom prst="curvedConnector5">
            <a:avLst>
              <a:gd name="adj1" fmla="val 44597"/>
              <a:gd name="adj2" fmla="val 49932"/>
              <a:gd name="adj3" fmla="val 4459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8" name="AutoShape 53"/>
          <p:cNvCxnSpPr>
            <a:stCxn id="385" idx="4"/>
            <a:endCxn id="387" idx="7"/>
          </p:cNvCxnSpPr>
          <p:nvPr/>
        </p:nvCxnSpPr>
        <p:spPr>
          <a:xfrm rot="5400000">
            <a:off x="6756480" y="3096360"/>
            <a:ext cx="313560" cy="267120"/>
          </a:xfrm>
          <a:prstGeom prst="curvedConnector5">
            <a:avLst>
              <a:gd name="adj1" fmla="val 44597"/>
              <a:gd name="adj2" fmla="val 49932"/>
              <a:gd name="adj3" fmla="val 4459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82" name="Oval 54"/>
          <p:cNvSpPr/>
          <p:nvPr/>
        </p:nvSpPr>
        <p:spPr>
          <a:xfrm>
            <a:off x="6585120" y="247824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55"/>
          <p:cNvSpPr/>
          <p:nvPr/>
        </p:nvSpPr>
        <p:spPr>
          <a:xfrm>
            <a:off x="6238800" y="284472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56"/>
          <p:cNvSpPr/>
          <p:nvPr/>
        </p:nvSpPr>
        <p:spPr>
          <a:xfrm>
            <a:off x="6932520" y="284472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6585120" y="335268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Group 58"/>
          <p:cNvGrpSpPr/>
          <p:nvPr/>
        </p:nvGrpSpPr>
        <p:grpSpPr>
          <a:xfrm>
            <a:off x="6211800" y="3792600"/>
            <a:ext cx="979200" cy="1260000"/>
            <a:chOff x="6211800" y="3792600"/>
            <a:chExt cx="979200" cy="1260000"/>
          </a:xfrm>
        </p:grpSpPr>
        <p:cxnSp>
          <p:nvCxnSpPr>
            <p:cNvPr id="390" name="AutoShape 59"/>
            <p:cNvCxnSpPr>
              <a:stCxn id="391" idx="2"/>
              <a:endCxn id="392" idx="0"/>
            </p:cNvCxnSpPr>
            <p:nvPr/>
          </p:nvCxnSpPr>
          <p:spPr>
            <a:xfrm flipV="1" rot="10800000">
              <a:off x="6325200" y="4063320"/>
              <a:ext cx="261000" cy="25272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3" name="AutoShape 60"/>
            <p:cNvCxnSpPr>
              <a:endCxn id="391" idx="0"/>
            </p:cNvCxnSpPr>
            <p:nvPr/>
          </p:nvCxnSpPr>
          <p:spPr>
            <a:xfrm>
              <a:off x="6700320" y="3792600"/>
              <a:ext cx="1080" cy="157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4" name="AutoShape 61"/>
            <p:cNvCxnSpPr>
              <a:stCxn id="391" idx="6"/>
              <a:endCxn id="395" idx="0"/>
            </p:cNvCxnSpPr>
            <p:nvPr/>
          </p:nvCxnSpPr>
          <p:spPr>
            <a:xfrm>
              <a:off x="6814800" y="4063680"/>
              <a:ext cx="262800" cy="25272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6" name="AutoShape 62"/>
            <p:cNvCxnSpPr>
              <a:stCxn id="392" idx="4"/>
              <a:endCxn id="397" idx="1"/>
            </p:cNvCxnSpPr>
            <p:nvPr/>
          </p:nvCxnSpPr>
          <p:spPr>
            <a:xfrm flipH="1" rot="16200000">
              <a:off x="6316560" y="4553640"/>
              <a:ext cx="313200" cy="294480"/>
            </a:xfrm>
            <a:prstGeom prst="curvedConnector5">
              <a:avLst>
                <a:gd name="adj1" fmla="val 44649"/>
                <a:gd name="adj2" fmla="val 49938"/>
                <a:gd name="adj3" fmla="val 4464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8" name="AutoShape 63"/>
            <p:cNvCxnSpPr>
              <a:stCxn id="395" idx="4"/>
              <a:endCxn id="397" idx="7"/>
            </p:cNvCxnSpPr>
            <p:nvPr/>
          </p:nvCxnSpPr>
          <p:spPr>
            <a:xfrm rot="5400000">
              <a:off x="6774120" y="4551840"/>
              <a:ext cx="313200" cy="295560"/>
            </a:xfrm>
            <a:prstGeom prst="curvedConnector5">
              <a:avLst>
                <a:gd name="adj1" fmla="val 44649"/>
                <a:gd name="adj2" fmla="val 50000"/>
                <a:gd name="adj3" fmla="val 4464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9" name="AutoShape 64"/>
            <p:cNvCxnSpPr>
              <a:stCxn id="391" idx="4"/>
              <a:endCxn id="400" idx="0"/>
            </p:cNvCxnSpPr>
            <p:nvPr/>
          </p:nvCxnSpPr>
          <p:spPr>
            <a:xfrm>
              <a:off x="6700320" y="4178160"/>
              <a:ext cx="1080" cy="137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1" name="AutoShape 65"/>
            <p:cNvCxnSpPr>
              <a:stCxn id="400" idx="4"/>
              <a:endCxn id="397" idx="0"/>
            </p:cNvCxnSpPr>
            <p:nvPr/>
          </p:nvCxnSpPr>
          <p:spPr>
            <a:xfrm>
              <a:off x="6700320" y="4544640"/>
              <a:ext cx="1080" cy="280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91" name="Oval 66"/>
            <p:cNvSpPr/>
            <p:nvPr/>
          </p:nvSpPr>
          <p:spPr>
            <a:xfrm>
              <a:off x="6586200" y="394956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67"/>
            <p:cNvSpPr/>
            <p:nvPr/>
          </p:nvSpPr>
          <p:spPr>
            <a:xfrm>
              <a:off x="6211800" y="431604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68"/>
            <p:cNvSpPr/>
            <p:nvPr/>
          </p:nvSpPr>
          <p:spPr>
            <a:xfrm>
              <a:off x="6962400" y="431604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69"/>
            <p:cNvSpPr/>
            <p:nvPr/>
          </p:nvSpPr>
          <p:spPr>
            <a:xfrm>
              <a:off x="6586200" y="482436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70"/>
            <p:cNvSpPr/>
            <p:nvPr/>
          </p:nvSpPr>
          <p:spPr>
            <a:xfrm>
              <a:off x="6586200" y="431604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02" name="AutoShape 71"/>
          <p:cNvCxnSpPr>
            <a:stCxn id="403" idx="2"/>
            <a:endCxn id="404" idx="0"/>
          </p:cNvCxnSpPr>
          <p:nvPr/>
        </p:nvCxnSpPr>
        <p:spPr>
          <a:xfrm>
            <a:off x="4768560" y="5687640"/>
            <a:ext cx="1080" cy="158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5" name="AutoShape 72"/>
          <p:cNvCxnSpPr>
            <a:stCxn id="404" idx="1"/>
            <a:endCxn id="403" idx="1"/>
          </p:cNvCxnSpPr>
          <p:nvPr/>
        </p:nvCxnSpPr>
        <p:spPr>
          <a:xfrm flipH="1" rot="10800000">
            <a:off x="4466880" y="5562000"/>
            <a:ext cx="69120" cy="483120"/>
          </a:xfrm>
          <a:prstGeom prst="bentConnector3">
            <a:avLst>
              <a:gd name="adj1" fmla="val -33455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6" name="Text Box 73"/>
          <p:cNvSpPr/>
          <p:nvPr/>
        </p:nvSpPr>
        <p:spPr>
          <a:xfrm>
            <a:off x="4416480" y="584676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74"/>
          <p:cNvSpPr/>
          <p:nvPr/>
        </p:nvSpPr>
        <p:spPr>
          <a:xfrm>
            <a:off x="4635360" y="621648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8" name="AutoShape 75"/>
          <p:cNvCxnSpPr>
            <a:stCxn id="404" idx="2"/>
            <a:endCxn id="409" idx="0"/>
          </p:cNvCxnSpPr>
          <p:nvPr/>
        </p:nvCxnSpPr>
        <p:spPr>
          <a:xfrm>
            <a:off x="4768560" y="6245280"/>
            <a:ext cx="108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0" name="AutoShape 76"/>
          <p:cNvCxnSpPr>
            <a:endCxn id="403" idx="0"/>
          </p:cNvCxnSpPr>
          <p:nvPr/>
        </p:nvCxnSpPr>
        <p:spPr>
          <a:xfrm>
            <a:off x="4768560" y="5256360"/>
            <a:ext cx="1080" cy="18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4" name="AutoShape 77"/>
          <p:cNvSpPr/>
          <p:nvPr/>
        </p:nvSpPr>
        <p:spPr>
          <a:xfrm>
            <a:off x="4467240" y="5845320"/>
            <a:ext cx="603360" cy="399960"/>
          </a:xfrm>
          <a:prstGeom prst="flowChartDecision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pr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78"/>
          <p:cNvSpPr/>
          <p:nvPr/>
        </p:nvSpPr>
        <p:spPr>
          <a:xfrm>
            <a:off x="4535640" y="6464160"/>
            <a:ext cx="466560" cy="25272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79"/>
          <p:cNvSpPr/>
          <p:nvPr/>
        </p:nvSpPr>
        <p:spPr>
          <a:xfrm>
            <a:off x="4535640" y="543564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80"/>
          <p:cNvGrpSpPr/>
          <p:nvPr/>
        </p:nvGrpSpPr>
        <p:grpSpPr>
          <a:xfrm>
            <a:off x="6328800" y="5356080"/>
            <a:ext cx="487800" cy="1260360"/>
            <a:chOff x="6328800" y="5356080"/>
            <a:chExt cx="487800" cy="1260360"/>
          </a:xfrm>
        </p:grpSpPr>
        <p:cxnSp>
          <p:nvCxnSpPr>
            <p:cNvPr id="412" name="AutoShape 81"/>
            <p:cNvCxnSpPr>
              <a:stCxn id="413" idx="2"/>
              <a:endCxn id="414" idx="2"/>
            </p:cNvCxnSpPr>
            <p:nvPr/>
          </p:nvCxnSpPr>
          <p:spPr>
            <a:xfrm flipH="1" rot="10800000">
              <a:off x="6587640" y="5626800"/>
              <a:ext cx="2160" cy="472320"/>
            </a:xfrm>
            <a:prstGeom prst="curvedConnector5">
              <a:avLst>
                <a:gd name="adj1" fmla="val -14400000"/>
                <a:gd name="adj2" fmla="val 49961"/>
                <a:gd name="adj3" fmla="val -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5" name="AutoShape 82"/>
            <p:cNvCxnSpPr>
              <a:endCxn id="414" idx="0"/>
            </p:cNvCxnSpPr>
            <p:nvPr/>
          </p:nvCxnSpPr>
          <p:spPr>
            <a:xfrm>
              <a:off x="6701760" y="5356080"/>
              <a:ext cx="1080" cy="157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6" name="AutoShape 83"/>
            <p:cNvCxnSpPr>
              <a:stCxn id="414" idx="4"/>
              <a:endCxn id="413" idx="0"/>
            </p:cNvCxnSpPr>
            <p:nvPr/>
          </p:nvCxnSpPr>
          <p:spPr>
            <a:xfrm>
              <a:off x="6701760" y="5741280"/>
              <a:ext cx="1080" cy="243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7" name="AutoShape 84"/>
            <p:cNvCxnSpPr>
              <a:stCxn id="413" idx="4"/>
              <a:endCxn id="418" idx="0"/>
            </p:cNvCxnSpPr>
            <p:nvPr/>
          </p:nvCxnSpPr>
          <p:spPr>
            <a:xfrm>
              <a:off x="6701760" y="6212880"/>
              <a:ext cx="1080" cy="175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14" name="Oval 85"/>
            <p:cNvSpPr/>
            <p:nvPr/>
          </p:nvSpPr>
          <p:spPr>
            <a:xfrm>
              <a:off x="6588000" y="5513040"/>
              <a:ext cx="228600" cy="22860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86"/>
            <p:cNvSpPr/>
            <p:nvPr/>
          </p:nvSpPr>
          <p:spPr>
            <a:xfrm>
              <a:off x="6588000" y="5984640"/>
              <a:ext cx="228600" cy="22860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87"/>
            <p:cNvSpPr/>
            <p:nvPr/>
          </p:nvSpPr>
          <p:spPr>
            <a:xfrm>
              <a:off x="6588000" y="6387840"/>
              <a:ext cx="228600" cy="22860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Line 89"/>
          <p:cNvSpPr/>
          <p:nvPr/>
        </p:nvSpPr>
        <p:spPr>
          <a:xfrm>
            <a:off x="6699240" y="233352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90"/>
          <p:cNvSpPr/>
          <p:nvPr/>
        </p:nvSpPr>
        <p:spPr>
          <a:xfrm flipV="1">
            <a:off x="6653160" y="2397960"/>
            <a:ext cx="92160" cy="74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EXAMPLE PATHS</a:t>
            </a: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7399-949A-4FC6-A5C8-854C23A6C29C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AutoShape 5"/>
          <p:cNvCxnSpPr>
            <a:stCxn id="424" idx="4"/>
            <a:endCxn id="425" idx="0"/>
          </p:cNvCxnSpPr>
          <p:nvPr/>
        </p:nvCxnSpPr>
        <p:spPr>
          <a:xfrm>
            <a:off x="3166560" y="2947680"/>
            <a:ext cx="1080" cy="29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6"/>
          <p:cNvCxnSpPr>
            <a:stCxn id="427" idx="5"/>
            <a:endCxn id="425" idx="2"/>
          </p:cNvCxnSpPr>
          <p:nvPr/>
        </p:nvCxnSpPr>
        <p:spPr>
          <a:xfrm>
            <a:off x="2769840" y="3177720"/>
            <a:ext cx="283320" cy="183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8" name="Text Box 7"/>
          <p:cNvSpPr/>
          <p:nvPr/>
        </p:nvSpPr>
        <p:spPr>
          <a:xfrm>
            <a:off x="254160" y="2173320"/>
            <a:ext cx="199548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expression1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tatement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tatement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expr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nd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expression5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tatement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tatement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9" name="AutoShape 8"/>
          <p:cNvCxnSpPr>
            <a:stCxn id="430" idx="6"/>
            <a:endCxn id="425" idx="6"/>
          </p:cNvCxnSpPr>
          <p:nvPr/>
        </p:nvCxnSpPr>
        <p:spPr>
          <a:xfrm flipV="1">
            <a:off x="3281400" y="3360240"/>
            <a:ext cx="2160" cy="489600"/>
          </a:xfrm>
          <a:prstGeom prst="curvedConnector5">
            <a:avLst>
              <a:gd name="adj1" fmla="val 14400000"/>
              <a:gd name="adj2" fmla="val 49963"/>
              <a:gd name="adj3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1" name="AutoShape 9"/>
          <p:cNvCxnSpPr>
            <a:stCxn id="425" idx="4"/>
            <a:endCxn id="430" idx="0"/>
          </p:cNvCxnSpPr>
          <p:nvPr/>
        </p:nvCxnSpPr>
        <p:spPr>
          <a:xfrm>
            <a:off x="3166560" y="3474720"/>
            <a:ext cx="1080" cy="26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2" name="AutoShape 10"/>
          <p:cNvCxnSpPr>
            <a:stCxn id="430" idx="4"/>
            <a:endCxn id="433" idx="0"/>
          </p:cNvCxnSpPr>
          <p:nvPr/>
        </p:nvCxnSpPr>
        <p:spPr>
          <a:xfrm>
            <a:off x="3166560" y="3963960"/>
            <a:ext cx="1080" cy="18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4" name="AutoShape 11"/>
          <p:cNvCxnSpPr>
            <a:stCxn id="433" idx="4"/>
            <a:endCxn id="435" idx="0"/>
          </p:cNvCxnSpPr>
          <p:nvPr/>
        </p:nvCxnSpPr>
        <p:spPr>
          <a:xfrm>
            <a:off x="3166560" y="4371840"/>
            <a:ext cx="1080" cy="300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6" name="AutoShape 13"/>
          <p:cNvCxnSpPr>
            <a:stCxn id="424" idx="2"/>
            <a:endCxn id="427" idx="7"/>
          </p:cNvCxnSpPr>
          <p:nvPr/>
        </p:nvCxnSpPr>
        <p:spPr>
          <a:xfrm flipH="1">
            <a:off x="2769480" y="2833200"/>
            <a:ext cx="283320" cy="183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7" name="AutoShape 14"/>
          <p:cNvCxnSpPr>
            <a:stCxn id="433" idx="2"/>
            <a:endCxn id="438" idx="7"/>
          </p:cNvCxnSpPr>
          <p:nvPr/>
        </p:nvCxnSpPr>
        <p:spPr>
          <a:xfrm flipH="1">
            <a:off x="2769480" y="4257360"/>
            <a:ext cx="283320" cy="183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9" name="AutoShape 15"/>
          <p:cNvCxnSpPr>
            <a:stCxn id="438" idx="5"/>
            <a:endCxn id="435" idx="2"/>
          </p:cNvCxnSpPr>
          <p:nvPr/>
        </p:nvCxnSpPr>
        <p:spPr>
          <a:xfrm>
            <a:off x="2769840" y="4601880"/>
            <a:ext cx="283320" cy="184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4" name="Oval 16"/>
          <p:cNvSpPr/>
          <p:nvPr/>
        </p:nvSpPr>
        <p:spPr>
          <a:xfrm>
            <a:off x="3052800" y="271944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17"/>
          <p:cNvSpPr/>
          <p:nvPr/>
        </p:nvSpPr>
        <p:spPr>
          <a:xfrm>
            <a:off x="3052800" y="324648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18"/>
          <p:cNvSpPr/>
          <p:nvPr/>
        </p:nvSpPr>
        <p:spPr>
          <a:xfrm>
            <a:off x="2575080" y="298296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3052800" y="373536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20"/>
          <p:cNvSpPr/>
          <p:nvPr/>
        </p:nvSpPr>
        <p:spPr>
          <a:xfrm>
            <a:off x="3052800" y="414324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Oval 21"/>
          <p:cNvSpPr/>
          <p:nvPr/>
        </p:nvSpPr>
        <p:spPr>
          <a:xfrm>
            <a:off x="3052800" y="467208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22"/>
          <p:cNvSpPr/>
          <p:nvPr/>
        </p:nvSpPr>
        <p:spPr>
          <a:xfrm>
            <a:off x="2575080" y="440676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2793600" y="2739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2793600" y="3284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3261960" y="2989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2945880" y="3497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3569760" y="352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3261960" y="3936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2793600" y="41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2793600" y="47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3261960" y="4413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4508280" y="24066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ath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4516560" y="2814480"/>
            <a:ext cx="3628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1 = e1, e2, e4, e6, e7, e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2 = e1, e2, e4, e5, e4, e6, e7, e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3 = e3, e4, e6, e7, e8, e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4 = e6, e7, e8, e10, e3, e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5 = e1, e2, e4, e6, e9, e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6 = e4, e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7 = e3, e4, e6, e9, e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8 = e1, e2, e4, e5, e4, e6, e9, e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66"/>
          <p:cNvSpPr/>
          <p:nvPr/>
        </p:nvSpPr>
        <p:spPr>
          <a:xfrm>
            <a:off x="3182760" y="5361120"/>
            <a:ext cx="4327560" cy="34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18360" bIns="1836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V(G) = e – n + 2 = 9 – 7 + 2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EXAMPLE 1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53" name="Content Placeholder 4" descr="Screen shot 2013-11-25 at 6.52.41 PM.png"/>
          <p:cNvPicPr/>
          <p:nvPr/>
        </p:nvPicPr>
        <p:blipFill>
          <a:blip r:embed="rId1"/>
          <a:srcRect l="52745" t="8032" r="0" b="19724"/>
          <a:stretch/>
        </p:blipFill>
        <p:spPr>
          <a:xfrm>
            <a:off x="835200" y="2160720"/>
            <a:ext cx="3917880" cy="3706560"/>
          </a:xfrm>
          <a:prstGeom prst="rect">
            <a:avLst/>
          </a:prstGeom>
          <a:ln w="0">
            <a:noFill/>
          </a:ln>
        </p:spPr>
      </p:pic>
      <p:sp>
        <p:nvSpPr>
          <p:cNvPr id="454" name="Slide Number Placeholder 2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6F3-D4EE-4F68-B9E8-E9B47B714DC7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56" name="Content Placeholder 4" descr="Screen shot 2013-11-25 at 6.52.41 PM.png"/>
          <p:cNvPicPr/>
          <p:nvPr/>
        </p:nvPicPr>
        <p:blipFill>
          <a:blip r:embed="rId1"/>
          <a:srcRect l="0" t="8032" r="43642" b="3342"/>
          <a:stretch/>
        </p:blipFill>
        <p:spPr>
          <a:xfrm>
            <a:off x="0" y="2133720"/>
            <a:ext cx="4365720" cy="3892320"/>
          </a:xfrm>
          <a:prstGeom prst="rect">
            <a:avLst/>
          </a:prstGeom>
          <a:ln w="0">
            <a:noFill/>
          </a:ln>
        </p:spPr>
      </p:pic>
      <p:sp>
        <p:nvSpPr>
          <p:cNvPr id="457" name="Slide Number Placeholder 3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1D3-078F-4E9E-9F58-6201AA868BCF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6"/>
          <p:cNvSpPr/>
          <p:nvPr/>
        </p:nvSpPr>
        <p:spPr>
          <a:xfrm>
            <a:off x="4500720" y="221292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V=e-n+2=11-9+2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TESTING OBJECTIV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sting is a process of executing a program with the intent of finding an erro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good test case is one that has high probability of finding an undiscovered erro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uccessful test is one that uncovers an as-yet undiscovered erro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rbel"/>
              </a:rPr>
              <a:t>major testing objective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is to design tests that systematically uncover types of errors with minimum time and effort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60" name="Content Placeholder 4" descr="Screen shot 2013-11-25 at 6.57.03 PM.png"/>
          <p:cNvPicPr/>
          <p:nvPr/>
        </p:nvPicPr>
        <p:blipFill>
          <a:blip r:embed="rId1"/>
          <a:srcRect l="0" t="15788" r="48225" b="11665"/>
          <a:stretch/>
        </p:blipFill>
        <p:spPr>
          <a:xfrm>
            <a:off x="490680" y="2286000"/>
            <a:ext cx="5259240" cy="3602160"/>
          </a:xfrm>
          <a:prstGeom prst="rect">
            <a:avLst/>
          </a:prstGeom>
          <a:ln w="0">
            <a:noFill/>
          </a:ln>
        </p:spPr>
      </p:pic>
      <p:sp>
        <p:nvSpPr>
          <p:cNvPr id="461" name="Slide Number Placeholder 3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F1F-57B4-4355-8CDA-7A30A5F48B1D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63" name="Content Placeholder 4" descr="Screen shot 2013-11-25 at 6.57.03 PM.png"/>
          <p:cNvPicPr/>
          <p:nvPr/>
        </p:nvPicPr>
        <p:blipFill>
          <a:blip r:embed="rId1"/>
          <a:srcRect l="51298" t="1313" r="0" b="-663"/>
          <a:stretch/>
        </p:blipFill>
        <p:spPr>
          <a:xfrm>
            <a:off x="326880" y="2443320"/>
            <a:ext cx="4044960" cy="40338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3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57FE-3B5F-488C-BE49-F92025FE5C66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5"/>
          <p:cNvSpPr/>
          <p:nvPr/>
        </p:nvSpPr>
        <p:spPr>
          <a:xfrm>
            <a:off x="4583160" y="221292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V=e-n+2=11-9+2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74680" y="2166480"/>
            <a:ext cx="860256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9bdd"/>
                </a:solidFill>
                <a:latin typeface="Times New Roman"/>
              </a:rPr>
              <a:t>BLACK-BOX TESTING</a:t>
            </a:r>
            <a:endParaRPr b="0" lang="en-US" sz="6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BLACK 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Test cases are derived from formal specification of the system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Test case selection can be done without any reference to the program design or cod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Only tests the functionality and features of the program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Not the internal opera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Advantag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est case selection is done before the implementation of a program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Help in getting the design and coding correct with respect to the specification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BLACK BOX</a:t>
            </a: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71" name="Content Placeholder 3" descr="Screen shot 2013-11-24 at 8.02.16 PM.png"/>
          <p:cNvPicPr/>
          <p:nvPr/>
        </p:nvPicPr>
        <p:blipFill>
          <a:blip r:embed="rId1"/>
          <a:stretch/>
        </p:blipFill>
        <p:spPr>
          <a:xfrm>
            <a:off x="1992240" y="2011320"/>
            <a:ext cx="51595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BLACK-BOX TESTING CATEGORI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Incorrect or missing functi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Interface erro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Errors in data structures or external data base acce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Behavior or performance erro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Initialization and termination erro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BA07-96BE-401F-8BA8-2FD27D48C78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  <a:ea typeface="Tahoma"/>
              </a:rPr>
              <a:t>QUESTIONS ANSWERED BY BLACK-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How is functional validity tested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How are system behavior and performance tested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What classes of input will make good test case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Is the system particularly sensitive to certain input value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How are the boundary values of a data class isolated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What data rates and data volume can the system tolerat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What effect will specific combinations of data have on system opera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TEST CHARACTARISTICS</a:t>
            </a: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A good test has a high probability of finding an erro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tester must understand the software and how it might fai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A good test is not redunda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esting time is limited; one test should not serve the same purpose as another tes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A good test should be “best of breed”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ests that have the highest likelihood of uncovering a whole class of errors should be us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A good test should be neither too simple nor too complex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Each test should be executed separately; combining a series of tests could cause side effects and mask certain erro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  <a:ea typeface="Tahoma"/>
              </a:rPr>
              <a:t>CHARACTERISTICS OF TESTABLE SOFTWAR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Oper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better it works (i.e., better quality), the easier it is to tes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Observ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Incorrect output is easily identified; internal errors are automatically detect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Controll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states and variables of the software can be controlled directly by the teste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Decompos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software is built from independent modules that can be tested independentl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  <a:ea typeface="Tahoma"/>
              </a:rPr>
              <a:t>CHARACTERISTICS OF TESTABLE SOFTWAR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Simp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program should exhibit functional, structural, and code simpli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St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Changes to the software during testing are infrequent and do not invalidate existing tes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Understand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architectural design is well understood; documentation is available and organiz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LEVELS OF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2438280"/>
            <a:ext cx="7010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ion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ance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UNIT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Algorithms and logic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Data structures (global and local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terfac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dependent path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Boundary condi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Y INTEGRATION TESTING IS NECESSAR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One module can have an adverse effect on anoth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Subfunctions, when combined, may not produce the desired major func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terfacing errors not detected in unit testing may appea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Timing problems (in real-time systems) are not detectable by unit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02:49Z</dcterms:created>
  <dc:creator>Robert W. Lingard</dc:creator>
  <dc:description/>
  <dc:language>en-US</dc:language>
  <cp:lastModifiedBy>Aseel</cp:lastModifiedBy>
  <dcterms:modified xsi:type="dcterms:W3CDTF">2014-04-20T16:59:53Z</dcterms:modified>
  <cp:revision>55</cp:revision>
  <dc:subject/>
  <dc:title>Software Testing</dc:title>
</cp:coreProperties>
</file>