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25B-AA6A-48C8-9588-372A30A0D3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5D1-C662-47D2-9918-89EA853E0C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5D5-ED33-49E1-8CEB-55BDF2B7C7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F54-E589-4A67-9FF1-372DFF3A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711-EE2E-46FE-8EBE-91AFEA2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FC8-404D-4567-8932-B06FE9F4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92F-684A-4294-BA13-C0AEDBB1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114-FBFE-4802-B0C8-40CC1E69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CEB-DC90-40C4-A288-C6E7250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214-5F10-4E70-8991-351F1523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396-88B6-41A6-AC4A-38E4F878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EE81-C7B2-4236-AD07-BE044B7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A82E-A866-43FE-96B4-7C346961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717-0F7A-4518-BBDA-1C1D9A3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07A-0739-4227-9668-EC5DC2BF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3CC0-B2D7-410F-BCEC-FFAFADE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3882-69A5-4446-8CE9-5476766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BB5F-EC2C-4B12-9619-B5FBA58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C22-7A95-4930-87AF-24934BDD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9E8-6867-4BB8-B33D-8BDA4261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E100-FCA4-463A-9B01-AB9C98C4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399E-C5B6-45F3-83AD-387A72B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EDED-E2E8-4E83-8C7F-9F648537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E654-5E5E-4D67-9DD3-F1ECF5DA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9720-6E71-4FAB-8D9C-AB9459B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98F-BBA8-4F4E-A569-BEBAAB4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5113-51BF-44FC-A295-1DA4D97B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0EEF-04EA-4477-BA9F-E4ED3F6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981E-541E-41D5-BF00-ABFF2BC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31C8-1838-471B-9014-D462A5B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DCBA-8D6B-4A9A-B5B1-AEF3932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621E-7286-411E-9D91-790CDBC0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F49D-BB2E-48D4-AC2B-3939ED66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00ED-DE01-4916-858E-D9F474B9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2792-F608-481A-AC45-53113109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EA35-E5E1-4FD6-9E0B-1742825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07E-8407-4BC2-905D-03966D5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9CB0-2022-46C2-A2F5-B0B0212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E832-D515-4A98-ADEA-4DDA00A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3196-12AF-4CBE-AB15-4B454D5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FD64-BAF9-411B-9B0D-9D15242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D32B-B32D-4552-A6F4-B5E377D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FF31-B90E-4BFD-A5C3-501B191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C776-6439-45E0-9667-8E4DF5B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79D74-3902-496D-A1C7-E4CD755F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26AA-8D9E-4874-A365-5978E255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B456-0089-4437-8601-5AACA1BD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FB2-0D98-481D-B09C-A084DA5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F6682-6E7F-450A-989E-1598F90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9502-FA0C-467E-994A-8C850EAC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0346-7FC1-467F-9BA3-285D1A2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C69A-E3FA-40A5-9FAF-A5A60F0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B459-7DEB-4497-9689-FAE47913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5D98-E6EB-420F-A698-6411340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C551-0590-4C1A-B99D-496D897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53E9-9112-4B6E-B227-70A1C0C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6A18-DB26-449F-942F-93A1A77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52A6-8E58-49D8-9073-3E2168C7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CA6-FE67-4043-B71C-6C2F58D6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CD8E-F238-46CA-9ED0-4FA05495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286-80F1-4C38-8C31-6180196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FF3-7B0B-4A50-97F7-B52B34E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D08-3B0F-4584-83AD-9E380D5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A87E-89CE-4BEC-9417-9231D5680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C22C-2C6C-4BFA-92D0-81CC54952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99bdd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27CB-6188-4A01-A4C9-5BB9DF045C06}" type="slidenum">
              <a:rPr b="0" lang="en-US" sz="1200" spc="-1" strike="noStrike">
                <a:solidFill>
                  <a:srgbClr val="099bdd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41E-D6D6-482C-84B4-D67219371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127A-1E9B-47D6-8CEA-4061F03EEB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Corbel"/>
              </a:rPr>
              <a:t>SOFTWARE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VALIDATION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4444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etermine if the software meets all of the requirements defined in the S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Having written requirements is essentia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Regression testing involves selectively repeating existing validation tests, not developing new te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ACCEPTANCE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440" y="11426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Similar to validation testing except that customers are present or directly involv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Usually the tests are developed by the custom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 TECHNIQUE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White box or glass box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lack box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9bdd"/>
                </a:solidFill>
                <a:latin typeface="Times New Roman"/>
              </a:rPr>
              <a:t>TWO UNIT TESTING TECHNIQU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0440" y="20793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lack-box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Knowing the specified function that a product has been designed to perform, test to see if that function is fully operational and error fre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Not concerned with internal logical structure of the softwar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White-box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Knowing the internal workings of a product, test that all internal operations are performed according to specifications and all internal components have been exercis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Logical paths through the software are test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Test cases exercise specific sets of conditions and loop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636A-51FB-495B-AA2A-4D90AE08E3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Times New Roman"/>
              </a:rPr>
              <a:t>WHITE-BOX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228600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s are derived from the internal design specification or actual code for the progra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Advantag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Tests the internal details of the code;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Checks all paths that a program can execute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Limita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13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  <a:ea typeface="Tahoma"/>
              </a:rPr>
              <a:t>Wait until after designing and coding the program under test in order to select test cases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48" name="Content Placeholder 3" descr="Screen shot 2013-11-24 at 8.02.23 PM.png"/>
          <p:cNvPicPr/>
          <p:nvPr/>
        </p:nvPicPr>
        <p:blipFill>
          <a:blip r:embed="rId1"/>
          <a:stretch/>
        </p:blipFill>
        <p:spPr>
          <a:xfrm>
            <a:off x="1351080" y="2011320"/>
            <a:ext cx="6441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ITE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ite-box test design techniques include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trol flow 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ata flow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anch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th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WHITE-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2417760"/>
            <a:ext cx="85341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These test cas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Guarantee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ll independent pa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within a module have been exercised at least on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rcise all logical decisions on their true and false sid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cute all loops at their boundaries and within their operational boun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Exercise internal data structures to ensure their valid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91AF-E814-4BA2-A708-4487312EDD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BASIS PATH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39200" y="2308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White-box testing technique proposed by Tom McCabe enables the test case designer to derive a logical complexity measure of a procedural desig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Uses this measure as a guide for defining a basis set of execution path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Test cases derived to exercise the basis set are guaranteed to execut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every state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program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e ti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during tes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637E-84A9-404F-BF5A-785BF2B8F5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TRODUCTION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oftware Testing is the process of executing a program or system with the intent of finding erro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t involves any activity aimed at evaluating an attribute or capability of a program or system and determining that it meets its required resul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FLOW GRAPH NOTATION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120" y="21603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 circle in a graph represen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o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, which stands for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of one or more procedural statemen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 node containing a simple conditional expression is referred to a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predicate no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Each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compound condi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in a conditional expression containing one or more Boolean operators (e.g., and, or) is represented by a separate predicate no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 predicate node ha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tw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 edges leading out from it (True and False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ed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, or a link, is a an arrow representing flow of control in a specific direc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n edge must start and terminate at a no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An edge does not intersect or cross over another ed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F54-3608-4721-9C13-9E7830804C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FLOW GRAPH EXAMPL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2C0-F16A-40DE-8AAC-47C1F9400E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1905120" y="1905120"/>
            <a:ext cx="838080" cy="36504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905120" y="266688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2133720" y="121932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1905120" y="3216240"/>
            <a:ext cx="838080" cy="36504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048120" y="403848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8120" y="480060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1066680" y="4038480"/>
            <a:ext cx="838440" cy="36540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33520" y="4800600"/>
            <a:ext cx="8380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752480" y="4800600"/>
            <a:ext cx="8384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1066680" y="5486400"/>
            <a:ext cx="8384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362320" y="6248520"/>
            <a:ext cx="8380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76320" y="6095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2362320" y="1600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236232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1447920" y="35053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514600" y="35053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3429000" y="4343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 flipH="1">
            <a:off x="914400" y="43434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1676520" y="43434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914400" y="5105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 flipH="1">
            <a:off x="1676520" y="5105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1676520" y="579132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2971800" y="5105520"/>
            <a:ext cx="4572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7"/>
          <p:cNvSpPr/>
          <p:nvPr/>
        </p:nvSpPr>
        <p:spPr>
          <a:xfrm flipH="1">
            <a:off x="304560" y="2057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30492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>
            <a:off x="3200400" y="64008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0"/>
          <p:cNvSpPr/>
          <p:nvPr/>
        </p:nvSpPr>
        <p:spPr>
          <a:xfrm flipV="1">
            <a:off x="4267080" y="17524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1"/>
          <p:cNvSpPr/>
          <p:nvPr/>
        </p:nvSpPr>
        <p:spPr>
          <a:xfrm flipH="1">
            <a:off x="236196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32"/>
          <p:cNvSpPr/>
          <p:nvPr/>
        </p:nvSpPr>
        <p:spPr>
          <a:xfrm>
            <a:off x="6858000" y="1905120"/>
            <a:ext cx="457200" cy="365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858000" y="2666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6858000" y="3429000"/>
            <a:ext cx="457200" cy="365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8153280" y="411480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5791320" y="4038480"/>
            <a:ext cx="457200" cy="365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518148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647712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39"/>
          <p:cNvSpPr/>
          <p:nvPr/>
        </p:nvSpPr>
        <p:spPr>
          <a:xfrm>
            <a:off x="8153280" y="49528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>
            <a:off x="5943600" y="571500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41"/>
          <p:cNvSpPr/>
          <p:nvPr/>
        </p:nvSpPr>
        <p:spPr>
          <a:xfrm>
            <a:off x="6934320" y="63244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42"/>
          <p:cNvSpPr/>
          <p:nvPr/>
        </p:nvSpPr>
        <p:spPr>
          <a:xfrm>
            <a:off x="4876920" y="6324480"/>
            <a:ext cx="457200" cy="365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43"/>
          <p:cNvSpPr/>
          <p:nvPr/>
        </p:nvSpPr>
        <p:spPr>
          <a:xfrm>
            <a:off x="7086600" y="2286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 flipH="1">
            <a:off x="6248160" y="37339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7315200" y="37339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7"/>
          <p:cNvSpPr/>
          <p:nvPr/>
        </p:nvSpPr>
        <p:spPr>
          <a:xfrm flipH="1">
            <a:off x="5486400" y="434340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48"/>
          <p:cNvSpPr/>
          <p:nvPr/>
        </p:nvSpPr>
        <p:spPr>
          <a:xfrm>
            <a:off x="6172200" y="43434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5486400" y="53341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 flipH="1">
            <a:off x="6324120" y="53341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6400800" y="601992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 flipH="1">
            <a:off x="7315200" y="5334120"/>
            <a:ext cx="9907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3"/>
          <p:cNvSpPr/>
          <p:nvPr/>
        </p:nvSpPr>
        <p:spPr>
          <a:xfrm>
            <a:off x="838188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5029200" y="2057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>
            <a:off x="5029200" y="2057400"/>
            <a:ext cx="0" cy="419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 flipV="1">
            <a:off x="7391520" y="56383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 flipV="1">
            <a:off x="8915400" y="29718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 flipH="1" flipV="1">
            <a:off x="7314840" y="213372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3"/>
          <p:cNvSpPr/>
          <p:nvPr/>
        </p:nvSpPr>
        <p:spPr>
          <a:xfrm>
            <a:off x="109728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FLOW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4"/>
          <p:cNvSpPr/>
          <p:nvPr/>
        </p:nvSpPr>
        <p:spPr>
          <a:xfrm>
            <a:off x="5632920" y="71136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FLOW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65"/>
          <p:cNvSpPr/>
          <p:nvPr/>
        </p:nvSpPr>
        <p:spPr>
          <a:xfrm>
            <a:off x="6858000" y="1219320"/>
            <a:ext cx="457200" cy="365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6"/>
          <p:cNvSpPr/>
          <p:nvPr/>
        </p:nvSpPr>
        <p:spPr>
          <a:xfrm>
            <a:off x="7086600" y="1600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INDEPENDENT PROGRAM PATH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9200" y="19479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ed as a path through the program from the start node until the end node that introduces at least one new set of processing statements or a new condition (i.e., new node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Must move alo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edge that has not been traversed before by a previous pat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asis set for flow graph on previous sli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1: 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2: 0-1-2-3-4-5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3: 0-1-2-3-6-8-9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Path 4: 0-1-2-3-6-7-9-10-1-1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umber of path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basis set is determined by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cyclomatic complex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5CD-14D4-40D9-B56D-357CDF43F3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CYCLOMATIC COMPLEXIT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560" y="2003040"/>
            <a:ext cx="8762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ovides a quantitative measure of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ogical complex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of a progr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e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number of independent path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in the basis s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ovides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upper bou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for the number of tests that must be conducted to ensu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ll stat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have been execut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at least o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Can be comput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tw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 way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E – N + 2, where E is the number of edges and N is the number of nodes in graph 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P + 1, where P is the number of predicate nodes in the flow graph 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Results in the following equations for the example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14 edges – 12 nodes + 2 = 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V(G) = 3 predicate nodes + 1 = 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284B-9021-4628-98CE-7BC4DDC417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DERIVING THE BASIS SET AND TEST CAS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90400" y="2144520"/>
            <a:ext cx="78868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Using the design or code as a foundation, draw a corresponding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termine the cyclomatic complexity of the resultant flow grap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Determine a basis set of linearly independent path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Prepare test cases that will force execution of each path in the basis s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764-6D89-4A82-A76E-0135A85F3B3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YCLOMATIC COMPLEXIT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vented by Thomas McCabe (1974) to measure the complexity of a program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MS Gothic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MS Gothic"/>
              </a:rPr>
              <a:t>s conditional logic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800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Cyclomatic complexity of graph G equals #edges - #nodes + 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V(G) = e – n + 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800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Also corresponds to the number of linearly independent paths in a progra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FC9-197D-4394-8E68-BF760B88679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ONVERTING CODE TO GRAPH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BA6-9565-4EEF-A9F1-C2DC07B02F2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314440" y="2494080"/>
            <a:ext cx="1466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ession1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314440" y="3736800"/>
            <a:ext cx="1390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switch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1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2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cas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3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swi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m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676520" y="282888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675800" y="4300560"/>
            <a:ext cx="25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314440" y="5605560"/>
            <a:ext cx="1085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expr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end 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676520" y="5864400"/>
            <a:ext cx="24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>
            <a:off x="1674720" y="521028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>
            <a:off x="1674720" y="365760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1"/>
          <p:cNvSpPr/>
          <p:nvPr/>
        </p:nvSpPr>
        <p:spPr>
          <a:xfrm>
            <a:off x="1674720" y="226044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674720" y="6781680"/>
            <a:ext cx="55119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2553120" y="2030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196160" y="2030400"/>
            <a:ext cx="114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OWCH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6375960" y="2030400"/>
            <a:ext cx="6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56080" y="285264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3556080" y="432432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>
            <a:off x="5788080" y="432432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9"/>
          <p:cNvSpPr/>
          <p:nvPr/>
        </p:nvSpPr>
        <p:spPr>
          <a:xfrm>
            <a:off x="5786280" y="285120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3557520" y="5886360"/>
            <a:ext cx="19224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5788080" y="5888160"/>
            <a:ext cx="191880" cy="198360"/>
          </a:xfrm>
          <a:prstGeom prst="rightArrow">
            <a:avLst>
              <a:gd name="adj1" fmla="val 50324"/>
              <a:gd name="adj2" fmla="val 51514"/>
            </a:avLst>
          </a:prstGeom>
          <a:solidFill>
            <a:srgbClr val="b2b2b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5" name="AutoShape 22"/>
          <p:cNvCxnSpPr>
            <a:endCxn id="356" idx="0"/>
          </p:cNvCxnSpPr>
          <p:nvPr/>
        </p:nvCxnSpPr>
        <p:spPr>
          <a:xfrm>
            <a:off x="4768560" y="2314080"/>
            <a:ext cx="1080" cy="12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AutoShape 23"/>
          <p:cNvCxnSpPr>
            <a:stCxn id="356" idx="3"/>
            <a:endCxn id="358" idx="0"/>
          </p:cNvCxnSpPr>
          <p:nvPr/>
        </p:nvCxnSpPr>
        <p:spPr>
          <a:xfrm>
            <a:off x="5070240" y="2639880"/>
            <a:ext cx="130680" cy="191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9" name="AutoShape 24"/>
          <p:cNvCxnSpPr>
            <a:stCxn id="356" idx="1"/>
            <a:endCxn id="360" idx="0"/>
          </p:cNvCxnSpPr>
          <p:nvPr/>
        </p:nvCxnSpPr>
        <p:spPr>
          <a:xfrm flipV="1" rot="10800000">
            <a:off x="4336200" y="2639520"/>
            <a:ext cx="131040" cy="191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1" name="AutoShape 25"/>
          <p:cNvCxnSpPr>
            <a:stCxn id="358" idx="2"/>
            <a:endCxn id="362" idx="0"/>
          </p:cNvCxnSpPr>
          <p:nvPr/>
        </p:nvCxnSpPr>
        <p:spPr>
          <a:xfrm rot="5400000">
            <a:off x="4857840" y="2993040"/>
            <a:ext cx="253080" cy="432360"/>
          </a:xfrm>
          <a:prstGeom prst="bentConnector3">
            <a:avLst>
              <a:gd name="adj1" fmla="val 495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3" name="AutoShape 26"/>
          <p:cNvCxnSpPr>
            <a:stCxn id="360" idx="2"/>
            <a:endCxn id="362" idx="0"/>
          </p:cNvCxnSpPr>
          <p:nvPr/>
        </p:nvCxnSpPr>
        <p:spPr>
          <a:xfrm flipH="1" rot="16200000">
            <a:off x="4426560" y="2992680"/>
            <a:ext cx="253080" cy="432720"/>
          </a:xfrm>
          <a:prstGeom prst="bentConnector3">
            <a:avLst>
              <a:gd name="adj1" fmla="val 4957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4" name="Text Box 27"/>
          <p:cNvSpPr/>
          <p:nvPr/>
        </p:nvSpPr>
        <p:spPr>
          <a:xfrm>
            <a:off x="4356000" y="24415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5076720" y="244152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9"/>
          <p:cNvSpPr/>
          <p:nvPr/>
        </p:nvSpPr>
        <p:spPr>
          <a:xfrm>
            <a:off x="4467240" y="244008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30"/>
          <p:cNvSpPr/>
          <p:nvPr/>
        </p:nvSpPr>
        <p:spPr>
          <a:xfrm>
            <a:off x="4535640" y="333540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1"/>
          <p:cNvSpPr/>
          <p:nvPr/>
        </p:nvSpPr>
        <p:spPr>
          <a:xfrm>
            <a:off x="4103640" y="2830680"/>
            <a:ext cx="46692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2"/>
          <p:cNvSpPr/>
          <p:nvPr/>
        </p:nvSpPr>
        <p:spPr>
          <a:xfrm>
            <a:off x="4967280" y="283068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6" name="AutoShape 33"/>
          <p:cNvCxnSpPr>
            <a:endCxn id="367" idx="0"/>
          </p:cNvCxnSpPr>
          <p:nvPr/>
        </p:nvCxnSpPr>
        <p:spPr>
          <a:xfrm>
            <a:off x="4768560" y="3695760"/>
            <a:ext cx="1080" cy="12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8" name="AutoShape 34"/>
          <p:cNvCxnSpPr>
            <a:stCxn id="367" idx="3"/>
            <a:endCxn id="369" idx="0"/>
          </p:cNvCxnSpPr>
          <p:nvPr/>
        </p:nvCxnSpPr>
        <p:spPr>
          <a:xfrm>
            <a:off x="5070600" y="4020840"/>
            <a:ext cx="303840" cy="345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0" name="AutoShape 35"/>
          <p:cNvCxnSpPr>
            <a:stCxn id="367" idx="1"/>
            <a:endCxn id="371" idx="0"/>
          </p:cNvCxnSpPr>
          <p:nvPr/>
        </p:nvCxnSpPr>
        <p:spPr>
          <a:xfrm flipV="1" rot="10800000">
            <a:off x="4163400" y="4020120"/>
            <a:ext cx="303840" cy="345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2" name="AutoShape 36"/>
          <p:cNvCxnSpPr>
            <a:stCxn id="369" idx="2"/>
            <a:endCxn id="373" idx="0"/>
          </p:cNvCxnSpPr>
          <p:nvPr/>
        </p:nvCxnSpPr>
        <p:spPr>
          <a:xfrm rot="5400000">
            <a:off x="4930920" y="445536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4" name="AutoShape 37"/>
          <p:cNvCxnSpPr>
            <a:stCxn id="371" idx="2"/>
            <a:endCxn id="373" idx="0"/>
          </p:cNvCxnSpPr>
          <p:nvPr/>
        </p:nvCxnSpPr>
        <p:spPr>
          <a:xfrm flipH="1" rot="16200000">
            <a:off x="4326840" y="4455000"/>
            <a:ext cx="280080" cy="605520"/>
          </a:xfrm>
          <a:prstGeom prst="bentConnector3">
            <a:avLst>
              <a:gd name="adj1" fmla="val 494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5" name="AutoShape 38"/>
          <p:cNvCxnSpPr>
            <a:stCxn id="367" idx="2"/>
            <a:endCxn id="376" idx="0"/>
          </p:cNvCxnSpPr>
          <p:nvPr/>
        </p:nvCxnSpPr>
        <p:spPr>
          <a:xfrm>
            <a:off x="4768560" y="4220640"/>
            <a:ext cx="1080" cy="14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7" name="AutoShape 39"/>
          <p:cNvCxnSpPr>
            <a:stCxn id="376" idx="2"/>
            <a:endCxn id="373" idx="0"/>
          </p:cNvCxnSpPr>
          <p:nvPr/>
        </p:nvCxnSpPr>
        <p:spPr>
          <a:xfrm>
            <a:off x="4768560" y="4615920"/>
            <a:ext cx="1080" cy="28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8" name="Text Box 40"/>
          <p:cNvSpPr/>
          <p:nvPr/>
        </p:nvSpPr>
        <p:spPr>
          <a:xfrm>
            <a:off x="4570560" y="415116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4343400" y="3821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5102280" y="3821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43"/>
          <p:cNvSpPr/>
          <p:nvPr/>
        </p:nvSpPr>
        <p:spPr>
          <a:xfrm>
            <a:off x="4467240" y="382104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44"/>
          <p:cNvSpPr/>
          <p:nvPr/>
        </p:nvSpPr>
        <p:spPr>
          <a:xfrm>
            <a:off x="4535640" y="489744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5"/>
          <p:cNvSpPr/>
          <p:nvPr/>
        </p:nvSpPr>
        <p:spPr>
          <a:xfrm>
            <a:off x="4535640" y="436392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46"/>
          <p:cNvSpPr/>
          <p:nvPr/>
        </p:nvSpPr>
        <p:spPr>
          <a:xfrm>
            <a:off x="3930480" y="4365720"/>
            <a:ext cx="46692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47"/>
          <p:cNvSpPr/>
          <p:nvPr/>
        </p:nvSpPr>
        <p:spPr>
          <a:xfrm>
            <a:off x="5140440" y="436572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AutoShape 49"/>
          <p:cNvCxnSpPr>
            <a:stCxn id="382" idx="2"/>
            <a:endCxn id="383" idx="0"/>
          </p:cNvCxnSpPr>
          <p:nvPr/>
        </p:nvCxnSpPr>
        <p:spPr>
          <a:xfrm flipV="1" rot="10800000">
            <a:off x="6352560" y="2591280"/>
            <a:ext cx="232560" cy="253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4" name="AutoShape 51"/>
          <p:cNvCxnSpPr>
            <a:stCxn id="382" idx="6"/>
            <a:endCxn id="385" idx="0"/>
          </p:cNvCxnSpPr>
          <p:nvPr/>
        </p:nvCxnSpPr>
        <p:spPr>
          <a:xfrm>
            <a:off x="6813720" y="2592000"/>
            <a:ext cx="234000" cy="253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AutoShape 52"/>
          <p:cNvCxnSpPr>
            <a:stCxn id="383" idx="4"/>
            <a:endCxn id="387" idx="1"/>
          </p:cNvCxnSpPr>
          <p:nvPr/>
        </p:nvCxnSpPr>
        <p:spPr>
          <a:xfrm flipH="1" rot="16200000">
            <a:off x="6329160" y="3096720"/>
            <a:ext cx="313560" cy="265680"/>
          </a:xfrm>
          <a:prstGeom prst="curvedConnector5">
            <a:avLst>
              <a:gd name="adj1" fmla="val 44597"/>
              <a:gd name="adj2" fmla="val 49932"/>
              <a:gd name="adj3" fmla="val 445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8" name="AutoShape 53"/>
          <p:cNvCxnSpPr>
            <a:stCxn id="385" idx="4"/>
            <a:endCxn id="387" idx="7"/>
          </p:cNvCxnSpPr>
          <p:nvPr/>
        </p:nvCxnSpPr>
        <p:spPr>
          <a:xfrm rot="5400000">
            <a:off x="6756480" y="3096360"/>
            <a:ext cx="313560" cy="267120"/>
          </a:xfrm>
          <a:prstGeom prst="curvedConnector5">
            <a:avLst>
              <a:gd name="adj1" fmla="val 44597"/>
              <a:gd name="adj2" fmla="val 49932"/>
              <a:gd name="adj3" fmla="val 4459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82" name="Oval 54"/>
          <p:cNvSpPr/>
          <p:nvPr/>
        </p:nvSpPr>
        <p:spPr>
          <a:xfrm>
            <a:off x="6585120" y="24782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55"/>
          <p:cNvSpPr/>
          <p:nvPr/>
        </p:nvSpPr>
        <p:spPr>
          <a:xfrm>
            <a:off x="6238800" y="284472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56"/>
          <p:cNvSpPr/>
          <p:nvPr/>
        </p:nvSpPr>
        <p:spPr>
          <a:xfrm>
            <a:off x="6932520" y="284472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6585120" y="33526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Group 58"/>
          <p:cNvGrpSpPr/>
          <p:nvPr/>
        </p:nvGrpSpPr>
        <p:grpSpPr>
          <a:xfrm>
            <a:off x="6211800" y="3792600"/>
            <a:ext cx="979200" cy="1260000"/>
            <a:chOff x="6211800" y="3792600"/>
            <a:chExt cx="979200" cy="1260000"/>
          </a:xfrm>
        </p:grpSpPr>
        <p:cxnSp>
          <p:nvCxnSpPr>
            <p:cNvPr id="390" name="AutoShape 59"/>
            <p:cNvCxnSpPr>
              <a:stCxn id="391" idx="2"/>
              <a:endCxn id="392" idx="0"/>
            </p:cNvCxnSpPr>
            <p:nvPr/>
          </p:nvCxnSpPr>
          <p:spPr>
            <a:xfrm flipV="1" rot="10800000">
              <a:off x="6325200" y="4063320"/>
              <a:ext cx="261000" cy="2527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3" name="AutoShape 60"/>
            <p:cNvCxnSpPr>
              <a:endCxn id="391" idx="0"/>
            </p:cNvCxnSpPr>
            <p:nvPr/>
          </p:nvCxnSpPr>
          <p:spPr>
            <a:xfrm>
              <a:off x="6700320" y="3792600"/>
              <a:ext cx="1080" cy="157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4" name="AutoShape 61"/>
            <p:cNvCxnSpPr>
              <a:stCxn id="391" idx="6"/>
              <a:endCxn id="395" idx="0"/>
            </p:cNvCxnSpPr>
            <p:nvPr/>
          </p:nvCxnSpPr>
          <p:spPr>
            <a:xfrm>
              <a:off x="6814800" y="4063680"/>
              <a:ext cx="262800" cy="25272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6" name="AutoShape 62"/>
            <p:cNvCxnSpPr>
              <a:stCxn id="392" idx="4"/>
              <a:endCxn id="397" idx="1"/>
            </p:cNvCxnSpPr>
            <p:nvPr/>
          </p:nvCxnSpPr>
          <p:spPr>
            <a:xfrm flipH="1" rot="16200000">
              <a:off x="6316560" y="4553640"/>
              <a:ext cx="313200" cy="294480"/>
            </a:xfrm>
            <a:prstGeom prst="curvedConnector5">
              <a:avLst>
                <a:gd name="adj1" fmla="val 44649"/>
                <a:gd name="adj2" fmla="val 49938"/>
                <a:gd name="adj3" fmla="val 4464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8" name="AutoShape 63"/>
            <p:cNvCxnSpPr>
              <a:stCxn id="395" idx="4"/>
              <a:endCxn id="397" idx="7"/>
            </p:cNvCxnSpPr>
            <p:nvPr/>
          </p:nvCxnSpPr>
          <p:spPr>
            <a:xfrm rot="5400000">
              <a:off x="6774120" y="4551840"/>
              <a:ext cx="313200" cy="295560"/>
            </a:xfrm>
            <a:prstGeom prst="curvedConnector5">
              <a:avLst>
                <a:gd name="adj1" fmla="val 44649"/>
                <a:gd name="adj2" fmla="val 50000"/>
                <a:gd name="adj3" fmla="val 4464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9" name="AutoShape 64"/>
            <p:cNvCxnSpPr>
              <a:stCxn id="391" idx="4"/>
              <a:endCxn id="400" idx="0"/>
            </p:cNvCxnSpPr>
            <p:nvPr/>
          </p:nvCxnSpPr>
          <p:spPr>
            <a:xfrm>
              <a:off x="6700320" y="4178160"/>
              <a:ext cx="1080" cy="13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1" name="AutoShape 65"/>
            <p:cNvCxnSpPr>
              <a:stCxn id="400" idx="4"/>
              <a:endCxn id="397" idx="0"/>
            </p:cNvCxnSpPr>
            <p:nvPr/>
          </p:nvCxnSpPr>
          <p:spPr>
            <a:xfrm>
              <a:off x="6700320" y="4544640"/>
              <a:ext cx="1080" cy="280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91" name="Oval 66"/>
            <p:cNvSpPr/>
            <p:nvPr/>
          </p:nvSpPr>
          <p:spPr>
            <a:xfrm>
              <a:off x="6586200" y="394956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67"/>
            <p:cNvSpPr/>
            <p:nvPr/>
          </p:nvSpPr>
          <p:spPr>
            <a:xfrm>
              <a:off x="62118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68"/>
            <p:cNvSpPr/>
            <p:nvPr/>
          </p:nvSpPr>
          <p:spPr>
            <a:xfrm>
              <a:off x="69624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69"/>
            <p:cNvSpPr/>
            <p:nvPr/>
          </p:nvSpPr>
          <p:spPr>
            <a:xfrm>
              <a:off x="6586200" y="482436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70"/>
            <p:cNvSpPr/>
            <p:nvPr/>
          </p:nvSpPr>
          <p:spPr>
            <a:xfrm>
              <a:off x="6586200" y="4316040"/>
              <a:ext cx="228600" cy="22824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02" name="AutoShape 71"/>
          <p:cNvCxnSpPr>
            <a:stCxn id="403" idx="2"/>
            <a:endCxn id="404" idx="0"/>
          </p:cNvCxnSpPr>
          <p:nvPr/>
        </p:nvCxnSpPr>
        <p:spPr>
          <a:xfrm>
            <a:off x="4768560" y="5687640"/>
            <a:ext cx="1080" cy="158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5" name="AutoShape 72"/>
          <p:cNvCxnSpPr>
            <a:stCxn id="404" idx="1"/>
            <a:endCxn id="403" idx="1"/>
          </p:cNvCxnSpPr>
          <p:nvPr/>
        </p:nvCxnSpPr>
        <p:spPr>
          <a:xfrm flipH="1" rot="10800000">
            <a:off x="4466880" y="5562000"/>
            <a:ext cx="69120" cy="483120"/>
          </a:xfrm>
          <a:prstGeom prst="bentConnector3">
            <a:avLst>
              <a:gd name="adj1" fmla="val -33455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6" name="Text Box 73"/>
          <p:cNvSpPr/>
          <p:nvPr/>
        </p:nvSpPr>
        <p:spPr>
          <a:xfrm>
            <a:off x="4416480" y="584676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74"/>
          <p:cNvSpPr/>
          <p:nvPr/>
        </p:nvSpPr>
        <p:spPr>
          <a:xfrm>
            <a:off x="4635360" y="6216480"/>
            <a:ext cx="9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8" name="AutoShape 75"/>
          <p:cNvCxnSpPr>
            <a:stCxn id="404" idx="2"/>
            <a:endCxn id="409" idx="0"/>
          </p:cNvCxnSpPr>
          <p:nvPr/>
        </p:nvCxnSpPr>
        <p:spPr>
          <a:xfrm>
            <a:off x="4768560" y="6245280"/>
            <a:ext cx="108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0" name="AutoShape 76"/>
          <p:cNvCxnSpPr>
            <a:endCxn id="403" idx="0"/>
          </p:cNvCxnSpPr>
          <p:nvPr/>
        </p:nvCxnSpPr>
        <p:spPr>
          <a:xfrm>
            <a:off x="4768560" y="5256360"/>
            <a:ext cx="10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AutoShape 77"/>
          <p:cNvSpPr/>
          <p:nvPr/>
        </p:nvSpPr>
        <p:spPr>
          <a:xfrm>
            <a:off x="4467240" y="5845320"/>
            <a:ext cx="603360" cy="399960"/>
          </a:xfrm>
          <a:prstGeom prst="flowChartDecision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72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r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8"/>
          <p:cNvSpPr/>
          <p:nvPr/>
        </p:nvSpPr>
        <p:spPr>
          <a:xfrm>
            <a:off x="4535640" y="6464160"/>
            <a:ext cx="466560" cy="25272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79"/>
          <p:cNvSpPr/>
          <p:nvPr/>
        </p:nvSpPr>
        <p:spPr>
          <a:xfrm>
            <a:off x="4535640" y="5435640"/>
            <a:ext cx="466560" cy="252360"/>
          </a:xfrm>
          <a:prstGeom prst="flowChartProcess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m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80"/>
          <p:cNvGrpSpPr/>
          <p:nvPr/>
        </p:nvGrpSpPr>
        <p:grpSpPr>
          <a:xfrm>
            <a:off x="6328800" y="5356080"/>
            <a:ext cx="487800" cy="1260360"/>
            <a:chOff x="6328800" y="5356080"/>
            <a:chExt cx="487800" cy="1260360"/>
          </a:xfrm>
        </p:grpSpPr>
        <p:cxnSp>
          <p:nvCxnSpPr>
            <p:cNvPr id="412" name="AutoShape 81"/>
            <p:cNvCxnSpPr>
              <a:stCxn id="413" idx="2"/>
              <a:endCxn id="414" idx="2"/>
            </p:cNvCxnSpPr>
            <p:nvPr/>
          </p:nvCxnSpPr>
          <p:spPr>
            <a:xfrm flipH="1" rot="10800000">
              <a:off x="6587640" y="5626800"/>
              <a:ext cx="2160" cy="472320"/>
            </a:xfrm>
            <a:prstGeom prst="curvedConnector5">
              <a:avLst>
                <a:gd name="adj1" fmla="val -14400000"/>
                <a:gd name="adj2" fmla="val 49961"/>
                <a:gd name="adj3" fmla="val -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5" name="AutoShape 82"/>
            <p:cNvCxnSpPr>
              <a:endCxn id="414" idx="0"/>
            </p:cNvCxnSpPr>
            <p:nvPr/>
          </p:nvCxnSpPr>
          <p:spPr>
            <a:xfrm>
              <a:off x="6701760" y="5356080"/>
              <a:ext cx="1080" cy="157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6" name="AutoShape 83"/>
            <p:cNvCxnSpPr>
              <a:stCxn id="414" idx="4"/>
              <a:endCxn id="413" idx="0"/>
            </p:cNvCxnSpPr>
            <p:nvPr/>
          </p:nvCxnSpPr>
          <p:spPr>
            <a:xfrm>
              <a:off x="6701760" y="5741280"/>
              <a:ext cx="1080" cy="243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7" name="AutoShape 84"/>
            <p:cNvCxnSpPr>
              <a:stCxn id="413" idx="4"/>
              <a:endCxn id="418" idx="0"/>
            </p:cNvCxnSpPr>
            <p:nvPr/>
          </p:nvCxnSpPr>
          <p:spPr>
            <a:xfrm>
              <a:off x="6701760" y="6212880"/>
              <a:ext cx="1080" cy="175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14" name="Oval 85"/>
            <p:cNvSpPr/>
            <p:nvPr/>
          </p:nvSpPr>
          <p:spPr>
            <a:xfrm>
              <a:off x="6588000" y="55130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86"/>
            <p:cNvSpPr/>
            <p:nvPr/>
          </p:nvSpPr>
          <p:spPr>
            <a:xfrm>
              <a:off x="6588000" y="59846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7"/>
            <p:cNvSpPr/>
            <p:nvPr/>
          </p:nvSpPr>
          <p:spPr>
            <a:xfrm>
              <a:off x="6588000" y="6387840"/>
              <a:ext cx="228600" cy="228600"/>
            </a:xfrm>
            <a:prstGeom prst="ellipse">
              <a:avLst/>
            </a:prstGeom>
            <a:solidFill>
              <a:srgbClr val="2c2c2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Line 89"/>
          <p:cNvSpPr/>
          <p:nvPr/>
        </p:nvSpPr>
        <p:spPr>
          <a:xfrm>
            <a:off x="6699240" y="233352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90"/>
          <p:cNvSpPr/>
          <p:nvPr/>
        </p:nvSpPr>
        <p:spPr>
          <a:xfrm flipV="1">
            <a:off x="6653160" y="2397960"/>
            <a:ext cx="9216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XAMPLE PATHS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DCA-E3D2-4F74-AF78-876E1C24AB6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AutoShape 5"/>
          <p:cNvCxnSpPr>
            <a:stCxn id="424" idx="4"/>
            <a:endCxn id="425" idx="0"/>
          </p:cNvCxnSpPr>
          <p:nvPr/>
        </p:nvCxnSpPr>
        <p:spPr>
          <a:xfrm>
            <a:off x="3166560" y="2947680"/>
            <a:ext cx="1080" cy="29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6"/>
          <p:cNvCxnSpPr>
            <a:stCxn id="427" idx="5"/>
            <a:endCxn id="425" idx="2"/>
          </p:cNvCxnSpPr>
          <p:nvPr/>
        </p:nvCxnSpPr>
        <p:spPr>
          <a:xfrm>
            <a:off x="2769840" y="317772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8" name="Text Box 7"/>
          <p:cNvSpPr/>
          <p:nvPr/>
        </p:nvSpPr>
        <p:spPr>
          <a:xfrm>
            <a:off x="254160" y="2173320"/>
            <a:ext cx="19954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ession1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expression5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tatement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9" name="AutoShape 8"/>
          <p:cNvCxnSpPr>
            <a:stCxn id="430" idx="6"/>
            <a:endCxn id="425" idx="6"/>
          </p:cNvCxnSpPr>
          <p:nvPr/>
        </p:nvCxnSpPr>
        <p:spPr>
          <a:xfrm flipV="1">
            <a:off x="3281400" y="3360240"/>
            <a:ext cx="2160" cy="489600"/>
          </a:xfrm>
          <a:prstGeom prst="curvedConnector5">
            <a:avLst>
              <a:gd name="adj1" fmla="val 14400000"/>
              <a:gd name="adj2" fmla="val 49963"/>
              <a:gd name="adj3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1" name="AutoShape 9"/>
          <p:cNvCxnSpPr>
            <a:stCxn id="425" idx="4"/>
            <a:endCxn id="430" idx="0"/>
          </p:cNvCxnSpPr>
          <p:nvPr/>
        </p:nvCxnSpPr>
        <p:spPr>
          <a:xfrm>
            <a:off x="3166560" y="3474720"/>
            <a:ext cx="1080" cy="26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2" name="AutoShape 10"/>
          <p:cNvCxnSpPr>
            <a:stCxn id="430" idx="4"/>
            <a:endCxn id="433" idx="0"/>
          </p:cNvCxnSpPr>
          <p:nvPr/>
        </p:nvCxnSpPr>
        <p:spPr>
          <a:xfrm>
            <a:off x="3166560" y="3963960"/>
            <a:ext cx="1080" cy="18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4" name="AutoShape 11"/>
          <p:cNvCxnSpPr>
            <a:stCxn id="433" idx="4"/>
            <a:endCxn id="435" idx="0"/>
          </p:cNvCxnSpPr>
          <p:nvPr/>
        </p:nvCxnSpPr>
        <p:spPr>
          <a:xfrm>
            <a:off x="3166560" y="4371840"/>
            <a:ext cx="1080" cy="30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6" name="AutoShape 13"/>
          <p:cNvCxnSpPr>
            <a:stCxn id="424" idx="2"/>
            <a:endCxn id="427" idx="7"/>
          </p:cNvCxnSpPr>
          <p:nvPr/>
        </p:nvCxnSpPr>
        <p:spPr>
          <a:xfrm flipH="1">
            <a:off x="2769480" y="283320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7" name="AutoShape 14"/>
          <p:cNvCxnSpPr>
            <a:stCxn id="433" idx="2"/>
            <a:endCxn id="438" idx="7"/>
          </p:cNvCxnSpPr>
          <p:nvPr/>
        </p:nvCxnSpPr>
        <p:spPr>
          <a:xfrm flipH="1">
            <a:off x="2769480" y="4257360"/>
            <a:ext cx="283320" cy="183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9" name="AutoShape 15"/>
          <p:cNvCxnSpPr>
            <a:stCxn id="438" idx="5"/>
            <a:endCxn id="435" idx="2"/>
          </p:cNvCxnSpPr>
          <p:nvPr/>
        </p:nvCxnSpPr>
        <p:spPr>
          <a:xfrm>
            <a:off x="2769840" y="4601880"/>
            <a:ext cx="283320" cy="184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4" name="Oval 16"/>
          <p:cNvSpPr/>
          <p:nvPr/>
        </p:nvSpPr>
        <p:spPr>
          <a:xfrm>
            <a:off x="3052800" y="27194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17"/>
          <p:cNvSpPr/>
          <p:nvPr/>
        </p:nvSpPr>
        <p:spPr>
          <a:xfrm>
            <a:off x="3052800" y="32464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2575080" y="29829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3052800" y="37353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20"/>
          <p:cNvSpPr/>
          <p:nvPr/>
        </p:nvSpPr>
        <p:spPr>
          <a:xfrm>
            <a:off x="3052800" y="414324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3052800" y="467208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22"/>
          <p:cNvSpPr/>
          <p:nvPr/>
        </p:nvSpPr>
        <p:spPr>
          <a:xfrm>
            <a:off x="2575080" y="4406760"/>
            <a:ext cx="228600" cy="228600"/>
          </a:xfrm>
          <a:prstGeom prst="ellipse">
            <a:avLst/>
          </a:prstGeom>
          <a:solidFill>
            <a:srgbClr val="2c2c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2793600" y="2739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2793600" y="3284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3261960" y="2989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2945880" y="3497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3569760" y="352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3261960" y="3936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2793600" y="41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2793600" y="4705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3261960" y="4413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4508280" y="24066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th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4516560" y="2814480"/>
            <a:ext cx="3628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1 = e1, e2, e4, e6, e7, e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2 = e1, e2, e4, e5, e4, e6, e7, e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3 = e3, e4, e6, e7, e8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4 = e6, e7, e8, e10, e3, e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5 = e1, e2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6 = e4, e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7 = e3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8 = e1, e2, e4, e5, e4, e6, e9, e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66"/>
          <p:cNvSpPr/>
          <p:nvPr/>
        </p:nvSpPr>
        <p:spPr>
          <a:xfrm>
            <a:off x="3182760" y="5361120"/>
            <a:ext cx="4327560" cy="34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8360" bIns="183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V(G) = e – n + 2 = 9 – 7 + 2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XAMPLE 1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53" name="Content Placeholder 4" descr="Screen shot 2013-11-25 at 6.52.41 PM.png"/>
          <p:cNvPicPr/>
          <p:nvPr/>
        </p:nvPicPr>
        <p:blipFill>
          <a:blip r:embed="rId1"/>
          <a:srcRect l="52745" t="8032" r="0" b="19724"/>
          <a:stretch/>
        </p:blipFill>
        <p:spPr>
          <a:xfrm>
            <a:off x="835200" y="2160720"/>
            <a:ext cx="3917880" cy="3706560"/>
          </a:xfrm>
          <a:prstGeom prst="rect">
            <a:avLst/>
          </a:prstGeom>
          <a:ln w="0">
            <a:noFill/>
          </a:ln>
        </p:spPr>
      </p:pic>
      <p:sp>
        <p:nvSpPr>
          <p:cNvPr id="454" name="Slide Number Placeholder 2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A26A-84CA-465B-A29E-934FE0CA4989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56" name="Content Placeholder 4" descr="Screen shot 2013-11-25 at 6.52.41 PM.png"/>
          <p:cNvPicPr/>
          <p:nvPr/>
        </p:nvPicPr>
        <p:blipFill>
          <a:blip r:embed="rId1"/>
          <a:srcRect l="0" t="8032" r="43642" b="3342"/>
          <a:stretch/>
        </p:blipFill>
        <p:spPr>
          <a:xfrm>
            <a:off x="0" y="2133720"/>
            <a:ext cx="4365720" cy="3892320"/>
          </a:xfrm>
          <a:prstGeom prst="rect">
            <a:avLst/>
          </a:prstGeom>
          <a:ln w="0">
            <a:noFill/>
          </a:ln>
        </p:spPr>
      </p:pic>
      <p:sp>
        <p:nvSpPr>
          <p:cNvPr id="457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EA03-5BBE-4626-AFC4-8774F67C8DBC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4500720" y="221292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=e-n+2=11-9+2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ING OBJECTIV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sting is a process of executing a program with the intent of finding an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good test case is one that has high probability of finding an undiscovered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uccessful test is one that uncovers an as-yet undiscovered erro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major testing objective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is to design tests that systematically uncover types of errors with minimum time and effort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60" name="Content Placeholder 4" descr="Screen shot 2013-11-25 at 6.57.03 PM.png"/>
          <p:cNvPicPr/>
          <p:nvPr/>
        </p:nvPicPr>
        <p:blipFill>
          <a:blip r:embed="rId1"/>
          <a:srcRect l="0" t="15788" r="48225" b="11665"/>
          <a:stretch/>
        </p:blipFill>
        <p:spPr>
          <a:xfrm>
            <a:off x="490680" y="2286000"/>
            <a:ext cx="5259240" cy="3602160"/>
          </a:xfrm>
          <a:prstGeom prst="rect">
            <a:avLst/>
          </a:prstGeom>
          <a:ln w="0">
            <a:noFill/>
          </a:ln>
        </p:spPr>
      </p:pic>
      <p:sp>
        <p:nvSpPr>
          <p:cNvPr id="461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5ED-2879-47B2-ACB5-7C2562FC1334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63" name="Content Placeholder 4" descr="Screen shot 2013-11-25 at 6.57.03 PM.png"/>
          <p:cNvPicPr/>
          <p:nvPr/>
        </p:nvPicPr>
        <p:blipFill>
          <a:blip r:embed="rId1"/>
          <a:srcRect l="51298" t="1313" r="0" b="-663"/>
          <a:stretch/>
        </p:blipFill>
        <p:spPr>
          <a:xfrm>
            <a:off x="326880" y="2443320"/>
            <a:ext cx="4044960" cy="40338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3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C9EC-9AD3-4518-A660-31778151F13A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4583160" y="221292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=e-n+2=11-9+2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Times New Roman"/>
              </a:rPr>
              <a:t>BLACK-BOX TESTING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LACK 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s are derived from formal specification of the syste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Test case selection can be done without any reference to the program design or cod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Only tests the functionality and features of the program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Not the internal opera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  <a:ea typeface="Tahoma"/>
              </a:rPr>
              <a:t>Advantag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 case selection is done before the implementation of a program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Help in getting the design and coding correct with respect to the specification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LACK BOX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471" name="Content Placeholder 3" descr="Screen shot 2013-11-24 at 8.02.16 PM.png"/>
          <p:cNvPicPr/>
          <p:nvPr/>
        </p:nvPicPr>
        <p:blipFill>
          <a:blip r:embed="rId1"/>
          <a:stretch/>
        </p:blipFill>
        <p:spPr>
          <a:xfrm>
            <a:off x="1992240" y="2011320"/>
            <a:ext cx="51595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Times New Roman"/>
              </a:rPr>
              <a:t>BLACK-BOX TESTING CATEGORI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correct or missing func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terface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Errors in data structures or external data base acces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Behavior or performance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Initialization and termination error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Slide Number Placeholder 5"/>
          <p:cNvSpPr/>
          <p:nvPr/>
        </p:nvSpPr>
        <p:spPr>
          <a:xfrm>
            <a:off x="826452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636-8CD5-4139-8D14-87AFED94C6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QUESTIONS ANSWERED BY BLACK-BOX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is functional validity tes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are system behavior and performance tes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classes of input will make good test cas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Is the system particularly sensitive to certain input valu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How are the boundary values of a data class isolated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data rates and data volume can the system tolerat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69560" indent="-1695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Tahoma"/>
              </a:rPr>
              <a:t>What effect will specific combinations of data have on system opera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TEST CHARACTARISTICS</a:t>
            </a: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has a high probability of finding an erro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tester must understand the software and how it might fai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is not redunda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ing time is limited; one test should not serve the same purpose as another te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should be “best of breed”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ests that have the highest likelihood of uncovering a whole class of errors should be us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A good test should be neither too simple nor too complex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Each test should be executed separately; combining a series of tests could cause side effects and mask certain erro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CHARACTERISTICS OF TESTABLE SOFTWA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Oper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better it works (i.e., better quality), the easier it is to te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Observ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Incorrect output is easily identified; internal errors are automatically detect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Controll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states and variables of the software can be controlled directly by the test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Decompos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software is built from independent modules that can be tested independentl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  <a:ea typeface="Tahoma"/>
              </a:rPr>
              <a:t>CHARACTERISTICS OF TESTABLE SOFTWA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program should exhibit functional, structural, and code simpli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St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Changes to the software during testing are infrequent and do not invalidate existing tes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Tahoma"/>
              </a:rPr>
              <a:t>Understandab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Tahoma"/>
              </a:rPr>
              <a:t>The architectural design is well understood; documentation is available and organiz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LEVELS OF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2438280"/>
            <a:ext cx="7010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ance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UNIT TESTING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Algorithms and logic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ata structures (global and local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dependent path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oundary condi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Y INTEGRATION TESTING IS NECESSAR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One module can have an adverse effect on anoth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Subfunctions, when combined, may not produce the desired major func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facing errors not detected in unit testing may appea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Timing problems (in real-time systems) are not detectable by unit test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02:49Z</dcterms:created>
  <dc:creator>Robert W. Lingard</dc:creator>
  <dc:description/>
  <dc:language>en-US</dc:language>
  <cp:lastModifiedBy>Aseel</cp:lastModifiedBy>
  <dcterms:modified xsi:type="dcterms:W3CDTF">2014-04-20T16:59:53Z</dcterms:modified>
  <cp:revision>55</cp:revision>
  <dc:subject/>
  <dc:title>Software Testing</dc:title>
</cp:coreProperties>
</file>