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2.png" ContentType="image/png"/>
  <Override PartName="/ppt/media/image21.jpeg" ContentType="image/jpeg"/>
  <Override PartName="/ppt/media/image28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30.png" ContentType="image/png"/>
  <Override PartName="/ppt/media/image5.jpeg" ContentType="image/jpeg"/>
  <Override PartName="/ppt/media/image27.jpeg" ContentType="image/jpeg"/>
  <Override PartName="/ppt/media/image7.png" ContentType="image/png"/>
  <Override PartName="/ppt/media/image9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jpeg" ContentType="image/jpe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AB56-5A7B-49AF-8F4F-F68166022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727B-2073-4079-89D8-1415F3D50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C23D-4F28-468D-8AA5-D5B1E32F0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4B3B-E900-4BDD-A3E0-56916EF3E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ECDFD-645B-4693-8E29-FF2F28295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F7A16-6DAF-4087-A58E-673211F8D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D2160-C89F-49F2-8384-FCC43ACAB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D0101-AA4F-4C15-B1C9-ECA7F6D34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E2E24-9A94-4AEB-B64E-BB034040B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C5704-7565-46B2-8ED2-27CC19411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427FD-E46E-4327-AB71-4D3D44EC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D9D7-E10B-425C-BA47-5C0C037F3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125D9-BF3B-4C3B-9615-6D197EEE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418D0-B2F1-4217-9756-FC707DC6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8C16A-EFAC-4C14-9472-3080CE061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AACDC-3D6D-4834-9E66-DC802132E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FFB6B-01D9-49D4-9673-61086D6B1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DE92C-AE5D-4088-93F4-9253F06CE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B780F-C127-42C6-803E-18F33E689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72A4B-D550-4EEF-A7E3-E39ED5D1F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29628-FAF9-4C09-8C9F-FE07EDFD1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88882-E916-4B22-8965-774CE7E6E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79F5-8BB4-4E4D-AC93-C61E53BA6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09DCD-7638-4577-8627-AFB4AE0A4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6A958-C685-43D2-BEB1-0A48D4EF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2D51D-0DC4-4134-9070-9C397A99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1C61C-9C1C-4D30-B6E1-2EBC83AF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89F61-F88C-4A66-8A6F-5EDE8975E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8EC95-AA9C-4D81-86E6-636ECCC3F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78DD0-D59F-448A-94EF-4BF50AFD9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2A518-B3B2-423E-A2F8-04D3A0A9B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65D9D-636E-4BB2-9DDB-177CDFA1B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BE8E2-C66F-4068-A26D-A6D88658A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D142-D652-445C-AE28-A368CABB8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177C9-EB14-4796-9CE1-49747B9DA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5B75D-B78B-4517-BCC0-0232C88C5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A1314-7DB4-4BD3-8225-9EA007D9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272B4-077E-4794-BBA0-F4094E5F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7CB09-91BD-441F-8DFC-2C2DA8C1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504D5-DC28-4C0A-BB51-E0D81C29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5AE21-FF2D-43AD-8790-207A6FC71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61F4E-AC44-48D5-BE0D-1BE009D6D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AE37E-3E71-4108-AB5B-765C545C6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FC8A9-CC99-4420-AE03-F2B6693A8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31E4-6B9D-44C8-B144-17B6C58CF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B98E7-31E6-4A87-9432-0CF308DB5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CD2E8-F463-4B2C-B9F3-8DA7A9211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6E45A-4311-464B-846B-101680A3B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69E85-3F10-42A9-A009-1E19D66F3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1E0AF-9279-4EEA-88CE-8E11596CB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E4CD6-734F-4112-A49D-BCCB6CF9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78386-9830-4547-B19A-2DDA410E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6582D-3BFF-4101-B510-E68243F2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35493-81AB-4E27-BB5C-7D859A150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D0307-345D-402A-9249-E84706D08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7FDF-2411-4EA0-A6CA-3D57B5BB6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835C6-A5D6-47D0-9AF3-AA7453D11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E7213-8128-4966-A1DF-181F300F0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8A6F2-52E8-4EAF-852B-F6541A11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E576F-458E-44ED-908A-B98FEB385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2AC31-31C3-444A-A69C-12C391855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2CA65-4D17-4311-8B1A-BA6C1ECB6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3ED0D-5D5A-4BB4-B1AC-A0A6C7611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59DF5-8CB3-437E-BD52-6B2901FD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23C445-1D34-4F79-8335-5193C3C4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F0F2C-5D57-4906-87D8-DE52FB2C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7651-F81D-4D22-8486-EE43C88C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4F44E-E1D7-4111-8AD8-4AB89E67E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3FD246-DB19-40FC-AF3C-6FDFC4EDA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67027-15B4-41C7-99D3-A1D7E0B31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9FD73E-A871-4C8A-86CF-AAA437EED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BF8D12-D27F-48A8-899F-842E2B362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FB160D-0AC5-4325-97B2-E6EAE2C5C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513F53-E3A5-4598-9BFC-946ADD72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2B0F13-8693-4262-BFFD-3F2AB347E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D65AC-F449-496D-A5AE-87A758A5F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41105-3F9E-4368-AF19-80E04A99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B3E9-CF52-47EE-A7E9-CC552FE8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591789-0E46-4356-A1F2-F2F1BC75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23848-30EC-4C08-B5A8-82A2F6D6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C001FC-47DB-4617-8617-9FB5E7663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49622B-30A5-45AB-9360-4989B4400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6B568-3F1A-42DA-9866-A8B3D40F0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4D5705-0AD1-40FC-B073-2BFDCDC06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F162C5-8DF2-4DA0-A70E-FF6C90A8B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27228-1616-4634-B6F2-048698F83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3AC87C-2872-4D81-9304-EC2302FFB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BE4025-8660-467A-8088-ED9D13458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D595-4624-4DE0-AD99-EB945671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C6548E-E49F-4A99-BA18-B3128D7E1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9446DF-361F-47C8-9E97-E2FED6CA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6395FD-03B5-4C7A-A78E-45C6C999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A63ECC-787D-4836-892A-B238B2D4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7C0BCA-D55E-4B9E-AF4C-7D64E106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E52131-6E78-443C-BEFB-7E648941E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BD13E6-E40D-48CA-B092-0ADDD2DE1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FA56A-2538-47CC-ADE6-17970DA9DC4F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" name="Freef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4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C50C7-F85D-43E7-839A-CDC09907EA5E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5653B-647D-4A84-96B5-1C5E91FC430D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C8028-0EA5-4658-A53E-1A8F043D93BD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116DB-D514-40E1-91F5-F78E2F32BE4B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C0C1C-C462-4B67-88A6-56947CE0BC0F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705C1-3308-46EF-B775-73A326A6425D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6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0C10C-9826-4A4B-80E3-E13F0A5A08B8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Rectangle 2" descr=""/>
          <p:cNvPicPr/>
          <p:nvPr/>
        </p:nvPicPr>
        <p:blipFill>
          <a:blip r:embed="rId1"/>
          <a:stretch/>
        </p:blipFill>
        <p:spPr>
          <a:xfrm>
            <a:off x="1328760" y="401760"/>
            <a:ext cx="6870600" cy="18651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money"/>
          <p:cNvPicPr/>
          <p:nvPr/>
        </p:nvPicPr>
        <p:blipFill>
          <a:blip r:embed="rId2"/>
          <a:stretch/>
        </p:blipFill>
        <p:spPr>
          <a:xfrm>
            <a:off x="0" y="2060640"/>
            <a:ext cx="914400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323640" y="1483920"/>
            <a:ext cx="81327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72880" algn="r" rtl="1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70c0"/>
                </a:solidFill>
                <a:latin typeface="Arial"/>
              </a:rPr>
              <a:t>التمويل بالملكية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أموال الملاك(حملة الأسهم) والأرباح المحتجزة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«تسمى التمويل الذاتي»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Arial"/>
              </a:rPr>
              <a:t>التمويل بالمديونية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Arial"/>
              </a:rPr>
              <a:t>متى يلجأ إليه ؟؟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(عدم كفاية رأس المال المملوك ، الحالات الطارئة ، المواسم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Arial"/>
              </a:rPr>
              <a:t>ويتم عن طريق الاستدانة من الغير ومن مصادرها 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.مصادر استدانة قصيرة الأجل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(يجب سدادها خلال سنة كحد أقصى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.مصادر استدانة طويلة الأجل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(يجب سدادها خلال مدة أطول من السنة</a:t>
            </a:r>
            <a:r>
              <a:rPr b="0" lang="ar-SA" sz="28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9" name="Rectangle 2" descr=""/>
          <p:cNvPicPr/>
          <p:nvPr/>
        </p:nvPicPr>
        <p:blipFill>
          <a:blip r:embed="rId1"/>
          <a:stretch/>
        </p:blipFill>
        <p:spPr>
          <a:xfrm>
            <a:off x="1042920" y="554040"/>
            <a:ext cx="7021440" cy="10796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" descr="forex-image"/>
          <p:cNvPicPr/>
          <p:nvPr/>
        </p:nvPicPr>
        <p:blipFill>
          <a:blip r:embed="rId2"/>
          <a:stretch/>
        </p:blipFill>
        <p:spPr>
          <a:xfrm>
            <a:off x="468360" y="4437000"/>
            <a:ext cx="291636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4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4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1182600" y="1700280"/>
            <a:ext cx="677880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7288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Arial"/>
              </a:rPr>
              <a:t>تسمى «إدارة رأس المال العامل» 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042920" y="731880"/>
            <a:ext cx="7021440" cy="10303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6" descr="d5f46beff42e60d2279d7d60acdd7267_342802701"/>
          <p:cNvPicPr/>
          <p:nvPr/>
        </p:nvPicPr>
        <p:blipFill>
          <a:blip r:embed="rId2"/>
          <a:stretch/>
        </p:blipFill>
        <p:spPr>
          <a:xfrm>
            <a:off x="468360" y="4548240"/>
            <a:ext cx="8280360" cy="2120760"/>
          </a:xfrm>
          <a:prstGeom prst="rect">
            <a:avLst/>
          </a:prstGeom>
          <a:ln w="0">
            <a:noFill/>
          </a:ln>
        </p:spPr>
      </p:pic>
      <p:sp>
        <p:nvSpPr>
          <p:cNvPr id="414" name="شكل بيضاوي 1"/>
          <p:cNvSpPr/>
          <p:nvPr/>
        </p:nvSpPr>
        <p:spPr>
          <a:xfrm>
            <a:off x="1403280" y="2220840"/>
            <a:ext cx="6769080" cy="122400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العمليات الجارية هي دورة النقدية المرهونة بكل من دورتي الانتاج والتسوي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6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1042560" y="1484280"/>
            <a:ext cx="67770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092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ff0000"/>
                </a:solidFill>
                <a:latin typeface="Lucida Sans Unicode"/>
              </a:rPr>
              <a:t>عند توزيع الأرباح ، يواجه المدير المالي  مشكلة التوفيق بين مطلبين هما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50920" algn="r" rtl="1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</a:rPr>
              <a:t>توزيع الارباح على أصحابها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50920" algn="r" rtl="1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</a:rPr>
              <a:t>حاجة المنظمة إلى هذه الارباح لإعادة استثمارها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6" name="Rectangle 2" descr=""/>
          <p:cNvPicPr/>
          <p:nvPr/>
        </p:nvPicPr>
        <p:blipFill>
          <a:blip r:embed="rId1"/>
          <a:stretch/>
        </p:blipFill>
        <p:spPr>
          <a:xfrm>
            <a:off x="1042920" y="590400"/>
            <a:ext cx="7021440" cy="10256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4" descr="money"/>
          <p:cNvPicPr/>
          <p:nvPr/>
        </p:nvPicPr>
        <p:blipFill>
          <a:blip r:embed="rId2"/>
          <a:stretch/>
        </p:blipFill>
        <p:spPr>
          <a:xfrm>
            <a:off x="468360" y="3645000"/>
            <a:ext cx="82803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0" y="1339560"/>
            <a:ext cx="91440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9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88880"/>
          </a:xfrm>
          <a:prstGeom prst="rect">
            <a:avLst/>
          </a:prstGeom>
          <a:ln w="0">
            <a:noFill/>
          </a:ln>
        </p:spPr>
      </p:pic>
      <p:sp>
        <p:nvSpPr>
          <p:cNvPr id="420" name="Rectangle 2"/>
          <p:cNvSpPr/>
          <p:nvPr/>
        </p:nvSpPr>
        <p:spPr>
          <a:xfrm>
            <a:off x="6048360" y="1844640"/>
            <a:ext cx="2160720" cy="936720"/>
          </a:xfrm>
          <a:prstGeom prst="rect">
            <a:avLst/>
          </a:prstGeom>
          <a:solidFill>
            <a:srgbClr val="ffffff"/>
          </a:solidFill>
          <a:ln w="55080">
            <a:solidFill>
              <a:srgbClr val="474b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Lucida Sans Unicode"/>
              </a:rPr>
              <a:t>التخطيط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Lucida Sans Unicode"/>
              </a:rPr>
              <a:t>نوعي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Straight Connector 8"/>
          <p:cNvSpPr/>
          <p:nvPr/>
        </p:nvSpPr>
        <p:spPr>
          <a:xfrm>
            <a:off x="7524720" y="1481040"/>
            <a:ext cx="0" cy="363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2" name="Straight Arrow Connector 10"/>
          <p:cNvCxnSpPr/>
          <p:nvPr/>
        </p:nvCxnSpPr>
        <p:spPr>
          <a:xfrm>
            <a:off x="4355640" y="1454040"/>
            <a:ext cx="1080" cy="3643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423" name="Straight Connector 13"/>
          <p:cNvSpPr/>
          <p:nvPr/>
        </p:nvSpPr>
        <p:spPr>
          <a:xfrm>
            <a:off x="4356000" y="1197000"/>
            <a:ext cx="0" cy="2872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Straight Connector 15"/>
          <p:cNvSpPr/>
          <p:nvPr/>
        </p:nvSpPr>
        <p:spPr>
          <a:xfrm flipH="1">
            <a:off x="1486080" y="1484280"/>
            <a:ext cx="2798640" cy="27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16"/>
          <p:cNvSpPr/>
          <p:nvPr/>
        </p:nvSpPr>
        <p:spPr>
          <a:xfrm>
            <a:off x="3492360" y="1844640"/>
            <a:ext cx="2016360" cy="936720"/>
          </a:xfrm>
          <a:prstGeom prst="rect">
            <a:avLst/>
          </a:prstGeom>
          <a:solidFill>
            <a:srgbClr val="ffffff"/>
          </a:solidFill>
          <a:ln w="55080">
            <a:solidFill>
              <a:srgbClr val="474b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Lucida Sans Unicode"/>
              </a:rPr>
              <a:t>التنظيم المالي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Lucida Sans Unicode"/>
              </a:rPr>
              <a:t>التنسيق بين جهود العاملي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Straight Connector 18"/>
          <p:cNvSpPr/>
          <p:nvPr/>
        </p:nvSpPr>
        <p:spPr>
          <a:xfrm>
            <a:off x="1476360" y="1481040"/>
            <a:ext cx="0" cy="363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19"/>
          <p:cNvSpPr/>
          <p:nvPr/>
        </p:nvSpPr>
        <p:spPr>
          <a:xfrm>
            <a:off x="324000" y="1844640"/>
            <a:ext cx="1944360" cy="86364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Lucida Sans Unicode"/>
              </a:rPr>
              <a:t>الرقابة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Lucida Sans Unicode"/>
              </a:rPr>
              <a:t>معيارين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Straight Connector 22"/>
          <p:cNvSpPr/>
          <p:nvPr/>
        </p:nvSpPr>
        <p:spPr>
          <a:xfrm>
            <a:off x="7128000" y="2782800"/>
            <a:ext cx="0" cy="216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Straight Connector 24"/>
          <p:cNvSpPr/>
          <p:nvPr/>
        </p:nvSpPr>
        <p:spPr>
          <a:xfrm>
            <a:off x="7848720" y="3068640"/>
            <a:ext cx="755640" cy="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Straight Connector 26"/>
          <p:cNvSpPr/>
          <p:nvPr/>
        </p:nvSpPr>
        <p:spPr>
          <a:xfrm flipH="1">
            <a:off x="6048000" y="3068640"/>
            <a:ext cx="1800360" cy="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Straight Connector 28"/>
          <p:cNvSpPr/>
          <p:nvPr/>
        </p:nvSpPr>
        <p:spPr>
          <a:xfrm>
            <a:off x="6048360" y="3068640"/>
            <a:ext cx="0" cy="2890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Straight Connector 30"/>
          <p:cNvSpPr/>
          <p:nvPr/>
        </p:nvSpPr>
        <p:spPr>
          <a:xfrm>
            <a:off x="8604360" y="3068640"/>
            <a:ext cx="0" cy="2890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Oval 19455"/>
          <p:cNvSpPr/>
          <p:nvPr/>
        </p:nvSpPr>
        <p:spPr>
          <a:xfrm>
            <a:off x="7380360" y="3357720"/>
            <a:ext cx="1655640" cy="576000"/>
          </a:xfrm>
          <a:prstGeom prst="ellipse">
            <a:avLst/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Lucida Sans Unicode"/>
              </a:rPr>
              <a:t>ت/قصير الأج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Oval 19456"/>
          <p:cNvSpPr/>
          <p:nvPr/>
        </p:nvSpPr>
        <p:spPr>
          <a:xfrm>
            <a:off x="5508720" y="3357720"/>
            <a:ext cx="1655640" cy="576000"/>
          </a:xfrm>
          <a:prstGeom prst="ellipse">
            <a:avLst/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Lucida Sans Unicode"/>
              </a:rPr>
              <a:t>ت/طويل الأج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Straight Connector 19462"/>
          <p:cNvSpPr/>
          <p:nvPr/>
        </p:nvSpPr>
        <p:spPr>
          <a:xfrm>
            <a:off x="1295280" y="2708280"/>
            <a:ext cx="0" cy="3603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Straight Connector 19464"/>
          <p:cNvSpPr/>
          <p:nvPr/>
        </p:nvSpPr>
        <p:spPr>
          <a:xfrm>
            <a:off x="1306440" y="3068640"/>
            <a:ext cx="2035080" cy="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Straight Connector 19466"/>
          <p:cNvSpPr/>
          <p:nvPr/>
        </p:nvSpPr>
        <p:spPr>
          <a:xfrm flipH="1">
            <a:off x="815760" y="3076560"/>
            <a:ext cx="755640" cy="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Straight Connector 19468"/>
          <p:cNvSpPr/>
          <p:nvPr/>
        </p:nvSpPr>
        <p:spPr>
          <a:xfrm>
            <a:off x="2268360" y="3068640"/>
            <a:ext cx="1073160" cy="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Straight Connector 19470"/>
          <p:cNvSpPr/>
          <p:nvPr/>
        </p:nvSpPr>
        <p:spPr>
          <a:xfrm flipV="1">
            <a:off x="816120" y="3068280"/>
            <a:ext cx="0" cy="2890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Oval 19473"/>
          <p:cNvSpPr/>
          <p:nvPr/>
        </p:nvSpPr>
        <p:spPr>
          <a:xfrm>
            <a:off x="2340000" y="3357720"/>
            <a:ext cx="1944720" cy="718920"/>
          </a:xfrm>
          <a:prstGeom prst="ellipse">
            <a:avLst/>
          </a:pr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Lucida Sans Unicode"/>
              </a:rPr>
              <a:t>القوائم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Lucida Sans Unicode"/>
              </a:rPr>
              <a:t>الميزانية،الدخ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1" name="Straight Arrow Connector 19477"/>
          <p:cNvCxnSpPr/>
          <p:nvPr/>
        </p:nvCxnSpPr>
        <p:spPr>
          <a:xfrm>
            <a:off x="3341160" y="3076200"/>
            <a:ext cx="1080" cy="2818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442" name="Oval 19479"/>
          <p:cNvSpPr/>
          <p:nvPr/>
        </p:nvSpPr>
        <p:spPr>
          <a:xfrm>
            <a:off x="179280" y="3357720"/>
            <a:ext cx="1944720" cy="718920"/>
          </a:xfrm>
          <a:prstGeom prst="ellipse">
            <a:avLst/>
          </a:pr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Lucida Sans Unicode"/>
              </a:rPr>
              <a:t>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Lucida Sans Unicode"/>
              </a:rPr>
              <a:t>طريقتي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Straight Connector 19495"/>
          <p:cNvSpPr/>
          <p:nvPr/>
        </p:nvSpPr>
        <p:spPr>
          <a:xfrm flipH="1">
            <a:off x="539640" y="4400640"/>
            <a:ext cx="766800" cy="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4" name="Straight Arrow Connector 19498"/>
          <p:cNvCxnSpPr/>
          <p:nvPr/>
        </p:nvCxnSpPr>
        <p:spPr>
          <a:xfrm>
            <a:off x="539280" y="4400280"/>
            <a:ext cx="1080" cy="3243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445" name="Rounded Rectangle 19500"/>
          <p:cNvSpPr/>
          <p:nvPr/>
        </p:nvSpPr>
        <p:spPr>
          <a:xfrm>
            <a:off x="1784520" y="4756320"/>
            <a:ext cx="172692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d4ee"/>
              </a:gs>
              <a:gs pos="100000">
                <a:srgbClr val="d6f3ff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Lucida Sans Unicode"/>
              </a:rPr>
              <a:t>تحليل رأسي ثاب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ounded Rectangle 19501"/>
          <p:cNvSpPr/>
          <p:nvPr/>
        </p:nvSpPr>
        <p:spPr>
          <a:xfrm>
            <a:off x="88920" y="4724280"/>
            <a:ext cx="151272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d4ee"/>
              </a:gs>
              <a:gs pos="100000">
                <a:srgbClr val="d6f3ff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Lucida Sans Unicode"/>
              </a:rPr>
              <a:t>تحليل متحر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Lucida Sans Unicode"/>
              </a:rPr>
              <a:t>أكثر من مر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Straight Connector 19503"/>
          <p:cNvSpPr/>
          <p:nvPr/>
        </p:nvSpPr>
        <p:spPr>
          <a:xfrm flipV="1">
            <a:off x="1295280" y="4076640"/>
            <a:ext cx="11160" cy="324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8" name="Straight Arrow Connector 19505"/>
          <p:cNvCxnSpPr/>
          <p:nvPr/>
        </p:nvCxnSpPr>
        <p:spPr>
          <a:xfrm>
            <a:off x="2647440" y="4723920"/>
            <a:ext cx="1080" cy="1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49" name="Straight Arrow Connector 19507"/>
          <p:cNvCxnSpPr/>
          <p:nvPr/>
        </p:nvCxnSpPr>
        <p:spPr>
          <a:xfrm>
            <a:off x="2725200" y="4400280"/>
            <a:ext cx="1080" cy="3243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450" name="Straight Connector 19509"/>
          <p:cNvSpPr/>
          <p:nvPr/>
        </p:nvSpPr>
        <p:spPr>
          <a:xfrm flipH="1">
            <a:off x="1306440" y="4400640"/>
            <a:ext cx="1419120" cy="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Straight Connector 19512"/>
          <p:cNvSpPr/>
          <p:nvPr/>
        </p:nvSpPr>
        <p:spPr>
          <a:xfrm flipV="1">
            <a:off x="4284720" y="1454040"/>
            <a:ext cx="3240000" cy="302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Title 1" descr=""/>
          <p:cNvPicPr/>
          <p:nvPr/>
        </p:nvPicPr>
        <p:blipFill>
          <a:blip r:embed="rId1"/>
          <a:stretch/>
        </p:blipFill>
        <p:spPr>
          <a:xfrm>
            <a:off x="689040" y="-3200400"/>
            <a:ext cx="7772400" cy="712620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marL="1080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Rectangle 2"/>
          <p:cNvSpPr/>
          <p:nvPr/>
        </p:nvSpPr>
        <p:spPr>
          <a:xfrm>
            <a:off x="900000" y="2550960"/>
            <a:ext cx="395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3"/>
          <p:cNvSpPr/>
          <p:nvPr/>
        </p:nvSpPr>
        <p:spPr>
          <a:xfrm>
            <a:off x="755640" y="333360"/>
            <a:ext cx="7272360" cy="2866680"/>
          </a:xfrm>
          <a:prstGeom prst="rect">
            <a:avLst/>
          </a:prstGeom>
          <a:solidFill>
            <a:srgbClr val="ffffff"/>
          </a:solidFill>
          <a:ln w="55080">
            <a:solidFill>
              <a:srgbClr val="7d3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بعد التحليل المالي الرأسي الثابت والتحلي المتحرك</a:t>
            </a:r>
            <a:br>
              <a:rPr sz="3200"/>
            </a:b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تتم مقارنة المعلومات بـ:</a:t>
            </a:r>
            <a:br>
              <a:rPr sz="3200"/>
            </a:br>
            <a:br>
              <a:rPr sz="3200"/>
            </a:br>
            <a:r>
              <a:rPr b="1" lang="ar-SA" sz="1800" spc="-1" strike="noStrike">
                <a:solidFill>
                  <a:srgbClr val="000000"/>
                </a:solidFill>
                <a:latin typeface="Lucida Sans Unicode"/>
              </a:rPr>
              <a:t>-معايير تاريخية                         -معايير عالمية                  -معايير صناعية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</a:rPr>
              <a:t>مفهوم الإدارة المالية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</a:rPr>
              <a:t>الأنشطة الإدارية التي تمارسها الإدارة المالية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</a:rPr>
              <a:t>مهام الادارة المالي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</a:rPr>
              <a:t>أهداف الادارة المالي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</a:rPr>
              <a:t>القرارات المالي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عنوان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" descr="C:\Users\General\AppData\Local\Microsoft\Windows\Temporary Internet Files\Content.IE5\CQYLE2UM\MP900390095[1].jpg"/>
          <p:cNvPicPr/>
          <p:nvPr/>
        </p:nvPicPr>
        <p:blipFill>
          <a:blip r:embed="rId2"/>
          <a:stretch/>
        </p:blipFill>
        <p:spPr>
          <a:xfrm>
            <a:off x="539640" y="4292640"/>
            <a:ext cx="8136000" cy="22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Rectangle 2" descr=""/>
          <p:cNvPicPr/>
          <p:nvPr/>
        </p:nvPicPr>
        <p:blipFill>
          <a:blip r:embed="rId1"/>
          <a:stretch/>
        </p:blipFill>
        <p:spPr>
          <a:xfrm>
            <a:off x="682560" y="622440"/>
            <a:ext cx="7772400" cy="12618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4" descr="money-management"/>
          <p:cNvPicPr/>
          <p:nvPr/>
        </p:nvPicPr>
        <p:blipFill>
          <a:blip r:embed="rId2"/>
          <a:stretch/>
        </p:blipFill>
        <p:spPr>
          <a:xfrm>
            <a:off x="2627280" y="4159080"/>
            <a:ext cx="3898800" cy="2698920"/>
          </a:xfrm>
          <a:prstGeom prst="rect">
            <a:avLst/>
          </a:prstGeom>
          <a:ln w="0">
            <a:noFill/>
          </a:ln>
        </p:spPr>
      </p:pic>
      <p:sp>
        <p:nvSpPr>
          <p:cNvPr id="378" name="شكل بيضاوي 1"/>
          <p:cNvSpPr/>
          <p:nvPr/>
        </p:nvSpPr>
        <p:spPr>
          <a:xfrm>
            <a:off x="1116000" y="1773360"/>
            <a:ext cx="7056360" cy="1922400"/>
          </a:xfrm>
          <a:prstGeom prst="ellipse">
            <a:avLst/>
          </a:prstGeom>
          <a:gradFill rotWithShape="0">
            <a:gsLst>
              <a:gs pos="0">
                <a:srgbClr val="a8a9c0"/>
              </a:gs>
              <a:gs pos="100000">
                <a:srgbClr val="e1e2ec"/>
              </a:gs>
            </a:gsLst>
            <a:lin ang="16200000"/>
          </a:gradFill>
          <a:ln w="9360">
            <a:solidFill>
              <a:srgbClr val="474b7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ي ذلك النشاط الذهني الذي يختص بالتخطيط والتنظيم والمتابعة لحركتي الدخول والخروج للأموال الحالية والمرتقبة من والى المنظم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money_tree"/>
          <p:cNvPicPr/>
          <p:nvPr/>
        </p:nvPicPr>
        <p:blipFill>
          <a:blip r:embed="rId2"/>
          <a:stretch/>
        </p:blipFill>
        <p:spPr>
          <a:xfrm>
            <a:off x="2411280" y="3141720"/>
            <a:ext cx="4216680" cy="3273480"/>
          </a:xfrm>
          <a:prstGeom prst="rect">
            <a:avLst/>
          </a:prstGeom>
          <a:ln w="0">
            <a:noFill/>
          </a:ln>
        </p:spPr>
      </p:pic>
      <p:sp>
        <p:nvSpPr>
          <p:cNvPr id="382" name="شكل بيضاوي 1"/>
          <p:cNvSpPr/>
          <p:nvPr/>
        </p:nvSpPr>
        <p:spPr>
          <a:xfrm>
            <a:off x="739800" y="3500280"/>
            <a:ext cx="1873080" cy="113040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Lucida Sans Unicode"/>
              </a:rPr>
              <a:t>الرقابة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5" descr=""/>
          <p:cNvPicPr/>
          <p:nvPr/>
        </p:nvPicPr>
        <p:blipFill>
          <a:blip r:embed="rId3"/>
          <a:stretch/>
        </p:blipFill>
        <p:spPr>
          <a:xfrm>
            <a:off x="6443640" y="3625920"/>
            <a:ext cx="1895400" cy="11523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7" descr=""/>
          <p:cNvPicPr/>
          <p:nvPr/>
        </p:nvPicPr>
        <p:blipFill>
          <a:blip r:embed="rId4"/>
          <a:stretch/>
        </p:blipFill>
        <p:spPr>
          <a:xfrm>
            <a:off x="3673440" y="2144880"/>
            <a:ext cx="1895400" cy="1152360"/>
          </a:xfrm>
          <a:prstGeom prst="rect">
            <a:avLst/>
          </a:prstGeom>
          <a:ln w="0">
            <a:noFill/>
          </a:ln>
        </p:spPr>
      </p:pic>
      <p:sp>
        <p:nvSpPr>
          <p:cNvPr id="385" name="مستطيل 6"/>
          <p:cNvSpPr/>
          <p:nvPr/>
        </p:nvSpPr>
        <p:spPr>
          <a:xfrm>
            <a:off x="3673440" y="2465280"/>
            <a:ext cx="189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التنظيم المال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Title 3" descr=""/>
          <p:cNvPicPr/>
          <p:nvPr/>
        </p:nvPicPr>
        <p:blipFill>
          <a:blip r:embed="rId1"/>
          <a:stretch/>
        </p:blipFill>
        <p:spPr>
          <a:xfrm>
            <a:off x="0" y="274680"/>
            <a:ext cx="8229600" cy="124308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-360" y="144432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</a:rPr>
              <a:t>مهام وظيفي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</a:rPr>
              <a:t>   (توفير سيولة،تحقيق ربحية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5101920" y="1444680"/>
            <a:ext cx="404172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</a:rPr>
              <a:t>مهام اداري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</a:rPr>
              <a:t>       (تخطيط،تنظيم،رقابة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</a:rPr>
              <a:t>تعظيم صافي القيمة الحالية لثروة المساهمين (غاية المدير المالي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</a:rPr>
              <a:t>محاولة الوفاء بأعباء المسؤولية الاجتماعية من خلال تخصيص جزء من الايرادات في حل بعض القضايا مثل :دعم البحوث،حماية البيئة،تخفيف من البطالة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5" descr=""/>
          <p:cNvPicPr/>
          <p:nvPr/>
        </p:nvPicPr>
        <p:blipFill>
          <a:blip r:embed="rId1"/>
          <a:stretch/>
        </p:blipFill>
        <p:spPr>
          <a:xfrm>
            <a:off x="3807000" y="3278160"/>
            <a:ext cx="1530000" cy="932040"/>
          </a:xfrm>
          <a:prstGeom prst="rect">
            <a:avLst/>
          </a:prstGeom>
          <a:ln w="0">
            <a:noFill/>
          </a:ln>
        </p:spPr>
      </p:pic>
      <p:pic>
        <p:nvPicPr>
          <p:cNvPr id="392" name="Rectangle 2" descr=""/>
          <p:cNvPicPr/>
          <p:nvPr/>
        </p:nvPicPr>
        <p:blipFill>
          <a:blip r:embed="rId2"/>
          <a:stretch/>
        </p:blipFill>
        <p:spPr>
          <a:xfrm>
            <a:off x="1042920" y="517680"/>
            <a:ext cx="7021440" cy="10252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4" descr="572"/>
          <p:cNvPicPr/>
          <p:nvPr/>
        </p:nvPicPr>
        <p:blipFill>
          <a:blip r:embed="rId3"/>
          <a:stretch/>
        </p:blipFill>
        <p:spPr>
          <a:xfrm>
            <a:off x="3300480" y="2522520"/>
            <a:ext cx="3047760" cy="2529000"/>
          </a:xfrm>
          <a:prstGeom prst="rect">
            <a:avLst/>
          </a:prstGeom>
          <a:ln w="0">
            <a:noFill/>
          </a:ln>
        </p:spPr>
      </p:pic>
      <p:sp>
        <p:nvSpPr>
          <p:cNvPr id="394" name="شكل بيضاوي 2"/>
          <p:cNvSpPr/>
          <p:nvPr/>
        </p:nvSpPr>
        <p:spPr>
          <a:xfrm>
            <a:off x="3780000" y="1397160"/>
            <a:ext cx="2087280" cy="91440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قرارات التموي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Picture 6" descr=""/>
          <p:cNvPicPr/>
          <p:nvPr/>
        </p:nvPicPr>
        <p:blipFill>
          <a:blip r:embed="rId4"/>
          <a:stretch/>
        </p:blipFill>
        <p:spPr>
          <a:xfrm>
            <a:off x="1092240" y="3357720"/>
            <a:ext cx="2111400" cy="9331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7" descr=""/>
          <p:cNvPicPr/>
          <p:nvPr/>
        </p:nvPicPr>
        <p:blipFill>
          <a:blip r:embed="rId5"/>
          <a:stretch/>
        </p:blipFill>
        <p:spPr>
          <a:xfrm>
            <a:off x="6611760" y="3357720"/>
            <a:ext cx="1920960" cy="1079280"/>
          </a:xfrm>
          <a:prstGeom prst="rect">
            <a:avLst/>
          </a:prstGeom>
          <a:ln w="0">
            <a:noFill/>
          </a:ln>
        </p:spPr>
      </p:pic>
      <p:sp>
        <p:nvSpPr>
          <p:cNvPr id="397" name="مستطيل 3"/>
          <p:cNvSpPr/>
          <p:nvPr/>
        </p:nvSpPr>
        <p:spPr>
          <a:xfrm>
            <a:off x="6419880" y="3639960"/>
            <a:ext cx="211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القرارات الاستثمار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مستطيل 6"/>
          <p:cNvSpPr/>
          <p:nvPr/>
        </p:nvSpPr>
        <p:spPr>
          <a:xfrm>
            <a:off x="976320" y="3670200"/>
            <a:ext cx="21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إدارة العمليات الجار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مستطيل 8"/>
          <p:cNvSpPr/>
          <p:nvPr/>
        </p:nvSpPr>
        <p:spPr>
          <a:xfrm>
            <a:off x="3508560" y="5716440"/>
            <a:ext cx="269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قرارات توزيع الأربا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1042560" y="2781000"/>
            <a:ext cx="7201080" cy="30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ff0000"/>
                </a:solidFill>
                <a:latin typeface="Lucida Sans Unicode"/>
              </a:rPr>
              <a:t>هناك نوعين من المجالات الاستثمارية 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 rtl="1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</a:rPr>
              <a:t>مجالات استثمارية قصيرة الأجل مثل: شراء المواد الخام  (أصول متداولة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 rtl="1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</a:rPr>
              <a:t>مجالات استثمارية طويلة الأجل مثل: شراء الآلات (أصول ثابتة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Rectangle 2" descr=""/>
          <p:cNvPicPr/>
          <p:nvPr/>
        </p:nvPicPr>
        <p:blipFill>
          <a:blip r:embed="rId1"/>
          <a:stretch/>
        </p:blipFill>
        <p:spPr>
          <a:xfrm>
            <a:off x="1042920" y="768240"/>
            <a:ext cx="7021440" cy="10303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4" descr="money-market-1"/>
          <p:cNvPicPr/>
          <p:nvPr/>
        </p:nvPicPr>
        <p:blipFill>
          <a:blip r:embed="rId2"/>
          <a:stretch/>
        </p:blipFill>
        <p:spPr>
          <a:xfrm>
            <a:off x="468360" y="5373720"/>
            <a:ext cx="8280360" cy="1295280"/>
          </a:xfrm>
          <a:prstGeom prst="rect">
            <a:avLst/>
          </a:prstGeom>
          <a:ln w="0">
            <a:noFill/>
          </a:ln>
        </p:spPr>
      </p:pic>
      <p:sp>
        <p:nvSpPr>
          <p:cNvPr id="403" name="شكل بيضاوي 1"/>
          <p:cNvSpPr/>
          <p:nvPr/>
        </p:nvSpPr>
        <p:spPr>
          <a:xfrm>
            <a:off x="1042920" y="1700280"/>
            <a:ext cx="7058160" cy="122400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هو الاستخدام المربح للأموال التي يتم توفيرها للمنظ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7288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ff0000"/>
                </a:solidFill>
                <a:latin typeface="Lucida Sans Unicode"/>
              </a:rPr>
              <a:t>اكملي</a:t>
            </a:r>
            <a:r>
              <a:rPr b="0" lang="ar-SA" sz="2700" spc="-1" strike="noStrike">
                <a:solidFill>
                  <a:srgbClr val="ff0000"/>
                </a:solidFill>
                <a:latin typeface="Lucida Sans Unicode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</a:rPr>
              <a:t>يترتب على القرارات الاستثمارية ....... الأموال من المنظمة 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</a:rPr>
              <a:t>يترتب على القرارات التمويلية ....... الأموال إلى المنظمة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1042920" y="974880"/>
            <a:ext cx="7021440" cy="10252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time-management-tips-for-freelancers3---calendar-2_s600x600"/>
          <p:cNvPicPr/>
          <p:nvPr/>
        </p:nvPicPr>
        <p:blipFill>
          <a:blip r:embed="rId2"/>
          <a:stretch/>
        </p:blipFill>
        <p:spPr>
          <a:xfrm>
            <a:off x="0" y="580536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407" name="شكل بيضاوي 1"/>
          <p:cNvSpPr/>
          <p:nvPr/>
        </p:nvSpPr>
        <p:spPr>
          <a:xfrm>
            <a:off x="1116000" y="1844640"/>
            <a:ext cx="7201080" cy="172872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Lucida Sans Unicode"/>
              </a:rPr>
              <a:t>هو القرار الذي يختص بكيفية تدبير احتياجات المنظمة من الأموال بالكم والنوع المطلوبين ، وكذا بالتكلفة والوقت المناسب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4T11:24:58Z</dcterms:created>
  <dc:creator/>
  <dc:description/>
  <dc:language>en-US</dc:language>
  <cp:lastModifiedBy/>
  <dcterms:modified xsi:type="dcterms:W3CDTF">2016-05-03T13:56:24Z</dcterms:modified>
  <cp:revision>7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