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5C2-98DE-4EC6-8C73-8F44991F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08B-2F01-4F08-942D-1DA559BA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B14-69AA-4E9A-B092-C8BA7DC0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519-8022-4C28-B75B-BD621439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C7C4-4611-4E70-AE59-C4701988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0F54-C1AD-4147-A56C-9EA93D1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128C-254D-4FE6-9A2C-575912A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7849-526D-43D3-AF26-FF649E0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2CF8-4A57-47BB-B0F6-CF64C09C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6F2D-73FC-47C4-9FA9-CCE2436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BA5F-83FE-4331-A32E-F7D145D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299-31D1-4FDC-9643-F8CF8CB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E9A8-0404-4B91-9932-091C74A8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A701-DBCF-44C5-AF80-382EBB3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82BE-B0E9-4DC9-9249-B584AF8E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0D7A-15C9-4ECE-B5A7-20E0FD0A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DE7C-3E3A-44E0-B2CB-1D37187B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69792-DB09-4E21-8B2A-AEC4F441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79C90-3C90-49B7-A938-BCB5F26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33DD-9F40-4EC3-8BC7-4B4A7002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2E419-A9F0-4756-BB76-B1A02C5A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DDC3-B5B8-48B2-996D-EABDB3B6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A97-AF3A-4309-A8E3-9B778803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E9D3-7D64-4C04-A76A-720DA89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DCB5-E4E5-4182-AE71-E610DAE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C665-ABC6-4F09-ACDC-9919D55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97D7-1562-4B77-91C7-139506A7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32BF-CAD6-40CB-B2FA-FC5FEFCC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2716-7CF9-4757-8333-A7C9CFCF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6A07-A9AF-47B0-9C92-F4B4C05C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EB8B-21DC-4273-B083-BE17C64D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1654-E5FF-4212-831F-E5E7CE0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C80A-DB31-449B-8D87-06820E92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F9F-C3DD-4823-8107-B96E9C7B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0530-7063-4C85-92D0-A4D19CA0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215E-9DB1-48E9-B1DF-D373EFD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CFAA-D1DE-4FAB-A4F2-BE294C0F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C204-022B-4B92-8A84-09B3B558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C6E4-5775-4AEB-8EC7-D040689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C739-A469-4677-8EC0-C12FA3F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03DE-832B-4F1F-A487-528ECFBF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7FAC-703A-4602-A4F1-BBE286E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E5D6-5769-4095-9239-498931F9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76FD0-2C13-479A-ADC7-8C86CEEB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571-E866-4696-AFBF-7A4A11F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AAEC-798B-436F-8093-74242E2D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62410-E3B6-4D56-9292-E7EA068E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8836-2ECC-4E8C-B423-6C2E472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8AD1-40B3-4479-9D6D-5E5BE49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EC41-004A-4680-91D7-C0F24047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616B-AFA2-4D65-89B1-16543DD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5EAF6-E809-404F-A07B-911F85C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B405-CB03-47C2-8172-AEB5514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90068-6957-44A4-80CB-E891C7A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5BFBF-DD18-40F8-A260-DF2FE6D2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B5C-C0E3-4452-9FE6-CE22DB7D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B625-2012-4C04-8880-2B42D232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DA84-E3D7-439A-B23B-1F6B039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BFE2A-0D17-447F-814B-786EB5F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C191C-25F5-4C21-84CA-2AB3DAD9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818AC-D648-4CBE-A5E1-FEBA22E5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CB8C3-D968-4769-9930-37776400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FC715-A18C-4E90-8C90-5716962D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C9FED-7C84-4D0A-A6B6-8F4314F5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20F0-94AD-4E5A-B229-1C4E130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14EB-1548-44B6-A1BF-42BE3E4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8CF-3210-4F88-A502-6CB9D21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BDC24-6385-4AF5-8437-6A81680C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0C5F-5E38-4421-8E3B-C6181347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AE0A-5021-45E2-8596-FF10757A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1125-94D0-4EE3-9C21-DD2F00EE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50CE-8E13-4F04-9145-11AFF8D8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66DFF-D84B-4D4E-8BF3-91AB393B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F43FE-E7A3-4AA4-9EB2-AFAE92C3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D42A-D398-4CEB-A769-C6CD7614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FF19-438F-4440-A52A-A1885BBB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C07EB-3CDA-420F-BE80-402281A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7CC-7CE0-4005-B958-830C735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D93F8-72FB-4797-ABCF-85F9639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D016-11B4-4448-A624-DAED670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91EA-0604-47FE-AFC7-D3E6A0ED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FD400-AE26-469E-A4B7-1BFF7F77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F7591-8E32-413B-B6E5-F8182A99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B8D5-271B-48F9-BAAE-AAC8602E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66DA2-F7C8-4E52-B241-1F46A128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E33B1-2AD5-4C91-8C96-1A6BD315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4BDBC-C9C3-44BD-A667-A2BA129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54FA-FB3B-43E2-BDF6-EB6BCDD2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185-7E5A-4F0D-8EB4-E12F513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0F25A-4E71-46C8-98C4-41027C4A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5824F-FBAD-4250-A538-A0C28AD3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B761D-CC57-40CC-991B-9A2D49A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C3C1D-AB0A-4F53-BA2F-F0E8690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C8D35-6900-4FCC-AF3B-AF6B3451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7991-C4BD-4675-B4E1-3F53107E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02F25-8AD2-4B62-AF17-017A33CB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1669-7CE5-4313-A334-A9A9495ACD8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1481-A404-431F-B271-D9B106AB34E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3F79-6029-43E4-9B7D-29F57FFDE17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062-01F5-4157-8087-DDFFE4683B9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A5CB-DB39-49D6-9CD2-C7755DB86BA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23C0-B6DC-46F8-8FE0-9E5FDF58E50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DEB1-4273-484E-A072-D58F380B990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126-E95B-4D4B-9B4E-631BF9E6D9C3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8760" y="401760"/>
            <a:ext cx="6870600" cy="1865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money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70c0"/>
                </a:solidFill>
                <a:latin typeface="Arial"/>
              </a:rPr>
              <a:t>التمويل بالملك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«تسمى التمويل الذاتي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التمويل بالمديوني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تى يلجأ إليه ؟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قصير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طويل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42920" y="554040"/>
            <a:ext cx="7021440" cy="1079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forex-image"/>
          <p:cNvPicPr/>
          <p:nvPr/>
        </p:nvPicPr>
        <p:blipFill>
          <a:blip r:embed="rId2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</a:rPr>
              <a:t>تسمى «إدارة رأس المال العامل»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42920" y="73188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d5f46beff42e60d2279d7d60acdd7267_342802701"/>
          <p:cNvPicPr/>
          <p:nvPr/>
        </p:nvPicPr>
        <p:blipFill>
          <a:blip r:embed="rId2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41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09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عند توزيع الأرباح ، يواجه المدير المالي  مشكلة التوفيق بين مطلبين هما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وزيع الارباح على أصحاب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حاجة المنظمة إلى هذه الارباح لإعادة استثمار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42920" y="590400"/>
            <a:ext cx="7021440" cy="1025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money"/>
          <p:cNvPicPr/>
          <p:nvPr/>
        </p:nvPicPr>
        <p:blipFill>
          <a:blip r:embed="rId2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0" y="1339560"/>
            <a:ext cx="914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88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2"/>
          <p:cNvSpPr/>
          <p:nvPr/>
        </p:nvSpPr>
        <p:spPr>
          <a:xfrm>
            <a:off x="6048360" y="1844640"/>
            <a:ext cx="216072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خطيط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نوع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752472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Straight Arrow Connector 10"/>
          <p:cNvCxnSpPr/>
          <p:nvPr/>
        </p:nvCxnSpPr>
        <p:spPr>
          <a:xfrm>
            <a:off x="4355640" y="1454040"/>
            <a:ext cx="1080" cy="364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Straight Connector 13"/>
          <p:cNvSpPr/>
          <p:nvPr/>
        </p:nvSpPr>
        <p:spPr>
          <a:xfrm>
            <a:off x="4356000" y="1197000"/>
            <a:ext cx="0" cy="28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1486080" y="1484280"/>
            <a:ext cx="2798640" cy="27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3492360" y="1844640"/>
            <a:ext cx="201636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نظيم المال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التنسيق بين جهود العامل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147636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324000" y="1844640"/>
            <a:ext cx="1944360" cy="863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معيارين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22"/>
          <p:cNvSpPr/>
          <p:nvPr/>
        </p:nvSpPr>
        <p:spPr>
          <a:xfrm>
            <a:off x="7128000" y="2782800"/>
            <a:ext cx="0" cy="216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24"/>
          <p:cNvSpPr/>
          <p:nvPr/>
        </p:nvSpPr>
        <p:spPr>
          <a:xfrm>
            <a:off x="7848720" y="306864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traight Connector 26"/>
          <p:cNvSpPr/>
          <p:nvPr/>
        </p:nvSpPr>
        <p:spPr>
          <a:xfrm flipH="1">
            <a:off x="6048000" y="3068640"/>
            <a:ext cx="18003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28"/>
          <p:cNvSpPr/>
          <p:nvPr/>
        </p:nvSpPr>
        <p:spPr>
          <a:xfrm>
            <a:off x="6048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30"/>
          <p:cNvSpPr/>
          <p:nvPr/>
        </p:nvSpPr>
        <p:spPr>
          <a:xfrm>
            <a:off x="8604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9455"/>
          <p:cNvSpPr/>
          <p:nvPr/>
        </p:nvSpPr>
        <p:spPr>
          <a:xfrm>
            <a:off x="738036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قصير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9456"/>
          <p:cNvSpPr/>
          <p:nvPr/>
        </p:nvSpPr>
        <p:spPr>
          <a:xfrm>
            <a:off x="550872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طويل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19462"/>
          <p:cNvSpPr/>
          <p:nvPr/>
        </p:nvSpPr>
        <p:spPr>
          <a:xfrm>
            <a:off x="1295280" y="2708280"/>
            <a:ext cx="0" cy="3603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9464"/>
          <p:cNvSpPr/>
          <p:nvPr/>
        </p:nvSpPr>
        <p:spPr>
          <a:xfrm>
            <a:off x="1306440" y="3068640"/>
            <a:ext cx="203508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19466"/>
          <p:cNvSpPr/>
          <p:nvPr/>
        </p:nvSpPr>
        <p:spPr>
          <a:xfrm flipH="1">
            <a:off x="815760" y="307656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19468"/>
          <p:cNvSpPr/>
          <p:nvPr/>
        </p:nvSpPr>
        <p:spPr>
          <a:xfrm>
            <a:off x="2268360" y="3068640"/>
            <a:ext cx="10731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9470"/>
          <p:cNvSpPr/>
          <p:nvPr/>
        </p:nvSpPr>
        <p:spPr>
          <a:xfrm flipV="1">
            <a:off x="816120" y="306828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9473"/>
          <p:cNvSpPr/>
          <p:nvPr/>
        </p:nvSpPr>
        <p:spPr>
          <a:xfrm>
            <a:off x="234000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يزانية،الدخ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Straight Arrow Connector 19477"/>
          <p:cNvCxnSpPr/>
          <p:nvPr/>
        </p:nvCxnSpPr>
        <p:spPr>
          <a:xfrm>
            <a:off x="3341160" y="3076200"/>
            <a:ext cx="1080" cy="281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2" name="Oval 19479"/>
          <p:cNvSpPr/>
          <p:nvPr/>
        </p:nvSpPr>
        <p:spPr>
          <a:xfrm>
            <a:off x="17928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طريقت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19495"/>
          <p:cNvSpPr/>
          <p:nvPr/>
        </p:nvSpPr>
        <p:spPr>
          <a:xfrm flipH="1">
            <a:off x="539640" y="4400640"/>
            <a:ext cx="766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19498"/>
          <p:cNvCxnSpPr/>
          <p:nvPr/>
        </p:nvCxnSpPr>
        <p:spPr>
          <a:xfrm>
            <a:off x="53928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5" name="Rounded Rectangle 19500"/>
          <p:cNvSpPr/>
          <p:nvPr/>
        </p:nvSpPr>
        <p:spPr>
          <a:xfrm>
            <a:off x="1784520" y="4756320"/>
            <a:ext cx="1726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رأسي ثاب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ounded Rectangle 19501"/>
          <p:cNvSpPr/>
          <p:nvPr/>
        </p:nvSpPr>
        <p:spPr>
          <a:xfrm>
            <a:off x="88920" y="4724280"/>
            <a:ext cx="1512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مت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أكثر من مر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19503"/>
          <p:cNvSpPr/>
          <p:nvPr/>
        </p:nvSpPr>
        <p:spPr>
          <a:xfrm flipV="1">
            <a:off x="1295280" y="4076640"/>
            <a:ext cx="11160" cy="324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Straight Arrow Connector 19505"/>
          <p:cNvCxnSpPr/>
          <p:nvPr/>
        </p:nvCxnSpPr>
        <p:spPr>
          <a:xfrm>
            <a:off x="2647440" y="4723920"/>
            <a:ext cx="108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49" name="Straight Arrow Connector 19507"/>
          <p:cNvCxnSpPr/>
          <p:nvPr/>
        </p:nvCxnSpPr>
        <p:spPr>
          <a:xfrm>
            <a:off x="272520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50" name="Straight Connector 19509"/>
          <p:cNvSpPr/>
          <p:nvPr/>
        </p:nvSpPr>
        <p:spPr>
          <a:xfrm flipH="1">
            <a:off x="1306440" y="4400640"/>
            <a:ext cx="14191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9512"/>
          <p:cNvSpPr/>
          <p:nvPr/>
        </p:nvSpPr>
        <p:spPr>
          <a:xfrm flipV="1">
            <a:off x="4284720" y="1454040"/>
            <a:ext cx="3240000" cy="30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689040" y="-3200400"/>
            <a:ext cx="7772400" cy="7126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900000" y="2550960"/>
            <a:ext cx="39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55640" y="333360"/>
            <a:ext cx="7272360" cy="286668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بعد التحليل المالي الرأسي الثابت والتحلي المتحرك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تم مقارنة المعلومات بـ:</a:t>
            </a:r>
            <a:br>
              <a:rPr sz="3200"/>
            </a:br>
            <a:br>
              <a:rPr sz="3200"/>
            </a:b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-معايير تاريخية                         -معايير عالمية                  -معايير صناعي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فهوم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أنشطة الإدارية التي تمارسها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أهداف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قرارات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General\AppData\Local\Microsoft\Windows\Temporary Internet Files\Content.IE5\CQYLE2UM\MP900390095[1].jpg"/>
          <p:cNvPicPr/>
          <p:nvPr/>
        </p:nvPicPr>
        <p:blipFill>
          <a:blip r:embed="rId2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72400" cy="1261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money-management"/>
          <p:cNvPicPr/>
          <p:nvPr/>
        </p:nvPicPr>
        <p:blipFill>
          <a:blip r:embed="rId2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78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a8a9c0"/>
              </a:gs>
              <a:gs pos="100000">
                <a:srgbClr val="e1e2ec"/>
              </a:gs>
            </a:gsLst>
            <a:lin ang="16200000"/>
          </a:gradFill>
          <a:ln w="9360">
            <a:solidFill>
              <a:srgbClr val="474b7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oney_tree"/>
          <p:cNvPicPr/>
          <p:nvPr/>
        </p:nvPicPr>
        <p:blipFill>
          <a:blip r:embed="rId2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4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85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-36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وظيف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(توفير سيولة،تحقيق ربح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01920" y="1444680"/>
            <a:ext cx="4041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دا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    (تخطيط،تنظيم،رقاب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عظيم صافي القيمة الحالية لثروة المساهمين (غاية المدير المالي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حاولة الوفاء بأعباء المسؤولية الاجتماعية من خلال تخصيص جزء من الايرادات في حل بعض القضايا مثل :دعم البحوث،حماية البيئة،تخفيف من البط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807000" y="3278160"/>
            <a:ext cx="1530000" cy="93204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1042920" y="5176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572"/>
          <p:cNvPicPr/>
          <p:nvPr/>
        </p:nvPicPr>
        <p:blipFill>
          <a:blip r:embed="rId3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94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4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5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9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هناك نوعين من المجالات الاستثما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قصيرة الأجل مثل: شراء المواد الخام  (أصول متداول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طويلة الأجل مثل: شراء الآلات (أصول ثابت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42920" y="76824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money-market-1"/>
          <p:cNvPicPr/>
          <p:nvPr/>
        </p:nvPicPr>
        <p:blipFill>
          <a:blip r:embed="rId2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كملي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استثمارية ....... الأموال من المنظم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تمويلية ....... الأموال إلى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42920" y="9748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time-management-tips-for-freelancers3---calendar-2_s600x600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0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6-05-03T13:56:24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