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5.jpeg" ContentType="image/jpeg"/>
  <Override PartName="/ppt/media/image27.jpeg" ContentType="image/jpeg"/>
  <Override PartName="/ppt/media/image7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DCF1-2586-4165-9B06-6ED3DC07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55E-EDA5-498B-8CE9-66B29D96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992-1643-42F5-8C65-2026E856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B63-07CB-406E-B50F-90FDE3CF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9DA8-C700-42A5-B45D-DA3D2CA8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2951-BF5C-42B4-B837-CC8D474D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5538-68A8-46A5-A40D-97C992B4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91FD-9677-49A3-B1AD-AFA7F815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1E95-13C8-4520-AB5E-A620AE11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5DDF-14FF-4779-925B-A9083BD7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309E-2FA3-49FD-86AB-702D582B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B90-38DB-4A26-8F96-A06B6289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CACB-A339-4E56-84FC-B9E656C3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9053-3D35-4E21-98A4-6B81F9E0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05AE-950D-4736-886C-3A144121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5452-CF01-4954-AC1F-20301CFA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6233-8D70-42CC-A7D3-0E8BB413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922F-D648-4FA4-AE86-13F9D96B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3A760-C0D8-43B1-9949-B792EB2E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9AB3E-F398-44DA-BAEA-1DBC15DE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339A-9609-435F-9C53-A6195190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110B-0974-4FB3-A2AD-A356616A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A0B-F956-4047-BFEC-AA46D922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69C08-92F2-49BB-8D5C-BDEC53D9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9DFB2-86D3-4E4A-9D72-91C17703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51B3-D808-4F88-9275-376E035B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6295-1265-4FBA-898E-8B93B665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B7156-F0C5-4C82-BEEC-21C03BB0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BD689-CEA8-458F-AE5F-3838351F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4CF0F-DE8E-4111-95FE-5EB932C1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9BC33-0E70-4034-AB70-8FD902B6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4D7E4-EFEC-4E16-B7AB-68E48ADD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BFDDF-52F4-4EC7-B337-DD7B7E51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3E85-01DB-4A24-BCB1-5171D859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F4345-B356-41BA-955B-9CFC37AF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2D507-A729-4D28-AF4E-BB0D2928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23424-B2D8-4C9E-8CB7-F570652A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727B-5813-48ED-B9F6-09117798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7E278-5E75-483B-96CD-9645F352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27E2-DD27-4CA5-BCCF-D536AF33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A9554-3B93-4DC6-96BE-CBE05B4B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EAFC5-458E-41DC-98A5-5ACEC6FC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562C-CCA8-4895-9F6E-6EA4C7C9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ECC90-3988-4DF5-9329-9E429BF6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5EF-8910-4E28-94AB-B4C2C223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E1B06-7AF1-4881-BABB-950121D5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96482-6CA6-44A8-8C54-78690EDD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2CB5C-748C-4352-9E8F-2901A240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84E96-0873-4D7F-A42B-595646AA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C7EE6-FB35-4D7D-A940-6F73DAF6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B9DBB-5B92-497D-8621-EF573A04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0680A-75FF-4D19-BE22-7B1CFBFB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67821-0CEC-4B95-AFF0-E1D3825B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72DAB-BB90-42BC-8400-1C46871A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9415D-4ED9-406B-A880-33CB56BF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C5A-C4B8-4A6B-A1A3-91065231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06AC9-C479-4158-8B02-AD51FEF8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B6A7B-F1F3-4554-AAE7-3D270742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D0F25-F8C9-409E-A67F-37715992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22E70-AE13-4276-B798-FDC462A9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8CB8A-8173-4069-AEF8-FE2C0690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55CD7-F21B-430B-AF4D-E007A779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3F0C1-5817-4970-AF03-84E0AF4E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BDD8F-1910-497D-A047-D1829B93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88141-70D2-4ED1-AD79-FCFF0D7A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90499-A53B-4A13-9CF8-59B776BD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3A5-A6C2-41B1-BF0F-A0BB85EF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2116A-F726-4D5E-9DD7-6A458448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D2906-3321-4B65-839A-0F716945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12F17-BFD1-43A3-8116-81C67E06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049B8-D335-4B54-B52B-44A1F238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3E124-694F-49A2-B135-142698EC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A2A98-9260-42BB-A22A-BEE6D574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C1B10-238B-4847-A120-C41BF4B3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B8AD1-82ED-410E-9BEA-CAF0407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E8B3C-786B-402F-8BC4-C93754DD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BFEE8-1630-4E53-8ACA-FA5043A3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C259-CB53-4C21-B52C-2A7FC95E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F7B51-9001-41D4-AC3A-86524004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1087C-2451-44CD-BC8E-959EB110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C7BA3-3F31-407F-AE1D-69ECF8AC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B4350-2245-4916-867F-A050F920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94377-CDA4-4CB5-AF6E-3F5ACE8E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CB926-30F6-441B-8B8A-36849ADF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0E249-6B5E-4AC7-A7E2-A6A49729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DBCD0-3A9B-4743-84F1-CCE36803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AD5EE-75F6-4BC7-9985-9D4980BD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D3D50-E659-4E05-B7EE-005089B3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E45-49F2-4129-B11B-AC3F4264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9CA0D-30EA-4AED-9DF9-5A64A334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8B977-0DF1-4562-A8A4-0CF3B6C8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857B4-2748-4D0E-B2B2-2C6AECEC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ED0EA-DD20-413E-A388-3A9346A0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BD7C0-4304-4D9F-ABAF-2A8C9B41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B3E5A-2CE0-4D57-8FB1-5AF6F97A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48CAA-5FFD-4BC0-A1E6-4A7CB3CB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53C9-9CDD-421C-A53D-AE2BBC6759C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23AE-0645-4A58-A855-BA937270734B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6D48-E602-4BC5-BAB6-B83BDCA8234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CC4F-3B30-42EB-9692-2D1C41D8AFE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FFEE-5246-4413-BC36-9A814C9C6E5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008C-3823-4C61-B13A-2DD3588B5CC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569E-61CE-40B9-A04C-678E9261025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BD46-B9B6-424B-9889-9B6CA96D12A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1328760" y="401760"/>
            <a:ext cx="6553080" cy="1476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money"/>
          <p:cNvPicPr/>
          <p:nvPr/>
        </p:nvPicPr>
        <p:blipFill>
          <a:blip r:embed="rId2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23640" y="1483920"/>
            <a:ext cx="81327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70c0"/>
                </a:solidFill>
                <a:latin typeface="Arial"/>
              </a:rPr>
              <a:t>التمويل بالملكية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أموال الملاك(حملة الأسهم) والأرباح المحتجزة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«تسمى التمويل الذاتي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Arial"/>
              </a:rPr>
              <a:t>التمويل بالمديونية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متى يلجأ إليه ؟؟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عدم كفاية رأس المال المملوك ، الحالات الطارئة ، المواسم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ويتم عن طريق الاستدانة من الغير ومن مصادرها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مصادر استدانة قصيرة الأج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يجب سدادها خلال سنة كحد أقصى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مصادر استدانة طويلة الأجل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(يجب سدادها خلال مدة أطول من السنة</a:t>
            </a:r>
            <a:r>
              <a:rPr b="0" lang="ar-SA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1042920" y="695160"/>
            <a:ext cx="7021440" cy="646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forex-image"/>
          <p:cNvPicPr/>
          <p:nvPr/>
        </p:nvPicPr>
        <p:blipFill>
          <a:blip r:embed="rId2"/>
          <a:stretch/>
        </p:blipFill>
        <p:spPr>
          <a:xfrm>
            <a:off x="468360" y="4437000"/>
            <a:ext cx="29163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1182600" y="1700280"/>
            <a:ext cx="67788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Arial"/>
              </a:rPr>
              <a:t>تسمى «إدارة رأس المال العامل»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042920" y="768240"/>
            <a:ext cx="7021440" cy="785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d5f46beff42e60d2279d7d60acdd7267_342802701"/>
          <p:cNvPicPr/>
          <p:nvPr/>
        </p:nvPicPr>
        <p:blipFill>
          <a:blip r:embed="rId2"/>
          <a:stretch/>
        </p:blipFill>
        <p:spPr>
          <a:xfrm>
            <a:off x="468360" y="4548240"/>
            <a:ext cx="8280360" cy="2120760"/>
          </a:xfrm>
          <a:prstGeom prst="rect">
            <a:avLst/>
          </a:prstGeom>
          <a:ln w="0">
            <a:noFill/>
          </a:ln>
        </p:spPr>
      </p:pic>
      <p:sp>
        <p:nvSpPr>
          <p:cNvPr id="414" name="شكل بيضاوي 1"/>
          <p:cNvSpPr/>
          <p:nvPr/>
        </p:nvSpPr>
        <p:spPr>
          <a:xfrm>
            <a:off x="1403280" y="2220840"/>
            <a:ext cx="6769080" cy="1224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والعمليات الجارية هي دورة النقدية المرهونة بكل من دورتي الانتاج والتسو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042560" y="1484280"/>
            <a:ext cx="6777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092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عند توزيع الأرباح ، يواجه المدير المالي  مشكلة التوفيق بين مطلبين هما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5092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توزيع الارباح على أصحاب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5092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حاجة المنظمة إلى هذه الارباح لإعادة استثمار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1042920" y="695160"/>
            <a:ext cx="7021440" cy="6462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money"/>
          <p:cNvPicPr/>
          <p:nvPr/>
        </p:nvPicPr>
        <p:blipFill>
          <a:blip r:embed="rId2"/>
          <a:stretch/>
        </p:blipFill>
        <p:spPr>
          <a:xfrm>
            <a:off x="468360" y="3645000"/>
            <a:ext cx="8280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الدراسة التفصيلية أو المتعمقة لعناصر الحسابات الختامية، و بالأحرى لقائمتي الميزانية العمومية، و نتائج الأعمال من خلال عقد علاقات حسابية بين بعض هذه العناصر بهدف التوصل إلى معلومات مالية تفيد الفئات المستفيدة في تقييم الحالة المالية الصحية خلال مدة زمنية محد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مفهوم الإدارة الم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الأنشطة الإدارية التي تمارسها الإدارة الم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مهام الادارة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أهداف الادارة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القرارات المال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عنوان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General\AppData\Local\Microsoft\Windows\Temporary Internet Files\Content.IE5\CQYLE2UM\MP900390095[1].jpg"/>
          <p:cNvPicPr/>
          <p:nvPr/>
        </p:nvPicPr>
        <p:blipFill>
          <a:blip r:embed="rId2"/>
          <a:stretch/>
        </p:blipFill>
        <p:spPr>
          <a:xfrm>
            <a:off x="539640" y="4292640"/>
            <a:ext cx="81360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682560" y="622440"/>
            <a:ext cx="7772400" cy="1139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money-management"/>
          <p:cNvPicPr/>
          <p:nvPr/>
        </p:nvPicPr>
        <p:blipFill>
          <a:blip r:embed="rId2"/>
          <a:stretch/>
        </p:blipFill>
        <p:spPr>
          <a:xfrm>
            <a:off x="2627280" y="4159080"/>
            <a:ext cx="3898800" cy="2698920"/>
          </a:xfrm>
          <a:prstGeom prst="rect">
            <a:avLst/>
          </a:prstGeom>
          <a:ln w="0">
            <a:noFill/>
          </a:ln>
        </p:spPr>
      </p:pic>
      <p:sp>
        <p:nvSpPr>
          <p:cNvPr id="378" name="شكل بيضاوي 1"/>
          <p:cNvSpPr/>
          <p:nvPr/>
        </p:nvSpPr>
        <p:spPr>
          <a:xfrm>
            <a:off x="1116000" y="1773360"/>
            <a:ext cx="7056360" cy="1922400"/>
          </a:xfrm>
          <a:prstGeom prst="ellipse">
            <a:avLst/>
          </a:prstGeom>
          <a:gradFill rotWithShape="0">
            <a:gsLst>
              <a:gs pos="0">
                <a:srgbClr val="e1e2ec"/>
              </a:gs>
              <a:gs pos="100000">
                <a:srgbClr val="a8a9c0"/>
              </a:gs>
            </a:gsLst>
            <a:lin ang="5400000"/>
          </a:gradFill>
          <a:ln w="9360">
            <a:solidFill>
              <a:srgbClr val="474b78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ي ذلك النشاط الذهني الذي يختص بالتخطيط والتنظيم والمتابعة لحركتي الدخول والخروج للأموال الحالية والمرتقبة من والى المنظم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money_tree"/>
          <p:cNvPicPr/>
          <p:nvPr/>
        </p:nvPicPr>
        <p:blipFill>
          <a:blip r:embed="rId2"/>
          <a:stretch/>
        </p:blipFill>
        <p:spPr>
          <a:xfrm>
            <a:off x="2411280" y="3141720"/>
            <a:ext cx="4216680" cy="3273480"/>
          </a:xfrm>
          <a:prstGeom prst="rect">
            <a:avLst/>
          </a:prstGeom>
          <a:ln w="0">
            <a:noFill/>
          </a:ln>
        </p:spPr>
      </p:pic>
      <p:sp>
        <p:nvSpPr>
          <p:cNvPr id="382" name="شكل بيضاوي 1"/>
          <p:cNvSpPr/>
          <p:nvPr/>
        </p:nvSpPr>
        <p:spPr>
          <a:xfrm>
            <a:off x="739800" y="3500280"/>
            <a:ext cx="1873080" cy="1130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Lucida Sans Unicode"/>
              </a:rPr>
              <a:t>الرقابة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3"/>
          <a:stretch/>
        </p:blipFill>
        <p:spPr>
          <a:xfrm>
            <a:off x="6443640" y="3625920"/>
            <a:ext cx="1895400" cy="1152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4"/>
          <a:stretch/>
        </p:blipFill>
        <p:spPr>
          <a:xfrm>
            <a:off x="3673440" y="2144880"/>
            <a:ext cx="1895400" cy="1152360"/>
          </a:xfrm>
          <a:prstGeom prst="rect">
            <a:avLst/>
          </a:prstGeom>
          <a:ln w="0">
            <a:noFill/>
          </a:ln>
        </p:spPr>
      </p:pic>
      <p:sp>
        <p:nvSpPr>
          <p:cNvPr id="385" name="مستطيل 6"/>
          <p:cNvSpPr/>
          <p:nvPr/>
        </p:nvSpPr>
        <p:spPr>
          <a:xfrm>
            <a:off x="3673440" y="246528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تنظيم الما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3" descr=""/>
          <p:cNvPicPr/>
          <p:nvPr/>
        </p:nvPicPr>
        <p:blipFill>
          <a:blip r:embed="rId1"/>
          <a:stretch/>
        </p:blipFill>
        <p:spPr>
          <a:xfrm>
            <a:off x="0" y="2746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-36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مهام وظيف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(توفير سيولة،تحقيق ربحي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101920" y="1444680"/>
            <a:ext cx="40417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مهام ادا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(تخطيط،تنظيم،رقاب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تعظيم صافي القيمة الحالية لثروة المساهمين (غاية المدير المالي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700" spc="-1" strike="noStrike">
                <a:solidFill>
                  <a:srgbClr val="000000"/>
                </a:solidFill>
                <a:latin typeface="Lucida Sans Unicode"/>
              </a:rPr>
              <a:t>محاولة الوفاء بأعباء المسؤولية الاجتماعية من خلال تخصيص جزء من الايرادات في حل بعض القضايا مثل :دعم البحوث،حماية البيئة،تخفيف من البط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3807000" y="3278160"/>
            <a:ext cx="1530000" cy="932040"/>
          </a:xfrm>
          <a:prstGeom prst="rect">
            <a:avLst/>
          </a:prstGeom>
          <a:ln w="0">
            <a:noFill/>
          </a:ln>
        </p:spPr>
      </p:pic>
      <p:pic>
        <p:nvPicPr>
          <p:cNvPr id="392" name="Rectangle 2" descr=""/>
          <p:cNvPicPr/>
          <p:nvPr/>
        </p:nvPicPr>
        <p:blipFill>
          <a:blip r:embed="rId2"/>
          <a:stretch/>
        </p:blipFill>
        <p:spPr>
          <a:xfrm>
            <a:off x="1042920" y="622440"/>
            <a:ext cx="7021440" cy="645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572"/>
          <p:cNvPicPr/>
          <p:nvPr/>
        </p:nvPicPr>
        <p:blipFill>
          <a:blip r:embed="rId3"/>
          <a:stretch/>
        </p:blipFill>
        <p:spPr>
          <a:xfrm>
            <a:off x="3300480" y="2522520"/>
            <a:ext cx="3047760" cy="2529000"/>
          </a:xfrm>
          <a:prstGeom prst="rect">
            <a:avLst/>
          </a:prstGeom>
          <a:ln w="0">
            <a:noFill/>
          </a:ln>
        </p:spPr>
      </p:pic>
      <p:sp>
        <p:nvSpPr>
          <p:cNvPr id="394" name="شكل بيضاوي 2"/>
          <p:cNvSpPr/>
          <p:nvPr/>
        </p:nvSpPr>
        <p:spPr>
          <a:xfrm>
            <a:off x="3780000" y="1397160"/>
            <a:ext cx="2087280" cy="9144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قرارات 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4"/>
          <a:stretch/>
        </p:blipFill>
        <p:spPr>
          <a:xfrm>
            <a:off x="1092240" y="3357720"/>
            <a:ext cx="2111400" cy="933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5"/>
          <a:stretch/>
        </p:blipFill>
        <p:spPr>
          <a:xfrm>
            <a:off x="6611760" y="3357720"/>
            <a:ext cx="1920960" cy="1079280"/>
          </a:xfrm>
          <a:prstGeom prst="rect">
            <a:avLst/>
          </a:prstGeom>
          <a:ln w="0">
            <a:noFill/>
          </a:ln>
        </p:spPr>
      </p:pic>
      <p:sp>
        <p:nvSpPr>
          <p:cNvPr id="397" name="مستطيل 3"/>
          <p:cNvSpPr/>
          <p:nvPr/>
        </p:nvSpPr>
        <p:spPr>
          <a:xfrm>
            <a:off x="6419880" y="3639960"/>
            <a:ext cx="211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القرارات الاستثم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مستطيل 6"/>
          <p:cNvSpPr/>
          <p:nvPr/>
        </p:nvSpPr>
        <p:spPr>
          <a:xfrm>
            <a:off x="976320" y="3670200"/>
            <a:ext cx="21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إدارة العمليات الجا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مستطيل 8"/>
          <p:cNvSpPr/>
          <p:nvPr/>
        </p:nvSpPr>
        <p:spPr>
          <a:xfrm>
            <a:off x="3508560" y="571644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Times New Roman"/>
              </a:rPr>
              <a:t>قرارات توزيع الأربا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042560" y="2781000"/>
            <a:ext cx="720108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هناك نوعين من المجالات الاستثما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جالات استثمارية قصيرة الأجل مثل: شراء المواد الخام  (أصول متداول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مجالات استثمارية طويلة الأجل مثل: شراء الآلات (أصول ثابت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042920" y="835200"/>
            <a:ext cx="7021440" cy="718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money-market-1"/>
          <p:cNvPicPr/>
          <p:nvPr/>
        </p:nvPicPr>
        <p:blipFill>
          <a:blip r:embed="rId2"/>
          <a:stretch/>
        </p:blipFill>
        <p:spPr>
          <a:xfrm>
            <a:off x="468360" y="5373720"/>
            <a:ext cx="82803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شكل بيضاوي 1"/>
          <p:cNvSpPr/>
          <p:nvPr/>
        </p:nvSpPr>
        <p:spPr>
          <a:xfrm>
            <a:off x="1042920" y="1700280"/>
            <a:ext cx="7058160" cy="12240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هو الاستخدام المربح للأموال التي يتم توفيرها للمنظ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اكملي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يترتب على القرارات الاستثمارية ....... الأموال من المنظم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7288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</a:rPr>
              <a:t>يترتب على القرارات التمويلية ....... الأموال إلى المنظم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1042920" y="1023840"/>
            <a:ext cx="7021440" cy="7495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time-management-tips-for-freelancers3---calendar-2_s600x600"/>
          <p:cNvPicPr/>
          <p:nvPr/>
        </p:nvPicPr>
        <p:blipFill>
          <a:blip r:embed="rId2"/>
          <a:stretch/>
        </p:blipFill>
        <p:spPr>
          <a:xfrm>
            <a:off x="0" y="580536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07" name="شكل بيضاوي 1"/>
          <p:cNvSpPr/>
          <p:nvPr/>
        </p:nvSpPr>
        <p:spPr>
          <a:xfrm>
            <a:off x="1116000" y="1844640"/>
            <a:ext cx="7201080" cy="17287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Lucida Sans Unicode"/>
              </a:rPr>
              <a:t>هو القرار الذي يختص بكيفية تدبير احتياجات المنظمة من الأموال بالكم والنوع المطلوبين ، وكذا بالتكلفة والوقت المناسب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24:58Z</dcterms:created>
  <dc:creator/>
  <dc:description/>
  <dc:language>en-US</dc:language>
  <cp:lastModifiedBy/>
  <dcterms:modified xsi:type="dcterms:W3CDTF">2017-11-28T21:41:34Z</dcterms:modified>
  <cp:revision>7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