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27.jpeg" ContentType="image/jpeg"/>
  <Override PartName="/ppt/media/image7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203-6674-4E36-958B-ECCC6294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98D-2E01-4777-A980-E586C35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792-09DA-4597-A28F-856CF3CB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ECB-79A4-41A8-B1CA-1A8F223C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D0B1-914A-4AF0-8A1A-E6F5888D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7E33-40E2-427C-8E5B-8DD36B0C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AB0E-C8B6-4F72-85F8-EB9D2555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A84D-F012-476B-9A80-96F00579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A55E-C151-41F4-95B2-F7DE9980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8C57-3837-4DB1-823D-EBDFB844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F157-0A6F-4334-A592-BD380D8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AA6-E491-4C0B-BD10-CC91BD7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0350-02F0-414D-A7DD-7E97908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2CBA-C382-4E71-8B12-EEA9D71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CB17-812A-45D1-A53B-24BF50CB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E620-1A00-48F9-BC7B-96BDDD5B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F93C-D819-4DD3-A3E9-4D37A6B5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1FD9-B4AB-4452-8A1D-24A0803A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A7D6-2595-4B0A-B29C-41984E78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49EF-0AA0-42DA-8194-F878370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01DA-4A12-49D1-A464-26E09D23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4308-EAEF-4610-B863-F9164044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14E-095C-484C-A7B7-636AFDC3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EA8B-F8CC-4538-9215-4E6DF2B1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1B6D-59FD-4445-BA81-620CC86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15DF-87F0-40BA-A8DC-3BC7D7F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F6E2-6D42-4B7A-8E14-1FC31BE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8889-FC58-446A-9BB8-0F6B09E3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FF8B-086D-4E53-85A1-A8B22CED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1C51E-801C-43DC-A2B5-219CBCAC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7397-10F3-4526-B984-CE0A9F5B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78B7-36F1-4797-9115-E1A959D3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E4DB-220E-47AB-8304-46149A05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D57-4D45-4039-B7D1-184E0277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1D71-668A-43AF-BC18-45DDB3CD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7832-C7E9-4758-9D42-6A6C1001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C0E9-789C-4038-8D2E-A1CF2A0B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A4F2-4E52-40FC-AB1D-B5F6963E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FD63F-84FD-4CB9-8247-E52BFC0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E8968-0F4D-42A4-8FFC-A00B965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E70BC-E787-4568-946D-268879E8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1F4AE-B1A4-49E4-8069-485A5A07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3EE4-E9A1-4E53-81F1-3C8BD8A4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1B04F-125C-4B1F-BFE6-32CE2918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9CC-BF12-4CFE-989D-70A97DA6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2904-299C-4CEA-AB49-28C9DEE3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D070-77BF-4DC2-BBD3-2FD330E7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D0FC9-B1F2-4F39-AAE9-CDB391AD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A725A-91D4-4F98-8852-E5570FCE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82765-D71E-403C-9C6E-5A8170FD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FB334-DC2E-4000-98EC-BA41A28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E7184-C7CA-497D-B4F2-638E99A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D378F-4DA5-4C6E-9BE0-FAE3FC8D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2591B-628A-41A7-A1CD-A3344FB1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A2010-F3EF-4F04-857B-2A495E2E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C02-F4E8-46E0-8CEF-CF1E19D7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B23E-9B38-4FE4-BB49-C4BA05CB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BA66-6FE1-49C5-BAFE-1382C820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D4B5E-86DC-4E22-8788-1AB8D4F1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6D85B-E158-4ABA-9B64-BF3A0694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7EE5-B3E0-4E02-9AA6-00814BBB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B95E8-0243-46D2-85A3-EA917673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23F57-C72F-4A07-8E1A-1F5751D1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5A5C-4A10-4043-8363-5406614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9AFDC-6F9B-4D9A-A682-0BD294E6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68AD1-4776-492E-A1C4-A3481240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E4D-0CB5-4706-8803-EC4DE167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B3C01-7C33-47B7-8597-F5E32C2C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FB3E0-4645-4869-9AD9-9F26C693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40D39-316D-4CC4-84B1-09FE896B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12964-23CD-4F17-880F-7C87A216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47679-F631-42C2-9D1F-D69BE518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CA046-5757-4591-AB90-0C0B44E1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EB8C-50BE-4806-AA2C-87BA4112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EE0DE-3910-4AFC-883A-7A3DCC62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50BCF-A682-4874-8742-AB1CECDE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3EE9F-09FA-4313-9C40-BFA3200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A64-04A8-40D3-B88A-DBA8F395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466A-1B6F-408A-8BEC-E157E9F9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4A138-66B9-4F32-A239-7F5C4086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31770-AE8A-402B-A8EC-2275D95D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DD6A0-2072-48D8-9146-B78FA339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CC92B-7AAD-4458-B8D1-CEBC6A63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72A98-5FEF-48BB-9F7E-794C4433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D1090-597D-4BA3-A5BE-B5D43CF7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929F1-A719-4A69-8FD2-571F04AA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4850B-8121-411E-A424-AA5B433E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6DC53-C63D-4A48-AED5-DCBEBB62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DA4-2652-4FA5-B843-37B26E6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8B37-650F-4022-91EC-91F51C4C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976CA-7896-4A83-802B-F20E392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263AC-6B41-4458-9291-E786BBB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7515B-E5F1-4A9C-852D-475750D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9B0C-A879-4B5B-AD6B-889A61C3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95090-D0E2-48A4-8DED-9A0395BF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DB172-B9CC-4366-86EB-37D2606C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4758-F892-4AA3-8DBA-1EDF7914E4B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BD03-76F1-479A-A5C8-DA46C708BF2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50F8-CD7E-4CB9-9052-3D9E2BAC2D4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A3E4-098E-45CE-803B-F84F05934F0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E7A3-A43B-49DA-8EF6-EF7F68A8A99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846A-8C75-4CCE-B4D1-64654AC56DB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DBBB-14CE-4225-96AB-CD6E9E2FE5B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D636-FD47-4C50-91A2-47B74C6EF03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328760" y="401760"/>
            <a:ext cx="6553080" cy="1476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money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70c0"/>
                </a:solidFill>
                <a:latin typeface="Arial"/>
              </a:rPr>
              <a:t>التمويل بالملك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«تسمى التمويل الذاتي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التمويل بالمديوني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متى يلجأ إليه ؟؟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قصير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طويل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42920" y="695160"/>
            <a:ext cx="7021440" cy="646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forex-image"/>
          <p:cNvPicPr/>
          <p:nvPr/>
        </p:nvPicPr>
        <p:blipFill>
          <a:blip r:embed="rId2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Arial"/>
              </a:rPr>
              <a:t>تسمى «إدارة رأس المال العامل»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042920" y="768240"/>
            <a:ext cx="7021440" cy="785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d5f46beff42e60d2279d7d60acdd7267_342802701"/>
          <p:cNvPicPr/>
          <p:nvPr/>
        </p:nvPicPr>
        <p:blipFill>
          <a:blip r:embed="rId2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414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09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عند توزيع الأرباح ، يواجه المدير المالي  مشكلة التوفيق بين مطلبين هما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وزيع الارباح على أصحاب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حاجة المنظمة إلى هذه الارباح لإعادة استثمار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42920" y="695160"/>
            <a:ext cx="7021440" cy="646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money"/>
          <p:cNvPicPr/>
          <p:nvPr/>
        </p:nvPicPr>
        <p:blipFill>
          <a:blip r:embed="rId2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دراسة التفصيلية أو المتعمقة لعناصر الحسابات الختامية، و بالأحرى لقائمتي الميزانية العمومية، و نتائج الأعمال من خلال عقد علاقات حسابية بين بعض هذه العناصر بهدف التوصل إلى معلومات مالية تفيد الفئات المستفيدة في تقييم الحالة المالية الصحية خلال مدة زمنية مح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فهوم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الأنشطة الإدارية التي تمارسها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هام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أهداف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القرارات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General\AppData\Local\Microsoft\Windows\Temporary Internet Files\Content.IE5\CQYLE2UM\MP900390095[1].jpg"/>
          <p:cNvPicPr/>
          <p:nvPr/>
        </p:nvPicPr>
        <p:blipFill>
          <a:blip r:embed="rId2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682560" y="622440"/>
            <a:ext cx="7772400" cy="1139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money-management"/>
          <p:cNvPicPr/>
          <p:nvPr/>
        </p:nvPicPr>
        <p:blipFill>
          <a:blip r:embed="rId2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78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e1e2ec"/>
              </a:gs>
              <a:gs pos="100000">
                <a:srgbClr val="a8a9c0"/>
              </a:gs>
            </a:gsLst>
            <a:lin ang="5400000"/>
          </a:gradFill>
          <a:ln w="9360">
            <a:solidFill>
              <a:srgbClr val="474b78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oney_tree"/>
          <p:cNvPicPr/>
          <p:nvPr/>
        </p:nvPicPr>
        <p:blipFill>
          <a:blip r:embed="rId2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82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4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85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3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-36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هام وظيف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(توفير سيولة،تحقيق ربح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101920" y="1444680"/>
            <a:ext cx="4041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هام ادا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(تخطيط،تنظيم،رقاب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تعظيم صافي القيمة الحالية لثروة المساهمين (غاية المدير المالي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حاولة الوفاء بأعباء المسؤولية الاجتماعية من خلال تخصيص جزء من الايرادات في حل بعض القضايا مثل :دعم البحوث،حماية البيئة،تخفيف من البط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3807000" y="3278160"/>
            <a:ext cx="1530000" cy="93204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1042920" y="622440"/>
            <a:ext cx="7021440" cy="645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572"/>
          <p:cNvPicPr/>
          <p:nvPr/>
        </p:nvPicPr>
        <p:blipFill>
          <a:blip r:embed="rId3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94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4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5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97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هناك نوعين من المجالات الاستثما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قصيرة الأجل مثل: شراء المواد الخام  (أصول متداول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طويلة الأجل مثل: شراء الآلات (أصول ثابت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42920" y="835200"/>
            <a:ext cx="7021440" cy="718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money-market-1"/>
          <p:cNvPicPr/>
          <p:nvPr/>
        </p:nvPicPr>
        <p:blipFill>
          <a:blip r:embed="rId2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اكملي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استثمارية ....... الأموال من المنظم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تمويلية ....... الأموال إلى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42920" y="1023840"/>
            <a:ext cx="7021440" cy="749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time-management-tips-for-freelancers3---calendar-2_s600x600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07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Lucida Sans Unicode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7-11-28T21:41:34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