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72BB-EDC4-4BA7-A983-68C75803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0E80-8B70-40FE-8EAB-C431F499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A764-1252-40AA-94E9-9D67F6A8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8AB2-1756-4C4E-87EE-09B69DF72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2EF4-823B-41A2-9D41-40114276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37FD-7C93-4A6E-9990-247616E6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F167-114C-4176-A575-A8654448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50CF-3280-414D-B2B5-650A02D2A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1341-5AA4-4DBF-85F6-7AC510C2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D42-7A6B-41D1-A08E-4DA9FA6C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7F06-006F-4F53-89E4-DEBEE563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45E7-6970-40BC-ADAA-44A6B913E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FE23-929E-4BA0-9FD9-1E284D1D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DBD0-C233-4CF5-9B44-43605E155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A361-26A5-4B79-A4BE-53D794425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EF4D-E48D-4F7A-9C76-959C4060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40B1-833D-4009-8B4E-DECC364C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446F-346A-416F-A4BE-5929A12B5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09A8-4FFC-4F1E-BEBA-33893F08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5E33-FC0C-4E05-8FC5-D194A2E8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57C1-AB04-487F-B622-C334E2C62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5BE-8149-4E06-8D9B-B8AF63D4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7FB5-6796-4F03-8BCA-9E9882868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1848-BD68-46C0-A869-5E9929C4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E9E1-4285-425E-A614-C7D91A2B1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168F-3F39-493B-9F3D-86E78088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C91C-B135-4571-B8E0-E1C16BFB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DF36-4330-4EA1-8C3B-DC68FC13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2FB9-D0CE-47E7-B361-D4906C93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2637-2154-4142-8A59-02CF4A39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EB54-CF7A-4C96-A7EF-89E1699B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A91-C2C2-4778-965A-AE6A1B31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C5B-5FA7-46AC-8736-4B6FF28E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C1E7-3664-4A1B-876F-D09F7323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F2C37-93BF-4FA7-B5A0-D758272F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45A7A-B2BD-4B44-8B73-EC7207BA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5145-1674-48F0-9F39-C15FD633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A2F2-7A89-48F2-993D-8359A2C5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D4F1-B0E2-4098-A9D5-FAE8CC84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34A-A74A-470C-AAC2-BB9380B2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FA0E-9250-4DA1-9FCF-BDD36C54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8407-E738-4D8C-8CA7-8B230A87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F62C-8E31-466C-8797-08872A76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0355-341B-4D26-BDA6-D07FC8F2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92A6-4F64-49E3-B412-54A6D4B4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359E-68A8-4774-A645-214C491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C88-46D4-48D3-970C-B32CD9B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91AA-B9BE-40DD-8BE7-0231F51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1AF-595F-448C-9CA3-81C48F0A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ACA1-E11D-45FC-8F1B-D5BF71D2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93920"/>
            <a:ext cx="264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D6794-987A-46B2-A940-107083BE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391B-745B-4CCC-89DA-7A65D391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14DE-D67B-422F-A67D-F05FAA63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60B1-1C4F-4201-868A-F6AE1DAB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621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40627-42E9-48D7-8C04-6FD308E5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2328-E1AF-47AF-A8E9-6D970AF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9392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B50A9-4DAD-4507-AB34-BE511B0C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E6BC-031F-4556-869D-7A7DEC55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f4eb"/>
            </a:gs>
            <a:gs pos="100000">
              <a:srgbClr val="e5e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33A-0FDD-4E4F-9C75-76559B085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2"/>
          <p:cNvSpPr/>
          <p:nvPr/>
        </p:nvSpPr>
        <p:spPr>
          <a:xfrm>
            <a:off x="380880" y="68580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47"/>
          <p:cNvSpPr/>
          <p:nvPr/>
        </p:nvSpPr>
        <p:spPr>
          <a:xfrm>
            <a:off x="380880" y="165240"/>
            <a:ext cx="8305920" cy="41904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29019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chitecture: Foundations, Theory, and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2"/>
          <p:cNvSpPr/>
          <p:nvPr/>
        </p:nvSpPr>
        <p:spPr>
          <a:xfrm rot="5400000">
            <a:off x="-2019240" y="3162240"/>
            <a:ext cx="4876560" cy="7632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63"/>
          <p:cNvSpPr/>
          <p:nvPr/>
        </p:nvSpPr>
        <p:spPr>
          <a:xfrm>
            <a:off x="3886200" y="6553080"/>
            <a:ext cx="487692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64"/>
          <p:cNvSpPr/>
          <p:nvPr/>
        </p:nvSpPr>
        <p:spPr>
          <a:xfrm rot="5400000">
            <a:off x="6400800" y="4190760"/>
            <a:ext cx="464796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00355e"/>
              </a:gs>
              <a:gs pos="100000">
                <a:srgbClr val="00355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gradFill rotWithShape="0">
            <a:gsLst>
              <a:gs pos="0">
                <a:srgbClr val="00355e">
                  <a:alpha val="0"/>
                </a:srgbClr>
              </a:gs>
              <a:gs pos="100000">
                <a:srgbClr val="00355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1"/>
          <p:cNvSpPr/>
          <p:nvPr/>
        </p:nvSpPr>
        <p:spPr>
          <a:xfrm>
            <a:off x="2645640" y="6583320"/>
            <a:ext cx="665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pyright © Richard N. Taylor, Nenad Medvidovic, and Eric M. Dashofy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fbac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D8BF-9402-4BD9-913D-ABA8F54CA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6880" y="167652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esigning for NFPs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oftware Architect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cture 14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quality that reflects a software system’s ability to meet its performance requirements while minimizing its usage of the resources in its computing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is a measure of a system’s resource us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conom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an software architecture say about efficienc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n’t efficiency an implementation-level propert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55e"/>
                </a:solidFill>
                <a:latin typeface="Tahoma"/>
              </a:rPr>
              <a:t>Efficiency starts at the architectural level!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08AF-ED74-48B9-A18F-6231B20556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he components “small” whenev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omponent interfaces simple and co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multiple interfaces to the same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data components from processing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data from meta-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395-B311-4CF8-8722-10675C255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ultiple Interfaces to the Same Functiona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29E5-3F76-4562-9095-A4E17FEED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ThreeInterfaces"/>
          <p:cNvPicPr/>
          <p:nvPr/>
        </p:nvPicPr>
        <p:blipFill>
          <a:blip r:embed="rId1"/>
          <a:stretch/>
        </p:blipFill>
        <p:spPr>
          <a:xfrm>
            <a:off x="4114800" y="1652760"/>
            <a:ext cx="4186080" cy="4824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selec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broadcast connectors with ca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use of asynchronous interaction whenev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ocation/distribution transparency judici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EB3B-222D-4011-AC31-10F1AFEEC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stribution Transpar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EC6C-BFCF-4DC1-9B47-9CBC6EF3A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Fig12-2"/>
          <p:cNvPicPr/>
          <p:nvPr/>
        </p:nvPicPr>
        <p:blipFill>
          <a:blip r:embed="rId1"/>
          <a:stretch/>
        </p:blipFill>
        <p:spPr>
          <a:xfrm>
            <a:off x="2440080" y="1670040"/>
            <a:ext cx="3427200" cy="4807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frequently interacting components “clos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select and place connectors in the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efficiency impact of selected architectural styles and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CDB-ED41-4B97-9404-04F00AB22E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erformance Penalty Induced by Dist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24FE-8054-45C0-AEAC-9680748A27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Fig12-3"/>
          <p:cNvPicPr/>
          <p:nvPr/>
        </p:nvPicPr>
        <p:blipFill>
          <a:blip r:embed="rId1"/>
          <a:stretch/>
        </p:blipFill>
        <p:spPr>
          <a:xfrm>
            <a:off x="3143160" y="1741320"/>
            <a:ext cx="2495520" cy="48117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Defi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degree to which a software system or one of its components has a design or implementation that is difficult to understand and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oftware system’s a property that is directly proportional to the size of the system, number of its constituent elements, their internal structure, and the number and nature of their inter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AF59-E044-4129-BDB2-BC8B7B6FA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concerns into differen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only the functionality insid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goes insid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components cohe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aware of the impact of off-the-shelf components on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late processing components from changes in data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3C7C-B76D-4464-8105-E12B803E4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 connectors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only interaction facilities insid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interaction concerns into differen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t interactions facilitated by each conne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aware of the impact of off-the-shelf connectors on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5EFF-FB92-4E31-BF3E-174D3FDAA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Is an NFP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ftware system’s </a:t>
            </a: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non-functional property (NFP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constraint on the manner in which the system implements and delivers its functional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NF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05B1-6510-4C34-9183-1CD12F85B5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Complex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 unnecessary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all dependencies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hierarchical (de)com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8EA-86A1-4607-A19F-7F12339B6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 in Linux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6AF1-1653-4570-9D62-CC458FFC0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LinuxPrescriptive"/>
          <p:cNvPicPr/>
          <p:nvPr/>
        </p:nvPicPr>
        <p:blipFill>
          <a:blip r:embed="rId1"/>
          <a:stretch/>
        </p:blipFill>
        <p:spPr>
          <a:xfrm>
            <a:off x="4952880" y="3197160"/>
            <a:ext cx="3657600" cy="312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LinuxDescriptive"/>
          <p:cNvPicPr/>
          <p:nvPr/>
        </p:nvPicPr>
        <p:blipFill>
          <a:blip r:embed="rId2"/>
          <a:stretch/>
        </p:blipFill>
        <p:spPr>
          <a:xfrm>
            <a:off x="457200" y="1521000"/>
            <a:ext cx="4191120" cy="31273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alability and Heterogene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Scal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capability of a software system to be adapted to meet new requirements of size and sco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Heterogene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quality of a software system consisting of multiple disparate constituents or functioning in multiple disparate computing environmen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Heterogene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oftware system’s ability to consist of multiple disparate constituents or function in multiple disparate computing environ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55e"/>
                </a:solidFill>
                <a:latin typeface="Tahoma"/>
              </a:rPr>
              <a:t>Port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oftware system’s ability to execute on multiple platforms with minimal modifications and without significant degradation in functional or non-functional characteris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FDBE-D36D-4215-8103-5220D2FE8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Scal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mponent a single, clearly defined purpo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each component to have a simple, understandab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burden components with interaction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unnecessary heterogene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in architectural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 the data sour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icate data when necess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7B01-1F7F-4F94-989A-CA527ED6D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Scal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xplici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nnector a clearly defined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oose the simplest connector suited for the ta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aware of differences between direct and indirec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placing application functionality inside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functionality goes insid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 explicit connectors to support data sca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CF4E-2C49-472E-9C91-ADA3113DE8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Scal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ystem bottlen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use of parallel processing capabil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the data sources close to the data consu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make distribution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ppropriate architectural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1600-F128-428F-A793-F68E632BF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55e"/>
                </a:solidFill>
                <a:latin typeface="Tahoma"/>
              </a:rPr>
              <a:t>Adap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oftware system’s ability to satisfy new requirements and adjust to new operating conditions during its life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5A16-558E-4D79-8B72-8DB8115C2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mponent a single, clearly defined purp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component inter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burdening components with interaction responsi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processing from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data from meta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E992-C6CF-4AB2-B468-50B894294D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each connector a clearly defined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connectors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connector compo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04A-3ED9-410F-86A5-400AD05CA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osable Connec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1895-B5D1-4E1C-A18F-640A174D9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Composable Connectors"/>
          <p:cNvPicPr/>
          <p:nvPr/>
        </p:nvPicPr>
        <p:blipFill>
          <a:blip r:embed="rId1"/>
          <a:stretch/>
        </p:blipFill>
        <p:spPr>
          <a:xfrm>
            <a:off x="1600200" y="1946160"/>
            <a:ext cx="5905440" cy="44546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4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ing for F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engineering product is sold based on its functional properties (FP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V set, DVD player, stereo, mobile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the desired functionality is often quite challen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et de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ct deadl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budg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, the system’s success will ultimately rest on its NF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system is too slow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keeps crashing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has so many security holes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time I change this feature I have to reboot!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can’t get it to work with my home theater!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7F67-7E36-47E8-B9F1-713F158B17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rchitectural Configurations and Adapt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rage explicit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make distribution transpa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ppropriate architectural sty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159E-86EC-4EB3-8482-8C856169E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pend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endability is a collection of system properties that allows one to rely on a system functioning as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Reli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probability that a system will perform its intended functionality under specified design limits, without failure, over a given time peri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Avail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probability that a system is operational at a particula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Robust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ystem’s ability to respond adequately to unanticipated runtime cond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Fault-tolera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ystem’s ability to respond gracefully to failures at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Survivabi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ystem’s ability to resist, recognize, recover from, and adapt to mission-compromising thre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55e"/>
                </a:solidFill>
                <a:uFillTx/>
                <a:latin typeface="Tahoma"/>
              </a:rPr>
              <a:t>Safe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notes the ability of a software system to avoid failures that will result in (1) loss of life, (2) injury, (3) significant damage to property, or (4) destruction of prope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9155-516B-471A-91D8-124A14BD9C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mponents and Depend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ly control external component inter-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reflection capabilities in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uitable exception handling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he components’ key state invari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A0A8-7807-4639-B2A9-880A318C7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oftware Connectors and Dependabilit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 connectors that strictly control component depend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appropriate component interaction guarant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dependability techniques via advanced 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F16-6638-413E-83D7-3F9A92E3E2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chitectural Configurations and Dependabilit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oid single points of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back-ups of critical functionality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non-intrusive system health monito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dynamic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12C7-1B13-4224-9703-5E62CBD52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Ps vs. NFPs – An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Word 6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ased in the 19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for the PC and the M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ghly the same function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ran fine on the PC and was success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as extremely slow on the M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“solved” the problem by charging customers f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ot of bad pub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A01-06BA-47E1-AA8A-59CC02F318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Ps vs. NFPs – Another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ux – “as-documented”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844-C9A4-45D2-9029-932D0088B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LinuxPrescriptive"/>
          <p:cNvPicPr/>
          <p:nvPr/>
        </p:nvPicPr>
        <p:blipFill>
          <a:blip r:embed="rId1"/>
          <a:stretch/>
        </p:blipFill>
        <p:spPr>
          <a:xfrm>
            <a:off x="2363760" y="2583000"/>
            <a:ext cx="4341960" cy="3436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Ps vs. NFPs – Another Examp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ux – “as-implemented”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0D41-51E3-4199-BF8D-BBB62E342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LinuxDescriptive"/>
          <p:cNvPicPr/>
          <p:nvPr/>
        </p:nvPicPr>
        <p:blipFill>
          <a:blip r:embed="rId1"/>
          <a:stretch/>
        </p:blipFill>
        <p:spPr>
          <a:xfrm>
            <a:off x="2057400" y="2666880"/>
            <a:ext cx="476244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-636840" y="6629400"/>
            <a:ext cx="999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oftware Architecture: Foundations, Theory, and Practic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; Richard N. Taylor, Nenad Medvidovic, and Eric M. Dashofy;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8 John Wiley &amp; Sons, Inc. Reprinted with permission.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allenges of Designing for NF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partially understood in many dom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S Windows and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ative vs. quantit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ly multi-dimens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echnical pres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ime-to-market or functional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552-9B06-4373-9EBD-E9C6FC33D9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Guidelines for Ensuring NF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guidelines, not laws or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ise but do not guarantee a given N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sary but not sufficient for a given NF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many caveats and exce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trade-offs are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F5DD-FD40-41E9-B40E-8FDE04008D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verarching Objectiv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certain the role of software architecture in ensuring various NF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level of major architectural building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355e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fbac8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embodied in architectural style-level design guid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B848-A815-4279-98C1-4C911EA1B6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6:57:16Z</dcterms:created>
  <dc:creator>Taylor, Medvidovic, and Dashofy</dc:creator>
  <dc:description>Copyright (C) Richard N. Taylor, Nenad Medvidovic, and Eric M. Dashofy. All rights reserved.</dc:description>
  <dc:language>en-US</dc:language>
  <cp:lastModifiedBy>zakarya</cp:lastModifiedBy>
  <dcterms:modified xsi:type="dcterms:W3CDTF">2011-09-22T15:59:54Z</dcterms:modified>
  <cp:revision>25</cp:revision>
  <dc:subject>Software Architecture: Foundations, Theory, and Practice</dc:subject>
  <dc:title>Designing for NFPs</dc:title>
</cp:coreProperties>
</file>