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426-DE4D-40B1-AE8B-369D862E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D9C-D911-4581-A1AD-05F1F728C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217-CD3A-46A1-9225-738F38F4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849-BE74-4D2D-A905-62DC1D6F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A67-8480-4228-8974-5736F74D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38E-D9F1-4E6B-9361-88F08A4B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424A-710B-4D75-9B7F-26182E8E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460-B918-41ED-B16D-CDA3998C2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D9C0-13A5-4E7C-9CA3-6A5C74F0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2863-4562-492F-B296-D70E54ED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4F8-6944-4B48-95FC-59148663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62E-E234-4C50-A594-E223B40A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0874-74A5-4B77-82BD-BFDC30D3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CAF9-9BE4-455D-8AD3-5DEAE65C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247-3E7D-4250-A55A-18B5A90B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10D9-D3E7-44E5-9003-B9798D50F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16F-6606-4FED-A649-A9DFED70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7B8-C4A2-42DB-B83D-4C0706FE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E35B-01EC-41BC-9612-1499CE3D2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382-4D78-4452-8278-F8F11393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3CA-62F4-4F7C-A6DF-83677DB5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6D4-B0FB-478E-AFA6-4ACB6C78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B84-EB87-4817-8DC1-F1CE11F4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C13-A5B7-46FA-8A8C-741121B4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D1E0-B60D-4421-90A2-333DBB57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852B-9BE5-45FA-8B6E-461956B0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515-F681-4B0E-991E-EC4E828F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D455-AE0C-423A-B9F7-4EE3A336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8D35-E9B2-418A-A7F6-E1E5437E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B338-47F1-4812-8082-9AF92B8C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A1E-459A-4EED-8D38-1F9C9820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525C-C1C4-4A6B-9180-F5E16A45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C375-578F-4625-8DE9-C55F62D1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99E9-BC27-4974-8394-B6470CAB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0D44-DD7B-4F28-BF3F-0DAF6DAE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BDBB-0E3C-46A8-BBDC-66BE16C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4D8D-2AC6-42BA-AFC8-F8D3DF03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A427-9ED7-4C1A-BEEA-33058010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DA86-FDEA-44CE-BD63-B7A8C5D5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9093-18F8-443B-B16C-91052A4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B2D-4BF2-4EF2-855A-A23323D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A621-B46C-4E22-9424-BEFFA73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687E-BC27-4223-B673-6B86347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3D2-86C1-44AE-8655-3739DE7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9592-9069-42FE-B71B-9AB766A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BE71-AE79-4916-A1D5-99A580E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59E-910C-475A-99C6-CC49EA6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7A5-C64A-490C-9091-C26BF55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028-291D-42CE-941A-1856D2EB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F0D7-0AFB-4991-A126-33339C82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943-53F0-477E-BC0A-6CDB504A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71EF-58B9-41DA-A4C2-7E91EBF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63AC-2773-4AA3-8A91-EDA71AC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D967-B226-43E4-AA59-E7C4E2B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E20F-1BDE-41C3-99F0-4D036CD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8DB4-D160-443D-92A7-F89F72C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E181-13A3-4948-BCAA-40F1AA1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2EAF-6273-4BEE-A033-A91E020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FEF-EC2F-4ED1-B5D9-ADE85DBD2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1E3-5AEC-4170-9379-72A4D979A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signing for NFP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quality that reflects a software system’s ability to meet its performance requirements while minimizing its usage of the resources in its computing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is a measure of a system’s resource us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software architecture say about efficienc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’t efficiency an implementation-level propert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Efficiency starts at the architectural level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39D3-452A-4564-8342-AB06D8753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components “small” whenev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omponent interfaces simple and co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multiple interfaces to the same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components from processing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from meta-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C2EC-4F9E-493A-9B8B-CC8ABEE29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ple Interfaces to the Same Functiona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975-84AA-4F2F-820D-21A820C36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ThreeInterfaces"/>
          <p:cNvPicPr/>
          <p:nvPr/>
        </p:nvPicPr>
        <p:blipFill>
          <a:blip r:embed="rId1"/>
          <a:stretch/>
        </p:blipFill>
        <p:spPr>
          <a:xfrm>
            <a:off x="4114800" y="1652760"/>
            <a:ext cx="4186080" cy="4824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selec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roadcast connectors with ca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use of asynchronous interaction whenev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ocation/distribution transparency judici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B0C-D2DD-470C-B8D5-335714EB4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tribution Transpar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281F-1DC5-43FA-A10C-3E2DA4A66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Fig12-2"/>
          <p:cNvPicPr/>
          <p:nvPr/>
        </p:nvPicPr>
        <p:blipFill>
          <a:blip r:embed="rId1"/>
          <a:stretch/>
        </p:blipFill>
        <p:spPr>
          <a:xfrm>
            <a:off x="2440080" y="1670040"/>
            <a:ext cx="342720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frequently interacting components “clos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select and place connectors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efficiency impact of selected architectural styles a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DF3-94D8-4F4F-9058-FB4E72635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erformance Penalty Induced by Dist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FD4-774D-4EC3-97AF-E6688B1F6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Fig12-3"/>
          <p:cNvPicPr/>
          <p:nvPr/>
        </p:nvPicPr>
        <p:blipFill>
          <a:blip r:embed="rId1"/>
          <a:stretch/>
        </p:blipFill>
        <p:spPr>
          <a:xfrm>
            <a:off x="3143160" y="1741320"/>
            <a:ext cx="2495520" cy="4811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degree to which a software system or one of its components has a design or implementation that is difficult to understand and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oftware system’s a property that is directly proportional to the size of the system, number of its constituent elements, their internal structure, and the number and nature of their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344-A570-4916-AC9E-DDCC80EC5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oncerns into differen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only the functionality insid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goes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omponents cohe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the impact of off-the-shelf components on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late processing components from changes in data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641-C593-44F3-AE85-55DCA8CAA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 connectors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only interaction facilities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interaction concerns into differen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 interactions facilitated by each conn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the impact of off-the-shelf connectors on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F3B-FCDE-44C3-886E-DC3906AF6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n NFP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</a:t>
            </a: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non-functional property (NFP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onstraint on the manner in which the system implements and delivers its functiona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NF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5F4-4CE2-4C20-9D56-D17CB7E5F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 unnecessary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all dependencies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hierarchical (de)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60E-F592-40B0-B68D-4A531BE6F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in Linux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19C5-390F-455E-9D61-2BE63B6AD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LinuxPrescriptive"/>
          <p:cNvPicPr/>
          <p:nvPr/>
        </p:nvPicPr>
        <p:blipFill>
          <a:blip r:embed="rId1"/>
          <a:stretch/>
        </p:blipFill>
        <p:spPr>
          <a:xfrm>
            <a:off x="4952880" y="3197160"/>
            <a:ext cx="3657600" cy="312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LinuxDescriptive"/>
          <p:cNvPicPr/>
          <p:nvPr/>
        </p:nvPicPr>
        <p:blipFill>
          <a:blip r:embed="rId2"/>
          <a:stretch/>
        </p:blipFill>
        <p:spPr>
          <a:xfrm>
            <a:off x="457200" y="1521000"/>
            <a:ext cx="4191120" cy="3127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alability and Heterogene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Scal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apability of a software system to be adapted to meet new requirements of size and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Heterogene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quality of a software system consisting of multiple disparate constituents or functioning in multiple disparate computing environ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Heterogene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oftware system’s ability to consist of multiple disparate constituents or function in multiple disparate computing enviro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Port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oftware system’s ability to execute on multiple platforms with minimal modifications and without significant degradation in functional or non-functional character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97FA-4209-48FB-907B-C74997347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mponent a single, clearly defined purpo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each component to have a simple, understandab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burden components with interaction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necessary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architectural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the data sour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e data when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A0CA-1487-4942-8476-09602924E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plici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nnector a clearly defined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simplest connector suited for the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differences between direct and indirec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placing application functionality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functionality goes insid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explicit connectors to support data sca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6FC2-7AA8-412B-BCFE-A06ABB485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ystem bottlen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use of parallel processing capabil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the data sources close to the data consu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make distribution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ppropriate architectural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9AD9-ACE4-469B-8A3B-39D392CA5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Adap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oftware system’s ability to satisfy new requirements and adjust to new operating conditions during it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057-3155-4AC5-9DDA-01B89582E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mponent a single, clearly define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omponent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burdening components with interaction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processing fro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from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6262-4E7F-4EF4-B836-51C9564E6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nnector a clearly defined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connectors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connector compo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7D6-E2EA-46DF-AEA3-2FA7F3AB7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sabl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2F9-4B2C-4E37-8811-4B9C708E2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Composable Connectors"/>
          <p:cNvPicPr/>
          <p:nvPr/>
        </p:nvPicPr>
        <p:blipFill>
          <a:blip r:embed="rId1"/>
          <a:stretch/>
        </p:blipFill>
        <p:spPr>
          <a:xfrm>
            <a:off x="1600200" y="1946160"/>
            <a:ext cx="5905440" cy="4454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ing for 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engineering product is sold based on its functional properties (F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V set, DVD player, stereo, mobile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the desired functionality is often quite challen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de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ct dead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budg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 system’s success will ultimately rest on its NF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ystem is too slow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keeps crashing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has so many security holes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time I change this feature I have to reboot!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an’t get it to work with my home theater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045F-275C-4121-A1CC-0658BD433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explici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make distribution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ppropriate architectural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874-C62B-4B41-85AC-25D2C1522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ability is a collection of system properties that allows one to rely on a system functioning as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a system will perform its intended functionality under specified design limits, without failure, over a given time peri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Avail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a system is operational at a particula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Robust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pond adequately to unanticipated runtime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Fault-tolera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pond gracefully to failures at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Surviv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ist, recognize, recover from, and adapt to mission-compromising thr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ability of a software system to avoid failures that will result in (1) loss of life, (2) injury, (3) significant damage to property, or (4) destruction of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2FC-4F13-4828-8C63-0109DDF95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control external component inter-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reflection capabilities in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uitable exception handling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he components’ key state in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61A-92D9-4F85-B777-AB7347C1C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 connectors that strictly control componen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ppropriate component interaction guaran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dependability techniques via advance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ADEF-C876-49F4-A51B-76BAEE5AC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Configurations and Dependabilit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ingle points of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back-ups of critical functionality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non-intrusive system health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dynamic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6EF-6723-4AF8-BB16-9621055E8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Word 6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d in the 19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for the PC and the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ly the same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ran fine on the PC and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as extremely slow on the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“solved” the problem by charging customers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t of bad pub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7A1-F643-455A-8627-462452042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ot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 – “as-documented”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43A-FF6F-47C5-BFD7-D429698D4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LinuxPrescriptive"/>
          <p:cNvPicPr/>
          <p:nvPr/>
        </p:nvPicPr>
        <p:blipFill>
          <a:blip r:embed="rId1"/>
          <a:stretch/>
        </p:blipFill>
        <p:spPr>
          <a:xfrm>
            <a:off x="2363760" y="2583000"/>
            <a:ext cx="4341960" cy="3436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ot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 – “as-implemented”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8DE-9B5F-49E7-922D-3C5A00A11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LinuxDescriptive"/>
          <p:cNvPicPr/>
          <p:nvPr/>
        </p:nvPicPr>
        <p:blipFill>
          <a:blip r:embed="rId1"/>
          <a:stretch/>
        </p:blipFill>
        <p:spPr>
          <a:xfrm>
            <a:off x="2057400" y="2666880"/>
            <a:ext cx="47624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llenges of Designing for N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partially understood in many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S Windows an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vs. qu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multi-dimens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echnical pres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ime-to-market or functional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BCD-1511-4335-94B0-A206BBBE3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Guidelines for Ensuring N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guidelines, not laws or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ise but do not guarantee a given N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sary but not sufficient for a given N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many caveats and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rade-offs are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49CE-A5C5-47F7-8847-962D4CB21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verarching Objectiv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certain the role of software architecture in ensuring various NF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level of major architectural build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embodied in architectural style-level design guid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C74-1DB1-49A8-AAF2-3C0128058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5:59:54Z</dcterms:modified>
  <cp:revision>25</cp:revision>
  <dc:subject>Software Architecture: Foundations, Theory, and Practice</dc:subject>
  <dc:title>Designing for NFPs</dc:title>
</cp:coreProperties>
</file>