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F503A-59D0-4E71-84C0-172DAB6BBC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8D1F3-911D-47EA-8190-F775973AC96E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021C-D54F-4B5D-9DE9-4DE936AAA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0734-78B1-4FEF-983A-F154E7130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A8F7-D4B4-4F76-8A7A-59DB7C8E7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966E-1463-40C2-90F3-3276513C3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4014-FE8D-4028-87A8-B7BED5570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2697-D39F-481E-AD4A-99CB12DA3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7BEC-8219-44B7-9DC5-328A73189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5B8C-69A7-4F59-8817-DEDFF562E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17EB-D358-471B-AC63-35D92A853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18D2-1A44-4248-BDA9-A8DB4DFC8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9002-C37F-432F-9E0A-35F824250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8267-3C18-4239-BEEE-2B582C25F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F1105-18B7-4443-A2E5-62D6EE3979D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511080" y="1009440"/>
            <a:ext cx="217188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879560" y="4093920"/>
            <a:ext cx="5572080" cy="171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BCH 101 (General Biochemistry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Chapter 15: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00"/>
                </a:solidFill>
                <a:latin typeface="Arial"/>
                <a:cs typeface="PT Bold Heading"/>
              </a:rPr>
              <a:t>الدم</a:t>
            </a:r>
            <a:r>
              <a:rPr b="1" lang="ar-SA" sz="2400" spc="-1" strike="noStrike">
                <a:solidFill>
                  <a:srgbClr val="ffff00"/>
                </a:solidFill>
                <a:latin typeface="Arial"/>
                <a:ea typeface="PT Bold Heading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l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Moon 7"/>
          <p:cNvSpPr/>
          <p:nvPr/>
        </p:nvSpPr>
        <p:spPr>
          <a:xfrm rot="5400000">
            <a:off x="2709000" y="-1851840"/>
            <a:ext cx="3726000" cy="9144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5484" y="1680"/>
                  <a:pt x="9367" y="5080"/>
                  <a:pt x="9367" y="10800"/>
                </a:cubicBezTo>
                <a:cubicBezTo>
                  <a:pt x="9367" y="16520"/>
                  <a:pt x="15484" y="1992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0"/>
          </a:gra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C:\Users\Admin\AppData\Local\Temp\SNAGHTMLb486764.PNG"/>
          <p:cNvPicPr/>
          <p:nvPr/>
        </p:nvPicPr>
        <p:blipFill>
          <a:blip r:embed="rId1"/>
          <a:stretch/>
        </p:blipFill>
        <p:spPr>
          <a:xfrm>
            <a:off x="858960" y="245412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C:\Users\Admin\AppData\Local\Temp\SNAGHTMLb49d034.PNG"/>
          <p:cNvPicPr/>
          <p:nvPr/>
        </p:nvPicPr>
        <p:blipFill>
          <a:blip r:embed="rId2"/>
          <a:stretch/>
        </p:blipFill>
        <p:spPr>
          <a:xfrm>
            <a:off x="4211640" y="102564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C:\Users\Admin\AppData\Local\Temp\SNAGHTMLb4b1b57.PNG"/>
          <p:cNvPicPr/>
          <p:nvPr/>
        </p:nvPicPr>
        <p:blipFill>
          <a:blip r:embed="rId3"/>
          <a:stretch/>
        </p:blipFill>
        <p:spPr>
          <a:xfrm>
            <a:off x="7564320" y="245736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54" name="Oval 13"/>
          <p:cNvSpPr/>
          <p:nvPr/>
        </p:nvSpPr>
        <p:spPr>
          <a:xfrm>
            <a:off x="2179800" y="2519280"/>
            <a:ext cx="4524120" cy="124632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2060"/>
                </a:solidFill>
                <a:latin typeface="Arial"/>
              </a:rPr>
              <a:t>King  Saud University</a:t>
            </a:r>
            <a:br>
              <a:rPr sz="1500"/>
            </a:br>
            <a:r>
              <a:rPr b="1" i="1" lang="en-US" sz="1500" spc="-1" strike="noStrike">
                <a:solidFill>
                  <a:srgbClr val="002060"/>
                </a:solidFill>
                <a:latin typeface="Arial"/>
              </a:rPr>
              <a:t>College of  Science</a:t>
            </a:r>
            <a:br>
              <a:rPr sz="1500"/>
            </a:br>
            <a:r>
              <a:rPr b="1" i="1" lang="en-US" sz="1500" spc="-1" strike="noStrike">
                <a:solidFill>
                  <a:srgbClr val="002060"/>
                </a:solidFill>
                <a:latin typeface="Arial"/>
              </a:rPr>
              <a:t>Department of Biochemistr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4"/>
          <a:stretch/>
        </p:blipFill>
        <p:spPr>
          <a:xfrm>
            <a:off x="3693960" y="1986120"/>
            <a:ext cx="1757520" cy="285480"/>
          </a:xfrm>
          <a:prstGeom prst="rect">
            <a:avLst/>
          </a:prstGeom>
          <a:ln w="0">
            <a:noFill/>
          </a:ln>
        </p:spPr>
      </p:pic>
      <p:sp>
        <p:nvSpPr>
          <p:cNvPr id="56" name="Subtitle 2"/>
          <p:cNvSpPr/>
          <p:nvPr/>
        </p:nvSpPr>
        <p:spPr>
          <a:xfrm>
            <a:off x="250920" y="6294600"/>
            <a:ext cx="8748720" cy="3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200" spc="-1" strike="noStrike">
                <a:solidFill>
                  <a:srgbClr val="00ff00"/>
                </a:solidFill>
                <a:latin typeface="Monotype Corsiva"/>
              </a:rPr>
              <a:t>Prepared by  Dr. Farid Ataya</a:t>
            </a:r>
            <a:r>
              <a:rPr b="1" i="1" lang="en-US" sz="2200" spc="-1" strike="noStrike">
                <a:solidFill>
                  <a:srgbClr val="00ff00"/>
                </a:solidFill>
                <a:latin typeface="Monotype Corsiva"/>
              </a:rPr>
              <a:t>	</a:t>
            </a:r>
            <a:r>
              <a:rPr b="1" i="1" lang="en-US" sz="2200" spc="-1" strike="noStrike">
                <a:solidFill>
                  <a:srgbClr val="00ff00"/>
                </a:solidFill>
                <a:latin typeface="Monotype Corsiva"/>
              </a:rPr>
              <a:t>	</a:t>
            </a:r>
            <a:r>
              <a:rPr b="1" i="1" lang="en-US" sz="2200" spc="-1" strike="noStrike">
                <a:solidFill>
                  <a:srgbClr val="00ff00"/>
                </a:solidFill>
                <a:latin typeface="Monotype Corsiva"/>
              </a:rPr>
              <a:t>	</a:t>
            </a:r>
            <a:r>
              <a:rPr b="1" i="1" lang="en-US" sz="2200" spc="-1" strike="noStrike">
                <a:solidFill>
                  <a:srgbClr val="00ff00"/>
                </a:solidFill>
                <a:latin typeface="Monotype Corsiva"/>
              </a:rPr>
              <a:t>                 http://faculty.ksu.edu.sa/7511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000000"/>
                </a:solidFill>
                <a:latin typeface="Arial"/>
              </a:rPr>
              <a:t>كل عام وأنتم بخير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026720" y="1984320"/>
            <a:ext cx="72788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000000"/>
                </a:solidFill>
                <a:latin typeface="Arial"/>
              </a:rPr>
              <a:t>مع تمنياتي بالتوفيق والنجاح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0000cc"/>
                </a:solidFill>
                <a:latin typeface="Arial"/>
                <a:cs typeface="DecoType Naskh Variants"/>
              </a:rPr>
              <a:t>د/ فريد شكري عطايا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وظائف الد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228240" y="144792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1-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نقل المواد الغذائ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2-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نقل الأكسجين وثاني أكسيد الكربون في التنف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3-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توزيع المواد المنظمة إلى جميع أجزاء الجس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4-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يقوم بحماية الجسم ضد الميكروبات ويحتوي على مضادات للسموم وأجسام مضاد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5-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يحافظ على حرارة الجس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6-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يحافظ على التوازن الحمضي-القوي وحالة الإستدامة والتوازن المائ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7-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يحافظ على الجسم من النزيف عن طريق التجل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  <a:cs typeface="PT Bold Heading"/>
              </a:rPr>
              <a:t>مكونات الد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75960" y="1066680"/>
            <a:ext cx="8915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يحتوي الشخص البالغ على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لتر د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يمثل الدم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% من وزن الإنسا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لد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خلايا                                                   سائل (سيرم – بلازما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لخلايا تمثل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% من الدم وتنقسم إلى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خلايا دم حمراء (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مليون/مل</a:t>
            </a:r>
            <a:r>
              <a:rPr b="0" lang="ar-SA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للرجل و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4.5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مليون للأنثى). الخلايا المسنة منها لا تحتوي على أنوية وبها الهيموجلوبين وتنقل الأكسجين وثاني أكسيد الكربون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خلايا دم بيضاء (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5000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10.000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/مل</a:t>
            </a:r>
            <a:r>
              <a:rPr b="0" lang="ar-SA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وتعمل على مهاجمة البكتريا) أكبر من الحمراء، تحتوي على أنوية ولها عدة أنواع يمكن صبغها بألوان مختلفة ترى تحت الميكروسكوب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صفائح دموية (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25.000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40.000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/مل</a:t>
            </a:r>
            <a:r>
              <a:rPr b="0" lang="ar-SA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تعمل على تجلط الدم لمنع النزيف حيث تحتوي على سيفالين ودهنيات فوسفاتية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4"/>
          <p:cNvSpPr/>
          <p:nvPr/>
        </p:nvSpPr>
        <p:spPr>
          <a:xfrm rot="16200000">
            <a:off x="4305240" y="-342720"/>
            <a:ext cx="304920" cy="5562360"/>
          </a:xfrm>
          <a:custGeom>
            <a:avLst/>
            <a:gdLst>
              <a:gd name="textAreaLeft" fmla="*/ 0 w 304920"/>
              <a:gd name="textAreaRight" fmla="*/ 110160 w 304920"/>
              <a:gd name="textAreaTop" fmla="*/ 144720 h 5562360"/>
              <a:gd name="textAreaBottom" fmla="*/ 5417640 h 556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  <a:cs typeface="PT Bold Heading"/>
              </a:rPr>
              <a:t>السيرم والبلازم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304920" y="114300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يمثل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55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% من الد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بلازما هو السائل الناتج من فصل خلايا الدم دون تجلط بعد إضافة مانع للتجلط مثل الهيبارين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سيرم هو السائل المتبقي بعد تجلط الدم (أي أنه يحتوي على مكونات البلازما بدون فيبرينوجين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يحتوي بلازما الدم على عدد من البروتينات المهمة يمكن تقسيمها إلى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أقسام وفصلها كهربياً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PT Bold Heading"/>
              </a:rPr>
              <a:t>بروتينات الد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228600" y="1294920"/>
            <a:ext cx="86104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1-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جاما جلوبيولين: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تتكون بواسطة الليمفوسايت (على عكس باقي بروتينات الدم التي تصنع في الكبد)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2-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الألبيومين: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مثل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5.1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% من بروتينات الدم (الأكثر وجوداً) ووزنه الجزيئي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69.000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دالتون. ونقطة تعادل كهربي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4.8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ظيفته المحافظة على الضغط الأسموزي والمساعدة على نقل بعض المركبات قليلة الذوبان في الدم (مثل الأحماض الدهنية والبليروبين وحمض اليوريك) وبعض العقاقير مثل الأسبرين والباربتيورات كما يوجد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% من محتوى الكالسيوم مرتبطاً بالألبيومي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85345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- ألفا جلوبيولين وينقسم إلى ألفا (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) و ألفا (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ألفا (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) جلوبيولين عبارة عن جليكوبروتينات وليبوبروتينات عالية الكثافة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ألفا (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) جلوبيولين يوجد منه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أنوا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هابتوجلوبيولين (يتحد مع أي هيموجلوبين يخرج للبلازما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سيروبلازمين (يتحد مع أيونات النحاس للمساعدة على انتقالها بالدم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بروثرومبين (وهو البروإنزيم الذي يساعد على تجلط الدم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جليكوبروتين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ليبوبروتينات ذات كثافة منخفضة جداً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LD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PT Bold Heading"/>
              </a:rPr>
              <a:t>بروتينات الد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  <a:cs typeface="PT Bold Heading"/>
              </a:rPr>
              <a:t>بروتينات الد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219320"/>
            <a:ext cx="85341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- بيتا جلوبيولين: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منها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ترانسفرين الذي ينقل الحديد بالد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ليبوبروتينات ذات الكثافة المنخفضة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D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- الفيبرينوجين: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هو جلوبيولين وزنه الجزيئي عالي (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400.000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دالتون) وهو المركب الأولي الذي يتكون منه الجلط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  <a:cs typeface="PT Bold Heading"/>
              </a:rPr>
              <a:t>بروتينات الد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22860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6-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جاما جلوبيولين: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وهو عبارة عن جلوبيولينات المناعة أو الأجسام المضادة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يوجد منها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أنواع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gM, IgA, IgG, IgE, Ig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تختلف في محتوى الكربوهيدرات والوزن الجزيئي والتركيز ويمكن فصلها كهربيا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  <a:cs typeface="PT Bold Heading"/>
              </a:rPr>
              <a:t>إنزيمات  الد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ي الغالب توجد الإنزيمات داخل الخلايا وليس في البلازما أو السير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ي حالات مرضية معينة تتحطم الخلايا وتخرج الإنزيمات إلى البلازما مما يدل على وجود مرض معي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ن أمثلة تلك الإنزيمات: الأميليز البنكرياسي ، الليبيز، الفوسفاتيز الحمضي والقاعدي، لاكتات ديهيدروجينيز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D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، كرياتينين فوسفوكيني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P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، ألدوليز، جلوتاميك-أوكسالوأسيتيك ترانزاميني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G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، جلوتاميك-بيروفيك ترانس أميني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GP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ncreatic Amylase, Lipase, Alkaline &amp; acid phosphatase, Lactate dehydrogenase (LDH), Creatinine phosphokinase (CPK), Aldolase, Glutamic-oxaloacetic transaminase (sGOT), Glutamic-pyruvic transaminase (sGP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مثلاً يخرج الأميليز من البنكرياس في حالة الإلتهاب الحا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يزيد إنزيم الفوسفاتيز القلوي في حالة الصفرا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زيادة إنزيم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GOP, sGPT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يدل على أمراض الكب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زيادة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GOT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يدل على جلطة بالقلب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3T18:01:58Z</dcterms:created>
  <dc:creator>FSA</dc:creator>
  <dc:description/>
  <dc:language>en-US</dc:language>
  <cp:lastModifiedBy>ksu</cp:lastModifiedBy>
  <dcterms:modified xsi:type="dcterms:W3CDTF">2014-01-19T04:50:33Z</dcterms:modified>
  <cp:revision>42</cp:revision>
  <dc:subject/>
  <dc:title> كيمياء حيوية عامة (101 كيح)  الدم Blood</dc:title>
</cp:coreProperties>
</file>