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33A5-EE6D-433B-B043-4AB5638E6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E578-3BB7-4E30-AA2E-270B4FF351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01C-527F-4593-8AD0-E4E5A0ED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5276-A105-4273-AE69-3A5527FF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C7A-43DF-4603-813D-5BEA921E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C3E-9819-4BA0-921F-A7CF8E605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80F-2DB3-494E-9656-77E7EF6E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C7AE-BD84-4FF7-8E27-8CF4BA07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3390-BBD3-4F75-A908-B69378B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518-C737-4A00-A73E-A82F3B34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DFAF-2A7F-461F-BEB2-3933EBEF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F2E-5EF3-41D2-8931-6BB37E1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D3D-8A92-414B-8B7D-8CB67FC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60D-289F-49B0-9969-7730C901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1E3-3F3F-4310-9710-001E511F15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11080" y="1009440"/>
            <a:ext cx="217188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aditional Arabic"/>
                <a:ea typeface="Traditional Arabic"/>
              </a:rPr>
              <a:t>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9560" y="4093920"/>
            <a:ext cx="557208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BCH 101 (General Biochemistr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raditional Arabic"/>
                <a:ea typeface="Traditional Arabic"/>
              </a:rPr>
              <a:t>Chapter 15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الدم</a:t>
            </a:r>
            <a:r>
              <a:rPr b="1" lang="ar-SA" sz="2400" spc="-1" strike="noStrike">
                <a:solidFill>
                  <a:srgbClr val="ffff00"/>
                </a:solidFill>
                <a:latin typeface="Arial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oon 7"/>
          <p:cNvSpPr/>
          <p:nvPr/>
        </p:nvSpPr>
        <p:spPr>
          <a:xfrm rot="5400000">
            <a:off x="2709000" y="-1851840"/>
            <a:ext cx="3726000" cy="914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484" y="1680"/>
                  <a:pt x="9367" y="5080"/>
                  <a:pt x="9367" y="10800"/>
                </a:cubicBezTo>
                <a:cubicBezTo>
                  <a:pt x="9367" y="16520"/>
                  <a:pt x="15484" y="1992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:\Users\Admin\AppData\Local\Temp\SNAGHTMLb486764.PNG"/>
          <p:cNvPicPr/>
          <p:nvPr/>
        </p:nvPicPr>
        <p:blipFill>
          <a:blip r:embed="rId1"/>
          <a:stretch/>
        </p:blipFill>
        <p:spPr>
          <a:xfrm>
            <a:off x="858960" y="24541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:\Users\Admin\AppData\Local\Temp\SNAGHTMLb49d034.PNG"/>
          <p:cNvPicPr/>
          <p:nvPr/>
        </p:nvPicPr>
        <p:blipFill>
          <a:blip r:embed="rId2"/>
          <a:stretch/>
        </p:blipFill>
        <p:spPr>
          <a:xfrm>
            <a:off x="4211640" y="102564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Users\Admin\AppData\Local\Temp\SNAGHTMLb4b1b57.PNG"/>
          <p:cNvPicPr/>
          <p:nvPr/>
        </p:nvPicPr>
        <p:blipFill>
          <a:blip r:embed="rId3"/>
          <a:stretch/>
        </p:blipFill>
        <p:spPr>
          <a:xfrm>
            <a:off x="7564320" y="24573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2179800" y="2519280"/>
            <a:ext cx="4524120" cy="1246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King  Saud University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College of  Science</a:t>
            </a:r>
            <a:br>
              <a:rPr sz="1500"/>
            </a:br>
            <a:r>
              <a:rPr b="1" i="1" lang="en-US" sz="1500" spc="-1" strike="noStrike">
                <a:solidFill>
                  <a:srgbClr val="002060"/>
                </a:solidFill>
                <a:latin typeface="Arial"/>
              </a:rPr>
              <a:t>Department of Bio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4"/>
          <a:stretch/>
        </p:blipFill>
        <p:spPr>
          <a:xfrm>
            <a:off x="3693960" y="1986120"/>
            <a:ext cx="1757520" cy="285480"/>
          </a:xfrm>
          <a:prstGeom prst="rect">
            <a:avLst/>
          </a:prstGeom>
          <a:ln w="0">
            <a:noFill/>
          </a:ln>
        </p:spPr>
      </p:pic>
      <p:sp>
        <p:nvSpPr>
          <p:cNvPr id="56" name="Subtitle 2"/>
          <p:cNvSpPr/>
          <p:nvPr/>
        </p:nvSpPr>
        <p:spPr>
          <a:xfrm>
            <a:off x="250920" y="6294600"/>
            <a:ext cx="874872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Prepared by  Dr. Farid Ataya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	</a:t>
            </a:r>
            <a:r>
              <a:rPr b="1" i="1" lang="en-US" sz="2200" spc="-1" strike="noStrike">
                <a:solidFill>
                  <a:srgbClr val="00ff00"/>
                </a:solidFill>
                <a:latin typeface="Monotype Corsiva"/>
              </a:rPr>
              <a:t>                 http://faculty.ksu.edu.sa/751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كل عام وأنتم بخي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26720" y="1984320"/>
            <a:ext cx="7278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مع تمنياتي بالتوفيق والنجا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cc"/>
                </a:solidFill>
                <a:latin typeface="Arial"/>
                <a:cs typeface="DecoType Naskh Variants"/>
              </a:rPr>
              <a:t>د/ فريد شكري عطاي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وظائف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واد الغذ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أكسجين وثاني أكسيد الكربون في التنف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زيع المواد المنظمة إلى جميع أجزاء الج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4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وم بحماية الجسم ضد الميكروبات ويحتوي على مضادات للسموم وأجسام مضا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حرارة الجس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التوازن الحمضي-القوي وحالة الإستدامة والتوازن المائ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7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حافظ على الجسم من النزيف عن طريق التجل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كو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5960" y="10666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حتوي الشخص البالغ على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تر 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ثل الد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% من وزن الإنس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د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                                                  سائل (سيرم – بلازما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خلايا تمث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% من الدم وتنقسم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دم حمراء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ليون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للرجل 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مليون للأنثى). الخلايا المسنة منها لا تحتوي على أنوية وبها الهيموجلوبين وتنقل الأكسجين وثاني أكسيد الكربون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خلايا دم بيضاء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وتعمل على مهاجمة البكتريا) أكبر من الحمراء، تحتوي على أنوية ولها عدة أنواع يمكن صبغها بألوان مختلفة ترى تحت الميكروسكوب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صفائح دموية (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40.00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/مل</a:t>
            </a:r>
            <a:r>
              <a:rPr b="0" lang="ar-SA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تعمل على تجلط الدم لمنع النزيف حيث تحتوي على سيفالين ودهنيات فوسفات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 rot="16200000">
            <a:off x="4305240" y="-342720"/>
            <a:ext cx="304920" cy="5562360"/>
          </a:xfrm>
          <a:custGeom>
            <a:avLst/>
            <a:gdLst>
              <a:gd name="textAreaLeft" fmla="*/ 0 w 304920"/>
              <a:gd name="textAreaRight" fmla="*/ 110160 w 304920"/>
              <a:gd name="textAreaTop" fmla="*/ 144720 h 5562360"/>
              <a:gd name="textAreaBottom" fmla="*/ 5417640 h 55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رم والبلازم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الد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لازما هو السائل الناتج من فصل خلايا الدم دون تجلط بعد إضافة مانع للتجلط مثل الهيباري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يرم هو السائل المتبقي بعد تجلط الدم (أي أنه يحتوي على مكونات البلازما بدون فيبرينوجي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حتوي بلازما الدم على عدد من البروتينات المهمة يمكن تقسيمها إلى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قسام وفصلها كهرب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ما جلوبيول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كون بواسطة الليمفوسايت (على عكس باقي بروتينات الدم التي تصنع في الكبد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ألبيوم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ث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بروتينات الدم (الأكثر وجوداً) ووزنه الجزيئ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9.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التون. ونقطة تعادل كهرب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.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ظيفته المحافظة على الضغط الأسموزي والمساعدة على نقل بعض المركبات قليلة الذوبان في الدم (مثل الأحماض الدهنية والبليروبين وحمض اليوريك) وبعض العقاقير مثل الأسبرين والباربتيورات كما يوج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محتوى الكالسيوم مرتبطاً بالألبيوم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ألفا جلوبيولين وينقسم إلى ألفا 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و ألفا 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لفا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لوبيولين عبارة عن جليكوبروتينات وليبوبروتينات عالية الكثافة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لفا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جلوبيولين يوجد من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ابتوجلوبيولين (يتحد مع أي هيموجلوبين يخرج للبلازم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سيروبلازمين (يتحد مع أيونات النحاس للمساعدة على انتقالها بالد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روثرومبين (وهو البروإنزيم الذي يساعد على تجلط الد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ليكوبروتين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يبوبروتينات ذات كثافة منخفضة جدا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بيتا جلوبيولين: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ن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رانسفرين الذي ينقل الحديد بالد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ليبوبروتينات ذات الكثافة المنخفضة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فيبرينوج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هو جلوبيولين وزنه الجزيئي عالي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.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التون) وهو المركب الأولي الذي يتكون منه الجلط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بروتينات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اما جلوبيولين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و عبارة عن جلوبيولينات المناعة أو الأجسام المض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وجد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نوا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M, IgA, IgG, IgE, Ig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ختلف في محتوى الكربوهيدرات والوزن الجزيئي والتركيز ويمكن فصلها كهربي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إنزيمات  ال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غالب توجد الإنزيمات داخل الخلايا وليس في البلازما أو السير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حالات مرضية معينة تتحطم الخلايا وتخرج الإنزيمات إلى البلازما مما يدل على وجود مرض مع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أمثلة تلك الإنزيمات: الأميليز البنكرياسي ، الليبيز، الفوسفاتيز الحمضي والقاعدي، لاكتات ديهيدروجيني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كرياتينين فوسفوك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ألدوليز، جلوتاميك-أوكسالوأسيتيك ترانزام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، جلوتاميك-بيروفيك ترانس أميني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reatic Amylase, Lipase, Alkaline &amp; acid phosphatase, Lactate dehydrogenase (LDH), Creatinine phosphokinase (CPK), Aldolase, Glutamic-oxaloacetic transaminase (sGOT), Glutamic-pyruvic transaminase (sG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مثلاً يخرج الأميليز من البنكرياس في حالة الإلتهاب الحا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يزيد إنزيم الفوسفاتيز القلوي في حالة الصف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زيادة إنزي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P, sGP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أمراض الكب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زيادة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OT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يدل على جلطة بالقل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8:01:58Z</dcterms:created>
  <dc:creator>FSA</dc:creator>
  <dc:description/>
  <dc:language>en-US</dc:language>
  <cp:lastModifiedBy>ksu</cp:lastModifiedBy>
  <dcterms:modified xsi:type="dcterms:W3CDTF">2014-01-19T04:50:33Z</dcterms:modified>
  <cp:revision>42</cp:revision>
  <dc:subject/>
  <dc:title> كيمياء حيوية عامة (101 كيح)  الدم Blood</dc:title>
</cp:coreProperties>
</file>