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991-A282-4B80-B3DC-74ABAD5A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497-D8BC-4241-8494-71D0B490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BA1-1231-4472-87E4-E16570A4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439-5DCA-40DC-9335-71356786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04F-8C94-48E4-A8BE-697A5F48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9DC-3A72-4594-BCA9-EE5BF1FB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408-63BC-46A0-AA5B-1A36A388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59B-8CDD-45E9-A79C-F66CCA5C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D11-1617-43B7-A34D-F0530969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D7E-21E5-45B3-8690-6D0BF2F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F8A-CEA1-4321-B9C3-D0ECAA4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494-90D8-457D-B7D4-E2A1C38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30C4-B7A9-44D9-8F28-7A461A8EFF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-47520" y="141120"/>
            <a:ext cx="9239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قياس المسافات الأفق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المقياس شـبه موحد في الصور الجوية التي تغطي  منطقة غير متضـرسة وكذلك في الصـور الفضائية المصححة هندسيا. الأمر الذي يمكن من تقدير المسافات مباشـرة من هذه الصـ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في برامج معالجة الصور الرقمية فإنه توجد أوامر خاصة بقياس المسافات منها مثل أم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برنامج ارد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DA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81200" y="3733920"/>
            <a:ext cx="4578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-71280" y="41400"/>
            <a:ext cx="92865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قياس المساح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الحصول على قياسات دقيقة للمساحات من الصورة اذا كانت مصححة هندسي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في برامج معالجة الصور الرقمية فإنه توجد أوامر خاصة بقياس المساحات منها مثل أم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برنامج ارد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DA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ب ملاحظة أن برنامج ارداس يقيس المساحة بالاكي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يكر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4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62120" y="3868560"/>
            <a:ext cx="4578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scan0014"/>
          <p:cNvPicPr/>
          <p:nvPr/>
        </p:nvPicPr>
        <p:blipFill>
          <a:blip r:embed="rId1"/>
          <a:srcRect l="0" t="0" r="0" b="9069"/>
          <a:stretch/>
        </p:blipFill>
        <p:spPr>
          <a:xfrm>
            <a:off x="1544760" y="1647720"/>
            <a:ext cx="4240080" cy="50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477120" y="685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ما بالنسبة للصور المطبوعة فإنه يمكن تقدير المساحة منها بتطبيق طرق قياس المسـاحات من الخرائط والتي  من أسـهلها طريقة المربعات ومن ادقها اسـتخدام جهاز البلانيميت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52280" y="92160"/>
            <a:ext cx="8991720" cy="6676560"/>
            <a:chOff x="152280" y="92160"/>
            <a:chExt cx="8991720" cy="667656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rcRect l="54892" t="30506" r="18109" b="49075"/>
            <a:stretch/>
          </p:blipFill>
          <p:spPr>
            <a:xfrm>
              <a:off x="152280" y="152280"/>
              <a:ext cx="403092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>
              <a:off x="4267080" y="92160"/>
              <a:ext cx="4876920" cy="37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س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 على </a:t>
              </a:r>
              <a:r>
                <a:rPr b="1" lang="ar-SA" sz="3000" spc="-1" strike="noStrike">
                  <a:solidFill>
                    <a:srgbClr val="000000"/>
                  </a:solidFill>
                  <a:latin typeface="Arial"/>
                </a:rPr>
                <a:t>افتراض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 أن مقياس الصورة 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65000:1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 وأن عدد المزارع الكاملة يساوي 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 مزارع وأنه بقياس أقطار المزارع على الصورة وجد أن متوسط قطر المزرعة يساوي 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r>
                <a:rPr b="0" lang="ar-SA" sz="3000" spc="-1" strike="noStrike">
                  <a:solidFill>
                    <a:srgbClr val="000000"/>
                  </a:solidFill>
                  <a:latin typeface="Arial"/>
                </a:rPr>
                <a:t>سم، احسب مساحة المزارع الكاملة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228600" y="2971800"/>
              <a:ext cx="891540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توسط قطر المزرعة على الطبيعة = (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6500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) ÷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1700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÷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17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ساحة الدائرة = نق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ساحة المزرعة الواحدة = (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58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                         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4222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                         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075130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.07513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كم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ساحة المزارع الكاملة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×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.07513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كم</a:t>
              </a:r>
              <a:r>
                <a:rPr b="1" lang="ar-SA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اجع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0:13:49Z</dcterms:created>
  <dc:creator>may</dc:creator>
  <dc:description/>
  <dc:language>en-US</dc:language>
  <cp:lastModifiedBy>mey</cp:lastModifiedBy>
  <dcterms:modified xsi:type="dcterms:W3CDTF">2014-05-08T12:15:41Z</dcterms:modified>
  <cp:revision>35</cp:revision>
  <dc:subject/>
  <dc:title>Slide 1</dc:title>
</cp:coreProperties>
</file>