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877-DCAD-47CF-9359-4E6326F1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7FD8-A0D1-44B4-9864-47DC904E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AA4-54B1-4CFF-8CD5-EC7A77A1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16D-58D7-4FF4-A123-B994AD17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803-E39D-46E9-895F-96D34FB7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68F-C2EE-4289-A26D-97889828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406-2AC4-440C-87E6-5C903012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6D0-5A4E-4096-B3C0-FA565881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7CF-A506-45E9-B674-3C2581E5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DDD-EAEC-4785-8EA4-D34E8BB1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915-C2A4-4EDF-B599-03334041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4673-1B93-4376-A24A-D670680A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F48A-0AB4-421F-B623-B9768B7C2C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aculty.ksu.edu.sa/geography-alsaleh/default.asp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-47520" y="141120"/>
            <a:ext cx="923904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قياس المسافات الأفق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 المقياس شـبه موحد في الصور الجوية التي تغطي  منطقة غير متضـرسة وكذلك في الصـور الفضائية المصححة هندسيا. الأمر الذي يمكن من تقدير المسافات مباشـرة من هذه الصـ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في برامج معالجة الصور الرقمية فإنه توجد أوامر خاصة بقياس المسافات منها مثل أم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برنامج اردا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DA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81200" y="3733920"/>
            <a:ext cx="45784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-71280" y="41400"/>
            <a:ext cx="928656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قياس المساح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كن الحصول على قياسات دقيقة للمساحات من الصورة اذا كانت مصححة هندسي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في برامج معالجة الصور الرقمية فإنه توجد أوامر خاصة بقياس المساحات منها مثل أم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برنامج اردا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DA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جب ملاحظة أن برنامج ارداس يقيس المساحة بالاكي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يكر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04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762120" y="3868560"/>
            <a:ext cx="45781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scan0014"/>
          <p:cNvPicPr/>
          <p:nvPr/>
        </p:nvPicPr>
        <p:blipFill>
          <a:blip r:embed="rId1"/>
          <a:srcRect l="0" t="0" r="0" b="9069"/>
          <a:stretch/>
        </p:blipFill>
        <p:spPr>
          <a:xfrm>
            <a:off x="1544760" y="1647720"/>
            <a:ext cx="4240080" cy="50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6477120" y="6858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ما بالنسبة للصور المطبوعة فإنه يمكن تقدير المساحة منها بتطبيق طرق قياس المسـاحات من الخرائط والتي  من أسـهلها طريقة المربعات ومن ادقها اسـتخدام جهاز البلانيميت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152280" y="92160"/>
            <a:ext cx="8991720" cy="6676560"/>
            <a:chOff x="152280" y="92160"/>
            <a:chExt cx="8991720" cy="6676560"/>
          </a:xfrm>
        </p:grpSpPr>
        <p:pic>
          <p:nvPicPr>
            <p:cNvPr id="53" name="Picture 3" descr=""/>
            <p:cNvPicPr/>
            <p:nvPr/>
          </p:nvPicPr>
          <p:blipFill>
            <a:blip r:embed="rId1"/>
            <a:srcRect l="54892" t="30506" r="18109" b="49075"/>
            <a:stretch/>
          </p:blipFill>
          <p:spPr>
            <a:xfrm>
              <a:off x="152280" y="152280"/>
              <a:ext cx="4030920" cy="25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4"/>
            <p:cNvSpPr/>
            <p:nvPr/>
          </p:nvSpPr>
          <p:spPr>
            <a:xfrm>
              <a:off x="4267080" y="92160"/>
              <a:ext cx="4876920" cy="37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Arial"/>
                </a:rPr>
                <a:t>س</a:t>
              </a:r>
              <a:r>
                <a:rPr b="0" lang="ar-SA" sz="3000" spc="-1" strike="noStrike">
                  <a:solidFill>
                    <a:srgbClr val="000000"/>
                  </a:solidFill>
                  <a:latin typeface="Arial"/>
                </a:rPr>
                <a:t> على </a:t>
              </a:r>
              <a:r>
                <a:rPr b="1" lang="ar-SA" sz="3000" spc="-1" strike="noStrike">
                  <a:solidFill>
                    <a:srgbClr val="000000"/>
                  </a:solidFill>
                  <a:latin typeface="Arial"/>
                </a:rPr>
                <a:t>افتراض</a:t>
              </a:r>
              <a:r>
                <a:rPr b="0" lang="ar-SA" sz="3000" spc="-1" strike="noStrike">
                  <a:solidFill>
                    <a:srgbClr val="000000"/>
                  </a:solidFill>
                  <a:latin typeface="Arial"/>
                </a:rPr>
                <a:t> أن مقياس الصورة </a:t>
              </a:r>
              <a:r>
                <a:rPr b="0" lang="ar-SA" sz="3000" spc="-1" strike="noStrike">
                  <a:solidFill>
                    <a:srgbClr val="000000"/>
                  </a:solidFill>
                  <a:latin typeface="Arial"/>
                </a:rPr>
                <a:t>65000:1</a:t>
              </a:r>
              <a:r>
                <a:rPr b="0" lang="ar-SA" sz="3000" spc="-1" strike="noStrike">
                  <a:solidFill>
                    <a:srgbClr val="000000"/>
                  </a:solidFill>
                  <a:latin typeface="Arial"/>
                </a:rPr>
                <a:t> وأن عدد المزارع الكاملة يساوي </a:t>
              </a:r>
              <a:r>
                <a:rPr b="0" lang="ar-SA" sz="3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ar-SA" sz="3000" spc="-1" strike="noStrike">
                  <a:solidFill>
                    <a:srgbClr val="000000"/>
                  </a:solidFill>
                  <a:latin typeface="Arial"/>
                </a:rPr>
                <a:t> مزارع وأنه بقياس أقطار المزارع على الصورة وجد أن متوسط قطر المزرعة يساوي </a:t>
              </a:r>
              <a:r>
                <a:rPr b="0" lang="ar-SA" sz="30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r>
                <a:rPr b="0" lang="ar-SA" sz="3000" spc="-1" strike="noStrike">
                  <a:solidFill>
                    <a:srgbClr val="000000"/>
                  </a:solidFill>
                  <a:latin typeface="Arial"/>
                </a:rPr>
                <a:t>سم، احسب مساحة المزارع الكاملة؟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5"/>
            <p:cNvSpPr/>
            <p:nvPr/>
          </p:nvSpPr>
          <p:spPr>
            <a:xfrm>
              <a:off x="228600" y="2971800"/>
              <a:ext cx="8915400" cy="37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متوسط قطر المزرعة على الطبيعة = (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×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65000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) ÷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=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17000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÷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170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مساحة الدائرة = نق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× 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مساحة المزرعة الواحدة = (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585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ar-SA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×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3.1415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                            =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342225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×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3.1415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                            =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075130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م</a:t>
              </a:r>
              <a:r>
                <a:rPr b="1" lang="ar-SA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.07513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كم</a:t>
              </a:r>
              <a:r>
                <a:rPr b="1" lang="ar-SA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مساحة المزارع الكاملة =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×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.07513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كم</a:t>
              </a:r>
              <a:r>
                <a:rPr b="1" lang="ar-SA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راجع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aculty.ksu.edu.sa/geography-alsaleh/default.as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0:13:49Z</dcterms:created>
  <dc:creator>may</dc:creator>
  <dc:description/>
  <dc:language>en-US</dc:language>
  <cp:lastModifiedBy>mey</cp:lastModifiedBy>
  <dcterms:modified xsi:type="dcterms:W3CDTF">2014-05-08T12:15:41Z</dcterms:modified>
  <cp:revision>35</cp:revision>
  <dc:subject/>
  <dc:title>Slide 1</dc:title>
</cp:coreProperties>
</file>